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6D2-90A2-42B1-B61D-FC2D70A7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970-135B-4DE1-8736-82BE2AA9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663-461A-4CCD-A370-B4AB8CE7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63C-88B5-4FA9-8C47-99A6B43C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887-CCB4-44AF-8C7A-B23D774D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1879-9A28-49E3-BC1C-751782FC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B7EB-61C6-4B61-B8DF-8F2AA54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5E61-AAAC-40B3-BE2A-958D2F38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061D-11A6-472F-811E-83CD32C5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BAAB-5BC0-48D0-AAF7-DEBD5B5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EDFA-FD56-42FB-B5D0-AE5138F3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6B9-5568-4F47-8C5E-4DC52B3A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615-FDE4-4D98-94E1-487EB26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1C5-72C0-4262-BEA9-F60595A9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F15A-12E7-4A7F-AB30-5D7CF27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1F78-13FF-49CC-832F-B35C186D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1CC3-A34E-405B-997B-A415A91F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B0E1-ED5C-4D21-9638-CF84A295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DE07-9981-4449-8F74-C063156F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FBFD-4625-43E9-AC29-9C460F6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6F8E-5D8E-4400-94CB-4BDF26C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9E14-08FD-4979-96C7-824BD29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591-4E49-4C6D-950F-3F80F8A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2AD7-5463-4808-83A1-3B4272F5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EB84-D1A4-479A-8425-FD15CFE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12AF-367D-41C8-BBA2-1C919D5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6EE3-5F2E-4EC1-9D7A-1CD50687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E725-3EE2-4E15-93F5-7F33042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9870-9F40-4E21-B0AA-D5ABEBAB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0321-71B3-45F7-8218-FF2497D0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0343-6E71-46E9-81E5-65C7E580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FCF5-90E2-4695-85FD-B494D264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EBCC-E7A4-48E3-8B27-1BC1CCE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D57-6EC5-4EF9-845D-AC92433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DFF23-B8F6-412A-AE2E-3070DDDD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4D69-DC40-4406-9C54-2652BAE5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E75C-1885-482C-AF7B-3CAA4E1D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7E59-63DD-409C-BBF7-7BC469D2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ACD1-935B-43B9-976C-75B0757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0CE2-2465-4E80-BC31-D960A0E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F70CC-1523-4A89-BF76-AF06174C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3043-B3A2-45A6-BF85-29638F0A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28FC-3D88-4DB3-815D-A6AC9417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384-E81C-4F9E-A2B5-ED3347C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C9B-EC10-4A6B-96C8-EF621B4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D06-47FC-4F0D-A9BD-738C56D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1B8-6813-4C5C-85EE-85D6C847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773-6F16-462E-96EA-E14BDB4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6AA-C3E2-4380-A459-6FD97553C76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521-B34F-4A52-9D53-B97523F03EE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508-981D-49B9-9AA5-B35EB32D911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0D5-1BD9-4A15-9582-A452671DD13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قومات الإستزراع السمك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8" descr="C:\Users\hp\Desktop\صور إستزراع سمكي\inner-sld-img.png"/>
          <p:cNvPicPr/>
          <p:nvPr/>
        </p:nvPicPr>
        <p:blipFill>
          <a:blip r:embed="rId1"/>
          <a:stretch/>
        </p:blipFill>
        <p:spPr>
          <a:xfrm>
            <a:off x="3203640" y="1628640"/>
            <a:ext cx="5545080" cy="4321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hp\Desktop\صور إستزراع سمكي\large_1238528218.jpg"/>
          <p:cNvPicPr/>
          <p:nvPr/>
        </p:nvPicPr>
        <p:blipFill>
          <a:blip r:embed="rId2"/>
          <a:stretch/>
        </p:blipFill>
        <p:spPr>
          <a:xfrm>
            <a:off x="826920" y="1628640"/>
            <a:ext cx="3313440" cy="432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مقومات الاستزراع السمكي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الاستزراع السمكي (تربية الأسماك) لها مقومات أساسية يجب توفرها واستدامتها كي تستمر المشاريع وتحقق الفائدة المأمولة من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ما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رض أو الموق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سماك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907920"/>
            <a:ext cx="84247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ماء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(الماء من أهم مقومات الاستزراع السمكي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قبل البدء في مشروع إنشاء مزرعة الأسماك يجب التأكد م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-  وجود مصدر للماء بالقدر الكافي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-  صلاحية الماء لتربية الأسما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عتبر تحليل الماء هو الطريقة المثلى للحكم على صلاحيته أو عدمه لاستخدام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إقامة مزرعة سمكية على أن يُعنى التحليل باختبار القياسات التالي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-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أس (الرقم) الهيدروجيني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0920" y="764640"/>
            <a:ext cx="80866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قلوية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kalin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(الكربونات – البيكربونات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 الهيدروكسيدات – الفوسفات – البورات 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إكسجين المذاب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solved Oxygen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ion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درجة الحرارة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mal ran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مدى الحرار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red temperatur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درجة المفضلة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حرجة العليا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حرجة الدنيا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critic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مميتة العليا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ximum lethal temperatur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الدرجة المميتة الدنيا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imum lethal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ملوحة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alinit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الأملاح الكلية المذاب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ity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t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sol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s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usand)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L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2000" spc="-1" strike="noStrike">
                <a:solidFill>
                  <a:srgbClr val="0070c0"/>
                </a:solidFill>
                <a:latin typeface="Constantia"/>
                <a:ea typeface="Majalla UI"/>
              </a:rPr>
              <a:t>35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-</a:t>
            </a:r>
            <a:r>
              <a:rPr b="0" lang="ar-SA" sz="2000" spc="-1" strike="noStrike">
                <a:solidFill>
                  <a:srgbClr val="0070c0"/>
                </a:solidFill>
                <a:latin typeface="Constantia"/>
                <a:ea typeface="Majalla UI"/>
              </a:rPr>
              <a:t>40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 pp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a water or Marine 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1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ال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1-3 ppt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esh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2-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عذب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7-20 ppt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ackish water </a:t>
            </a: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3-</a:t>
            </a:r>
            <a:r>
              <a:rPr b="1" lang="ar-SA" sz="2000" spc="-1" strike="noStrike">
                <a:solidFill>
                  <a:srgbClr val="00206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ء المويلح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imes New Roman"/>
              </a:rPr>
              <a:t>العسر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ardness   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g/L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اء العس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wa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اء اليسر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wa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السي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اغسيو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الكربونات – الكبريتات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الشفافية       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parency</a:t>
            </a: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</a:t>
            </a:r>
            <a:r>
              <a:rPr b="1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قرص (مقياس) سيكي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NTU)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urbidit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عكاره</a:t>
            </a:r>
            <a:r>
              <a:rPr b="1" lang="ar-SA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helometr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bid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ts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680" indent="19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Untitled-17"/>
          <p:cNvPicPr/>
          <p:nvPr/>
        </p:nvPicPr>
        <p:blipFill>
          <a:blip r:embed="rId1"/>
          <a:stretch/>
        </p:blipFill>
        <p:spPr>
          <a:xfrm>
            <a:off x="5003640" y="1125360"/>
            <a:ext cx="3530880" cy="244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6" name="Picture 5" descr="شكل 3ـ2"/>
          <p:cNvPicPr/>
          <p:nvPr/>
        </p:nvPicPr>
        <p:blipFill>
          <a:blip r:embed="rId2"/>
          <a:stretch/>
        </p:blipFill>
        <p:spPr>
          <a:xfrm>
            <a:off x="1403280" y="6922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أمونيا الكلية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tal Ammonia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ونيا المتأين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onized ammoni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NH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ونيا غيرالمتأينة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n-Ionized ammoni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H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1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رض أو الموق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قصد بالأرض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كلاً من طبوغرافية الموقع ونوعية التربة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ي ستقام عليها المزرعة السمك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طبوغرافية المو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نى جغرافية الموقع  و شكل تضاريس سـطح الأر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نوعية التر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نى الخصائص الطبيعية والكيميائية لتربة الموق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907920"/>
            <a:ext cx="85690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 </a:t>
            </a:r>
            <a:r>
              <a:rPr b="0" lang="ar-SA" sz="2000" spc="-1" strike="noStrike">
                <a:solidFill>
                  <a:srgbClr val="cc0000"/>
                </a:solidFill>
                <a:latin typeface="Constantia"/>
                <a:cs typeface="Majalla UI"/>
              </a:rPr>
              <a:t>الخصائص الطبيعية للتر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(طيبنية ـ رملية ـ صخرية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◄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cc0000"/>
                </a:solidFill>
                <a:latin typeface="Constantia"/>
                <a:cs typeface="Majalla UI"/>
              </a:rPr>
              <a:t>الخصائص الكيميائية للتر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00"/>
                </a:solidFill>
                <a:latin typeface="Constantia"/>
                <a:ea typeface="Majalla UI"/>
              </a:rPr>
              <a:t>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حمضية ـ قاعدية – غنية بالعناصر المعدنية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◄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الأسما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الأسماك التي يجب اختيارها للاستزراع لابد وأن تتمتع بخواص ومميزات تجعلها دون غيرها صالحة لهذا الغر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(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د تم تناول هذا الموضوع في محاضرة سابق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0-21T20:32:34Z</dcterms:modified>
  <cp:revision>283</cp:revision>
  <dc:subject/>
  <dc:title>Principals of General Zoology (Zoo-103)</dc:title>
</cp:coreProperties>
</file>