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8D14-D773-49D5-B74B-B8F500093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9405-D644-4992-BBA0-B7DB5AFE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2494-0DF3-4D08-AC79-35DBD4003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0205-837D-4892-A620-98ED97DF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DF51-27BE-4430-B77F-C4FFD2F06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1272-0D22-41CD-87E4-522B91F0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F421-99C4-41E0-A8C7-D89A9C2E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4516-AD7A-4BF7-AFF1-185E13D8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D8D5-2001-42F7-A0EA-6C419750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490A-69B9-4C14-9444-0C04A260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B1FC-DD67-427F-A53C-F7017011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59C8-6977-4ED1-B73C-396F654C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BF82-86F7-456B-A7DD-7D66ABEE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2939-EB2A-49C5-96C2-D5A961A1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5DE9-B866-4AE0-AEAD-5B891BBC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2D50-4992-42C3-9EBA-66018FE2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6A06-A885-49C1-9C64-46F3B83B9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3F968-1EEC-4772-966A-032EFD5A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B75A8-1529-4F13-9FCE-04A5508C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EE02E-551A-48CD-9183-972282A0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03FF2-A864-407C-BF27-5A375759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9EC4D-B5B4-4C6A-AC02-8DB131C6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A6EE-A255-4EE0-8C9C-26980CA0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78CD1-0529-4B2B-A5DD-5B0EDA8C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C90DB-BC58-4807-A5C2-074DC0E7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D06D0-F059-4EA0-9CE3-356A2FE5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B70FC-EEDD-4814-9032-9F2E23DB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0E8AF-CF07-419C-9867-D9539D9B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BE26D-210E-46D8-A254-CE149F74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528A5-0E21-4142-8FE9-A985629B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13429-AF55-4FEB-873D-3E69D8038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97ED5-800F-4737-8CA4-98BB6506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0C0C4-C399-492C-8F32-24A67B1C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3603-D4BA-4DE5-95B6-C0173FDD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E5F43-5C2F-402D-9E71-09D159FE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EE48F-5A3C-45DF-AA68-EFBC230F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31167-E01E-4356-8112-27D0E8F3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0F013-95E0-47C2-B466-763B7597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6CC03-C0E5-4FB2-9D96-1F5B7C0E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743A2-3EEC-4DB4-A30A-A3062C9F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B5ACD-84BB-4159-BB77-BEBAE362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B646B-0F68-4ACE-8BC4-AA6D6696C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F7C54-AAD2-4C94-8A24-F61D9329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4B4F-347B-4CA1-B78A-724768D7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EC2A-7E01-4E38-BB83-E5E35E67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AF65-1021-4AA2-832C-A795B44F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55D5-9219-4A88-91A0-E543E52A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A1EB-B489-4A48-9D4A-C28547AC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6CBA-89D4-4E6E-986E-36CE61CAF265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AF32-4CF9-4B0E-A204-418FF3475E7F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DFFD-FD3A-4248-9E73-B40E7497D9A0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30C1-62BA-468F-B126-0988037F1FC2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4617b"/>
                </a:solidFill>
                <a:latin typeface="Calibri"/>
                <a:cs typeface="Traditional Arabic"/>
              </a:rPr>
              <a:t>مقومات الإستزراع السمكي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773360"/>
            <a:ext cx="82296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7" name="Picture 8" descr="C:\Users\hp\Desktop\صور إستزراع سمكي\inner-sld-img.png"/>
          <p:cNvPicPr/>
          <p:nvPr/>
        </p:nvPicPr>
        <p:blipFill>
          <a:blip r:embed="rId1"/>
          <a:stretch/>
        </p:blipFill>
        <p:spPr>
          <a:xfrm>
            <a:off x="3203640" y="1628640"/>
            <a:ext cx="5545080" cy="4321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C:\Users\hp\Desktop\صور إستزراع سمكي\large_1238528218.jpg"/>
          <p:cNvPicPr/>
          <p:nvPr/>
        </p:nvPicPr>
        <p:blipFill>
          <a:blip r:embed="rId2"/>
          <a:stretch/>
        </p:blipFill>
        <p:spPr>
          <a:xfrm>
            <a:off x="826920" y="1628640"/>
            <a:ext cx="3313440" cy="4321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4617b"/>
                </a:solidFill>
                <a:latin typeface="Arial Unicode MS"/>
                <a:cs typeface="Arial Unicode MS"/>
              </a:rPr>
              <a:t>مقومات الاستزراع السمكي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2864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إن الاستزراع السمكي (تربية الأسماك) لها مقومات أساسية يجب توفرها واستدامتها كي تستمر المشاريع وتحقق الفائدة المأمولة منها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"/>
                <a:ea typeface="Arial"/>
              </a:rPr>
              <a:t>◄◄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ar-SA" sz="3200" spc="-1" strike="noStrike">
                <a:solidFill>
                  <a:srgbClr val="04617b"/>
                </a:solidFill>
                <a:latin typeface="Arial Unicode MS"/>
                <a:cs typeface="Arial Unicode MS"/>
              </a:rPr>
              <a:t>الماء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"/>
                <a:ea typeface="Arial"/>
              </a:rPr>
              <a:t>◄◄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ar-SA" sz="3200" spc="-1" strike="noStrike">
                <a:solidFill>
                  <a:srgbClr val="04617b"/>
                </a:solidFill>
                <a:latin typeface="Arial Unicode MS"/>
                <a:cs typeface="Arial Unicode MS"/>
              </a:rPr>
              <a:t>الأرض أو الموق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"/>
                <a:ea typeface="Arial"/>
              </a:rPr>
              <a:t>◄◄ </a:t>
            </a:r>
            <a:r>
              <a:rPr b="1" lang="ar-SA" sz="3200" spc="-1" strike="noStrike">
                <a:solidFill>
                  <a:srgbClr val="04617b"/>
                </a:solidFill>
                <a:latin typeface="Arial Unicode MS"/>
                <a:cs typeface="Arial Unicode MS"/>
              </a:rPr>
              <a:t>الأسماك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24000" y="907920"/>
            <a:ext cx="842472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  <a:ea typeface="Arial"/>
              </a:rPr>
              <a:t>◄◄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ar-SA" sz="3200" spc="-1" strike="noStrike">
                <a:solidFill>
                  <a:srgbClr val="04617b"/>
                </a:solidFill>
                <a:latin typeface="Arial Unicode MS"/>
                <a:cs typeface="Arial Unicode MS"/>
              </a:rPr>
              <a:t>الماء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(الماء من أهم مقومات الاستزراع السمكي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  قبل البدء في مشروع إنشاء مزرعة الأسماك يجب التأكد من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1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-  وجود مصدر للماء بالقدر الكافي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2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-  صلاحية الماء لتربية الأسما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cs typeface="Majalla UI"/>
              </a:rPr>
              <a:t>يعتبر تحليل الماء هو الطريقة المثلى للحكم على صلاحيته أو عدمه لاستخدامه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cs typeface="Majalla UI"/>
              </a:rPr>
              <a:t>في إقامة مزرعة سمكية على أن يُعنى التحليل باختبار القياسات التالية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:-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1" lang="ar-SA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7030a0"/>
                </a:solidFill>
                <a:latin typeface="Times New Roman"/>
                <a:cs typeface="Times New Roman"/>
              </a:rPr>
              <a:t>الأس (الرقم) الهيدروجيني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lang="ar-S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610920" y="764640"/>
            <a:ext cx="808668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1" lang="ar-S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لقلوية 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lkalinity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m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(الكربونات – البيكربونات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( الهيدروكسيدات – الفوسفات – البورات 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1" lang="ar-SA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7030a0"/>
                </a:solidFill>
                <a:latin typeface="Times New Roman"/>
                <a:cs typeface="Times New Roman"/>
              </a:rPr>
              <a:t>الإكسجين المذاب 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issolved Oxygen</a:t>
            </a:r>
            <a:r>
              <a:rPr b="1" lang="ar-S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m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lion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/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1" lang="ar-SA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درجة الحرارة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rmal rang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المدى الحراري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 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eferred temperature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الدرجة المفضلة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الدرجة الحرجة العليا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ximum critical temperatur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الدرجة الحرجة الدنيا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inimum critical temperatur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الدرجة المميتة العليا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ximum lethal temperatur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الدرجة المميتة الدنيا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inimum lethal temperatu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95280" y="836640"/>
            <a:ext cx="842472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1" lang="ar-SA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7030a0"/>
                </a:solidFill>
                <a:latin typeface="Times New Roman"/>
                <a:cs typeface="Times New Roman"/>
              </a:rPr>
              <a:t>الملوحة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alinity</a:t>
            </a:r>
            <a:r>
              <a:rPr b="1" lang="ar-S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و</a:t>
            </a:r>
            <a:r>
              <a:rPr b="1" lang="ar-S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الأملاح الكلية المذاب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S</a:t>
            </a:r>
            <a:r>
              <a:rPr b="1" lang="ar-S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alinity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tal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ssolv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lts</a:t>
            </a:r>
            <a:r>
              <a:rPr b="1" lang="ar-SA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‰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t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usand)</a:t>
            </a:r>
            <a:r>
              <a:rPr b="1" lang="ar-S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r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/L</a:t>
            </a:r>
            <a:r>
              <a:rPr b="1" lang="ar-S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ar-SA" sz="2000" spc="-1" strike="noStrike">
                <a:solidFill>
                  <a:srgbClr val="0070c0"/>
                </a:solidFill>
                <a:latin typeface="Constantia"/>
                <a:ea typeface="Majalla UI"/>
              </a:rPr>
              <a:t>35</a:t>
            </a:r>
            <a:r>
              <a:rPr b="0" lang="en-US" sz="2000" spc="-1" strike="noStrike">
                <a:solidFill>
                  <a:srgbClr val="0070c0"/>
                </a:solidFill>
                <a:latin typeface="Constantia"/>
              </a:rPr>
              <a:t>-</a:t>
            </a:r>
            <a:r>
              <a:rPr b="0" lang="ar-SA" sz="2000" spc="-1" strike="noStrike">
                <a:solidFill>
                  <a:srgbClr val="0070c0"/>
                </a:solidFill>
                <a:latin typeface="Constantia"/>
                <a:ea typeface="Majalla UI"/>
              </a:rPr>
              <a:t>40</a:t>
            </a:r>
            <a:r>
              <a:rPr b="0" lang="en-US" sz="2000" spc="-1" strike="noStrike">
                <a:solidFill>
                  <a:srgbClr val="0070c0"/>
                </a:solidFill>
                <a:latin typeface="Constantia"/>
              </a:rPr>
              <a:t> pp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Sea water or Marine water 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1-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اء المالح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(</a:t>
            </a:r>
            <a:r>
              <a:rPr b="0" lang="en-US" sz="2000" spc="-1" strike="noStrike">
                <a:solidFill>
                  <a:srgbClr val="0070c0"/>
                </a:solidFill>
                <a:latin typeface="Constantia"/>
              </a:rPr>
              <a:t>1-3 ppt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Freshwater 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2-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اء العذب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(</a:t>
            </a:r>
            <a:r>
              <a:rPr b="0" lang="en-US" sz="2000" spc="-1" strike="noStrike">
                <a:solidFill>
                  <a:srgbClr val="0070c0"/>
                </a:solidFill>
                <a:latin typeface="Constantia"/>
              </a:rPr>
              <a:t>7-20 ppt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rackish water 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3-</a:t>
            </a:r>
            <a:r>
              <a:rPr b="1" lang="ar-SA" sz="2000" spc="-1" strike="noStrike">
                <a:solidFill>
                  <a:srgbClr val="00206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اء المويلح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1" lang="ar-SA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العسر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Hardness    </a:t>
            </a: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g/L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اء العسر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 wat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اء اليسر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 wa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كالسيوم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ماغسيوم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الكربونات – الكبريتات)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1" lang="ar-SA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7030a0"/>
                </a:solidFill>
                <a:latin typeface="Times New Roman"/>
                <a:cs typeface="Times New Roman"/>
              </a:rPr>
              <a:t>الشفافية       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ransparency</a:t>
            </a:r>
            <a:r>
              <a:rPr b="1" lang="ar-S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1908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80" indent="1908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80" indent="1908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80" indent="1908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80" indent="1908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80" indent="190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80" indent="19080" algn="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                </a:t>
            </a:r>
            <a:r>
              <a:rPr b="1" lang="ar-SA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قرص (مقياس) سيكي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4680" indent="19080" algn="r" rtl="1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4680" indent="1908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NTU)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urbidity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1" lang="ar-SA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لعكاره</a:t>
            </a:r>
            <a:r>
              <a:rPr b="1" lang="ar-SA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phelometric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rbidit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its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680" indent="19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680" indent="19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680" indent="19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680" indent="190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680" indent="190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4" descr="Untitled-17"/>
          <p:cNvPicPr/>
          <p:nvPr/>
        </p:nvPicPr>
        <p:blipFill>
          <a:blip r:embed="rId1"/>
          <a:stretch/>
        </p:blipFill>
        <p:spPr>
          <a:xfrm>
            <a:off x="5003640" y="1125360"/>
            <a:ext cx="3530880" cy="2448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206" name="Picture 5" descr="شكل 3ـ2"/>
          <p:cNvPicPr/>
          <p:nvPr/>
        </p:nvPicPr>
        <p:blipFill>
          <a:blip r:embed="rId2"/>
          <a:stretch/>
        </p:blipFill>
        <p:spPr>
          <a:xfrm>
            <a:off x="1403280" y="692280"/>
            <a:ext cx="2210040" cy="3200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24000" y="764640"/>
            <a:ext cx="84960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1" lang="ar-SA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لأمونيا الكلية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otal Ammonia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مونيا المتأين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onized ammoni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NH4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مونيا غيرالمتأينة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on-Ionized ammoni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H3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  <a:ea typeface="Arial"/>
              </a:rPr>
              <a:t>◄◄</a:t>
            </a:r>
            <a:r>
              <a:rPr b="1" lang="ar-SA" sz="11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ar-SA" sz="3200" spc="-1" strike="noStrike">
                <a:solidFill>
                  <a:srgbClr val="04617b"/>
                </a:solidFill>
                <a:latin typeface="Arial Unicode MS"/>
                <a:cs typeface="Arial Unicode MS"/>
              </a:rPr>
              <a:t>الأرض أو الموق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 rtl="1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قصد بالأرض </a:t>
            </a:r>
            <a:r>
              <a:rPr b="1" lang="ar-SA" sz="2200" spc="-1" strike="noStrike">
                <a:solidFill>
                  <a:srgbClr val="0000ff"/>
                </a:solidFill>
                <a:latin typeface="Constantia"/>
                <a:cs typeface="Majalla UI"/>
              </a:rPr>
              <a:t>كلاً من طبوغرافية الموقع ونوعية التربة 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ي ستقام عليها المزرعة السمك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 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طبوغرافية الموق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عنى جغرافية الموقع  و شكل تضاريس سـطح الأرض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 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نوعية الترب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عنى الخصائص الطبيعية والكيميائية لتربة الموق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250560" y="907920"/>
            <a:ext cx="856908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 </a:t>
            </a:r>
            <a:r>
              <a:rPr b="0" lang="ar-SA" sz="2000" spc="-1" strike="noStrike">
                <a:solidFill>
                  <a:srgbClr val="cc0000"/>
                </a:solidFill>
                <a:latin typeface="Constantia"/>
                <a:cs typeface="Majalla UI"/>
              </a:rPr>
              <a:t>الخصائص الطبيعية للترب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   (طيبنية ـ رملية ـ صخرية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cc0000"/>
                </a:solidFill>
                <a:latin typeface="Constantia"/>
                <a:cs typeface="Majalla UI"/>
              </a:rPr>
              <a:t>الخصائص الكيميائية للترب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c0000"/>
                </a:solidFill>
                <a:latin typeface="Constantia"/>
                <a:ea typeface="Majalla UI"/>
              </a:rPr>
              <a:t>                 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(حمضية ـ قاعدية – غنية بالعناصر المعدنية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  <a:ea typeface="Arial"/>
              </a:rPr>
              <a:t>◄◄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ar-SA" sz="3200" spc="-1" strike="noStrike">
                <a:solidFill>
                  <a:srgbClr val="04617b"/>
                </a:solidFill>
                <a:latin typeface="Arial Unicode MS"/>
                <a:cs typeface="Arial Unicode MS"/>
              </a:rPr>
              <a:t>الأسماك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إن الأسماك التي يجب اختيارها للاستزراع لابد وأن تتمتع بخواص ومميزات تجعلها دون غيرها صالحة لهذا الغرض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(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قد تم تناول هذا الموضوع في محاضرة سابقة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hp</cp:lastModifiedBy>
  <dcterms:modified xsi:type="dcterms:W3CDTF">2017-10-21T20:32:34Z</dcterms:modified>
  <cp:revision>283</cp:revision>
  <dc:subject/>
  <dc:title>Principals of General Zoology (Zoo-103)</dc:title>
</cp:coreProperties>
</file>