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9225-8DCF-4D1C-AB30-235879E9F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3502-EFDD-4EDA-8B28-CA6157A31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59DA-0BDE-424E-AF21-8B8D9395D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10BE-AF23-459D-8B23-2168F52DA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B175E-45B6-4EAA-894D-CAD1D19D6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7CE09-2541-4359-AF44-BBE3F553B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8849C-DF87-4EE7-8573-CC75EE124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35E20-2275-4B58-B1AF-2D016DD3F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06F17-4ED7-4B51-A411-CA228BF5F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267B1-8BD2-46FC-AAFA-F1AE07315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E2C29-1269-4557-9072-615FC0A19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3C66-DE97-4D87-890D-32174E524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D66B2-62D1-4196-B423-F274D81A2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8ADE8-EA0D-4847-A1E6-EB39D0456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A356F-FCC5-49B1-9CFE-40FB37494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C8912-CA75-4638-9A59-127B75D64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61635-A7D7-4783-8B4A-2E1926010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3A5FCE-6F95-4544-9EBE-59D6D4258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53A4A4-C0D8-4733-B90A-FE4B27B1E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622619-CE52-4622-B089-B6A9AB433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871EE5-C6F8-4EAF-B33C-B95D1E50F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330423-5FBB-42DB-94F4-A0E6BB41A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3136-8414-4F86-A9CA-CE0C2E9EC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100C47-9E0E-4DED-AEC6-6C2380BDC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939855-BEBA-4F4B-A3CB-D6EDD4063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74DD08-D1AB-4C2D-81C0-A91CAB321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058721-4876-431F-BCEB-F21CB1FC8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68DA65-F25B-45FD-8F4E-FE367CDD2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680C25-4400-4B84-9E9A-EF204BF3D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2F4CCE-AD10-4D13-976A-F4A3D90C6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3A6A09-6960-45B0-A8E0-A566A248B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4022A4-3BC4-4F28-982C-FC4D92ECD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C9C74F-F1A5-4F35-A00B-FAC001363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4827-9CFB-46F5-B0DF-E63957C4E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806B13-E0D4-4DC7-B803-16F3B9148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3D5602-DFF8-4F6B-A3C8-A08BFC470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E64D1F-156C-4414-A644-FEEBF0368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E629B8-5913-45C6-BE1A-CA84D5514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92A6D4-15F4-4821-BB2F-579A71FC7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A9EED2-A46C-4DE6-93F0-47F43E05E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B34B6F-0845-4118-B039-338DC4463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A393C1-DFA0-465F-95B1-FAF76E5A4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9AF981-FDA2-493F-986A-3420FB47D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4EA3-2F16-4BD7-B01A-FAF258D9A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FD44-D23A-4E2E-ADD1-1902D4A41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3FAD-5838-446B-BE39-F133691DE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6478-E421-453F-81CB-A922DB47A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DC2F-4167-4929-9366-D82F218BB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DD81F-7E29-4401-A6C3-B18164008AB3}" type="slidenum">
              <a:rPr b="0" lang="en-GB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4E913-989A-4E32-81C9-15CB98DBF96D}" type="slidenum">
              <a:rPr b="0" lang="en-GB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F0350-7804-46E8-828A-3B6AADF162EB}" type="slidenum">
              <a:rPr b="0" lang="en-GB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2B144-B144-4FA6-8B40-F756FD6B6ACA}" type="slidenum">
              <a:rPr b="0" lang="en-GB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AutoShape 12"/>
          <p:cNvSpPr/>
          <p:nvPr/>
        </p:nvSpPr>
        <p:spPr>
          <a:xfrm>
            <a:off x="1116000" y="5661000"/>
            <a:ext cx="6985080" cy="792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43570" dir="8100000" blurRad="0" rotWithShape="0">
              <a:srgbClr val="dbf5f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8"/>
          <p:cNvSpPr/>
          <p:nvPr/>
        </p:nvSpPr>
        <p:spPr>
          <a:xfrm>
            <a:off x="1690560" y="5950080"/>
            <a:ext cx="58341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oology Department         1438-1439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9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11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12"/>
          <p:cNvSpPr/>
          <p:nvPr/>
        </p:nvSpPr>
        <p:spPr>
          <a:xfrm>
            <a:off x="1116000" y="1052640"/>
            <a:ext cx="6985080" cy="936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43570" dir="8100000" blurRad="0" rotWithShape="0">
              <a:srgbClr val="dbf5f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Aquatic Ecology – Zoo 374     2(1+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11" descr="C:\Users\hp\Desktop\صور بيئات مائية\daabad3ee16e92511ccf621a77a58c73.jpg"/>
          <p:cNvPicPr/>
          <p:nvPr/>
        </p:nvPicPr>
        <p:blipFill>
          <a:blip r:embed="rId1"/>
          <a:stretch/>
        </p:blipFill>
        <p:spPr>
          <a:xfrm>
            <a:off x="3132000" y="2205000"/>
            <a:ext cx="2951280" cy="32400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8" descr="بحيرة مورسكي أوكو بولندا"/>
          <p:cNvPicPr/>
          <p:nvPr/>
        </p:nvPicPr>
        <p:blipFill>
          <a:blip r:embed="rId2"/>
          <a:stretch/>
        </p:blipFill>
        <p:spPr>
          <a:xfrm>
            <a:off x="5651640" y="2637000"/>
            <a:ext cx="3071520" cy="22320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0" descr="منظر لبحيرة سينيفير أوكرانيا"/>
          <p:cNvPicPr/>
          <p:nvPr/>
        </p:nvPicPr>
        <p:blipFill>
          <a:blip r:embed="rId3"/>
          <a:stretch/>
        </p:blipFill>
        <p:spPr>
          <a:xfrm>
            <a:off x="395280" y="2637000"/>
            <a:ext cx="2952720" cy="23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65000"/>
            <a:ext cx="8229600" cy="935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ar-SA" sz="2800" spc="-1" strike="noStrike">
                <a:solidFill>
                  <a:srgbClr val="7030a0"/>
                </a:solidFill>
                <a:latin typeface="Calibri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</a:t>
            </a:r>
            <a:r>
              <a:rPr b="0" lang="en-US" sz="28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reshwate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nvironment (Habitat) </a:t>
            </a:r>
            <a:r>
              <a:rPr b="1" lang="ar-SA" sz="2800" spc="-1" strike="noStrike">
                <a:solidFill>
                  <a:srgbClr val="0000ff"/>
                </a:solidFill>
                <a:latin typeface="Stencil"/>
                <a:cs typeface="Arial Unicode MS"/>
              </a:rPr>
              <a:t>بيئة المياه العذبة</a:t>
            </a:r>
            <a:r>
              <a:rPr b="1" lang="ar-SA" sz="2800" spc="-1" strike="noStrike">
                <a:solidFill>
                  <a:srgbClr val="7030a0"/>
                </a:solidFill>
                <a:latin typeface="Stencil"/>
                <a:ea typeface="Arial Unicode MS"/>
              </a:rPr>
              <a:t> </a:t>
            </a:r>
            <a:r>
              <a:rPr b="0" lang="ar-SA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</a:t>
            </a:r>
            <a:br>
              <a:rPr sz="2800"/>
            </a:br>
            <a:r>
              <a:rPr b="0" lang="ar-SA" sz="2800" spc="-1" strike="noStrike">
                <a:solidFill>
                  <a:srgbClr val="ff0000"/>
                </a:solidFill>
                <a:latin typeface="Calibri"/>
                <a:ea typeface="Traditional Arabic"/>
              </a:rPr>
              <a:t> 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95280" y="1483920"/>
            <a:ext cx="8424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20680" indent="-22068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◄◄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عريف الماء العذب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        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و الماء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الذي يحتوي على اقل من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4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جم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/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لتر في اللتر من الاملاح الذائبة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                  </a:t>
            </a:r>
            <a:r>
              <a:rPr b="0" lang="ar-SA" sz="2000" spc="-1" strike="noStrike">
                <a:solidFill>
                  <a:srgbClr val="7030a0"/>
                </a:solidFill>
                <a:latin typeface="Times New Roman"/>
                <a:cs typeface="Times New Roman"/>
              </a:rPr>
              <a:t>الأملاح الكلية المذابة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DS</a:t>
            </a:r>
            <a:r>
              <a:rPr b="1" lang="ar-SA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(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1-3 ppt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◄◄</a:t>
            </a:r>
            <a:r>
              <a:rPr b="1" lang="ar-SA" sz="2400" spc="-1" strike="noStrike">
                <a:solidFill>
                  <a:srgbClr val="000000"/>
                </a:solidFill>
                <a:latin typeface="Stencil"/>
                <a:cs typeface="Arial Unicode MS"/>
              </a:rPr>
              <a:t>أقسام بيئة المياه العذبة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Stencil"/>
                <a:ea typeface="Arial Unicode MS"/>
              </a:rPr>
              <a:t>  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يمكن تقسيم بيئة المياه العذبة الى قسمين يختلفان في خصائصهما الطبيعية و نوعية كائناتهما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◄</a:t>
            </a:r>
            <a:r>
              <a:rPr b="1" lang="ar-SA" sz="2000" spc="-1" strike="noStrike">
                <a:solidFill>
                  <a:srgbClr val="c00000"/>
                </a:solidFill>
                <a:latin typeface="Constantia"/>
                <a:ea typeface="Majalla UI"/>
              </a:rPr>
              <a:t> المياه الساكنة    </a:t>
            </a:r>
            <a:r>
              <a:rPr b="1" lang="en-US" sz="2000" spc="-1" strike="noStrike">
                <a:solidFill>
                  <a:srgbClr val="c00000"/>
                </a:solidFill>
                <a:latin typeface="Constantia"/>
              </a:rPr>
              <a:t>Still water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)</a:t>
            </a:r>
            <a:r>
              <a:rPr b="1" lang="ar-SA" sz="2000" spc="-1" strike="noStrike">
                <a:solidFill>
                  <a:srgbClr val="c00000"/>
                </a:solidFill>
                <a:latin typeface="Constantia"/>
                <a:ea typeface="Majalla UI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ar-SA" sz="2000" spc="-1" strike="noStrike">
                <a:solidFill>
                  <a:srgbClr val="c00000"/>
                </a:solidFill>
                <a:latin typeface="Constantia"/>
                <a:ea typeface="Majalla UI"/>
              </a:rPr>
              <a:t> </a:t>
            </a:r>
            <a:r>
              <a:rPr b="1" lang="en-US" sz="2000" spc="-1" strike="noStrike">
                <a:solidFill>
                  <a:srgbClr val="c00000"/>
                </a:solidFill>
                <a:latin typeface="Constantia"/>
              </a:rPr>
              <a:t>lentic water</a:t>
            </a:r>
            <a:r>
              <a:rPr b="1" lang="ar-SA" sz="2000" spc="-1" strike="noStrike">
                <a:solidFill>
                  <a:srgbClr val="c00000"/>
                </a:solidFill>
                <a:latin typeface="Constantia"/>
                <a:ea typeface="Majalla U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Constantia"/>
                <a:ea typeface="Majalla UI"/>
              </a:rPr>
              <a:t>                  </a:t>
            </a:r>
            <a:r>
              <a:rPr b="1" lang="en-US" sz="2000" spc="-1" strike="noStrike">
                <a:solidFill>
                  <a:srgbClr val="c00000"/>
                </a:solidFill>
                <a:latin typeface="Constantia"/>
              </a:rPr>
              <a:t>            </a:t>
            </a:r>
            <a:r>
              <a:rPr b="1" lang="ar-SA" sz="2000" spc="-1" strike="noStrike">
                <a:solidFill>
                  <a:srgbClr val="c00000"/>
                </a:solidFill>
                <a:latin typeface="Constantia"/>
                <a:ea typeface="Majalla UI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تضم</a:t>
            </a:r>
            <a:r>
              <a:rPr b="1" lang="ar-SA" sz="2000" spc="-1" strike="noStrike">
                <a:solidFill>
                  <a:srgbClr val="c00000"/>
                </a:solidFill>
                <a:latin typeface="Constantia"/>
                <a:ea typeface="Majalla UI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بحيرات والبرك</a:t>
            </a:r>
            <a:r>
              <a:rPr b="1" lang="ar-SA" sz="2000" spc="-1" strike="noStrike">
                <a:solidFill>
                  <a:srgbClr val="c00000"/>
                </a:solidFill>
                <a:latin typeface="Constantia"/>
                <a:ea typeface="Majalla UI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Lakes and ponds</a:t>
            </a:r>
            <a:r>
              <a:rPr b="1" lang="ar-SA" sz="2000" spc="-1" strike="noStrike">
                <a:solidFill>
                  <a:srgbClr val="c00000"/>
                </a:solidFill>
                <a:latin typeface="Constantia"/>
                <a:ea typeface="Majalla UI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Constantia"/>
                <a:ea typeface="Majalla UI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◄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ar-SA" sz="2000" spc="-1" strike="noStrike">
                <a:solidFill>
                  <a:srgbClr val="c00000"/>
                </a:solidFill>
                <a:latin typeface="Constantia"/>
                <a:cs typeface="Majalla UI"/>
              </a:rPr>
              <a:t>المياه الجارية    </a:t>
            </a:r>
            <a:r>
              <a:rPr b="1" lang="en-US" sz="2000" spc="-1" strike="noStrike">
                <a:solidFill>
                  <a:srgbClr val="c00000"/>
                </a:solidFill>
                <a:latin typeface="Constantia"/>
              </a:rPr>
              <a:t>or  Runoff water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)</a:t>
            </a:r>
            <a:r>
              <a:rPr b="1" lang="ar-SA" sz="2000" spc="-1" strike="noStrike">
                <a:solidFill>
                  <a:srgbClr val="c00000"/>
                </a:solidFill>
                <a:latin typeface="Constantia"/>
                <a:ea typeface="Majalla UI"/>
              </a:rPr>
              <a:t>  </a:t>
            </a:r>
            <a:r>
              <a:rPr b="1" lang="en-US" sz="2000" spc="-1" strike="noStrike">
                <a:solidFill>
                  <a:srgbClr val="c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1" lang="en-US" sz="2000" spc="-1" strike="noStrike">
                <a:solidFill>
                  <a:srgbClr val="c00000"/>
                </a:solidFill>
                <a:latin typeface="Constantia"/>
              </a:rPr>
              <a:t>Moving water</a:t>
            </a:r>
            <a:r>
              <a:rPr b="1" lang="ar-SA" sz="2000" spc="-1" strike="noStrike">
                <a:solidFill>
                  <a:srgbClr val="c00000"/>
                </a:solidFill>
                <a:latin typeface="Constantia"/>
                <a:ea typeface="Majalla UI"/>
              </a:rPr>
              <a:t> </a:t>
            </a:r>
            <a:r>
              <a:rPr b="1" lang="en-US" sz="2000" spc="-1" strike="noStrike">
                <a:solidFill>
                  <a:srgbClr val="c00000"/>
                </a:solidFill>
                <a:latin typeface="Constantia"/>
              </a:rPr>
              <a:t> lotic wate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</a:t>
            </a:r>
            <a:r>
              <a:rPr b="1" lang="ar-SA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 </a:t>
            </a:r>
            <a:r>
              <a:rPr b="1" lang="ar-SA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تضم</a:t>
            </a:r>
            <a:r>
              <a:rPr b="1" lang="ar-SA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أنهار</a:t>
            </a:r>
            <a:r>
              <a:rPr b="1" lang="ar-SA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والجداول</a:t>
            </a:r>
            <a:r>
              <a:rPr b="1" lang="ar-SA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Rivers and Rivulets 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or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Brook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324000" y="836640"/>
            <a:ext cx="8496000" cy="54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marL="180000" indent="-18000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◄</a:t>
            </a:r>
            <a:r>
              <a:rPr b="1" lang="ar-SA" sz="2000" spc="-1" strike="noStrike">
                <a:solidFill>
                  <a:srgbClr val="c00000"/>
                </a:solidFill>
                <a:latin typeface="Constantia"/>
                <a:ea typeface="Majalla UI"/>
              </a:rPr>
              <a:t> المياه الساكنة    </a:t>
            </a:r>
            <a:r>
              <a:rPr b="1" lang="en-US" sz="2000" spc="-1" strike="noStrike">
                <a:solidFill>
                  <a:srgbClr val="c00000"/>
                </a:solidFill>
                <a:latin typeface="Constantia"/>
              </a:rPr>
              <a:t>Still water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)</a:t>
            </a:r>
            <a:r>
              <a:rPr b="1" lang="ar-SA" sz="2000" spc="-1" strike="noStrike">
                <a:solidFill>
                  <a:srgbClr val="c00000"/>
                </a:solidFill>
                <a:latin typeface="Constantia"/>
                <a:ea typeface="Majalla UI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ar-SA" sz="2000" spc="-1" strike="noStrike">
                <a:solidFill>
                  <a:srgbClr val="c00000"/>
                </a:solidFill>
                <a:latin typeface="Constantia"/>
                <a:ea typeface="Majalla UI"/>
              </a:rPr>
              <a:t> </a:t>
            </a:r>
            <a:r>
              <a:rPr b="1" lang="en-US" sz="2000" spc="-1" strike="noStrike">
                <a:solidFill>
                  <a:srgbClr val="c00000"/>
                </a:solidFill>
                <a:latin typeface="Constantia"/>
              </a:rPr>
              <a:t>lentic water</a:t>
            </a:r>
            <a:r>
              <a:rPr b="1" lang="ar-SA" sz="2000" spc="-1" strike="noStrike">
                <a:solidFill>
                  <a:srgbClr val="c00000"/>
                </a:solidFill>
                <a:latin typeface="Constantia"/>
                <a:ea typeface="Majalla U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180000" indent="-18000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nstantia"/>
              </a:rPr>
              <a:t>     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تضم</a:t>
            </a:r>
            <a:r>
              <a:rPr b="1" lang="ar-SA" sz="2000" spc="-1" strike="noStrike">
                <a:solidFill>
                  <a:srgbClr val="c00000"/>
                </a:solidFill>
                <a:latin typeface="Constantia"/>
                <a:ea typeface="Majalla UI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بحيرات والبرك</a:t>
            </a:r>
            <a:r>
              <a:rPr b="1" lang="ar-SA" sz="2000" spc="-1" strike="noStrike">
                <a:solidFill>
                  <a:srgbClr val="c00000"/>
                </a:solidFill>
                <a:latin typeface="Constantia"/>
                <a:ea typeface="Majalla UI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Lakes and ponds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(تشكل تقريبا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20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% من المياه العذبة في العالم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180000" indent="-18000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       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180000" indent="-18000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Constantia"/>
                <a:ea typeface="Majalla UI"/>
              </a:rPr>
              <a:t> تعريف البحيرات والبرك :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هي مسطح مائي عذب ساكن نسبيا يحتل حوض معين من سطح الأرض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180000" indent="-18000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180000" indent="-180000" algn="ct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مالفرق بين البحيرات والبرك ؟؟؟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180000" indent="-18000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0000"/>
                </a:solidFill>
                <a:latin typeface="Constantia"/>
                <a:ea typeface="Majalla UI"/>
              </a:rPr>
              <a:t>1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ea typeface="Majalla UI"/>
              </a:rPr>
              <a:t>-</a:t>
            </a:r>
            <a:r>
              <a:rPr b="1" lang="ar-SA" sz="20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1" lang="ar-SA" sz="2000" spc="-1" strike="noStrike">
                <a:solidFill>
                  <a:srgbClr val="0000ff"/>
                </a:solidFill>
                <a:latin typeface="Constantia"/>
                <a:cs typeface="Majalla UI"/>
              </a:rPr>
              <a:t>الحجم                            </a:t>
            </a:r>
            <a:r>
              <a:rPr b="1" lang="ar-SA" sz="20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(البحيرات أكبر مساحة وأكثر سعة من البرك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180000" indent="-18000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0000"/>
                </a:solidFill>
                <a:latin typeface="Constantia"/>
                <a:ea typeface="Majalla UI"/>
              </a:rPr>
              <a:t>2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ea typeface="Majalla UI"/>
              </a:rPr>
              <a:t>- </a:t>
            </a:r>
            <a:r>
              <a:rPr b="1" lang="ar-SA" sz="2000" spc="-1" strike="noStrike">
                <a:solidFill>
                  <a:srgbClr val="0000ff"/>
                </a:solidFill>
                <a:latin typeface="Constantia"/>
                <a:cs typeface="Majalla UI"/>
              </a:rPr>
              <a:t>النشأة والبقاء        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(بعض البحيرات ترجع نشأتها للعصر الجليدي ...تبقى مئات السنين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180000" indent="-18000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0000"/>
                </a:solidFill>
                <a:latin typeface="Constantia"/>
                <a:ea typeface="Majalla UI"/>
              </a:rPr>
              <a:t>3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ea typeface="Majalla UI"/>
              </a:rPr>
              <a:t>-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ar-SA" sz="2000" spc="-1" strike="noStrike">
                <a:solidFill>
                  <a:srgbClr val="0000ff"/>
                </a:solidFill>
                <a:latin typeface="Constantia"/>
                <a:cs typeface="Majalla UI"/>
              </a:rPr>
              <a:t>الشكل العام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       (المنطقة العميقة أكبر من المنطقة الشاطئية ..... والعكس في حالة البرك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180000" indent="-18000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0000"/>
                </a:solidFill>
                <a:latin typeface="Constantia"/>
                <a:ea typeface="Majalla UI"/>
              </a:rPr>
              <a:t>4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ea typeface="Majalla UI"/>
              </a:rPr>
              <a:t>-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ar-SA" sz="2000" spc="-1" strike="noStrike">
                <a:solidFill>
                  <a:srgbClr val="0000ff"/>
                </a:solidFill>
                <a:latin typeface="Constantia"/>
                <a:cs typeface="Majalla UI"/>
              </a:rPr>
              <a:t>الإنتشار أو التوزيع الجغرافي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(البحيرات الطبيعية تنتشر في مناطق عديدة من العالم لكنها تتواجد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180000" indent="-18000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                                       بصورة كبيرة في نصف الكرة الشمالي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؟؟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كما تتواجد في شرق أفريقيا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180000" indent="-18000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180000" indent="-18000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Constantia"/>
                <a:cs typeface="Majalla UI"/>
              </a:rPr>
              <a:t>تكوين البحيرات : 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cs typeface="Majalla UI"/>
              </a:rPr>
              <a:t>تكونت البحيرات بإحدى الطرق التالية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180000" indent="-18000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0000"/>
                </a:solidFill>
                <a:latin typeface="Constantia"/>
                <a:ea typeface="Majalla UI"/>
              </a:rPr>
              <a:t>1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ea typeface="Majalla UI"/>
              </a:rPr>
              <a:t>-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 بسبب نشاط البراكين                    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         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   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(حوض البحيرة غالبا يكون دائري)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180000" indent="-18000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0000"/>
                </a:solidFill>
                <a:latin typeface="Constantia"/>
                <a:ea typeface="Majalla UI"/>
              </a:rPr>
              <a:t>2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ea typeface="Majalla UI"/>
              </a:rPr>
              <a:t>- 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cs typeface="Majalla UI"/>
              </a:rPr>
              <a:t>بسبب ذوبان الجليد في المناطق الجبلية    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    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  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(حوض البحيرة غالبا يكون شبه دائري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U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)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180000" indent="-18000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0000"/>
                </a:solidFill>
                <a:latin typeface="Constantia"/>
                <a:ea typeface="Majalla UI"/>
              </a:rPr>
              <a:t>3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ea typeface="Majalla UI"/>
              </a:rPr>
              <a:t>- 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cs typeface="Majalla UI"/>
              </a:rPr>
              <a:t>بسبب حركة القشرة الأرضية أو الإنزلاقات الأرضية    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(حوض البحيرة غالبا يكون شبه مائل)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180000" indent="-18000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180000" indent="-18000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180000" indent="-18000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180000" indent="-18000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Constantia"/>
                <a:ea typeface="Majalla UI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180000" indent="-18000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180000" indent="-18000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180000" indent="-180000" algn="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324000" y="836280"/>
            <a:ext cx="84960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0000"/>
                </a:solidFill>
                <a:latin typeface="Constantia"/>
                <a:ea typeface="Majalla UI"/>
              </a:rPr>
              <a:t>4- 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cs typeface="Majalla UI"/>
              </a:rPr>
              <a:t>بسبب النمو الكثيف لبعض النباتات المائية حيث تحتجز الماء في منطقة معينة من الوادي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onstantia"/>
                <a:ea typeface="Majalla UI"/>
              </a:rPr>
              <a:t>    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(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قد تختلف أشكال البحيرات بسبب بعض العوامل الخارجية مثل التغيرات التي تحدث في شكل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مصبات المائية المؤدية للبحيرة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Constantia"/>
                <a:cs typeface="Majalla UI"/>
              </a:rPr>
              <a:t>قاع البحيرات :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يختلف قاع البحيرة وطبيعة مكوناته باختلاف عمر وحجم البحيرة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ــــ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البحيرات حديثة التكوين يكون قاعها صخري أو رملي مع قليل من الترسبات والمواد العضوية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ــــ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البحيرات قديمة التكوين تتميز بكميات هائلة من الترسبات والمواد العضوية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Constantia"/>
                <a:cs typeface="Majalla UI"/>
              </a:rPr>
              <a:t>التنضيد في البحيرات ( التنضيد الحراري ) </a:t>
            </a:r>
            <a:r>
              <a:rPr b="1" lang="en-US" sz="2000" spc="-1" strike="noStrike">
                <a:solidFill>
                  <a:srgbClr val="c00000"/>
                </a:solidFill>
                <a:latin typeface="Constantia"/>
                <a:ea typeface="Majalla UI"/>
              </a:rPr>
              <a:t>Thermal stratification</a:t>
            </a:r>
            <a:r>
              <a:rPr b="1" lang="ar-SA" sz="2000" spc="-1" strike="noStrike">
                <a:solidFill>
                  <a:srgbClr val="c00000"/>
                </a:solidFill>
                <a:latin typeface="Constantia"/>
                <a:ea typeface="Majalla U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   يحدث في البحيرات العميقة مايسمى التنضيد الحراري ( لدرجة الحرارة وتركيز الأكسجين ) خاصة في بحيرات نصف الكرة الأرضية الشمالي خلال موسم الصيف وبناءا علية تنقسم مياه البحيرة إلى ثلاث طبقات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0000"/>
                </a:solidFill>
                <a:latin typeface="Constantia"/>
                <a:ea typeface="Majalla UI"/>
              </a:rPr>
              <a:t>1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ea typeface="Majalla UI"/>
              </a:rPr>
              <a:t>-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 طبقة سطحية دافئة                         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Epilimnio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0000"/>
                </a:solidFill>
                <a:latin typeface="Constantia"/>
                <a:ea typeface="Majalla UI"/>
              </a:rPr>
              <a:t>2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ea typeface="Majalla UI"/>
              </a:rPr>
              <a:t>- 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cs typeface="Majalla UI"/>
              </a:rPr>
              <a:t>طبقة سفلى باردة                        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Hypolimnio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0000"/>
                </a:solidFill>
                <a:latin typeface="Constantia"/>
                <a:ea typeface="Majalla UI"/>
              </a:rPr>
              <a:t>3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ea typeface="Majalla UI"/>
              </a:rPr>
              <a:t>- 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cs typeface="Majalla UI"/>
              </a:rPr>
              <a:t>طبقة وسطى      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Thermocline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)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Metalimnio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457200" y="836640"/>
            <a:ext cx="8229600" cy="54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2640" indent="-24264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Constantia"/>
                <a:cs typeface="Majalla UI"/>
              </a:rPr>
              <a:t>تصنيف (تقسيم) البحيرات :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يعتبر تصنيف البحيرات الطبيعية عملية صعبة لأن البحيرات تمتلك مجموعة كبيرة من الصفات المتداخلة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ــــ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محاولة التصنيف على أسس تكوين البحيرة و جيومورفولوجيا منطقة البحيرة  (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ea typeface="Majalla UI"/>
              </a:rPr>
              <a:t>75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ea typeface="Majalla UI"/>
              </a:rPr>
              <a:t> نوع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ــــ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تصنيف على أساس وفرة المواد الغذائية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Nutrients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التي تدعم الإنتاجية الأولية للهائمالت النباتية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    أو كمية المواد الغذائية بصورة عامة (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تقسيم من وجهة نظر بيئية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0000"/>
                </a:solidFill>
                <a:latin typeface="Constantia"/>
                <a:ea typeface="Majalla UI"/>
              </a:rPr>
              <a:t>1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ea typeface="Majalla UI"/>
              </a:rPr>
              <a:t>-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 البحيرات فقيرة التغذية ( قليلة المواد الغذائية )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Oligotrophic Lak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ــ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بحيرات عميقة ذات منطقة شاطئية صغيرة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ــ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يظهر فيها التنضيد الحراري (طبقات حرارة الماء والأكسجين) بشكل واضح في فصل الصيف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ــ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Nutrients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( النتروجين ـ الفسفور ـ الكالسيوم ) قليلة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ــ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فقيرة في الكائنات الحية (الكتلة الحية) نسبة إلى حجمها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0000"/>
                </a:solidFill>
                <a:latin typeface="Constantia"/>
                <a:ea typeface="Majalla UI"/>
              </a:rPr>
              <a:t>2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ea typeface="Majalla UI"/>
              </a:rPr>
              <a:t>-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 البحيرات غنية التغذية ( وفيرة المواد الغذائية )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Eutrophic Lak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457200" y="907920"/>
            <a:ext cx="8229600" cy="541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ــ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بحيرات ضحلة عادة ذات منطقة شاطئية كبيرة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ــ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طبقة السفلى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Hypolimnion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أعمق من الطبقة العليا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Epilimnio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ــ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Nutrients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( النتروجين ـ الفسفور ـ الكالسيوم ) وفيرة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ــ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غنية بالكائنات الحية ( الكتلة الحية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0000"/>
                </a:solidFill>
                <a:latin typeface="Constantia"/>
                <a:ea typeface="Majalla UI"/>
              </a:rPr>
              <a:t>3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ea typeface="Majalla UI"/>
              </a:rPr>
              <a:t>-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 البحيرات متوسطة التغذية ( متوسطة المواد الغذائية )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Mesotrophic Lak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 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  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بحيرات تمتلك صفات وسطية بين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Oligotrophic Lakes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و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Eutrophic Lakes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0000"/>
                </a:solidFill>
                <a:latin typeface="Constantia"/>
                <a:ea typeface="Majalla UI"/>
              </a:rPr>
              <a:t>4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ea typeface="Majalla UI"/>
              </a:rPr>
              <a:t>-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 البحيرات ناقصة التغذية ( المعتلة – المضطربة )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Dsytrophic Lakes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ــ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توجد بشكل رئيسي في المناطق الجبلية والمستنقعات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ــ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تحتوي على مواد عضوية عالقة وراسبة في القاع ( المياه ذات لون بني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ــ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تحتوي على تركيز عالي من الحمض الدوبالي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Humic acid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( المياه حامضية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ــ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فقيرة بالكائنات الحية ( الكتلة الحية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1T18:13:50Z</dcterms:created>
  <dc:creator>Dr. A A</dc:creator>
  <dc:description/>
  <dc:language>en-US</dc:language>
  <cp:lastModifiedBy>User</cp:lastModifiedBy>
  <dcterms:modified xsi:type="dcterms:W3CDTF">2017-11-09T10:37:29Z</dcterms:modified>
  <cp:revision>177</cp:revision>
  <dc:subject/>
  <dc:title>Principals of General Zoology (Zoo-103)</dc:title>
</cp:coreProperties>
</file>