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87A5-B18E-465F-86EE-9823AB178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A190-F672-41E8-B5B5-E53DC305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9404-0330-4D24-90AA-1E6740414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6A80-78B2-470C-9576-11174F357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9A2C-461C-4206-AB2B-717008A16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022B-3BA8-41AF-B372-290A2828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7917-1E03-4E3E-9391-B6E6D807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2438-A34E-4ED9-A843-CC0ABD01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0E23-ED48-491A-A58D-560C257D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92DC-35C8-46C4-A786-9E445E8A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145D-38D3-4FA6-8B73-DE7DCBFB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3DC7-E708-42B3-A635-0FD57E79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775C-76E5-477A-BEA9-4813FCAF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D371-30B1-494C-8E12-3A7D6AE4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BF86-9EDD-4B30-A464-1AD33ED5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CF8B-4D1D-4EC0-834F-DF30D2283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3248-DA64-4983-B1F0-11327E928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A5519-4ACD-4FC9-831D-2234D7021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DBBA2-B2F7-4DEB-8D17-5F2105BB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CD490-6A44-46AF-917E-D61DD656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79EC4-DFB2-46FE-9565-A0838906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BB9EE-5F2C-4794-A457-1561DF5F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276B-94E4-4800-95D8-8DE5AD72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79FFA-77BA-4316-9849-CF4E5E66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317F0-2BED-413D-A78A-CFE969EA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134DA-0EB8-42F1-A007-6EEB436E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A601D-AF74-405D-B67E-24FEBCD3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6C0A3-363E-44F3-BD7A-8FA8BD11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CAA9A-2534-4B82-8A7E-A9FA3179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312A2-BF9F-4C19-A234-02D935450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4D7C9-030B-4410-B762-CF4A3A5EA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88134-DFA4-4853-8125-528784F1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ADACC-FBB9-4924-A799-E883898D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FB13-272B-4629-93FB-9CB38A2B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8BA03-F2D8-4066-9300-32143C04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DEE5A-4B3D-4492-8D9E-D8FE065E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6062E-8A65-4013-B98D-2775A83D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5886E-D830-4020-99B1-E886AEAA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14C84-E52E-4A1E-B657-D2B89B7A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1C047-425E-47E0-BE05-2DCAD7A1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0985E-8E0A-4B5E-B68A-A6295167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45B77-099F-4A85-A637-5CE94E183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DA1E0-2CDA-44FD-A12D-B8A1450EF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1ACF-0DAC-49FC-8849-B93B0C7B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743B-9737-4105-BBEE-9E815599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4730-22CE-40C7-83DA-14EB09C9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EB3B-05EB-4472-AC35-B2E9C023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E9AD-347E-4266-927D-9C38047E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FBA9-A7DC-42F6-A6ED-F966D493339C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4066-743C-41DF-BDE7-A33691AC1689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0A46-B210-40A4-8FED-91B8AEDABAD9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E175-8A80-4FC6-A019-53C33A6271D7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12"/>
          <p:cNvSpPr/>
          <p:nvPr/>
        </p:nvSpPr>
        <p:spPr>
          <a:xfrm>
            <a:off x="1116000" y="5661000"/>
            <a:ext cx="6985080" cy="79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43570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1690560" y="5950080"/>
            <a:ext cx="5834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oology Department         1438-1439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2"/>
          <p:cNvSpPr/>
          <p:nvPr/>
        </p:nvSpPr>
        <p:spPr>
          <a:xfrm>
            <a:off x="1116000" y="1052640"/>
            <a:ext cx="6985080" cy="93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43570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quatic Ecology – Zoo 374     2(1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1" descr="C:\Users\hp\Desktop\صور بيئات مائية\daabad3ee16e92511ccf621a77a58c73.jpg"/>
          <p:cNvPicPr/>
          <p:nvPr/>
        </p:nvPicPr>
        <p:blipFill>
          <a:blip r:embed="rId1"/>
          <a:stretch/>
        </p:blipFill>
        <p:spPr>
          <a:xfrm>
            <a:off x="3132000" y="2205000"/>
            <a:ext cx="2951280" cy="3240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بحيرة مورسكي أوكو بولندا"/>
          <p:cNvPicPr/>
          <p:nvPr/>
        </p:nvPicPr>
        <p:blipFill>
          <a:blip r:embed="rId2"/>
          <a:stretch/>
        </p:blipFill>
        <p:spPr>
          <a:xfrm>
            <a:off x="5651640" y="2637000"/>
            <a:ext cx="3071520" cy="2232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منظر لبحيرة سينيفير أوكرانيا"/>
          <p:cNvPicPr/>
          <p:nvPr/>
        </p:nvPicPr>
        <p:blipFill>
          <a:blip r:embed="rId3"/>
          <a:stretch/>
        </p:blipFill>
        <p:spPr>
          <a:xfrm>
            <a:off x="395280" y="2637000"/>
            <a:ext cx="2952720" cy="23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ar-SA" sz="2800" spc="-1" strike="noStrike">
                <a:solidFill>
                  <a:srgbClr val="7030a0"/>
                </a:solidFill>
                <a:latin typeface="Calibri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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reshwat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vironment (Habitat) </a:t>
            </a:r>
            <a:r>
              <a:rPr b="1" lang="ar-SA" sz="2800" spc="-1" strike="noStrike">
                <a:solidFill>
                  <a:srgbClr val="0000ff"/>
                </a:solidFill>
                <a:latin typeface="Stencil"/>
                <a:cs typeface="Arial Unicode MS"/>
              </a:rPr>
              <a:t>بيئة المياه العذبة</a:t>
            </a:r>
            <a:r>
              <a:rPr b="1" lang="ar-SA" sz="2800" spc="-1" strike="noStrike">
                <a:solidFill>
                  <a:srgbClr val="7030a0"/>
                </a:solidFill>
                <a:latin typeface="Stencil"/>
                <a:ea typeface="Arial Unicode MS"/>
              </a:rPr>
              <a:t> </a:t>
            </a:r>
            <a:r>
              <a:rPr b="0" lang="ar-SA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</a:t>
            </a:r>
            <a:br>
              <a:rPr sz="2800"/>
            </a:br>
            <a:r>
              <a:rPr b="0" lang="ar-SA" sz="2800" spc="-1" strike="noStrike">
                <a:solidFill>
                  <a:srgbClr val="ff0000"/>
                </a:solidFill>
                <a:latin typeface="Calibri"/>
                <a:ea typeface="Traditional Arabic"/>
              </a:rPr>
              <a:t> 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95280" y="1483920"/>
            <a:ext cx="8424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◄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ريف الماء العذب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الماء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ذي يحتوي على اقل من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4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جم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/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لتر في اللتر من الاملاح الذائب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ar-SA" sz="2000" spc="-1" strike="noStrike">
                <a:solidFill>
                  <a:srgbClr val="7030a0"/>
                </a:solidFill>
                <a:latin typeface="Times New Roman"/>
                <a:cs typeface="Times New Roman"/>
              </a:rPr>
              <a:t>الأملاح الكلية المذابة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DS</a:t>
            </a:r>
            <a:r>
              <a:rPr b="1" lang="ar-S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1-3 ppt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◄</a:t>
            </a:r>
            <a:r>
              <a:rPr b="1" lang="ar-SA" sz="2400" spc="-1" strike="noStrike">
                <a:solidFill>
                  <a:srgbClr val="000000"/>
                </a:solidFill>
                <a:latin typeface="Stencil"/>
                <a:cs typeface="Arial Unicode MS"/>
              </a:rPr>
              <a:t>أقسام بيئة المياه العذب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Stencil"/>
                <a:ea typeface="Arial Unicode MS"/>
              </a:rPr>
              <a:t>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مكن تقسيم بيئة المياه العذبة الى قسمين يختلفان في خصائصهما الطبيعية و نوعية كائناتهما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المياه الساكنة    </a:t>
            </a: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Still water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lentic water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                 </a:t>
            </a: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            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ضم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حيرات والبرك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akes and ponds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cs typeface="Majalla UI"/>
              </a:rPr>
              <a:t>المياه الجارية    </a:t>
            </a: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or  Runoff water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 </a:t>
            </a: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Moving water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 lotic wa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ضم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نهار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والجداول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ivers and Rivulets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Brook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24000" y="836640"/>
            <a:ext cx="84960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180000" indent="-1800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المياه الساكنة    </a:t>
            </a: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Still water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lentic water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0000" indent="-1800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    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ضم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حيرات والبرك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akes and pond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(تشكل تقريبا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20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% من المياه العذبة في العالم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0000" indent="-1800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0000" indent="-1800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تعريف البحيرات والبرك :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هي مسطح مائي عذب ساكن نسبيا يحتل حوض معين من سطح الأرض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0000" indent="-1800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0000" indent="-18000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الفرق بين البحيرات والبرك ؟؟؟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0000" indent="-1800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1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الحجم                           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(البحيرات أكبر مساحة وأكثر سعة من البرك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0000" indent="-1800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2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- 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النشأة والبقاء       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(بعض البحيرات ترجع نشأتها للعصر الجليدي ...تبقى مئات السنين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0000" indent="-1800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3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الشكل العام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(المنطقة العميقة أكبر من المنطقة الشاطئية ..... والعكس في حالة البرك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0000" indent="-1800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4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الإنتشار أو التوزيع الجغرافي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(البحيرات الطبيعية تنتشر في مناطق عديدة من العالم لكنها تتواجد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0000" indent="-1800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                       بصورة كبيرة في نصف الكرة الشمالي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؟؟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كما تتواجد في شرق أفريقيا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0000" indent="-1800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0000" indent="-1800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onstantia"/>
                <a:cs typeface="Majalla UI"/>
              </a:rPr>
              <a:t>تكوين البحيرات :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تكونت البحيرات بإحدى الطرق التالية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0000" indent="-1800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1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بسبب نشاط البراكين                    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      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(حوض البحيرة غالبا يكون دائري)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0000" indent="-1800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2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-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بسبب ذوبان الجليد في المناطق الجبلية    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 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(حوض البحيرة غالبا يكون شبه دائري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U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)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0000" indent="-1800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3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-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بسبب حركة القشرة الأرضية أو الإنزلاقات الأرضية   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(حوض البحيرة غالبا يكون شبه مائل)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0000" indent="-1800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0000" indent="-1800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0000" indent="-1800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0000" indent="-1800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0000" indent="-18000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180000" indent="-18000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180000" indent="-1800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24000" y="836280"/>
            <a:ext cx="8496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4-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بسبب النمو الكثيف لبعض النباتات المائية حيث تحتجز الماء في منطقة معينة من الوادي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  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(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قد تختلف أشكال البحيرات بسبب بعض العوامل الخارجية مثل التغيرات التي تحدث في شكل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صبات المائية المؤدية للبحيرة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onstantia"/>
                <a:cs typeface="Majalla UI"/>
              </a:rPr>
              <a:t>قاع البحيرات :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يختلف قاع البحيرة وطبيعة مكوناته باختلاف عمر وحجم البحير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ـ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بحيرات حديثة التكوين يكون قاعها صخري أو رملي مع قليل من الترسبات والمواد العضوية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ـ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بحيرات قديمة التكوين تتميز بكميات هائلة من الترسبات والمواد العضوية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onstantia"/>
                <a:cs typeface="Majalla UI"/>
              </a:rPr>
              <a:t>التنضيد في البحيرات ( التنضيد الحراري ) </a:t>
            </a:r>
            <a:r>
              <a:rPr b="1" lang="en-US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Thermal stratification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يحدث في البحيرات العميقة مايسمى التنضيد الحراري ( لدرجة الحرارة وتركيز الأكسجين ) خاصة في بحيرات نصف الكرة الأرضية الشمالي خلال موسم الصيف وبناءا علية تنقسم مياه البحيرة إلى ثلاث طبقات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1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طبقة سطحية دافئة                         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Epilimn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2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-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طبقة سفلى باردة                        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Hypolimn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3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-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طبقة وسطى      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Thermocline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)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Metalimn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83664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onstantia"/>
                <a:cs typeface="Majalla UI"/>
              </a:rPr>
              <a:t>تصنيف (تقسيم) البحيرات 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يعتبر تصنيف البحيرات الطبيعية عملية صعبة لأن البحيرات تمتلك مجموعة كبيرة من الصفات المتداخل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حاولة التصنيف على أسس تكوين البحيرة و جيومورفولوجيا منطقة البحيرة  (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75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نوع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صنيف على أساس وفرة المواد الغذائية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Nutrient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تي تدعم الإنتاجية الأولية للهائمالت النباتية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أو كمية المواد الغذائية بصورة عامة (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قسيم من وجهة نظر بيئية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1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البحيرات فقيرة التغذية ( قليلة المواد الغذائية )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Oligotrophic Lak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بحيرات عميقة ذات منطقة شاطئية صغير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يظهر فيها التنضيد الحراري (طبقات حرارة الماء والأكسجين) بشكل واضح في فصل الصيف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Nutrient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( النتروجين ـ الفسفور ـ الكالسيوم ) قليل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فقيرة في الكائنات الحية (الكتلة الحية) نسبة إلى حجمها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2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البحيرات غنية التغذية ( وفيرة المواد الغذائية )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Eutrophic Lak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بحيرات ضحلة عادة ذات منطقة شاطئية كبيرة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طبقة السفلى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Hypolimnion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أعمق من الطبقة العليا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Epilimn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Nutrient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( النتروجين ـ الفسفور ـ الكالسيوم ) وفير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غنية بالكائنات الحية ( الكتلة الحية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3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البحيرات متوسطة التغذية ( متوسطة المواد الغذائية )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Mesotrophic Lak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بحيرات تمتلك صفات وسطية بين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Oligotrophic Lakes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و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Eutrophic Lakes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4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البحيرات ناقصة التغذية ( المعتلة – المضطربة )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Dsytrophic Lakes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وجد بشكل رئيسي في المناطق الجبلية والمستنقعات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حتوي على مواد عضوية عالقة وراسبة في القاع ( المياه ذات لون بني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حتوي على تركيز عالي من الحمض الدوبالي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Humic acid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( المياه حامضية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فقيرة بالكائنات الحية ( الكتلة الحية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User</cp:lastModifiedBy>
  <dcterms:modified xsi:type="dcterms:W3CDTF">2017-11-09T10:37:29Z</dcterms:modified>
  <cp:revision>177</cp:revision>
  <dc:subject/>
  <dc:title>Principals of General Zoology (Zoo-103)</dc:title>
</cp:coreProperties>
</file>