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DC0-5497-49D6-A48E-6DAD55AA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564-F2E0-4956-844D-3C35DCDF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E99-C269-4428-BBEE-43889356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661-7422-4B6F-92C8-A8D9D79D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7075-B3B9-4EE8-8D18-59B84DFC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5911-D227-457A-86C6-01788133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1803-FFB6-4CFB-ACF1-948AC984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A5BD-8FE4-4D49-A360-023A0183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334E-63E0-405B-9926-8E1EFA52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4EDB-C077-4381-9E79-E1781FA0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D597-6B96-46F4-9F0C-6EB1E947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C8D-C04E-43EB-A85F-99CAA4C1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50A3-96D0-45B5-B945-2B4E5A8B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2898-B987-4E59-87A5-F98EABC8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8E7C-79C2-4BB8-90C1-161E045D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90B3-54DE-49EE-A657-C72EBB8C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1839-D7FA-4EE6-B835-2B44C80C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192D-15D1-4293-B283-26844B23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42FF-71CB-41B6-8D6E-074CE756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B26F-77F4-4EB9-BD56-1337932C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F18F-4D2F-482C-8D94-580B8A61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A5FD-A856-4522-B683-2D035FFE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DF6-E409-41F1-A97E-7E9119C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887A-41E7-4A23-B24E-2895699D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6F3E-D601-4A6C-9DC1-9700E00F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8A0E3-76FF-4603-B2F7-7C0B101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D2F3-304B-472F-B664-A854211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9A80-066E-4C87-A373-D5E651AD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5ABB-4EEA-4AFF-8DE0-22BB60F9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654E-3AA4-4660-AB1B-AAE729E3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F188-91AA-407B-B2D0-B74699E5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2F70-E96E-490A-B6FC-E9CA8318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3C2E-72E9-4AF7-8146-0CB006BC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E31-7D3F-477D-9C33-C39A15FA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B416C-1FAC-4919-92BC-CCB193F1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7622-0308-43F6-A7DE-14444AFA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DDF1-7FF1-4F74-92A1-17DE41E3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0AD8-B1CF-4029-AA56-E551DE2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3DAF7-4F59-45AB-BEF8-4EB0606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741D-6220-4032-9F97-E4874B0C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6E03-8394-4ABE-A789-0CA2748D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5CA6F-DCAE-42E3-AEEF-E2FB1807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432B-0ACA-4943-8629-2FF4F35C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812-4FAA-4A1C-B493-68F4D0B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620-4FED-4B29-A2D5-2D1E4439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230-D455-4CF3-B509-E8FBEDDF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B24-0BD3-472C-9B21-AF9BFB6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420-5361-46CB-9645-4E22AE9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3D94-6DAF-497C-9422-4C8AA99C6DF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AF1D-A3E9-453E-9D02-E1DFFDFB8B7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508F-6C25-4731-A95B-A301FA74863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26C4-5EDE-4350-9088-A168068097B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أنواع المزارع السمك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733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7" descr="C:\Users\hp\Desktop\صور إستزراع سمكي\Fish-Management-Farm.jpg"/>
          <p:cNvPicPr/>
          <p:nvPr/>
        </p:nvPicPr>
        <p:blipFill>
          <a:blip r:embed="rId1"/>
          <a:stretch/>
        </p:blipFill>
        <p:spPr>
          <a:xfrm>
            <a:off x="4643280" y="2133720"/>
            <a:ext cx="4321440" cy="374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:\Users\hp\Desktop\صور إستزراع سمكي\1145259933.jpg"/>
          <p:cNvPicPr/>
          <p:nvPr/>
        </p:nvPicPr>
        <p:blipFill>
          <a:blip r:embed="rId2"/>
          <a:stretch/>
        </p:blipFill>
        <p:spPr>
          <a:xfrm>
            <a:off x="250920" y="2133720"/>
            <a:ext cx="4286160" cy="374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528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ea typeface="Majalla UI"/>
              </a:rPr>
              <a:t> ب ـ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متعددة الأنواع 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Poly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قوم هذه المزارع على تربية أكثر من نوع من الأسماك داخل الحوض الواحد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على أن لا يكون بين تلك الأنواع أيِ من أشكال العداء أو التنافس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البلطي مع بعض أنواع المبرو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r>
              <a:rPr b="1" lang="ar-SA" sz="2400" spc="-1" strike="noStrike">
                <a:solidFill>
                  <a:srgbClr val="ff3300"/>
                </a:solidFill>
                <a:latin typeface="Constantia"/>
                <a:cs typeface="Majalla UI"/>
              </a:rPr>
              <a:t>أو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(</a:t>
            </a:r>
            <a:r>
              <a:rPr b="0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البلطي مع المبروك مع البو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جنس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وحيدة الجنس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Monosexual Culture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تقوم هذه المزارع على تربية جنسي الأسماك ( الذكر و الأنثى )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قط لإنتاج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زريع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، أما في عملية التسمين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تقوم بانتخاب الذكور فقط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، نظراً لتفوقها ف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تمثيل الغذائي والنمو مقارنة بمثيلاتها من الإناث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كما قد تقوم مثل هـذه المزارع بإنتـاج زريعـة أو نسـل وحـيد الجنس (ذكـور فقـط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5280" y="907920"/>
            <a:ext cx="84247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يث يتم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ذلك إما طبيعياً باستخدام التهجين الخلطي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كما في حـالة أسماك البلط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ذلك بتهجين إناث البلطي النيلي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Oreochromis niloticu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م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ذكور البلطي الأزرق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Oreochromis aureu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فيتم الحصـول على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8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٪ تقريباً من النسل ذكور وذلك في الجـيل الأو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و يتم إنتاج نسل من الذكور صناعياً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استخدام الهرمونات التي تضاف إلى العليق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أشـهر الهرمونـات المستخدم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( استروجين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رديول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7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بيتا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داي إيثيل استبلسيترول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1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أوكسي تستوسترون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ميثي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تستوستيرو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17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بيتا 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ثنائية الجنس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Bisexual Cultu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قوم هذه المزارع  بتربية جنسي الأسماك ( الذكر والأنثى ) سواءً لإنتاج الزريعة      أو في عملية التسمي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أنواع المزارع السمكية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628640"/>
            <a:ext cx="842472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قسم المزارع السمكية إلى عدة أنواع تبعاً لمجموعة من العوامل التي تتعل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بطبيعة المياه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 </a:t>
            </a:r>
            <a:r>
              <a:rPr b="1" lang="ar-SA" sz="2400" spc="-1" strike="noStrike">
                <a:solidFill>
                  <a:srgbClr val="ff3300"/>
                </a:solidFill>
                <a:latin typeface="Constantia"/>
                <a:cs typeface="Majalla UI"/>
              </a:rPr>
              <a:t>نظام الترب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و </a:t>
            </a:r>
            <a:r>
              <a:rPr b="1" lang="ar-SA" sz="2400" spc="-1" strike="noStrike">
                <a:solidFill>
                  <a:srgbClr val="7030a0"/>
                </a:solidFill>
                <a:latin typeface="Constantia"/>
                <a:cs typeface="Majalla UI"/>
              </a:rPr>
              <a:t>نوع وجنس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ولاً : تقسيم المزارع السمكية تبعاً لـ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طبيعة المياه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درجة حرارة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دافئ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هي الأكثرانتشاراً حيث تمتازأسماك المياه الدافئة بقلة متطلباتها مقارنة بأسماك المياه الباردة كما تتميز بسرعة نموها ومقاومة تغيرات الحرارة وانخفاض الأكسجين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تعتبر هذه النوعية من المزارع ذات إنتاجية عال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( المبروك ـ البلطي ـ القرموط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62064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36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بارد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قل انتشاراً لأن الأسماك ذات متطلبات كثيرة كالماء الجاري والأكسجين المرتفع إلى جانب ذلك فهي بطيئة النمو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لا أن نوعياتها ممتازة ولها قيمة تسويقية عالية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تعتبر هذه النوعية من المزارع ذات إنتاجية منخفض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سلمون المرقط البني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rown Trout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Salmo trutta fario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البروك تراوت الأمريكي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Salvelinus fontinalis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ملوحة المياه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36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عذب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تي تستخدم مـياه الأنهـار أو الأمـطار أو الآبـار أو الينابي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 المبروك ـ البلطي النيلي ـ القرموط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3" descr="Salmo trutta fario2"/>
          <p:cNvPicPr/>
          <p:nvPr/>
        </p:nvPicPr>
        <p:blipFill>
          <a:blip r:embed="rId1"/>
          <a:stretch/>
        </p:blipFill>
        <p:spPr>
          <a:xfrm>
            <a:off x="4643280" y="2781360"/>
            <a:ext cx="3961080" cy="1295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3" name="Picture 4" descr="Salvelinus fontinalis2"/>
          <p:cNvPicPr/>
          <p:nvPr/>
        </p:nvPicPr>
        <p:blipFill>
          <a:blip r:embed="rId2"/>
          <a:stretch/>
        </p:blipFill>
        <p:spPr>
          <a:xfrm>
            <a:off x="395280" y="2781360"/>
            <a:ext cx="3960720" cy="1295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39640" y="620640"/>
            <a:ext cx="81583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مالح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تي تستخدم مياه البحا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وري ـ الطوبارة - الدنيس ـ السيج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ج -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أسماك المياه المويلح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تي تستخدم المياه قليلة الملوحة لتربية الأسماك ( 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كاستخدام خليط من مياه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البحر مع المياه العذبة أو ربما تكون الأحواض الترابية ذات تربة مالحة فتؤد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إلى ارتفاع ملوحة المياه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حتى لو كانت المياه عذبة عند ضخها في الأحواض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لطي الأزرق والأسود والموزمبيقي ـ البو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حركة المياه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مزارع المياه الجارية المفتوحة (المياه المتجددة)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هي التي يتم تغيير مياهها جـزئياً أو كلياً باستخدام آليات خاصة للري والصر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9280" y="62064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مياه الجارية نصف المفتوحة (النظام المغلق)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تي يتم فيها دوران الماء داخل نظام مغلق لأجل تنقيته ومن ثم إعادة ضخ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ي الأحواض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ج –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مياه الراكدة (الساكنة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هى المزارع التي تقام في مياه البرك والمستنقع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د 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أقفـاص العـائمة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Cages 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والمسيجـات ( الحظائر )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Pens Cultu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هى المزارع التي تقـام على شواطىء البحار أو الأنهار أو البحيرات أو أي مسطح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مائي مناسب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ثانياً : تقسيم المزارع السمكية تبعاً لـ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نظام الترب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كثافة الترب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زارع الموسعة أو الإنتشارية ( غير المكثفة ) 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Extensive cultu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50560" y="836640"/>
            <a:ext cx="85690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في هذه النوعية من المزارع تربية الأسماك في أحواض ترابية ( برك ) ذ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مساحات كبيرة بكثافـات سمكية منخفضة 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كات/ م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وبدون إمدادات غذائ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كملة وإنما يُعتمد في تغذية الأسماك على الغذاء الطبيعي فقط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ميزات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حتياجاتها قليلة وخاصة من المياه والغذاء وتكاليف إنشاء الأحواض والعمال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عيوب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تاجيتها منخفضة ويوجد تباين في أحجام الأسماك ـ كما أن السيطرة ع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المشاكل المرضية في حال حدوثها تكون بالغة الصعوب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زارع شبه المكثفة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Semi-intensive culture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في هذه المزارع يتم تربية الأسماك في أحواض ترابية ( برك ) بكثافات تربية أكبر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ن النوع غير المكثف 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كات/ م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ويعتمد في تغذية الأسماك على الغذاء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طبيعي ( الهائمات ) الذي يتم تنميته بالتسميد وذلك بإضافة المخصبات العضوية أو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كيميائ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50920" y="764640"/>
            <a:ext cx="86421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ميزات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تاجية الأسماك أعلى من النوع غير المكثف ـ كما أنها تتيح فرصة الاستفاد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من بعض المخلفات الزراعية في عملية تسميد الأحواض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عيوب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 المخصبات قد يساعد على ظهور أمراض طفيلية وحدوث مشاكل نقص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الأوكسجين الذائب في الأحواض إلى جانب احتياجها لكميات كبيرة من الميا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ج 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المزارع المكثفة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Intensive 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في هـذه النوعيـة من المـزارع تربيــة الأسـماك بكثافـات عاليــة (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سمكة/ م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في أحـواض غالباً ما تكون إسمنتية أو من الفيبرجلاس مع وجود المتابعة الدائمة لجود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ياه والحالة الصحية للأسماك ، وتعتمد التغذية في هذه المزارع كلياً على الأغذية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صنعة المتزنة التي تفي بكافة الاحتياجات الغذائية ل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ميزات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ذات إنتاجية عالية - سهولة السيطرة على الأمراض - سهولة وسرعة الحصاد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وعدم وجود تباين في حجم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836640"/>
            <a:ext cx="85690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عيوبها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كثر تكلفة سواءًا من ناحية التكاليف الثابتة أو المتغيرة بجانب احتياجها لكمي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كبيرة من المياه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نظـام الاستزرا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نظام المتكامل  </a:t>
            </a:r>
            <a:r>
              <a:rPr b="1" lang="en-GB" sz="2200" spc="-1" strike="noStrike">
                <a:solidFill>
                  <a:srgbClr val="c00000"/>
                </a:solidFill>
                <a:latin typeface="Constantia"/>
              </a:rPr>
              <a:t>Integrated 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ي هذه النوعية من المزارع تتم جميع مراحل التربية ابتداءً من تربية الآباء والأمهات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ثم عمليات التفريخ وإنتاج الزريعة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ثم تربية الإصبعيات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ngerli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إلى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جم التجاري. تحتاج هذه المزارع إلى نظام محكم متكامل من المساحة الكافية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الغذاء الجيد والعناية الصحية والإدارة الجيد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c0000"/>
                </a:solidFill>
                <a:latin typeface="Constantia"/>
                <a:cs typeface="Majalla UI"/>
              </a:rPr>
              <a:t>مميزاتها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ذات مردود اقتصادي جيد لأنها تعتمد اعتماداً كلياً على ذاتها. كما تتمي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بإنتاجها العال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ب -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النظام غير المتكامل  </a:t>
            </a:r>
            <a:r>
              <a:rPr b="1" lang="en-GB" sz="2200" spc="-1" strike="noStrike">
                <a:solidFill>
                  <a:srgbClr val="c00000"/>
                </a:solidFill>
                <a:latin typeface="Constantia"/>
              </a:rPr>
              <a:t>Integrated culture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Non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قوم هذه المزارع على تربية مرحلة واحدة من مراحل حياة الأسماك. فهنا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زارع انتاج الزريعة فقط وهناك مزارع التسمين فقط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ثالثاً : تقسيم المزارع السمكية تبعاً لـ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نوع وجنس الأسما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◄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Arial"/>
              </a:rPr>
              <a:t>►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Arial Unicode MS"/>
                <a:cs typeface="Arial Unicode MS"/>
              </a:rPr>
              <a:t>نوع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</a:t>
            </a:r>
            <a:r>
              <a:rPr b="1" lang="ar-SA" sz="3200" spc="-1" strike="noStrike">
                <a:solidFill>
                  <a:srgbClr val="0000ff"/>
                </a:solidFill>
                <a:latin typeface="Constantia"/>
                <a:cs typeface="Majalla UI"/>
              </a:rPr>
              <a:t>أ-</a:t>
            </a:r>
            <a:r>
              <a:rPr b="1" lang="ar-SA" sz="36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مزارع وحيدة النوع </a:t>
            </a:r>
            <a:r>
              <a:rPr b="1" lang="en-GB" sz="2200" spc="-1" strike="noStrike">
                <a:solidFill>
                  <a:srgbClr val="c00000"/>
                </a:solidFill>
                <a:latin typeface="Constantia"/>
              </a:rPr>
              <a:t>Monoculture</a:t>
            </a:r>
            <a:r>
              <a:rPr b="1" lang="en-GB" sz="2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ختص هذه المزارع بتربية نوع واحد من الأسماك داخل الحوض ومن مميزات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ن مشاكلها تكون معروفة ومحددة لأنها تتعلق بمتطلبات وخصائص ومشاكل نو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واحد فقط من الأسماك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1-04T18:01:41Z</dcterms:modified>
  <cp:revision>339</cp:revision>
  <dc:subject/>
  <dc:title>Principals of General Zoology (Zoo-103)</dc:title>
</cp:coreProperties>
</file>