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8CF-D9F0-4B9C-AA6D-6E03D060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CAA-B726-4C26-8AA4-4E49043A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29A-727D-4FD8-8125-5E03027E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189-E7CE-4933-948A-4C94521D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B3C7-6BA8-4027-8070-E13CAA19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E70F-0885-479C-956E-5D1BFB64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0A11-FF11-4E85-BF77-BAA395F0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B351-C00D-4CC2-B549-0944D804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0C01-8259-472A-81BB-1C1DA09E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1C9F-5779-4BC2-8B81-5151885F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0831-60EC-42F0-80CD-C3EDC3EA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C8F-BAD6-4BE6-9B33-1CA76CA0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C023-EDA1-4F4C-A889-3958C34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2394-4C0A-4BE9-8D4F-28D4B9B9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03DD-188A-4667-A8AA-DF7A7F7F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1963-8228-47DC-992B-07F22639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090B-0EC8-4484-A886-BCC65F72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FC74B-A03F-4DD9-B73F-7F04C0CE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4B1F6-D009-4CF3-86F1-2FECFA04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579F-68AD-4537-A3C2-14913B7C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2C48-95B6-49DA-8EC1-C44A0A8E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4C0E-BE11-41C2-B0F4-B4B7F8E5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1B3-8CB0-442B-A783-F5642F0A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B119-DA8B-4E8D-8C72-A8DCCE4C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2E1F0-8CA7-486C-87CA-E8ADA406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E3CBA-86D6-4BC6-AAA3-2C558F3A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08170-593C-4FD1-8742-C100AD15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80F7-FB38-47CC-9E9E-A0460E5E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5174-D95D-45AA-8F80-3B7FBB57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DC83-4C13-44FB-9A30-2C112CDF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E7C3A-F078-4B15-B942-72605DC2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5C7A5-37F9-4EB1-8156-00AB0DAA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4C1FB-0BA1-4EAE-9731-2C611F43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AAE-4807-417B-9AA7-30718E91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8131-B0F5-4AFD-8751-D1A78E24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A25DC-1EED-4348-8D59-D4166F0B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DDE27-2696-472B-BF8B-ABDC987F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36C47-6A75-40EB-9DA9-FFB547CA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71D88-A5EA-48C7-AE3A-CA3DFD44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A305-CD64-45D2-AADD-E8CC2180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6A55-95EC-49D3-ABBA-28507CF4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ED68-F199-426B-9080-06181E2D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84A28-CA6F-40F4-B758-9A5AADC7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3D5-334F-47B9-9B81-C754D4DC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7BB-D38C-4161-B538-C285EF9B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E41-A3EF-4486-9E95-F29AB566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93F-D107-446A-A756-0133A16A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094-743A-42E3-8895-C667F481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FEEF-B188-45FB-AA4D-3761255C6F4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26A4-42BE-4E39-A262-65391DA02B0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93B8-97C9-47E7-ACBA-D4D19EB59B8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FD6D-0905-429F-97EF-35CB374D209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أنواع المزارع السمكي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7733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7" descr="C:\Users\hp\Desktop\صور إستزراع سمكي\Fish-Management-Farm.jpg"/>
          <p:cNvPicPr/>
          <p:nvPr/>
        </p:nvPicPr>
        <p:blipFill>
          <a:blip r:embed="rId1"/>
          <a:stretch/>
        </p:blipFill>
        <p:spPr>
          <a:xfrm>
            <a:off x="4643280" y="2133720"/>
            <a:ext cx="4321440" cy="3743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:\Users\hp\Desktop\صور إستزراع سمكي\1145259933.jpg"/>
          <p:cNvPicPr/>
          <p:nvPr/>
        </p:nvPicPr>
        <p:blipFill>
          <a:blip r:embed="rId2"/>
          <a:stretch/>
        </p:blipFill>
        <p:spPr>
          <a:xfrm>
            <a:off x="250920" y="2133720"/>
            <a:ext cx="4286160" cy="374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528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ea typeface="Majalla UI"/>
              </a:rPr>
              <a:t> ب ـ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متعددة الأنواع 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Polyculture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تقوم هذه المزارع على تربية أكثر من نوع من الأسماك داخل الحوض الواحد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على أن لا يكون بين تلك الأنواع أيِ من أشكال العداء أو التنافس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البلطي مع بعض أنواع المبروك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r>
              <a:rPr b="1" lang="ar-SA" sz="2400" spc="-1" strike="noStrike">
                <a:solidFill>
                  <a:srgbClr val="ff3300"/>
                </a:solidFill>
                <a:latin typeface="Constantia"/>
                <a:cs typeface="Majalla UI"/>
              </a:rPr>
              <a:t>أو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(</a:t>
            </a:r>
            <a:r>
              <a:rPr b="0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البلطي مع المبروك مع البو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جنس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وحيدة الجنس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Monosexual Culture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تقوم هذه المزارع على تربية جنسي الأسماك ( الذكر و الأنثى )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قط لإنتاج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زريع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، أما في عملية التسمين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تقوم بانتخاب الذكور فقط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، نظراً لتفوقها ف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تمثيل الغذائي والنمو مقارنة بمثيلاتها من الإناث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كما قد تقوم مثل هـذه المزارع بإنتـاج زريعـة أو نسـل وحـيد الجنس (ذكـور فقـط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95280" y="907920"/>
            <a:ext cx="842472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حيث يتم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ذلك إما طبيعياً باستخدام التهجين الخلطي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كما في حـالة أسماك البلط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وذلك بتهجين إناث البلطي النيلي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Oreochromis niloticu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م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ذكور البلطي الأزرق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Oreochromis aureu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فيتم الحصـول على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85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٪ تقريباً من النسل ذكور وذلك في الجـيل الأو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و يتم إنتاج نسل من الذكور صناعياً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استخدام الهرمونات التي تضاف إلى العليق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أشـهر الهرمونـات المستخدم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( استروجين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رديول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7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بيتا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داي إيثيل استبلسيترول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1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أوكسي تستوسترون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يثيل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تستوستيرو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7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بيتا 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ب 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ثنائية الجنس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Bisexual Cultu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قوم هذه المزارع  بتربية جنسي الأسماك ( الذكر والأنثى ) سواءً لإنتاج الزريعة      أو في عملية التسمي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أنواع المزارع السمكية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628640"/>
            <a:ext cx="842472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قسم المزارع السمكية إلى عدة أنواع تبعاً لمجموعة من العوامل التي تتعل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بطبيعة المياه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 </a:t>
            </a:r>
            <a:r>
              <a:rPr b="1" lang="ar-SA" sz="2400" spc="-1" strike="noStrike">
                <a:solidFill>
                  <a:srgbClr val="ff3300"/>
                </a:solidFill>
                <a:latin typeface="Constantia"/>
                <a:cs typeface="Majalla UI"/>
              </a:rPr>
              <a:t>نظام الترب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1" lang="ar-SA" sz="2400" spc="-1" strike="noStrike">
                <a:solidFill>
                  <a:srgbClr val="7030a0"/>
                </a:solidFill>
                <a:latin typeface="Constantia"/>
                <a:cs typeface="Majalla UI"/>
              </a:rPr>
              <a:t>نوع وجنس ا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ولاً : تقسيم المزارع السمكية تبعاً لـ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طبيعة المياه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درجة حرارة الميا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أسماك المياه الدافئ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هي الأكثرانتشاراً حيث تمتازأسماك المياه الدافئة بقلة متطلباتها مقارنة بأسماك المياه الباردة كما تتميز بسرعة نموها ومقاومة تغيرات الحرارة وانخفاض الأكسجين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تعتبر هذه النوعية من المزارع ذات إنتاجية عال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( المبروك ـ البلطي ـ القرموط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4000" y="620640"/>
            <a:ext cx="842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36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أسماك المياه البارد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قل انتشاراً لأن الأسماك ذات متطلبات كثيرة كالماء الجاري والأكسجين المرتفع إلى جانب ذلك فهي بطيئة النمو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لا أن نوعياتها ممتازة ولها قيمة تسويقية عالية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تعتبر هذه النوعية من المزارع ذات إنتاجية منخفض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سلمون المرقط البني 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rown Trout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Salmo trutta fario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البروك تراوت الأمريكي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Salvelinus fontinalis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ar-SA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ملوحة المياه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36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أسماك المياه العذب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تي تستخدم مـياه الأنهـار أو الأمـطار أو الآبـار أو الينابي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 المبروك ـ البلطي النيلي ـ القرموط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3" descr="Salmo trutta fario2"/>
          <p:cNvPicPr/>
          <p:nvPr/>
        </p:nvPicPr>
        <p:blipFill>
          <a:blip r:embed="rId1"/>
          <a:stretch/>
        </p:blipFill>
        <p:spPr>
          <a:xfrm>
            <a:off x="4643280" y="2781360"/>
            <a:ext cx="3961080" cy="1295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03" name="Picture 4" descr="Salvelinus fontinalis2"/>
          <p:cNvPicPr/>
          <p:nvPr/>
        </p:nvPicPr>
        <p:blipFill>
          <a:blip r:embed="rId2"/>
          <a:stretch/>
        </p:blipFill>
        <p:spPr>
          <a:xfrm>
            <a:off x="395280" y="2781360"/>
            <a:ext cx="3960720" cy="1295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39640" y="620640"/>
            <a:ext cx="81583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أسماك المياه المالح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تي تستخدم مياه البحا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وري ـ الطوبارة - الدنيس ـ السيج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ج -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أسماك المياه المويلح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تي تستخدم المياه قليلة الملوحة لتربية الأسماك ( </a:t>
            </a:r>
            <a:r>
              <a:rPr b="0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كاستخدام خليط من مياه</a:t>
            </a:r>
            <a:r>
              <a:rPr b="0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بحر مع المياه العذبة أو ربما تكون الأحواض الترابية ذات تربة مالحة فتؤد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إلى ارتفاع ملوحة المياه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حتى لو كانت المياه عذبة عند ضخها في الأحواض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لطي الأزرق والأسود والموزمبيقي ـ البو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ar-SA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حركة المياه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مزارع المياه الجارية المفتوحة (المياه المتجددة)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هي التي يتم تغيير مياهها جـزئياً أو كلياً باستخدام آليات خاصة للري والصر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79280" y="620640"/>
            <a:ext cx="8785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المياه الجارية نصف المفتوحة (النظام المغلق)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تي يتم فيها دوران الماء داخل نظام مغلق لأجل تنقيته ومن ثم إعادة ضخ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ي الأحواض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ج –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المياه الراكدة (الساكنة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هى المزارع التي تقام في مياه البرك والمستنقعا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د 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الأقفـاص العـائمة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Cages Culture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والمسيجـات ( الحظائر )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Pens Cultu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هى المزارع التي تقـام على شواطىء البحار أو الأنهار أو البحيرات أو أي مسطح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مائي مناسب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ثانياً : تقسيم المزارع السمكية تبعاً لـ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نظام الترب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كثافة الترب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المزارع الموسعة أو الإنتشارية ( غير المكثفة ) 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Extensive cultu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50560" y="836640"/>
            <a:ext cx="856908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في هذه النوعية من المزارع تربية الأسماك في أحواض ترابية ( برك ) ذ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مساحات كبيرة بكثافـات سمكية منخفضة (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كات/ م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وبدون إمدادات غذائ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كملة وإنما يُعتمد في تغذية الأسماك على الغذاء الطبيعي فقط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ميزاتها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حتياجاتها قليلة وخاصة من المياه والغذاء وتكاليف إنشاء الأحواض والعمال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عيوبها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نتاجيتها منخفضة ويوجد تباين في أحجام الأسماك ـ كما أن السيطرة على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المشاكل المرضية في حال حدوثها تكون بالغة الصعوب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المزارع شبه المكثفة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Semi-intensive culture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في هذه المزارع يتم تربية الأسماك في أحواض ترابية ( برك ) بكثافات تربية أكبر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ن النوع غير المكثف (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كات/ م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ويعتمد في تغذية الأسماك على الغذاء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طبيعي ( الهائمات ) الذي يتم تنميته بالتسميد وذلك بإضافة المخصبات العضوية أو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كيميائ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50920" y="764640"/>
            <a:ext cx="86421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ميزاتها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نتاجية الأسماك أعلى من النوع غير المكثف ـ كما أنها تتيح فرصة الاستفاد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من بعض المخلفات الزراعية في عملية تسميد الأحواض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عيوبها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خدام المخصبات قد يساعد على ظهور أمراض طفيلية وحدوث مشاكل نقص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الأوكسجين الذائب في الأحواض إلى جانب احتياجها لكميات كبيرة من الميا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ج 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المزارع المكثفة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Intensive culture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في هـذه النوعيـة من المـزارع تربيــة الأسـماك بكثافـات عاليــة (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0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كة/ م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في أحـواض غالباً ما تكون إسمنتية أو من الفيبرجلاس مع وجود المتابعة الدائمة لجود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ياه والحالة الصحية للأسماك ، وتعتمد التغذية في هذه المزارع كلياً على الأغذية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صنعة المتزنة التي تفي بكافة الاحتياجات الغذائية ل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ميزاتها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ذات إنتاجية عالية - سهولة السيطرة على الأمراض - سهولة وسرعة الحصاد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وعدم وجود تباين في حجم ا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560" y="836640"/>
            <a:ext cx="856908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عيوبها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كثر تكلفة سواءًا من ناحية التكاليف الثابتة أو المتغيرة بجانب احتياجها لكميا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كبيرة من المياه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ar-SA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نظـام الاستزرا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النظام المتكامل  </a:t>
            </a:r>
            <a:r>
              <a:rPr b="1" lang="en-GB" sz="2200" spc="-1" strike="noStrike">
                <a:solidFill>
                  <a:srgbClr val="c00000"/>
                </a:solidFill>
                <a:latin typeface="Constantia"/>
              </a:rPr>
              <a:t>Integrated culture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ي هذه النوعية من المزارع تتم جميع مراحل التربية ابتداءً من تربية الآباء والأمها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ثم عمليات التفريخ وإنتاج الزريعة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ثم تربية الإصبعيات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ngerli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إلى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جم التجاري. تحتاج هذه المزارع إلى نظام محكم متكامل من المساحة الكافية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والغذاء الجيد والعناية الصحية والإدارة الجيد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ميزاتها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ذات مردود اقتصادي جيد لأنها تعتمد اعتماداً كلياً على ذاتها. كما تتميز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بإنتاجها العال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ب 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النظام غير المتكامل  </a:t>
            </a:r>
            <a:r>
              <a:rPr b="1" lang="en-GB" sz="2200" spc="-1" strike="noStrike">
                <a:solidFill>
                  <a:srgbClr val="c00000"/>
                </a:solidFill>
                <a:latin typeface="Constantia"/>
              </a:rPr>
              <a:t>Integrated culture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Non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قوم هذه المزارع على تربية مرحلة واحدة من مراحل حياة الأسماك. فهناك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زارع انتاج الزريعة فقط وهناك مزارع التسمين فقط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ثالثاً : تقسيم المزارع السمكية تبعاً لـ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نوع وجنس ا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نوع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36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وحيدة النوع </a:t>
            </a:r>
            <a:r>
              <a:rPr b="1" lang="en-GB" sz="2200" spc="-1" strike="noStrike">
                <a:solidFill>
                  <a:srgbClr val="c00000"/>
                </a:solidFill>
                <a:latin typeface="Constantia"/>
              </a:rPr>
              <a:t>Monoculture</a:t>
            </a:r>
            <a:r>
              <a:rPr b="1" lang="en-GB" sz="2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تختص هذه المزارع بتربية نوع واحد من الأسماك داخل الحوض ومن مميزاته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أن مشاكلها تكون معروفة ومحددة لأنها تتعلق بمتطلبات وخصائص ومشاكل نو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واحد فقط من الأسماك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1-04T18:01:41Z</dcterms:modified>
  <cp:revision>339</cp:revision>
  <dc:subject/>
  <dc:title>Principals of General Zoology (Zoo-103)</dc:title>
</cp:coreProperties>
</file>