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CC5-9FEC-49DF-8CB0-30B3ED67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810-78D9-40B9-AD0E-45826D11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EE4-0E7A-40D5-91BC-5EDF2E79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937-C16D-429C-9902-84D98329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491-07E2-466E-997B-36E14CC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075-88D9-415D-A2E4-013CAAB2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0BE-1E73-4648-8CCD-991581F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537-C2BF-4561-BE8C-3E44C6F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D5B-560E-42BB-8517-B47F9720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703-D304-40AB-B8AF-A83DCA3C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3C9-B1A9-44DF-9EB5-4BC95E4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5E6-22D9-49B6-AAA3-FD84BCC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C99E-5FA8-4E6A-905B-EF4FEE75C7D3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C3D2-0B31-4799-890B-0C794E9F9B0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3"/>
          <p:cNvSpPr/>
          <p:nvPr/>
        </p:nvSpPr>
        <p:spPr>
          <a:xfrm>
            <a:off x="3995640" y="620640"/>
            <a:ext cx="18003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عريف اضطراب النط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3708360" y="2133720"/>
            <a:ext cx="2232000" cy="448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و ذلك الاضطراب الذي يحدث نتيجة وجود أخطاء في إخراج أصوات حروف الكلام من مخارجها  ,وعدم تشكيلها بصورة صحيحة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تختلف درجات اضطراب النطق من مجرد اللثغة البسيطة إلى الاضطراب الحاد حيث يخرج الكلام غير مفهوم نتيجة  الحذف,والابدال والتشوية ,والإضاف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2"/>
          <p:cNvSpPr/>
          <p:nvPr/>
        </p:nvSpPr>
        <p:spPr>
          <a:xfrm>
            <a:off x="3492360" y="1341360"/>
            <a:ext cx="230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مظاهر اضطراب النط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3"/>
          <p:cNvSpPr/>
          <p:nvPr/>
        </p:nvSpPr>
        <p:spPr>
          <a:xfrm>
            <a:off x="3203640" y="220500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بد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2916360" y="3284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ذ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5"/>
          <p:cNvSpPr/>
          <p:nvPr/>
        </p:nvSpPr>
        <p:spPr>
          <a:xfrm>
            <a:off x="2843280" y="4292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تش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6"/>
          <p:cNvSpPr/>
          <p:nvPr/>
        </p:nvSpPr>
        <p:spPr>
          <a:xfrm>
            <a:off x="2700360" y="494172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ضا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2"/>
          <p:cNvSpPr/>
          <p:nvPr/>
        </p:nvSpPr>
        <p:spPr>
          <a:xfrm>
            <a:off x="3995640" y="2133720"/>
            <a:ext cx="18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نشا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0-26T07:25:57Z</dcterms:modified>
  <cp:revision>3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