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CF0-D8EF-4B56-9A85-6511BC3F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2BE-2241-4F8F-9F48-E7409E6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62C-BE32-4C17-AAA0-4322A2A5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B93-3334-4C26-8D4B-3294A469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7EB-7FE0-430D-9690-2F407D0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40D-B53D-4704-BBB5-7ADC121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72E-E19F-492D-8A48-1D6937F4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FCC-583C-4239-A53A-72794D51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6E1-6179-4684-91E0-B0D61C3B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369-F3C4-456A-A53D-9937232C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6E2-BF32-40D4-B3E0-918B902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CAC-E3ED-49CE-BD02-E25D6C4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8FB-9869-410D-B07F-5FB05A2F5415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272-0099-42B0-A9DF-2242560368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3"/>
          <p:cNvSpPr/>
          <p:nvPr/>
        </p:nvSpPr>
        <p:spPr>
          <a:xfrm>
            <a:off x="3995640" y="620640"/>
            <a:ext cx="18003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عريف اضطراب النط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708360" y="2133720"/>
            <a:ext cx="2232000" cy="448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ذلك الاضطراب الذي يحدث نتيجة وجود أخطاء في إخراج أصوات حروف الكلام من مخارجها  ,وعدم تشكيلها بصورة صحيحة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تختلف درجات اضطراب النطق من مجرد اللثغة البسيطة إلى الاضطراب الحاد حيث يخرج الكلام غير مفهوم نتيجة  الحذف,والابدال والتشوية ,والإضا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3492360" y="1341360"/>
            <a:ext cx="230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ظاهر اضطراب 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3"/>
          <p:cNvSpPr/>
          <p:nvPr/>
        </p:nvSpPr>
        <p:spPr>
          <a:xfrm>
            <a:off x="3203640" y="220500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بد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2916360" y="3284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ذ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5"/>
          <p:cNvSpPr/>
          <p:nvPr/>
        </p:nvSpPr>
        <p:spPr>
          <a:xfrm>
            <a:off x="2843280" y="4292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ش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6"/>
          <p:cNvSpPr/>
          <p:nvPr/>
        </p:nvSpPr>
        <p:spPr>
          <a:xfrm>
            <a:off x="2700360" y="494172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ضا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995640" y="213372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0-26T07:25:57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