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7A7-2A6B-4B07-B584-6026E60F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5A8-6C59-468F-8A89-F7C55DC8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C4E-C09F-4414-97CA-5C92667B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284-DB05-46EA-B738-CC8E0351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B7A-60FB-4C33-825A-8AA7092F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B11-BA91-467D-BEB1-844B371F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954-DCD6-477F-BC70-1BAFF2B3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A4D-8563-483B-B923-109ECA21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CE0-099D-4001-82E7-DA1B3026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F42-A946-440B-8DBD-7E60D876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922-759E-4422-BBA3-E22CDE26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941-6139-4F9C-953B-DBEECEAD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638B-FE89-4BA3-95F6-DCDF4BC764D1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D4A6-A4FA-45F4-A58C-C282CF95A90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2857680" y="2071800"/>
            <a:ext cx="40003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محاضرة الخامس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3"/>
          <p:cNvSpPr/>
          <p:nvPr/>
        </p:nvSpPr>
        <p:spPr>
          <a:xfrm>
            <a:off x="3995640" y="620640"/>
            <a:ext cx="180036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عريف اضطراب النط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ربع نص 4"/>
          <p:cNvSpPr/>
          <p:nvPr/>
        </p:nvSpPr>
        <p:spPr>
          <a:xfrm>
            <a:off x="3708360" y="2133720"/>
            <a:ext cx="2232000" cy="448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هو ذلك الاضطراب الذي يحدث نتيجة وجود أخطاء في إخراج أصوات حروف الكلام من مخارجها  ,وعدم تشكيلها بصورة صحيحة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تختلف درجات اضطراب النطق من مجرد اللثغة البسيطة إلى الاضطراب الحاد حيث يخرج الكلام غير مفهوم نتيجة  الحذف,والابدال والتشوية ,والإضاف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ربع نص 2"/>
          <p:cNvSpPr/>
          <p:nvPr/>
        </p:nvSpPr>
        <p:spPr>
          <a:xfrm>
            <a:off x="3492360" y="1341360"/>
            <a:ext cx="230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مظاهر اضطراب النط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3"/>
          <p:cNvSpPr/>
          <p:nvPr/>
        </p:nvSpPr>
        <p:spPr>
          <a:xfrm>
            <a:off x="3203640" y="220500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بد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4"/>
          <p:cNvSpPr/>
          <p:nvPr/>
        </p:nvSpPr>
        <p:spPr>
          <a:xfrm>
            <a:off x="2916360" y="328464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حذ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5"/>
          <p:cNvSpPr/>
          <p:nvPr/>
        </p:nvSpPr>
        <p:spPr>
          <a:xfrm>
            <a:off x="2843280" y="429264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تش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6"/>
          <p:cNvSpPr/>
          <p:nvPr/>
        </p:nvSpPr>
        <p:spPr>
          <a:xfrm>
            <a:off x="2700360" y="4941720"/>
            <a:ext cx="30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ضا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2"/>
          <p:cNvSpPr/>
          <p:nvPr/>
        </p:nvSpPr>
        <p:spPr>
          <a:xfrm>
            <a:off x="3995640" y="2133720"/>
            <a:ext cx="1800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نشا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DELL</dc:creator>
  <dc:description/>
  <dc:language>en-US</dc:language>
  <cp:lastModifiedBy>DELL</cp:lastModifiedBy>
  <dcterms:modified xsi:type="dcterms:W3CDTF">2015-10-26T07:25:57Z</dcterms:modified>
  <cp:revision>3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