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5F6-1B13-4A6C-BFEA-8E23244F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394-9898-4B0C-966A-F1CBBD05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0F5-6DB6-48A5-91CD-0FD94CC0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4AE-7F58-479A-BA00-90D46679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0EC-E3C5-451A-9545-03B0A07F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B37-1CD7-415D-AD89-9856EF30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4E9-7040-4D9F-AA1D-ED017CE1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88D-EED0-453D-95EE-B8C7EF33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739-C9CC-4321-AE3C-0EAE05BA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167-9F53-4C2F-995A-534B6BB7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99C-54F4-4056-AC3C-727903E7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CC2-8787-4752-A005-D9E207A2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DC5B-CBBF-44AB-B4B2-6AEBE88E7F73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FE53-D26E-4742-84D5-AFB84A4971D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2857680" y="2071800"/>
            <a:ext cx="40003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محاضرة الخامس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3"/>
          <p:cNvSpPr/>
          <p:nvPr/>
        </p:nvSpPr>
        <p:spPr>
          <a:xfrm>
            <a:off x="3995640" y="620640"/>
            <a:ext cx="180036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عريف اضطراب النط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ربع نص 4"/>
          <p:cNvSpPr/>
          <p:nvPr/>
        </p:nvSpPr>
        <p:spPr>
          <a:xfrm>
            <a:off x="3708360" y="2133720"/>
            <a:ext cx="2232000" cy="448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هو ذلك الاضطراب الذي يحدث نتيجة وجود أخطاء في إخراج أصوات حروف الكلام من مخارجها  ,وعدم تشكيلها بصورة صحيحة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تختلف درجات اضطراب النطق من مجرد اللثغة البسيطة إلى الاضطراب الحاد حيث يخرج الكلام غير مفهوم نتيجة  الحذف,والابدال والتشوية ,والإضاف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2"/>
          <p:cNvSpPr/>
          <p:nvPr/>
        </p:nvSpPr>
        <p:spPr>
          <a:xfrm>
            <a:off x="3492360" y="1341360"/>
            <a:ext cx="230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مظاهر اضطراب النط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3"/>
          <p:cNvSpPr/>
          <p:nvPr/>
        </p:nvSpPr>
        <p:spPr>
          <a:xfrm>
            <a:off x="3203640" y="220500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بد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4"/>
          <p:cNvSpPr/>
          <p:nvPr/>
        </p:nvSpPr>
        <p:spPr>
          <a:xfrm>
            <a:off x="2916360" y="328464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حذ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5"/>
          <p:cNvSpPr/>
          <p:nvPr/>
        </p:nvSpPr>
        <p:spPr>
          <a:xfrm>
            <a:off x="2843280" y="429264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تش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6"/>
          <p:cNvSpPr/>
          <p:nvPr/>
        </p:nvSpPr>
        <p:spPr>
          <a:xfrm>
            <a:off x="2700360" y="494172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ضا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2"/>
          <p:cNvSpPr/>
          <p:nvPr/>
        </p:nvSpPr>
        <p:spPr>
          <a:xfrm>
            <a:off x="3995640" y="2133720"/>
            <a:ext cx="180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نشا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DELL</dc:creator>
  <dc:description/>
  <dc:language>en-US</dc:language>
  <cp:lastModifiedBy>DELL</cp:lastModifiedBy>
  <dcterms:modified xsi:type="dcterms:W3CDTF">2015-10-26T07:25:57Z</dcterms:modified>
  <cp:revision>3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