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6DD2-480B-417D-8F1F-0CE117D7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8790-F1EA-4029-9861-9EBB3A85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6B16-2103-43FA-B50D-FCC6CF63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E710-13F6-4BD9-8EF4-DA2AB48B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E779-866B-420B-8E0B-C278CF0AE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AB21-6F12-4F3D-A75F-FCB4AC63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667F-4167-4FBF-8F46-3A765363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55A2-E7A4-4044-93B8-09BA90DB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51A7-7222-4A61-8D1F-424F6BAE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2ACA-61CD-4EF4-87FB-21BBFDCC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1EBC-5F7A-4CB2-A86A-EBA6D862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294C-36EA-4114-BF6B-BA7E42D5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D1AA-9FE4-4A90-81A7-6B8529F2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8D6D-0B7F-42F3-B4D7-6E17418E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8B71-BE96-4769-B459-EBE6C3B4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DD02-23E6-4842-90EA-A0EAC2A1D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B20D-443D-47F8-86C4-20D4B14F6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1BB3F-68C7-4697-A54B-53E16064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8C930-879D-45C9-8228-081AAB97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51679-F102-461A-A7DD-EE71BEB8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C77F1-DB05-4936-92A7-0592BE8A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3E551-63F6-446E-814B-EE512281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7CFB-7D97-453A-A2C6-10D94AF0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CF22C-53A9-4151-8709-52303BFA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A5479-AB76-4EAA-8D6A-67BDD457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27BA8-A624-4EE3-A22D-67BFBA07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21064-FE27-4212-B5F3-4B245912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CAB6F-F42A-4E84-8178-A13E838C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BD2CD-8C2D-4419-B85C-664124DE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1DD25-3A8C-4366-A029-87BB2F295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D3B35-0286-4CCC-8F16-BF6E92B54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7C28B-810D-4170-A7FF-40CBDC59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0E539-B986-4215-B3D8-1523ECE4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BE67-6D20-4B79-B9F6-DB5C7588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D7C54-366B-4890-BC41-48EE7746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750EA-33D4-4723-9453-648D5940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3F215-7BB9-4DE4-9CE1-1A6A9FC5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8D5DD-E391-4623-801B-89C4722A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7B978-789C-4A22-9782-53442ADB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43C0C-2A9B-4527-AA1C-6B6BDE1D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AAC59-408D-4740-93D2-D9B7666A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17F4B-0CA2-4410-B6E1-443F909F3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F9DE8-B752-46A5-9612-9E045BE3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BC78-0ACC-430A-BA59-3E0D0906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B4AA-15CA-4675-9096-2BEDF4DC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EABF-F08E-47C8-BBD8-48659AFF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3538-F35B-4C1F-8F4E-CFCD0FEF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798A-9312-4D83-8578-E7AB5A7E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B7C6-4CC0-4BA6-BE26-6F0632EE678D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A2DC-052B-44CC-B426-FB6DE621E7DF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CDF3-B7DF-4FDD-A08C-6562E8B4B100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6DA1-F3A3-4B7D-B8B1-733E7E4EFFDE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12"/>
          <p:cNvSpPr/>
          <p:nvPr/>
        </p:nvSpPr>
        <p:spPr>
          <a:xfrm>
            <a:off x="1116000" y="5661000"/>
            <a:ext cx="6985080" cy="7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690560" y="5950080"/>
            <a:ext cx="5834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ology Department         1438-1439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2"/>
          <p:cNvSpPr/>
          <p:nvPr/>
        </p:nvSpPr>
        <p:spPr>
          <a:xfrm>
            <a:off x="1116000" y="1052640"/>
            <a:ext cx="6985080" cy="93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quatic Ecology – Zoo 374     2(1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1" descr="C:\Users\hp\Desktop\صور بيئات مائية\مصب نهر 3.jpg"/>
          <p:cNvPicPr/>
          <p:nvPr/>
        </p:nvPicPr>
        <p:blipFill>
          <a:blip r:embed="rId1"/>
          <a:stretch/>
        </p:blipFill>
        <p:spPr>
          <a:xfrm>
            <a:off x="3276720" y="2276640"/>
            <a:ext cx="2808000" cy="3168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3" descr="C:\Users\hp\Desktop\صور بيئات مائية\مصب نهر 4.jpg"/>
          <p:cNvPicPr/>
          <p:nvPr/>
        </p:nvPicPr>
        <p:blipFill>
          <a:blip r:embed="rId2"/>
          <a:stretch/>
        </p:blipFill>
        <p:spPr>
          <a:xfrm>
            <a:off x="6084720" y="2276640"/>
            <a:ext cx="2519640" cy="3168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C:\Users\hp\Desktop\صور بيئات مائية\مصب نهر 2.jpg"/>
          <p:cNvPicPr/>
          <p:nvPr/>
        </p:nvPicPr>
        <p:blipFill>
          <a:blip r:embed="rId3"/>
          <a:stretch/>
        </p:blipFill>
        <p:spPr>
          <a:xfrm>
            <a:off x="611280" y="2276640"/>
            <a:ext cx="266544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  <a:ea typeface="Traditional Arab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stuaries Environment (Habitat) </a:t>
            </a:r>
            <a:r>
              <a:rPr b="1" lang="ar-SA" sz="2800" spc="-1" strike="noStrike">
                <a:solidFill>
                  <a:srgbClr val="0000ff"/>
                </a:solidFill>
                <a:latin typeface="Stencil"/>
                <a:cs typeface="Arial Unicode MS"/>
              </a:rPr>
              <a:t>بيئة مصبات الأنهار</a:t>
            </a:r>
            <a:r>
              <a:rPr b="0" lang="ar-SA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r>
              <a:rPr b="0" lang="ar-SA" sz="2800" spc="-1" strike="noStrike">
                <a:solidFill>
                  <a:srgbClr val="ff0000"/>
                </a:solidFill>
                <a:latin typeface="Calibri"/>
                <a:ea typeface="Traditional Arabic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95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◄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تعريف مصب النهر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stuary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هو مسطح مائي ساحلي يأخذ شكل خليج شبه مغلق يصب فيه نهر من جهة ويتصل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بالبحر من الجهة الآخري تمتزج فيه المياه الماحة بالمياه العذب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                                    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أو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ــ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هو منطقة مائية يلتقي ويمتزج عندها ماء النهر وماء البحر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1" lang="ar-S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أنواع مصبات الأنهار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وجد عدة طرق لتقسيم مصبات الأنهار تستند هذه الطرق إلى أسس مختلفة يمكن تلخيصها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فيما يلي:-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0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1</a:t>
            </a:r>
            <a:r>
              <a:rPr b="0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-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جيومورفولوجي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0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2</a:t>
            </a:r>
            <a:r>
              <a:rPr b="0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-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تنضيد في عمود الماء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0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3</a:t>
            </a:r>
            <a:r>
              <a:rPr b="0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-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نظم الطاقة في المصب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250920" y="836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                            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cs typeface="Majalla UI"/>
              </a:rPr>
              <a:t>تقسيم مصبات الأنهار على أسس مورفولوجي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إستطاع العالم برتشارو (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1967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) تقسيم مصبات الأنهار على أسس موفولوجية إلى :-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cs typeface="Majalla UI"/>
              </a:rPr>
              <a:t>أ-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وديان أحواض الأنهار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في العصر الجليدي الأخير كان مستوى سطح البحر أقل بحوالي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10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 مما هو عليه الآن ومن ثم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كانت الأنهار العظمي تفيض في الوديان المحيطة بها . وبعد إرتفاع مستوى البحر انغمرت الوديان التي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تحيط بالأنهار فتحولت إلى مصبات للأنهار التي كانت تحاذيها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cs typeface="Majalla UI"/>
              </a:rPr>
              <a:t>ب –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مصبات الأنهار ذات الحواجز الطبيعي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   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في بعض المناطق على سواحل المحيطات تنتقل كميات من الرمال بواسطة تيارات الماء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(المد والجزر) إلى السطح الأرضي المغمور بالماء وتتراكم مكونة حواجز تمنع رجوع الماء إلى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المحيط فيتكون مصب  للنهر وفي أغلب الأحيان تكون الفتحة التي يتصل بها هذا النوع من المصب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مع المحيط ضيقة نوعا ما مما يعرقل عملية تبادل الماء مع المحيط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cs typeface="Majalla UI"/>
              </a:rPr>
              <a:t>ج –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مصبات الأنهار من نوع الفيور 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Fjord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 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بارة عن مصبات عميقة تحيط بها مرتفعات جبلية عالية . ومن أمثلتها تلك المصبات التى توجد على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95280" y="836640"/>
            <a:ext cx="856944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سواحل النرويج و الاسكا وكولومبيا البريطان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د –</a:t>
            </a: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مصبات الأنهار من نوع دلتا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وفيها لايجري النهر في طريقه إلى البحر في خط مستقيم بل ينقسم إلى عدة جداول أو قنوات فيعطي    مساحة كبيرة للمصب تشبه هذه المساحة الحرف اليوناني دلتا (</a:t>
            </a:r>
            <a:r>
              <a:rPr b="0" lang="ar-SA" sz="2000" spc="-1" strike="noStrike">
                <a:solidFill>
                  <a:srgbClr val="c00000"/>
                </a:solidFill>
                <a:latin typeface="Viner Hand ITC"/>
                <a:ea typeface="Majalla UI"/>
              </a:rPr>
              <a:t>∆</a:t>
            </a:r>
            <a:r>
              <a:rPr b="0" lang="ar-SA" sz="2000" spc="-1" strike="noStrike">
                <a:solidFill>
                  <a:srgbClr val="000000"/>
                </a:solidFill>
                <a:latin typeface="Viner Hand ITC"/>
                <a:ea typeface="Majalla UI"/>
              </a:rPr>
              <a:t>) ومن أمثلة هذا النوع من المصبات مصب كلاً من نهر النيل ونهر المسيسبي ونهري دجلة والفرات (شط العرب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iner Hand ITC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iner Hand ITC"/>
                <a:ea typeface="Majalla U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iner Hand ITC"/>
                <a:ea typeface="Majalla U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5" descr="G:\صور بيئات مائية\Norway fjord.jpg"/>
          <p:cNvPicPr/>
          <p:nvPr/>
        </p:nvPicPr>
        <p:blipFill>
          <a:blip r:embed="rId1"/>
          <a:stretch/>
        </p:blipFill>
        <p:spPr>
          <a:xfrm>
            <a:off x="4716360" y="1484280"/>
            <a:ext cx="3888000" cy="24274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G:\صور بيئات مائية\Geiranger fjord.jpg"/>
          <p:cNvPicPr/>
          <p:nvPr/>
        </p:nvPicPr>
        <p:blipFill>
          <a:blip r:embed="rId2"/>
          <a:stretch/>
        </p:blipFill>
        <p:spPr>
          <a:xfrm>
            <a:off x="684360" y="1484280"/>
            <a:ext cx="352728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Stencil"/>
                <a:ea typeface="Arial Unicode MS"/>
              </a:rPr>
              <a:t>   خصائص مياه مصبات الأنهار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◄</a:t>
            </a:r>
            <a:r>
              <a:rPr b="1" lang="ar-SA" sz="2400" spc="-1" strike="noStrike">
                <a:solidFill>
                  <a:srgbClr val="02303e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2303e"/>
                </a:solidFill>
                <a:latin typeface="Tahoma"/>
                <a:cs typeface="Tahoma"/>
              </a:rPr>
              <a:t>الخصائص الفيزيائي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2303e"/>
                </a:solidFill>
                <a:latin typeface="Tahoma"/>
                <a:ea typeface="Tahoma"/>
              </a:rPr>
              <a:t>   - </a:t>
            </a:r>
            <a:r>
              <a:rPr b="1" lang="ar-SA" sz="20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درجة الحرارة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emperatu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2303e"/>
                </a:solidFill>
                <a:latin typeface="Tahoma"/>
                <a:ea typeface="Tahoma"/>
              </a:rPr>
              <a:t>   - </a:t>
            </a:r>
            <a:r>
              <a:rPr b="1" lang="ar-SA" sz="2000" spc="-1" strike="noStrike">
                <a:solidFill>
                  <a:srgbClr val="7030a0"/>
                </a:solidFill>
                <a:latin typeface="Times New Roman"/>
                <a:cs typeface="Times New Roman"/>
              </a:rPr>
              <a:t>الشفافية        </a:t>
            </a:r>
            <a:r>
              <a:rPr b="1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ransparency</a:t>
            </a:r>
            <a:r>
              <a:rPr b="1" lang="ar-SA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2303e"/>
                </a:solidFill>
                <a:latin typeface="Tahoma"/>
                <a:ea typeface="Tahoma"/>
              </a:rPr>
              <a:t>   - </a:t>
            </a:r>
            <a:r>
              <a:rPr b="1" lang="ar-SA" sz="20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الملوحة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alinit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3" descr="G:\صور بيئات مائية\saqqara-delta.jpg"/>
          <p:cNvPicPr/>
          <p:nvPr/>
        </p:nvPicPr>
        <p:blipFill>
          <a:blip r:embed="rId1"/>
          <a:stretch/>
        </p:blipFill>
        <p:spPr>
          <a:xfrm>
            <a:off x="4788000" y="981000"/>
            <a:ext cx="3671640" cy="2592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G:\صور بيئات مائية\مصب نهر 2.jpg"/>
          <p:cNvPicPr/>
          <p:nvPr/>
        </p:nvPicPr>
        <p:blipFill>
          <a:blip r:embed="rId2"/>
          <a:stretch/>
        </p:blipFill>
        <p:spPr>
          <a:xfrm>
            <a:off x="755640" y="981000"/>
            <a:ext cx="3600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764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◄</a:t>
            </a:r>
            <a:r>
              <a:rPr b="1" lang="ar-SA" sz="3200" spc="-1" strike="noStrike">
                <a:solidFill>
                  <a:srgbClr val="02303e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2303e"/>
                </a:solidFill>
                <a:latin typeface="Tahoma"/>
                <a:cs typeface="Tahoma"/>
              </a:rPr>
              <a:t>الخصائص الكيميائي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2303e"/>
                </a:solidFill>
                <a:latin typeface="Tahoma"/>
                <a:ea typeface="Tahoma"/>
              </a:rPr>
              <a:t>   - </a:t>
            </a:r>
            <a:r>
              <a:rPr b="1" lang="ar-SA" sz="20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الإكسجين المذاب         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ssolved Oxygen</a:t>
            </a:r>
            <a:r>
              <a:rPr b="1" lang="ar-SA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2303e"/>
                </a:solidFill>
                <a:latin typeface="Tahoma"/>
                <a:ea typeface="Tahoma"/>
              </a:rPr>
              <a:t>   - </a:t>
            </a:r>
            <a:r>
              <a:rPr b="1" lang="ar-SA" sz="2000" spc="-1" strike="noStrike">
                <a:solidFill>
                  <a:srgbClr val="7030a0"/>
                </a:solidFill>
                <a:latin typeface="Times New Roman"/>
                <a:cs typeface="Times New Roman"/>
              </a:rPr>
              <a:t>الأس الهيدروجيني  </a:t>
            </a:r>
            <a:r>
              <a:rPr b="1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lang="ar-SA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2303e"/>
                </a:solidFill>
                <a:latin typeface="Tahoma"/>
                <a:ea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4" descr="G:\صور بيئات مائية\مخطط مصب نهر.JPG"/>
          <p:cNvPicPr/>
          <p:nvPr/>
        </p:nvPicPr>
        <p:blipFill>
          <a:blip r:embed="rId1"/>
          <a:stretch/>
        </p:blipFill>
        <p:spPr>
          <a:xfrm>
            <a:off x="1619280" y="2303640"/>
            <a:ext cx="60483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24000" y="836640"/>
            <a:ext cx="842472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Stencil"/>
                <a:ea typeface="Arial Unicode MS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Stencil"/>
                <a:ea typeface="Arial Unicode MS"/>
              </a:rPr>
              <a:t> الكائنات الحية في بيئة مصبات الأنهار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nstantia"/>
                <a:cs typeface="Majalla UI"/>
              </a:rPr>
              <a:t>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كائنات الحية في بيئة مصبات الأنهار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قليل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كما أن معظم حيوانات مصبات الأنهار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قادمة من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بحر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بالإضافة إلى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عدد قليل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ن هذه الحيوانات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قادماً من الأنهار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nstantia"/>
                <a:cs typeface="Majalla UI"/>
              </a:rPr>
              <a:t>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أغلب الأنواع البحرية التي تعيش في المياه البحرية الضحلة تستخدم بيئة مصبات الأنهار لتربية صغارها قبل الهجرة إلى أعالي البحار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nstantia"/>
                <a:cs typeface="Majalla UI"/>
              </a:rPr>
              <a:t>ــ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يمكن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إيجاز أهم أنواع كائنات مصبات الأنهار فيما يلي :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r>
              <a:rPr b="1" lang="ar-SA" sz="2800" spc="-1" strike="noStrike">
                <a:solidFill>
                  <a:srgbClr val="ff0000"/>
                </a:solidFill>
                <a:latin typeface="Constantia"/>
                <a:cs typeface="Majalla UI"/>
              </a:rPr>
              <a:t>أ-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الكائنات المنتجة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Producer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وتشمل ( الحشائش البحرية ـ الطحالب القاعية ـ الهائمات النباتية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1" lang="ar-SA" sz="2800" spc="-1" strike="noStrike">
                <a:solidFill>
                  <a:srgbClr val="ff0000"/>
                </a:solidFill>
                <a:latin typeface="Constantia"/>
                <a:cs typeface="Majalla UI"/>
              </a:rPr>
              <a:t>ب -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الكائنات المستهلكة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Consumer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: تعتبر بيئة مصبات الأنهار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منطقة تكاثر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لعدد كبير من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الأسماك والافقاريات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1" lang="ar-SA" sz="2800" spc="-1" strike="noStrike">
                <a:solidFill>
                  <a:srgbClr val="ff0000"/>
                </a:solidFill>
                <a:latin typeface="Constantia"/>
                <a:cs typeface="Majalla UI"/>
              </a:rPr>
              <a:t>ج -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تمتاز كثير من حيوانات مصبات الأنهار بقدرتها على التنوع الغذائي مثل أسماك عائلة البياح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Mugilida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(أسماك البوري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1" lang="ar-SA" sz="2800" spc="-1" strike="noStrike">
                <a:solidFill>
                  <a:srgbClr val="ff0000"/>
                </a:solidFill>
                <a:latin typeface="Constantia"/>
                <a:cs typeface="Majalla UI"/>
              </a:rPr>
              <a:t>د –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بعض أسماك مصبات الأنهار نهرية الأصل (أسماك مياه عذبة) لكن لها القدرة على تحمل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ملوحة مصبات الأنهار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User</cp:lastModifiedBy>
  <dcterms:modified xsi:type="dcterms:W3CDTF">2017-11-23T06:10:06Z</dcterms:modified>
  <cp:revision>211</cp:revision>
  <dc:subject/>
  <dc:title>Principals of General Zoology (Zoo-103)</dc:title>
</cp:coreProperties>
</file>