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71D-3098-4382-A6B1-FBC5C13F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881-2844-465F-A46D-11CEC395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A8E-325B-4800-8749-3641D830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38C-9BBE-46DC-8FDD-B2582871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62FD-8F0A-4833-B22A-EE21BAD4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317F-FC5B-4FA1-9A01-2080918A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9368-AFE8-4CB5-8261-026FFB03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9DD8-9641-436B-9C60-4E433CF5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A89F-8F81-445C-A34D-DBDB25CF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AAD1-CC7C-4D4C-90B7-33ED245A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10A5-5F14-4B62-AD34-B6B57139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9D6-E3B5-43DC-80CD-C55C8A11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62D2-D428-4924-BA38-5E7EE33E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9712-2374-4342-B860-9AB02FE1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AB0A-248B-464D-8241-C2AF678A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584B-A19F-4F76-A354-1561AF72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726F-3295-461B-951C-0443CED4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85B8-3EED-443B-902D-351FC6FF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CBC3-B573-4099-9944-CA57C29F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469D-2BF5-4F4A-8AFD-54C74BF5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4487-68E3-467D-8D9B-27D30D78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026A-9B72-4776-BFCB-AC4B6904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3AA-C7C6-4CF1-90C5-C1B801A6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384A-07B6-4D3F-A73D-DC19AE59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C6A6-9F05-4FA8-AB0F-B78C714D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B3A6-CC82-4146-A70B-9314889F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9FE9C-01F4-4E31-9632-2F68BA03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F2750-0C2F-4966-A251-2EAD32A7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2F480-3E1C-4BBF-9ADE-43562EE8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FE8A-19F5-4333-B27A-C850C745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37E63-05E9-47C5-A22D-65C46850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20AC-01CD-4940-87BB-702AEF60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462EB-3D75-4538-9C40-4C327954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5A2-6576-4189-A070-D992CC0C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66D3-4D91-4AC7-B266-4B3947EF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3EEA9-1235-410E-B04B-A3CB4A9D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2BFD5-199E-4518-8341-35575E4B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7786-1E8A-428A-B5A7-ED7FBCB2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B9684-8A50-4119-A3C8-EE353AB3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0638-F848-48B8-B3B2-BFE8D9C5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308B5-B078-4EFB-8AB4-584AC4FE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35C2-0CD8-4650-8CB4-1B113F10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33EB-8609-4E3D-9CC5-16A5CC9F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399-24A2-4C83-A739-CFCB87E3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8AE-F308-4939-AA5A-F8E32838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FE9-860D-4AFA-9179-20B2991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514-6C29-44BC-9369-BC60C373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D23-1741-4570-969B-F21E24CE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7AD5-E54C-4775-ABFE-82ADC9AAD314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9BFE-F499-4351-B1A5-1F777F6E82A6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A08A-8960-4C27-A7A2-EB737C2E351E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A560-F200-48E8-B6D9-DCFCF1E92244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C:\Users\hp\Desktop\صور بيئات مائية\مصب نهر 3.jpg"/>
          <p:cNvPicPr/>
          <p:nvPr/>
        </p:nvPicPr>
        <p:blipFill>
          <a:blip r:embed="rId1"/>
          <a:stretch/>
        </p:blipFill>
        <p:spPr>
          <a:xfrm>
            <a:off x="3276720" y="2276640"/>
            <a:ext cx="2808000" cy="3168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C:\Users\hp\Desktop\صور بيئات مائية\مصب نهر 4.jpg"/>
          <p:cNvPicPr/>
          <p:nvPr/>
        </p:nvPicPr>
        <p:blipFill>
          <a:blip r:embed="rId2"/>
          <a:stretch/>
        </p:blipFill>
        <p:spPr>
          <a:xfrm>
            <a:off x="6084720" y="2276640"/>
            <a:ext cx="2519640" cy="316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C:\Users\hp\Desktop\صور بيئات مائية\مصب نهر 2.jpg"/>
          <p:cNvPicPr/>
          <p:nvPr/>
        </p:nvPicPr>
        <p:blipFill>
          <a:blip r:embed="rId3"/>
          <a:stretch/>
        </p:blipFill>
        <p:spPr>
          <a:xfrm>
            <a:off x="611280" y="2276640"/>
            <a:ext cx="2665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stuaries Environment (Habitat)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بيئة مصبات الأنهار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عريف مصب النهر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stuary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هو مسطح مائي ساحلي يأخذ شكل خليج شبه مغلق يصب فيه نهر من جهة ويتص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بالبحر من الجهة الآخري تمتزج فيه المياه الماحة بالمياه العذب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           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أو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ــ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هو منطقة مائية يلتقي ويمتزج عندها ماء النهر وماء البحر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نواع مصبات الأنهار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عدة طرق لتقسيم مصبات الأنهار تستند هذه الطرق إلى أسس مختلفة يمكن تلخيص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فيما يلي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جيومورفولوج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تنضيد في عمود الماء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نظم الطاقة في المص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50920" y="836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تقسيم مصبات الأنهار على أسس مورفولوج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إستطاع العالم برتشارو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967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 تقسيم مصبات الأنهار على أسس موفولوجية إلى :-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أ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وديان أحواض الأنها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في العصر الجليدي الأخير كان مستوى سطح البحر أقل بحوالي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 مما هو عليه الآن ومن ث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كانت الأنهار العظمي تفيض في الوديان المحيطة بها . وبعد إرتفاع مستوى البحر انغمرت الوديان التي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تحيط بالأنهار فتحولت إلى مصبات للأنهار التي كانت تحاذيها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ب –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صبات الأنهار ذات الحواجز الطبيع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في بعض المناطق على سواحل المحيطات تنتقل كميات من الرمال بواسطة تيارات الماء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(المد والجزر) إلى السطح الأرضي المغمور بالماء وتتراكم مكونة حواجز تمنع رجوع الماء إلى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محيط فيتكون مصب  للنهر وفي أغلب الأحيان تكون الفتحة التي يتصل بها هذا النوع من المصب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مع المحيط ضيقة نوعا ما مما يعرقل عملية تبادل الماء مع المحيط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ج –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صبات الأنهار من نوع الفيور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Fjor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بارة عن مصبات عميقة تحيط بها مرتفعات جبلية عالية . ومن أمثلتها تلك المصبات التى توجد على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95280" y="836640"/>
            <a:ext cx="856944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سواحل النرويج و الاسكا وكولومبيا البريطا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د –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صبات الأنهار من نوع دلت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فيها لايجري النهر في طريقه إلى البحر في خط مستقيم بل ينقسم إلى عدة جداول أو قنوات فيعطي    مساحة كبيرة للمصب تشبه هذه المساحة الحرف اليوناني دلتا (</a:t>
            </a:r>
            <a:r>
              <a:rPr b="0" lang="ar-SA" sz="2000" spc="-1" strike="noStrike">
                <a:solidFill>
                  <a:srgbClr val="c00000"/>
                </a:solidFill>
                <a:latin typeface="Viner Hand ITC"/>
                <a:ea typeface="Majalla UI"/>
              </a:rPr>
              <a:t>∆</a:t>
            </a:r>
            <a:r>
              <a:rPr b="0" lang="ar-SA" sz="2000" spc="-1" strike="noStrike">
                <a:solidFill>
                  <a:srgbClr val="000000"/>
                </a:solidFill>
                <a:latin typeface="Viner Hand ITC"/>
                <a:ea typeface="Majalla UI"/>
              </a:rPr>
              <a:t>) ومن أمثلة هذا النوع من المصبات مصب كلاً من نهر النيل ونهر المسيسبي ونهري دجلة والفرات (شط العرب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iner Hand ITC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iner Hand ITC"/>
                <a:ea typeface="Majalla U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iner Hand ITC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5" descr="G:\صور بيئات مائية\Norway fjord.jpg"/>
          <p:cNvPicPr/>
          <p:nvPr/>
        </p:nvPicPr>
        <p:blipFill>
          <a:blip r:embed="rId1"/>
          <a:stretch/>
        </p:blipFill>
        <p:spPr>
          <a:xfrm>
            <a:off x="4716360" y="1484280"/>
            <a:ext cx="3888000" cy="2427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G:\صور بيئات مائية\Geiranger fjord.jpg"/>
          <p:cNvPicPr/>
          <p:nvPr/>
        </p:nvPicPr>
        <p:blipFill>
          <a:blip r:embed="rId2"/>
          <a:stretch/>
        </p:blipFill>
        <p:spPr>
          <a:xfrm>
            <a:off x="684360" y="1484280"/>
            <a:ext cx="35272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Stencil"/>
                <a:ea typeface="Arial Unicode MS"/>
              </a:rPr>
              <a:t>   خصائص مياه مصبات الأنها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◄</a:t>
            </a:r>
            <a:r>
              <a:rPr b="1" lang="ar-SA" sz="2400" spc="-1" strike="noStrike">
                <a:solidFill>
                  <a:srgbClr val="02303e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2303e"/>
                </a:solidFill>
                <a:latin typeface="Tahoma"/>
                <a:cs typeface="Tahoma"/>
              </a:rPr>
              <a:t>الخصائص الفيزيائ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2303e"/>
                </a:solidFill>
                <a:latin typeface="Tahoma"/>
                <a:ea typeface="Tahoma"/>
              </a:rPr>
              <a:t>   - 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رجة الحرارة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2303e"/>
                </a:solidFill>
                <a:latin typeface="Tahoma"/>
                <a:ea typeface="Tahoma"/>
              </a:rPr>
              <a:t>   - 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شفافية        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ransparency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2303e"/>
                </a:solidFill>
                <a:latin typeface="Tahoma"/>
                <a:ea typeface="Tahoma"/>
              </a:rPr>
              <a:t>   - 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ملوحة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lin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G:\صور بيئات مائية\saqqara-delta.jpg"/>
          <p:cNvPicPr/>
          <p:nvPr/>
        </p:nvPicPr>
        <p:blipFill>
          <a:blip r:embed="rId1"/>
          <a:stretch/>
        </p:blipFill>
        <p:spPr>
          <a:xfrm>
            <a:off x="4788000" y="98100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G:\صور بيئات مائية\مصب نهر 2.jpg"/>
          <p:cNvPicPr/>
          <p:nvPr/>
        </p:nvPicPr>
        <p:blipFill>
          <a:blip r:embed="rId2"/>
          <a:stretch/>
        </p:blipFill>
        <p:spPr>
          <a:xfrm>
            <a:off x="755640" y="98100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◄</a:t>
            </a:r>
            <a:r>
              <a:rPr b="1" lang="ar-SA" sz="3200" spc="-1" strike="noStrike">
                <a:solidFill>
                  <a:srgbClr val="02303e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2303e"/>
                </a:solidFill>
                <a:latin typeface="Tahoma"/>
                <a:cs typeface="Tahoma"/>
              </a:rPr>
              <a:t>الخصائص الكيميائ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2303e"/>
                </a:solidFill>
                <a:latin typeface="Tahoma"/>
                <a:ea typeface="Tahoma"/>
              </a:rPr>
              <a:t>   - 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إكسجين المذاب    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solved Oxygen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2303e"/>
                </a:solidFill>
                <a:latin typeface="Tahoma"/>
                <a:ea typeface="Tahoma"/>
              </a:rPr>
              <a:t>   - 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أس الهيدروجيني  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2303e"/>
                </a:solidFill>
                <a:latin typeface="Tahoma"/>
                <a:ea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G:\صور بيئات مائية\مخطط مصب نهر.JPG"/>
          <p:cNvPicPr/>
          <p:nvPr/>
        </p:nvPicPr>
        <p:blipFill>
          <a:blip r:embed="rId1"/>
          <a:stretch/>
        </p:blipFill>
        <p:spPr>
          <a:xfrm>
            <a:off x="1619280" y="2303640"/>
            <a:ext cx="6048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4000" y="836640"/>
            <a:ext cx="84247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Arial Unicode MS"/>
              </a:rPr>
              <a:t> الكائنات الحية في بيئة مصبات الأنها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حية في بيئة مصبات الأنهار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قليل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كما أن معظم حيوانات مصبات الأنهار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قادمة من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بحر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لإضافة إلى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دد قليل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 هذه الحيوانات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قادماً من الأنهار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غلب الأنواع البحرية التي تعيش في المياه البحرية الضحلة تستخدم بيئة مصبات الأنهار لتربية صغارها قبل الهجرة إلى أعالي البحا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إيجاز أهم أنواع كائنات مصبات الأنهار فيما يلي 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أ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كائنات المنتج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Producer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تشمل ( الحشائش البحرية ـ الطحالب القاعية ـ الهائمات النباتية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ب 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كائنات المستهلك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nsumer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: تعتبر بيئة مصبات الأنهار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نطقة تكاثر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لعدد كبير من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الأسماك والافقاري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ج 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تمتاز كثير من حيوانات مصبات الأنهار بقدرتها على التنوع الغذائي مثل أسماك عائلة البياح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Mugilida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أسماك البوري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د –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 أسماك مصبات الأنهار نهرية الأصل (أسماك مياه عذبة) لكن لها القدرة على تحمل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ملوحة مصبات الأنهار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7-11-23T06:10:06Z</dcterms:modified>
  <cp:revision>211</cp:revision>
  <dc:subject/>
  <dc:title>Principals of General Zoology (Zoo-103)</dc:title>
</cp:coreProperties>
</file>