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9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ftr" idx="20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 type="sldNum" idx="21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674E-DCF5-4850-8CD3-F2B9C2100935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91EF-63FC-4C01-8AB7-CE01320EFFB0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163A-5008-4654-ADEF-AFCFE5E65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2C9A-E0A2-4517-B361-626018EB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D80A-78F7-4774-91EB-7BCD777C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BEE6-A9BC-4ACE-A297-AC8C0225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504F-E3C1-4F11-83A8-2A9205C4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E9D0-7614-46E5-846E-1E3C2BD7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96D8-B7F5-466D-A4A0-9545F76E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AA67-90CB-4EF6-861A-4B54C747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4302-4776-4841-BDA8-E1E4532A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B320-42DA-4923-9B53-202728F2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68BD-CE63-4D4D-A0CA-3E218570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9DF9-C1D2-437A-AA7A-E5C1070F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8EE7-60A3-43FE-B6B4-21BC65BC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0888-8105-4E49-9D90-FF39D67F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85AA-57D9-4F1D-A9E7-EC440FF3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818E-44E8-4E26-A623-29C8A0FE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90F6-47C6-4444-B530-2DA02364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2791B-FAFC-4B05-9B72-6ADAB65C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38784-A7E0-4B6C-8C93-5B0F217A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5053D-BD44-4030-8DE9-F202891D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E922A-0631-4E89-9FD1-CF0C19CC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FE163-A2FA-4C33-9107-B7DAC439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92B0-0CB0-45C7-9F0F-E699B390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D0565-2CF6-4E25-9BA6-DA1E9AE7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80DF8-42F8-4B46-AB11-B9A4BDDC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1A657-0B42-4E38-A6A1-ECE825C7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08C3E-3DD8-4C74-B5DE-6226599F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EF755-5611-4D44-89F5-8BB73AA9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99DCB-7ABA-44F7-BA44-87800092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E23B0-3B8C-419C-BB6E-2F66C943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9DB71-5E25-459D-A6B8-176C48F5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168BD-BF4F-4F34-A264-9F468C4B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BC0B9-E252-43E8-AB96-D590D911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7183-2DB3-452F-A742-096C380A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6EB39-DAE7-4C0E-AA33-2746F1A2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2AFE3-AD3C-41A8-B1E3-7BC51147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96334-D299-41F7-B1D1-ECD14E9D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0B2B0-806A-4118-8CF1-36124A8E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B1B76-4EC8-4CCE-B57A-8C07E615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90F99-CD44-482B-A2F2-C899DB58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DF119-0E3E-45F0-B399-3A03DA3D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AC297-99A9-4E89-B934-5F4214B6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27653-ECE0-4552-BD1C-93B5E7FA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5F967-3E87-4124-AB24-C865E16A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DD3E-C8DA-42F1-9262-30C8E6F6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A7663-9A9C-4976-9236-6DF3DC6B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79F43-52C2-4010-BD5D-DA0BCB8D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CABCF-B20A-4DC5-AA77-EE922589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10064-D8EB-4E64-9F17-D70160B6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A8001-F961-44D8-AB28-1ED5F1FB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175CF-592D-406D-A473-DEAC87C5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B1E1C-51C2-4D3D-9F39-92527691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5BBBF-D2AA-4B89-B8ED-B0BC2FEA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9DB7C-B49E-46AC-948C-C6E9330C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3AAB3-DC7D-461A-9399-C76E4004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A6FD-E56A-4474-869D-CE0935B6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670A4-5EFC-4B81-8EA8-4F95CCCB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B8072-7A21-44D7-857E-CAF193D0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A98D6-6177-4D38-8E6E-0CFEB9FC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B41E3-94D3-4AA9-91E1-53CC11AB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1C720-A308-40FE-B6B6-FD19A437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C9C89-163B-42F2-8FCE-D1C4D473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A31F5-2A89-43EA-A942-A7AE4547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084ED-C697-40B9-98B4-F7FB3B96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B2B77-CB6C-4DFE-8A90-2839DF9E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4AD29-451D-4C5C-ACDA-E82366DA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FF43-65DF-4513-8A35-90B63B4E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18BD8-FE3B-4376-B78B-51FFE781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05106-BC00-4831-A216-469B3766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0C9A2-9B04-43A2-B8C6-3A0CBB52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8C9C-0B9A-4D65-B09F-BAA85927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B5B-DA10-4BE7-AA99-9A0616C5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AC40-DB66-402C-BA6E-A905E04CCD41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AB54-5CBF-466D-8D0A-298F5A7FD18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مستطيل مستدير الزوايا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مستطيل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مستطيل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مستطيل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3929-ACBD-4F64-BAFC-592A314F2DEC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687D-12C2-468C-B2C6-A2AA11EF6706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مستطيل مستدير الزوايا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مستطيل مستدير الزوايا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مستطيل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مستطيل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مستطيل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B423-92C7-4E23-807C-99A5B617FC84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B891-640C-4E89-9F4D-8925BC09A29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مستطيل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مستطيل مستدير الزوايا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72E6-293C-4E34-9D4B-11D3760B495E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F7CE-28DF-4931-BD18-76DBFD40DE7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مستطيل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مستطيل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مستطيل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7951-9AF5-4258-81F4-10480BABB7F7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CC29-CA4E-49AC-836A-F204EB5C93F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F911-900D-4B51-8843-6239FD71896C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مستطيل 3" descr=""/>
          <p:cNvPicPr/>
          <p:nvPr/>
        </p:nvPicPr>
        <p:blipFill>
          <a:blip r:embed="rId1"/>
          <a:stretch/>
        </p:blipFill>
        <p:spPr>
          <a:xfrm>
            <a:off x="1268280" y="1311120"/>
            <a:ext cx="6596280" cy="1839960"/>
          </a:xfrm>
          <a:prstGeom prst="rect">
            <a:avLst/>
          </a:prstGeom>
          <a:ln w="0">
            <a:noFill/>
          </a:ln>
        </p:spPr>
      </p:pic>
      <p:sp>
        <p:nvSpPr>
          <p:cNvPr id="279" name="عنصر نائب للتذييل 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CEE7-C677-4987-8DB7-5AA67A1E09B6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2"/>
          <a:srcRect l="15766" t="0" r="0" b="0"/>
          <a:stretch/>
        </p:blipFill>
        <p:spPr>
          <a:xfrm>
            <a:off x="2050920" y="3429000"/>
            <a:ext cx="52977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46000" y="25992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خصائص الحقول </a:t>
            </a:r>
            <a:r>
              <a:rPr b="1" lang="en-US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Field Properties</a:t>
            </a:r>
            <a:r>
              <a:rPr b="1" lang="en-US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</a:t>
            </a: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يمكن فرض الشروط التي تريدها على اي حقل من الحقول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6337440" cy="4492440"/>
          </a:xfrm>
          <a:prstGeom prst="rect">
            <a:avLst/>
          </a:prstGeom>
          <a:ln w="0">
            <a:noFill/>
          </a:ln>
        </p:spPr>
      </p:pic>
      <p:sp>
        <p:nvSpPr>
          <p:cNvPr id="336" name="Line 5"/>
          <p:cNvSpPr/>
          <p:nvPr/>
        </p:nvSpPr>
        <p:spPr>
          <a:xfrm flipH="1">
            <a:off x="3924000" y="3500280"/>
            <a:ext cx="934920" cy="2890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4284720" y="3141720"/>
            <a:ext cx="144144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حجم الحقل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Line 7"/>
          <p:cNvSpPr/>
          <p:nvPr/>
        </p:nvSpPr>
        <p:spPr>
          <a:xfrm flipH="1">
            <a:off x="3780000" y="3933720"/>
            <a:ext cx="1512720" cy="2890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5292720" y="3716280"/>
            <a:ext cx="144144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قتاع الادخال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Line 9"/>
          <p:cNvSpPr/>
          <p:nvPr/>
        </p:nvSpPr>
        <p:spPr>
          <a:xfrm flipH="1">
            <a:off x="3780000" y="4365720"/>
            <a:ext cx="1512720" cy="2887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5292720" y="4149720"/>
            <a:ext cx="180036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القيمة الافتراضيه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5003640" y="4653000"/>
            <a:ext cx="223236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قاعدة التحقق من الصحه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3" name="Line 13"/>
          <p:cNvSpPr/>
          <p:nvPr/>
        </p:nvSpPr>
        <p:spPr>
          <a:xfrm flipH="1" flipV="1">
            <a:off x="3924360" y="4797000"/>
            <a:ext cx="1079280" cy="7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5003640" y="4653000"/>
            <a:ext cx="223236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قاعدة التحقق من الصحه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5" name="Line 16"/>
          <p:cNvSpPr/>
          <p:nvPr/>
        </p:nvSpPr>
        <p:spPr>
          <a:xfrm flipH="1" flipV="1">
            <a:off x="3924360" y="4797000"/>
            <a:ext cx="1079280" cy="7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Text Box 17"/>
          <p:cNvSpPr/>
          <p:nvPr/>
        </p:nvSpPr>
        <p:spPr>
          <a:xfrm>
            <a:off x="5076720" y="5229360"/>
            <a:ext cx="223200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نص التحقق من الصحه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Line 18"/>
          <p:cNvSpPr/>
          <p:nvPr/>
        </p:nvSpPr>
        <p:spPr>
          <a:xfrm flipH="1" flipV="1">
            <a:off x="3924000" y="5013000"/>
            <a:ext cx="1152360" cy="43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Text Box 19"/>
          <p:cNvSpPr/>
          <p:nvPr/>
        </p:nvSpPr>
        <p:spPr>
          <a:xfrm>
            <a:off x="250920" y="4221000"/>
            <a:ext cx="1189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مطلوب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Line 20"/>
          <p:cNvSpPr/>
          <p:nvPr/>
        </p:nvSpPr>
        <p:spPr>
          <a:xfrm>
            <a:off x="755640" y="4581360"/>
            <a:ext cx="1008000" cy="648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460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خصائص الحقول </a:t>
            </a:r>
            <a:r>
              <a:rPr b="1" lang="en-US" sz="29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Field Properties</a:t>
            </a:r>
            <a:r>
              <a:rPr b="1" lang="en-US" sz="29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</a:t>
            </a:r>
            <a:endParaRPr b="0" lang="en-US" sz="2900" spc="-1" strike="noStrike">
              <a:solidFill>
                <a:srgbClr val="b13f9a"/>
              </a:solidFill>
              <a:latin typeface="Franklin Gothic Book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324000" y="1052640"/>
          <a:ext cx="8351640" cy="5305320"/>
        </p:xfrm>
        <a:graphic>
          <a:graphicData uri="http://schemas.openxmlformats.org/drawingml/2006/table">
            <a:tbl>
              <a:tblPr/>
              <a:tblGrid>
                <a:gridCol w="6392880"/>
                <a:gridCol w="195876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الغرض م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الخاص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يظهر مع البيانات النصية والرقمية فقط لتحديد طولها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حجم الحق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تحديد طريقة ظهور البيانات هل هي رقم , نص , عملة , تاريخ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تنسي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يسمح باختيار نموذج جاهز لتظهر بيانات الحقل مطابقة ل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قناع الإدخا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قيمة افتراضية مع كل سجل جديد، يمكن قبولها أو استبدالها بقيمة أخرى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قيمة الافتراض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تعبير لتحديد القيم التي يمكن إدخالها، هذا التعبير يختبر البيانات المدخلة على أنها موافقة لشرط معين، وتمنع إدخال البيانات غير الموافقة للشرط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قاعدة التحقق من الصح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رسالة تظهر عند إدخال قيمة غير مسموح بها تخالف شرط قاعدة التحقق من الصح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نص التحقق من الصح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هل مطلوب إدخال قيمة لهذا الحقل أم لا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قيمة مطلوب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يقوم بتدقيق البيانات المدخلة مع إمكانية عدم تكرارها على نفس الحقل وتساعد في  تسريع عملية البحث عن البيانات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مفهر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عنصر نائب للتذييل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3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6883-6B2A-4F06-9DC1-C529233AEA10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39280" y="170028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خاصية البحث والاستبدال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فرز السجلات تصاعديا وتنازليا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التصفية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البحث عن البيانات وترتيبها وتصفيتها</a:t>
            </a: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rcRect l="79906" t="0" r="0" b="0"/>
          <a:stretch/>
        </p:blipFill>
        <p:spPr>
          <a:xfrm rot="20652000">
            <a:off x="493560" y="473040"/>
            <a:ext cx="1263960" cy="1368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"/>
          <p:cNvPicPr/>
          <p:nvPr/>
        </p:nvPicPr>
        <p:blipFill>
          <a:blip r:embed="rId2"/>
          <a:stretch/>
        </p:blipFill>
        <p:spPr>
          <a:xfrm>
            <a:off x="1619280" y="19861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3"/>
          <a:stretch/>
        </p:blipFill>
        <p:spPr>
          <a:xfrm>
            <a:off x="1692360" y="4005360"/>
            <a:ext cx="38178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عنصر نائب للتذييل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1AB9-3EE8-465B-9F7E-53CDEB2E867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9280" y="2491920"/>
            <a:ext cx="8280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just" rtl="1">
              <a:lnSpc>
                <a:spcPct val="9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هو من أشهر و أسهل برامج قواعد البيانات التي تعمل على الحاسب الشخصي , يستخدم في إدارة و تنظيم قواعد البيانات واستخراج النتائج منها وعمل الاستفسارات اللازمة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000000"/>
                </a:solidFill>
                <a:latin typeface="Perpetua"/>
              </a:rPr>
              <a:t>خطوات تشغيل الـ </a:t>
            </a:r>
            <a:r>
              <a:rPr b="1" lang="en-US" sz="3500" spc="-1" strike="noStrike">
                <a:solidFill>
                  <a:srgbClr val="000000"/>
                </a:solidFill>
                <a:latin typeface="Perpetua"/>
              </a:rPr>
              <a:t>Access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  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أبدأ     ===&gt;      كل البرامج   ===&gt;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Microsoft Office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        ===&gt;     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Microsoft Access 2010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برنامج قواعد البيانات</a:t>
            </a:r>
            <a:r>
              <a:rPr b="1" lang="en-US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Access 2010</a:t>
            </a:r>
            <a:r>
              <a:rPr b="1" lang="en-US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</a:t>
            </a: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rcRect l="79906" t="0" r="0" b="0"/>
          <a:stretch/>
        </p:blipFill>
        <p:spPr>
          <a:xfrm rot="20652000">
            <a:off x="493560" y="473040"/>
            <a:ext cx="1263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عنصر نائب للتذييل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D7E1-18B8-4F67-84F0-793882D83E6D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0920" y="1915920"/>
            <a:ext cx="7848360" cy="42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تحتوي على مجموعة من العناصر التي يمكن استخدامها لعرض المعلومات وإدارتها مثل 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buClr>
                <a:srgbClr val="b83d68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الجداول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Tables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buClr>
                <a:srgbClr val="b83d68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النماذج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Forms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buClr>
                <a:srgbClr val="b83d68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الاستعلامات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Queries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buClr>
                <a:srgbClr val="b83d68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التقارير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Reports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قاعدة البيانات في</a:t>
            </a:r>
            <a:r>
              <a:rPr b="1" lang="en-US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Access 2010</a:t>
            </a:r>
            <a:r>
              <a:rPr b="1" lang="en-US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</a:t>
            </a: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rcRect l="79906" t="0" r="0" b="0"/>
          <a:stretch/>
        </p:blipFill>
        <p:spPr>
          <a:xfrm rot="20652000">
            <a:off x="493560" y="473040"/>
            <a:ext cx="1263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عنصر نائب للتذييل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B993-6A5A-4BE6-9057-7F589A52083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31920" y="1915920"/>
            <a:ext cx="8416800" cy="42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يمكن إنشاء قاعدة البيانات بإحدى طريقتين 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إنشاء قاعدة بيانات فارغة </a:t>
            </a:r>
            <a:r>
              <a:rPr b="1" lang="en-US" sz="2800" spc="-1" strike="noStrike">
                <a:solidFill>
                  <a:srgbClr val="8a2e4e"/>
                </a:solidFill>
                <a:latin typeface="Perpetua"/>
              </a:rPr>
              <a:t>Blank Database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و تصميم الجداول وباقي العناصر يدويا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باستخدام القوالب المعدة مسبقا في البرنامج </a:t>
            </a:r>
            <a:r>
              <a:rPr b="1" lang="en-US" sz="2800" spc="-1" strike="noStrike">
                <a:solidFill>
                  <a:srgbClr val="8a2e4e"/>
                </a:solidFill>
                <a:latin typeface="Perpetua"/>
              </a:rPr>
              <a:t>Available Templates</a:t>
            </a:r>
            <a:r>
              <a:rPr b="1" lang="en-US" sz="2800" spc="-1" strike="noStrike">
                <a:solidFill>
                  <a:srgbClr val="8a2e4e"/>
                </a:solidFill>
                <a:latin typeface="Perpetu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التي تحوي على جداول و نماذج وتقارير جاهزة للاستخدام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71640" y="58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انشاء قاعدة بيانات جديدة</a:t>
            </a:r>
            <a:br>
              <a:rPr sz="3600"/>
            </a:br>
            <a:r>
              <a:rPr b="1" lang="en-US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Create New Database</a:t>
            </a: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rcRect l="79906" t="0" r="0" b="0"/>
          <a:stretch/>
        </p:blipFill>
        <p:spPr>
          <a:xfrm rot="20652000">
            <a:off x="493560" y="473040"/>
            <a:ext cx="1263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marL="743040" indent="-743040" algn="r" rtl="1">
              <a:lnSpc>
                <a:spcPct val="100000"/>
              </a:lnSpc>
              <a:buClr>
                <a:srgbClr val="a34b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إنشاء الجداول</a:t>
            </a:r>
            <a:r>
              <a:rPr b="1" lang="en-US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</a:t>
            </a: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-</a:t>
            </a:r>
            <a:r>
              <a:rPr b="1" lang="en-US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: </a:t>
            </a:r>
            <a:r>
              <a:rPr b="1" lang="en-US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Create Table</a:t>
            </a:r>
            <a:r>
              <a:rPr b="1" lang="en-US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</a:t>
            </a: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8" name="عنصر نائب للتذييل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عنصر نائب لرقم الشريحة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60C5-5415-423C-8CE5-8682E84C288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24000" y="1447920"/>
            <a:ext cx="83628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يعتبر الجدول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able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العمود الفقري لأي قاعدة بيانات , حيث يشتمل على جميع البيانات المكونة للقاعدة 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يتكون الجدول من اعمدة تسمى </a:t>
            </a:r>
            <a:r>
              <a:rPr b="1" lang="ar-SA" sz="2800" spc="-1" strike="noStrike">
                <a:solidFill>
                  <a:srgbClr val="8a2e4e"/>
                </a:solidFill>
                <a:latin typeface="Perpetua"/>
              </a:rPr>
              <a:t>حقول </a:t>
            </a:r>
            <a:r>
              <a:rPr b="1" lang="en-US" sz="2800" spc="-1" strike="noStrike">
                <a:solidFill>
                  <a:srgbClr val="8a2e4e"/>
                </a:solidFill>
                <a:latin typeface="Perpetua"/>
              </a:rPr>
              <a:t>Fields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و صفوف تسمى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a2e4e"/>
                </a:solidFill>
                <a:latin typeface="Perpetua"/>
              </a:rPr>
              <a:t>    سجلات </a:t>
            </a:r>
            <a:r>
              <a:rPr b="1" lang="en-US" sz="2800" spc="-1" strike="noStrike">
                <a:solidFill>
                  <a:srgbClr val="8a2e4e"/>
                </a:solidFill>
                <a:latin typeface="Perpetua"/>
              </a:rPr>
              <a:t>Records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هناك أكثر من طريقة لعرض الجدول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طرق عرض الجداول – </a:t>
            </a:r>
            <a:r>
              <a:rPr b="1" lang="en-US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Tables View</a:t>
            </a: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: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5112000" cy="24782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"/>
          <p:cNvPicPr/>
          <p:nvPr/>
        </p:nvPicPr>
        <p:blipFill>
          <a:blip r:embed="rId2"/>
          <a:stretch/>
        </p:blipFill>
        <p:spPr>
          <a:xfrm>
            <a:off x="3124080" y="3657600"/>
            <a:ext cx="5151600" cy="25178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5"/>
          <p:cNvSpPr/>
          <p:nvPr/>
        </p:nvSpPr>
        <p:spPr>
          <a:xfrm>
            <a:off x="5943600" y="2057400"/>
            <a:ext cx="2590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عرض صفحة البيانات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sheet View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Line 6"/>
          <p:cNvSpPr/>
          <p:nvPr/>
        </p:nvSpPr>
        <p:spPr>
          <a:xfrm flipH="1">
            <a:off x="5715000" y="2514600"/>
            <a:ext cx="2286000" cy="0"/>
          </a:xfrm>
          <a:prstGeom prst="line">
            <a:avLst/>
          </a:prstGeom>
          <a:ln w="50760">
            <a:solidFill>
              <a:srgbClr val="b13f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611280" y="4581360"/>
            <a:ext cx="2512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رض التصميم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View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Line 8"/>
          <p:cNvSpPr/>
          <p:nvPr/>
        </p:nvSpPr>
        <p:spPr>
          <a:xfrm flipH="1">
            <a:off x="611280" y="5157720"/>
            <a:ext cx="2286000" cy="0"/>
          </a:xfrm>
          <a:prstGeom prst="line">
            <a:avLst/>
          </a:prstGeom>
          <a:ln w="50760">
            <a:solidFill>
              <a:srgbClr val="b13f9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468360" y="1557360"/>
          <a:ext cx="8229600" cy="4884840"/>
        </p:xfrm>
        <a:graphic>
          <a:graphicData uri="http://schemas.openxmlformats.org/drawingml/2006/table">
            <a:tbl>
              <a:tblPr/>
              <a:tblGrid>
                <a:gridCol w="4924440"/>
                <a:gridCol w="3305160"/>
              </a:tblGrid>
              <a:tr h="5637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حروف و راقام لا تدخل في عمليات حسابي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نص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xt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لادراج رقم تلقائي لكل سجل يضاف الى الجد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ترقيم تلقائي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Number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للحقول التي تكون مدخلاتها تواريخ و اوق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تاريخ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وقت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/Time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حقول التي ستدخل في عمليات حسابي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رقم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)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يضيف رمز العمله بجانب الرق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عمله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cy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)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يشتمل على بيانات يمكن تصنيفها إلى نعم أو لا أو صح وخطأ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نعم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لا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/No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يستخدم لتخزين كائن موجود في برنامج آخر مثل الصور والرسوم والرسوم البيانية وربطها بقاعدة البيانات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LE Objec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نص طويل حوالي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حر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مذكره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mo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أنواع البيانات </a:t>
            </a:r>
            <a:r>
              <a:rPr b="1" lang="en-US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Data Type</a:t>
            </a:r>
            <a:r>
              <a:rPr b="1" lang="en-US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التنقل بين السجلات :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311" name="Picture 5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408720" cy="2852640"/>
          </a:xfrm>
          <a:prstGeom prst="rect">
            <a:avLst/>
          </a:prstGeom>
          <a:ln w="0">
            <a:noFill/>
          </a:ln>
        </p:spPr>
      </p:pic>
      <p:sp>
        <p:nvSpPr>
          <p:cNvPr id="312" name="Line 6"/>
          <p:cNvSpPr/>
          <p:nvPr/>
        </p:nvSpPr>
        <p:spPr>
          <a:xfrm flipH="1">
            <a:off x="1618920" y="4581360"/>
            <a:ext cx="1081080" cy="648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900000" y="5229360"/>
            <a:ext cx="144000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السجل الأول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268360" y="5950080"/>
            <a:ext cx="144000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السجل السابق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Line 9"/>
          <p:cNvSpPr/>
          <p:nvPr/>
        </p:nvSpPr>
        <p:spPr>
          <a:xfrm flipH="1">
            <a:off x="2843280" y="4508640"/>
            <a:ext cx="288720" cy="14414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3492360" y="5445000"/>
            <a:ext cx="144000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السجل الحالي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Line 11"/>
          <p:cNvSpPr/>
          <p:nvPr/>
        </p:nvSpPr>
        <p:spPr>
          <a:xfrm>
            <a:off x="4213080" y="4653000"/>
            <a:ext cx="0" cy="792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4572000" y="6093000"/>
            <a:ext cx="144000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السجل التالي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4859280" y="4581360"/>
            <a:ext cx="433440" cy="151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0" name="Text Box 14"/>
          <p:cNvSpPr/>
          <p:nvPr/>
        </p:nvSpPr>
        <p:spPr>
          <a:xfrm>
            <a:off x="5435640" y="5445000"/>
            <a:ext cx="144000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السجل الاخير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Line 15"/>
          <p:cNvSpPr/>
          <p:nvPr/>
        </p:nvSpPr>
        <p:spPr>
          <a:xfrm>
            <a:off x="5364000" y="4581360"/>
            <a:ext cx="792360" cy="863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6804000" y="6021360"/>
            <a:ext cx="144000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اضافة سجل جديد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3" name="Line 17"/>
          <p:cNvSpPr/>
          <p:nvPr/>
        </p:nvSpPr>
        <p:spPr>
          <a:xfrm>
            <a:off x="5867280" y="4581360"/>
            <a:ext cx="1657440" cy="1440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7451640" y="5300640"/>
            <a:ext cx="144000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العدد الكلي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Line 19"/>
          <p:cNvSpPr/>
          <p:nvPr/>
        </p:nvSpPr>
        <p:spPr>
          <a:xfrm>
            <a:off x="6372360" y="4508640"/>
            <a:ext cx="1800000" cy="792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1"/>
          <a:srcRect l="0" t="0" r="38501" b="63273"/>
          <a:stretch/>
        </p:blipFill>
        <p:spPr>
          <a:xfrm>
            <a:off x="461880" y="2479680"/>
            <a:ext cx="8028000" cy="33750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تعيين المفتاح الأساسي – </a:t>
            </a:r>
            <a:r>
              <a:rPr b="1" lang="en-US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Primary Key</a:t>
            </a:r>
            <a:r>
              <a:rPr b="1" lang="ar-SA" sz="40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: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المفتاح الأساسي: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 هو عباره عن حقل فريد يستخدم كعلامة مميزه لكل سجل  بحيث لا يمكن تكراره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Line 5"/>
          <p:cNvSpPr/>
          <p:nvPr/>
        </p:nvSpPr>
        <p:spPr>
          <a:xfrm flipV="1">
            <a:off x="2585880" y="5157720"/>
            <a:ext cx="201600" cy="4888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803160" y="5450040"/>
            <a:ext cx="169884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Arial"/>
              </a:rPr>
              <a:t>. تظليل اسم الحقل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Line 7"/>
          <p:cNvSpPr/>
          <p:nvPr/>
        </p:nvSpPr>
        <p:spPr>
          <a:xfrm flipH="1" flipV="1">
            <a:off x="1503360" y="3789000"/>
            <a:ext cx="2131920" cy="4935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3780000" y="4167360"/>
            <a:ext cx="3960720" cy="642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Arial"/>
              </a:rPr>
              <a:t>. الضغط على رمز المفتاح في شريط الادوات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49:28Z</dcterms:created>
  <dc:creator>user</dc:creator>
  <dc:description/>
  <dc:language>en-US</dc:language>
  <cp:lastModifiedBy>User</cp:lastModifiedBy>
  <dcterms:modified xsi:type="dcterms:W3CDTF">2016-03-22T15:17:42Z</dcterms:modified>
  <cp:revision>120</cp:revision>
  <dc:subject/>
  <dc:title>عرض تقديمي في PowerPoint</dc:title>
</cp:coreProperties>
</file>