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97AB-654F-409D-90F0-63608F06794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3552-4697-4A7E-BA4E-168FC8CF435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E72-89F0-4A30-9878-2C323F98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A2E-C599-46C2-A822-FCF9D59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0B2-F791-416C-ADBD-2B59641D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0E5-D51A-4BD9-998F-158B5194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A31-B736-4923-A5D2-91826FE3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3FE-4FCC-4D52-A66F-728CF620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14D-8A1E-4940-B890-59C8BAE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3BD8-D7D7-456A-AC85-234D9E7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C1E4-321E-4BC9-8CE0-884205E6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3FE8-6D15-4408-A0D1-96205D68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14C6-C0F1-4EE8-A768-B8BF748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F5F-6069-4E60-AC3F-1987928E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430C-7947-4CCA-A00F-CFD5F73A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F4B5-F2E7-433F-BFC4-5D040F0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ABB-72C8-4B43-973A-6CB2DA18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659B-A41F-4E31-86BF-2D90F5CD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77E-B2F4-40FA-81B3-73358AD8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C937-99D4-4313-8980-8089B7C8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943F-08AC-4D5A-9013-BF903B9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C2E9-3DD9-4A0A-96EA-AAE2920D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3112-4751-481E-AC4C-AFFE03ED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DF7C-1615-4F69-8707-F3C7F703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945-B126-49DB-B9E4-A635381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F417-28F0-4538-925D-26C8C51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2A9D-8FBC-4474-A6D6-A416D689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9137-4FBF-46A1-B249-091B607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5F32-BBE6-4C9F-8CD1-C1DB4FC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FB01-0D76-426F-9435-A9DE1BA9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9728-2E5B-4FC9-83F1-4DBC2D8F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BEF4-EFBB-440C-8E25-0A8A132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670F-5DDE-46D4-8183-AE16DD75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369F-CD89-473C-AFF0-0ED26D7E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1BD2-5D2B-4830-AEA2-B6DF614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CD3-C144-4AFB-A55D-16060F0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F8A1-CEA6-4302-845B-74C04FA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663C-8487-49DE-B223-DD088322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3908-A462-437D-8793-50E97CAF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A6B7-6707-4FB7-8888-3628236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1EAC-4298-450F-8DE6-50C8546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449D-1DF3-412F-9631-A035281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77ED-9080-4915-924B-1D1A8971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D216-FC05-4E81-B20F-A3CED395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AEE4-6AF4-4A60-A9ED-86C95B4B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EB59-3FC8-4468-B696-76BFB010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C8C-93FB-466D-9F18-F9789B8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4668-A52D-473F-88E0-ABE23144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B8A1-E197-4867-B233-22369299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BF6D7-9972-4832-B301-4FDBF9CF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17EF-CA28-4F9B-A27E-06408F9D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D702D-16FE-41BC-8B8D-4CE7E559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D0A7-5718-4DD9-9FAC-C68E3D9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6E8C6-B3F8-4AE7-B876-034B476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7A07C-5507-4E75-8BA1-61FAA3A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20224-8147-4BE4-A10A-B43D7E6F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991FB-5262-44AD-BDFB-C612D44C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18D-27CF-421C-A277-6CD0CD02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C38D-A048-4328-A750-CD474132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E485-34FF-4756-A400-237A71E8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F30DF-DD6F-4048-B172-36F3224C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537B-7511-4D53-BC69-920C817F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AA66-5575-41E7-8002-10A6BEC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E40F8-DFE2-44AA-A116-5003BE7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0235-D96B-4022-A7E4-89ABCA6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1FC2-6B54-456D-AEE6-CFC1A8E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DAF2-3E60-48F2-AEA5-1C03E6AF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ED1A-D292-4A41-BE80-B957026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FDC-C4FE-44A1-9A5D-F51CBEC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AC78D-02F8-4E12-AC32-2E67E01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0ED2F-1BEA-4791-A850-FA18189F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D76D5-E707-4F08-9564-7677694B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9B7-75D1-4211-946F-1ECB03EB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9AB-3435-4141-AFF4-D98BC51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B98A-25AA-4E81-82B7-486080884540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5BBF-33FD-4A33-B1D2-044DA1EE494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DDB-6E71-4C40-B6E8-FEA0D4744BFA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B774-B8EA-4CB1-9C41-3F7FDBF87BA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AEE-3F7F-4A47-92FB-5349BFCF0743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A89-17EB-4EC2-ACA2-CFA15C978F7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F22-BE32-4B17-88FA-C5D5735D26DA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0EF3-63C8-4BBA-A7C5-69EC54DAE18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12B-C512-4352-B0F1-386DCB0ADE19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2722-DB43-4D51-A3D6-48B4C01805A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6A52-1D26-46DF-8125-ABC440F328A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مستطيل 3" descr=""/>
          <p:cNvPicPr/>
          <p:nvPr/>
        </p:nvPicPr>
        <p:blipFill>
          <a:blip r:embed="rId1"/>
          <a:stretch/>
        </p:blipFill>
        <p:spPr>
          <a:xfrm>
            <a:off x="1268280" y="1311120"/>
            <a:ext cx="6596280" cy="1839960"/>
          </a:xfrm>
          <a:prstGeom prst="rect">
            <a:avLst/>
          </a:prstGeom>
          <a:ln w="0">
            <a:noFill/>
          </a:ln>
        </p:spPr>
      </p:pic>
      <p:sp>
        <p:nvSpPr>
          <p:cNvPr id="279" name="عنصر نائب للتذييل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EEF-7B18-45C1-A04F-2181452905E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429000"/>
            <a:ext cx="5297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46000" y="259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صائص الحقول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ield Properties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يمكن فرض الشروط التي تريدها على اي حقل من الحقول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337440" cy="4492440"/>
          </a:xfrm>
          <a:prstGeom prst="rect">
            <a:avLst/>
          </a:prstGeom>
          <a:ln w="0">
            <a:noFill/>
          </a:ln>
        </p:spPr>
      </p:pic>
      <p:sp>
        <p:nvSpPr>
          <p:cNvPr id="336" name="Line 5"/>
          <p:cNvSpPr/>
          <p:nvPr/>
        </p:nvSpPr>
        <p:spPr>
          <a:xfrm flipH="1">
            <a:off x="3924000" y="3500280"/>
            <a:ext cx="934920" cy="289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284720" y="3141720"/>
            <a:ext cx="14414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حجم الحق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Line 7"/>
          <p:cNvSpPr/>
          <p:nvPr/>
        </p:nvSpPr>
        <p:spPr>
          <a:xfrm flipH="1">
            <a:off x="3780000" y="3933720"/>
            <a:ext cx="1512720" cy="289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5292720" y="3716280"/>
            <a:ext cx="14414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قتاع الادخا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Line 9"/>
          <p:cNvSpPr/>
          <p:nvPr/>
        </p:nvSpPr>
        <p:spPr>
          <a:xfrm flipH="1">
            <a:off x="3780000" y="4365720"/>
            <a:ext cx="1512720" cy="288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5292720" y="4149720"/>
            <a:ext cx="180036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قيمة الافتراضي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5003640" y="4653000"/>
            <a:ext cx="223236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قاعدة التحقق من الصح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Line 13"/>
          <p:cNvSpPr/>
          <p:nvPr/>
        </p:nvSpPr>
        <p:spPr>
          <a:xfrm flipH="1" flipV="1">
            <a:off x="3924360" y="4797000"/>
            <a:ext cx="1079280" cy="7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5003640" y="4653000"/>
            <a:ext cx="223236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قاعدة التحقق من الصح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Line 16"/>
          <p:cNvSpPr/>
          <p:nvPr/>
        </p:nvSpPr>
        <p:spPr>
          <a:xfrm flipH="1" flipV="1">
            <a:off x="3924360" y="4797000"/>
            <a:ext cx="1079280" cy="7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5076720" y="5229360"/>
            <a:ext cx="2232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نص التحقق من الصح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Line 18"/>
          <p:cNvSpPr/>
          <p:nvPr/>
        </p:nvSpPr>
        <p:spPr>
          <a:xfrm flipH="1" flipV="1">
            <a:off x="3924000" y="5013000"/>
            <a:ext cx="115236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250920" y="4221000"/>
            <a:ext cx="1189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مطلوب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Line 20"/>
          <p:cNvSpPr/>
          <p:nvPr/>
        </p:nvSpPr>
        <p:spPr>
          <a:xfrm>
            <a:off x="755640" y="4581360"/>
            <a:ext cx="1008000" cy="648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4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صائص الحقول </a:t>
            </a:r>
            <a:r>
              <a:rPr b="1" lang="en-US" sz="29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ield Properties</a:t>
            </a:r>
            <a:r>
              <a:rPr b="1" lang="en-US" sz="29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b13f9a"/>
              </a:solidFill>
              <a:latin typeface="Franklin Gothic Boo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24000" y="1052640"/>
          <a:ext cx="8351640" cy="5305320"/>
        </p:xfrm>
        <a:graphic>
          <a:graphicData uri="http://schemas.openxmlformats.org/drawingml/2006/table">
            <a:tbl>
              <a:tblPr/>
              <a:tblGrid>
                <a:gridCol w="6392880"/>
                <a:gridCol w="195876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غرض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خا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يظهر مع البيانات النصية والرقمية فقط لتحديد طوله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حجم الحق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تحديد طريقة ظهور البيانات هل هي رقم , نص , عملة , تاريخ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تنس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يسمح باختيار نموذج جاهز لتظهر بيانات الحقل مطابقة ل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ناع الإدخ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يمة افتراضية مع كل سجل جديد، يمكن قبولها أو استبدالها بقيمة أخر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يمة الافتراض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تعبير لتحديد القيم التي يمكن إدخالها، هذا التعبير يختبر البيانات المدخلة على أنها موافقة لشرط معين، وتمنع إدخال البيانات غير الموافقة للشر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اعدة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رسالة تظهر عند إدخال قيمة غير مسموح بها تخالف شرط قاعدة التحقق من الصح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نص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هل مطلوب إدخال قيمة لهذا الحقل أم ل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يمة مطلو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يقوم بتدقيق البيانات المدخلة مع إمكانية عدم تكرارها على نفس الحقل وتساعد في  تسريع عملية البحث عن البيانات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مفهر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C8F-41C3-4DC2-9B06-3596898851B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280" y="1700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خاصية البحث والاستبدال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فرز السجلات تصاعديا وتنازليا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لتصفية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بحث عن البيانات وترتيبها وتصفيتها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1619280" y="19861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1692360" y="4005360"/>
            <a:ext cx="38178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AA32-3B6B-469F-9DCE-BC8573DF2A5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280" y="249192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هو من أشهر و أسهل برامج قواعد البيانات التي تعمل على الحاسب الشخصي , يستخدم في إدارة و تنظيم قواعد البيانات واستخراج النتائج منها وعمل الاستفسارات اللازمة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Perpetua"/>
              </a:rPr>
              <a:t>خطوات تشغيل الـ </a:t>
            </a: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Access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أبدأ     ===&gt;      كل البرامج   ===&gt;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crosoft Office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       ===&gt;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crosoft Access 2010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برنامج قواعد البيانات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Access 2010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AB59-7978-46F8-9016-8CF7F40D642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0920" y="1915920"/>
            <a:ext cx="78483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تحتوي على مجموعة من العناصر التي يمكن استخدامها لعرض المعلومات وإدارتها مثل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جداول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able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نماذج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orms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استعلامات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Querie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تقارير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Reports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قاعدة البيانات في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Access 2010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3758-31E5-4B20-9581-FA0903276F3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31920" y="1915920"/>
            <a:ext cx="84168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يمكن إنشاء قاعدة البيانات بإحدى طريقتين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إنشاء قاعدة بيانات فارغة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Blank Databas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و تصميم الجداول وباقي العناصر يدويا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باستخدام القوالب المعدة مسبقا في البرنامج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Available Templates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التي تحوي على جداول و نماذج وتقارير جاهزة للاستخدام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640" y="58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نشاء قاعدة بيانات جديدة</a:t>
            </a:r>
            <a:br>
              <a:rPr sz="3600"/>
            </a:b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Create New Database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743040" indent="-743040" algn="r" rtl="1">
              <a:lnSpc>
                <a:spcPct val="100000"/>
              </a:lnSpc>
              <a:buClr>
                <a:srgbClr val="a34b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إنشاء الجداول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-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Create Table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8" name="عنصر نائب للتذييل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عنصر نائب لرقم الشريحة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32D-4309-4719-8146-D8B271B7382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4000" y="1447920"/>
            <a:ext cx="8362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عتبر الجدول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ble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العمود الفقري لأي قاعدة بيانات , حيث يشتمل على جميع البيانات المكونة للقاعدة 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تكون الجدول من اعمدة تسمى </a:t>
            </a:r>
            <a:r>
              <a:rPr b="1" lang="ar-SA" sz="2800" spc="-1" strike="noStrike">
                <a:solidFill>
                  <a:srgbClr val="8a2e4e"/>
                </a:solidFill>
                <a:latin typeface="Perpetua"/>
              </a:rPr>
              <a:t>حقول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Fields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و صفوف تسمى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2e4e"/>
                </a:solidFill>
                <a:latin typeface="Perpetua"/>
              </a:rPr>
              <a:t>    سجلات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Records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هناك أكثر من طريقة لعرض الجدول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طرق عرض الجداول –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Tables View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112000" cy="2478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5151600" cy="2517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5943600" y="205740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رض صفحة البيانات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sheet 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Line 6"/>
          <p:cNvSpPr/>
          <p:nvPr/>
        </p:nvSpPr>
        <p:spPr>
          <a:xfrm flipH="1">
            <a:off x="5715000" y="2514600"/>
            <a:ext cx="2286000" cy="0"/>
          </a:xfrm>
          <a:prstGeom prst="line">
            <a:avLst/>
          </a:prstGeom>
          <a:ln w="5076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11280" y="4581360"/>
            <a:ext cx="2512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رض التصمي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View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611280" y="5157720"/>
            <a:ext cx="2286000" cy="0"/>
          </a:xfrm>
          <a:prstGeom prst="line">
            <a:avLst/>
          </a:prstGeom>
          <a:ln w="50760">
            <a:solidFill>
              <a:srgbClr val="b13f9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1557360"/>
          <a:ext cx="8229600" cy="4884840"/>
        </p:xfrm>
        <a:graphic>
          <a:graphicData uri="http://schemas.openxmlformats.org/drawingml/2006/table">
            <a:tbl>
              <a:tblPr/>
              <a:tblGrid>
                <a:gridCol w="4924440"/>
                <a:gridCol w="3305160"/>
              </a:tblGrid>
              <a:tr h="563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حروف و راقام لا تدخل في عمليات حسابي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نص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ادراج رقم تلقائي لكل سجل يضاف الى الجد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ترقيم تلقائي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Number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لحقول التي تكون مدخلاتها تواريخ و اوق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تاريخ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وقت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/Time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قول التي ستدخل في عمليات حسابي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رقم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يضيف رمز العمله بجانب الرق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عمله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c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يشتمل على بيانات يمكن تصنيفها إلى نعم أو لا أو صح وخطأ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نعم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لا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/No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يستخدم لتخزين كائن موجود في برنامج آخر مثل الصور والرسوم والرسوم البيانية وربطها بقاعدة البيانات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 Objec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نص طويل حوالي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ح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ذكره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أنواع البيانات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Data Type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تنقل بين السجلات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08720" cy="285264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1618920" y="4581360"/>
            <a:ext cx="1081080" cy="648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900000" y="522936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أو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68360" y="595008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سابق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Line 9"/>
          <p:cNvSpPr/>
          <p:nvPr/>
        </p:nvSpPr>
        <p:spPr>
          <a:xfrm flipH="1">
            <a:off x="2843280" y="4508640"/>
            <a:ext cx="288720" cy="1441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3492360" y="544500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حالي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4213080" y="4653000"/>
            <a:ext cx="0" cy="79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4572000" y="609300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تالي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4859280" y="4581360"/>
            <a:ext cx="433440" cy="151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5435640" y="544500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اخير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5364000" y="4581360"/>
            <a:ext cx="792360" cy="863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804000" y="602136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ضافة سجل جديد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5867280" y="4581360"/>
            <a:ext cx="1657440" cy="1440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7451640" y="5300640"/>
            <a:ext cx="144000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عدد الكلي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6372360" y="4508640"/>
            <a:ext cx="1800000" cy="79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rcRect l="0" t="0" r="38501" b="63273"/>
          <a:stretch/>
        </p:blipFill>
        <p:spPr>
          <a:xfrm>
            <a:off x="461880" y="2479680"/>
            <a:ext cx="8028000" cy="3375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تعيين المفتاح الأساسي –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Primary Key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المفتاح الأساسي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هو عباره عن حقل فريد يستخدم كعلامة مميزه لكل سجل  بحيث لا يمكن تكراره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2585880" y="5157720"/>
            <a:ext cx="201600" cy="488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803160" y="5450040"/>
            <a:ext cx="16988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. تظليل اسم الحق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Line 7"/>
          <p:cNvSpPr/>
          <p:nvPr/>
        </p:nvSpPr>
        <p:spPr>
          <a:xfrm flipH="1" flipV="1">
            <a:off x="1503360" y="3789000"/>
            <a:ext cx="2131920" cy="493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3780000" y="4167360"/>
            <a:ext cx="396072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. الضغط على رمز المفتاح في شريط الادوات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9:28Z</dcterms:created>
  <dc:creator>user</dc:creator>
  <dc:description/>
  <dc:language>en-US</dc:language>
  <cp:lastModifiedBy>User</cp:lastModifiedBy>
  <dcterms:modified xsi:type="dcterms:W3CDTF">2016-03-22T15:17:42Z</dcterms:modified>
  <cp:revision>120</cp:revision>
  <dc:subject/>
  <dc:title>عرض تقديمي في PowerPoint</dc:title>
</cp:coreProperties>
</file>