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4C9-ABFD-4D57-B963-812A30BD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49C-8179-4463-9062-0C970E57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F41-B37D-497C-B5E9-B2FD4843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16E-7C0D-4264-8E41-D8D10D2E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7744-51C1-4BD3-B80D-724EE074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9ACD-D1DE-4058-A59C-E4EEAC26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F93B-2D6E-47D0-9F25-BA07F7ED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73C9-B2EA-4A67-B411-F3630657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379F-8E79-4F25-9DB4-7796435D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94B7-C807-42CA-B398-E5BDE111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50E4-DCD6-4A98-AE05-ED69BD5D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9D7-DDA5-4D30-8494-F397B12E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6679-DE90-4088-AB5E-9D1BEB27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3422-27AA-4B05-B0E2-31DB6104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67FD-94D2-4256-9B32-B65C05FD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F84F-A6C6-4E41-BCD2-9F25F865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9CCE-A4DB-4022-898D-E020B792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D249-FB6E-4C99-977A-EABB7EB1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4B51-AC5B-44E6-A58C-CFB138B5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12F95-63A2-4E34-B8D9-B3BD0D9F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0A48-FDF0-44F6-B0B2-76DF5326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6DC5-9930-473A-ACC6-3385DE94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182-B226-4101-AB36-BF84C31D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CB3C-F111-413C-9AA1-B552B603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FBF9-C85C-42A7-90B3-3619BD45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65B3-252A-4E05-B83B-65C36D62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D5D1-C772-4EBC-9BB4-593E4127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0BF18-4459-4FDB-BD24-222E97A4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AD36-3F13-46E0-842F-D3DE1FC8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DC5E-4472-4F5C-8D54-88324234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F240-DBD8-49BC-B7C1-D0D3F5D4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1B1F2-07C6-46FE-9542-CD239582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A8FA9-4FBD-4B82-B7B6-DF91E5E1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87A-04DC-4619-8ADA-3196E42D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C9920-D064-43A2-8CF7-979F9936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9D293-CA74-4A10-90AA-CBD60084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C4C6F-574A-41FB-B18D-811D2FC5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389D-784F-46A1-83A3-9B685E1C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4C4E-0051-4157-AD49-C31DB26F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A25D1-E062-420F-97BA-5EF926BF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7FB27-EC50-4E9F-B52B-E9A4C71A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547A6-054F-49FA-A11E-5D4DD4FD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1391-8D84-4164-A96A-355C29F8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97F-E6D1-4068-928D-ACE64646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251-027E-4A1C-83EF-3B8B30EA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A00-B53F-4B28-98C7-5C4F35E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41B-1B0A-4E1B-A46E-5E448404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619-6AA4-4A80-85C4-F16F5A74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3714-207F-4891-9DAD-75E5B5E6950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DB95-F4B7-447E-9948-1C55718B09C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B843-CC2C-4B18-A781-9330E0D36D3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07B1-AE51-46F2-8F61-2AC656C3780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الاستزراع في البرك الترابية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Aquaculture in Earthen Ponds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7733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5" descr="C:\Users\hp\Desktop\صور إستزراع سمكي\large_1238528218.jpg"/>
          <p:cNvPicPr/>
          <p:nvPr/>
        </p:nvPicPr>
        <p:blipFill>
          <a:blip r:embed="rId1"/>
          <a:stretch/>
        </p:blipFill>
        <p:spPr>
          <a:xfrm>
            <a:off x="324000" y="1989000"/>
            <a:ext cx="4248000" cy="2425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hp\Desktop\صور إستزراع سمكي\1-fish-farming--1--08052017064055-1000x0.jpg"/>
          <p:cNvPicPr/>
          <p:nvPr/>
        </p:nvPicPr>
        <p:blipFill>
          <a:blip r:embed="rId2"/>
          <a:stretch/>
        </p:blipFill>
        <p:spPr>
          <a:xfrm>
            <a:off x="4427640" y="4292640"/>
            <a:ext cx="4321080" cy="223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hp\Desktop\صور إستزراع سمكي\الثروة-السمكية-كفر-الشيخ.jpg"/>
          <p:cNvPicPr/>
          <p:nvPr/>
        </p:nvPicPr>
        <p:blipFill>
          <a:blip r:embed="rId3"/>
          <a:stretch/>
        </p:blipFill>
        <p:spPr>
          <a:xfrm>
            <a:off x="4500720" y="1989000"/>
            <a:ext cx="4248000" cy="2303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C:\Users\hp\Desktop\صور إستزراع سمكي\large_1238528216.jpg"/>
          <p:cNvPicPr/>
          <p:nvPr/>
        </p:nvPicPr>
        <p:blipFill>
          <a:blip r:embed="rId4"/>
          <a:stretch/>
        </p:blipFill>
        <p:spPr>
          <a:xfrm>
            <a:off x="324000" y="4292640"/>
            <a:ext cx="4176720" cy="22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6-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تخصيب الأحوا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إضافة المخصبات العضوية أو غير العضوية إلى البرك وذلك لتساعد على نمو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هائمات النباتية  والحيوانية وبعض النباتات المائية ومن ثم توفير كمية أكبر م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غذاء الطبيعي ل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خصبات العضوية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قصد بالمخصبات العضـوية مخلفات المواشـي والدواجـن نظراً لاحتوائهما عل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ركبات عضـوية عالية يستفاد منها في تخصيب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فوائد المخصبات العضو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قد تكون غذاءً مباشـراً لبعض الأسماك خاصة الأسماك حيوانية التغذية مثل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فضلات الدواج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رفع من نسبة نمو الهائمات وعليه تساعد في نمو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ل هذه المركبات العضوية ينتج ثاني أكسيد الكربون الذي يفيد النباتات ف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عملية البناء الضوئي وإنتاج الأكسجين اللازم لتنفس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95280" y="691920"/>
            <a:ext cx="829152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ff"/>
                </a:solidFill>
                <a:latin typeface="Constantia"/>
                <a:cs typeface="Majalla UI"/>
              </a:rPr>
              <a:t>ب –</a:t>
            </a:r>
            <a:r>
              <a:rPr b="1" lang="ar-SA" sz="36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خصبات غير العضو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قصد بها الأسمدة الكيميائية الفوسفاتية والنيتروجينية والجيرية والتي تتحلل إل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ناصرها (النيتروجي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الفوسفور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البوتاسيوم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الكالسيوم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في الميا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سريعاً وتساعد في نمو الهائمات النبات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فوائد المخصبات غير العضو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رفع معدل نمو الهائمات النباتية والنباتات المائية التي تعتبر غذاءً طبيعياً ل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متى تتم إضافة المخصبات؟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ـ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تتم إضافة المخصبات بعد الانتهاء من إنشاء الأحواض وقبل تعبئتها بالما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حالة الأحواض القديمة تتم إضافة المخصبات بعد ملئها بالماء على أن تكو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كميات قليلة لأن التربة في هذه الحالة غالباً ما تكون غنية بالمواد العضو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69192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7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إنشاء الجسور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ستخدم التربة المزاحة نتيجة الحفر في إنشـاء الجسور الرئيسية (لعبور المعد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سيارات) والجسور الفرعية (عبور الأفراد) والذي يجب الاهتمام بإنشائهما بشك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جيد وذلك بإجراء عملية الدك القوي لها وأن تكون متسعة بالقدر الكافى ( لا تقل ع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4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 للرئيسية ، ولا تقل ع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 للفرع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8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زراعة الأشجار في محيط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يجب زراعة الأشجار العالية ذات الظلال حول المزرعة والتي تعمل كحاجز يزي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من الظل ويقلل من تعرض الأحواض للشمس في فصل الصيف مما يساهم في عد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ارتفاع حرارة المياه ، أما في فصل الشتاء فإن هذه الأشجار تعمل كمصدات للريا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وذلك لمنع وصول تيارات الهواء البارد إلى الأحواض فتقلل من انخفاض درج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حرارة الميا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استزراع في البرك الترابية 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Aquaculture in Earthen Ponds</a:t>
            </a:r>
            <a:r>
              <a:rPr b="1" lang="en-US" sz="3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4000" y="1988640"/>
            <a:ext cx="842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د تربية الأسماك في البرك </a:t>
            </a:r>
            <a:r>
              <a:rPr b="0" lang="ar-SY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و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ـواض </a:t>
            </a:r>
            <a:r>
              <a:rPr b="0" lang="ar-SY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رابية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arthen Pon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أقدم  طرق الاستزراع السمكي التى مارسها الإنسان وتعتمد إحدى طرق الإستزراع التاليتين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الاستزراع الموسع أو الإنتشاري (غير المكثف) 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Extensive cultu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لاستزراع شبه المكثف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Semi-intensive culture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( راجع المحاضرة رقم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600" spc="-1" strike="noStrike">
                <a:solidFill>
                  <a:srgbClr val="03495c"/>
                </a:solidFill>
                <a:latin typeface="Constantia"/>
                <a:cs typeface="Majalla UI"/>
              </a:rPr>
              <a:t>متطلبات إنشاء البرك الترابية وتجهيزها للتشغيل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  <a:ea typeface="Arial"/>
              </a:rPr>
              <a:t>►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1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مسح الأرض (طوبغرافية الموقع ونوعية التربة)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(راجع المحاضرة رقم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4000" y="691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2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حفر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ذلك يستلزم تحديد مواصفات هذه البرك من حيث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1" lang="ar-SA" sz="26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شكل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(مستطيل – مربع – دائري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د البرك المستطيلة هي أفضل أشكال البرك الترابية وذلك لسهولة إدارت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ب-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حجم أو الأبعاد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(الطول – العرض – العم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بالنسبة لطول وعرض البر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فإن ذلك يعود إلى مساحة الأرض المتاحة لإنشا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البرك ونوع نشاط الإستزراع (برك للتفريخ وإنتاج الزريعة ـ برك للتسمين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أما بالنسبة لعمق البر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فذلك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عتمد على نوع الأسماك المراد تربيتها  والمرحل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عمرية لهذه الأسماك  فمثلاً أسماك المبروك العادي وهي في طور الزريع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y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تتغذى على البلانكتون والبقايا العضوية العالقة في الماء والناتجة م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ل النباتا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حيوانات الميتة لذلك فإن أحواض الحضانة لزريعة أسماك المبروك يجب ألا يزي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764640"/>
            <a:ext cx="8353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مقها ع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 . أما الأصبعيات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ngerli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أحجام الكبيرة لنفس الأسماك فإنها تتغذي على ديدان القاع والمواد العضو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يلزمها القاع الذي لا يزيد عمقه ع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 من سطح الما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ند تحديد عمق البرك يجب الأخذ في الإعتبار أن يكون ارتفاع حوائط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أعلى من سطح المياه بحد أدنى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 في حالة الأحواض الصغيرة و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 ف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حواض الكبيرة وعموماً إذا كان الحوض بعمق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  يكون ارتفاع حوائط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5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6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600" spc="-1" strike="noStrike">
                <a:solidFill>
                  <a:srgbClr val="0000ff"/>
                </a:solidFill>
                <a:latin typeface="Constantia"/>
                <a:cs typeface="Majalla UI"/>
              </a:rPr>
              <a:t>ج -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يل القا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يتراوح الميل المناسب لمسطح قاع البرك بي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600" spc="-1" strike="noStrike">
                <a:solidFill>
                  <a:srgbClr val="0000ff"/>
                </a:solidFill>
                <a:latin typeface="Constantia"/>
                <a:cs typeface="Majalla UI"/>
              </a:rPr>
              <a:t>د –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عدد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وقف عدد البرك على مساحة الأرض المتاحة وعلى نظام الإستزراع ( متكامل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grated cultur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و غير متكامل 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n-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grated cultur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-199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24000" y="764640"/>
            <a:ext cx="84960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3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نظام الري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وجد أكثر من نظام أو وسيلة لنقل المياه إلى الأحواض (الري) وفيما يلي أهم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c0000"/>
                </a:solidFill>
                <a:latin typeface="Constantia"/>
                <a:cs typeface="Majalla UI"/>
              </a:rPr>
              <a:t>الري إحادي المصد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ستعمل ماسورة من مادة غير قابلة للصدأ مثل البلاستيك المضغوط أو مادة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VC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ly-Vinyl Chlorid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ذات قطر معين (يختلف باختلاف حجم البركة) تتص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ماسورة بمصدر المياه وتمر تحت سطح الجسر بجانب الأحواض إلى أن تصل إل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حائط عند الجهة الأعلى للبركة لتصب المـاء من أعلى في البركة ويفضل عمل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ساحة صغيرة من الخرسانة أو الحجارة أحيانا عند مصب الماء في البركة لمن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حدوث حفرة في القاع نتيجة صب المياه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-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ري المتواز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 تمتد ماسـورة رئيسة من مصدر المياه تحت سطح الجسر بمحاذاة البرك ويركب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ليها مواسيرفرعية ذات قطر أصغر لتمر الفروع إلى البركة أو إلى عدة بر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4000" y="764640"/>
            <a:ext cx="84247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نظام الري المتوازي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ج -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ري بنظام البواب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 يتم تشييد بوابة ذات جدار مزدوج أحدهما من ألواح حديدية أو خشبية والثان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من السلك المجلفن أو البلاستيك عند الجانب الأعلى من البركة بحيث يسمح للبواب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بالحركة لأعلى ولأسفل ومن ثم يمر الماء إلى البركة من خزان أرضي للماء يق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خلف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Untitled-15"/>
          <p:cNvPicPr/>
          <p:nvPr/>
        </p:nvPicPr>
        <p:blipFill>
          <a:blip r:embed="rId1"/>
          <a:stretch/>
        </p:blipFill>
        <p:spPr>
          <a:xfrm>
            <a:off x="1619280" y="765000"/>
            <a:ext cx="5761080" cy="2376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ري بنظام البواب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4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نظام الصر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النسبة لمصرف المياه فعادة يكون عند الجهة المقابلة لدخولها والتي تكون عند المستوى الأدنى لقاع البركة حتى يسهل تجميع المياه وانسيابها . وفيما يلي أهم طرق الصر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صرف إحادي المخرج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عمل حوض صغيرمن الأسمنت أو الحجارة في الجانب الأدنى من البرك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C:\Users\hp\Desktop\صور إستزراع سمكي\PHWFKashmirDachigamTroutFarmcreditTWEECPhotosApril2010.jpg"/>
          <p:cNvPicPr/>
          <p:nvPr/>
        </p:nvPicPr>
        <p:blipFill>
          <a:blip r:embed="rId1"/>
          <a:stretch/>
        </p:blipFill>
        <p:spPr>
          <a:xfrm>
            <a:off x="1835280" y="836640"/>
            <a:ext cx="5473440" cy="230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5280" y="764640"/>
            <a:ext cx="83534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جانب الحائط يتراوح عمقها بي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0.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 إلى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 ثم تركب ماسورة الصرف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في الحائط لنقل مياه الحوض إلى مجرى الصر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صرف المتواز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الصرف عن طريق خط مواسير متوازي يمر من الجانب الأدنى من البركة إلى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قنوات الصرف على أن تزود فتحات هذه المواسير بشبكات لمنع تسرب ا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ج -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صرف بنظام البواب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شبه الري بنظام البوابة حيث بفتح البوابة يمر الماء إلى قنوات الصرف أو إلى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خزان لماء الصر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5</a:t>
            </a: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-</a:t>
            </a:r>
            <a:r>
              <a:rPr b="1" lang="ar-SA" sz="2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نظام التهو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قصد بالتهوية توفير الأكسجين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ذائب في الماء كي تتنفس الأسماك والذي يتم  توفيره بأحد الوسائل التال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  أ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ناء الضوئي للنباتات المائية بالبرك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 ـ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نظام تهوية إضافي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مضخات هوائية خاصة خارج البرك تقوم بضخ الهواء خلال أنابيب مثقبة تمتد داخل البر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ج ـ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نظام تهوية إضافي عبارة ع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ضخات خاصة تعمل كنوافير ف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وسط البرك لتدفع الماء إلى أعلى فيؤدي ذلك إلى امتزاجه بالهواء ومن ثم يعو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للبركة محملاً بالأكسجي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افورة للته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Users\hp\Desktop\صور إستزراع سمكي\inner-sld-img.png"/>
          <p:cNvPicPr/>
          <p:nvPr/>
        </p:nvPicPr>
        <p:blipFill>
          <a:blip r:embed="rId1"/>
          <a:stretch/>
        </p:blipFill>
        <p:spPr>
          <a:xfrm>
            <a:off x="1835280" y="3645000"/>
            <a:ext cx="5400720" cy="2415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7-11-12T04:28:16Z</dcterms:modified>
  <cp:revision>385</cp:revision>
  <dc:subject/>
  <dc:title>Principals of General Zoology (Zoo-103)</dc:title>
</cp:coreProperties>
</file>