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D25-11BB-4BD1-9CCD-2EBA7CEC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74F-E261-4604-A026-EC435180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5FF-9CBE-4CFE-9032-271DE72F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C90-1DD4-474E-BB58-E4323E8D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150-FA41-4B6A-9E16-C03A85FC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3721-8944-48D8-8316-B3FEAE9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5D6B-875F-45D9-920A-43DB847C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805D-03F0-4B5B-84D4-A263362E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FDF8-DA9B-4E64-BE78-9E87548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164-1C59-4784-BE01-B9EAC7C2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022-D6A8-4140-86E2-1D9429F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ABE-8EC6-40E8-A31B-FAFD567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2F5B-D8F8-4C8C-8C84-B85DDCD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97B-8150-4DEC-83F2-07F5CC2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CEF-FB94-4251-AEBD-6C9DB2A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B23C-C605-44DE-972C-E7CA9C81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5807-C5A2-4911-95C9-1E40FA96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3439-02C9-4EFE-96BD-800099F6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FF0D-F44D-4ACF-8595-76DA3565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A64F-BCEA-4B3E-9379-43041605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7CC1-69E1-4072-AEFF-10FED31E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DD94-04FB-47D4-B1E6-6F197E1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434-4844-487A-AEDC-1136A2E7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7D5D-8007-4D48-AE31-5E2B2526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2EB1-057D-4866-B7C8-541236DB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EA9DC-D644-4012-9CEC-655D972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9122-C345-4DE0-8483-1668628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7E12-F66B-40CD-BB9B-253E0E9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C780-91A4-4973-A699-6F26AD5C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C213-D036-4685-BE08-A611FD12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B25C-70F3-4029-B3CC-EE9C0409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37A2-3AF0-4F4B-85AE-11923F8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C727-906E-4EAB-A8C3-63E0405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14C-4229-4CD2-970A-BC36E5E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301A-A683-4FC6-B1BA-59E58D33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09A4-20CC-4F15-8C63-EA78A80A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F303-FBA4-435A-955E-94DFC55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AA11-557A-4498-8858-92129B3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67D7-B268-48FB-835E-696BCFE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B8B9-3809-418F-8977-AA7767D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946C-CC09-4A05-8A27-161BD5F9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A5C9-CC2E-4629-A9BD-642824F5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FC7D-7450-426A-8C6A-861180C4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858-4843-46D5-AC01-0B055C9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A3C-444C-4000-9815-FF7DB712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C04-816D-4F4F-AFED-57BEFDA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9AB-D7AB-42F6-B513-DA4E1FC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8D6-4A90-4EF9-B96F-24FBB0E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56D6-2737-4278-8E7E-586DD17F11E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5F86-3524-4AAC-AACD-CF62D240E59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06C3-9B6C-413D-B289-1E6D07274DA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D3A7-03DA-4210-AB24-CA72A7F95B4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الاستزراع في البرك الترابية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Aquaculture in Earthen Ponds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73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C:\Users\hp\Desktop\صور إستزراع سمكي\large_1238528218.jpg"/>
          <p:cNvPicPr/>
          <p:nvPr/>
        </p:nvPicPr>
        <p:blipFill>
          <a:blip r:embed="rId1"/>
          <a:stretch/>
        </p:blipFill>
        <p:spPr>
          <a:xfrm>
            <a:off x="324000" y="1989000"/>
            <a:ext cx="4248000" cy="242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hp\Desktop\صور إستزراع سمكي\1-fish-farming--1--08052017064055-1000x0.jpg"/>
          <p:cNvPicPr/>
          <p:nvPr/>
        </p:nvPicPr>
        <p:blipFill>
          <a:blip r:embed="rId2"/>
          <a:stretch/>
        </p:blipFill>
        <p:spPr>
          <a:xfrm>
            <a:off x="4427640" y="4292640"/>
            <a:ext cx="4321080" cy="223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hp\Desktop\صور إستزراع سمكي\الثروة-السمكية-كفر-الشيخ.jpg"/>
          <p:cNvPicPr/>
          <p:nvPr/>
        </p:nvPicPr>
        <p:blipFill>
          <a:blip r:embed="rId3"/>
          <a:stretch/>
        </p:blipFill>
        <p:spPr>
          <a:xfrm>
            <a:off x="4500720" y="1989000"/>
            <a:ext cx="4248000" cy="230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C:\Users\hp\Desktop\صور إستزراع سمكي\large_1238528216.jpg"/>
          <p:cNvPicPr/>
          <p:nvPr/>
        </p:nvPicPr>
        <p:blipFill>
          <a:blip r:embed="rId4"/>
          <a:stretch/>
        </p:blipFill>
        <p:spPr>
          <a:xfrm>
            <a:off x="324000" y="4292640"/>
            <a:ext cx="417672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6-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تخصيب الأحوا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إضافة المخصبات العضوية أو غير العضوية إلى البرك وذلك لتساعد على نم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هائمات النباتية  والحيوانية وبعض النباتات المائية ومن ثم توفير كمية أكبر 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غذاء الطبيعي ل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خصبات العضوي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مخصبات العضـوية مخلفات المواشـي والدواجـن نظراً لاحتوائهما عل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ركبات عضـوية عالية يستفاد منها في تخصيب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فوائد المخصبات العضو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كون غذاءً مباشـراً لبعض الأسماك خاصة الأسماك حيوانية التغذية مثل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فضلات الدواج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فع من نسبة نمو الهائمات وعليه تساعد في نمو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ل هذه المركبات العضوية ينتج ثاني أكسيد الكربون الذي يفيد النباتات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عملية البناء الضوئي وإنتاج الأكسجين اللازم لتنفس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ب –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خصبات غير العضو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ها الأسمدة الكيميائية الفوسفاتية والنيتروجينية والجيرية والتي تتحلل إل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ناصرها (النيتروج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فوسفور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بوتاسيو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كالسيو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في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سريعاً وتساعد في نمو الهائمات النبات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فوائد المخصبات غير العضو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فع معدل نمو الهائمات النباتية والنباتات المائية التي تعتبر غذاءً طبيعياً ل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متى تتم إضافة المخصبات؟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تتم إضافة المخصبات بعد الانتهاء من إنشاء الأحواض وقبل تعبئتها بالم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حالة الأحواض القديمة تتم إضافة المخصبات بعد ملئها بالماء على أن تكو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كميات قليلة لأن التربة في هذه الحالة غالباً ما تكون غنية بالمواد العضو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691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7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إنشاء الجسور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ستخدم التربة المزاحة نتيجة الحفر في إنشـاء الجسور الرئيسية (لعبور المعد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سيارات) والجسور الفرعية (عبور الأفراد) والذي يجب الاهتمام بإنشائهما بشك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جيد وذلك بإجراء عملية الدك القوي لها وأن تكون متسعة بالقدر الكافى ( لا تقل ع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للرئيسية ، ولا تقل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للفرع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8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زراعة الأشجار في محيط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يجب زراعة الأشجار العالية ذات الظلال حول المزرعة والتي تعمل كحاجز يزي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من الظل ويقلل من تعرض الأحواض للشمس في فصل الصيف مما يساهم في عد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ارتفاع حرارة المياه ، أما في فصل الشتاء فإن هذه الأشجار تعمل كمصدات للريا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وذلك لمنع وصول تيارات الهواء البارد إلى الأحواض فتقلل من انخفاض درج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حرارة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استزراع في البرك الترابية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Aquaculture in Earthen Ponds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988640"/>
            <a:ext cx="842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تربية الأسماك في البرك </a:t>
            </a:r>
            <a:r>
              <a:rPr b="0" lang="ar-SY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و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ـواض </a:t>
            </a:r>
            <a:r>
              <a:rPr b="0" lang="ar-SY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ابية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arthen Pon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أقدم  طرق الاستزراع السمكي التى مارسها الإنسان وتعتمد إحدى طرق الإستزراع التاليتين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استزراع الموسع أو الإنتشاري (غير المكثف) 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Extensive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لاستزراع شبه المكثف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Semi-intensive culture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( راجع المحاضرة رقم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3495c"/>
                </a:solidFill>
                <a:latin typeface="Constantia"/>
                <a:cs typeface="Majalla UI"/>
              </a:rPr>
              <a:t>متطلبات إنشاء البرك الترابية وتجهيزها للتشغيل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Arial"/>
              </a:rPr>
              <a:t>►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1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مسح الأرض (طوبغرافية الموقع ونوعية التربة)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(راجع المحاضرة رقم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2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حفر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ذلك يستلزم تحديد مواصفات هذه البرك من حيث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شك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(مستطيل – مربع – دائري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البرك المستطيلة هي أفضل أشكال البرك الترابية وذلك لسهولة إدارت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ب-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حجم أو الأبعاد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(الطول – العرض – العم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بالنسبة لطول وعرض البر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فإن ذلك يعود إلى مساحة الأرض المتاحة لإنش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برك ونوع نشاط الإستزراع (برك للتفريخ وإنتاج الزريعة ـ برك للتسمين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أما بالنسبة لعمق البر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فذلك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عتمد على نوع الأسماك المراد تربيتها  والمرحل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مرية لهذه الأسماك  فمثلاً أسماك المبروك العادي وهي في طور الزريع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تتغذى على البلانكتون والبقايا العضوية العالقة في الماء والناتجة م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ل النبات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حيوانات الميتة لذلك فإن أحواض الحضانة لزريعة أسماك المبروك يجب ألا يزي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مقها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. أما الأصبعيات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gerl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أحجام الكبيرة لنفس الأسماك فإنها تتغذي على ديدان القاع والمواد العضو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يلزمها القاع الذي لا يزيد عمقه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من سطح الم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ند تحديد عمق البرك يجب الأخذ في الإعتبار أن يكون ارتفاع حوائط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أعلى من سطح المياه بحد أدنى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في حالة الأحواض الصغيرة و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حواض الكبيرة وعموماً إذا كان الحوض بعمق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 يكون ارتفاع حوائط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6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يل الق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تراوح الميل المناسب لمسطح قاع البرك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د –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دد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وقف عدد البرك على مساحة الأرض المتاحة وعلى نظام الإستزراع ( متكام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grated cultur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و غير متكامل 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n-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grated cultur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3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ري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أكثر من نظام أو وسيلة لنقل المياه إلى الأحواض (الري) وفيما يلي أه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c0000"/>
                </a:solidFill>
                <a:latin typeface="Constantia"/>
                <a:cs typeface="Majalla UI"/>
              </a:rPr>
              <a:t>الري إحادي المصد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ستعمل ماسورة من مادة غير قابلة للصدأ مثل البلاستيك المضغوط أو مادة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ly-Vinyl Chlorid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ذات قطر معين (يختلف باختلاف حجم البركة) تتص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ماسورة بمصدر المياه وتمر تحت سطح الجسر بجانب الأحواض إلى أن تصل إل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حائط عند الجهة الأعلى للبركة لتصب المـاء من أعلى في البركة ويفضل عم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ساحة صغيرة من الخرسانة أو الحجارة أحيانا عند مصب الماء في البركة لمن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دوث حفرة في القاع نتيجة صب المياه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ري المتواز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 تمتد ماسـورة رئيسة من مصدر المياه تحت سطح الجسر بمحاذاة البرك ويركب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يها مواسيرفرعية ذات قطر أصغر لتمر الفروع إلى البركة أو إلى عدة بر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764640"/>
            <a:ext cx="8424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نظام الري المتواز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ري بنظام البوا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 يتم تشييد بوابة ذات جدار مزدوج أحدهما من ألواح حديدية أو خشبية والثان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ن السلك المجلفن أو البلاستيك عند الجانب الأعلى من البركة بحيث يسمح للبوا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بالحركة لأعلى ولأسفل ومن ثم يمر الماء إلى البركة من خزان أرضي للماء يق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خلف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Untitled-15"/>
          <p:cNvPicPr/>
          <p:nvPr/>
        </p:nvPicPr>
        <p:blipFill>
          <a:blip r:embed="rId1"/>
          <a:stretch/>
        </p:blipFill>
        <p:spPr>
          <a:xfrm>
            <a:off x="1619280" y="765000"/>
            <a:ext cx="5761080" cy="2376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ري بنظام البواب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4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صر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لنسبة لمصرف المياه فعادة يكون عند الجهة المقابلة لدخولها والتي تكون عند المستوى الأدنى لقاع البركة حتى يسهل تجميع المياه وانسيابها . وفيما يلي أهم طرق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إحادي المخرج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عمل حوض صغيرمن الأسمنت أو الحجارة في الجانب الأدنى من البرك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C:\Users\hp\Desktop\صور إستزراع سمكي\PHWFKashmirDachigamTroutFarmcreditTWEECPhotosApril2010.jpg"/>
          <p:cNvPicPr/>
          <p:nvPr/>
        </p:nvPicPr>
        <p:blipFill>
          <a:blip r:embed="rId1"/>
          <a:stretch/>
        </p:blipFill>
        <p:spPr>
          <a:xfrm>
            <a:off x="1835280" y="836640"/>
            <a:ext cx="547344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764640"/>
            <a:ext cx="83534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جانب الحائط يتراوح عمقها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0.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إلى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ثم تركب ماسورة الصرف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الحائط لنقل مياه الحوض إلى مجرى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المتواز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الصرف عن طريق خط مواسير متوازي يمر من الجانب الأدنى من البركة إ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قنوات الصرف على أن تزود فتحات هذه المواسير بشبكات لمنع تسرب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بنظام البوا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شبه الري بنظام البوابة حيث بفتح البوابة يمر الماء إلى قنوات الصرف أو إلى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خزان لماء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5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تهو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تهوية توفير الأكسجين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ذائب في الماء كي تتنفس الأسماك والذي يتم  توفيره بأحد الوسائل التال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  أ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ناء الضوئي للنباتات المائية بالبرك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ـ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نظام تهوية إضافي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مضخات هوائية خاصة خارج البرك تقوم بضخ الهواء خلال أنابيب مثقبة تمتد داخل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ـ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نظام تهوية إضافي عبارة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ضخات خاصة تعمل كنوافير ف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وسط البرك لتدفع الماء إلى أعلى فيؤدي ذلك إلى امتزاجه بالهواء ومن ثم يعو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للبركة محملاً بالأكسجي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افورة للته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Users\hp\Desktop\صور إستزراع سمكي\inner-sld-img.png"/>
          <p:cNvPicPr/>
          <p:nvPr/>
        </p:nvPicPr>
        <p:blipFill>
          <a:blip r:embed="rId1"/>
          <a:stretch/>
        </p:blipFill>
        <p:spPr>
          <a:xfrm>
            <a:off x="1835280" y="3645000"/>
            <a:ext cx="5400720" cy="241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7-11-12T04:28:16Z</dcterms:modified>
  <cp:revision>385</cp:revision>
  <dc:subject/>
  <dc:title>Principals of General Zoology (Zoo-103)</dc:title>
</cp:coreProperties>
</file>