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3AD-3796-4B41-88E6-50F60BB9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F32-38BF-4A5E-BE8B-8FF62BD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8FE-CA54-4EB2-B972-73B5F2D9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53A-0F79-40D3-B05F-A40E9B9D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9DD-2F81-436C-A58A-8004B367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929-0B5F-4742-8508-40A9981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651-E4A6-43EA-9549-127EDF84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B45-06A4-403D-BC9A-0DC3472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6F0-D39D-484F-B4F8-788A265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FE5-E2C0-473F-B279-BA589FA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7AF-03D6-48EF-AEC8-BA68269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C0D-7DD0-4B55-AA56-E8576C7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67C2-4FB3-46E0-BBE8-4CE0526E75D8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6209-AAC4-4289-99D7-023D69687A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ساد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2987640" y="765000"/>
            <a:ext cx="3600360" cy="73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مؤشرات الموضوعي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1979640" y="1989000"/>
            <a:ext cx="53290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ي السلوكيات الكلامية التي تخرج عن نطاق الكلام العادي المتفق عليه بين النا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5"/>
          <p:cNvSpPr/>
          <p:nvPr/>
        </p:nvSpPr>
        <p:spPr>
          <a:xfrm>
            <a:off x="2916360" y="3500280"/>
            <a:ext cx="367164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دم مناسبة الكلام لعمر الطف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نخفاض الصوت طوال فترة الكلام ,أو ارتفاعه ”رتابة الصوت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ذف –إبدال – إضاف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خن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2987640" y="765000"/>
            <a:ext cx="3600360" cy="73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مؤشرات الاجتماعية 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3"/>
          <p:cNvSpPr/>
          <p:nvPr/>
        </p:nvSpPr>
        <p:spPr>
          <a:xfrm>
            <a:off x="2411280" y="2205000"/>
            <a:ext cx="4321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تعلق هذه المؤشرات بعملية التواصل بين الفرد والاخرين المحيطين فيه ومدى تأثيرأختلاف كلامه عن العادي على هذه العم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4"/>
          <p:cNvSpPr/>
          <p:nvPr/>
        </p:nvSpPr>
        <p:spPr>
          <a:xfrm>
            <a:off x="3419640" y="3789360"/>
            <a:ext cx="273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ردة الفعل المتوقعة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5"/>
          <p:cNvSpPr/>
          <p:nvPr/>
        </p:nvSpPr>
        <p:spPr>
          <a:xfrm>
            <a:off x="1908000" y="4869000"/>
            <a:ext cx="468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ضية اللهج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132000" y="1916280"/>
            <a:ext cx="3384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شخيص اضطرابات النطق التخاط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3"/>
          <p:cNvSpPr/>
          <p:nvPr/>
        </p:nvSpPr>
        <p:spPr>
          <a:xfrm>
            <a:off x="6012000" y="3068640"/>
            <a:ext cx="208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حث الاجتماع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4"/>
          <p:cNvSpPr/>
          <p:nvPr/>
        </p:nvSpPr>
        <p:spPr>
          <a:xfrm>
            <a:off x="755640" y="3141720"/>
            <a:ext cx="208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فحص الطب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6227640" y="3933720"/>
            <a:ext cx="1729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فحص النفس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6"/>
          <p:cNvSpPr/>
          <p:nvPr/>
        </p:nvSpPr>
        <p:spPr>
          <a:xfrm>
            <a:off x="1116000" y="4076640"/>
            <a:ext cx="1727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قييم الأداء الأكادي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5003640" y="1700280"/>
            <a:ext cx="151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/عبدالعزيز الشخ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1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لاح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1-09T08:48:32Z</dcterms:modified>
  <cp:revision>3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