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739-4FA4-45D3-95D7-886CF10F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8B8-D0E4-48C3-AD8E-B2D3F88E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119-6BA6-4556-9194-0E1AF2C0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BA7-735A-4A32-9B80-55819B58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BCC-C595-4084-AD3B-8259F66B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58F-E881-4A50-B8AD-38563F6D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2F1-9C0E-47D5-9D30-9C9C3A12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160-3514-4990-A690-3E71E338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A71-2485-4BA4-B132-582626E9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ACA-A95B-4B9B-8E8B-22239DB2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A3E-5428-4E03-B2E7-9DD3460D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B8E-80CE-4183-BE35-41B38830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39A4-999F-4BF4-87D0-F53D6D133722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2305-5A59-45EA-B7F3-DCBD22E9853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2857680" y="2071800"/>
            <a:ext cx="40003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محاضرة السادس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2"/>
          <p:cNvSpPr/>
          <p:nvPr/>
        </p:nvSpPr>
        <p:spPr>
          <a:xfrm>
            <a:off x="2987640" y="765000"/>
            <a:ext cx="3600360" cy="73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مؤشرات الموضوعية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ربع نص 4"/>
          <p:cNvSpPr/>
          <p:nvPr/>
        </p:nvSpPr>
        <p:spPr>
          <a:xfrm>
            <a:off x="1979640" y="1989000"/>
            <a:ext cx="53290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ي السلوكيات الكلامية التي تخرج عن نطاق الكلام العادي المتفق عليه بين الناس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ربع نص 5"/>
          <p:cNvSpPr/>
          <p:nvPr/>
        </p:nvSpPr>
        <p:spPr>
          <a:xfrm>
            <a:off x="2916360" y="3500280"/>
            <a:ext cx="3671640" cy="302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عدم مناسبة الكلام لعمر الطف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نخفاض الصوت طوال فترة الكلام ,أو ارتفاعه ”رتابة الصوت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حذف –إبدال – إضاف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خنف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2"/>
          <p:cNvSpPr/>
          <p:nvPr/>
        </p:nvSpPr>
        <p:spPr>
          <a:xfrm>
            <a:off x="2987640" y="765000"/>
            <a:ext cx="3600360" cy="73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مؤشرات الاجتماعية 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3"/>
          <p:cNvSpPr/>
          <p:nvPr/>
        </p:nvSpPr>
        <p:spPr>
          <a:xfrm>
            <a:off x="2411280" y="2205000"/>
            <a:ext cx="4321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تعلق هذه المؤشرات بعملية التواصل بين الفرد والاخرين المحيطين فيه ومدى تأثيرأختلاف كلامه عن العادي على هذه العم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4"/>
          <p:cNvSpPr/>
          <p:nvPr/>
        </p:nvSpPr>
        <p:spPr>
          <a:xfrm>
            <a:off x="3419640" y="3789360"/>
            <a:ext cx="2736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ردة الفعل المتوقعة 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5"/>
          <p:cNvSpPr/>
          <p:nvPr/>
        </p:nvSpPr>
        <p:spPr>
          <a:xfrm>
            <a:off x="1908000" y="4869000"/>
            <a:ext cx="4680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قضية اللهجا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2"/>
          <p:cNvSpPr/>
          <p:nvPr/>
        </p:nvSpPr>
        <p:spPr>
          <a:xfrm>
            <a:off x="3132000" y="1916280"/>
            <a:ext cx="3384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شخيص اضطرابات النطق التخاط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ربع نص 3"/>
          <p:cNvSpPr/>
          <p:nvPr/>
        </p:nvSpPr>
        <p:spPr>
          <a:xfrm>
            <a:off x="6012000" y="3068640"/>
            <a:ext cx="2089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بحث الاجتماع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4"/>
          <p:cNvSpPr/>
          <p:nvPr/>
        </p:nvSpPr>
        <p:spPr>
          <a:xfrm>
            <a:off x="755640" y="3141720"/>
            <a:ext cx="2087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فحص الطب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ربع نص 5"/>
          <p:cNvSpPr/>
          <p:nvPr/>
        </p:nvSpPr>
        <p:spPr>
          <a:xfrm>
            <a:off x="6227640" y="3933720"/>
            <a:ext cx="1729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فحص النفس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6"/>
          <p:cNvSpPr/>
          <p:nvPr/>
        </p:nvSpPr>
        <p:spPr>
          <a:xfrm>
            <a:off x="1116000" y="4076640"/>
            <a:ext cx="1727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قييم الأداء الأكاديم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ربع نص 2"/>
          <p:cNvSpPr/>
          <p:nvPr/>
        </p:nvSpPr>
        <p:spPr>
          <a:xfrm>
            <a:off x="5003640" y="1700280"/>
            <a:ext cx="15130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ضطرابات النطق والكلام /عبدالعزيز الشخ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36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41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49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لاح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DELL</dc:creator>
  <dc:description/>
  <dc:language>en-US</dc:language>
  <cp:lastModifiedBy>DELL</cp:lastModifiedBy>
  <dcterms:modified xsi:type="dcterms:W3CDTF">2015-11-09T08:48:32Z</dcterms:modified>
  <cp:revision>39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