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E918-51A3-4FE0-85F4-808C05226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420F-D951-469B-8274-7CF49D74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66CB-6FCF-4056-B009-824BB657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4104-BEBE-44F1-8D06-B9F45046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8241-ED45-4783-B2AA-3A8609C9B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97BA-4186-4D6A-A91C-59F0A6CF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D564-FF60-4414-8442-F8E74870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B655-CCAB-4C7C-B524-95A476A9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706B-8AC5-4380-AD48-BCAF6D1A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084C-52A6-467B-B34F-7144CB38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FDDA-4F70-4B63-A703-BE3E5C89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F624-5031-4CAA-8547-F87CD86C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6AEE-0B4A-4B97-B942-3BF9B487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FCAB-5736-44D8-B35F-CBB5C99B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90EA-B88A-4C1E-99B4-8271935B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0B71-7029-4B86-8E96-C6E6B830D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3D61-0A80-4C68-89F6-B227800D2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3B5F2-9EA8-4243-912B-6A627AEB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A7F7C-8825-4E3D-92DC-0CADACBE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C9681-B568-493F-B718-108968BA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8E13A-6E2D-4ABC-A5E2-B9B8F85F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A3F95-CEA4-4DED-B0A9-2B70B28F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0A78-9304-4624-AB95-2C916D43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7326F-B8FA-47FF-9A1D-8013B8B5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D53CE-844C-4D6C-83E8-65771EC2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06346-CDE4-4E6D-AE53-01239026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4AC5D-4D72-4C05-9806-48977774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D350F-79E6-422C-B989-57F6AC19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723B0-F5A7-42F6-A3C3-D4119A8D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2C550-1BF5-4A34-98EF-77FBB0AD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B096F-3AAE-421E-994B-D02F245E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14FA4-3494-476A-9BB2-B3801C71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BAD7D-D0ED-4C40-8923-AA214537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0EE6-00D3-464A-98AA-03384665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FAADE-9FD2-4259-A363-22AADBBF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966E2-EACA-4B96-9F64-7BB3CECE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E07C8-40BD-4B4B-9A98-8E0AF722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F17A9-4672-4428-A703-73CAC480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F0CA3-7155-471E-9362-BE308016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3C6C3-A4FE-4802-BEAF-A8BADD7B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2102E-F887-475F-A7E9-452A37CF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C5159-7513-4CA5-83B3-96A22F742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4DC5F-8467-4D50-9C33-163E0BC8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2495-D138-45C0-A2A9-61D6661B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D2CE-31CF-46CC-8B29-2F87BC5C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5A6E-BBC7-47CF-9C65-DE1B5245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D447-28C9-4F5A-90AF-74CCB21C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352C-B1A1-45A5-B2F9-D8F4A464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E79D-F73A-4698-824A-658A6287ECB2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5958-0BDC-4D52-9F26-8DA2429CF400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5246-C49C-4AA1-A3F4-C3A92C29BB3D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مستطيل ذو زاوية واحدة مخدوشة ودائرية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مثلث قائم الزاوية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شكل حر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شكل حر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E301-BC6F-4F0F-A46D-C5016B889D51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مربع نص 1"/>
          <p:cNvGrpSpPr/>
          <p:nvPr/>
        </p:nvGrpSpPr>
        <p:grpSpPr>
          <a:xfrm>
            <a:off x="3925800" y="2511360"/>
            <a:ext cx="1944720" cy="811440"/>
            <a:chOff x="3925800" y="2511360"/>
            <a:chExt cx="1944720" cy="811440"/>
          </a:xfrm>
        </p:grpSpPr>
        <p:pic>
          <p:nvPicPr>
            <p:cNvPr id="196" name="مربع نص 1" descr=""/>
            <p:cNvPicPr/>
            <p:nvPr/>
          </p:nvPicPr>
          <p:blipFill>
            <a:blip r:embed="rId1"/>
            <a:stretch/>
          </p:blipFill>
          <p:spPr>
            <a:xfrm>
              <a:off x="3925800" y="2511360"/>
              <a:ext cx="194472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3995640" y="2565360"/>
              <a:ext cx="180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0000"/>
                  </a:solidFill>
                  <a:latin typeface="Constantia"/>
                </a:rPr>
                <a:t>دور معلم التربية الخاصة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مربع نص 4"/>
          <p:cNvGrpSpPr/>
          <p:nvPr/>
        </p:nvGrpSpPr>
        <p:grpSpPr>
          <a:xfrm>
            <a:off x="3273480" y="706320"/>
            <a:ext cx="3170160" cy="811440"/>
            <a:chOff x="3273480" y="706320"/>
            <a:chExt cx="3170160" cy="811440"/>
          </a:xfrm>
        </p:grpSpPr>
        <p:pic>
          <p:nvPicPr>
            <p:cNvPr id="199" name="مربع نص 4" descr=""/>
            <p:cNvPicPr/>
            <p:nvPr/>
          </p:nvPicPr>
          <p:blipFill>
            <a:blip r:embed="rId1"/>
            <a:stretch/>
          </p:blipFill>
          <p:spPr>
            <a:xfrm>
              <a:off x="3273480" y="706320"/>
              <a:ext cx="317016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348000" y="765000"/>
              <a:ext cx="302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0000"/>
                  </a:solidFill>
                  <a:latin typeface="Constantia"/>
                </a:rPr>
                <a:t>استراتيجيات تنمية مهارات السمع والكلام </a:t>
              </a: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مربع نص 5"/>
          <p:cNvGrpSpPr/>
          <p:nvPr/>
        </p:nvGrpSpPr>
        <p:grpSpPr>
          <a:xfrm>
            <a:off x="2341440" y="1725480"/>
            <a:ext cx="4937400" cy="804960"/>
            <a:chOff x="2341440" y="1725480"/>
            <a:chExt cx="4937400" cy="804960"/>
          </a:xfrm>
        </p:grpSpPr>
        <p:pic>
          <p:nvPicPr>
            <p:cNvPr id="202" name="مربع نص 5" descr=""/>
            <p:cNvPicPr/>
            <p:nvPr/>
          </p:nvPicPr>
          <p:blipFill>
            <a:blip r:embed="rId2"/>
            <a:stretch/>
          </p:blipFill>
          <p:spPr>
            <a:xfrm>
              <a:off x="2341440" y="1725480"/>
              <a:ext cx="49374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2411280" y="1773360"/>
              <a:ext cx="475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</a:rPr>
                <a:t>ا أولا: لتأكد من عمل المعين السمعي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</a:rPr>
                <a:t>(اختبار لنج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مربع نص 3"/>
          <p:cNvGrpSpPr/>
          <p:nvPr/>
        </p:nvGrpSpPr>
        <p:grpSpPr>
          <a:xfrm>
            <a:off x="3560760" y="2876400"/>
            <a:ext cx="3211560" cy="525600"/>
            <a:chOff x="3560760" y="2876400"/>
            <a:chExt cx="3211560" cy="525600"/>
          </a:xfrm>
        </p:grpSpPr>
        <p:pic>
          <p:nvPicPr>
            <p:cNvPr id="205" name="مربع نص 3" descr=""/>
            <p:cNvPicPr/>
            <p:nvPr/>
          </p:nvPicPr>
          <p:blipFill>
            <a:blip r:embed="rId3"/>
            <a:stretch/>
          </p:blipFill>
          <p:spPr>
            <a:xfrm>
              <a:off x="3560760" y="2876400"/>
              <a:ext cx="321156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3635280" y="2924280"/>
              <a:ext cx="30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</a:rPr>
                <a:t>هناك طريقتين 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مربع نص 6"/>
          <p:cNvGrpSpPr/>
          <p:nvPr/>
        </p:nvGrpSpPr>
        <p:grpSpPr>
          <a:xfrm>
            <a:off x="5437080" y="3956040"/>
            <a:ext cx="3213360" cy="530280"/>
            <a:chOff x="5437080" y="3956040"/>
            <a:chExt cx="3213360" cy="530280"/>
          </a:xfrm>
        </p:grpSpPr>
        <p:pic>
          <p:nvPicPr>
            <p:cNvPr id="208" name="مربع نص 6" descr=""/>
            <p:cNvPicPr/>
            <p:nvPr/>
          </p:nvPicPr>
          <p:blipFill>
            <a:blip r:embed="rId4"/>
            <a:stretch/>
          </p:blipFill>
          <p:spPr>
            <a:xfrm>
              <a:off x="5437080" y="3956040"/>
              <a:ext cx="321336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508720" y="4005360"/>
              <a:ext cx="30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</a:rPr>
                <a:t>الوعي بالصوت واكتشافه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مربع نص 7"/>
          <p:cNvGrpSpPr/>
          <p:nvPr/>
        </p:nvGrpSpPr>
        <p:grpSpPr>
          <a:xfrm>
            <a:off x="1255680" y="3956040"/>
            <a:ext cx="3213000" cy="530280"/>
            <a:chOff x="1255680" y="3956040"/>
            <a:chExt cx="3213000" cy="530280"/>
          </a:xfrm>
        </p:grpSpPr>
        <p:pic>
          <p:nvPicPr>
            <p:cNvPr id="211" name="مربع نص 7" descr=""/>
            <p:cNvPicPr/>
            <p:nvPr/>
          </p:nvPicPr>
          <p:blipFill>
            <a:blip r:embed="rId5"/>
            <a:stretch/>
          </p:blipFill>
          <p:spPr>
            <a:xfrm>
              <a:off x="1255680" y="3956040"/>
              <a:ext cx="321300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1332000" y="4005360"/>
              <a:ext cx="30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</a:rPr>
                <a:t>التمييز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http://alami.ae/assets/images/aghizati/1.jpg"/>
          <p:cNvPicPr/>
          <p:nvPr/>
        </p:nvPicPr>
        <p:blipFill>
          <a:blip r:embed="rId1"/>
          <a:stretch/>
        </p:blipFill>
        <p:spPr>
          <a:xfrm>
            <a:off x="4572000" y="1197000"/>
            <a:ext cx="3745080" cy="3240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http://alami.ae/assets/images/aghizati/2.jpg"/>
          <p:cNvPicPr/>
          <p:nvPr/>
        </p:nvPicPr>
        <p:blipFill>
          <a:blip r:embed="rId2"/>
          <a:stretch/>
        </p:blipFill>
        <p:spPr>
          <a:xfrm>
            <a:off x="1042920" y="1197000"/>
            <a:ext cx="34578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http://t2.gstatic.com/images?q=tbn:ANd9GcR-H9DvvL0mDExgsAtHE-mM9swns9Q02Mot8XzpgqNH9mqTcurhmsHAFAE"/>
          <p:cNvPicPr/>
          <p:nvPr/>
        </p:nvPicPr>
        <p:blipFill>
          <a:blip r:embed="rId1"/>
          <a:stretch/>
        </p:blipFill>
        <p:spPr>
          <a:xfrm>
            <a:off x="6948360" y="1413000"/>
            <a:ext cx="1028880" cy="25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6" name="Picture 4" descr="http://t2.gstatic.com/images?q=tbn:ANd9GcQs4kP6vyL1yfZpRxn3cJEaZpi067fyOJBvrpUkmy0i1kxIA0up"/>
          <p:cNvPicPr/>
          <p:nvPr/>
        </p:nvPicPr>
        <p:blipFill>
          <a:blip r:embed="rId2"/>
          <a:stretch/>
        </p:blipFill>
        <p:spPr>
          <a:xfrm>
            <a:off x="4211640" y="1268280"/>
            <a:ext cx="1704960" cy="268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7" name="Picture 6" descr="http://t1.gstatic.com/images?q=tbn:ANd9GcRofahNNGgQMz0Ep5u5MeMarX0BpFTRs9W7znirgCwzEieJFJvr"/>
          <p:cNvPicPr/>
          <p:nvPr/>
        </p:nvPicPr>
        <p:blipFill>
          <a:blip r:embed="rId3"/>
          <a:stretch/>
        </p:blipFill>
        <p:spPr>
          <a:xfrm>
            <a:off x="755640" y="1700280"/>
            <a:ext cx="2619360" cy="174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مربع نص 1"/>
          <p:cNvGrpSpPr/>
          <p:nvPr/>
        </p:nvGrpSpPr>
        <p:grpSpPr>
          <a:xfrm>
            <a:off x="2341440" y="1725480"/>
            <a:ext cx="4937400" cy="1078200"/>
            <a:chOff x="2341440" y="1725480"/>
            <a:chExt cx="4937400" cy="1078200"/>
          </a:xfrm>
        </p:grpSpPr>
        <p:pic>
          <p:nvPicPr>
            <p:cNvPr id="219" name="مربع نص 1" descr=""/>
            <p:cNvPicPr/>
            <p:nvPr/>
          </p:nvPicPr>
          <p:blipFill>
            <a:blip r:embed="rId1"/>
            <a:stretch/>
          </p:blipFill>
          <p:spPr>
            <a:xfrm>
              <a:off x="2341440" y="1725480"/>
              <a:ext cx="4937400" cy="10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2411280" y="1773360"/>
              <a:ext cx="4753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</a:rPr>
                <a:t>ثانياَ: التأكد من جاهزية الطالب للأشتراك في أنشطة تنمية المهارات لسمعية والكلامية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مربع نص 2"/>
          <p:cNvGrpSpPr/>
          <p:nvPr/>
        </p:nvGrpSpPr>
        <p:grpSpPr>
          <a:xfrm>
            <a:off x="2481120" y="3376440"/>
            <a:ext cx="4937400" cy="811440"/>
            <a:chOff x="2481120" y="3376440"/>
            <a:chExt cx="4937400" cy="811440"/>
          </a:xfrm>
        </p:grpSpPr>
        <p:pic>
          <p:nvPicPr>
            <p:cNvPr id="222" name="مربع نص 2" descr=""/>
            <p:cNvPicPr/>
            <p:nvPr/>
          </p:nvPicPr>
          <p:blipFill>
            <a:blip r:embed="rId2"/>
            <a:stretch/>
          </p:blipFill>
          <p:spPr>
            <a:xfrm>
              <a:off x="2481120" y="3376440"/>
              <a:ext cx="493740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2556000" y="3429000"/>
              <a:ext cx="475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</a:rPr>
                <a:t>ثالثا : تكرار المعلوات من قبل الطفل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19:14:57Z</dcterms:created>
  <dc:creator>MAHA</dc:creator>
  <dc:description/>
  <dc:language>en-US</dc:language>
  <cp:lastModifiedBy>DELL</cp:lastModifiedBy>
  <dcterms:modified xsi:type="dcterms:W3CDTF">2011-11-27T21:13:35Z</dcterms:modified>
  <cp:revision>15</cp:revision>
  <dc:subject/>
  <dc:title>الشريحة 1</dc:title>
</cp:coreProperties>
</file>