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EA0-94E2-4CFA-B36E-1BDCFCAA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0621-431D-41C4-BE86-0AE18403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6C8-346A-4F0E-A884-5B97C150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7EA9-9E85-4A3B-93E7-2C7F081A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612B-5D03-4449-96A1-93FBA5EB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0D5D-E48B-459C-8BDA-19DF6A4C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6DFD-D9EC-4C18-8AB5-CFA4F387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55F1-7C90-40D0-886D-20B93094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3AC1-15D5-412D-97CC-82C231F6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4FBF-C323-405F-83D7-55012FD2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5393-0F5E-4861-830D-EE5EC2DC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E65-F721-411C-B81A-268699AF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AE9C-B199-4543-8D87-F4CF82E7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75D5-FCA6-4D7F-898D-9E431619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1283-0845-4B55-BEFD-89DDB403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DDB9-297A-41FF-BC52-F96FE984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1246-AAD1-4A2A-BE7A-828989BF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725A0-E631-4943-8C2B-2D7524F3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AA27C-2C39-4670-965D-0DA6441A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662DB-FDCA-424E-9487-841757AD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6666D-23B0-496B-89D2-4AA9F2B6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E937F-5813-46A6-9140-D54C6600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999-5ED8-4F0C-9555-508F0FD4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7EC78-A90A-4A85-AD03-1717B0F3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1F148-26C2-497A-B138-59F59C6D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6B4D0-C84E-460D-81A8-95B32346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D694E-EAB9-40BC-B7D6-94FD0198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2D8F-796F-4320-A5C8-884B557A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17F81-580F-4F8F-9B67-D6B8B50A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A3099-EFB6-4C38-8694-17B6ADCA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1AE4D-2484-4A97-B0B0-FE98C091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CFC5E-BBD3-4800-8964-7B324CB5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2B72D-3AA2-44F7-9CE7-289EAF78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A0E-556A-44FF-82FB-D0C99ABA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03046-2C50-417C-BC39-45878297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AA796-2064-426C-8C6F-9D467B2F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A5111-59DB-4D39-B97B-929FB3A4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EDEAE-8C52-4FC9-B6F8-6CF96168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84910-2993-4A5D-A33D-7AA85325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0D7A8-7E57-44B5-B1EA-0C6CDE55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5B639-2EB7-482F-AF00-EE7A10B9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1E376-D46C-458A-9CB5-F891B20A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BFE1D-FE91-40DC-9EC7-29304252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7E5-0392-4E13-95BF-C8C9069D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DDF-AAA5-49CB-8739-C523A797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46A-07B2-4F1E-AD03-FE4F2413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21B-479E-4D7C-A364-AF288DCC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85C-A74E-4DC5-B612-095C718E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E378-8D01-4485-96AF-48DE5222C1E4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E78D-9B8D-4B46-90DB-32FA75B25773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8537-F85E-49B8-9157-094FA473C2AD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64B3-86B5-4A11-B025-16254E110826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مربع نص 1"/>
          <p:cNvGrpSpPr/>
          <p:nvPr/>
        </p:nvGrpSpPr>
        <p:grpSpPr>
          <a:xfrm>
            <a:off x="3925800" y="2511360"/>
            <a:ext cx="1944720" cy="811440"/>
            <a:chOff x="3925800" y="2511360"/>
            <a:chExt cx="1944720" cy="811440"/>
          </a:xfrm>
        </p:grpSpPr>
        <p:pic>
          <p:nvPicPr>
            <p:cNvPr id="196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3925800" y="2511360"/>
              <a:ext cx="194472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995640" y="2565360"/>
              <a:ext cx="18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Constantia"/>
                </a:rPr>
                <a:t>دور معلم التربية الخاصة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مربع نص 4"/>
          <p:cNvGrpSpPr/>
          <p:nvPr/>
        </p:nvGrpSpPr>
        <p:grpSpPr>
          <a:xfrm>
            <a:off x="3273480" y="706320"/>
            <a:ext cx="3170160" cy="811440"/>
            <a:chOff x="3273480" y="706320"/>
            <a:chExt cx="3170160" cy="811440"/>
          </a:xfrm>
        </p:grpSpPr>
        <p:pic>
          <p:nvPicPr>
            <p:cNvPr id="199" name="مربع نص 4" descr=""/>
            <p:cNvPicPr/>
            <p:nvPr/>
          </p:nvPicPr>
          <p:blipFill>
            <a:blip r:embed="rId1"/>
            <a:stretch/>
          </p:blipFill>
          <p:spPr>
            <a:xfrm>
              <a:off x="3273480" y="706320"/>
              <a:ext cx="317016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48000" y="76500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Constantia"/>
                </a:rPr>
                <a:t>استراتيجيات تنمية مهارات السمع والكلام </a:t>
              </a: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مربع نص 5"/>
          <p:cNvGrpSpPr/>
          <p:nvPr/>
        </p:nvGrpSpPr>
        <p:grpSpPr>
          <a:xfrm>
            <a:off x="2341440" y="1725480"/>
            <a:ext cx="4937400" cy="804960"/>
            <a:chOff x="2341440" y="1725480"/>
            <a:chExt cx="4937400" cy="804960"/>
          </a:xfrm>
        </p:grpSpPr>
        <p:pic>
          <p:nvPicPr>
            <p:cNvPr id="202" name="مربع نص 5" descr=""/>
            <p:cNvPicPr/>
            <p:nvPr/>
          </p:nvPicPr>
          <p:blipFill>
            <a:blip r:embed="rId2"/>
            <a:stretch/>
          </p:blipFill>
          <p:spPr>
            <a:xfrm>
              <a:off x="2341440" y="1725480"/>
              <a:ext cx="49374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411280" y="1773360"/>
              <a:ext cx="47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ا أولا: لتأكد من عمل المعين السمعي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(اختبار لنج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مربع نص 3"/>
          <p:cNvGrpSpPr/>
          <p:nvPr/>
        </p:nvGrpSpPr>
        <p:grpSpPr>
          <a:xfrm>
            <a:off x="3560760" y="2876400"/>
            <a:ext cx="3211560" cy="525600"/>
            <a:chOff x="3560760" y="2876400"/>
            <a:chExt cx="3211560" cy="525600"/>
          </a:xfrm>
        </p:grpSpPr>
        <p:pic>
          <p:nvPicPr>
            <p:cNvPr id="205" name="مربع نص 3" descr=""/>
            <p:cNvPicPr/>
            <p:nvPr/>
          </p:nvPicPr>
          <p:blipFill>
            <a:blip r:embed="rId3"/>
            <a:stretch/>
          </p:blipFill>
          <p:spPr>
            <a:xfrm>
              <a:off x="3560760" y="2876400"/>
              <a:ext cx="32115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635280" y="292428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هناك طريقتين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مربع نص 6"/>
          <p:cNvGrpSpPr/>
          <p:nvPr/>
        </p:nvGrpSpPr>
        <p:grpSpPr>
          <a:xfrm>
            <a:off x="5437080" y="3956040"/>
            <a:ext cx="3213360" cy="530280"/>
            <a:chOff x="5437080" y="3956040"/>
            <a:chExt cx="3213360" cy="530280"/>
          </a:xfrm>
        </p:grpSpPr>
        <p:pic>
          <p:nvPicPr>
            <p:cNvPr id="208" name="مربع نص 6" descr=""/>
            <p:cNvPicPr/>
            <p:nvPr/>
          </p:nvPicPr>
          <p:blipFill>
            <a:blip r:embed="rId4"/>
            <a:stretch/>
          </p:blipFill>
          <p:spPr>
            <a:xfrm>
              <a:off x="5437080" y="3956040"/>
              <a:ext cx="32133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508720" y="4005360"/>
              <a:ext cx="30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الوعي بالصوت واكتشاف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مربع نص 7"/>
          <p:cNvGrpSpPr/>
          <p:nvPr/>
        </p:nvGrpSpPr>
        <p:grpSpPr>
          <a:xfrm>
            <a:off x="1255680" y="3956040"/>
            <a:ext cx="3213000" cy="530280"/>
            <a:chOff x="1255680" y="3956040"/>
            <a:chExt cx="3213000" cy="530280"/>
          </a:xfrm>
        </p:grpSpPr>
        <p:pic>
          <p:nvPicPr>
            <p:cNvPr id="211" name="مربع نص 7" descr=""/>
            <p:cNvPicPr/>
            <p:nvPr/>
          </p:nvPicPr>
          <p:blipFill>
            <a:blip r:embed="rId5"/>
            <a:stretch/>
          </p:blipFill>
          <p:spPr>
            <a:xfrm>
              <a:off x="1255680" y="3956040"/>
              <a:ext cx="32130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332000" y="4005360"/>
              <a:ext cx="30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التميي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alami.ae/assets/images/aghizati/1.jpg"/>
          <p:cNvPicPr/>
          <p:nvPr/>
        </p:nvPicPr>
        <p:blipFill>
          <a:blip r:embed="rId1"/>
          <a:stretch/>
        </p:blipFill>
        <p:spPr>
          <a:xfrm>
            <a:off x="4572000" y="1197000"/>
            <a:ext cx="3745080" cy="3240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ttp://alami.ae/assets/images/aghizati/2.jpg"/>
          <p:cNvPicPr/>
          <p:nvPr/>
        </p:nvPicPr>
        <p:blipFill>
          <a:blip r:embed="rId2"/>
          <a:stretch/>
        </p:blipFill>
        <p:spPr>
          <a:xfrm>
            <a:off x="1042920" y="1197000"/>
            <a:ext cx="3457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t2.gstatic.com/images?q=tbn:ANd9GcR-H9DvvL0mDExgsAtHE-mM9swns9Q02Mot8XzpgqNH9mqTcurhmsHAFAE"/>
          <p:cNvPicPr/>
          <p:nvPr/>
        </p:nvPicPr>
        <p:blipFill>
          <a:blip r:embed="rId1"/>
          <a:stretch/>
        </p:blipFill>
        <p:spPr>
          <a:xfrm>
            <a:off x="6948360" y="1413000"/>
            <a:ext cx="102888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6" name="Picture 4" descr="http://t2.gstatic.com/images?q=tbn:ANd9GcQs4kP6vyL1yfZpRxn3cJEaZpi067fyOJBvrpUkmy0i1kxIA0up"/>
          <p:cNvPicPr/>
          <p:nvPr/>
        </p:nvPicPr>
        <p:blipFill>
          <a:blip r:embed="rId2"/>
          <a:stretch/>
        </p:blipFill>
        <p:spPr>
          <a:xfrm>
            <a:off x="4211640" y="1268280"/>
            <a:ext cx="170496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6" descr="http://t1.gstatic.com/images?q=tbn:ANd9GcRofahNNGgQMz0Ep5u5MeMarX0BpFTRs9W7znirgCwzEieJFJvr"/>
          <p:cNvPicPr/>
          <p:nvPr/>
        </p:nvPicPr>
        <p:blipFill>
          <a:blip r:embed="rId3"/>
          <a:stretch/>
        </p:blipFill>
        <p:spPr>
          <a:xfrm>
            <a:off x="755640" y="1700280"/>
            <a:ext cx="2619360" cy="17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مربع نص 1"/>
          <p:cNvGrpSpPr/>
          <p:nvPr/>
        </p:nvGrpSpPr>
        <p:grpSpPr>
          <a:xfrm>
            <a:off x="2341440" y="1725480"/>
            <a:ext cx="4937400" cy="1078200"/>
            <a:chOff x="2341440" y="1725480"/>
            <a:chExt cx="4937400" cy="1078200"/>
          </a:xfrm>
        </p:grpSpPr>
        <p:pic>
          <p:nvPicPr>
            <p:cNvPr id="219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2341440" y="1725480"/>
              <a:ext cx="4937400" cy="10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411280" y="1773360"/>
              <a:ext cx="4753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ثانياَ: التأكد من جاهزية الطالب للأشتراك في أنشطة تنمية المهارات لسمعية والكلامية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مربع نص 2"/>
          <p:cNvGrpSpPr/>
          <p:nvPr/>
        </p:nvGrpSpPr>
        <p:grpSpPr>
          <a:xfrm>
            <a:off x="2481120" y="3376440"/>
            <a:ext cx="4937400" cy="811440"/>
            <a:chOff x="2481120" y="3376440"/>
            <a:chExt cx="4937400" cy="811440"/>
          </a:xfrm>
        </p:grpSpPr>
        <p:pic>
          <p:nvPicPr>
            <p:cNvPr id="222" name="مربع نص 2" descr=""/>
            <p:cNvPicPr/>
            <p:nvPr/>
          </p:nvPicPr>
          <p:blipFill>
            <a:blip r:embed="rId2"/>
            <a:stretch/>
          </p:blipFill>
          <p:spPr>
            <a:xfrm>
              <a:off x="2481120" y="3376440"/>
              <a:ext cx="493740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556000" y="3429000"/>
              <a:ext cx="47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ثالثا : تكرار المعلوات من قبل الطفل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9:14:57Z</dcterms:created>
  <dc:creator>MAHA</dc:creator>
  <dc:description/>
  <dc:language>en-US</dc:language>
  <cp:lastModifiedBy>DELL</cp:lastModifiedBy>
  <dcterms:modified xsi:type="dcterms:W3CDTF">2011-11-27T21:13:35Z</dcterms:modified>
  <cp:revision>15</cp:revision>
  <dc:subject/>
  <dc:title>الشريحة 1</dc:title>
</cp:coreProperties>
</file>