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33F8-E763-4A95-8FD7-1DD27E296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1D85-D97A-42BC-A423-E3D2088D2FF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A22-CDC9-4B0D-9557-215996F5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3F7-2FB4-441F-B252-5482A4AF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F03-D3CA-4C57-A529-95BD0C07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2CA-A465-4F2E-A7DA-39C9A5E1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5A86-0F80-4A59-8572-0FF9357A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12B9-1DC1-4411-A727-B1E21494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9F3B-4093-4707-8FBF-8F81DF84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B55C-AFD7-49A7-90A1-0D598EB9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040F-771B-433B-B9AB-62C2E9BD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3A4B-0C84-4A7B-83B4-13EF0ED8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ADE5-89CD-45E6-AB76-D7AF4176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F8D-01D1-42D9-99AC-D44E4246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7FB7-14BD-49E7-8B5C-0A82EBE1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3CD4-2F32-4E21-ADB7-52C197D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86AD-C059-49AA-B857-99F4C1E8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7990-6730-4E4A-A914-B980749F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D87A-1D90-4007-8FB0-63063A2D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AAFA-7798-40C3-AFF7-C440D3F5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EC8AA-0076-424B-9BA9-DD1C177B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6221-10B6-4121-B6C9-632A53A2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D4D47-A526-4B6F-8001-FDF9D033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879C-98C4-4475-A26D-4229B268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3E7-2DE1-4E58-8A4A-419E91D4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8A52-DF82-4A8B-B293-A21C7DB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D959-3D60-4994-9E65-C4C177D8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19C7-4121-4842-8C5C-05D1D4CD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B083-0247-4359-A648-7EC30448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5E86-54B0-4573-A9B3-A32E1E05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EBC7-2443-4DD9-95A3-DEDFBEE5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88B6-6B30-40B0-826A-7E546B50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DA3E-F650-4FEB-AF7D-5D0ECB90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5EC40-B047-4290-9411-3689F86F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7551-4BA0-4B61-B534-D842F9B3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633-C066-47B9-8271-AAF12228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EFB9-A28B-4E8A-9421-2C57BD41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530A-5D53-48F2-BFA5-8BAE5D1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ABF0-8CA8-4A78-A2DE-A78125CD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3675E-7EE8-4C1B-97F5-F0AAF70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C24B-BDC0-4AB2-A595-705818B2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4AD7-1706-43C6-B9DB-526E28B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C388-48AB-4274-9679-FEF06FD8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D6213-8697-454F-B256-5399A398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A4CA-9BE4-4D28-9BEA-DB3AD9DA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A98D-290C-4761-BAFC-3B7E8BB8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C0A-501A-401D-8ED9-09E2C516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BD356-9C2A-4E6E-99D6-FE2FD6F6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FA73-D237-4149-833C-E52FA4FD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BAF7-9C06-4622-AFB3-586C41B7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7D238-E493-4C91-B8B4-F17CD238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D70E-910A-4EC4-B273-EE80F0FD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FE1D5-B850-43D8-8B7B-2FF8847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41EA-E1DB-4886-906A-B9D1B1BF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3CEA2-F898-4626-BBBB-7A9A7C72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F9DE5-0EBC-4525-8BFA-3E92FE6C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67078-CC76-4358-A6D6-F4B82792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27C-2C61-4A9E-952E-9C2A1565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BA6E-D6E6-4D26-BDB4-624EC700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20C-514A-4A63-881E-EA7436FD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E79-F394-41C7-8917-5AA2FDCF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F33-7323-41BA-9FF6-D71C7C58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4108-1BB3-4BE7-B830-A133371DFFA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77D3-9D55-4B80-ADFE-6D0BC3EDAE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مستطيل مستدير الزوايا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مستطيل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260F-346D-413A-83E7-85F09E4B78D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مستطيل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مستطيل مستدير الزوايا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787C-3356-490A-938C-D3EFC1C419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مستطيل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مستطيل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مستطيل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0593-3A33-4351-9918-256979E3EA8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مستطيل 3" descr=""/>
          <p:cNvPicPr/>
          <p:nvPr/>
        </p:nvPicPr>
        <p:blipFill>
          <a:blip r:embed="rId1"/>
          <a:stretch/>
        </p:blipFill>
        <p:spPr>
          <a:xfrm>
            <a:off x="1200240" y="1311120"/>
            <a:ext cx="6767280" cy="183996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  <a:cs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A9F2-4AC1-4F8F-B1BF-922232BB907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rcRect l="15766" t="0" r="0" b="0"/>
          <a:stretch/>
        </p:blipFill>
        <p:spPr>
          <a:xfrm>
            <a:off x="2050920" y="3916440"/>
            <a:ext cx="5297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65200" y="18900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تعيين المفتاح الأساسي لجدول في عرض التصميم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40" name="صورة 2" descr="Microsoft Access - Database4 : قاعدة بيانات (Access 2007)"/>
          <p:cNvPicPr/>
          <p:nvPr/>
        </p:nvPicPr>
        <p:blipFill>
          <a:blip r:embed="rId1"/>
          <a:stretch/>
        </p:blipFill>
        <p:spPr>
          <a:xfrm>
            <a:off x="395280" y="968400"/>
            <a:ext cx="8569440" cy="5484960"/>
          </a:xfrm>
          <a:prstGeom prst="rect">
            <a:avLst/>
          </a:prstGeom>
          <a:ln w="0">
            <a:noFill/>
          </a:ln>
        </p:spPr>
      </p:pic>
      <p:sp>
        <p:nvSpPr>
          <p:cNvPr id="241" name="Line 5"/>
          <p:cNvSpPr/>
          <p:nvPr/>
        </p:nvSpPr>
        <p:spPr>
          <a:xfrm>
            <a:off x="5172120" y="2565360"/>
            <a:ext cx="1144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73280" y="2401920"/>
            <a:ext cx="169884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ظليل اسم الح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7956720" y="1988640"/>
            <a:ext cx="360360" cy="129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356000" y="3463920"/>
            <a:ext cx="396108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ضغط على رمز المفتاح في شريط الادو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  <a:cs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F6F8-5780-4811-9C0A-A8D42D58086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صورة 3" descr="Microsoft Access - Database4 : قاعدة بيانات (Access 2007)"/>
          <p:cNvPicPr/>
          <p:nvPr/>
        </p:nvPicPr>
        <p:blipFill>
          <a:blip r:embed="rId1"/>
          <a:stretch/>
        </p:blipFill>
        <p:spPr>
          <a:xfrm>
            <a:off x="179280" y="1563840"/>
            <a:ext cx="8864640" cy="5229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846000" y="26028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 u="sng">
                <a:solidFill>
                  <a:srgbClr val="a34b73"/>
                </a:solidFill>
                <a:uFillTx/>
                <a:latin typeface="Arial"/>
              </a:rPr>
              <a:t>خصائص الحقل 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617400" y="90792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9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يمكن فرض الشروط التي تريدها على اي حقل من حقول الجدو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7"/>
          <p:cNvSpPr/>
          <p:nvPr/>
        </p:nvSpPr>
        <p:spPr>
          <a:xfrm>
            <a:off x="1908000" y="4508640"/>
            <a:ext cx="5688360" cy="2160360"/>
          </a:xfrm>
          <a:prstGeom prst="rect">
            <a:avLst/>
          </a:prstGeom>
          <a:noFill/>
          <a:ln w="7632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4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a34b73"/>
                </a:solidFill>
                <a:uFillTx/>
                <a:latin typeface="Arial"/>
              </a:rPr>
              <a:t>خصائص الحقل</a:t>
            </a:r>
            <a:endParaRPr b="0" lang="en-US" sz="2900" spc="-1" strike="noStrike">
              <a:solidFill>
                <a:srgbClr val="b13f9a"/>
              </a:solidFill>
              <a:latin typeface="Franklin Gothic Book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22200" y="1052640"/>
          <a:ext cx="8353440" cy="5305320"/>
        </p:xfrm>
        <a:graphic>
          <a:graphicData uri="http://schemas.openxmlformats.org/drawingml/2006/table">
            <a:tbl>
              <a:tblPr/>
              <a:tblGrid>
                <a:gridCol w="6392880"/>
                <a:gridCol w="196056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غرض م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خا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يظهر مع البيانات النصية والرقمية فقط لتحديد طولها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جم الحق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تحديد طريقة ظهور البيانات هل هي رقم , نص , عملة , تاريخ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تنس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يسمح باختيار نموذج جاهز لتظهر بيانات الحقل مطابقة ل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ناع الإدخ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يمة افتراضية مع كل سجل جديد، يمكن قبولها أو استبدالها بقيمة أخر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يمة الافتراض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تعبير لتحديد القيم التي يمكن إدخالها، هذا التعبير يختبر البيانات المدخلة على أنها موافقة لشرط معين، وتمنع إدخال البيانات غير الموافقة للشر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اعدة التحقق من 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رسالة تظهر عند إدخال قيمة غير مسموح بها تخالف شرط قاعدة التحقق من الصح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نص التحقق من 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هل مطلوب إدخال قيمة لهذا الحقل أم لا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قيمة مطلو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يقوم بتدقيق البيانات المدخلة مع إمكانية عدم تكرارها على نفس الحقل وتساعد في  تسريع عملية البحث عن البيانات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فهر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868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743040" indent="-743040" algn="r" rtl="1">
              <a:lnSpc>
                <a:spcPct val="100000"/>
              </a:lnSpc>
              <a:buClr>
                <a:srgbClr val="a34b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</a:rPr>
              <a:t>ربط الجداول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4" name="عنصر نائب لرقم الشريحة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BE91-F439-4D81-A9A8-CA11F55026C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483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صود بربط الجداول هو إنشاء علاقة ارتباط دائمة بين جدولين أو أكثر , يكون من نتيجتهما استخراج بيانات من كلا الجدولين و إظهارهما في النماذج أو التقارير أو الاستعلامات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8a2e4e"/>
                </a:solidFill>
                <a:latin typeface="Perpetua"/>
                <a:cs typeface="Times New Roman"/>
              </a:rPr>
              <a:t>قبل الربط لابد من تأسيس علاقة ارتباط – </a:t>
            </a:r>
            <a:r>
              <a:rPr b="1" lang="en-US" sz="2600" spc="-1" strike="noStrike">
                <a:solidFill>
                  <a:srgbClr val="8a2e4e"/>
                </a:solidFill>
                <a:latin typeface="Perpetua"/>
              </a:rPr>
              <a:t>Relationshi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Perpetua"/>
                <a:cs typeface="Times New Roman"/>
              </a:rPr>
              <a:t>شروط إنشاء العلاقة بين جدولين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أن يكون كلا الجدولين مخزن في نفس قاعدة البيانات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يجب أن يشتمل كلا الجدولين على حقل متماثل في البيانات 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أن يشتمل أحد الجدولين على مفتاح رئيسي 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71680" indent="-571680" algn="r" rtl="1">
              <a:lnSpc>
                <a:spcPct val="100000"/>
              </a:lnSpc>
              <a:buClr>
                <a:srgbClr val="a34b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</a:rPr>
              <a:t>أنواع علاقات الارتباط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عنصر نائب لرقم الشريحة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B08-9BD8-4076-AEAF-3B5F7FB4458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22600" y="1795320"/>
            <a:ext cx="61308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يوجد ثلاثة أنواع للعلاقات في أكسيس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لاقة رأس برأس «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e – To – On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لاقة رأس بأطراف «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e –To – Man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 »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لاقة اطراف بأطراف «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ny – To – Man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»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59" name="Group 21"/>
          <p:cNvGrpSpPr/>
          <p:nvPr/>
        </p:nvGrpSpPr>
        <p:grpSpPr>
          <a:xfrm>
            <a:off x="3624120" y="3936960"/>
            <a:ext cx="2327400" cy="585720"/>
            <a:chOff x="3624120" y="3936960"/>
            <a:chExt cx="2327400" cy="585720"/>
          </a:xfrm>
        </p:grpSpPr>
        <p:sp>
          <p:nvSpPr>
            <p:cNvPr id="260" name="Straight Connector 22"/>
            <p:cNvSpPr/>
            <p:nvPr/>
          </p:nvSpPr>
          <p:spPr>
            <a:xfrm>
              <a:off x="3624120" y="4522680"/>
              <a:ext cx="2303640" cy="0"/>
            </a:xfrm>
            <a:prstGeom prst="line">
              <a:avLst/>
            </a:prstGeom>
            <a:ln w="41400">
              <a:solidFill>
                <a:srgbClr val="972a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23"/>
            <p:cNvSpPr/>
            <p:nvPr/>
          </p:nvSpPr>
          <p:spPr>
            <a:xfrm>
              <a:off x="3647880" y="3936960"/>
              <a:ext cx="2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24"/>
            <p:cNvSpPr/>
            <p:nvPr/>
          </p:nvSpPr>
          <p:spPr>
            <a:xfrm>
              <a:off x="5495760" y="3936960"/>
              <a:ext cx="4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7"/>
          <p:cNvGrpSpPr/>
          <p:nvPr/>
        </p:nvGrpSpPr>
        <p:grpSpPr>
          <a:xfrm>
            <a:off x="3624120" y="5284800"/>
            <a:ext cx="2405160" cy="601560"/>
            <a:chOff x="3624120" y="5284800"/>
            <a:chExt cx="2405160" cy="601560"/>
          </a:xfrm>
        </p:grpSpPr>
        <p:sp>
          <p:nvSpPr>
            <p:cNvPr id="264" name="Straight Connector 17"/>
            <p:cNvSpPr/>
            <p:nvPr/>
          </p:nvSpPr>
          <p:spPr>
            <a:xfrm>
              <a:off x="3624120" y="5886360"/>
              <a:ext cx="2405160" cy="0"/>
            </a:xfrm>
            <a:prstGeom prst="line">
              <a:avLst/>
            </a:prstGeom>
            <a:ln w="41400">
              <a:solidFill>
                <a:srgbClr val="972a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19"/>
            <p:cNvSpPr/>
            <p:nvPr/>
          </p:nvSpPr>
          <p:spPr>
            <a:xfrm>
              <a:off x="5496120" y="5301000"/>
              <a:ext cx="4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25"/>
            <p:cNvSpPr/>
            <p:nvPr/>
          </p:nvSpPr>
          <p:spPr>
            <a:xfrm>
              <a:off x="3624120" y="5284800"/>
              <a:ext cx="55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"/>
          <p:cNvGrpSpPr/>
          <p:nvPr/>
        </p:nvGrpSpPr>
        <p:grpSpPr>
          <a:xfrm>
            <a:off x="3635280" y="2779560"/>
            <a:ext cx="2316240" cy="590760"/>
            <a:chOff x="3635280" y="2779560"/>
            <a:chExt cx="2316240" cy="590760"/>
          </a:xfrm>
        </p:grpSpPr>
        <p:sp>
          <p:nvSpPr>
            <p:cNvPr id="268" name="Straight Connector 6"/>
            <p:cNvSpPr/>
            <p:nvPr/>
          </p:nvSpPr>
          <p:spPr>
            <a:xfrm>
              <a:off x="3647880" y="3370320"/>
              <a:ext cx="2303640" cy="0"/>
            </a:xfrm>
            <a:prstGeom prst="line">
              <a:avLst/>
            </a:prstGeom>
            <a:ln w="41400">
              <a:solidFill>
                <a:srgbClr val="972a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8"/>
            <p:cNvSpPr/>
            <p:nvPr/>
          </p:nvSpPr>
          <p:spPr>
            <a:xfrm>
              <a:off x="3635280" y="2784240"/>
              <a:ext cx="2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28"/>
            <p:cNvSpPr/>
            <p:nvPr/>
          </p:nvSpPr>
          <p:spPr>
            <a:xfrm>
              <a:off x="5716800" y="2779560"/>
              <a:ext cx="2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3DDE-ED0B-4492-A02C-32754B4CAAE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95280" y="620640"/>
          <a:ext cx="8353440" cy="2808360"/>
        </p:xfrm>
        <a:graphic>
          <a:graphicData uri="http://schemas.openxmlformats.org/drawingml/2006/table">
            <a:tbl>
              <a:tblPr/>
              <a:tblGrid>
                <a:gridCol w="798480"/>
                <a:gridCol w="800280"/>
                <a:gridCol w="1185840"/>
                <a:gridCol w="928440"/>
                <a:gridCol w="790560"/>
                <a:gridCol w="871560"/>
                <a:gridCol w="1016280"/>
                <a:gridCol w="1033200"/>
                <a:gridCol w="928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هات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عنو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تاريخ الميلا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نتظ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كأفأ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ستو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تخص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اس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رقم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ea typeface="Times New Roman"/>
                        </a:rPr>
                        <a:t> الجام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د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80/1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نع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اس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علي الناص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د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80/4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نع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اس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 الع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د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81/8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نع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اس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عبدالرحمن حس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900000" y="3789360"/>
          <a:ext cx="6553440" cy="230364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8360"/>
                <a:gridCol w="163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ستو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قر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رقم الجام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3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cxnSp>
        <p:nvCxnSpPr>
          <p:cNvPr id="274" name="رابط كسهم مستقيم 18"/>
          <p:cNvCxnSpPr/>
          <p:nvPr/>
        </p:nvCxnSpPr>
        <p:spPr>
          <a:xfrm flipH="1">
            <a:off x="7379640" y="3213000"/>
            <a:ext cx="1019880" cy="1224720"/>
          </a:xfrm>
          <a:prstGeom prst="straightConnector1">
            <a:avLst/>
          </a:prstGeom>
          <a:ln w="255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75" name="رابط كسهم مستقيم 22"/>
          <p:cNvCxnSpPr/>
          <p:nvPr/>
        </p:nvCxnSpPr>
        <p:spPr>
          <a:xfrm flipH="1">
            <a:off x="7319160" y="3213000"/>
            <a:ext cx="1080360" cy="1799280"/>
          </a:xfrm>
          <a:prstGeom prst="straightConnector1">
            <a:avLst/>
          </a:prstGeom>
          <a:ln w="255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76" name="رابط كسهم مستقيم 23"/>
          <p:cNvCxnSpPr/>
          <p:nvPr/>
        </p:nvCxnSpPr>
        <p:spPr>
          <a:xfrm flipH="1">
            <a:off x="7319160" y="3212640"/>
            <a:ext cx="1080360" cy="2288520"/>
          </a:xfrm>
          <a:prstGeom prst="straightConnector1">
            <a:avLst/>
          </a:prstGeom>
          <a:ln w="25560">
            <a:solidFill>
              <a:srgbClr val="972a50"/>
            </a:solidFill>
            <a:miter/>
            <a:tailEnd len="med" type="arrow" w="med"/>
          </a:ln>
        </p:spPr>
      </p:cxnSp>
      <p:sp>
        <p:nvSpPr>
          <p:cNvPr id="277" name="مربع نص 5"/>
          <p:cNvSpPr/>
          <p:nvPr/>
        </p:nvSpPr>
        <p:spPr>
          <a:xfrm>
            <a:off x="3384720" y="233280"/>
            <a:ext cx="23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جدول الطال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مربع نص 9"/>
          <p:cNvSpPr/>
          <p:nvPr/>
        </p:nvSpPr>
        <p:spPr>
          <a:xfrm>
            <a:off x="5867280" y="6165720"/>
            <a:ext cx="25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جدول الطالب الفص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صورة 1" descr="Microsoft Access - الجامعة : قاعدة بيانات (Access 2007)"/>
          <p:cNvPicPr/>
          <p:nvPr/>
        </p:nvPicPr>
        <p:blipFill>
          <a:blip r:embed="rId1"/>
          <a:srcRect l="34195" t="-152" r="0" b="39087"/>
          <a:stretch/>
        </p:blipFill>
        <p:spPr>
          <a:xfrm>
            <a:off x="50760" y="-28440"/>
            <a:ext cx="9093240" cy="6886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395280" y="2637000"/>
            <a:ext cx="5977080" cy="32162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 u="sng">
                <a:solidFill>
                  <a:srgbClr val="000000"/>
                </a:solidFill>
                <a:uFillTx/>
                <a:latin typeface="Arial"/>
              </a:rPr>
              <a:t>لربط الجداول بعلاقات 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</a:rPr>
              <a:t> من أدوات قاعدة بيانات اختار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</a:rPr>
              <a:t>علاقات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</a:rPr>
              <a:t>إظهار الجداول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</a:rPr>
              <a:t>سحب الحقل المطلوب للربط و وضعه على الحقل المطابق 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صورة 15" descr="تحرير علاقات"/>
          <p:cNvPicPr/>
          <p:nvPr/>
        </p:nvPicPr>
        <p:blipFill>
          <a:blip r:embed="rId1"/>
          <a:stretch/>
        </p:blipFill>
        <p:spPr>
          <a:xfrm>
            <a:off x="1692360" y="1413000"/>
            <a:ext cx="6397560" cy="4680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انشاء علاقة رأس بأطراف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A30-873C-4E0E-AEA9-2F55D0C28D6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0T15:11:45Z</dcterms:created>
  <dc:creator>user</dc:creator>
  <dc:description/>
  <dc:language>en-US</dc:language>
  <cp:lastModifiedBy>User</cp:lastModifiedBy>
  <dcterms:modified xsi:type="dcterms:W3CDTF">2016-03-24T05:26:41Z</dcterms:modified>
  <cp:revision>5</cp:revision>
  <dc:subject/>
  <dc:title>عرض تقديمي في PowerPoint</dc:title>
</cp:coreProperties>
</file>