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107-6B3F-4D67-BA22-2E3D81F1E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43D1-4436-4A22-AC88-29075362B6F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3E4-BF3A-4833-811E-EA2D85AC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CFF-C3AE-497B-930A-161DDF9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461-81C6-4746-A1E2-8DB2695E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20A-F5D5-4439-BEAF-06991CFE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F42-3E17-4EA2-996C-28F5AAFE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6349-F138-467E-A01F-1022821B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B5C-7592-4FD2-B54F-129018C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59C-8B38-4330-9899-74F8951B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4F4D-717E-445D-B1CA-00EAC2D6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38A3-335A-4959-8ECD-BADD7DD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A30-FCD6-41E8-ADAF-0A08973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85C-8262-4CA8-AD24-E8A282FB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A66-B8E1-4114-BF2B-F9A5DFE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81FD-A50C-44D9-AA07-7139B61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330F-E0C0-47D8-86B2-9C19DB17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A987-C301-46C7-A172-721FCD6F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EEDA-3219-4EAE-B96A-D2443081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9100-782B-4E5A-B796-CC4E3D86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3159-71A9-4703-8422-D3A95035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386F-2C51-4B38-9728-C1998047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34D5-A2D7-4F18-9E2C-1556DB0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92BC-DB82-4034-9AE6-8AD15DC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F7E-289B-4B0F-B94A-4E16E91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2E89-D96B-4E28-BE61-5BB7610F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6FC8-06B6-443D-83E1-48927DD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0F96-12E2-4B77-9370-AFEE337C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50BD-B2D3-4DD4-9ACA-E127684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AA77-688E-45E1-8136-E6FD894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1784-C92A-4484-BDB0-11953EFF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9F4C-AA20-4B95-827A-2B7C6EEC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0AEF-20DA-48FD-B5C8-656F0DB2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AC8C-B8B8-436D-85B4-F384A729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5B13-6C3D-4A4A-AAFB-A78EA7EC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997-86B0-48C8-8100-F2348A14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1F40-19E9-4330-96C2-BA896458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1E9D-96AD-463F-9219-5E46EC3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D505-8361-48E3-A144-24858696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8EA4-5172-4A4B-9C7D-22101DB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A2E8-0270-448A-A189-F601A87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BD7C-25B5-4A10-B6E5-58B6CF7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9E42-B0FC-4876-B7E3-4B0FAC82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7474-5147-4200-B0AE-2CEB6F7F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AC0D-D34C-4A92-8E66-95AED8C2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601F-76CA-4D3D-BB29-39783E4B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8D8-14C4-463A-8CF9-1F9F8432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454B-6F6E-4E04-B6BB-3961C905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94DB-A76E-4A98-AFCE-240BA2F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0577-53A8-4CBD-937C-CD950E8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2CB48-DD2C-4D77-97DB-AE44B19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28F6F-B57D-4624-9F1F-BDA2382B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33B2-CE48-4C19-8945-C96109F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634C-DD14-4BE6-83E8-488149FA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A286-4A03-44CD-8EAE-E1F58FB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C611-F950-476B-8501-8E1A7C2C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DDB0-C9A1-434D-84D4-82FA9B03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40A-E0CA-44BA-BC19-57A90C67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9F04-4E26-4FEE-9321-81D9E750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34F-1F68-4BDF-A0F6-4CDD60B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77B-46A2-4CD4-BA18-566EC4E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E85-8519-4889-9BA6-12C6F73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63D-5BA9-4EE0-B5F7-A73D57B31D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84CA-F6B4-4EC2-8C65-777B7AF795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0B9-B201-42FA-852C-52A49CE988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537-BD53-443D-8297-0B9F6331FB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6C8-A092-4835-8158-71BB10D8EF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مستطيل 3" descr=""/>
          <p:cNvPicPr/>
          <p:nvPr/>
        </p:nvPicPr>
        <p:blipFill>
          <a:blip r:embed="rId1"/>
          <a:stretch/>
        </p:blipFill>
        <p:spPr>
          <a:xfrm>
            <a:off x="1200240" y="1311120"/>
            <a:ext cx="6767280" cy="183996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  <a:cs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E8AC-D528-4C19-8E1B-4177DAADC0B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916440"/>
            <a:ext cx="5297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520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تعيين المفتاح الأساسي لجدول في عرض التصميم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40" name="صورة 2" descr="Microsoft Access - Database4 : قاعدة بيانات (Access 2007)"/>
          <p:cNvPicPr/>
          <p:nvPr/>
        </p:nvPicPr>
        <p:blipFill>
          <a:blip r:embed="rId1"/>
          <a:stretch/>
        </p:blipFill>
        <p:spPr>
          <a:xfrm>
            <a:off x="395280" y="968400"/>
            <a:ext cx="8569440" cy="5484960"/>
          </a:xfrm>
          <a:prstGeom prst="rect">
            <a:avLst/>
          </a:prstGeom>
          <a:ln w="0">
            <a:noFill/>
          </a:ln>
        </p:spPr>
      </p:pic>
      <p:sp>
        <p:nvSpPr>
          <p:cNvPr id="241" name="Line 5"/>
          <p:cNvSpPr/>
          <p:nvPr/>
        </p:nvSpPr>
        <p:spPr>
          <a:xfrm>
            <a:off x="5172120" y="2565360"/>
            <a:ext cx="1144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73280" y="2401920"/>
            <a:ext cx="16988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ظليل اسم الح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7956720" y="1988640"/>
            <a:ext cx="360360" cy="129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356000" y="3463920"/>
            <a:ext cx="396108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ضغط على رمز المفتاح في شريط الا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  <a:cs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752-6DD2-4571-BC20-EE53FE9AC18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صورة 3" descr="Microsoft Access - Database4 : قاعدة بيانات (Access 2007)"/>
          <p:cNvPicPr/>
          <p:nvPr/>
        </p:nvPicPr>
        <p:blipFill>
          <a:blip r:embed="rId1"/>
          <a:stretch/>
        </p:blipFill>
        <p:spPr>
          <a:xfrm>
            <a:off x="179280" y="1563840"/>
            <a:ext cx="8864640" cy="5229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846000" y="26028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 u="sng">
                <a:solidFill>
                  <a:srgbClr val="a34b73"/>
                </a:solidFill>
                <a:uFillTx/>
                <a:latin typeface="Arial"/>
              </a:rPr>
              <a:t>خصائص الحقل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617400" y="9079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يمكن فرض الشروط التي تريدها على اي حقل من حقول الجدو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7"/>
          <p:cNvSpPr/>
          <p:nvPr/>
        </p:nvSpPr>
        <p:spPr>
          <a:xfrm>
            <a:off x="1908000" y="4508640"/>
            <a:ext cx="5688360" cy="2160360"/>
          </a:xfrm>
          <a:prstGeom prst="rect">
            <a:avLst/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4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a34b73"/>
                </a:solidFill>
                <a:uFillTx/>
                <a:latin typeface="Arial"/>
              </a:rPr>
              <a:t>خصائص الحقل</a:t>
            </a:r>
            <a:endParaRPr b="0" lang="en-US" sz="2900" spc="-1" strike="noStrike">
              <a:solidFill>
                <a:srgbClr val="b13f9a"/>
              </a:solidFill>
              <a:latin typeface="Franklin Gothic Book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22200" y="1052640"/>
          <a:ext cx="8353440" cy="5305320"/>
        </p:xfrm>
        <a:graphic>
          <a:graphicData uri="http://schemas.openxmlformats.org/drawingml/2006/table">
            <a:tbl>
              <a:tblPr/>
              <a:tblGrid>
                <a:gridCol w="6392880"/>
                <a:gridCol w="196056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غرض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خا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يظهر مع البيانات النصية والرقمية فقط لتحديد طوله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جم الحق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تحديد طريقة ظهور البيانات هل هي رقم , نص , عملة , تاريخ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تنس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يسمح باختيار نموذج جاهز لتظهر بيانات الحقل مطابقة ل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ناع الإدخ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يمة افتراضية مع كل سجل جديد، يمكن قبولها أو استبدالها بقيمة أخر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يمة الافتراض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تعبير لتحديد القيم التي يمكن إدخالها، هذا التعبير يختبر البيانات المدخلة على أنها موافقة لشرط معين، وتمنع إدخال البيانات غير الموافقة للشر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اعدة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رسالة تظهر عند إدخال قيمة غير مسموح بها تخالف شرط قاعدة التحقق من الصح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ص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هل مطلوب إدخال قيمة لهذا الحقل أم ل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يمة مطلو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يقوم بتدقيق البيانات المدخلة مع إمكانية عدم تكرارها على نفس الحقل وتساعد في  تسريع عملية البحث عن البيانات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فهر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86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743040" indent="-743040" algn="r" rtl="1">
              <a:lnSpc>
                <a:spcPct val="100000"/>
              </a:lnSpc>
              <a:buClr>
                <a:srgbClr val="a34b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</a:rPr>
              <a:t>ربط الجداول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4" name="عنصر نائب لرقم الشريحة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7421-9FE0-4ED2-891C-0276976CD91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483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صود بربط الجداول هو إنشاء علاقة ارتباط دائمة بين جدولين أو أكثر , يكون من نتيجتهما استخراج بيانات من كلا الجدولين و إظهارهما في النماذج أو التقارير أو الاستعلامات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8a2e4e"/>
                </a:solidFill>
                <a:latin typeface="Perpetua"/>
                <a:cs typeface="Times New Roman"/>
              </a:rPr>
              <a:t>قبل الربط لابد من تأسيس علاقة ارتباط – </a:t>
            </a:r>
            <a:r>
              <a:rPr b="1" lang="en-US" sz="2600" spc="-1" strike="noStrike">
                <a:solidFill>
                  <a:srgbClr val="8a2e4e"/>
                </a:solidFill>
                <a:latin typeface="Perpetua"/>
              </a:rPr>
              <a:t>Relatio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Perpetua"/>
                <a:cs typeface="Times New Roman"/>
              </a:rPr>
              <a:t>شروط إنشاء العلاقة بين جدولين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أن يكون كلا الجدولين مخزن في نفس قاعدة البيانات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يجب أن يشتمل كلا الجدولين على حقل متماثل في البيانات 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أن يشتمل أحد الجدولين على مفتاح رئيسي 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71680" indent="-571680" algn="r" rtl="1">
              <a:lnSpc>
                <a:spcPct val="100000"/>
              </a:lnSpc>
              <a:buClr>
                <a:srgbClr val="a34b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</a:rPr>
              <a:t>أنواع علاقات الارتباط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عنصر نائب لرقم الشريحة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710E-7BCF-4CCF-A3F1-E1A03B367C5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22600" y="1795320"/>
            <a:ext cx="61308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يوجد ثلاثة أنواع للعلاقات في أكسيس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اقة رأس برأس «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e – To – On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اقة رأس بأطراف «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e –To – Man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 »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اقة اطراف بأطراف «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y – To – Man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»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59" name="Group 21"/>
          <p:cNvGrpSpPr/>
          <p:nvPr/>
        </p:nvGrpSpPr>
        <p:grpSpPr>
          <a:xfrm>
            <a:off x="3624120" y="3936960"/>
            <a:ext cx="2327400" cy="585720"/>
            <a:chOff x="3624120" y="3936960"/>
            <a:chExt cx="2327400" cy="585720"/>
          </a:xfrm>
        </p:grpSpPr>
        <p:sp>
          <p:nvSpPr>
            <p:cNvPr id="260" name="Straight Connector 22"/>
            <p:cNvSpPr/>
            <p:nvPr/>
          </p:nvSpPr>
          <p:spPr>
            <a:xfrm>
              <a:off x="3624120" y="4522680"/>
              <a:ext cx="2303640" cy="0"/>
            </a:xfrm>
            <a:prstGeom prst="line">
              <a:avLst/>
            </a:prstGeom>
            <a:ln w="41400">
              <a:solidFill>
                <a:srgbClr val="972a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23"/>
            <p:cNvSpPr/>
            <p:nvPr/>
          </p:nvSpPr>
          <p:spPr>
            <a:xfrm>
              <a:off x="3647880" y="3936960"/>
              <a:ext cx="2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24"/>
            <p:cNvSpPr/>
            <p:nvPr/>
          </p:nvSpPr>
          <p:spPr>
            <a:xfrm>
              <a:off x="5495760" y="393696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7"/>
          <p:cNvGrpSpPr/>
          <p:nvPr/>
        </p:nvGrpSpPr>
        <p:grpSpPr>
          <a:xfrm>
            <a:off x="3624120" y="5284800"/>
            <a:ext cx="2405160" cy="601560"/>
            <a:chOff x="3624120" y="5284800"/>
            <a:chExt cx="2405160" cy="601560"/>
          </a:xfrm>
        </p:grpSpPr>
        <p:sp>
          <p:nvSpPr>
            <p:cNvPr id="264" name="Straight Connector 17"/>
            <p:cNvSpPr/>
            <p:nvPr/>
          </p:nvSpPr>
          <p:spPr>
            <a:xfrm>
              <a:off x="3624120" y="5886360"/>
              <a:ext cx="2405160" cy="0"/>
            </a:xfrm>
            <a:prstGeom prst="line">
              <a:avLst/>
            </a:prstGeom>
            <a:ln w="41400">
              <a:solidFill>
                <a:srgbClr val="972a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9"/>
            <p:cNvSpPr/>
            <p:nvPr/>
          </p:nvSpPr>
          <p:spPr>
            <a:xfrm>
              <a:off x="5496120" y="530100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25"/>
            <p:cNvSpPr/>
            <p:nvPr/>
          </p:nvSpPr>
          <p:spPr>
            <a:xfrm>
              <a:off x="3624120" y="5284800"/>
              <a:ext cx="55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"/>
          <p:cNvGrpSpPr/>
          <p:nvPr/>
        </p:nvGrpSpPr>
        <p:grpSpPr>
          <a:xfrm>
            <a:off x="3635280" y="2779560"/>
            <a:ext cx="2316240" cy="590760"/>
            <a:chOff x="3635280" y="2779560"/>
            <a:chExt cx="2316240" cy="590760"/>
          </a:xfrm>
        </p:grpSpPr>
        <p:sp>
          <p:nvSpPr>
            <p:cNvPr id="268" name="Straight Connector 6"/>
            <p:cNvSpPr/>
            <p:nvPr/>
          </p:nvSpPr>
          <p:spPr>
            <a:xfrm>
              <a:off x="3647880" y="3370320"/>
              <a:ext cx="2303640" cy="0"/>
            </a:xfrm>
            <a:prstGeom prst="line">
              <a:avLst/>
            </a:prstGeom>
            <a:ln w="41400">
              <a:solidFill>
                <a:srgbClr val="972a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8"/>
            <p:cNvSpPr/>
            <p:nvPr/>
          </p:nvSpPr>
          <p:spPr>
            <a:xfrm>
              <a:off x="3635280" y="2784240"/>
              <a:ext cx="2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28"/>
            <p:cNvSpPr/>
            <p:nvPr/>
          </p:nvSpPr>
          <p:spPr>
            <a:xfrm>
              <a:off x="5716800" y="2779560"/>
              <a:ext cx="2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4DAA-6A06-4E54-BC21-19DC37FA71F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95280" y="620640"/>
          <a:ext cx="8353440" cy="2808360"/>
        </p:xfrm>
        <a:graphic>
          <a:graphicData uri="http://schemas.openxmlformats.org/drawingml/2006/table">
            <a:tbl>
              <a:tblPr/>
              <a:tblGrid>
                <a:gridCol w="798480"/>
                <a:gridCol w="800280"/>
                <a:gridCol w="1185840"/>
                <a:gridCol w="928440"/>
                <a:gridCol w="790560"/>
                <a:gridCol w="871560"/>
                <a:gridCol w="1016280"/>
                <a:gridCol w="1033200"/>
                <a:gridCol w="9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هات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عنو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تاريخ الميل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نتظ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كأفأ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ستو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تخص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اس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رقم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ea typeface="Times New Roman"/>
                        </a:rPr>
                        <a:t> الجام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80/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ع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اس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لي الناص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80/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ع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اس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 الع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81/8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ع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اس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بدالرحمن حس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900000" y="3789360"/>
          <a:ext cx="6553440" cy="230364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360"/>
                <a:gridCol w="163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ستو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ق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رقم الجام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cxnSp>
        <p:nvCxnSpPr>
          <p:cNvPr id="274" name="رابط كسهم مستقيم 18"/>
          <p:cNvCxnSpPr/>
          <p:nvPr/>
        </p:nvCxnSpPr>
        <p:spPr>
          <a:xfrm flipH="1">
            <a:off x="7379640" y="3213000"/>
            <a:ext cx="1019880" cy="1224720"/>
          </a:xfrm>
          <a:prstGeom prst="straightConnector1">
            <a:avLst/>
          </a:prstGeom>
          <a:ln w="255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75" name="رابط كسهم مستقيم 22"/>
          <p:cNvCxnSpPr/>
          <p:nvPr/>
        </p:nvCxnSpPr>
        <p:spPr>
          <a:xfrm flipH="1">
            <a:off x="7319160" y="3213000"/>
            <a:ext cx="1080360" cy="1799280"/>
          </a:xfrm>
          <a:prstGeom prst="straightConnector1">
            <a:avLst/>
          </a:prstGeom>
          <a:ln w="255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76" name="رابط كسهم مستقيم 23"/>
          <p:cNvCxnSpPr/>
          <p:nvPr/>
        </p:nvCxnSpPr>
        <p:spPr>
          <a:xfrm flipH="1">
            <a:off x="7319160" y="3212640"/>
            <a:ext cx="1080360" cy="2288520"/>
          </a:xfrm>
          <a:prstGeom prst="straightConnector1">
            <a:avLst/>
          </a:prstGeom>
          <a:ln w="25560">
            <a:solidFill>
              <a:srgbClr val="972a50"/>
            </a:solidFill>
            <a:miter/>
            <a:tailEnd len="med" type="arrow" w="med"/>
          </a:ln>
        </p:spPr>
      </p:cxnSp>
      <p:sp>
        <p:nvSpPr>
          <p:cNvPr id="277" name="مربع نص 5"/>
          <p:cNvSpPr/>
          <p:nvPr/>
        </p:nvSpPr>
        <p:spPr>
          <a:xfrm>
            <a:off x="3384720" y="233280"/>
            <a:ext cx="23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جدول الطال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ربع نص 9"/>
          <p:cNvSpPr/>
          <p:nvPr/>
        </p:nvSpPr>
        <p:spPr>
          <a:xfrm>
            <a:off x="5867280" y="616572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جدول الطالب الفص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صورة 1" descr="Microsoft Access - الجامعة : قاعدة بيانات (Access 2007)"/>
          <p:cNvPicPr/>
          <p:nvPr/>
        </p:nvPicPr>
        <p:blipFill>
          <a:blip r:embed="rId1"/>
          <a:srcRect l="34195" t="-152" r="0" b="39087"/>
          <a:stretch/>
        </p:blipFill>
        <p:spPr>
          <a:xfrm>
            <a:off x="50760" y="-28440"/>
            <a:ext cx="9093240" cy="6886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395280" y="2637000"/>
            <a:ext cx="5977080" cy="3216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000000"/>
                </a:solidFill>
                <a:uFillTx/>
                <a:latin typeface="Arial"/>
              </a:rPr>
              <a:t>لربط الجداول بعلاقات 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 من أدوات قاعدة بيانات اختار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علاقات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إظهار الجداول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سحب الحقل المطلوب للربط و وضعه على الحقل المطابق 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صورة 15" descr="تحرير علاقات"/>
          <p:cNvPicPr/>
          <p:nvPr/>
        </p:nvPicPr>
        <p:blipFill>
          <a:blip r:embed="rId1"/>
          <a:stretch/>
        </p:blipFill>
        <p:spPr>
          <a:xfrm>
            <a:off x="1692360" y="1413000"/>
            <a:ext cx="6397560" cy="4680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انشاء علاقة رأس بأطراف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F4E-A6E4-4784-A5BB-2167CBF8A33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0T15:11:45Z</dcterms:created>
  <dc:creator>user</dc:creator>
  <dc:description/>
  <dc:language>en-US</dc:language>
  <cp:lastModifiedBy>User</cp:lastModifiedBy>
  <dcterms:modified xsi:type="dcterms:W3CDTF">2016-03-24T05:26:41Z</dcterms:modified>
  <cp:revision>5</cp:revision>
  <dc:subject/>
  <dc:title>عرض تقديمي في PowerPoint</dc:title>
</cp:coreProperties>
</file>