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D99-7A61-4392-8614-26713788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9A4-7289-4F49-BD1E-587FDBA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391-7B96-4325-B738-C7A5CF6C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F82-98BD-412C-9C85-FF257DB7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1B0D-BE75-4D99-971A-C13B94F3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399C-215B-4D52-B957-44757BD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9F0-5B50-4F09-822F-F0EA2DFE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3F6A-D05D-4B3C-8989-9C080DA1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139-60F8-4AA8-B656-50A94A6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BD08-DA26-4B1F-83B9-5CB2517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1B9-58B2-4D8E-BB51-624C3DD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F93-89A4-492F-A89B-2419C52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6186-16AE-4CF1-8648-462CC0E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FFA8-B05C-48C6-ABBC-4DD9368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CE9-8C54-4D9D-9455-7E3E7BE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299A-1FEB-41E7-8D36-12F69FD7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75D-056D-4B1A-98F3-FC8230EB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9C0C-C2B0-4E57-A1C5-D47F351C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2924-E17E-4BAC-926E-5A784D78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FECD-2AAF-4C2C-AB91-68CBCDE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7055-E843-449E-81BE-B77515F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D292-F0D7-4FB4-924C-DFD4941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990-A1D0-452B-8982-C441F7B2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A492-1FBD-430A-85BA-52E9A79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23E3-6C7D-47ED-9B39-C848698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17FB-86E2-4666-9E3F-879496A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FDB4-3E8C-4BA6-A9B1-3ADD023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CE69-424E-4F13-BB6E-A6252E61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3E15-59A5-4012-B203-E6763B46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276C-1A8E-41C5-8D20-3725887D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293F-154D-4291-A114-0D00B3ED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ADCA-9F34-4F3B-B8E2-0416DCF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DA46-35E6-48B6-BCE1-081E39F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3E0-805D-4249-881F-82E6AF6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3BF9-D68E-4AEB-9406-23FFAA7C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5481-AF61-45DA-AA6C-61F2E12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784A-BC3B-4DCE-B175-0C33891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ADDD-9F1C-4B6B-B9F8-729C515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7915-3E6A-4342-821C-B18F5559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D5D5-5CD2-4E05-8DB0-93E8EC9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EA6A-C34A-4D73-B37C-D1483D2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84B4-A887-481E-BE2F-7D8ABEBD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2C50-CC02-4088-89F9-997F571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155-AFC8-4274-93C1-16BC691F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233-FCB2-433B-97BA-A5C5909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7C0-EDE6-4936-A945-F3DA194B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7C7-4A40-41D9-A713-26D1A51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7EB-0A51-424A-BA21-F041DC4D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4F3-5B6C-440F-BA71-5049317BFAE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711-1B27-424E-967B-E0DBD921D65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3C2-1230-48CF-9039-181B1A65D5D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363-4D3F-47FF-84B5-8885232C5D0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042920" y="1052640"/>
            <a:ext cx="705816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hp\Desktop\صور بيئات مائية\HHV_Oahu-island-activities_Content_Beaches_455x248_x2.jpg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C:\Users\hp\Desktop\صور بيئات مائية\678016084.jpg"/>
          <p:cNvPicPr/>
          <p:nvPr/>
        </p:nvPicPr>
        <p:blipFill>
          <a:blip r:embed="rId2"/>
          <a:stretch/>
        </p:blipFill>
        <p:spPr>
          <a:xfrm>
            <a:off x="468360" y="2133720"/>
            <a:ext cx="41036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C:\Users\hp\Desktop\صور بيئات مائية\720161332031964مصايف-الفقراء-والأغنياء-(4).jpg"/>
          <p:cNvPicPr/>
          <p:nvPr/>
        </p:nvPicPr>
        <p:blipFill>
          <a:blip r:embed="rId1"/>
          <a:stretch/>
        </p:blipFill>
        <p:spPr>
          <a:xfrm>
            <a:off x="971640" y="3645000"/>
            <a:ext cx="720072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Users\hp\Desktop\صور بيئات مائية\Newport_beach.jpg"/>
          <p:cNvPicPr/>
          <p:nvPr/>
        </p:nvPicPr>
        <p:blipFill>
          <a:blip r:embed="rId2"/>
          <a:stretch/>
        </p:blipFill>
        <p:spPr>
          <a:xfrm>
            <a:off x="4356000" y="836640"/>
            <a:ext cx="4570560" cy="273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Users\hp\Desktop\صور بيئات مائية\1152.jpg"/>
          <p:cNvPicPr/>
          <p:nvPr/>
        </p:nvPicPr>
        <p:blipFill>
          <a:blip r:embed="rId3"/>
          <a:stretch/>
        </p:blipFill>
        <p:spPr>
          <a:xfrm>
            <a:off x="250920" y="692280"/>
            <a:ext cx="44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 البيئة البحرية كافة البحار والمحيطات الموجودة على سطح الكرة الأرضية والت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شكل أكثر م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98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% من ماء الكرة الأرض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صفات البيئة البحر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تتصف البيئة البحرية بعدة صفات من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شكل مساحة كبيرة من سطح الكرة الأرض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ة البحرية عميقة وتتواجد الأحياء المائية في جميع أرجائ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راوح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لوحة الماء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ppt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بابين درجات الحرارة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في المناطق الاستوائية و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في المناطق القطب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 البحرية متصلة الواحدة بالأخرى وليست منفصلة كما هي الحال في بيئة المياه العذ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6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ثل درجة الحرارة والملوحة والعمق الموانع الطبيعية الأساسية لحركة الأحياء البحرية التي تعيش في البيئات البحرية المختل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غير الغازات الذائبة تبعا للتغير في درجة الحرارة والعم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زداد الضغط في البيئة البحرية بزيادة العمق بمقدار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ضغط جوي ل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من العم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9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يبلغ متوسط العمق في المحيطات حوالي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.8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 كما يبلغ أقصى عمق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1.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0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ياه البحار والمحيطات في حالة حركة مستمرة تبعا للتيارات المختلفة ودرجة الحرا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وعوامل بيئية آخر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تميز مياه البحار والمحيطات وبصورة دائمة بأنواع مختلفة من الأمواج التي تتكون مع فتر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مد والتي تتأثر هي الآخرى بحركة الشمس والقم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ركيز المواد الغذائية الذائبة منحفض ويعد هذا العامل البيئي من العوامل المحددة لحيا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أحياء البحر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ة البحرية أكثر تغيراً في عواملها البيئية من بيئة المياه العذبة ( بيئة المياه العذبة أهدأ م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بيئة البحرية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      أهم الصعوبات والمشاكل التي تتعرض لها الأحياء البحر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تعرض الأحياء البحرية للعديد من الصعوبات والمشاكل وفيما يلى أهمها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ارت المائية أو مايعرف بـ (الخلط المائي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ظاهرة المد والجز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فاذية الضو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رة الغذ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ما سبق يتضح أن درجة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ار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تركيز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كسجين الذائب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اء 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وء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ذاء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هي أهم العوامل المؤثرة على توزيع الأحياء البح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م من هذه الضغوط التي تتعرض لها الأحياء البحرية فإن حيوانات البيئة المائية تفوق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حيوانات البيئة البرية ( الأرضية) عدداً و نوعاً باستثناء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شر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أقسام البيئة البحر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وجد</a:t>
            </a:r>
            <a:r>
              <a:rPr b="1" lang="ar-SA" sz="22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عدة طرق لتقسيم البيئة البحرية إلا أن العديد من علماء البيئة البحرية يتفق عل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قسيمها إلى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خمسة مناطق رئيس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836640"/>
            <a:ext cx="835344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مد والجزر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ntertidal zo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منطق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قاعية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Benthic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الشعاب المرجانية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منطقة المد والجزر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ntertidal zone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سمى هذه المنطة أيضا بالمنطقة الساحل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ttoral z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وتعرف بأنها المنطقة التي يغطيها الماء أثناء ظاهرة المد وينحسر عنها أثناء ظاهرة 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أهم خصائص منطقة المد و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ها مستنقعات مائية نتيجة إنحار المياه بظاهرة 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ب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غير فيها العوامل البيئية (الملوحة – الإكسجين ) بسبب ظاهرة البخر نتيجة إرتفاع درجة الحرار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ها مستنقعات مائية نتيجة إنحار المياه بظاهرة 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ب-</a:t>
            </a:r>
            <a:r>
              <a:rPr b="1" lang="ar-SA" sz="2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طبيعة منطقة المد والجزر قد تكون صخرية أو رملية أو طينية وتختلف الكائنات الت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تتواجد فيها باختلاف طبيعت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د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قد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سيم منطقة المد والجزر إلى ثلاثة أقسام ثانوية هي المنطقة العليا والوسطى والسفلى إلا أن الحدود الفاصلة بينها متداخلة ومن الصعوبة بمكان تحديدها بصورة 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كائنات منطقة المد و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حية في منطقة المد والجزر تتعرض للعديد من الصعوبات بسبب تعاقب ظاهرة المد والجزر وبالتالي:-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لابد أن يكون لها درجة عالية من التحمل والتأقلم على ظروف المنطقة خاصة وأ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تعاقب المد والجزر هي عملية دائمة و منتظم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ها له القدرة على الحفر ودفن أجسامها في المناطق الرطبة إلى أن يعود المد مرة ث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الطحالب تحتفظ بنسبة من الرطوبة بين أنسجتها للوقاية من الجفاف أثناء الجز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أهم كائنات منطقة المد و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أولاً : كائنات منطقة المد والجزر ذات القاع الرمل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الحيوانات التي لها القدرة على الحفر مثل بعض الديدان الحلقية عد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الأشواك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renicol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وبعض أنواع القشريات مثل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litr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lorchest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شوكيات الجلد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ذات المصراعي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عروفة بـ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En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نصف حبل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السرطانات الحفارة المعروفة باس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Emerit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مناطق المد والجزر الإستو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ثانياً: كائنات منطقة المد والجزر ذات القاع الطين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قشري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)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رطان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ثل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arcin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روبيا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ثل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eander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rango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ذوات الصدفتي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elli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Macom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ardiu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بطنيات القدم الصغيرة (القواقع الصغيرة)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ina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0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ديدان الحلقية مثل ديدان النيرس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ries diversicolo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irrat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طحالب الخضراء والبنية والعصوية (الدايتومات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ثالثاً: كائنات منطقة المد والجزر ذات القاع الصخري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أنواع القشريات مثل الروبيان صغير الحجم وبعض السرطان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وع من شقائق النعمان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ctin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ديدان الحلقية مثل ديدان النيرس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جم البحر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sterias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بطنيات القدم الصغيرة (القواقع الصغيرة)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ina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طحالب الخضراء والحمراء والب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من العائلة العقربية وعائلة القوبيون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Gobie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عائلة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enn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820440"/>
            <a:ext cx="822960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hp\Desktop\صور بيئات مائية\98898608.jpg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309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hp\Desktop\صور بيئات مائية\Jellyfish-North-Coast-web.jpg"/>
          <p:cNvPicPr/>
          <p:nvPr/>
        </p:nvPicPr>
        <p:blipFill>
          <a:blip r:embed="rId2"/>
          <a:stretch/>
        </p:blipFill>
        <p:spPr>
          <a:xfrm>
            <a:off x="4500720" y="4005360"/>
            <a:ext cx="395892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hp\Desktop\صور بيئات مائية\Surf_on_beach_at_Na'ama_Bay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8T20:43:23Z</dcterms:modified>
  <cp:revision>273</cp:revision>
  <dc:subject/>
  <dc:title>Principals of General Zoology (Zoo-103)</dc:title>
</cp:coreProperties>
</file>