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DE0-CC45-4194-96BD-728E97A0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348-9B32-4932-AA7A-153DB169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AE6-3F5D-4F6E-9887-8FE768C1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23D-37CE-494F-912D-2E38FE90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41C9-8E3E-4155-B583-B2F2E6D8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937A-5FA5-4574-AECC-56DB4259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2414-944C-4AB8-B90E-CE1E4E1C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9E58-631A-40F3-BAF2-3400FAF3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A9DE-6EEC-4DD6-8FDD-253CC7D4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4CA3-6FBE-4BE9-A436-E0495383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A0A8-E17D-4582-98CF-5E6CAEF8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B41-33AF-46A9-9E9F-C34BF403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26BA-A6F3-43E6-A80F-30DBFAE3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F406-A5BD-489F-922C-B00B1269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CE50-E0CE-4FB0-9273-525D6528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871C-C8A5-40FE-9538-4D28010F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1124-436A-46CD-B787-9C80171D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9763-0429-4660-9C89-EB2EDD21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818AE-D4D4-47CA-9FF5-1E563554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BD1B-A20F-415D-B3CC-B18A5A8B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A2DD-E73B-42FB-BF7B-6650170E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A50D-F88F-49DF-B9B4-E1DF635E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20C-8763-4B74-94F5-D7281104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D94A-24B9-4268-88B0-BD57F2B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5C2A-014E-4556-BC50-6AFC5465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5CDB7-6EB4-45E3-848A-257A7C63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48A45-3522-494F-B86A-E45C6E06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A14F-EDA8-464A-92D6-1B0EB6E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18F9-37B9-4777-81F2-AE41C7BB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89DE-8EC7-4C1D-B1BE-59C8F065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DA379-83E4-4FA0-9C59-3F435F96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64321-CBAD-49B9-AC12-7CDFA165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D3CA9-52F5-4C8B-A3BD-9F262B18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2E3-7723-4909-9B7D-C389771F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64EA7-EE3B-4AB9-97B6-FA9A02CB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A2A5D-E092-4094-8E74-ECBA78BC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B393D-6F87-4CAD-973E-898725DE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045C5-F1D3-41AE-B465-1CA0937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29BD-C813-442E-A6E5-4EB732B1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A89B3-841B-4147-890C-B2845456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DC7D-6A9C-4759-9720-7FF8BCCE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4D31B-36DD-43E9-8CF1-44A43744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327D5-A43D-4DC7-9EE0-6901A8E9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EBE-CA4E-4223-BE04-FCBA0439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B6F-5B00-4089-AAC6-E6619116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C0D-3FAC-4B67-B5DD-74E013B9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36D-3670-446E-9C13-9CA8A580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92E-1CE0-4D7E-8A51-19525625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462E-011E-4E99-99E1-1A7FF8C54BC8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7AB9-CE1C-41C1-BCFF-DBADC7804E6B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067A-F590-4D87-8977-CDC8068A77DF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BD65-7D88-4AF4-AD04-15AC681CF0D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116000" y="5661000"/>
            <a:ext cx="69850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90560" y="5950080"/>
            <a:ext cx="583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         1438-143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042920" y="1052640"/>
            <a:ext cx="705816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quatic Ecology – Zoo 374     2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C:\Users\hp\Desktop\صور بيئات مائية\HHV_Oahu-island-activities_Content_Beaches_455x248_x2.jpg"/>
          <p:cNvPicPr/>
          <p:nvPr/>
        </p:nvPicPr>
        <p:blipFill>
          <a:blip r:embed="rId1"/>
          <a:stretch/>
        </p:blipFill>
        <p:spPr>
          <a:xfrm>
            <a:off x="4572000" y="2133720"/>
            <a:ext cx="4032360" cy="3382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C:\Users\hp\Desktop\صور بيئات مائية\678016084.jpg"/>
          <p:cNvPicPr/>
          <p:nvPr/>
        </p:nvPicPr>
        <p:blipFill>
          <a:blip r:embed="rId2"/>
          <a:stretch/>
        </p:blipFill>
        <p:spPr>
          <a:xfrm>
            <a:off x="468360" y="2133720"/>
            <a:ext cx="41036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C:\Users\hp\Desktop\صور بيئات مائية\720161332031964مصايف-الفقراء-والأغنياء-(4).jpg"/>
          <p:cNvPicPr/>
          <p:nvPr/>
        </p:nvPicPr>
        <p:blipFill>
          <a:blip r:embed="rId1"/>
          <a:stretch/>
        </p:blipFill>
        <p:spPr>
          <a:xfrm>
            <a:off x="971640" y="3645000"/>
            <a:ext cx="720072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:\Users\hp\Desktop\صور بيئات مائية\Newport_beach.jpg"/>
          <p:cNvPicPr/>
          <p:nvPr/>
        </p:nvPicPr>
        <p:blipFill>
          <a:blip r:embed="rId2"/>
          <a:stretch/>
        </p:blipFill>
        <p:spPr>
          <a:xfrm>
            <a:off x="4356000" y="836640"/>
            <a:ext cx="4570560" cy="2735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C:\Users\hp\Desktop\صور بيئات مائية\1152.jpg"/>
          <p:cNvPicPr/>
          <p:nvPr/>
        </p:nvPicPr>
        <p:blipFill>
          <a:blip r:embed="rId3"/>
          <a:stretch/>
        </p:blipFill>
        <p:spPr>
          <a:xfrm>
            <a:off x="250920" y="692280"/>
            <a:ext cx="4465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rine Environment (Habitat)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البيئة البحرية</a:t>
            </a:r>
            <a:r>
              <a:rPr b="0" lang="ar-SA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   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4000" y="1341360"/>
            <a:ext cx="849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ضم البيئة البحرية كافة البحار والمحيطات الموجودة على سطح الكرة الأرضية والت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تشكل أكثر م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98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% من ماء الكرة الأرض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◄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صفات البيئة البحر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Arial Unicode MS"/>
              </a:rPr>
              <a:t>تتصف البيئة البحرية بعدة صفات من أهم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شكل مساحة كبيرة من سطح الكرة الأرض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ة البحرية عميقة وتتواجد الأحياء المائية في جميع أرجائ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راوح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لوحة الماء بي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5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40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ppt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بابين درجات الحرارة بي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°م في المناطق الاستوائية وبي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°م في المناطق القطب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5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 البحرية متصلة الواحدة بالأخرى وليست منفصلة كما هي الحال في بيئة المياه العذب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6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مثل درجة الحرارة والملوحة والعمق الموانع الطبيعية الأساسية لحركة الأحياء البحرية التي تعيش في البيئات البحرية المختلف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920" y="836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7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غير الغازات الذائبة تبعا للتغير في درجة الحرارة والعم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8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زداد الضغط في البيئة البحرية بزيادة العمق بمقدار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ضغط جوي لكل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 من العم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9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يبلغ متوسط العمق في المحيطات حوالي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.8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كم كما يبلغ أقصى عمق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1.4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ك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0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ياه البحار والمحيطات في حالة حركة مستمرة تبعا للتيارات المختلفة ودرجة الحرار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وعوامل بيئية آخرى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1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تتميز مياه البحار والمحيطات وبصورة دائمة بأنواع مختلفة من الأمواج التي تتكون مع فتر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المد والتي تتأثر هي الآخرى بحركة الشمس والقم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2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تركيز المواد الغذائية الذائبة منحفض ويعد هذا العامل البيئي من العوامل المحددة لحيا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الأحياء البحر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3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ة البحرية أكثر تغيراً في عواملها البيئية من بيئة المياه العذبة ( بيئة المياه العذبة أهدأ م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البيئة البحرية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Stencil"/>
                <a:ea typeface="Arial Unicode MS"/>
              </a:rPr>
              <a:t>         أهم الصعوبات والمشاكل التي تتعرض لها الأحياء البحري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تتعرض الأحياء البحرية للعديد من الصعوبات والمشاكل وفيما يلى أهمها 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يارت المائية أو مايعرف بـ (الخلط المائي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ظاهرة المد والجز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فاذية الضوء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فرة الغذاء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ما سبق يتضح أن درجة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رار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 تركيز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كسجين الذائب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ماء و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ضوء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ذاء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هي أهم العوامل المؤثرة على توزيع الأحياء البح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الرغم من هذه الضغوط التي تتعرض لها الأحياء البحرية فإن حيوانات البيئة المائية تفوق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حيوانات البيئة البرية ( الأرضية) عدداً و نوعاً باستثناء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شر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Stencil"/>
                <a:ea typeface="Arial Unicode MS"/>
              </a:rPr>
              <a:t>  أقسام البيئة البحرية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توجد</a:t>
            </a:r>
            <a:r>
              <a:rPr b="1" lang="ar-SA" sz="2200" spc="-1" strike="noStrike">
                <a:solidFill>
                  <a:srgbClr val="0000ff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عدة طرق لتقسيم البيئة البحرية إلا أن العديد من علماء البيئة البحرية يتفق على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قسيمها إلى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خمسة مناطق رئيس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95280" y="836640"/>
            <a:ext cx="835344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المد والجزر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ntertidal zo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الجرف القاري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ntinental zone</a:t>
            </a:r>
            <a:r>
              <a:rPr b="1" lang="en-US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 أعالي البحار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ceanic zone</a:t>
            </a:r>
            <a:r>
              <a:rPr b="1" lang="en-US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المنطق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القاعية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Benthic zone</a:t>
            </a:r>
            <a:r>
              <a:rPr b="1" lang="en-US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منطقةالشعاب المرجانية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ral reef zone</a:t>
            </a:r>
            <a:r>
              <a:rPr b="1" lang="en-US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                 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Stencil"/>
                <a:cs typeface="Arial Unicode MS"/>
              </a:rPr>
              <a:t>منطقة المد والجزر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ntertidal zone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سمى هذه المنطة أيضا بالمنطقة الساحلية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ittoral zon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وتعرف بأنها المنطقة التي يغطيها الماء أثناء ظاهرة المد وينحسر عنها أثناء ظاهرة الجز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1" lang="ar-SA" sz="2000" spc="-1" strike="noStrike">
                <a:solidFill>
                  <a:srgbClr val="0000ff"/>
                </a:solidFill>
                <a:latin typeface="Stencil"/>
                <a:cs typeface="Arial Unicode MS"/>
              </a:rPr>
              <a:t>أهم خصائص منطقة المد والجز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أ-</a:t>
            </a:r>
            <a:r>
              <a:rPr b="1" lang="ar-SA" sz="20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ها مستنقعات مائية نتيجة إنحار المياه بظاهرة الجزر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ب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غير فيها العوامل البيئية (الملوحة – الإكسجين ) بسبب ظاهرة البخر نتيجة إرتفاع درجة الحرار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ج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ها مستنقعات مائية نتيجة إنحار المياه بظاهرة الجزر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ب-</a:t>
            </a:r>
            <a:r>
              <a:rPr b="1" lang="ar-SA" sz="28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طبيعة منطقة المد والجزر قد تكون صخرية أو رملية أو طينية وتختلف الكائنات الت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تتواجد فيها باختلاف طبيعت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cs typeface="Arial Unicode MS"/>
              </a:rPr>
              <a:t>د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قد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</a:t>
            </a: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قسيم منطقة المد والجزر إلى ثلاثة أقسام ثانوية هي المنطقة العليا والوسطى والسفلى إلا أن الحدود الفاصلة بينها متداخلة ومن الصعوبة بمكان تحديدها بصورة جيد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</a:t>
            </a:r>
            <a:r>
              <a:rPr b="1" lang="ar-SA" sz="2000" spc="-1" strike="noStrike">
                <a:solidFill>
                  <a:srgbClr val="0000ff"/>
                </a:solidFill>
                <a:latin typeface="Stencil"/>
                <a:cs typeface="Arial Unicode MS"/>
              </a:rPr>
              <a:t>كائنات منطقة المد والجز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ائنات الحية في منطقة المد والجزر تتعرض للعديد من الصعوبات بسبب تعاقب ظاهرة المد والجزر وبالتالي:-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لابد أن يكون لها درجة عالية من التحمل والتأقلم على ظروف المنطقة خاصة وأ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تعاقب المد والجزر هي عملية دائمة و منتظم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ها له القدرة على الحفر ودفن أجسامها في المناطق الرطبة إلى أن يعود المد مرة ثا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 الطحالب تحتفظ بنسبة من الرطوبة بين أنسجتها للوقاية من الجفاف أثناء الجز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tenci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920" y="764640"/>
            <a:ext cx="864216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Stencil"/>
                <a:cs typeface="Arial Unicode MS"/>
              </a:rPr>
              <a:t>أهم كائنات منطقة المد والجزر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Stencil"/>
                <a:cs typeface="Arial Unicode MS"/>
              </a:rPr>
              <a:t>أولاً : كائنات منطقة المد والجزر ذات القاع الرملي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ن الحيوانات التي لها القدرة على الحفر مثل بعض الديدان الحلقية عديد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الأشواك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Arenicola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 وبعض أنواع القشريات مثل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alitru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alorchest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ن شوكيات الجلد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Stencil"/>
                <a:ea typeface="Arial Unicode MS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رخويات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ذات المصراعين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عروفة بـ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En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النصف حبلي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من السرطانات الحفارة المعروفة باس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Emerita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في مناطق المد والجزر الإستوائ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Stencil"/>
                <a:cs typeface="Arial Unicode MS"/>
              </a:rPr>
              <a:t>ثانياً: كائنات منطقة المد والجزر ذات القاع الطيني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القشريات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)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رطانات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ثل النوع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Carcinu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روبيان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ثل النوع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Leander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Crangon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   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ar-SA" sz="2200" spc="-1" strike="noStrike">
                <a:solidFill>
                  <a:srgbClr val="000000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رخويات من ذوات الصدفتين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ellia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Macoma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Cardiu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Stencil"/>
                <a:ea typeface="Arial Unicode MS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رخويات من بطنيات القدم الصغيرة (القواقع الصغيرة)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Littorina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Littore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ar-SA" sz="2000" spc="-1" strike="noStrike">
                <a:solidFill>
                  <a:srgbClr val="000000"/>
                </a:solidFill>
                <a:latin typeface="Stencil"/>
                <a:ea typeface="Arial Unicode MS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الديدان الحلقية مثل ديدان النيرس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eries diversicolo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irratul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الطحالب الخضراء والبنية والعصوية (الدايتومات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Stencil"/>
                <a:cs typeface="Arial Unicode MS"/>
              </a:rPr>
              <a:t>ثالثاً: كائنات منطقة المد والجزر ذات القاع الصخري</a:t>
            </a:r>
            <a:r>
              <a:rPr b="1" lang="ar-SA" sz="2000" spc="-1" strike="noStrike">
                <a:solidFill>
                  <a:srgbClr val="0000ff"/>
                </a:solidFill>
                <a:latin typeface="Stenci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Stencil"/>
                <a:ea typeface="Arial Unicode MS"/>
              </a:rPr>
              <a:t>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 أنواع القشريات مثل الروبيان صغير الحجم وبعض السرطان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   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وع من شقائق النعمان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Actin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Stencil"/>
                <a:ea typeface="Arial Unicode MS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ar-SA" sz="2200" spc="-1" strike="noStrike">
                <a:solidFill>
                  <a:srgbClr val="000000"/>
                </a:solidFill>
                <a:latin typeface="Stencil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الديدان الحلقية مثل ديدان النيرس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Ner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جم البحر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Asterias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رخويات من بطنيات القدم الصغيرة (القواقع الصغيرة)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Littorina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Littore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ض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الطحالب الخضراء والحمراء والبن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Stencil"/>
                <a:ea typeface="Arial Unicode MS"/>
              </a:rPr>
              <a:t>  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سماك من العائلة العقربية وعائلة القوبيون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Gobie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عائلة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Blenn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820440"/>
            <a:ext cx="822960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C:\Users\hp\Desktop\صور بيئات مائية\98898608.jpg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3097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:\Users\hp\Desktop\صور بيئات مائية\Jellyfish-North-Coast-web.jpg"/>
          <p:cNvPicPr/>
          <p:nvPr/>
        </p:nvPicPr>
        <p:blipFill>
          <a:blip r:embed="rId2"/>
          <a:stretch/>
        </p:blipFill>
        <p:spPr>
          <a:xfrm>
            <a:off x="4500720" y="4005360"/>
            <a:ext cx="3958920" cy="2232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C:\Users\hp\Desktop\صور بيئات مائية\Surf_on_beach_at_Na'ama_Bay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08T20:43:23Z</dcterms:modified>
  <cp:revision>273</cp:revision>
  <dc:subject/>
  <dc:title>Principals of General Zoology (Zoo-103)</dc:title>
</cp:coreProperties>
</file>