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007-872A-496E-AE01-8E7CE52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67E-5524-48A4-BF5A-9A4D678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B79-9245-43B5-B0EB-59BEE301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9FD-00DB-4AC7-B0F4-F8D5F93D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D79-87EE-4E53-BF0E-5B792200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D6F-2C1C-4467-AE72-05D5691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3BAF-78A8-4860-ADE3-11D058A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46C0-93B9-425D-A866-252D508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999-DE6F-447E-8691-BE08E34E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1963-128E-4209-8F97-9407F14B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965-7343-402B-91CC-02CAD28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913-831C-4A86-B2C7-423E09A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2ED-BBEB-4693-823E-512EBEB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F257-8FAD-42FA-94EB-4E6D07A5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F84-CD86-4E71-9F8B-652CADE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6142-8B33-42E2-B858-EAEACA7F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D834-305F-46AC-8E2B-0ABCC03A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DAA4-5484-4D7C-AEBC-C2FB5A7B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932F-8BCB-42CF-849E-94E3C343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E3F4-96E6-405C-877B-57A1FB23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0852-CD2F-499B-9C1A-17D9853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3044-7DC5-4475-9816-3ED23F9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A0F-918F-4F1B-9413-28B0C05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257C-7B7D-4235-AE07-AC81367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88C4-EBD8-4951-96C8-8AF1114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5CF6-0DC4-41FC-BEA9-6C1C67E5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F78D-1570-4851-8A1F-679ACFB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6F43-E3CA-4F63-BD98-B7EAE50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893B-F85A-4091-9968-F68BBD2A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20B9-6DC9-49AC-B65D-C221140D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5B31-D43A-4079-8EB8-004CD9E8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C5BB-1E37-4AE4-913E-DC05B5B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25D3-0C55-40AA-B796-6445A90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662-F06C-4D03-B970-67C3B7E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94CC-3849-443D-AFC9-BB18FE8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7A63-FCD2-4E72-B867-6743060F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37A1-150C-4045-8649-54E530D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DF9E-1954-4AF6-93A1-67B8178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26EF-6701-4061-BFFB-DAF4935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8DB1-3967-46E1-8948-7F5A07F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FDB9-25F1-4E0E-9D95-4611C754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3E77-BC8D-4C41-84EC-021BE199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EB24-1962-407D-89D6-9AE9F77D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CC7-5168-4B5B-AAE0-A2E26B1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6E7-8CC9-4036-BD14-7C3CAAA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F98-AD7F-4E63-A618-4399334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51D-EBB8-4064-A78C-7C01CD3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D81-1DCC-4B07-89C6-1ADBF14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652-8741-4C7C-9A25-AF72012C3A4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0911-8829-4056-AC72-2C09558F078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4BEA-7907-4E45-8E21-A185EF3BD3F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F15-42C7-4B1E-BE89-88F9594819B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أحواض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Ta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C:\Users\hp\Desktop\صور إستزراع سمكي\enviro2.jpg"/>
          <p:cNvPicPr/>
          <p:nvPr/>
        </p:nvPicPr>
        <p:blipFill>
          <a:blip r:embed="rId1"/>
          <a:stretch/>
        </p:blipFill>
        <p:spPr>
          <a:xfrm>
            <a:off x="539640" y="1916280"/>
            <a:ext cx="4392720" cy="25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Users\hp\Desktop\صور إستزراع سمكي\392204005.jpg"/>
          <p:cNvPicPr/>
          <p:nvPr/>
        </p:nvPicPr>
        <p:blipFill>
          <a:blip r:embed="rId2"/>
          <a:stretch/>
        </p:blipFill>
        <p:spPr>
          <a:xfrm>
            <a:off x="4788000" y="3860640"/>
            <a:ext cx="3816360" cy="262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:\Users\hp\Desktop\صور إستزراع سمكي\f15.JPG"/>
          <p:cNvPicPr/>
          <p:nvPr/>
        </p:nvPicPr>
        <p:blipFill>
          <a:blip r:embed="rId3"/>
          <a:stretch/>
        </p:blipFill>
        <p:spPr>
          <a:xfrm>
            <a:off x="5003640" y="1916280"/>
            <a:ext cx="3600720" cy="208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hp\Desktop\صور إستزراع سمكي\35500-الاستزراع-السمكى-(1) (1).jpg"/>
          <p:cNvPicPr/>
          <p:nvPr/>
        </p:nvPicPr>
        <p:blipFill>
          <a:blip r:embed="rId4"/>
          <a:stretch/>
        </p:blipFill>
        <p:spPr>
          <a:xfrm>
            <a:off x="53964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hp\Desktop\صور إستزراع سمكي\images.jpg"/>
          <p:cNvPicPr/>
          <p:nvPr/>
        </p:nvPicPr>
        <p:blipFill>
          <a:blip r:embed="rId5"/>
          <a:stretch/>
        </p:blipFill>
        <p:spPr>
          <a:xfrm>
            <a:off x="2843280" y="4149720"/>
            <a:ext cx="2665440" cy="2317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فنتوري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ـرف الفنتـوري والذي ينسـب إلى الفيزيـــائي الإيطـالي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tur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 تثب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اسورة رأس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ول ماسورة أخرى أصغر منها فى القط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ثبتة والمخلف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عالقة بالتفريغ تجبر على الدخول من الفتحات إلى الفراغ بين الماسورتين ومن ث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خروج من الحوض من خلال الفتحة العلوية للماسورة الداخلية التي تعمل عندئ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محـدد لمستوى المياه بالحوض ، ويمكن صرف مياه الحوض بإبعاد الماسو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داخلية عن فتحة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Untitled-6"/>
          <p:cNvPicPr/>
          <p:nvPr/>
        </p:nvPicPr>
        <p:blipFill>
          <a:blip r:embed="rId1"/>
          <a:stretch/>
        </p:blipFill>
        <p:spPr>
          <a:xfrm>
            <a:off x="1332000" y="3500280"/>
            <a:ext cx="4319640" cy="295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9280" y="62064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تهو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تهوية توفير الأكسجين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ائب في الماء كي تتنفس الأسماك والذي يتم  توفيره بأحد الوسائل التال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هوائية خاصة خارج الأحواض تقوم بضخ الهواء خلال أنابيب مثقبة     تمتد داخل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خاصة تعمل كنوافير في وسط الحوض لتدفع الماء إلى أعلى  فيؤدي ذلك إلى امتزاجه بالهواء ومن ثم يعود للحوض محملاً بالأكسج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9" descr="C:\Users\hp\Desktop\صور إستزراع سمكي\392204005.jpg"/>
          <p:cNvPicPr/>
          <p:nvPr/>
        </p:nvPicPr>
        <p:blipFill>
          <a:blip r:embed="rId1"/>
          <a:stretch/>
        </p:blipFill>
        <p:spPr>
          <a:xfrm>
            <a:off x="1619280" y="4005360"/>
            <a:ext cx="5616720" cy="26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نظام التربية المغلق (مزارع المياه الجارية نصف المفتوحة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 يتم دوران الماء داخل نظام مغلق لأجل تنقيته ومن ثم إعادة ضخه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حواض ويتطلب هذا النظام وجود الوحدات التال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إزالة الدقائق الصلبة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Removal of particulate mat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اتجة من مخلفات الأسماك ومن فائض الغذاء ويتم ذلك إما بالترسيب أو باستخدا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فلترة الميكانيكية إلا أنه في حالة الفلترة يجب المحافظة على التنظيف المستمر للفلات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الفلترة الحيوية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Biological filtration unit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التخلص من الأمونيا والنتريت نظراً لخطورتهم على حياة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تنظيم الرقم الهيدروجيني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Buffering of p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تتم معالجة تحول المياه نحو الحامضية ويتضمن عمل هذه الوحدة التخلص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ثاني اكسيد الكربون واضافة مـواد لرفع قاعـدية الميـاه مثل بيكربونـات الكالسـيو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( سريعة الذوبان ) أو كربونات الكالسيوم ( بطيئة الذوبان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4000" y="765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Aeration unit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3-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التهوية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تزويد الماء بالهواء وقد يتم تزويده بالأكسجين مباشرة ( أكسجة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xyge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إلا أن أجهزة توليد أو ضخ الأكسجين قد تكون مرتفعة التكالي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5" descr="C:\Users\hp\Desktop\صور إستزراع سمكي\recirculation-systems.jpg"/>
          <p:cNvPicPr/>
          <p:nvPr/>
        </p:nvPicPr>
        <p:blipFill>
          <a:blip r:embed="rId1"/>
          <a:stretch/>
        </p:blipFill>
        <p:spPr>
          <a:xfrm>
            <a:off x="1116000" y="2637000"/>
            <a:ext cx="6912000" cy="367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أحواض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Ta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213336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الأسماك في الأحـواض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ank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إسمنتية أو الفيبرجلاس أو البلاسـتي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ضغوط أو ماد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من أي مادة أخرى )  يتم اللجوء لاستخدامها بديلاً ع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برك الترابية في الحالات التال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اطق الزراعية التي تتميز بخصوبة أراضيها حيث من الأنسب استغلالها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زراعات النباتية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اطق الصحراوية تعتبر غير مناسبة لأن طبيعة التربة فيها لا تسمح بالاحتفا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مياه الضرورية لإنتاج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زراع السـمكي في البرك الترابيـة يحـتاج لكـميات كبيـرة من الميـاه ق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ا تتوفر بسهولة في مناطق كثي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3495c"/>
                </a:solidFill>
                <a:latin typeface="Constantia"/>
                <a:cs typeface="Majalla UI"/>
              </a:rPr>
              <a:t>مميزات الإستزراع في الأحوا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لتحكم في مواصفات المياه داخل الأحواض من حيث الأكسجين الذائب 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رقم الهيدروجيني ، مستويات الأموني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ستخدام الأحواض في المناطق ذات درجات الحرارة المختلفة حيث يسه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هذه الحالة استخدام أحد أنظمة التهوية أو التغطية وربما التدفئة للمحافظة ع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درجة الحرارة المناسبة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زراع في الأحواض يتيح الفرصة الأكبر للسيطرة على الأمراض وعلاج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أقل التكالي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هولة التحكم في عملية التفريخ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لاستزراع بنظـام الدائرة المغلقة مما يتيـح التوفـير الكبيرة جداً في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يح استخدام التقنيات الحـديثة والتي تؤدي إلى الحصول على الإنتاجية الأفض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3495c"/>
                </a:solidFill>
                <a:latin typeface="Constantia"/>
                <a:cs typeface="Majalla UI"/>
              </a:rPr>
              <a:t>الشروط الواجب توافرها في مواد صناعة الأحوا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ن تكون المواد المستخدمة في تصنيعها رخيصة الثمن إلى حد ما ومتوف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لا تكون المواد المستخدمة في تصنيعها سامة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لا تكون من المواد القابلة للتآك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3495c"/>
                </a:solidFill>
                <a:latin typeface="Constantia"/>
                <a:cs typeface="Majalla UI"/>
              </a:rPr>
              <a:t>مواصفات الأحواض</a:t>
            </a:r>
            <a:r>
              <a:rPr b="1" lang="ar-SA" sz="2600" spc="-1" strike="noStrike">
                <a:solidFill>
                  <a:srgbClr val="ff3300"/>
                </a:solidFill>
                <a:latin typeface="Arial"/>
                <a:ea typeface="Arial"/>
              </a:rPr>
              <a:t>►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من حيث شـكل الأحواض فإنها يمكن أن تكون (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مستطيلة</a:t>
            </a:r>
            <a:r>
              <a:rPr b="0" lang="ar-SA" sz="26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أو</a:t>
            </a:r>
            <a:r>
              <a:rPr b="0" lang="ar-SA" sz="26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مربع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متعددة الأضلاع ذات أشكال سداسية أو ثمانية  أو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دائري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حواض المستطي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واض المستطيلة هي الأكثر انتشاراً في المزارع السمكية نظراً لأنها أقل تكلف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لسهولة صيد الأسماك منه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أبعاد الأحواض تبعاً للغرض من التربية ، غير أنه يفضل الحفاظ على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ب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بين الطول : العرض : الارتفاع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يراعى عند إنشاء الأحواض المستطيلة عمل الميل المناسب لمسطح القاع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C:\Users\hp\Desktop\صور إستزراع سمكي\f15.JPG"/>
          <p:cNvPicPr/>
          <p:nvPr/>
        </p:nvPicPr>
        <p:blipFill>
          <a:blip r:embed="rId1"/>
          <a:stretch/>
        </p:blipFill>
        <p:spPr>
          <a:xfrm>
            <a:off x="539640" y="2205000"/>
            <a:ext cx="374508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hp\Desktop\صور إستزراع سمكي\1387266922957.png"/>
          <p:cNvPicPr/>
          <p:nvPr/>
        </p:nvPicPr>
        <p:blipFill>
          <a:blip r:embed="rId2"/>
          <a:stretch/>
        </p:blipFill>
        <p:spPr>
          <a:xfrm>
            <a:off x="4211640" y="220500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360" y="893880"/>
            <a:ext cx="82072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حواض الدائر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الباً ما تستخدم في تربية الأمهات كما تستخدم في تحضين زريعة بعض أنو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تختلف أبعاد هذه الأحواض حسب نوع التربية ، حيث يمكن أن يصل قطرها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إلا أن الشـائع منها يتراوح قطره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 وعمقه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2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هو المستخدم في تربية أسماك البلط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الباً ما يكون القاع مائلا نحو المرك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8" descr="C:\Users\hp\Desktop\صور إستزراع سمكي\1375_FrontPage-300x225.jpg"/>
          <p:cNvPicPr/>
          <p:nvPr/>
        </p:nvPicPr>
        <p:blipFill>
          <a:blip r:embed="rId1"/>
          <a:stretch/>
        </p:blipFill>
        <p:spPr>
          <a:xfrm>
            <a:off x="611280" y="3933720"/>
            <a:ext cx="403200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نظام الري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طلب نظام التربية المفتوحة (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جارية أو المياه المتجددة)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جود نظام أو وسيلة لنقل المياه إلى الأحواض (الري) وفيما يلي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جميع اشكال الأحواض يعتبر نظام الري المتوازي هـو الأفضل ، حيث يتم ر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كل حوض على حده وبذلك يتم التحكم في مياه الأحواض بشكل فردي كلٌ حسب احتياجه تبعاً لنوع التربية في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صر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في الأحواض المستطيل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قاعي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تكون فتحة الصرف في الناحية الأدني من قاع الحو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1" descr="C:\Users\hp\Desktop\صور إستزراع سمكي\35500-الاستزراع-السمكى-(1) (1).jpg"/>
          <p:cNvPicPr/>
          <p:nvPr/>
        </p:nvPicPr>
        <p:blipFill>
          <a:blip r:embed="rId1"/>
          <a:stretch/>
        </p:blipFill>
        <p:spPr>
          <a:xfrm>
            <a:off x="684360" y="2997360"/>
            <a:ext cx="4895640" cy="216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نظـام شفط الماء الزائد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Overflow suction pipe system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)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فيه يمـر الماء حاملاً معه المخلفات من فتحات عند قاعدة ماسورة رأسية مثبت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ول ماسورة أصغر منها في القطر عند فتحة الصرف فى الجانب الأدنى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حوض ليتدفق المـاء إلى الخارج من خلال الفتح العلوية للماسورة الداخ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فتحة ري الحـوض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حـوض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فتحات عند قاعـدة الماسـورة الكبي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الماسورة الكبيرة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الماسورة الصغي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Untitled-1"/>
          <p:cNvPicPr/>
          <p:nvPr/>
        </p:nvPicPr>
        <p:blipFill>
          <a:blip r:embed="rId1"/>
          <a:stretch/>
        </p:blipFill>
        <p:spPr>
          <a:xfrm>
            <a:off x="1619280" y="2708280"/>
            <a:ext cx="6121440" cy="224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في الأحواض الدائر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قاعي :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يكون القاع مائلا نحو المركز وعليه فإن المخلفات المتراكمة في الق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سقط بالجاذبية إلى فتحة الصرف السفلية وبالتالي يكون من السهل التخلص من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لى أن تزود الفتحة بشـبكة تسمح بمرور المخلفات ولا تسـمح للأسماك بالمرو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Untitled-3"/>
          <p:cNvPicPr/>
          <p:nvPr/>
        </p:nvPicPr>
        <p:blipFill>
          <a:blip r:embed="rId1"/>
          <a:stretch/>
        </p:blipFill>
        <p:spPr>
          <a:xfrm>
            <a:off x="1763640" y="3213000"/>
            <a:ext cx="561672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11T20:52:00Z</dcterms:modified>
  <cp:revision>415</cp:revision>
  <dc:subject/>
  <dc:title>Principals of General Zoology (Zoo-103)</dc:title>
</cp:coreProperties>
</file>