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D0C-75EE-47BE-B497-AB221989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14B-67B5-4B9D-A379-E99AEF1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A66-7EBA-4ACC-9E8F-82DAABD8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1E3-C3A6-453A-8CEE-A2D62CC2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2F3-8E4B-4879-AA90-17FC61A6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3CF-93AB-4F54-AC35-89CEC45C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81CF-81A7-47CA-92B3-5FD7D888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7C64-0BD1-4AA7-A765-BEB98F70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47D9-EAB3-4BE1-BD37-DB0E343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FF2-4238-42AA-AF6E-D4E3117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A59-964A-4E14-8EBF-A4347D1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EA4-8DAB-430E-AFBB-18126E0E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082-D7F8-4777-B1F8-966A65E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9D5-FFFE-46FB-A8EB-0BBBD18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3BBF-5354-4D05-8470-8DCC4AEA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81E-D321-4964-9DA0-0DD210F4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C934-2694-4ED6-8E32-93781C16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6A93-E41E-4F64-AABF-13BCD630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4922-1A28-4ABC-917D-500D3FC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7273-F98C-43C7-85D7-0C8D5555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DF679-5951-4016-984E-9B02C5E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6E56-D746-45D5-BDC3-BC2B2C5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A6C-A1F3-4B64-8091-70E1AAE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4134-06C7-452C-91F2-68D36B7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2218-4D14-4F25-B3A8-80D3107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B7A8-EB8F-4E53-A2E3-566BF93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29C0-7B59-4DD7-97C8-5416F9D3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6BCE-59D0-4D98-802D-10360E3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A15E-89A9-4B1F-8144-F96C4853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78E4-112E-4B7B-AEC5-60A12257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FFFF-87F0-4CC9-95D8-EC6DEBE8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32B1-EA3A-48B2-99A7-D0580D73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97FC-BBAD-41CF-93B2-1CF427E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A40-A73B-4682-AC31-B776D21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116F-5436-4D2E-B2AF-D36D998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F03F-E1D9-4F54-B967-91E86975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BD9E-FDD5-4E34-9FB4-DF0336E9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4014-FD1B-4D27-966E-BD52743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AC0B-C85C-4850-B83C-72FB1C0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3633-14A0-4961-8C32-366F719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0A33-A6FB-411D-8228-9509557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75D9C-C3C1-4EB1-A36B-93818AC2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63E9-E067-4184-A76B-B1B2CD85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C6E-2526-4A63-B316-290777E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BA4-4524-447C-95A2-3BD8165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281-493B-463A-9B54-5A52468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9F6-4FC9-4635-9111-20E2668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571-DF64-4C40-9652-5423C5E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04EC-DA33-4B4C-8C6A-5668750BB8F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8BB-4733-4831-B064-76C37543E1F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485E-C7E1-46FF-B4AD-F13BF2F5E17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7B4F-BC03-4534-859D-4A1B80A112E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أحواض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Ta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C:\Users\hp\Desktop\صور إستزراع سمكي\enviro2.jpg"/>
          <p:cNvPicPr/>
          <p:nvPr/>
        </p:nvPicPr>
        <p:blipFill>
          <a:blip r:embed="rId1"/>
          <a:stretch/>
        </p:blipFill>
        <p:spPr>
          <a:xfrm>
            <a:off x="539640" y="1916280"/>
            <a:ext cx="4392720" cy="252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Users\hp\Desktop\صور إستزراع سمكي\392204005.jpg"/>
          <p:cNvPicPr/>
          <p:nvPr/>
        </p:nvPicPr>
        <p:blipFill>
          <a:blip r:embed="rId2"/>
          <a:stretch/>
        </p:blipFill>
        <p:spPr>
          <a:xfrm>
            <a:off x="4788000" y="3860640"/>
            <a:ext cx="3816360" cy="262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:\Users\hp\Desktop\صور إستزراع سمكي\f15.JPG"/>
          <p:cNvPicPr/>
          <p:nvPr/>
        </p:nvPicPr>
        <p:blipFill>
          <a:blip r:embed="rId3"/>
          <a:stretch/>
        </p:blipFill>
        <p:spPr>
          <a:xfrm>
            <a:off x="5003640" y="1916280"/>
            <a:ext cx="3600720" cy="208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hp\Desktop\صور إستزراع سمكي\35500-الاستزراع-السمكى-(1) (1).jpg"/>
          <p:cNvPicPr/>
          <p:nvPr/>
        </p:nvPicPr>
        <p:blipFill>
          <a:blip r:embed="rId4"/>
          <a:stretch/>
        </p:blipFill>
        <p:spPr>
          <a:xfrm>
            <a:off x="53964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hp\Desktop\صور إستزراع سمكي\images.jpg"/>
          <p:cNvPicPr/>
          <p:nvPr/>
        </p:nvPicPr>
        <p:blipFill>
          <a:blip r:embed="rId5"/>
          <a:stretch/>
        </p:blipFill>
        <p:spPr>
          <a:xfrm>
            <a:off x="2843280" y="4149720"/>
            <a:ext cx="2665440" cy="2317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فنتوري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ـرف الفنتـوري والذي ينسـب إلى الفيزيـــائي الإيطـالي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tur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 تثب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اسورة رأس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ول ماسورة أخرى أصغر منها فى القط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ثبتة والمخلف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عالقة بالتفريغ تجبر على الدخول من الفتحات إلى الفراغ بين الماسورتين ومن ث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خروج من الحوض من خلال الفتحة العلوية للماسورة الداخلية التي تعمل عندئ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محـدد لمستوى المياه بالحوض ، ويمكن صرف مياه الحوض بإبعاد الماسو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داخلية عن فتحة الصر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Untitled-6"/>
          <p:cNvPicPr/>
          <p:nvPr/>
        </p:nvPicPr>
        <p:blipFill>
          <a:blip r:embed="rId1"/>
          <a:stretch/>
        </p:blipFill>
        <p:spPr>
          <a:xfrm>
            <a:off x="1332000" y="3500280"/>
            <a:ext cx="4319640" cy="295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9280" y="62064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تهو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تهوية توفير الأكسجين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ذائب في الماء كي تتنفس الأسماك والذي يتم  توفيره بأحد الوسائل التال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هوائية خاصة خارج الأحواض تقوم بضخ الهواء خلال أنابيب مثقبة     تمتد داخل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ـ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ضخات خاصة تعمل كنوافير في وسط الحوض لتدفع الماء إلى أعلى  فيؤدي ذلك إلى امتزاجه بالهواء ومن ثم يعود للحوض محملاً بالأكسج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9" descr="C:\Users\hp\Desktop\صور إستزراع سمكي\392204005.jpg"/>
          <p:cNvPicPr/>
          <p:nvPr/>
        </p:nvPicPr>
        <p:blipFill>
          <a:blip r:embed="rId1"/>
          <a:stretch/>
        </p:blipFill>
        <p:spPr>
          <a:xfrm>
            <a:off x="1619280" y="4005360"/>
            <a:ext cx="5616720" cy="262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 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نظام التربية المغلق (مزارع المياه الجارية نصف المفتوحة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 يتم دوران الماء داخل نظام مغلق لأجل تنقيته ومن ثم إعادة ضخه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حواض ويتطلب هذا النظام وجود الوحدات التال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إزالة الدقائق الصلبة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Removal of particulate mat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اتجة من مخلفات الأسماك ومن فائض الغذاء ويتم ذلك إما بالترسيب أو باستخدا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فلترة الميكانيكية إلا أنه في حالة الفلترة يجب المحافظة على التنظيف المستمر للفلات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الفلترة الحيوية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Biological filtration unit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التخلص من الأمونيا والنتريت نظراً لخطورتهم على حياة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تنظيم الرقم الهيدروجيني </a:t>
            </a: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Buffering of p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تتم معالجة تحول المياه نحو الحامضية ويتضمن عمل هذه الوحدة التخلص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ثاني اكسيد الكربون واضافة مـواد لرفع قاعـدية الميـاه مثل بيكربونـات الكالسـيو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( سريعة الذوبان ) أو كربونات الكالسيوم ( بطيئة الذوبان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4000" y="765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Aeration unit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3-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وحدة التهوية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تزويد الماء بالهواء وقد يتم تزويده بالأكسجين مباشرة ( أكسجة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xyge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إلا أن أجهزة توليد أو ضخ الأكسجين قد تكون مرتفعة التكالي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5" descr="C:\Users\hp\Desktop\صور إستزراع سمكي\recirculation-systems.jpg"/>
          <p:cNvPicPr/>
          <p:nvPr/>
        </p:nvPicPr>
        <p:blipFill>
          <a:blip r:embed="rId1"/>
          <a:stretch/>
        </p:blipFill>
        <p:spPr>
          <a:xfrm>
            <a:off x="1116000" y="2637000"/>
            <a:ext cx="6912000" cy="367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أحواض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Ta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213336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الأسماك في الأحـواض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ank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إسمنتية أو الفيبرجلاس أو البلاسـتي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ضغوط أو مادة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من أي مادة أخرى )  يتم اللجوء لاستخدامها بديلاً ع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برك الترابية في الحالات التال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اطق الزراعية التي تتميز بخصوبة أراضيها حيث من الأنسب استغلالها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زراعات النباتية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اطق الصحراوية تعتبر غير مناسبة لأن طبيعة التربة فيها لا تسمح بالاحتفا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مياه الضرورية لإنتاج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زراع السـمكي في البرك الترابيـة يحـتاج لكـميات كبيـرة من الميـاه ق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ا تتوفر بسهولة في مناطق كثي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3495c"/>
                </a:solidFill>
                <a:latin typeface="Constantia"/>
                <a:cs typeface="Majalla UI"/>
              </a:rPr>
              <a:t>مميزات الإستزراع في الأحوا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لتحكم في مواصفات المياه داخل الأحواض من حيث الأكسجين الذائب 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رقم الهيدروجيني ، مستويات الأموني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ستخدام الأحواض في المناطق ذات درجات الحرارة المختلفة حيث يسه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هذه الحالة استخدام أحد أنظمة التهوية أو التغطية وربما التدفئة للمحافظة ع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درجة الحرارة المناسبة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زراع في الأحواض يتيح الفرصة الأكبر للسيطرة على الأمراض وعلاج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أقل التكاليف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هولة التحكم في عملية التفريخ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الاستزراع بنظـام الدائرة المغلقة مما يتيـح التوفـير الكبيرة جداً في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يح استخدام التقنيات الحـديثة والتي تؤدي إلى الحصول على الإنتاجية الأفض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3495c"/>
                </a:solidFill>
                <a:latin typeface="Constantia"/>
                <a:cs typeface="Majalla UI"/>
              </a:rPr>
              <a:t>الشروط الواجب توافرها في مواد صناعة الأحوا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ن تكون المواد المستخدمة في تصنيعها رخيصة الثمن إلى حد ما ومتوف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لا تكون المواد المستخدمة في تصنيعها سامة ل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لا تكون من المواد القابلة للتآك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3495c"/>
                </a:solidFill>
                <a:latin typeface="Constantia"/>
                <a:cs typeface="Majalla UI"/>
              </a:rPr>
              <a:t>مواصفات الأحواض</a:t>
            </a:r>
            <a:r>
              <a:rPr b="1" lang="ar-SA" sz="2600" spc="-1" strike="noStrike">
                <a:solidFill>
                  <a:srgbClr val="ff3300"/>
                </a:solidFill>
                <a:latin typeface="Arial"/>
                <a:ea typeface="Arial"/>
              </a:rPr>
              <a:t>►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من حيث شـكل الأحواض فإنها يمكن أن تكون (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مستطيلة</a:t>
            </a:r>
            <a:r>
              <a:rPr b="0" lang="ar-SA" sz="26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أو</a:t>
            </a:r>
            <a:r>
              <a:rPr b="0" lang="ar-SA" sz="26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مربع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متعددة الأضلاع ذات أشكال سداسية أو ثمانية  أو </a:t>
            </a:r>
            <a:r>
              <a:rPr b="0" lang="ar-SA" sz="2600" spc="-1" strike="noStrike" u="sng">
                <a:solidFill>
                  <a:srgbClr val="cc0000"/>
                </a:solidFill>
                <a:uFillTx/>
                <a:latin typeface="Constantia"/>
                <a:cs typeface="Majalla UI"/>
              </a:rPr>
              <a:t>دائري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حواض المستطي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واض المستطيلة هي الأكثر انتشاراً في المزارع السمكية نظراً لأنها أقل تكلف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لسهولة صيد الأسماك منه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أبعاد الأحواض تبعاً للغرض من التربية ، غير أنه يفضل الحفاظ على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ب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بين الطول : العرض : الارتفاع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يراعى عند إنشاء الأحواض المستطيلة عمل الميل المناسب لمسطح القاع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C:\Users\hp\Desktop\صور إستزراع سمكي\f15.JPG"/>
          <p:cNvPicPr/>
          <p:nvPr/>
        </p:nvPicPr>
        <p:blipFill>
          <a:blip r:embed="rId1"/>
          <a:stretch/>
        </p:blipFill>
        <p:spPr>
          <a:xfrm>
            <a:off x="539640" y="2205000"/>
            <a:ext cx="374508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hp\Desktop\صور إستزراع سمكي\1387266922957.png"/>
          <p:cNvPicPr/>
          <p:nvPr/>
        </p:nvPicPr>
        <p:blipFill>
          <a:blip r:embed="rId2"/>
          <a:stretch/>
        </p:blipFill>
        <p:spPr>
          <a:xfrm>
            <a:off x="4211640" y="220500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360" y="893880"/>
            <a:ext cx="82072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حواض الدائر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الباً ما تستخدم في تربية الأمهات كما تستخدم في تحضين زريعة بعض أنو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حجم أو الأبعا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تختلف أبعاد هذه الأحواض حسب نوع التربية ، حيث يمكن أن يصل قطرها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 إلا أن الشـائع منها يتراوح قطره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  وعمقه بين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2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5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هو المستخدم في تربية أسماك البلط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يل القا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الباً ما يكون القاع مائلا نحو المرك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8" descr="C:\Users\hp\Desktop\صور إستزراع سمكي\1375_FrontPage-300x225.jpg"/>
          <p:cNvPicPr/>
          <p:nvPr/>
        </p:nvPicPr>
        <p:blipFill>
          <a:blip r:embed="rId1"/>
          <a:stretch/>
        </p:blipFill>
        <p:spPr>
          <a:xfrm>
            <a:off x="611280" y="3933720"/>
            <a:ext cx="403200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نظام الري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طلب نظام التربية المفتوحة (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جارية أو المياه المتجددة)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جود نظام أو وسيلة لنقل المياه إلى الأحواض (الري) وفيما يلي أه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جميع اشكال الأحواض يعتبر نظام الري المتوازي هـو الأفضل ، حيث يتم ر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كل حوض على حده وبذلك يتم التحكم في مياه الأحواض بشكل فردي كلٌ حسب احتياجه تبعاً لنوع التربية في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نظام الصر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في الأحواض المستطيل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قاعي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تكون فتحة الصرف في الناحية الأدني من قاع الحو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1" descr="C:\Users\hp\Desktop\صور إستزراع سمكي\35500-الاستزراع-السمكى-(1) (1).jpg"/>
          <p:cNvPicPr/>
          <p:nvPr/>
        </p:nvPicPr>
        <p:blipFill>
          <a:blip r:embed="rId1"/>
          <a:stretch/>
        </p:blipFill>
        <p:spPr>
          <a:xfrm>
            <a:off x="684360" y="2997360"/>
            <a:ext cx="4895640" cy="216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نظـام شفط الماء الزائد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Overflow suction pipe system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)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فيه يمـر الماء حاملاً معه المخلفات من فتحات عند قاعدة ماسورة رأسية مثبت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ول ماسورة أصغر منها في القطر عند فتحة الصرف فى الجانب الأدنى م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حوض ليتدفق المـاء إلى الخارج من خلال الفتح العلوية للماسورة الداخ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فتحة ري الحـوض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الحـوض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فتحات عند قاعـدة الماسـورة الكبير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الماسورة الكبيرة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ـ الماسورة الصغي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Untitled-1"/>
          <p:cNvPicPr/>
          <p:nvPr/>
        </p:nvPicPr>
        <p:blipFill>
          <a:blip r:embed="rId1"/>
          <a:stretch/>
        </p:blipFill>
        <p:spPr>
          <a:xfrm>
            <a:off x="1619280" y="2708280"/>
            <a:ext cx="6121440" cy="2246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صرف في الأحواض الدائر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صرف القاعي :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يكون القاع مائلا نحو المركز وعليه فإن المخلفات المتراكمة في الق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سقط بالجاذبية إلى فتحة الصرف السفلية وبالتالي يكون من السهل التخلص من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لى أن تزود الفتحة بشـبكة تسمح بمرور المخلفات ولا تسـمح للأسماك بالمرو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Untitled-3"/>
          <p:cNvPicPr/>
          <p:nvPr/>
        </p:nvPicPr>
        <p:blipFill>
          <a:blip r:embed="rId1"/>
          <a:stretch/>
        </p:blipFill>
        <p:spPr>
          <a:xfrm>
            <a:off x="1763640" y="3213000"/>
            <a:ext cx="561672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11T20:52:00Z</dcterms:modified>
  <cp:revision>415</cp:revision>
  <dc:subject/>
  <dc:title>Principals of General Zoology (Zoo-103)</dc:title>
</cp:coreProperties>
</file>