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DBD-B4D0-41F0-B12C-9EA7E381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4267-11A1-48AE-9651-657DDA61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849-4752-47B8-9501-06B213A7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512-E6F7-4ECA-81C7-D0CFF5B0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17E-E687-41A8-A69B-C744A9BA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125-1650-4B44-A0C4-63B28BF5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646-72A7-4D7E-9CCF-10AD216C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A63-6572-4B0F-B5D1-767EDD19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911-ACF6-4DF7-9955-C19E41F6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CA0-C3FB-4FEC-A8F7-BA2ED016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680-7DBD-420D-BC7F-B2AB8097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152-5223-49B4-B5CB-269DB3A7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EBF0-DBC1-4B6C-AE29-3E651BC158D1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C3E7-3CA5-4AC0-B4DB-052588F3B30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مربع نص 3"/>
          <p:cNvSpPr/>
          <p:nvPr/>
        </p:nvSpPr>
        <p:spPr>
          <a:xfrm>
            <a:off x="3492360" y="1197000"/>
            <a:ext cx="338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ضطرابات طلاقة الكلا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مربع نص 4"/>
          <p:cNvSpPr/>
          <p:nvPr/>
        </p:nvSpPr>
        <p:spPr>
          <a:xfrm>
            <a:off x="6588000" y="2421000"/>
            <a:ext cx="8636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إطال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5"/>
          <p:cNvSpPr/>
          <p:nvPr/>
        </p:nvSpPr>
        <p:spPr>
          <a:xfrm>
            <a:off x="2556000" y="2421000"/>
            <a:ext cx="8636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تو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ربع نص 7"/>
          <p:cNvSpPr/>
          <p:nvPr/>
        </p:nvSpPr>
        <p:spPr>
          <a:xfrm>
            <a:off x="6012000" y="3213000"/>
            <a:ext cx="180000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هي فترة إطالة غير مناسبة للوحدة الصوتية ,وهي لاعلاقة بها فيمايتعلق بخصائص  تغير طبقة الصوت وزيادة التوت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مثل :أنا ـــــــــاريد  تفاح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ربع نص 8"/>
          <p:cNvSpPr/>
          <p:nvPr/>
        </p:nvSpPr>
        <p:spPr>
          <a:xfrm>
            <a:off x="1835280" y="2997360"/>
            <a:ext cx="158436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هو توقيت غير مناسب في بدايةالوحدةالصوتية ,وغالبا مايكون مصحوب بتوتر متزا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مثال : اسمي هو (وقفة ) احم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2"/>
          <p:cNvSpPr/>
          <p:nvPr/>
        </p:nvSpPr>
        <p:spPr>
          <a:xfrm>
            <a:off x="3564000" y="1268280"/>
            <a:ext cx="3456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شخي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مربع نص 2"/>
          <p:cNvGrpSpPr/>
          <p:nvPr/>
        </p:nvGrpSpPr>
        <p:grpSpPr>
          <a:xfrm>
            <a:off x="3578400" y="628560"/>
            <a:ext cx="2773080" cy="1785960"/>
            <a:chOff x="3578400" y="628560"/>
            <a:chExt cx="2773080" cy="1785960"/>
          </a:xfrm>
        </p:grpSpPr>
        <p:pic>
          <p:nvPicPr>
            <p:cNvPr id="51" name="مربع نص 2" descr=""/>
            <p:cNvPicPr/>
            <p:nvPr/>
          </p:nvPicPr>
          <p:blipFill>
            <a:blip r:embed="rId1"/>
            <a:stretch/>
          </p:blipFill>
          <p:spPr>
            <a:xfrm>
              <a:off x="3578400" y="628560"/>
              <a:ext cx="27730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35280" y="765000"/>
              <a:ext cx="2665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ساليب المعالجة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ربع نص 3"/>
          <p:cNvSpPr/>
          <p:nvPr/>
        </p:nvSpPr>
        <p:spPr>
          <a:xfrm>
            <a:off x="5651640" y="2421000"/>
            <a:ext cx="15843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أسلوب صرف الانتباه ” التظليل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ربع نص 4"/>
          <p:cNvSpPr/>
          <p:nvPr/>
        </p:nvSpPr>
        <p:spPr>
          <a:xfrm>
            <a:off x="1908000" y="2421000"/>
            <a:ext cx="1224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أسلوب  الدرام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5"/>
          <p:cNvSpPr/>
          <p:nvPr/>
        </p:nvSpPr>
        <p:spPr>
          <a:xfrm>
            <a:off x="3851280" y="4581360"/>
            <a:ext cx="1225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مارسة السلب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2"/>
          <p:cNvSpPr/>
          <p:nvPr/>
        </p:nvSpPr>
        <p:spPr>
          <a:xfrm>
            <a:off x="3564000" y="1376280"/>
            <a:ext cx="36720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راجع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ضطرابات الكلام واللغة ,ابراهيم الزريق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”الشريحة الأولى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ضطرابات النطق والكلا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عبدالعزيز الشخ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02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03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 ,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0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07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 ,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11-3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DELL</dc:creator>
  <dc:description/>
  <dc:language>en-US</dc:language>
  <cp:lastModifiedBy>Maha Alhajri</cp:lastModifiedBy>
  <dcterms:modified xsi:type="dcterms:W3CDTF">2016-09-28T08:31:38Z</dcterms:modified>
  <cp:revision>51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