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215-F79C-4DDB-A08D-0965F04E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EE0-AA47-4E4F-98CA-028A2799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94E-7562-4D14-BD88-3A8F0BA9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CAB-F97A-46B6-87B2-EF2D9566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AEF-BBD3-4E0B-9638-52F9C83E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206-CF1B-4B23-9BC3-5717BB46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B71-7BD5-4E22-A17A-BCDC4ED5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0F0-5FED-4952-B328-7A2C7D27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75E-6E01-497A-93DE-0CA39BC5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A4C-2DD9-4B11-B9D5-F4BE08D2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67C-29D1-4CC1-8C50-115AEDA1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095-4B87-4164-AC21-E139313E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1FDF-F30C-49FD-A52E-29406D001F72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7109-A0B0-4612-BA35-4C0A1CFF544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مربع نص 3"/>
          <p:cNvSpPr/>
          <p:nvPr/>
        </p:nvSpPr>
        <p:spPr>
          <a:xfrm>
            <a:off x="3492360" y="1197000"/>
            <a:ext cx="338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ضطرابات طلاقة الكلا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مربع نص 4"/>
          <p:cNvSpPr/>
          <p:nvPr/>
        </p:nvSpPr>
        <p:spPr>
          <a:xfrm>
            <a:off x="6588000" y="2421000"/>
            <a:ext cx="8636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إطال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5"/>
          <p:cNvSpPr/>
          <p:nvPr/>
        </p:nvSpPr>
        <p:spPr>
          <a:xfrm>
            <a:off x="2556000" y="2421000"/>
            <a:ext cx="8636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تو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ربع نص 7"/>
          <p:cNvSpPr/>
          <p:nvPr/>
        </p:nvSpPr>
        <p:spPr>
          <a:xfrm>
            <a:off x="6012000" y="3213000"/>
            <a:ext cx="180000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هي فترة إطالة غير مناسبة للوحدة الصوتية ,وهي لاعلاقة بها فيمايتعلق بخصائص  تغير طبقة الصوت وزيادة التوت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مثل :أنا ـــــــــاريد  تفاح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ربع نص 8"/>
          <p:cNvSpPr/>
          <p:nvPr/>
        </p:nvSpPr>
        <p:spPr>
          <a:xfrm>
            <a:off x="1835280" y="2997360"/>
            <a:ext cx="158436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هو توقيت غير مناسب في بدايةالوحدةالصوتية ,وغالبا مايكون مصحوب بتوتر متزا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مثال : اسمي هو (وقفة ) احم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2"/>
          <p:cNvSpPr/>
          <p:nvPr/>
        </p:nvSpPr>
        <p:spPr>
          <a:xfrm>
            <a:off x="3564000" y="1268280"/>
            <a:ext cx="3456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شخي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مربع نص 2"/>
          <p:cNvGrpSpPr/>
          <p:nvPr/>
        </p:nvGrpSpPr>
        <p:grpSpPr>
          <a:xfrm>
            <a:off x="3578400" y="628560"/>
            <a:ext cx="2773080" cy="1785960"/>
            <a:chOff x="3578400" y="628560"/>
            <a:chExt cx="2773080" cy="1785960"/>
          </a:xfrm>
        </p:grpSpPr>
        <p:pic>
          <p:nvPicPr>
            <p:cNvPr id="51" name="مربع نص 2" descr=""/>
            <p:cNvPicPr/>
            <p:nvPr/>
          </p:nvPicPr>
          <p:blipFill>
            <a:blip r:embed="rId1"/>
            <a:stretch/>
          </p:blipFill>
          <p:spPr>
            <a:xfrm>
              <a:off x="3578400" y="628560"/>
              <a:ext cx="27730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35280" y="765000"/>
              <a:ext cx="2665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ساليب المعالجة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ربع نص 3"/>
          <p:cNvSpPr/>
          <p:nvPr/>
        </p:nvSpPr>
        <p:spPr>
          <a:xfrm>
            <a:off x="5651640" y="2421000"/>
            <a:ext cx="15843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أسلوب صرف الانتباه ” التظليل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ربع نص 4"/>
          <p:cNvSpPr/>
          <p:nvPr/>
        </p:nvSpPr>
        <p:spPr>
          <a:xfrm>
            <a:off x="1908000" y="2421000"/>
            <a:ext cx="1224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أسلوب  الدرام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5"/>
          <p:cNvSpPr/>
          <p:nvPr/>
        </p:nvSpPr>
        <p:spPr>
          <a:xfrm>
            <a:off x="3851280" y="4581360"/>
            <a:ext cx="1225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مارسة السلب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صر نائب للتذييل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ها الهاج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2"/>
          <p:cNvSpPr/>
          <p:nvPr/>
        </p:nvSpPr>
        <p:spPr>
          <a:xfrm>
            <a:off x="3564000" y="1376280"/>
            <a:ext cx="36720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راجع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ضطرابات الكلام واللغة ,ابراهيم الزريق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”الشريحة الأولى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ضطرابات النطق والكلا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عبدالعزيز الشخ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02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03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 ,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0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07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 ,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11-3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18:13Z</dcterms:created>
  <dc:creator>DELL</dc:creator>
  <dc:description/>
  <dc:language>en-US</dc:language>
  <cp:lastModifiedBy>Maha Alhajri</cp:lastModifiedBy>
  <dcterms:modified xsi:type="dcterms:W3CDTF">2016-09-28T08:31:38Z</dcterms:modified>
  <cp:revision>51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C0D32EB4C16B6409DA411DF93638C72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