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7E89-4542-4BF7-A573-C33FC8468CF4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749A-2BAC-48EC-ACD3-66701ACDB2B2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7CA2-415F-481C-98A8-4236F14E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1DFA-D4F3-45B1-BEB9-489D56A5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9BDB-01CE-452E-A3FD-CB07947F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1F47-A003-422E-8169-4C47469F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5377-8970-4726-B1C9-4D0EA53F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D568-C9CE-41B9-B737-E4658DBD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A786-AB21-412A-BDB6-BA9E8E37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BEBF-BF26-4299-873F-E6F341E4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6E9D-BC84-4822-8F7E-9CAA703E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1404-03B3-45DB-9649-E68CFF03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0D47-9FD9-4464-A249-70E040FD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8216-98BF-480A-8C76-9496BBF7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445F-07A2-40A1-B620-CE77BB2E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4526-0E71-4E7B-B72F-A7370A37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3265-29E2-4EAA-88EA-35DD5A7B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F688-E531-4AD3-8B81-B2F3696B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B925-0D23-45F4-B0CE-4B7161B3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AC735-FA62-4A9D-83DA-A17A8293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FA280-2017-4B48-81CE-4A9DC70C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12BBE-0234-47B7-B9EE-76AFA5C2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68DCB-B9CC-43F9-915E-490FD729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51397-22EA-43E9-8423-5917BAF8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C296-7E65-4FCD-AA73-0BE1AFB4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D1E05-6299-4E33-91E1-078B3677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D5D89-6649-4E5B-98F8-B0F5C4C6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E7665-4030-43BA-B8CD-08AD7CEB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9D201-4A90-4AD2-BE6A-AF418FD5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F3C84-6BFF-4B56-B221-71788951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8D8BE-E427-4069-A3A8-EC184C6E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9123A-22EC-425D-847B-68EAA00F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3933B-9DA5-4D53-AAA9-C0C22EC1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0029B-E0B1-4039-9B0D-50CD1062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DFF27-C591-4517-955A-27340BE4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38A8-E264-4885-B53B-C256FE59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42659-108C-48B1-9D93-9B70C857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23FAB-AADD-43A5-84B7-8685F185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44856-DCA9-49BA-B091-9F0FD77E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A5C5C-2098-43D1-A48E-55168269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D0746-C7B9-4CC3-86FD-5B0B68E5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EFB13-527A-4DC1-BE5C-7F29E008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F279C-D1B2-4BDC-85D1-1C22FF3A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8B937-16A3-485F-A5CD-1C8C15A1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A837E-1AAE-44DD-9F9A-909A2F60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EFF66-1A89-47B9-9F10-51D3B05B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A6CF-9B1C-4B5B-A4ED-88D04917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236A8-F1F2-4235-8522-80B67E66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91111-7CF8-415B-BB4A-7A56826D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C0764-908F-488D-8537-6C85B73A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304A5-4F90-41E3-9FF1-0D06F290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F8E05-C460-48E8-92DC-8BA00C7B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C6F18-41F8-48C4-B02A-FE15D465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54D68-3DFE-4289-BE8C-2C286013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55CAF-8BB9-4D91-8224-24C6E7FE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0D86B-216E-4029-BC9D-7E4AD758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5016B-54DA-4FC2-B5D1-3CDCE9E9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9E74-F127-467A-B691-0826FABE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54A3E-F9E0-40A0-93E2-D91A7C8E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598E-0833-4EDD-9181-D4233BEA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D045-CDA3-4E77-8EED-D1478F4C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AEB9-1251-42CD-9C54-2FA184C1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7155-56F0-419E-AAF0-61E1EACEFFE5}" type="datetime"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94CC-7AF8-4B68-BF45-9E659E2BC16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ستطيل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مستطيل مستدير الزوايا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مستطيل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مستطيل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مستطيل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A218-1B8C-40D2-90BB-1ABD4D44F602}" type="datetime"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ABEB-906A-4AF3-8FD1-77A77DEB6282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مستطيل مستدير الزوايا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مستطيل مستدير الزوايا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مستطيل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مستطيل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مستطيل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64C4-E092-4DD0-9EBF-B59819071602}" type="datetime"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B7DA-1FA8-4B6E-8E1A-3B907408C681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مستطيل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مستطيل مستدير الزوايا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F90B-1E97-45F2-821F-FF2B98FC7493}" type="datetime"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E4BB-950A-4004-9CDC-C525824452D6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مستطيل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مستطيل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مستطيل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4A35-9701-4256-A65F-8D3C812217EA}" type="datetime"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7BAA-D9A9-4B1A-83D3-3FB5E3008851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مستطيل 3" descr=""/>
          <p:cNvPicPr/>
          <p:nvPr/>
        </p:nvPicPr>
        <p:blipFill>
          <a:blip r:embed="rId1"/>
          <a:stretch/>
        </p:blipFill>
        <p:spPr>
          <a:xfrm>
            <a:off x="1212840" y="1311120"/>
            <a:ext cx="6767640" cy="1839960"/>
          </a:xfrm>
          <a:prstGeom prst="rect">
            <a:avLst/>
          </a:prstGeom>
          <a:ln w="0">
            <a:noFill/>
          </a:ln>
        </p:spPr>
      </p:pic>
      <p:sp>
        <p:nvSpPr>
          <p:cNvPr id="236" name="عنصر نائب لرقم الشريحة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A2B3-4A80-4E02-A83F-DAB9C7DD2237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rcRect l="15766" t="0" r="0" b="0"/>
          <a:stretch/>
        </p:blipFill>
        <p:spPr>
          <a:xfrm>
            <a:off x="2050920" y="3916440"/>
            <a:ext cx="5297760" cy="1368360"/>
          </a:xfrm>
          <a:prstGeom prst="rect">
            <a:avLst/>
          </a:prstGeom>
          <a:ln w="0">
            <a:noFill/>
          </a:ln>
        </p:spPr>
      </p:pic>
      <p:sp>
        <p:nvSpPr>
          <p:cNvPr id="238" name="Footer Placeholder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عنصر نائب لرقم الشريحة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1729-C42F-4AA6-845D-910F201D45F4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عنوان 1"/>
          <p:cNvSpPr/>
          <p:nvPr/>
        </p:nvSpPr>
        <p:spPr>
          <a:xfrm>
            <a:off x="324000" y="162000"/>
            <a:ext cx="85690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 معالج الاستعلامات (لجدولين ):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4" name="صورة 4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pic>
        <p:nvPicPr>
          <p:cNvPr id="285" name="صورة 3" descr="استعلام جديد"/>
          <p:cNvPicPr/>
          <p:nvPr/>
        </p:nvPicPr>
        <p:blipFill>
          <a:blip r:embed="rId2"/>
          <a:stretch/>
        </p:blipFill>
        <p:spPr>
          <a:xfrm>
            <a:off x="684360" y="2565360"/>
            <a:ext cx="54957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عنصر نائب لرقم الشريحة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B69E-4098-450C-85F5-B9E477E9DF23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7" name="صورة 2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pic>
        <p:nvPicPr>
          <p:cNvPr id="288" name="صورة 3" descr="معالج الاستعلامات البسيطة"/>
          <p:cNvPicPr/>
          <p:nvPr/>
        </p:nvPicPr>
        <p:blipFill>
          <a:blip r:embed="rId2"/>
          <a:stretch/>
        </p:blipFill>
        <p:spPr>
          <a:xfrm>
            <a:off x="2627280" y="2276640"/>
            <a:ext cx="4821120" cy="3600360"/>
          </a:xfrm>
          <a:prstGeom prst="rect">
            <a:avLst/>
          </a:prstGeom>
          <a:ln w="0">
            <a:noFill/>
          </a:ln>
        </p:spPr>
      </p:pic>
      <p:sp>
        <p:nvSpPr>
          <p:cNvPr id="289" name="عنوان 1"/>
          <p:cNvSpPr/>
          <p:nvPr/>
        </p:nvSpPr>
        <p:spPr>
          <a:xfrm>
            <a:off x="324000" y="162000"/>
            <a:ext cx="85690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 معالج الاستعلامات (لجدولين ):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عنوان 1"/>
          <p:cNvSpPr/>
          <p:nvPr/>
        </p:nvSpPr>
        <p:spPr>
          <a:xfrm>
            <a:off x="179280" y="2565360"/>
            <a:ext cx="2232000" cy="1943280"/>
          </a:xfrm>
          <a:prstGeom prst="rect">
            <a:avLst/>
          </a:prstGeom>
          <a:solidFill>
            <a:srgbClr val="e5c6d5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نختار الجدول ثم الحقول المطلوبة ثم نختار الجدول الآخر وحقوله المطلوبة ثم التالي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291" name="رابط كسهم مستقيم 6"/>
          <p:cNvCxnSpPr/>
          <p:nvPr/>
        </p:nvCxnSpPr>
        <p:spPr>
          <a:xfrm flipV="1">
            <a:off x="2411280" y="3644280"/>
            <a:ext cx="1440360" cy="160920"/>
          </a:xfrm>
          <a:prstGeom prst="straightConnector1">
            <a:avLst/>
          </a:prstGeom>
          <a:ln w="381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292" name="رابط كسهم مستقيم 10"/>
          <p:cNvCxnSpPr/>
          <p:nvPr/>
        </p:nvCxnSpPr>
        <p:spPr>
          <a:xfrm>
            <a:off x="2411280" y="3804840"/>
            <a:ext cx="2448720" cy="919800"/>
          </a:xfrm>
          <a:prstGeom prst="straightConnector1">
            <a:avLst/>
          </a:prstGeom>
          <a:ln w="38160">
            <a:solidFill>
              <a:srgbClr val="b83d6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عنصر نائب لرقم الشريحة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AD92-F74D-453A-8663-8E07F9A8BD1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4" name="صورة 2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pic>
        <p:nvPicPr>
          <p:cNvPr id="295" name="صورة 3" descr="معالج الاستعلامات البسيطة"/>
          <p:cNvPicPr/>
          <p:nvPr/>
        </p:nvPicPr>
        <p:blipFill>
          <a:blip r:embed="rId2"/>
          <a:stretch/>
        </p:blipFill>
        <p:spPr>
          <a:xfrm>
            <a:off x="1692360" y="2781360"/>
            <a:ext cx="4629240" cy="3457440"/>
          </a:xfrm>
          <a:prstGeom prst="rect">
            <a:avLst/>
          </a:prstGeom>
          <a:ln w="0">
            <a:noFill/>
          </a:ln>
        </p:spPr>
      </p:pic>
      <p:sp>
        <p:nvSpPr>
          <p:cNvPr id="296" name="عنوان 1"/>
          <p:cNvSpPr/>
          <p:nvPr/>
        </p:nvSpPr>
        <p:spPr>
          <a:xfrm>
            <a:off x="324000" y="162000"/>
            <a:ext cx="85690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 معالج الاستعلامات (لجدولين ):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عنوان 1"/>
          <p:cNvSpPr/>
          <p:nvPr/>
        </p:nvSpPr>
        <p:spPr>
          <a:xfrm>
            <a:off x="1552680" y="5618160"/>
            <a:ext cx="1366560" cy="620640"/>
          </a:xfrm>
          <a:prstGeom prst="rect">
            <a:avLst/>
          </a:prstGeom>
          <a:solidFill>
            <a:srgbClr val="e5c6d5">
              <a:alpha val="16000"/>
            </a:srgbClr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عنصر نائب لرقم الشريحة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5AE6-7B16-49F6-8312-5ADDE5B7C8C0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عنوان 1"/>
          <p:cNvSpPr/>
          <p:nvPr/>
        </p:nvSpPr>
        <p:spPr>
          <a:xfrm>
            <a:off x="324000" y="162000"/>
            <a:ext cx="85690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 معالج الاستعلامات (لجدولين ):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0" name="صورة 3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عنصر نائب لرقم الشريحة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BA0E-9271-4910-B81E-F93A29D5C60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39280" y="1987560"/>
            <a:ext cx="82803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 تكتب الشروط للبيانات من نوع رقم باستخدام العلامات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المنطقية 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8a2e4e"/>
                </a:solidFill>
                <a:latin typeface="Perpetua"/>
              </a:rPr>
              <a:t>( &lt; , &gt; , =&lt; , =&gt; , = ,&lt; &gt;)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يتم أدخال الشرط عند صف المعايير أسفل اسم الحقل الرقمي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كتابة شروط البيانات الرقمية :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79906" t="0" r="0" b="0"/>
          <a:stretch/>
        </p:blipFill>
        <p:spPr>
          <a:xfrm rot="20652000">
            <a:off x="493560" y="473040"/>
            <a:ext cx="12639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عنصر نائب لرقم الشريحة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81B7-DDD8-4E52-82BA-CCF442DFA1A5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39280" y="1987560"/>
            <a:ext cx="82803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 تكتب الشروط للبيانات من نوع نص بكتابة النص كاملا , أو جزء منه و التعويض عن الجزء المفقود بعلامة (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X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)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يتم أدخال الشرط عند صف المعايير أسفل اسم الحقل النصي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مثال 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محمد علي الناصر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 * محمد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”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Lik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 * م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”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Lik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كتابة شروط البيانات النصية :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rcRect l="79906" t="0" r="0" b="0"/>
          <a:stretch/>
        </p:blipFill>
        <p:spPr>
          <a:xfrm rot="20652000">
            <a:off x="493560" y="473040"/>
            <a:ext cx="12639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عنصر نائب لرقم الشريحة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C143-5F48-4E65-8794-2654DE85F5A0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39280" y="2204640"/>
            <a:ext cx="8280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نقوم بكتابة كلمة  </a:t>
            </a:r>
            <a:r>
              <a:rPr b="0" lang="ar-SA" sz="3200" spc="-1" strike="noStrike">
                <a:solidFill>
                  <a:srgbClr val="8a2e4e"/>
                </a:solidFill>
                <a:latin typeface="Perpetua"/>
              </a:rPr>
              <a:t>نعم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 أو </a:t>
            </a:r>
            <a:r>
              <a:rPr b="0" lang="ar-SA" sz="3200" spc="-1" strike="noStrike">
                <a:solidFill>
                  <a:srgbClr val="8a2e4e"/>
                </a:solidFill>
                <a:latin typeface="Perpetua"/>
              </a:rPr>
              <a:t>لا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 عند صف المعايير أسفل اسم الحقل المطلوب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مثل : حقل متزوج في جدول الطالب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9872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كتابة شروط البيانات من نوع (نعم / لا ) :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rcRect l="79906" t="0" r="0" b="0"/>
          <a:stretch/>
        </p:blipFill>
        <p:spPr>
          <a:xfrm rot="20652000">
            <a:off x="493560" y="473040"/>
            <a:ext cx="12639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عنصر نائب لرقم الشريحة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0075-56A6-49EF-A340-5A9445EF3A6D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rcRect l="79906" t="0" r="0" b="0"/>
          <a:stretch/>
        </p:blipFill>
        <p:spPr>
          <a:xfrm rot="20652000">
            <a:off x="493560" y="473040"/>
            <a:ext cx="1263960" cy="1368360"/>
          </a:xfrm>
          <a:prstGeom prst="rect">
            <a:avLst/>
          </a:prstGeom>
          <a:ln w="0">
            <a:noFill/>
          </a:ln>
        </p:spPr>
      </p:pic>
      <p:sp>
        <p:nvSpPr>
          <p:cNvPr id="315" name="عنوان 1"/>
          <p:cNvSpPr/>
          <p:nvPr/>
        </p:nvSpPr>
        <p:spPr>
          <a:xfrm>
            <a:off x="1125360" y="105264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كتابة شروط البيانات من نوع تاريخ و وقت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6" name="عنصر نائب للمحتوى 2"/>
          <p:cNvSpPr/>
          <p:nvPr/>
        </p:nvSpPr>
        <p:spPr>
          <a:xfrm>
            <a:off x="331920" y="1990800"/>
            <a:ext cx="85550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نقوم بكتابة التاريخ المطلوب عند صف المعايير أسفل اسم حقل التاريخ مع ملاحظة ( </a:t>
            </a:r>
            <a:r>
              <a:rPr b="0" lang="ar-SA" sz="2800" spc="-1" strike="noStrike">
                <a:solidFill>
                  <a:srgbClr val="a34b73"/>
                </a:solidFill>
                <a:latin typeface="Arial"/>
                <a:cs typeface="Arial"/>
              </a:rPr>
              <a:t>الالتزام بنفس طريقة كتابة التاريخ بالجدول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مثال 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يطابق التاريخ      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2/2/1988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# 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لا يطابق التاريخ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Not #2/2/1988#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تحتوي على قيم بعد تاريخ معين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2/2/1988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#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 &lt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تحتوي على قيم قبل تاريخ معين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#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2/2/1988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#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عنصر نائب لرقم الشريحة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219A-81C3-473C-BB24-5D08452B06F7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39280" y="1987560"/>
            <a:ext cx="82803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في تصميم الاستعلام يمكن وضع أكثر من شرط في صف  المعايير  سواء من جدول واحد أو اثنين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مثال : الاستعلام عن اسماء طلاب تخصص </a:t>
            </a:r>
            <a:r>
              <a:rPr b="0" lang="ar-SA" sz="3200" spc="-1" strike="noStrike">
                <a:solidFill>
                  <a:srgbClr val="b83d68"/>
                </a:solidFill>
                <a:latin typeface="Perpetua"/>
              </a:rPr>
              <a:t>محاسبة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 التي </a:t>
            </a:r>
            <a:r>
              <a:rPr b="0" lang="ar-SA" sz="3200" spc="-1" strike="noStrike">
                <a:solidFill>
                  <a:srgbClr val="b83d68"/>
                </a:solidFill>
                <a:latin typeface="Perpetua"/>
              </a:rPr>
              <a:t>تزيد درجتهم عن</a:t>
            </a:r>
            <a:r>
              <a:rPr b="0" lang="ar-SA" sz="3200" spc="-1" strike="noStrike">
                <a:solidFill>
                  <a:srgbClr val="b83d68"/>
                </a:solidFill>
                <a:latin typeface="Perpetua"/>
              </a:rPr>
              <a:t>90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 في </a:t>
            </a:r>
            <a:r>
              <a:rPr b="0" lang="ar-SA" sz="3200" spc="-1" strike="noStrike">
                <a:solidFill>
                  <a:srgbClr val="b83d68"/>
                </a:solidFill>
                <a:latin typeface="Perpetua"/>
              </a:rPr>
              <a:t>مقرر </a:t>
            </a:r>
            <a:r>
              <a:rPr b="0" lang="ar-SA" sz="3200" spc="-1" strike="noStrike">
                <a:solidFill>
                  <a:srgbClr val="b83d68"/>
                </a:solidFill>
                <a:latin typeface="Perpetua"/>
              </a:rPr>
              <a:t>1102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فرض أكثر من شرط في الاستعلام :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rcRect l="79906" t="0" r="0" b="0"/>
          <a:stretch/>
        </p:blipFill>
        <p:spPr>
          <a:xfrm rot="20652000">
            <a:off x="493560" y="473040"/>
            <a:ext cx="12639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عنصر نائب لرقم الشريحة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B614-82A6-4E73-B1B4-5FCACE5261BE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39280" y="1987560"/>
            <a:ext cx="82803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عند فتح تصميم الاستعلام أضيف العملية الحسابية في حقل جديد بالشكل التالي 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 الصافي :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]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اسم الحقل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[</a:t>
            </a:r>
            <a:r>
              <a:rPr b="0" lang="ar-SA" sz="3200" spc="-1" strike="noStrike">
                <a:solidFill>
                  <a:srgbClr val="8a2e4e"/>
                </a:solidFill>
                <a:latin typeface="Perpetua"/>
              </a:rPr>
              <a:t>العلامة الحسابية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]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اسم الحقل الآخر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[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ثم أتأكد من إظهار الحقل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ثم تشغيل الاستعلام , ألاحظ ظهور حقل العملية الحسابية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تنفيذ عملية حسابية و إظهار ناتجها :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rcRect l="79906" t="0" r="0" b="0"/>
          <a:stretch/>
        </p:blipFill>
        <p:spPr>
          <a:xfrm rot="20652000">
            <a:off x="493560" y="473040"/>
            <a:ext cx="12639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عنصر نائب لرقم الشريحة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674B-E0FE-4C4B-AED0-25E42F466F46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9280" y="1987560"/>
            <a:ext cx="82803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هي الطريقة الرئيسية للحصول على معلومات من قاعدة البيانات , خاصة في قواعد البيانات التي تحوي جداول فيها عدد كبير من السجلات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يمكنك الاستعلام من فرض شروط لعرض بيانات محددة , بحيث لا تعرض الا السجلات المحققة  لهذه الشروط 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مثلا: أريد استعلام عن اسماء طالبات تخصص </a:t>
            </a:r>
            <a:r>
              <a:rPr b="0" lang="ar-SA" sz="2800" spc="-1" strike="noStrike">
                <a:solidFill>
                  <a:srgbClr val="8a2e4e"/>
                </a:solidFill>
                <a:latin typeface="Perpetua"/>
              </a:rPr>
              <a:t>الرياضيات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التي </a:t>
            </a:r>
            <a:r>
              <a:rPr b="0" lang="ar-SA" sz="2800" spc="-1" strike="noStrike">
                <a:solidFill>
                  <a:srgbClr val="8a2e4e"/>
                </a:solidFill>
                <a:latin typeface="Perpetua"/>
              </a:rPr>
              <a:t>تزيد درجتهم عن</a:t>
            </a:r>
            <a:r>
              <a:rPr b="0" lang="ar-SA" sz="2800" spc="-1" strike="noStrike">
                <a:solidFill>
                  <a:srgbClr val="8a2e4e"/>
                </a:solidFill>
                <a:latin typeface="Perpetua"/>
              </a:rPr>
              <a:t>90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في </a:t>
            </a:r>
            <a:r>
              <a:rPr b="0" lang="ar-SA" sz="2800" spc="-1" strike="noStrike">
                <a:solidFill>
                  <a:srgbClr val="8a2e4e"/>
                </a:solidFill>
                <a:latin typeface="Perpetua"/>
              </a:rPr>
              <a:t>مادة سلم 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الاستعلامات </a:t>
            </a:r>
            <a:r>
              <a:rPr b="1" lang="en-US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Queries</a:t>
            </a: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: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rcRect l="79906" t="0" r="0" b="0"/>
          <a:stretch/>
        </p:blipFill>
        <p:spPr>
          <a:xfrm rot="20652000">
            <a:off x="493560" y="473040"/>
            <a:ext cx="12639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عنصر نائب لرقم الشريحة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0CE3-163F-4776-987A-6CB170990229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6" name="صورة 2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36360" y="968400"/>
            <a:ext cx="9144000" cy="5889600"/>
          </a:xfrm>
          <a:prstGeom prst="rect">
            <a:avLst/>
          </a:prstGeom>
          <a:ln w="0">
            <a:noFill/>
          </a:ln>
        </p:spPr>
      </p:pic>
      <p:sp>
        <p:nvSpPr>
          <p:cNvPr id="327" name="عنوان 1"/>
          <p:cNvSpPr/>
          <p:nvPr/>
        </p:nvSpPr>
        <p:spPr>
          <a:xfrm>
            <a:off x="324000" y="162000"/>
            <a:ext cx="85690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إظهار نتيجة عملية حسابية :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عنوان 1"/>
          <p:cNvSpPr/>
          <p:nvPr/>
        </p:nvSpPr>
        <p:spPr>
          <a:xfrm>
            <a:off x="611280" y="3506760"/>
            <a:ext cx="5400720" cy="700200"/>
          </a:xfrm>
          <a:prstGeom prst="rect">
            <a:avLst/>
          </a:prstGeom>
          <a:solidFill>
            <a:srgbClr val="e5c6d5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Arial"/>
              </a:rPr>
              <a:t>الصافي :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Arial"/>
              </a:rPr>
              <a:t>المكافأة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  [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ar-SA" sz="3300" spc="-1" strike="noStrike">
                <a:solidFill>
                  <a:srgbClr val="8a2e4e"/>
                </a:solidFill>
                <a:latin typeface="Arial"/>
                <a:ea typeface="Arial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Arial"/>
              </a:rPr>
              <a:t>الغرامات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329" name="رابط كسهم مستقيم 5"/>
          <p:cNvCxnSpPr/>
          <p:nvPr/>
        </p:nvCxnSpPr>
        <p:spPr>
          <a:xfrm>
            <a:off x="3423960" y="4220640"/>
            <a:ext cx="1080" cy="577080"/>
          </a:xfrm>
          <a:prstGeom prst="straightConnector1">
            <a:avLst/>
          </a:prstGeom>
          <a:ln w="381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30" name="رابط كسهم مستقيم 9"/>
          <p:cNvCxnSpPr/>
          <p:nvPr/>
        </p:nvCxnSpPr>
        <p:spPr>
          <a:xfrm flipV="1">
            <a:off x="2916000" y="5515920"/>
            <a:ext cx="648360" cy="361080"/>
          </a:xfrm>
          <a:prstGeom prst="straightConnector1">
            <a:avLst/>
          </a:prstGeom>
          <a:ln w="3816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331" name="عنوان 1"/>
          <p:cNvSpPr/>
          <p:nvPr/>
        </p:nvSpPr>
        <p:spPr>
          <a:xfrm>
            <a:off x="1655640" y="5504040"/>
            <a:ext cx="1260720" cy="684000"/>
          </a:xfrm>
          <a:prstGeom prst="rect">
            <a:avLst/>
          </a:prstGeom>
          <a:solidFill>
            <a:srgbClr val="e5c6d5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إظهار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92C0-BA32-4979-939E-B9F9342678F9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3" name="صورة 3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-324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334" name="عنوان 1"/>
          <p:cNvSpPr/>
          <p:nvPr/>
        </p:nvSpPr>
        <p:spPr>
          <a:xfrm>
            <a:off x="324000" y="162000"/>
            <a:ext cx="85690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إظهار نتيجة عملية حسابية :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5" name="عنوان 1"/>
          <p:cNvSpPr/>
          <p:nvPr/>
        </p:nvSpPr>
        <p:spPr>
          <a:xfrm>
            <a:off x="2987640" y="5178600"/>
            <a:ext cx="2211480" cy="684000"/>
          </a:xfrm>
          <a:prstGeom prst="rect">
            <a:avLst/>
          </a:prstGeom>
          <a:solidFill>
            <a:srgbClr val="e5c6d5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Arial"/>
              </a:rPr>
              <a:t>ظهرت النتيجة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336" name="رابط كسهم مستقيم 9"/>
          <p:cNvCxnSpPr>
            <a:stCxn id="335" idx="0"/>
          </p:cNvCxnSpPr>
          <p:nvPr/>
        </p:nvCxnSpPr>
        <p:spPr>
          <a:xfrm flipV="1">
            <a:off x="4093920" y="4075920"/>
            <a:ext cx="546480" cy="1102680"/>
          </a:xfrm>
          <a:prstGeom prst="straightConnector1">
            <a:avLst/>
          </a:prstGeom>
          <a:ln w="38160">
            <a:solidFill>
              <a:srgbClr val="b83d6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A992-280B-4E7E-A3A7-5CB2CB37319D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عنوان 1"/>
          <p:cNvSpPr/>
          <p:nvPr/>
        </p:nvSpPr>
        <p:spPr>
          <a:xfrm>
            <a:off x="2700360" y="3357720"/>
            <a:ext cx="644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5" name="صورة 7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246" name="عنوان 1"/>
          <p:cNvSpPr/>
          <p:nvPr/>
        </p:nvSpPr>
        <p:spPr>
          <a:xfrm>
            <a:off x="324000" y="162000"/>
            <a:ext cx="85690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إنشاء الاستعلام :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TextBox 6"/>
          <p:cNvSpPr/>
          <p:nvPr/>
        </p:nvSpPr>
        <p:spPr>
          <a:xfrm>
            <a:off x="6778800" y="2503440"/>
            <a:ext cx="541080" cy="565200"/>
          </a:xfrm>
          <a:prstGeom prst="rect">
            <a:avLst/>
          </a:prstGeom>
          <a:solidFill>
            <a:srgbClr val="e5c6d5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صورة 8" descr="إظهار جدول"/>
          <p:cNvPicPr/>
          <p:nvPr/>
        </p:nvPicPr>
        <p:blipFill>
          <a:blip r:embed="rId2"/>
          <a:stretch/>
        </p:blipFill>
        <p:spPr>
          <a:xfrm>
            <a:off x="468360" y="2825640"/>
            <a:ext cx="3024000" cy="3195720"/>
          </a:xfrm>
          <a:prstGeom prst="rect">
            <a:avLst/>
          </a:prstGeom>
          <a:ln w="0">
            <a:noFill/>
          </a:ln>
        </p:spPr>
      </p:pic>
      <p:sp>
        <p:nvSpPr>
          <p:cNvPr id="249" name="عنوان 1"/>
          <p:cNvSpPr/>
          <p:nvPr/>
        </p:nvSpPr>
        <p:spPr>
          <a:xfrm>
            <a:off x="3632040" y="3208320"/>
            <a:ext cx="3687840" cy="1216080"/>
          </a:xfrm>
          <a:prstGeom prst="rect">
            <a:avLst/>
          </a:prstGeom>
          <a:solidFill>
            <a:srgbClr val="e5c6d5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إنشاء =&gt; تصميم الاستعلام ثم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ضافة الجدول الذي أود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مل استعلام عن بياناته .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250" name="رابط كسهم مستقيم 10"/>
          <p:cNvCxnSpPr/>
          <p:nvPr/>
        </p:nvCxnSpPr>
        <p:spPr>
          <a:xfrm flipH="1">
            <a:off x="1979280" y="4424400"/>
            <a:ext cx="3496320" cy="1381680"/>
          </a:xfrm>
          <a:prstGeom prst="straightConnector1">
            <a:avLst/>
          </a:prstGeom>
          <a:ln w="38160">
            <a:solidFill>
              <a:srgbClr val="b83d6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عنصر نائب لرقم الشريحة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5282-8A9B-4D6B-9CEF-098109239328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صورة 2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sp>
        <p:nvSpPr>
          <p:cNvPr id="253" name="عنوان 1"/>
          <p:cNvSpPr/>
          <p:nvPr/>
        </p:nvSpPr>
        <p:spPr>
          <a:xfrm>
            <a:off x="324000" y="162000"/>
            <a:ext cx="85690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إنشاء الاستعلام :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عنوان 1"/>
          <p:cNvSpPr/>
          <p:nvPr/>
        </p:nvSpPr>
        <p:spPr>
          <a:xfrm>
            <a:off x="351000" y="2781360"/>
            <a:ext cx="4257360" cy="1584360"/>
          </a:xfrm>
          <a:prstGeom prst="rect">
            <a:avLst/>
          </a:prstGeom>
          <a:solidFill>
            <a:srgbClr val="e5c6d5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Arial"/>
              </a:rPr>
              <a:t>من خانة الحقل اختار اسم الحقول التي أود عرض بياناتها 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255" name="رابط كسهم مستقيم 8"/>
          <p:cNvCxnSpPr>
            <a:stCxn id="254" idx="3"/>
          </p:cNvCxnSpPr>
          <p:nvPr/>
        </p:nvCxnSpPr>
        <p:spPr>
          <a:xfrm>
            <a:off x="4608360" y="3573360"/>
            <a:ext cx="2485440" cy="1331280"/>
          </a:xfrm>
          <a:prstGeom prst="straightConnector1">
            <a:avLst/>
          </a:prstGeom>
          <a:ln w="3816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256" name="TextBox 6"/>
          <p:cNvSpPr/>
          <p:nvPr/>
        </p:nvSpPr>
        <p:spPr>
          <a:xfrm>
            <a:off x="5148360" y="2825640"/>
            <a:ext cx="360360" cy="647640"/>
          </a:xfrm>
          <a:prstGeom prst="rect">
            <a:avLst/>
          </a:prstGeom>
          <a:solidFill>
            <a:srgbClr val="e5c6d5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5CCB-6A21-49C2-92B7-8B64FE8B5E69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8" name="صورة 13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sp>
        <p:nvSpPr>
          <p:cNvPr id="259" name="عنوان 1"/>
          <p:cNvSpPr/>
          <p:nvPr/>
        </p:nvSpPr>
        <p:spPr>
          <a:xfrm>
            <a:off x="324000" y="2708280"/>
            <a:ext cx="3779640" cy="1704960"/>
          </a:xfrm>
          <a:prstGeom prst="rect">
            <a:avLst/>
          </a:prstGeom>
          <a:solidFill>
            <a:srgbClr val="e5c6d5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Arial"/>
              </a:rPr>
              <a:t>اكتب الشرط في صف المعايير أسفل اسم الحقل المطلوب  تنفيذ الشرط عليه حسب القواعد .  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عنوان 1"/>
          <p:cNvSpPr/>
          <p:nvPr/>
        </p:nvSpPr>
        <p:spPr>
          <a:xfrm>
            <a:off x="324000" y="162000"/>
            <a:ext cx="85690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إنشاء الاستعلام :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261" name="رابط كسهم مستقيم 10"/>
          <p:cNvCxnSpPr>
            <a:stCxn id="259" idx="3"/>
          </p:cNvCxnSpPr>
          <p:nvPr/>
        </p:nvCxnSpPr>
        <p:spPr>
          <a:xfrm>
            <a:off x="4103280" y="3560760"/>
            <a:ext cx="2089800" cy="2007360"/>
          </a:xfrm>
          <a:prstGeom prst="straightConnector1">
            <a:avLst/>
          </a:prstGeom>
          <a:ln w="3816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262" name="TextBox 4"/>
          <p:cNvSpPr/>
          <p:nvPr/>
        </p:nvSpPr>
        <p:spPr>
          <a:xfrm>
            <a:off x="4788000" y="2890800"/>
            <a:ext cx="360360" cy="646200"/>
          </a:xfrm>
          <a:prstGeom prst="rect">
            <a:avLst/>
          </a:prstGeom>
          <a:solidFill>
            <a:srgbClr val="e5c6d5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6A97-DCE5-4159-99E3-FEC7C3D10CF0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4" name="صورة 13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sp>
        <p:nvSpPr>
          <p:cNvPr id="265" name="عنوان 1"/>
          <p:cNvSpPr/>
          <p:nvPr/>
        </p:nvSpPr>
        <p:spPr>
          <a:xfrm>
            <a:off x="324000" y="162000"/>
            <a:ext cx="85690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إنشاء الاستعلام :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4967280" y="2421000"/>
            <a:ext cx="360360" cy="646200"/>
          </a:xfrm>
          <a:prstGeom prst="rect">
            <a:avLst/>
          </a:prstGeom>
          <a:solidFill>
            <a:srgbClr val="e5c6d5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عنوان 1"/>
          <p:cNvSpPr/>
          <p:nvPr/>
        </p:nvSpPr>
        <p:spPr>
          <a:xfrm>
            <a:off x="3348000" y="3395520"/>
            <a:ext cx="2808360" cy="1008360"/>
          </a:xfrm>
          <a:prstGeom prst="rect">
            <a:avLst/>
          </a:prstGeom>
          <a:solidFill>
            <a:srgbClr val="e5c6d5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Arial"/>
              </a:rPr>
              <a:t>أقوم بتشغيل الاستعلام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268" name="رابط كسهم مستقيم 8"/>
          <p:cNvCxnSpPr>
            <a:stCxn id="267" idx="3"/>
          </p:cNvCxnSpPr>
          <p:nvPr/>
        </p:nvCxnSpPr>
        <p:spPr>
          <a:xfrm flipV="1">
            <a:off x="6156000" y="1915560"/>
            <a:ext cx="2377080" cy="1983240"/>
          </a:xfrm>
          <a:prstGeom prst="straightConnector1">
            <a:avLst/>
          </a:prstGeom>
          <a:ln w="3816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269" name="عنوان 1"/>
          <p:cNvSpPr/>
          <p:nvPr/>
        </p:nvSpPr>
        <p:spPr>
          <a:xfrm>
            <a:off x="468360" y="2543040"/>
            <a:ext cx="2554200" cy="1703520"/>
          </a:xfrm>
          <a:prstGeom prst="rect">
            <a:avLst/>
          </a:prstGeom>
          <a:solidFill>
            <a:srgbClr val="e5c6d5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Arial"/>
              </a:rPr>
              <a:t>أو عرضه بطريقة عرض البيانات لمشاهدة النتائج .  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A76B-9ADE-421E-B595-7F9031D41E7A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عنوان 1"/>
          <p:cNvSpPr/>
          <p:nvPr/>
        </p:nvSpPr>
        <p:spPr>
          <a:xfrm>
            <a:off x="324000" y="162000"/>
            <a:ext cx="85690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إنشاء الاستعلام :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2" name="صورة 7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sp>
        <p:nvSpPr>
          <p:cNvPr id="273" name="عنوان 1"/>
          <p:cNvSpPr/>
          <p:nvPr/>
        </p:nvSpPr>
        <p:spPr>
          <a:xfrm>
            <a:off x="2627280" y="3879720"/>
            <a:ext cx="3538440" cy="1008360"/>
          </a:xfrm>
          <a:prstGeom prst="rect">
            <a:avLst/>
          </a:prstGeom>
          <a:solidFill>
            <a:srgbClr val="e5c6d5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  <a:cs typeface="Arial"/>
              </a:rPr>
              <a:t>نلاحظ أنه تم تطبيق الاستعلام واظهار البيانات المستوفية للشروط فقط  </a:t>
            </a: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274" name="رابط كسهم مستقيم 9"/>
          <p:cNvCxnSpPr/>
          <p:nvPr/>
        </p:nvCxnSpPr>
        <p:spPr>
          <a:xfrm flipH="1" flipV="1">
            <a:off x="1979280" y="3212640"/>
            <a:ext cx="2418480" cy="667440"/>
          </a:xfrm>
          <a:prstGeom prst="straightConnector1">
            <a:avLst/>
          </a:prstGeom>
          <a:ln w="38160">
            <a:solidFill>
              <a:srgbClr val="b83d6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عنصر نائب لرقم الشريحة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2DFF-BB88-4807-9CE6-BB15B28347E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عنوان 1"/>
          <p:cNvSpPr/>
          <p:nvPr/>
        </p:nvSpPr>
        <p:spPr>
          <a:xfrm>
            <a:off x="324000" y="162000"/>
            <a:ext cx="85690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عنوان 1"/>
          <p:cNvSpPr/>
          <p:nvPr/>
        </p:nvSpPr>
        <p:spPr>
          <a:xfrm>
            <a:off x="614520" y="1484280"/>
            <a:ext cx="7993080" cy="2808360"/>
          </a:xfrm>
          <a:prstGeom prst="rect">
            <a:avLst/>
          </a:prstGeom>
          <a:solidFill>
            <a:srgbClr val="e5c6d5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يمكن إنشاء الاستعلام من جدولين عن طريق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تصميم الاستعلام 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معالج الاستعلامات 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عنصر نائب لرقم الشريحة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4932-2E28-479C-A5DE-BF714DF0076E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9" name="صورة 2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1440" y="1052640"/>
            <a:ext cx="9144000" cy="5825880"/>
          </a:xfrm>
          <a:prstGeom prst="rect">
            <a:avLst/>
          </a:prstGeom>
          <a:ln w="0">
            <a:noFill/>
          </a:ln>
        </p:spPr>
      </p:pic>
      <p:sp>
        <p:nvSpPr>
          <p:cNvPr id="280" name="عنوان 1"/>
          <p:cNvSpPr/>
          <p:nvPr/>
        </p:nvSpPr>
        <p:spPr>
          <a:xfrm>
            <a:off x="324000" y="162000"/>
            <a:ext cx="85690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 تصميم الاستعلام (لجدولين ):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1" name="صورة 5" descr="إظهار جدول"/>
          <p:cNvPicPr/>
          <p:nvPr/>
        </p:nvPicPr>
        <p:blipFill>
          <a:blip r:embed="rId2"/>
          <a:stretch/>
        </p:blipFill>
        <p:spPr>
          <a:xfrm>
            <a:off x="358920" y="2637000"/>
            <a:ext cx="302400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49:28Z</dcterms:created>
  <dc:creator>user</dc:creator>
  <dc:description/>
  <dc:language>en-US</dc:language>
  <cp:lastModifiedBy>User</cp:lastModifiedBy>
  <dcterms:modified xsi:type="dcterms:W3CDTF">2016-03-22T15:16:58Z</dcterms:modified>
  <cp:revision>143</cp:revision>
  <dc:subject/>
  <dc:title>عرض تقديمي في PowerPoint</dc:title>
</cp:coreProperties>
</file>