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A5E8-57B1-469D-81A1-591E582D52B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755-423B-45D8-A685-30A0BB430E6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5AB-F615-43F6-875F-75481EB5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8EC-231A-486E-AB7D-25D70B6E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2C3-EA16-4108-8C9F-1E5B7C99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74F-909A-4B34-8461-8F76C6ED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5D31-8560-4F79-B367-33893DE6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635-3EA3-4718-B357-66FC94E4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995-7692-4478-88CF-06ED4DF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43F0-73A7-440E-95AA-35726C0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A589-19F8-4486-973E-88D21FFF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960E-03DB-4246-8C0E-4AF8723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5D9C-2A68-4BA3-A41D-5AA236B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8FE-4422-4C4B-8BB7-FBC6BE0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2DB-FA90-4F16-9A21-A5A4958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C182-AAA8-4E0C-9841-5EE9ABA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213-B65B-4DEA-9A93-E6B4C2C1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5459-5381-4859-8D78-5323731D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5ADA-5D4D-459D-AD07-D8DA8D72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3447-7BBC-488E-91DD-0162BC93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7420-FA2C-47B1-8805-B1764B3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25A8-3193-4961-A318-96C82B01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F051-9CED-4251-942B-2148A23D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F28C-1BD5-47E3-A04F-3CC571F7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209-120E-4B75-8DC7-8AC17E12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2CD0-0FEB-4E2E-B42B-A49191F3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2E75-68D1-47C0-B5C7-A541695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37A8-3123-4FAA-A1E0-29622EA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867C-3D93-4F90-AE28-4657E85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B2FD-923B-4170-8C90-001AC4D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4056-1C56-48C2-8B8E-334FF6A3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B313-1315-4C3F-8752-59C09502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5EE6-A0FB-4F11-ABE4-4EA28F7A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49B5-BFCE-4231-8F20-FBCB015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5A86-4AD5-48D3-8D2C-F419D04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BAD-B419-4B74-B6E4-7F6E7E2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21C3-130C-4547-A722-AA3AC568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23A6-1951-48E3-87C2-A90B559D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E4AB-3EE5-498E-B7E7-3BC14205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0617-481D-452F-9650-ACA1C29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861D-6DBE-4B0D-9904-8303693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91911-D827-4362-ADFF-AEDBB6C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9E56-4AA9-4EAD-AC09-4A342270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6748-9B19-4B19-B262-F60EAB34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1F49-7555-443B-9CDF-549551E9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FC66-8CFB-4A70-B1EF-7EB866F6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194-A8D8-4DA4-92D4-6D29C08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F1B9-1ADB-4622-872B-2702572C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2C93-7CEA-498E-9479-682CF21A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DB2D-0990-472C-A459-A61D476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6CB4-6884-4FA4-B6C9-C7C1F372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F956-F8AD-4343-8F8A-C2C55881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27DE-2BF4-4E9F-BA92-364A2BF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E1DA-119A-404D-AA6D-619967A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C30D-F1DC-4E23-8ACF-8404C82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B135-0165-4890-BD40-F8DF48FF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2C1E-2490-4B94-A32B-0C94651F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0EE-2C87-41E0-B410-800A019E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9F95-7E33-47FD-9B3E-CEEB9BCD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3C5-5442-4901-80C5-C56513E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AA3-890B-40A4-A555-4296A3BE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588-B532-419C-9122-A0E5E84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CAA-BF40-44BE-9B1E-04FC6E96DD94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01E-33DF-441C-B8FA-85ACC63C895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065-75D4-4FAC-9067-02F6C2074BD5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4E0-9DDF-4125-A52D-31C4740BF09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D63-8BF0-45F6-B765-7BEA4DC2D9F5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EE86-946E-48C6-B2E8-5FF5904FC30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27E-8C11-4E32-814C-17BD5D848630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CA6-F6B9-42A6-ADEE-36976A4993F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1973-A0C9-4853-A405-DA59B38D4231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632-6251-4632-A0F1-18FA390C8AE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مستطيل 3" descr=""/>
          <p:cNvPicPr/>
          <p:nvPr/>
        </p:nvPicPr>
        <p:blipFill>
          <a:blip r:embed="rId1"/>
          <a:stretch/>
        </p:blipFill>
        <p:spPr>
          <a:xfrm>
            <a:off x="1212840" y="1311120"/>
            <a:ext cx="6767640" cy="1839960"/>
          </a:xfrm>
          <a:prstGeom prst="rect">
            <a:avLst/>
          </a:prstGeom>
          <a:ln w="0">
            <a:noFill/>
          </a:ln>
        </p:spPr>
      </p:pic>
      <p:sp>
        <p:nvSpPr>
          <p:cNvPr id="236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D4C-528F-403A-969F-6444519AC56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916440"/>
            <a:ext cx="5297760" cy="136836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AB14-4E11-43C9-8C10-742C08D6EAA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صورة 4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85" name="صورة 3" descr="استعلام جديد"/>
          <p:cNvPicPr/>
          <p:nvPr/>
        </p:nvPicPr>
        <p:blipFill>
          <a:blip r:embed="rId2"/>
          <a:stretch/>
        </p:blipFill>
        <p:spPr>
          <a:xfrm>
            <a:off x="684360" y="2565360"/>
            <a:ext cx="5495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51E-D4A8-447D-B638-60349D2E7D5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88" name="صورة 3" descr="معالج الاستعلامات البسيطة"/>
          <p:cNvPicPr/>
          <p:nvPr/>
        </p:nvPicPr>
        <p:blipFill>
          <a:blip r:embed="rId2"/>
          <a:stretch/>
        </p:blipFill>
        <p:spPr>
          <a:xfrm>
            <a:off x="2627280" y="2276640"/>
            <a:ext cx="4821120" cy="3600360"/>
          </a:xfrm>
          <a:prstGeom prst="rect">
            <a:avLst/>
          </a:prstGeom>
          <a:ln w="0">
            <a:noFill/>
          </a:ln>
        </p:spPr>
      </p:pic>
      <p:sp>
        <p:nvSpPr>
          <p:cNvPr id="289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179280" y="2565360"/>
            <a:ext cx="2232000" cy="194328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نختار الجدول ثم الحقول المطلوبة ثم نختار الجدول الآخر وحقوله المطلوبة ثم التالي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91" name="رابط كسهم مستقيم 6"/>
          <p:cNvCxnSpPr/>
          <p:nvPr/>
        </p:nvCxnSpPr>
        <p:spPr>
          <a:xfrm flipV="1">
            <a:off x="2411280" y="3644280"/>
            <a:ext cx="1440360" cy="16092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2" name="رابط كسهم مستقيم 10"/>
          <p:cNvCxnSpPr/>
          <p:nvPr/>
        </p:nvCxnSpPr>
        <p:spPr>
          <a:xfrm>
            <a:off x="2411280" y="3804840"/>
            <a:ext cx="2448720" cy="91980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74B-D467-45D3-8489-A33B5FA0DE6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95" name="صورة 3" descr="معالج الاستعلامات البسيطة"/>
          <p:cNvPicPr/>
          <p:nvPr/>
        </p:nvPicPr>
        <p:blipFill>
          <a:blip r:embed="rId2"/>
          <a:stretch/>
        </p:blipFill>
        <p:spPr>
          <a:xfrm>
            <a:off x="1692360" y="2781360"/>
            <a:ext cx="4629240" cy="345744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1552680" y="5618160"/>
            <a:ext cx="1366560" cy="620640"/>
          </a:xfrm>
          <a:prstGeom prst="rect">
            <a:avLst/>
          </a:prstGeom>
          <a:solidFill>
            <a:srgbClr val="e5c6d5">
              <a:alpha val="16000"/>
            </a:srgbClr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3A51-1907-480F-A272-B32923B9AEF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معالج الاستعلامات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0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1479-390F-4FF4-B9DC-2C7A974D545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تكتب الشروط للبيانات من نوع رقم باستخدام العلامات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لمنطقية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a2e4e"/>
                </a:solidFill>
                <a:latin typeface="Perpetua"/>
              </a:rPr>
              <a:t>( &lt; , &gt; , =&lt; , =&gt; , = ,&lt; &gt;)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يتم أدخال الشرط عند صف المعايير أسفل اسم الحقل الرقمي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الرقمية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157-1A5E-4D86-8FA5-DAA15D0E87F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تكتب الشروط للبيانات من نوع نص بكتابة النص كاملا , أو جزء منه و التعويض عن الجزء المفقود بعلامة (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يتم أدخال الشرط عند صف المعايير أسفل اسم الحقل النصي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ال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حمد علي الناصر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* محمد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* م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النصية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5DF-4B06-416E-BD54-C304749A401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9280" y="220464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نقوم بكتابة كلمة  </a:t>
            </a:r>
            <a:r>
              <a:rPr b="0" lang="ar-SA" sz="3200" spc="-1" strike="noStrike">
                <a:solidFill>
                  <a:srgbClr val="8a2e4e"/>
                </a:solidFill>
                <a:latin typeface="Perpetua"/>
              </a:rPr>
              <a:t>نعم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أو </a:t>
            </a:r>
            <a:r>
              <a:rPr b="0" lang="ar-SA" sz="3200" spc="-1" strike="noStrike">
                <a:solidFill>
                  <a:srgbClr val="8a2e4e"/>
                </a:solidFill>
                <a:latin typeface="Perpetua"/>
              </a:rPr>
              <a:t>لا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عند صف المعايير أسفل اسم الحقل المطلوب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ل : حقل متزوج في جدول الطالب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87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من نوع (نعم / لا )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16FA-612F-4D8C-81EE-2445BE4E145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  <p:sp>
        <p:nvSpPr>
          <p:cNvPr id="315" name="عنوان 1"/>
          <p:cNvSpPr/>
          <p:nvPr/>
        </p:nvSpPr>
        <p:spPr>
          <a:xfrm>
            <a:off x="112536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كتابة شروط البيانات من نوع تاريخ و وقت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عنصر نائب للمحتوى 2"/>
          <p:cNvSpPr/>
          <p:nvPr/>
        </p:nvSpPr>
        <p:spPr>
          <a:xfrm>
            <a:off x="331920" y="1990800"/>
            <a:ext cx="85550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نقوم بكتابة التاريخ المطلوب عند صف المعايير أسفل اسم حقل التاريخ مع ملاحظة ( </a:t>
            </a:r>
            <a:r>
              <a:rPr b="0" lang="ar-SA" sz="2800" spc="-1" strike="noStrike">
                <a:solidFill>
                  <a:srgbClr val="a34b73"/>
                </a:solidFill>
                <a:latin typeface="Arial"/>
                <a:cs typeface="Arial"/>
              </a:rPr>
              <a:t>الالتزام بنفس طريقة كتابة التاريخ بالجدول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ال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يطابق التاريخ  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2/2/1988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 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لا يطابق التاريخ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 #2/2/1988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تحتوي على قيم بعد تاريخ معين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2/2/1988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&lt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تحتوي على قيم قبل تاريخ معين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#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2/2/1988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3C4A-CB78-4710-BED8-91DD1C6E67E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في تصميم الاستعلام يمكن وضع أكثر من شرط في صف  المعايير  سواء من جدول واحد أو اثنين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مثال : الاستعلام عن اسماء طلاب تخصص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محاسبة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التي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تزيد درجتهم عن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90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في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مقرر </a:t>
            </a: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1102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فرض أكثر من شرط في الاستعلام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87D-1529-46E8-8834-C19B1841022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عند فتح تصميم الاستعلام أضيف العملية الحسابية في حقل جديد بالشكل التالي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الصافي :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]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سم الحقل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[</a:t>
            </a:r>
            <a:r>
              <a:rPr b="0" lang="ar-SA" sz="3200" spc="-1" strike="noStrike">
                <a:solidFill>
                  <a:srgbClr val="8a2e4e"/>
                </a:solidFill>
                <a:latin typeface="Perpetua"/>
              </a:rPr>
              <a:t>العلامة الحسابية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]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سم الحقل الآخر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[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ثم أتأكد من إظهار الحقل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ثم تشغيل الاستعلام , ألاحظ ظهور حقل العملية الحسابية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تنفيذ عملية حسابية و إظهار ناتجها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00C-8D52-4F82-925C-12A28E1500A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280" y="1987560"/>
            <a:ext cx="8280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هي الطريقة الرئيسية للحصول على معلومات من قاعدة البيانات , خاصة في قواعد البيانات التي تحوي جداول فيها عدد كبير من السجلات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مكنك الاستعلام من فرض شروط لعرض بيانات محددة , بحيث لا تعرض الا السجلات المحققة  لهذه الشروط 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مثلا: أريد استعلام عن اسماء طالبات تخصص 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الرياضيات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التي 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تزيد درجتهم عن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90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في </a:t>
            </a:r>
            <a:r>
              <a:rPr b="0" lang="ar-SA" sz="2800" spc="-1" strike="noStrike">
                <a:solidFill>
                  <a:srgbClr val="8a2e4e"/>
                </a:solidFill>
                <a:latin typeface="Perpetua"/>
              </a:rPr>
              <a:t>مادة سلم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استعلامات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Queries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8008-61EF-4B2E-B5E6-1E5E809C238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3636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27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ظهار نتيجة عملية حسابية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عنوان 1"/>
          <p:cNvSpPr/>
          <p:nvPr/>
        </p:nvSpPr>
        <p:spPr>
          <a:xfrm>
            <a:off x="611280" y="3506760"/>
            <a:ext cx="5400720" cy="700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لصافي :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لمكافأة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 [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ar-SA" sz="3300" spc="-1" strike="noStrike">
                <a:solidFill>
                  <a:srgbClr val="8a2e4e"/>
                </a:solidFill>
                <a:latin typeface="Arial"/>
                <a:ea typeface="Arial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لغرامات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329" name="رابط كسهم مستقيم 5"/>
          <p:cNvCxnSpPr/>
          <p:nvPr/>
        </p:nvCxnSpPr>
        <p:spPr>
          <a:xfrm>
            <a:off x="3423960" y="4220640"/>
            <a:ext cx="1080" cy="5770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0" name="رابط كسهم مستقيم 9"/>
          <p:cNvCxnSpPr/>
          <p:nvPr/>
        </p:nvCxnSpPr>
        <p:spPr>
          <a:xfrm flipV="1">
            <a:off x="2916000" y="5515920"/>
            <a:ext cx="648360" cy="3610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31" name="عنوان 1"/>
          <p:cNvSpPr/>
          <p:nvPr/>
        </p:nvSpPr>
        <p:spPr>
          <a:xfrm>
            <a:off x="1655640" y="5504040"/>
            <a:ext cx="1260720" cy="6840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ظهار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CC2B-49E9-4623-8AE4-5B1A754859C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-324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334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ظهار نتيجة عملية حسابية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عنوان 1"/>
          <p:cNvSpPr/>
          <p:nvPr/>
        </p:nvSpPr>
        <p:spPr>
          <a:xfrm>
            <a:off x="2987640" y="5178600"/>
            <a:ext cx="2211480" cy="6840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ظهرت النتيجة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336" name="رابط كسهم مستقيم 9"/>
          <p:cNvCxnSpPr>
            <a:stCxn id="335" idx="0"/>
          </p:cNvCxnSpPr>
          <p:nvPr/>
        </p:nvCxnSpPr>
        <p:spPr>
          <a:xfrm flipV="1">
            <a:off x="4093920" y="4075920"/>
            <a:ext cx="546480" cy="11026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75D7-62F9-4DF6-A5AD-9F62E205B23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2700360" y="3357720"/>
            <a:ext cx="64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46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778800" y="2503440"/>
            <a:ext cx="541080" cy="565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صورة 8" descr="إظهار جدول"/>
          <p:cNvPicPr/>
          <p:nvPr/>
        </p:nvPicPr>
        <p:blipFill>
          <a:blip r:embed="rId2"/>
          <a:stretch/>
        </p:blipFill>
        <p:spPr>
          <a:xfrm>
            <a:off x="468360" y="2825640"/>
            <a:ext cx="3024000" cy="3195720"/>
          </a:xfrm>
          <a:prstGeom prst="rect">
            <a:avLst/>
          </a:prstGeom>
          <a:ln w="0">
            <a:noFill/>
          </a:ln>
        </p:spPr>
      </p:pic>
      <p:sp>
        <p:nvSpPr>
          <p:cNvPr id="249" name="عنوان 1"/>
          <p:cNvSpPr/>
          <p:nvPr/>
        </p:nvSpPr>
        <p:spPr>
          <a:xfrm>
            <a:off x="3632040" y="3208320"/>
            <a:ext cx="3687840" cy="121608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نشاء =&gt; تصميم الاستعلام ث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ضافة الجدول الذي أود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مل استعلام عن بياناته 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50" name="رابط كسهم مستقيم 10"/>
          <p:cNvCxnSpPr/>
          <p:nvPr/>
        </p:nvCxnSpPr>
        <p:spPr>
          <a:xfrm flipH="1">
            <a:off x="1979280" y="4424400"/>
            <a:ext cx="3496320" cy="13816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E059-F0AC-41E6-B7C3-FACFE8BD2A8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53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عنوان 1"/>
          <p:cNvSpPr/>
          <p:nvPr/>
        </p:nvSpPr>
        <p:spPr>
          <a:xfrm>
            <a:off x="351000" y="2781360"/>
            <a:ext cx="4257360" cy="1584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من خانة الحقل اختار اسم الحقول التي أود عرض بياناتها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55" name="رابط كسهم مستقيم 8"/>
          <p:cNvCxnSpPr>
            <a:stCxn id="254" idx="3"/>
          </p:cNvCxnSpPr>
          <p:nvPr/>
        </p:nvCxnSpPr>
        <p:spPr>
          <a:xfrm>
            <a:off x="4608360" y="3573360"/>
            <a:ext cx="2485440" cy="133128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5148360" y="2825640"/>
            <a:ext cx="360360" cy="64764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6DD-C73A-4887-8592-F65923A7CA5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صورة 1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59" name="عنوان 1"/>
          <p:cNvSpPr/>
          <p:nvPr/>
        </p:nvSpPr>
        <p:spPr>
          <a:xfrm>
            <a:off x="324000" y="2708280"/>
            <a:ext cx="3779640" cy="17049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اكتب الشرط في صف المعايير أسفل اسم الحقل المطلوب  تنفيذ الشرط عليه حسب القواعد . 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1" name="رابط كسهم مستقيم 10"/>
          <p:cNvCxnSpPr>
            <a:stCxn id="259" idx="3"/>
          </p:cNvCxnSpPr>
          <p:nvPr/>
        </p:nvCxnSpPr>
        <p:spPr>
          <a:xfrm>
            <a:off x="4103280" y="3560760"/>
            <a:ext cx="2089800" cy="200736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62" name="TextBox 4"/>
          <p:cNvSpPr/>
          <p:nvPr/>
        </p:nvSpPr>
        <p:spPr>
          <a:xfrm>
            <a:off x="4788000" y="2890800"/>
            <a:ext cx="360360" cy="646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6BDC-E585-41B4-8644-43A26957ADF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صورة 1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4967280" y="2421000"/>
            <a:ext cx="360360" cy="64620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عنوان 1"/>
          <p:cNvSpPr/>
          <p:nvPr/>
        </p:nvSpPr>
        <p:spPr>
          <a:xfrm>
            <a:off x="3348000" y="3395520"/>
            <a:ext cx="2808360" cy="1008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أقوم بتشغيل الاستعلام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8" name="رابط كسهم مستقيم 8"/>
          <p:cNvCxnSpPr>
            <a:stCxn id="267" idx="3"/>
          </p:cNvCxnSpPr>
          <p:nvPr/>
        </p:nvCxnSpPr>
        <p:spPr>
          <a:xfrm flipV="1">
            <a:off x="6156000" y="1915560"/>
            <a:ext cx="2377080" cy="198324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69" name="عنوان 1"/>
          <p:cNvSpPr/>
          <p:nvPr/>
        </p:nvSpPr>
        <p:spPr>
          <a:xfrm>
            <a:off x="468360" y="2543040"/>
            <a:ext cx="2554200" cy="170352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Arial"/>
              </a:rPr>
              <a:t>أو عرضه بطريقة عرض البيانات لمشاهدة النتائج .  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F667-ABEC-4B8E-ADE8-B197C9F68B2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إنشاء الاستعلام 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73" name="عنوان 1"/>
          <p:cNvSpPr/>
          <p:nvPr/>
        </p:nvSpPr>
        <p:spPr>
          <a:xfrm>
            <a:off x="2627280" y="3879720"/>
            <a:ext cx="3538440" cy="1008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نلاحظ أنه تم تطبيق الاستعلام واظهار البيانات المستوفية للشروط فقط 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74" name="رابط كسهم مستقيم 9"/>
          <p:cNvCxnSpPr/>
          <p:nvPr/>
        </p:nvCxnSpPr>
        <p:spPr>
          <a:xfrm flipH="1" flipV="1">
            <a:off x="1979280" y="3212640"/>
            <a:ext cx="2418480" cy="66744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9911-0C0F-4637-952D-692BB849AE3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عنوان 1"/>
          <p:cNvSpPr/>
          <p:nvPr/>
        </p:nvSpPr>
        <p:spPr>
          <a:xfrm>
            <a:off x="614520" y="1484280"/>
            <a:ext cx="7993080" cy="2808360"/>
          </a:xfrm>
          <a:prstGeom prst="rect">
            <a:avLst/>
          </a:prstGeom>
          <a:solidFill>
            <a:srgbClr val="e5c6d5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يمكن إنشاء الاستعلام من جدولين عن طريق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تصميم الاستعلام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عالج الاستعلامات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عنصر نائب لرقم الشريحة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166-9BD9-49A0-8FA9-CA5ABDC7B53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صورة 2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1440" y="1052640"/>
            <a:ext cx="9144000" cy="5825880"/>
          </a:xfrm>
          <a:prstGeom prst="rect">
            <a:avLst/>
          </a:prstGeom>
          <a:ln w="0">
            <a:noFill/>
          </a:ln>
        </p:spPr>
      </p:pic>
      <p:sp>
        <p:nvSpPr>
          <p:cNvPr id="280" name="عنوان 1"/>
          <p:cNvSpPr/>
          <p:nvPr/>
        </p:nvSpPr>
        <p:spPr>
          <a:xfrm>
            <a:off x="324000" y="162000"/>
            <a:ext cx="85690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تصميم الاستعلام (لجدولين )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صورة 5" descr="إظهار جدول"/>
          <p:cNvPicPr/>
          <p:nvPr/>
        </p:nvPicPr>
        <p:blipFill>
          <a:blip r:embed="rId2"/>
          <a:stretch/>
        </p:blipFill>
        <p:spPr>
          <a:xfrm>
            <a:off x="358920" y="2637000"/>
            <a:ext cx="30240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9:28Z</dcterms:created>
  <dc:creator>user</dc:creator>
  <dc:description/>
  <dc:language>en-US</dc:language>
  <cp:lastModifiedBy>User</cp:lastModifiedBy>
  <dcterms:modified xsi:type="dcterms:W3CDTF">2016-03-22T15:16:58Z</dcterms:modified>
  <cp:revision>143</cp:revision>
  <dc:subject/>
  <dc:title>عرض تقديمي في PowerPoint</dc:title>
</cp:coreProperties>
</file>