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0B9-C7D4-401F-800E-6ACFC8FA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CE2-567A-411B-9D46-231BB8B8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68D-D6D0-4DA7-89B3-D670A326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5AB-4D0D-4F28-9851-2A435C79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5885-F240-4454-9BCB-4CD73A51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B647-AE12-4519-AF6E-F5FBD306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2587-DF2F-4DC9-AF73-9520879D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1C23-053E-4D39-9853-A7B18A9D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38F4-2F06-4241-94DE-175B559A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06C1-A7E6-4040-A6C1-B78D6A85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954D-AA8C-4FE2-825E-C9786A10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219A-E1F3-4020-B3CE-1FEF3B6D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E678-CF7F-44EE-89AF-F4FEC7C4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8CF9-2B19-43C5-B542-404356B4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2A2A-A86C-4BCC-B7DA-E1DCF649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1E65-ACFA-49B8-8F07-3955968E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0637-8FB0-4B3F-B767-815C484E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6462C-2D74-4753-ABB5-59454144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5E30-42E5-4008-8D53-84859AE6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DBF28-F766-47EB-B9E2-D8317507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B831D-DA08-4306-B601-F9D9D379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B9DA4-6744-4FDE-881D-D62DCF80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F01B-5CD6-4D46-ADCF-DC097B3B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503DC-D1FC-409E-95A0-56C13EA6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0E73C-8B03-4099-B8CF-3F8AA737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058D0-2867-4584-8391-EF103B94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85067-94F0-4279-AA16-F1B9194C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64AF5-9645-40F7-86E2-2E557B42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A945C-21E3-4067-95C5-8674409C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BCC95-B095-453C-A7D6-F34D1A85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ED1C3-7ED0-4AA6-842B-C2AE5074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8874C-AA52-4871-B2FB-A086BB77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4A1F5-5474-49D5-833A-D98374F3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391-4B3A-47B0-9C93-DC4F2B75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124EF-5A0B-4575-BA5C-B80E5908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0815D-079D-45C6-838E-D0A38021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0F834-562B-41E0-8391-4CBF20DF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1FEEA-2AB9-421C-9C54-BD41F8D3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61AF4-05D2-4BE2-B177-181E2E64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F24E1-3AA6-499F-8D2D-EC84953D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5D40A-DB0E-4CA1-9DD9-9BC8EE01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6A725-C04E-4A89-BA99-A489C50E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63EA0-D81B-4270-BA5A-49D3CB8D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95F-1460-498C-8443-18203277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B26-24DC-4130-895E-FBE9A961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7855-FF59-4079-AD6D-7ED609DC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DDF-7BFD-4E7D-8188-0A6E6FD9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FD2-6961-4831-B766-DAAC3D07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1FF6-E06D-41A0-B771-BE546ACE0CF7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0F12-DAB9-4091-B41C-EF7339EBC3C7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743D-99E2-4CE2-A995-15706E5936A4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51AB-B1BB-47C5-99AB-87B60389F11E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1116000" y="5661000"/>
            <a:ext cx="698508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90560" y="5950080"/>
            <a:ext cx="5834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         1438-1439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1116000" y="1052640"/>
            <a:ext cx="698508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quatic Ecology – Zoo 374     2(1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C:\Users\hp\Desktop\صور بيئات مائية\MLH_7_Carswell.jpg"/>
          <p:cNvPicPr/>
          <p:nvPr/>
        </p:nvPicPr>
        <p:blipFill>
          <a:blip r:embed="rId1"/>
          <a:stretch/>
        </p:blipFill>
        <p:spPr>
          <a:xfrm>
            <a:off x="4572000" y="2133720"/>
            <a:ext cx="4152960" cy="3382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C:\Users\hp\Desktop\صور بيئات مائية\maxresdefault (1).jpg"/>
          <p:cNvPicPr/>
          <p:nvPr/>
        </p:nvPicPr>
        <p:blipFill>
          <a:blip r:embed="rId2"/>
          <a:stretch/>
        </p:blipFill>
        <p:spPr>
          <a:xfrm>
            <a:off x="395280" y="2133720"/>
            <a:ext cx="41054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rine Environment (Habitat) </a:t>
            </a:r>
            <a:r>
              <a:rPr b="1" lang="ar-SA" sz="2800" spc="-1" strike="noStrike">
                <a:solidFill>
                  <a:srgbClr val="0000ff"/>
                </a:solidFill>
                <a:latin typeface="Stencil"/>
                <a:cs typeface="Arial Unicode MS"/>
              </a:rPr>
              <a:t>البيئة البحرية</a:t>
            </a: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528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منطقة الجرف القاري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ntinental zone</a:t>
            </a:r>
            <a:r>
              <a:rPr b="1" lang="en-US" sz="1800" spc="-1" strike="noStrike">
                <a:solidFill>
                  <a:srgbClr val="c00000"/>
                </a:solidFill>
                <a:latin typeface="Stenci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منطقة أعالي البحار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Times New Roman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Oceanic zone</a:t>
            </a:r>
            <a:r>
              <a:rPr b="1" lang="en-US" sz="1800" spc="-1" strike="noStrike">
                <a:solidFill>
                  <a:srgbClr val="c00000"/>
                </a:solidFill>
                <a:latin typeface="Stenci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منطقة الجرف القاري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ntinental zone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عرف منطقة الجرف القاري بانها الشريط العريض والضحل لقاع البحر الذي يمتد من نهاية منطقة المد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الجزر حتى عمق يتراوح بي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-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ت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تقسيم منطقة الجرف القاري إلى منطقتين (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طقة خارجية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طقة داخلية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 إعتمادا على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إختراق الضوء حيث المنطقة الخارجية مضيئة بينما الداخلية يقل إختراق الضوء لها بسبب الكدر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القاعية في الجرف القار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في بعض المناطق تكون منطقة الجرف القاري بكاملها مضيئة وبالتالي لاوجود للمنطقتين المذكورتين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50920" y="836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لي منطقة الجرف القاري منطقة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حدار القاري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ntinental Slope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والتي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تتميز بالإنحدا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الشديد الذي يصل عمقه حتي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0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م   (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0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م 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Stencil"/>
                <a:cs typeface="Arial Unicode MS"/>
              </a:rPr>
              <a:t>كائنات منطقة الجرف القاري</a:t>
            </a:r>
            <a:r>
              <a:rPr b="0" lang="ar-SA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يمكن تقسيم كائنات منطقة الجرف القاري إلى مجموعتين رئيسيتين هما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أ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الأحياء البحرية المنتج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ب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الأحياء البحرية المستهلك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                                    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أ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الأحياء البحرية المنتج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تشمل كلاً من 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ائمات النباتية كالدايوتومات (سائدة في نصف الكرة الأرضية الشمالي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جموعة قديرة الأسواط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Dinoflagellat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سائدة في المناطق الاستوائية وشبه الاستوائية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في المناطق المعتدلة تتعاقب الدايوتومات و مجموعة قديرة الأسواط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وطيات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قيقة أو مايسمى السوطيات النباتية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Phytomastigin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83664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حالب الخضراء الكبيرة بالقرب من الشاطىء وتكون عادة ملصقة على الصخور أو القيعان الصلب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وتجمعات هذه الطحالب تكون كبيرة إلى حد تكوين مايشبه الغاب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ـــ الطحالب الحمراء والبنية ( تقع الطحالب الحمراء في المناطق العميقة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ب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الأحياء البحرية المستهلك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شمل كلاً من 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ائمات الحيوانية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Zooplankton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( القشريات من نوع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opepo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Euphausid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 جنس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alanu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ـ بعض الهدبيات ـ بعض أنواع الرخويات والجوفمعويات ـ بعض أنواع الديدان عديدة الأشواك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ائنات السطحية السابحة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Neust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 الأسماك ـ بعض القشريات الكبير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 السلاحف المائية ـ الثيديات المائية كالحيتان والفقمة ـ الطيور المائية 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ائنات السابحة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Nekt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 الأسماك والبرمائيات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ائنات القاعي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ommunity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Benthic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Benthos)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عظم الحيوانات القاعية إما حيوانات جالسة أو غير نشطة نسبيا ويمكن تقسيمها إلى مجموعتين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Constantia"/>
                <a:cs typeface="Majalla UI"/>
              </a:rPr>
              <a:t>المجموعة الأولى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تعرف بمجموعة الحيوانات القاعية الفوقية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Epifaun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هي التي تعيش إفرادها إما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لتصقة أو متحركة بصورة حرة على سطح القاع (فوق القاع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4000" y="836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  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Constantia"/>
                <a:cs typeface="Majalla UI"/>
              </a:rPr>
              <a:t>المجموعة الثانية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تعرف بمجموعة الحيوانات القاعية التحتية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Infun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هي التي تعيش إفرادها داخل حفر في القا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منطقة أعالي البحار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Oceanic zone</a:t>
            </a:r>
            <a:r>
              <a:rPr b="1" lang="en-US" sz="2400" spc="-1" strike="noStrike">
                <a:solidFill>
                  <a:srgbClr val="c00000"/>
                </a:solidFill>
                <a:latin typeface="Stencil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تبدأ منطقة أعالي البحار بعد منطقة الجرف القاري وقد تصل إلى عمق أكثر م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00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تر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تقسيم منطقة أعالي البحار عمودياً إلى أربعة أقسام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أ-</a:t>
            </a:r>
            <a:r>
              <a:rPr b="1" lang="ar-SA" sz="18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طقة السحطية العليا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Epipelag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 تمتد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 السطح إلى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مق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 ب-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طقة السحطية الوسطى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Mesopelag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 تمتد إلى عمق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0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ج-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طق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Bathypelagic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أو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midnight z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 تمتد من عمق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0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إلى عمق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38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 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 د-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طقة فوق القاعية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Abysopelag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هي المنطقة العميقة جدا من البحر( التي يزيد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                                                                 عمقها ع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38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علما بأن الحدود الفاصلة بين المناطق الأربعة غير واضحة</a:t>
            </a:r>
            <a:r>
              <a:rPr b="1" lang="ar-SA" sz="2400" spc="-1" strike="noStrike">
                <a:solidFill>
                  <a:srgbClr val="0000ff"/>
                </a:solidFill>
                <a:latin typeface="Stenci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Stencil"/>
                <a:ea typeface="Arial Unicode MS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1" lang="ar-SA" sz="2400" spc="-1" strike="noStrike">
                <a:solidFill>
                  <a:srgbClr val="0000ff"/>
                </a:solidFill>
                <a:latin typeface="Stencil"/>
                <a:ea typeface="Arial Unicode MS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لكل منطقة أحيائها البحرية المميز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-</a:t>
            </a:r>
            <a:r>
              <a:rPr b="1" lang="ar-SA" sz="2400" spc="-1" strike="noStrike">
                <a:solidFill>
                  <a:srgbClr val="0000ff"/>
                </a:solidFill>
                <a:latin typeface="Stencil"/>
                <a:ea typeface="Arial Unicode MS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لما إزداد العمق إزداد ثبات العوامل البيئ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أ-</a:t>
            </a:r>
            <a:r>
              <a:rPr b="1" lang="ar-SA" sz="18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منطقة السحطية العليا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Epipelagic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1" lang="ar-S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ي</a:t>
            </a:r>
            <a:r>
              <a:rPr b="1" lang="ar-S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طقة مضيئة ولذلك غنية بالإنتاجية ومن ثم تحتوي على معظم أنواع الأحياء البحرية على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رغم من صغر حجمها بالنسبة للبيئة السطحية البحر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رجة الحرارة بصورة عامة مرتفعة وقابلة للتغيرات الموسمية والجغراف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ب-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منطقة السحطية الوسطى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Mesopelagic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030a0"/>
                </a:solidFill>
                <a:latin typeface="Constantia"/>
                <a:ea typeface="Majalla UI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1" lang="ar-S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في وسط عمق هذه المنطقة (بعد عمق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5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) لايصل الضوء ولذا لايتوقع وجود نباتات بها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رجة الحرارة متغيرة بشكل كبير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؟؟؟؟؟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  ــ</a:t>
            </a:r>
            <a:r>
              <a:rPr b="1" lang="ar-S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ائنات المستهلكة الأولية فيها تعتمد على الفضلات المتةساقطة من الطبقة العليا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ثير من حيواناتها الصغيرة تقوم بالهجرة أثناء النهار إلى طبقة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Epipelagic</a:t>
            </a:r>
            <a:r>
              <a:rPr b="1" lang="ar-SA" sz="2000" spc="-1" strike="noStrike">
                <a:solidFill>
                  <a:srgbClr val="7030a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للتغذية على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هائمات النبات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ج-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منطقة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Bathypelagic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د-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منطقة فوق القاعية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bysopelagic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تميزان بثبات العوامل البيئية حيث إنعدام الضوء وثبات الحرارة (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°م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درج في كثافة الماء يزداد بزيادة العم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ضغط يزداد بزيادة العمق مما يحفز حدوث التيارات المائية ( الخلط المائي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95280" y="764640"/>
            <a:ext cx="8353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Stencil"/>
                <a:cs typeface="Arial Unicode MS"/>
              </a:rPr>
              <a:t>كائنات منطقة أعالي البحار</a:t>
            </a:r>
            <a:r>
              <a:rPr b="0" lang="ar-SA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عظم أنواع الأحياء البحرية تتواجد في المنطقة السطحية العليا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Epipelab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؟؟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تقل كثافة الأحياء البحرية كلما زاد العمق خاصة في المنطقة السطحية الوسطى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Mesopelab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؟؟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ائمات النباتية الدقيقة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Microplankton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عيش في المنطقة الضوئية وتلعب دوراً مهما في توازن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O2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o2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على سطح الأرض بسبب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كبرمساحة هذه المنطقة (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9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%) من مساحة المحيط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ائمات الحيوان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جموعة من الهائمات الحيوانية التي تتحمل الملوحة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Holoplankt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تي تضم بصور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رئيسية مجموعة منالقشريات المعروفة باسم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Euphausi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تي تعد أهم مادة غذائية للأسما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يور البحر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مختلفة من الطيور البحرية التي نادرا ماتستقر على الأرض إلا في مرحلة وضع البيض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يتان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 الأحياء البحرية الهامة في هذه المنطقة وتتغذى معظمها على الهائمات الحيوان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سما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عوامل حياتية تؤثر في بيئة أعالي البحار</a:t>
            </a:r>
            <a:r>
              <a:rPr b="0" lang="ar-SA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تأثر بيئة أعالي البحار ببعض العوامل الحياتية من أهمها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جر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ذاء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كان المعيش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2-13T21:35:02Z</dcterms:modified>
  <cp:revision>261</cp:revision>
  <dc:subject/>
  <dc:title>Principals of General Zoology (Zoo-103)</dc:title>
</cp:coreProperties>
</file>