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2B71-25EC-4A20-BC40-826EAF659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E354-9FDE-42E0-800A-9E5EC5A40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ECEA-B7F8-4E3D-BF92-B3A6BE0EA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C6E6-E185-487F-BD51-81C715744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2C546-C782-4B33-8806-6D8216D97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C701D-941D-423D-AEAF-2C9B301ED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FF43C-9BC3-47DB-B54A-0B0F03C3E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50FCF-8596-44D6-9EC9-CBF8BB845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E5346-3409-4639-AEA4-34191A35D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B08A4-76C2-482B-9EF0-20CBD7540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A86DA-8C24-429A-9F06-2CBE1BEDC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C3A3-702F-4F39-9A13-FC979FA4C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24735-3161-4A54-AA16-29C4E030F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18C76-7645-4477-8076-73CF2D0F6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C697F-6FF8-41EE-9BD1-0C3AAC973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929C3-1B12-4144-915A-2BA59E26C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9C719-5838-4698-B2E9-569935819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CBA6DE-D3E6-41C1-8A69-CA8A904A6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643410-79D8-4571-84BE-9E6891571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842FD9-95B4-4E8C-A78E-215E691DE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AC740E-87C8-49BB-AC1D-A706D2BD1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EEDBF7-6F80-43DE-84D8-D0F8E688F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6630-6505-48D7-B09D-FFFD8D06F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67D6CC-0609-4178-825F-DC98BB6AC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8EECE4-5AED-44A2-8984-392B27DD7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50BB30-4A11-4F98-97D8-ECF2398BD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AFB1AB-C4D3-4CE9-BD25-B0D3BF9AC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B083CB-848B-405F-8A76-CED5C952B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03F783-E93C-4688-BAF4-9E9DC00EA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4A3B62-797D-451D-851D-A7181F6A2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8BBDD1-2D8E-43D9-9AD0-E3C6CB1A3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28B0EE-C5E7-4596-9307-D74AC7D30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95FABB-2B86-4274-8644-99496B2B7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B3DF-39DB-40A5-A3EE-CCFD31197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02D4F1-DED6-4151-9581-347DD2F17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CB8B2F-657D-4DE8-A257-A484E1467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407DE9-D28B-4192-AD35-4E72409E4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EC0F98-4F75-458A-B6BB-765A8D724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ABC284-962C-4CEF-8314-8FA56FF51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A8AA82-A981-4923-A405-ADA903128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CE63C5-645E-46DD-A39F-FF8EE7128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2CCBF5-9509-420D-8071-7F453E53B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A101EF-675E-409F-9A4B-1EC71746A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2685-BD4C-417E-9B75-DC82F54E5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44A6-B14D-4CC2-8D5D-953F2EA8A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E53D-87F0-48D9-B128-F8BF074CC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6C82-FC03-4F94-BF2C-6E93EF226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9823-CDD8-4CA1-A2C1-FA6CF0D38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3CC4F-0E14-4467-9D8E-EB3ABBA849C6}" type="slidenum">
              <a:rPr b="0" lang="en-GB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727FD-98E1-4152-B5BE-87772875A009}" type="slidenum">
              <a:rPr b="0" lang="en-GB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3E40E-94A6-4D9C-98B9-60DB85616E5B}" type="slidenum">
              <a:rPr b="0" lang="en-GB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11872-3B84-494E-BF6E-E28423571423}" type="slidenum">
              <a:rPr b="0" lang="en-GB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AutoShape 12"/>
          <p:cNvSpPr/>
          <p:nvPr/>
        </p:nvSpPr>
        <p:spPr>
          <a:xfrm>
            <a:off x="1116000" y="5661000"/>
            <a:ext cx="6985080" cy="792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43570" dir="8100000" blurRad="0" rotWithShape="0">
              <a:srgbClr val="dbf5f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8"/>
          <p:cNvSpPr/>
          <p:nvPr/>
        </p:nvSpPr>
        <p:spPr>
          <a:xfrm>
            <a:off x="1690560" y="5950080"/>
            <a:ext cx="58341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oology Department         1438-1439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9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11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12"/>
          <p:cNvSpPr/>
          <p:nvPr/>
        </p:nvSpPr>
        <p:spPr>
          <a:xfrm>
            <a:off x="1116000" y="1052640"/>
            <a:ext cx="6985080" cy="936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43570" dir="8100000" blurRad="0" rotWithShape="0">
              <a:srgbClr val="dbf5f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Aquatic Ecology – Zoo 374     2(1+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8" descr="C:\Users\hp\Desktop\صور بيئات مائية\MLH_7_Carswell.jpg"/>
          <p:cNvPicPr/>
          <p:nvPr/>
        </p:nvPicPr>
        <p:blipFill>
          <a:blip r:embed="rId1"/>
          <a:stretch/>
        </p:blipFill>
        <p:spPr>
          <a:xfrm>
            <a:off x="4572000" y="2133720"/>
            <a:ext cx="4152960" cy="33829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0" descr="C:\Users\hp\Desktop\صور بيئات مائية\maxresdefault (1).jpg"/>
          <p:cNvPicPr/>
          <p:nvPr/>
        </p:nvPicPr>
        <p:blipFill>
          <a:blip r:embed="rId2"/>
          <a:stretch/>
        </p:blipFill>
        <p:spPr>
          <a:xfrm>
            <a:off x="395280" y="2133720"/>
            <a:ext cx="410544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</a:t>
            </a:r>
            <a:r>
              <a:rPr b="0" lang="en-US" sz="2800" spc="-1" strike="noStrike">
                <a:solidFill>
                  <a:srgbClr val="7030a0"/>
                </a:solidFill>
                <a:latin typeface="Calibri"/>
                <a:ea typeface="Traditional Arabic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Marine Environment (Habitat) </a:t>
            </a:r>
            <a:r>
              <a:rPr b="1" lang="ar-SA" sz="2800" spc="-1" strike="noStrike">
                <a:solidFill>
                  <a:srgbClr val="0000ff"/>
                </a:solidFill>
                <a:latin typeface="Stencil"/>
                <a:cs typeface="Arial Unicode MS"/>
              </a:rPr>
              <a:t>البيئة البحرية</a:t>
            </a:r>
            <a:r>
              <a:rPr b="0" lang="ar-SA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</a:t>
            </a:r>
            <a:r>
              <a:rPr b="0" lang="ar-SA" sz="2800" spc="-1" strike="noStrike">
                <a:solidFill>
                  <a:srgbClr val="ff0000"/>
                </a:solidFill>
                <a:latin typeface="Calibri"/>
                <a:ea typeface="Traditional Arabic"/>
              </a:rPr>
              <a:t>       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95280" y="1341360"/>
            <a:ext cx="835344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26440" indent="-22644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- </a:t>
            </a:r>
            <a:r>
              <a:rPr b="1" lang="ar-SA" sz="2000" spc="-1" strike="noStrike">
                <a:solidFill>
                  <a:srgbClr val="c00000"/>
                </a:solidFill>
                <a:latin typeface="Stencil"/>
                <a:cs typeface="Arial Unicode MS"/>
              </a:rPr>
              <a:t>منطقة الجرف القاري    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Continental zone</a:t>
            </a:r>
            <a:r>
              <a:rPr b="1" lang="en-US" sz="1800" spc="-1" strike="noStrike">
                <a:solidFill>
                  <a:srgbClr val="c00000"/>
                </a:solidFill>
                <a:latin typeface="Stenci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3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- </a:t>
            </a:r>
            <a:r>
              <a:rPr b="1" lang="ar-SA" sz="2000" spc="-1" strike="noStrike">
                <a:solidFill>
                  <a:srgbClr val="c00000"/>
                </a:solidFill>
                <a:latin typeface="Stencil"/>
                <a:cs typeface="Arial Unicode MS"/>
              </a:rPr>
              <a:t>منطقة أعالي البحار</a:t>
            </a:r>
            <a:r>
              <a:rPr b="1" lang="ar-SA" sz="2000" spc="-1" strike="noStrike">
                <a:solidFill>
                  <a:srgbClr val="c00000"/>
                </a:solidFill>
                <a:latin typeface="Stencil"/>
                <a:ea typeface="Times New Roman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Oceanic zone</a:t>
            </a:r>
            <a:r>
              <a:rPr b="1" lang="en-US" sz="1800" spc="-1" strike="noStrike">
                <a:solidFill>
                  <a:srgbClr val="c00000"/>
                </a:solidFill>
                <a:latin typeface="Stenci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ct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00000"/>
                </a:solidFill>
                <a:latin typeface="Stencil"/>
                <a:cs typeface="Arial Unicode MS"/>
              </a:rPr>
              <a:t>منطقة الجرف القاري 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Continental zone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ct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تعرف منطقة الجرف القاري بانها الشريط العريض والضحل لقاع البحر الذي يمتد من نهاية منطقة المد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والجزر حتى عمق يتراوح بين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100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-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200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متر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ـــ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يمكن تقسيم منطقة الجرف القاري إلى منطقتين ( 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منطقة خارجية </a:t>
            </a: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و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منطقة داخلية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) إعتمادا على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 إختراق الضوء حيث المنطقة الخارجية مضيئة بينما الداخلية يقل إختراق الضوء لها بسبب الكدرة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 القاعية في الجرف القاري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ـــ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في بعض المناطق تكون منطقة الجرف القاري بكاملها مضيئة وبالتالي لاوجود للمنطقتين المذكورتين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250920" y="836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ـــ</a:t>
            </a:r>
            <a:r>
              <a:rPr b="1" lang="ar-SA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تلي منطقة الجرف القاري منطقة 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إنحدار القاري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Continental Slope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Times New Roman"/>
              </a:rPr>
              <a:t>والتي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Times New Roman"/>
              </a:rPr>
              <a:t>تتميز بالإنحدار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   الشديد الذي يصل عمقه حتي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2000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Times New Roman"/>
              </a:rPr>
              <a:t>م   (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200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-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2000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Times New Roman"/>
              </a:rPr>
              <a:t>م 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ct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ff"/>
                </a:solidFill>
                <a:latin typeface="Wingdings"/>
                <a:ea typeface="Wingdings"/>
              </a:rPr>
              <a:t>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ar-SA" sz="2200" spc="-1" strike="noStrike">
                <a:solidFill>
                  <a:srgbClr val="c00000"/>
                </a:solidFill>
                <a:latin typeface="Stencil"/>
                <a:cs typeface="Arial Unicode MS"/>
              </a:rPr>
              <a:t>كائنات منطقة الجرف القاري</a:t>
            </a:r>
            <a:r>
              <a:rPr b="0" lang="ar-SA" sz="2400" spc="-1" strike="noStrike">
                <a:solidFill>
                  <a:srgbClr val="0000ff"/>
                </a:solidFill>
                <a:latin typeface="Wingdings"/>
                <a:ea typeface="Wingdings"/>
              </a:rPr>
              <a:t>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Times New Roman"/>
              </a:rPr>
              <a:t>يمكن تقسيم كائنات منطقة الجرف القاري إلى مجموعتين رئيسيتين هما:-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onstantia"/>
                <a:cs typeface="Majalla UI"/>
              </a:rPr>
              <a:t>أ- </a:t>
            </a:r>
            <a:r>
              <a:rPr b="1" lang="ar-SA" sz="2000" spc="-1" strike="noStrike">
                <a:solidFill>
                  <a:srgbClr val="c00000"/>
                </a:solidFill>
                <a:latin typeface="Constantia"/>
                <a:cs typeface="Majalla UI"/>
              </a:rPr>
              <a:t>الأحياء البحرية المنتجة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onstantia"/>
                <a:cs typeface="Majalla UI"/>
              </a:rPr>
              <a:t>ب- </a:t>
            </a:r>
            <a:r>
              <a:rPr b="1" lang="ar-SA" sz="2000" spc="-1" strike="noStrike">
                <a:solidFill>
                  <a:srgbClr val="c00000"/>
                </a:solidFill>
                <a:latin typeface="Constantia"/>
                <a:cs typeface="Majalla UI"/>
              </a:rPr>
              <a:t>الأحياء البحرية المستهلكة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Constantia"/>
                <a:ea typeface="Majalla UI"/>
              </a:rPr>
              <a:t>                                        </a:t>
            </a:r>
            <a:r>
              <a:rPr b="1" lang="ar-SA" sz="2000" spc="-1" strike="noStrike">
                <a:solidFill>
                  <a:srgbClr val="0000ff"/>
                </a:solidFill>
                <a:latin typeface="Constantia"/>
                <a:cs typeface="Majalla UI"/>
              </a:rPr>
              <a:t>أ- </a:t>
            </a:r>
            <a:r>
              <a:rPr b="1" lang="ar-SA" sz="2000" spc="-1" strike="noStrike">
                <a:solidFill>
                  <a:srgbClr val="c00000"/>
                </a:solidFill>
                <a:latin typeface="Constantia"/>
                <a:cs typeface="Majalla UI"/>
              </a:rPr>
              <a:t>الأحياء البحرية المنتجة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Times New Roman"/>
              </a:rPr>
              <a:t>تشمل كلاً من :-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ـــ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هائمات النباتية كالدايوتومات (سائدة في نصف الكرة الأرضية الشمالي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ـــ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مجموعة قديرة الأسواط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Dinoflagellates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(سائدة في المناطق الاستوائية وشبه الاستوائية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ـــ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في المناطق المعتدلة تتعاقب الدايوتومات و مجموعة قديرة الأسواط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ـــ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سوطيات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دقيقة أو مايسمى السوطيات النباتية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Phytomastigina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395280" y="83664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2640" indent="-24264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ـــ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طحالب الخضراء الكبيرة بالقرب من الشاطىء وتكون عادة ملصقة على الصخور أو القيعان الصلبة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  وتجمعات هذه الطحالب تكون كبيرة إلى حد تكوين مايشبه الغابة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ـــ الطحالب الحمراء والبنية ( تقع الطحالب الحمراء في المناطق العميقة 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 algn="ct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onstantia"/>
                <a:cs typeface="Majalla UI"/>
              </a:rPr>
              <a:t>ب- </a:t>
            </a:r>
            <a:r>
              <a:rPr b="1" lang="ar-SA" sz="2000" spc="-1" strike="noStrike">
                <a:solidFill>
                  <a:srgbClr val="c00000"/>
                </a:solidFill>
                <a:latin typeface="Constantia"/>
                <a:cs typeface="Majalla UI"/>
              </a:rPr>
              <a:t>الأحياء البحرية المستهلكة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تشمل كلاً من :-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ـــ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هائمات الحيوانية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Zooplankton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( القشريات من نوع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Copepod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و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Euphausids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و جنس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Calanus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ـ بعض الهدبيات ـ بعض أنواع الرخويات والجوفمعويات ـ بعض أنواع الديدان عديدة الأشواك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ـــ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كائنات السطحية السابحة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Neuston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( الأسماك ـ بعض القشريات الكبيرة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ـ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بعض السلاحف المائية ـ الثيديات المائية كالحيتان والفقمة ـ الطيور المائية 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ـــ 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كائنات السابحة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Nekton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( الأسماك والبرمائيات 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ـــ 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كائنات القاعية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community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Benthic 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(Benthos)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معظم الحيوانات القاعية إما حيوانات جالسة أو غير نشطة نسبيا ويمكن تقسيمها إلى مجموعتين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   </a:t>
            </a:r>
            <a:r>
              <a:rPr b="0" lang="ar-SA" sz="2000" spc="-1" strike="noStrike" u="sng">
                <a:solidFill>
                  <a:srgbClr val="ff0000"/>
                </a:solidFill>
                <a:uFillTx/>
                <a:latin typeface="Constantia"/>
                <a:cs typeface="Majalla UI"/>
              </a:rPr>
              <a:t>المجموعة الأولى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وتعرف بمجموعة الحيوانات القاعية الفوقية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Epifauna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وهي التي تعيش إفرادها إما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   ملتصقة أو متحركة بصورة حرة على سطح القاع (فوق القاع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324000" y="836280"/>
            <a:ext cx="84960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31840" indent="-23184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0000"/>
                </a:solidFill>
                <a:latin typeface="Constantia"/>
                <a:ea typeface="Majalla UI"/>
              </a:rPr>
              <a:t>   </a:t>
            </a:r>
            <a:r>
              <a:rPr b="0" lang="ar-SA" sz="2000" spc="-1" strike="noStrike" u="sng">
                <a:solidFill>
                  <a:srgbClr val="ff0000"/>
                </a:solidFill>
                <a:uFillTx/>
                <a:latin typeface="Constantia"/>
                <a:cs typeface="Majalla UI"/>
              </a:rPr>
              <a:t>المجموعة الثانية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وتعرف بمجموعة الحيوانات القاعية التحتية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Infuna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وهي التي تعيش إفرادها داخل حفر في القاع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 algn="ct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 algn="ct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00000"/>
                </a:solidFill>
                <a:latin typeface="Stencil"/>
                <a:cs typeface="Arial Unicode MS"/>
              </a:rPr>
              <a:t>منطقة أعالي البحار</a:t>
            </a:r>
            <a:r>
              <a:rPr b="1" lang="ar-SA" sz="2400" spc="-1" strike="noStrike">
                <a:solidFill>
                  <a:srgbClr val="c00000"/>
                </a:solidFill>
                <a:latin typeface="Stencil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Oceanic zone</a:t>
            </a:r>
            <a:r>
              <a:rPr b="1" lang="en-US" sz="2400" spc="-1" strike="noStrike">
                <a:solidFill>
                  <a:srgbClr val="c00000"/>
                </a:solidFill>
                <a:latin typeface="Stencil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Stenci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 algn="ct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 تبدأ منطقة أعالي البحار بعد منطقة الجرف القاري وقد تصل إلى عمق أكثر من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10000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متر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  ـــ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يمكن تقسيم منطقة أعالي البحار عمودياً إلى أربعة أقسام:-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 </a:t>
            </a:r>
            <a:r>
              <a:rPr b="1" lang="ar-SA" sz="2000" spc="-1" strike="noStrike">
                <a:solidFill>
                  <a:srgbClr val="c00000"/>
                </a:solidFill>
                <a:latin typeface="Stencil"/>
                <a:cs typeface="Arial Unicode MS"/>
              </a:rPr>
              <a:t>أ-</a:t>
            </a:r>
            <a:r>
              <a:rPr b="1" lang="ar-SA" sz="1800" spc="-1" strike="noStrike">
                <a:solidFill>
                  <a:srgbClr val="c00000"/>
                </a:solidFill>
                <a:latin typeface="Stencil"/>
                <a:ea typeface="Arial Unicode MS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منطقة السحطية العليا 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Epipelagic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( تمتد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من السطح إلى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عمق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200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م 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Stencil"/>
                <a:ea typeface="Arial Unicode MS"/>
              </a:rPr>
              <a:t>  ب- 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منطقة السحطية الوسطى 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Mesopelagic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( تمتد إلى عمق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1000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م 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 </a:t>
            </a:r>
            <a:r>
              <a:rPr b="1" lang="ar-SA" sz="2000" spc="-1" strike="noStrike">
                <a:solidFill>
                  <a:srgbClr val="c00000"/>
                </a:solidFill>
                <a:latin typeface="Stencil"/>
                <a:cs typeface="Arial Unicode MS"/>
              </a:rPr>
              <a:t>ج- 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منطقة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Bathypelagic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أو </a:t>
            </a:r>
            <a:r>
              <a:rPr b="1" lang="en-US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midnight zone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( تمتد من عمق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1000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إلى عمق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3800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م 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Stencil"/>
                <a:ea typeface="Arial Unicode MS"/>
              </a:rPr>
              <a:t>  د- 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منطقة فوق القاعية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Abysopelagic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وهي المنطقة العميقة جدا من البحر( التي يزيد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                                                                                             عمقها عن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3800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م 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  </a:t>
            </a:r>
            <a:r>
              <a:rPr b="1" lang="ar-SA" sz="2000" spc="-1" strike="noStrike">
                <a:solidFill>
                  <a:srgbClr val="ff0000"/>
                </a:solidFill>
                <a:latin typeface="Constantia"/>
                <a:ea typeface="Majalla UI"/>
              </a:rPr>
              <a:t>-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علما بأن الحدود الفاصلة بين المناطق الأربعة غير واضحة</a:t>
            </a:r>
            <a:r>
              <a:rPr b="1" lang="ar-SA" sz="2400" spc="-1" strike="noStrike">
                <a:solidFill>
                  <a:srgbClr val="0000ff"/>
                </a:solidFill>
                <a:latin typeface="Stencil"/>
                <a:ea typeface="Arial Unicode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Stencil"/>
                <a:ea typeface="Arial Unicode MS"/>
              </a:rPr>
              <a:t>  </a:t>
            </a:r>
            <a:r>
              <a:rPr b="1" lang="ar-SA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-</a:t>
            </a:r>
            <a:r>
              <a:rPr b="1" lang="ar-SA" sz="2400" spc="-1" strike="noStrike">
                <a:solidFill>
                  <a:srgbClr val="0000ff"/>
                </a:solidFill>
                <a:latin typeface="Stencil"/>
                <a:ea typeface="Arial Unicode MS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لكل منطقة أحيائها البحرية المميزة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  -</a:t>
            </a:r>
            <a:r>
              <a:rPr b="1" lang="ar-SA" sz="2400" spc="-1" strike="noStrike">
                <a:solidFill>
                  <a:srgbClr val="0000ff"/>
                </a:solidFill>
                <a:latin typeface="Stencil"/>
                <a:ea typeface="Arial Unicode MS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كلما إزداد العمق إزداد ثبات العوامل البيئية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457200" y="764640"/>
            <a:ext cx="8229600" cy="555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28960" indent="-22896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Stencil"/>
                <a:cs typeface="Arial Unicode MS"/>
              </a:rPr>
              <a:t>أ-</a:t>
            </a:r>
            <a:r>
              <a:rPr b="1" lang="ar-SA" sz="1800" spc="-1" strike="noStrike">
                <a:solidFill>
                  <a:srgbClr val="c00000"/>
                </a:solidFill>
                <a:latin typeface="Stencil"/>
                <a:ea typeface="Arial Unicode MS"/>
              </a:rPr>
              <a:t> </a:t>
            </a:r>
            <a:r>
              <a:rPr b="1" lang="ar-SA" sz="2000" spc="-1" strike="noStrike">
                <a:solidFill>
                  <a:srgbClr val="0000ff"/>
                </a:solidFill>
                <a:latin typeface="Constantia"/>
                <a:cs typeface="Majalla UI"/>
              </a:rPr>
              <a:t>المنطقة السحطية العليا  </a:t>
            </a:r>
            <a:r>
              <a:rPr b="1" lang="en-US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Epipelagic</a:t>
            </a:r>
            <a:r>
              <a:rPr b="1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</a:t>
            </a: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ــ</a:t>
            </a:r>
            <a:r>
              <a:rPr b="1" lang="ar-SA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هي</a:t>
            </a:r>
            <a:r>
              <a:rPr b="1" lang="ar-SA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منطقة مضيئة ولذلك غنية بالإنتاجية ومن ثم تحتوي على معظم أنواع الأحياء البحرية على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  الرغم من صغر حجمها بالنسبة للبيئة السطحية البحرية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  </a:t>
            </a: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ــ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درجة الحرارة بصورة عامة مرتفعة وقابلة للتغيرات الموسمية والجغرافية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Stencil"/>
                <a:ea typeface="Arial Unicode MS"/>
              </a:rPr>
              <a:t> ب- </a:t>
            </a:r>
            <a:r>
              <a:rPr b="1" lang="ar-SA" sz="2000" spc="-1" strike="noStrike">
                <a:solidFill>
                  <a:srgbClr val="0000ff"/>
                </a:solidFill>
                <a:latin typeface="Constantia"/>
                <a:cs typeface="Majalla UI"/>
              </a:rPr>
              <a:t>المنطقة السحطية الوسطى  </a:t>
            </a:r>
            <a:r>
              <a:rPr b="1" lang="en-US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Mesopelagic</a:t>
            </a:r>
            <a:r>
              <a:rPr b="1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7030a0"/>
                </a:solidFill>
                <a:latin typeface="Constantia"/>
                <a:ea typeface="Majalla UI"/>
              </a:rPr>
              <a:t>   </a:t>
            </a: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ــ</a:t>
            </a:r>
            <a:r>
              <a:rPr b="1" lang="ar-SA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في وسط عمق هذه المنطقة (بعد عمق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500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م) لايصل الضوء ولذا لايتوقع وجود نباتات بها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  </a:t>
            </a: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ــ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درجة الحرارة متغيرة بشكل كبير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؟؟؟؟؟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nstantia"/>
                <a:ea typeface="Majalla UI"/>
              </a:rPr>
              <a:t>   ــ</a:t>
            </a:r>
            <a:r>
              <a:rPr b="1" lang="ar-SA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كائنات المستهلكة الأولية فيها تعتمد على الفضلات المتةساقطة من الطبقة العليا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  </a:t>
            </a: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ــ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كثير من حيواناتها الصغيرة تقوم بالهجرة أثناء النهار إلى طبقة </a:t>
            </a:r>
            <a:r>
              <a:rPr b="1" lang="en-US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Epipelagic</a:t>
            </a:r>
            <a:r>
              <a:rPr b="1" lang="ar-SA" sz="2000" spc="-1" strike="noStrike">
                <a:solidFill>
                  <a:srgbClr val="7030a0"/>
                </a:solidFill>
                <a:latin typeface="Constantia"/>
                <a:ea typeface="Majalla UI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للتغذية على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    الهائمات النباتية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ar-SA" sz="2000" spc="-1" strike="noStrike">
                <a:solidFill>
                  <a:srgbClr val="c00000"/>
                </a:solidFill>
                <a:latin typeface="Stencil"/>
                <a:cs typeface="Arial Unicode MS"/>
              </a:rPr>
              <a:t>ج- </a:t>
            </a:r>
            <a:r>
              <a:rPr b="1" lang="ar-SA" sz="2000" spc="-1" strike="noStrike">
                <a:solidFill>
                  <a:srgbClr val="0000ff"/>
                </a:solidFill>
                <a:latin typeface="Constantia"/>
                <a:cs typeface="Majalla UI"/>
              </a:rPr>
              <a:t>منطقة</a:t>
            </a:r>
            <a:r>
              <a:rPr b="1" lang="en-US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 </a:t>
            </a:r>
            <a:r>
              <a:rPr b="1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Bathypelagic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                   </a:t>
            </a:r>
            <a:r>
              <a:rPr b="1" lang="ar-SA" sz="2000" spc="-1" strike="noStrike">
                <a:solidFill>
                  <a:srgbClr val="c00000"/>
                </a:solidFill>
                <a:latin typeface="Stencil"/>
                <a:cs typeface="Arial Unicode MS"/>
              </a:rPr>
              <a:t>د- </a:t>
            </a:r>
            <a:r>
              <a:rPr b="1" lang="ar-SA" sz="2000" spc="-1" strike="noStrike">
                <a:solidFill>
                  <a:srgbClr val="0000ff"/>
                </a:solidFill>
                <a:latin typeface="Constantia"/>
                <a:cs typeface="Majalla UI"/>
              </a:rPr>
              <a:t>المنطقة فوق القاعية </a:t>
            </a:r>
            <a:r>
              <a:rPr b="1" lang="en-US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Abysopelagic</a:t>
            </a:r>
            <a:r>
              <a:rPr b="1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  </a:t>
            </a: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ــ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تتميزان بثبات العوامل البيئية حيث إنعدام الضوء وثبات الحرارة (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4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°م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  </a:t>
            </a: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ــ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تدرج في كثافة الماء يزداد بزيادة العمق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  </a:t>
            </a: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ــ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ضغط يزداد بزيادة العمق مما يحفز حدوث التيارات المائية ( الخلط المائي 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395280" y="764640"/>
            <a:ext cx="8353440" cy="57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26440" indent="-226440" algn="ct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ff"/>
                </a:solidFill>
                <a:latin typeface="Wingdings"/>
                <a:ea typeface="Wingdings"/>
              </a:rPr>
              <a:t></a:t>
            </a:r>
            <a:r>
              <a:rPr b="1" lang="ar-SA" sz="2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ar-SA" sz="2200" spc="-1" strike="noStrike">
                <a:solidFill>
                  <a:srgbClr val="c00000"/>
                </a:solidFill>
                <a:latin typeface="Stencil"/>
                <a:cs typeface="Arial Unicode MS"/>
              </a:rPr>
              <a:t>كائنات منطقة أعالي البحار</a:t>
            </a:r>
            <a:r>
              <a:rPr b="0" lang="ar-SA" sz="2400" spc="-1" strike="noStrike">
                <a:solidFill>
                  <a:srgbClr val="0000ff"/>
                </a:solidFill>
                <a:latin typeface="Wingdings"/>
                <a:ea typeface="Wingdings"/>
              </a:rPr>
              <a:t>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ـــ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معظم أنواع الأحياء البحرية تتواجد في المنطقة السطحية العليا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Epipelabic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؟؟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ـــ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تقل كثافة الأحياء البحرية كلما زاد العمق خاصة في المنطقة السطحية الوسطى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Mesopelabic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؟؟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ـــ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هائمات النباتية الدقيقة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Microplankton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 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تعيش في المنطقة الضوئية وتلعب دوراً مهما في توازن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O2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و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Co2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على سطح الأرض بسبب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  كبرمساحة هذه المنطقة (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90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%) من مساحة المحيطات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ـــ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هائمات الحيوانية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 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مجموعة من الهائمات الحيوانية التي تتحمل الملوحة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Holoplankton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والتي تضم بصورة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 رئيسية مجموعة منالقشريات المعروفة باسم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Euphausid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والتي تعد أهم مادة غذائية للأسماك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ـــ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طيور البحرية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 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أنواع مختلفة من الطيور البحرية التي نادرا ماتستقر على الأرض إلا في مرحلة وضع البيض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ـــ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حيتان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من الأحياء البحرية الهامة في هذه المنطقة وتتغذى معظمها على الهائمات الحيوانية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ـــ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أسماك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457200" y="764640"/>
            <a:ext cx="8229600" cy="555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 </a:t>
            </a:r>
            <a:r>
              <a:rPr b="0" lang="ar-SA" sz="2400" spc="-1" strike="noStrike">
                <a:solidFill>
                  <a:srgbClr val="0000ff"/>
                </a:solidFill>
                <a:latin typeface="Wingdings"/>
                <a:ea typeface="Wingdings"/>
              </a:rPr>
              <a:t></a:t>
            </a:r>
            <a:r>
              <a:rPr b="1" lang="ar-SA" sz="32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ar-SA" sz="2000" spc="-1" strike="noStrike">
                <a:solidFill>
                  <a:srgbClr val="c00000"/>
                </a:solidFill>
                <a:latin typeface="Stencil"/>
                <a:cs typeface="Arial Unicode MS"/>
              </a:rPr>
              <a:t>عوامل حياتية تؤثر في بيئة أعالي البحار</a:t>
            </a:r>
            <a:r>
              <a:rPr b="0" lang="ar-SA" sz="2400" spc="-1" strike="noStrike">
                <a:solidFill>
                  <a:srgbClr val="0000ff"/>
                </a:solidFill>
                <a:latin typeface="Wingdings"/>
                <a:ea typeface="Wingdings"/>
              </a:rPr>
              <a:t>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تتأثر بيئة أعالي البحار ببعض العوامل الحياتية من أهمها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ـــ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هجرة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ـــ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غذاء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ـــ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مكان المعيشة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1T18:13:50Z</dcterms:created>
  <dc:creator>Dr. A A</dc:creator>
  <dc:description/>
  <dc:language>en-US</dc:language>
  <cp:lastModifiedBy>hp</cp:lastModifiedBy>
  <dcterms:modified xsi:type="dcterms:W3CDTF">2017-12-13T21:35:02Z</dcterms:modified>
  <cp:revision>261</cp:revision>
  <dc:subject/>
  <dc:title>Principals of General Zoology (Zoo-103)</dc:title>
</cp:coreProperties>
</file>