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AA5-4116-40B8-80A2-DADD225A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EBE-A4AD-4802-AE3C-B70FAFD2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E76-B990-4FC8-B9C9-3E1107C1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2E6-AE80-4580-9CBB-9A4EDB27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4B28-BDF4-4CD1-842D-B4A56CE3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5D2E-7622-4DE8-89C3-0917AB68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54BE-3026-4D1E-9E8E-708E3A10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AB84-7F98-4BF1-ADFD-A1E00CE1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BB54-0659-4C06-AE86-6A71C201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E967-301F-4035-8C74-F17A683A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748A-8210-495A-AC36-BE7EDE4E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617-26E9-4E42-BD88-69AD3C06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F2B0-A508-4EE2-A3F6-3F7B3B2D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7275-E889-4CDF-BCF1-20B02138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B73D-C8E1-4B05-AE85-85EA16F0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5EB5-F18F-48CE-A78F-59E26197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40C6-59B7-41A9-815E-FDDFD421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42D07-A36E-4EA2-937B-AFC1A6E6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0E4D7-17D2-4744-B585-913370F4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87C8E-B2A1-45ED-A24A-F01349B0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E773-F0F7-4BCF-9410-4A3AA4D0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A6A34-5730-440E-9BD1-F94EA0C4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D4E-B571-4302-BEF1-42ACB1BD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007D7-340B-4D3C-9DBE-53FD7677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DDC65-589E-4563-A0D2-C76FCA63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142D1-8A28-4016-9E15-D4BB32F5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33B5-D5E5-4356-9585-11085314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AC3F4-4C82-427E-B51B-68B9C13B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DEB6E-C699-4AAA-89A3-B6B55D74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B47E-6805-4B8D-AAFB-6466E252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924CD-1C8E-4B89-B21A-E4A906B3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FB025-8637-4AB6-8050-8AB3800B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F4CB-1FEA-4E8B-BF4F-808E20F1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954-DA5F-4FE2-9FD4-3EE42C4B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A850E-2160-4DD7-B9C6-73401F31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C48DB-5123-43B4-BA9A-BDBE2400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DC93E-41AF-446A-9BEC-6B602C88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90BED-7141-4A5C-BE32-4690E1E8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FAA9-FC73-4059-BAA7-EA81A294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DC37F-A27C-471F-8476-6E2F9144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4AD35-FBC2-4F4F-8BB4-AE4B1121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721E0-A2E2-43B5-AA83-55C5994D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43B46-6814-4FAC-A968-D1C98FF4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4AC7-2800-4882-8C01-24E05B7E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E03-4D68-429C-B131-4B39D05B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0CDC-756A-43F7-9239-06932515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EAA-338D-4F1C-A669-7C6C215C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E21-EC7B-4B60-8809-A502AC25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4D40-AE13-49C5-A02D-36F33CBF02D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5C9A-C709-4497-B9F1-174BC66D7C3E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17BC-F67C-48CE-8C40-402AEB2D0C7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F6B6-1229-4B39-ABA0-02F5ABC777E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الاستزراع في الأقفاص العائمة</a:t>
            </a:r>
            <a:br>
              <a:rPr sz="28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Aquaculture in Cag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13" descr="C:\Users\hp\Desktop\صور إستزراع سمكي\1145259933.jpg"/>
          <p:cNvPicPr/>
          <p:nvPr/>
        </p:nvPicPr>
        <p:blipFill>
          <a:blip r:embed="rId1"/>
          <a:stretch/>
        </p:blipFill>
        <p:spPr>
          <a:xfrm>
            <a:off x="755640" y="407664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C:\Users\hp\Desktop\صور إستزراع سمكي\11458213-fish-farms-in-peloponesse-greece.jpg"/>
          <p:cNvPicPr/>
          <p:nvPr/>
        </p:nvPicPr>
        <p:blipFill>
          <a:blip r:embed="rId2"/>
          <a:stretch/>
        </p:blipFill>
        <p:spPr>
          <a:xfrm>
            <a:off x="755640" y="1916280"/>
            <a:ext cx="3816360" cy="208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C:\Users\hp\Desktop\صور إستزراع سمكي\الاستزراع-السمكي.jpg"/>
          <p:cNvPicPr/>
          <p:nvPr/>
        </p:nvPicPr>
        <p:blipFill>
          <a:blip r:embed="rId3"/>
          <a:stretch/>
        </p:blipFill>
        <p:spPr>
          <a:xfrm>
            <a:off x="4643280" y="1844640"/>
            <a:ext cx="3816360" cy="2158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Users\hp\Desktop\صور إستزراع سمكي\6218d295b7-img.jpg"/>
          <p:cNvPicPr/>
          <p:nvPr/>
        </p:nvPicPr>
        <p:blipFill>
          <a:blip r:embed="rId4"/>
          <a:stretch/>
        </p:blipFill>
        <p:spPr>
          <a:xfrm>
            <a:off x="4643280" y="4005360"/>
            <a:ext cx="3816360" cy="2303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764640"/>
            <a:ext cx="82915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سماك القراميط 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Catfish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سماك القرامـيط من النوع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Claria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lazera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،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Claria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gariepinu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نجحت في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تربية في الأقفاص وذلك في الولايـات المتحدة الأمريك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سماك المبروك 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Carp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نجحت العـديد من أسماك المبروك في التربية في الأقفاص العائمة وخاصة في الصـين   ومن أهــمها المبروك العــادي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Cyprinus carpio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مبروك الحشـائش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Ctenopharyngodon idellu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 المبروك الفضي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Hypophthalmichthys molitrix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والمبروك كبير الرأس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Aristichthys nobili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كما أن التهجينات بين تلك الأنواع قد نجحت أيضاً وحققت نتائج جيدة مثل تهجين مبروك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رأس الكبير مع كلاً من مبروك الحشائش والمبروك الفضي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ولاً :أسماك المياه المالح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سماك الدنيس </a:t>
            </a:r>
            <a:r>
              <a:rPr b="1" i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Sparus aurat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4000" y="83664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نجحت</a:t>
            </a:r>
            <a:r>
              <a:rPr b="1" i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ية هذه الأسماك في مياه البحر الأبيض المتوسط في مصر وتونس كما نجح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بمعدلات نمو مماثلة في مياه الخليج العربي خاصة في دولة الكويت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سماك السيجان (الصافي) </a:t>
            </a:r>
            <a:r>
              <a:rPr b="1" i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Siganus rivulatus</a:t>
            </a:r>
            <a:r>
              <a:rPr b="1" i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i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م استزراعها في أقفاص بمياه البحرالأحـمر شمال مدينة جدة بالمملكة العربية السعود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سماك الهامور </a:t>
            </a:r>
            <a:r>
              <a:rPr b="1" i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Epinephelus touvin</a:t>
            </a:r>
            <a:r>
              <a:rPr b="1" i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م استزراعها بكل من المملكة العربية السعودية والكويت والأمارات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سماك القاروص </a:t>
            </a:r>
            <a:r>
              <a:rPr b="1" i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Dicentrarchus labrax</a:t>
            </a:r>
            <a:r>
              <a:rPr b="1" i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عتبر تونس من أنجح الدول العربية في إستزراع القاروص في الأقفاص بالبحر المتوسط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إدارة الإنتاج في الأقفاص العائمة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►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د إختيار الموقع المناسب يتم إنزال الأقفاص وتثبيتها ومن ثم تبدأ عملية التشغيل والتي تشم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أولاً : نقـل الإصبعيات والأقلم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فضل نقل الإصبعيات عند انخفاض درجة الحرارة ويكون ذلك في الصـباح الباكر أو بعد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رور فترة الظهيرة ، وتنقل الإصبعيات في أكياس بلاستيكية أو في تانكات من الصاج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يجب إجراء عملية الأقلمة للإصبعيات قبل إنزالها في الأقفاص لتقليل معدل الوفيات والحفاظ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على الإصبعيات بأعلى حيوية ممكنة </a:t>
            </a:r>
            <a:r>
              <a:rPr b="1" lang="ar-SA" sz="2200" spc="-1" strike="noStrike">
                <a:solidFill>
                  <a:srgbClr val="0033cc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ثانياً : تغـذية الأســما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عتمد تغذية الأسماك في الأقفاص على العليقة الصناعية ويفضل أن تكون في صورة حبيب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يتناسب حجمها مع وزن الأسماك المرباة لتقليل الفاقد منها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ـ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جب أن يكون لحبيبات العليقة القدرة على التماسك والطفو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ـ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حتوى البروتيني للعليقة يختلف تبعاً لنوع الأسماك والتي تتباين من حيث احتياجات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بروتينية فمثلاً في حالة البلطي يجب أن تحتوي العليقة على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بروتين كحد أدنى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أما في حالة الدنيس والقاروض فيجب أن لا يقل المحتوى البروتيني للعليقة ع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4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5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ـ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كمية العليقة الواجب تقديمها يومياً للأسماك فتحسب على أساس نسبة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٪ من الوزن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4000" y="76500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الكلي للأسماك ، والذي يمكن معرفته بأخذ عينة من أسماك القفص وتعيين وزنها كل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أسابيع وتقسم الوجبة اليومية المقررة من العليقة على عدة مرات ولا تقدم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دفعة واحد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ثالثاً : رعاية الأقفا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عتبر رعاية الأسماك في الأقفاص خلال فترة التربية من العوامل الهامة التي تؤدي إلى نجاح المشروع وإلى زيادة الإنتاج ولذلك يجب مراعاة الآتي :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ـ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طمئنان على حالة الشباك وسلامتها وإصلاح أي قطع في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إزالة النباتات المائية التي قد تتجمع حول الأقفا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ـ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نظافة الشباك باستمرار والتخلص من الطحالب التي تتجمع عليها وتسد فتحاتها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قديم العليقة في مواعيدها ومتابعة تغذية الأسماك عند تقديم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خلص من الأسماك النافقة بصفة مستمر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تابعة حركة الأسماك وحيويتها ومعدلات نموها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حتفاظ بسجلات تحوي بيانات كل قفص ( معدل النمو ، الوفيات ، معدلات التغذية ..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خ ) لتسهيل المتابعة الجيد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واجد العمالة المدربة والحراسة المستمرة لمنع السرق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ا الفرق بين :     مزارع الأقفـاص العـائمة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Cages Culture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                     والمسيجـات ( الحظائر )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Pens Culture</a:t>
            </a:r>
            <a:r>
              <a:rPr b="1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؟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وجد بعض الإلتباس بين النوعين وأحيانا يستخدمان للدلالة على نفس الشىء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(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ستزراع في المسطحات المائية المفتوح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إلا أن الطريقتين مختلفتان بعض الشىء حيث الأقفاص مغلقة تماما بالشباك (الجوانب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والقاع والجزء العلوي) في حين أن قاع المسيجات غير مغلق وإنما يستقر على قاع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مسطح المائي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C:\Users\hp\Desktop\صور إستزراع سمكي\fish-farming.jpg"/>
          <p:cNvPicPr/>
          <p:nvPr/>
        </p:nvPicPr>
        <p:blipFill>
          <a:blip r:embed="rId1"/>
          <a:stretch/>
        </p:blipFill>
        <p:spPr>
          <a:xfrm>
            <a:off x="684360" y="1052640"/>
            <a:ext cx="7848360" cy="4968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Users\hp\Desktop\صور إستزراع سمكي\bacbf4524092eb8d5989c575907c21ba_920_420.jpg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969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C:\Users\hp\Desktop\صور إستزراع سمكي\14681447041452363697.jpg"/>
          <p:cNvPicPr/>
          <p:nvPr/>
        </p:nvPicPr>
        <p:blipFill>
          <a:blip r:embed="rId1"/>
          <a:stretch/>
        </p:blipFill>
        <p:spPr>
          <a:xfrm>
            <a:off x="755640" y="1052640"/>
            <a:ext cx="7704000" cy="4537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C:\Users\hp\Desktop\صور إستزراع سمكي\fishfarm2.jpg"/>
          <p:cNvPicPr/>
          <p:nvPr/>
        </p:nvPicPr>
        <p:blipFill>
          <a:blip r:embed="rId1"/>
          <a:stretch/>
        </p:blipFill>
        <p:spPr>
          <a:xfrm>
            <a:off x="971640" y="1047600"/>
            <a:ext cx="7272360" cy="4973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</a:t>
            </a:r>
            <a:r>
              <a:rPr b="1" lang="ar-SA" sz="36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الاستزراع في الأقفاص العائمة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Aquaculture in Cag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4000" y="191592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عرف الإستزراع السمكي في الأقفاص العائمة بأنه تربية الأسـماك في  صندوق (قفص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معلق في المـاء ومغلق من جميع جـوانبه بواسطة شـبكة أو شـرائح خــشب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الإستزراع السمكي في الأقفاص العائمة يعتبر وسـيلة جيدة وملائمة لإنتاج الأسـماك بطريق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غيرتقليدية تعد ملائمة لإستغلال المسطحات المائية مثل البحار والأنهار والبحيرات والجداول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المائية و السدود. كما يمكـن استخدام الأقفـاص العائمـة داخـل البرك الكبيرة شرط أن لا يقل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عمق البركة في أماكن وضع الأقفـاص ع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مميزات الإستزراع السمكي في الأقفاص العائ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تيـح الاستخدام الأمـثل للمسطحات المـائية حيث توضـع الأقفــاص في هذه المسطح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4617b"/>
                </a:solidFill>
                <a:latin typeface="Arial Unicode MS"/>
                <a:ea typeface="Arial Unicode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68000" y="764640"/>
            <a:ext cx="828036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قليل الضغط على الأراضي اللازمة لإنشاء مزارع سمكية بالطرق التقليد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ستخدامها في الأستزراع المكثف لتميزها بانخفاض تكاليفها الأستثمارية مقارنة بأساليب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استزراع الأخرى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ية الأسماك في بيئتها الطبيعية مما يعطي الأسماك الفرصة للنمو الجيد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رتفاع معدل الإنتاج من وحدة الحجم إلى مايزيد ع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0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كجم / م</a:t>
            </a:r>
            <a:r>
              <a:rPr b="0" lang="ar-SA" sz="22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في العا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فادة من التيارات المائية الطبيعية في تجديد المياه والتخلص من مخلفات  الأسماك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دون إهدار طاقة في عمليات الري والصرف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تعرض لمشاكل نقص الأكسجبن أو فساد المياه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8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تمتاز بسهولة ملاحظة ورعاية وتغذية الأسماك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9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سهولة حصاد الأسماك بأقل التكاليف وحسب الكميات المطلوبة للتسوي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10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</a:t>
            </a:r>
            <a:r>
              <a:rPr b="1" lang="ar-SA" sz="28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متاز بإمكانية تغيير موقعها من مكان إلى آخر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r" rtl="1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5280" y="90792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عيوب الإستزراع السمكي في الأقفاص العائ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الرغـم من كل هـذه المميزات إلا أنه توجد بعض السلبيات في الاستزراع  باستخدام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أقفاص العائمة أهمها :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ستخدامها في الاستزراع المكثف يجعل فرصة حدوث الأمراض قد تكون كبيرة كما أن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نتشار المرض ربما يكون سريعاً نظراً للكثافة العالية وفي هذه الحالة قد تكون الخسائ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كبير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قد تتعرض للتخريب أو السرقة لذلك لابد من وجود حراسة على مدار اليو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إمكانية هروب الأسماك من الفتحات التي قد تحدث في الشبكة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فقـد كمية من الغـذاء نتيجة تسربه خارج الأقفاص من خلال الشبكة مما يضيف عبئاً ماليا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نمو الطحالب و تراكم المخلفات على الشبكة مما يترتب عليه من انخفاض سرع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تيار الماء نتيجة ضيق فتحات الشبكة وبالتالي نقص معدل تجدد المياه وما تحمله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من أكسجين فضلا عن تعرض الشبكة للتمزق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3495c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836640"/>
            <a:ext cx="842472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◄◄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مكونات الأقفاص العائمة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►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يتكون القفص العائم من الأجزاء التالية:-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أ ـ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إطار 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Frame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( جسم القفص ) 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صنع من الخشـب(خشب البامبو)، الحـديد ، الفيبرجلاس ، مواسير بلاستيكية  أو مـاد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VC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Poly-Vinyl Chloride)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، وفي حال استخدام الخشب أو الحديد يجب طلاء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إطار باستخدام مادة عازلة مقاومة للمياه مثل الإيبوكسي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poxy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أو أي مادة أخرى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شبيهة للوقاية من الصدأ أو التآكل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ب ـ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شبكة 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Mesh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(Net)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هي الجزء المدلى في المياه والذي يقوم بحجز الأسماك ويمكن تصنيعها من البلاستيك أو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نايلون أو السلك المجلفن ، كما يمكن تصنيعها أيضاً من مادة البولي إيثلين التي تتميز بقو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تحمل وتتكون الشبكة غالباً من طبقة واحدة وقد تتكون من طبقتين (شبكة ثنائية الطبقة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داخلية ذات فتحات أضيق من الطبقة الخارج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 algn="r" rtl="1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ج ـ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عوامات 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Floats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أو مادة الطفو 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Floating materi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إن وظيفة العوامات هي الإبقاء على القفص عـائماً بحيث يكون جزءه العلوي فـوق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سطح الماء بمسافة لا تقـل عن (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سم) ، وتستخدم لهذا الغـرض المواد التالية :-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 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-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كعبات الاستريوفـو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yrofoam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معروفة باسم " الفوم " أو الفلين الأبيض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-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واسير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VC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على أن تغلق نهايتها جيدا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-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اميل البلاستيكية على أن تغلق فوهتها جيدا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1" lang="ar-SA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-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راميل الصاج على أن يتم طلائها بمادة عازلة مقاومة للصدأ وأن تغلق فوهتها جيداً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onstantia"/>
                <a:cs typeface="Majalla UI"/>
              </a:rPr>
              <a:t>د ـ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غطاء   </a:t>
            </a:r>
            <a:r>
              <a:rPr b="1" lang="en-US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Lid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صنع من مادة صنع الشبكة ويشبهها وفائدة الغطاء هو منع الأسماك من القفز خـارج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قفص إلى  جانب الحماية من الطيور التي تتغذى على الأسما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4000" y="764640"/>
            <a:ext cx="84960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شكل وحجم الأقفاص العائمة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►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شكل الأقفاص يتم اختيارها بما يتناسـب مع طبيعة المسطح المـائي فقد تكون الأقفاص دائري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أو مضلعة ( مربعة ، مستطيلة أو متعددة الأضلاع 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شكل الدائري للأقفاص قد يكون أكثر كفاءة لكنه أكثر كلفةً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شكلان الدائري والمستطيل هما الأكثر شيوعاً مع العلم بأن الشكل لا يؤثر على الإنتاج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 حجم القفص فيكون تبعاً لاتساع وعمق المسطح المائي ومن أمثلة الأحجام المستخدمة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×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6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×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(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24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م</a:t>
            </a:r>
            <a:r>
              <a:rPr b="0" lang="ar-SA" sz="22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  أو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×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×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(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30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م</a:t>
            </a:r>
            <a:r>
              <a:rPr b="0" lang="ar-SA" sz="22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3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إختيار موقع الأقفاص العائمة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►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 </a:t>
            </a:r>
            <a:r>
              <a:rPr b="0" lang="ar-SA" sz="2200" spc="-1" strike="noStrike">
                <a:solidFill>
                  <a:srgbClr val="0000ff"/>
                </a:solidFill>
                <a:latin typeface="Constantia"/>
                <a:cs typeface="Majalla UI"/>
              </a:rPr>
              <a:t>عند اختيار موقع الأقفاص يجب مراعاة الآتي 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  ـ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يجب أن يكون الموقع بعيداً عن طرق الملاحة أو شواطيء السباحة والتنزّه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Constantia"/>
                <a:ea typeface="Majalla U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5280" y="764640"/>
            <a:ext cx="83534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ن تكون سرعة تيار الماء مناسبة ( م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ـ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15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سم/ثانية ) لتسمح بتغيير المياه داخل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فص والتخلص من المواد العضوية الغير مرغوب فيها مع الحفاظ على معدل تركيز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أكسجين الذائب في المياه بحيث يكون كافياً لمتطلبات الأسماك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 المياه بطيئة الحركة (أقل م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سم/ثانية) فلا تساعد على تجديد المياه في الأقفـاص بالشكل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كافي لتوفير الأكسجين اللازم لحياة الأسماك . كما أنها لا تساعد على التخلص من فضلات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لأسماك المتراكمة أسفل الأقفاص مما يؤدي إلى تخمرها وبالتالي تصبح مصدراً للعدوى بالإضافة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إلى تأثيرها السيء على البيئة المائية داخل الأقفا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ومن ناحية آخرى فإن شدة تيار الماء ( أكثر من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20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سم/ثانية ) تعرض الأسماك للإجهاد نتيجة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لقيامها بمجهود كبير للحفاظ على توازنها داخل القفص وهذا المجهود على حساب معدل النمو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بالإضافة إلى أن شدة تيار الماء تؤدي إلى فقد الغذاء المقدم للأسماك وهو ما يعتبر تكلفة مهدرة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فضل المسطح المائي العميق كما يفضل أن لا تقل المسافة بين قاع القفص وقاع المجرى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مائي عن متر أو أكثر للسماح لتيار الماء بحمل المخلفات العضوية وعدم تراكمها تحت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 الأقفا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5280" y="69192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فضل أن يكون قاع المسطح المائي رملي أو طيني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onstantia"/>
                <a:cs typeface="Majalla UI"/>
              </a:rPr>
              <a:t>ـ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جب أن يكون المسطح المائي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ن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بعيدا عن الملوثات البيولوجية أو الصناعية أو الكيميائ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◄◄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الأسماك المناسبة للإستزراع في الأقفاص العائمة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►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من خلال التجارب والأبحاث والتطبيقات الواقعية فقد نجحت العديد من الأسماك للتربية في الأقفاص العائمة ويمكن إيجاز أهمها فيما يلي: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ولاً :أسماك المياه العذب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-</a:t>
            </a:r>
            <a:r>
              <a:rPr b="1" lang="ar-SA" sz="2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</a:t>
            </a:r>
            <a:r>
              <a:rPr b="1" lang="ar-SA" sz="2200" spc="-1" strike="noStrike">
                <a:solidFill>
                  <a:srgbClr val="c00000"/>
                </a:solidFill>
                <a:latin typeface="Arial Unicode MS"/>
                <a:cs typeface="Arial Unicode MS"/>
              </a:rPr>
              <a:t>أسماك البلطي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لطي النيلي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Oreochromis niloticu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، حققت نجاحاً كبيـراً في جمهورية مصر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عربية والصـين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بلطي الأزرق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Oreochromis aureu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والبلطي الأسـود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Oreochromis spilurus</a:t>
            </a: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والذي أمكن استزراعة في المملكة العربية السعودية في مياة البحر الأحمر وفي مياه الخليج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 العربي بدولة الكويت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hp</cp:lastModifiedBy>
  <dcterms:modified xsi:type="dcterms:W3CDTF">2017-11-25T20:38:55Z</dcterms:modified>
  <cp:revision>470</cp:revision>
  <dc:subject/>
  <dc:title>Principals of General Zoology (Zoo-103)</dc:title>
</cp:coreProperties>
</file>