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57B-6410-47AD-9D48-64631DE6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7F2-28B7-448E-83E3-4073320D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7B7-5920-4181-A820-8C2CE758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492-7126-41A6-B235-C1C70E72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9AF0-B93C-4ED4-A598-74122AB5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899C-1B7B-4507-9F7F-30A935E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D5EC-98E3-4814-9E3C-0192734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4B74-04BF-4BE9-9828-4AFFFB8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1A57-FDE5-4111-821D-6BD33919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1FDE-1D51-4788-9521-CECDA62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F74A-9BD9-4D75-A2FA-CEDCD8A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382-518E-4A21-A767-6B4DA78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F788-06DB-4C27-8507-3ADF0BA1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CAC-8B0D-4F23-A5D3-2E961AEF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9E9D-68CC-4982-BB7A-98198B59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475-8767-4AD4-89E3-651E7B5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AF7-4CB0-4EF2-88F1-930D4032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AC8D-7E98-4C54-836D-B777C049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8501-4463-40EF-B0E6-A97C8534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F613-B1D5-47BB-AADF-74CB87C6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3886-2390-4156-B83A-CDFE461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4491-2DD0-4130-838B-98612355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5A4-F65B-4314-831D-96B751F8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FE83-470E-48FD-8ECD-08E3025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7C42C-F495-4DBB-B39E-BCDB036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F0EA7-89A1-47CB-BBD5-4F1FB715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81C65-9DB3-4B40-9D20-C7E8772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7DEA-3D62-442F-A7E0-8F0AA2D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9645-5851-484A-AD6F-571B877F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DD9B-C8FD-41FD-9FDC-2A90D217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93FE-3AD4-4B84-A8B7-11C4E48B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3E30-80BB-4563-B6E6-504473E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9561-FA19-4C3C-BC61-5D61894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329-E474-4415-BDE5-DD9C2F43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34DC-1C7A-402F-8DD6-3A126FA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989D-972C-4B80-870E-4EA16F68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284C-8B50-41A6-9D7A-A3A7A8B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8761-563B-44A0-B2F2-C58BDAA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2675-3C42-424A-9594-16062798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9AAE-F968-4F78-8B38-6E97295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A32D-126D-4EAF-89D5-29708B3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8092-178B-4D76-ABEE-19FE0777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C4C4-06BB-4872-82EB-16413449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7A4-D648-4307-A73B-82142B31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1C1-77D2-4330-B40C-493EAE2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2DE-BDA8-4B13-9760-D407951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A31-295B-4A77-8314-B665B22B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384-103C-415D-BDC5-DC48C906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2E71-A7A1-4DFB-B1B4-BE61EFA7D42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7985-C219-465C-9BCC-4C0C1AA719B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1986-F563-4FE0-B600-4F957453E46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3A21-3AA0-4E73-8537-DB381896CE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الاستزراع في الأقفاص العائمة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Aquaculture in C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13" descr="C:\Users\hp\Desktop\صور إستزراع سمكي\1145259933.jpg"/>
          <p:cNvPicPr/>
          <p:nvPr/>
        </p:nvPicPr>
        <p:blipFill>
          <a:blip r:embed="rId1"/>
          <a:stretch/>
        </p:blipFill>
        <p:spPr>
          <a:xfrm>
            <a:off x="75564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C:\Users\hp\Desktop\صور إستزراع سمكي\11458213-fish-farms-in-peloponesse-greece.jpg"/>
          <p:cNvPicPr/>
          <p:nvPr/>
        </p:nvPicPr>
        <p:blipFill>
          <a:blip r:embed="rId2"/>
          <a:stretch/>
        </p:blipFill>
        <p:spPr>
          <a:xfrm>
            <a:off x="755640" y="1916280"/>
            <a:ext cx="38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C:\Users\hp\Desktop\صور إستزراع سمكي\الاستزراع-السمكي.jpg"/>
          <p:cNvPicPr/>
          <p:nvPr/>
        </p:nvPicPr>
        <p:blipFill>
          <a:blip r:embed="rId3"/>
          <a:stretch/>
        </p:blipFill>
        <p:spPr>
          <a:xfrm>
            <a:off x="4643280" y="1844640"/>
            <a:ext cx="3816360" cy="2158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hp\Desktop\صور إستزراع سمكي\6218d295b7-img.jpg"/>
          <p:cNvPicPr/>
          <p:nvPr/>
        </p:nvPicPr>
        <p:blipFill>
          <a:blip r:embed="rId4"/>
          <a:stretch/>
        </p:blipFill>
        <p:spPr>
          <a:xfrm>
            <a:off x="4643280" y="4005360"/>
            <a:ext cx="3816360" cy="230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764640"/>
            <a:ext cx="82915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قراميط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Catfish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سماك القرامـيط من النوع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laria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laze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،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laria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gariepinu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نجحت ف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تربية في الأقفاص وذلك في الولايـات المتحدة الأمريك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مبروك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Carp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جحت العـديد من أسماك المبروك في التربية في الأقفاص العائمة وخاصة في الصـين   ومن أهــمها المبروك العــادي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yprinus carpi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مبروك الحشـائش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tenopharyngodon idellu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 المبروك الفضي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Hypophthalmichthys molitrix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مبروك كبير الرأس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ristichthys nobili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كما أن التهجينات بين تلك الأنواع قد نجحت أيضاً وحققت نتائج جيدة مثل تهجين مبرو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رأس الكبير مع كلاً من مبروك الحشائش والمبروك الفضي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ولاً :أسماك المياه المالح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دنيس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parus aurat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836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نجحت</a:t>
            </a: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ية هذه الأسماك في مياه البحر الأبيض المتوسط في مصر وتونس كما نجح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معدلات نمو مماثلة في مياه الخليج العربي خاصة في دولة الكويت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سيجان (الصافي)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iganus rivulatus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 استزراعها في أقفاص بمياه البحرالأحـمر شمال مدينة جدة بالمملكة العربية السعود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هامور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Epinephelus touvin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 استزراعها بكل من المملكة العربية السعودية والكويت والأمار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قاروص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Dicentrarchus labrax</a:t>
            </a: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بر تونس من أنجح الدول العربية في إستزراع القاروص في الأقفاص بالبحر المتوسط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إدارة الإنتاج في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د إختيار الموقع المناسب يتم إنزال الأقفاص وتثبيتها ومن ثم تبدأ عملية التشغيل والتي تشم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أولاً : نقـل الإصبعيات والأقلم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فضل نقل الإصبعيات عند انخفاض درجة الحرارة ويكون ذلك في الصـباح الباكر أو بعد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رور فترة الظهيرة ، وتنقل الإصبعيات في أكياس بلاستيكية أو في تانكات من الصاج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يجب إجراء عملية الأقلمة للإصبعيات قبل إنزالها في الأقفاص لتقليل معدل الوفيات والحفا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ى الإصبعيات بأعلى حيوية ممكنة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ثانياً : تغـذية الأســ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مد تغذية الأسماك في الأقفاص على العليقة الصناعية ويفضل أن تكون في صورة حبيب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تناسب حجمها مع وزن الأسماك المرباة لتقليل الفاقد من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جب أن يكون لحبيبات العليقة القدرة على التماسك والطفو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توى البروتيني للعليقة يختلف تبعاً لنوع الأسماك والتي تتباين من حيث احتياجات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روتينية فمثلاً في حالة البلطي يجب أن تحتوي العليقة على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بروتين كحد أدنى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ما في حالة الدنيس والقاروض فيجب أن لا يقل المحتوى البروتيني للعليقة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ـ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كمية العليقة الواجب تقديمها يومياً للأسماك فتحسب على أساس نسب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من الوز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4000" y="765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كلي للأسماك ، والذي يمكن معرفته بأخذ عينة من أسماك القفص وتعيين وزنها ك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أسابيع وتقسم الوجبة اليومية المقررة من العليقة على عدة مرات ولا تقدم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فعة واحد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ثالثاً : رعاية الأقفا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بر رعاية الأسماك في الأقفاص خلال فترة التربية من العوامل الهامة التي تؤدي إلى نجاح المشروع وإلى زيادة الإنتاج ولذلك يجب مراعاة الآتي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طمئنان على حالة الشباك وسلامتها وإصلاح أي قطع في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زالة النباتات المائية التي قد تتجمع حول الأقفا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ظافة الشباك باستمرار والتخلص من الطحالب التي تتجمع عليها وتسد فتحاتها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قديم العليقة في مواعيدها ومتابعة تغذية الأسماك عند تقدي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خلص من الأسماك النافقة بصفة مستم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تابعة حركة الأسماك وحيويتها ومعدلات نمو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حتفاظ بسجلات تحوي بيانات كل قفص ( معدل النمو ، الوفيات ، معدلات التغذية .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خ ) لتسهيل المتابعة الج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واجد العمالة المدربة والحراسة المستمرة لمنع السرق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ا الفرق بين :     مزارع الأقفـاص العـائمة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Cages Culture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                والمسيجـات ( الحظائر )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Pens Culture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؟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بعض الإلتباس بين النوعين وأحيانا يستخدمان للدلالة على نفس الشىء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ستزراع في المسطحات المائية المفتوح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لا أن الطريقتين مختلفتان بعض الشىء حيث الأقفاص مغلقة تماما بالشباك (الجوانب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القاع والجزء العلوي) في حين أن قاع المسيجات غير مغلق وإنما يستقر على قا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سطح المائ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Users\hp\Desktop\صور إستزراع سمكي\fish-farming.jpg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496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Users\hp\Desktop\صور إستزراع سمكي\bacbf4524092eb8d5989c575907c21ba_920_420.jpg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Users\hp\Desktop\صور إستزراع سمكي\14681447041452363697.jpg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453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C:\Users\hp\Desktop\صور إستزراع سمكي\fishfarm2.jpg"/>
          <p:cNvPicPr/>
          <p:nvPr/>
        </p:nvPicPr>
        <p:blipFill>
          <a:blip r:embed="rId1"/>
          <a:stretch/>
        </p:blipFill>
        <p:spPr>
          <a:xfrm>
            <a:off x="971640" y="1047600"/>
            <a:ext cx="7272360" cy="4973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استزراع في الأقفاص العائمة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Aquaculture in C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1915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عرف الإستزراع السمكي في الأقفاص العائمة بأنه تربية الأسـماك في  صندوق (قفص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معلق في المـاء ومغلق من جميع جـوانبه بواسطة شـبكة أو شـرائح خــشب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إستزراع السمكي في الأقفاص العائمة يعتبر وسـيلة جيدة وملائمة لإنتاج الأسـماك بطريق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غيرتقليدية تعد ملائمة لإستغلال المسطحات المائية مثل البحار والأنهار والبحيرات والجداول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مائية و السدود. كما يمكـن استخدام الأقفـاص العائمـة داخـل البرك الكبيرة شرط أن لا يق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عمق البركة في أماكن وضع الأقفـاص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مميزات الإستزراع السمكي في الأقفاص العائ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يـح الاستخدام الأمـثل للمسطحات المـائية حيث توضـع الأقفــاص في هذه المسطح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68000" y="764640"/>
            <a:ext cx="8280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قليل الضغط على الأراضي اللازمة لإنشاء مزارع سمكية بالطرق التقليد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ها في الأستزراع المكثف لتميزها بانخفاض تكاليفها الأستثمارية مقارنة بأسالي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استزراع الأخرى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ية الأسماك في بيئتها الطبيعية مما يعطي الأسماك الفرصة للنمو الجي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رتفاع معدل الإنتاج من وحدة الحجم إلى مايزيد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جم /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في الع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فادة من التيارات المائية الطبيعية في تجديد المياه والتخلص من مخلفات 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دون إهدار طاقة في عمليات الري والصر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تعرض لمشاكل نقص الأكسجبن أو فساد الميا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از بسهولة ملاحظة ورعاية وتغذية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هولة حصاد الأسماك بأقل التكاليف وحسب الكميات المطلوبة للتسوي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از بإمكانية تغيير موقعها من مكان إلى آخ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عيوب الإستزراع السمكي في الأقفاص العائ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رغـم من كل هـذه المميزات إلا أنه توجد بعض السلبيات في الاستزراع  باستخدام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أقفاص العائمة أهمها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ها في الاستزراع المكثف يجعل فرصة حدوث الأمراض قد تكون كبيرة كما أن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نتشار المرض ربما يكون سريعاً نظراً للكثافة العالية وفي هذه الحالة قد تكون الخسائ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بي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تعرض للتخريب أو السرقة لذلك لابد من وجود حراسة على مدار اليو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هروب الأسماك من الفتحات التي قد تحدث في الشبك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فقـد كمية من الغـذاء نتيجة تسربه خارج الأقفاص من خلال الشبكة مما يضيف عبئاً ماليا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مو الطحالب و تراكم المخلفات على الشبكة مما يترتب عليه من انخفاض سرع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تيار الماء نتيجة ضيق فتحات الشبكة وبالتالي نقص معدل تجدد المياه وما تحمل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ن أكسجين فضلا عن تعرض الشبكة للتمزق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مكونات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يتكون القفص العائم من الأجزاء التالية: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 ـ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إطار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Frame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( جسم القفص )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صنع من الخشـب(خشب البامبو)، الحـديد ، الفيبرجلاس ، مواسير بلاستيكية  أو مـا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Poly-Vinyl Chloride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، وفي حال استخدام الخشب أو الحديد يجب طلاء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إطار باستخدام مادة عازلة مقاومة للمياه مثل الإيبوكسي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pox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أي مادة أخرى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شبيهة للوقاية من الصدأ أو التآكل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ـ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شبكة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Mesh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(Net)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جزء المدلى في المياه والذي يقوم بحجز الأسماك ويمكن تصنيعها من البلاستيك أو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نايلون أو السلك المجلفن ، كما يمكن تصنيعها أيضاً من مادة البولي إيثلين التي تتميز بقو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تحمل وتتكون الشبكة غالباً من طبقة واحدة وقد تتكون من طبقتين (شبكة ثنائية الطبقة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داخلية ذات فتحات أضيق من الطبقة الخارج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ـ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عوامات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Floats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أو مادة الطفو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Floating materi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ن وظيفة العوامات هي الإبقاء على القفص عـائماً بحيث يكون جزءه العلوي فـو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سطح الماء بمسافة لا تقـل عن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سم) ، وتستخدم لهذا الغـرض المواد التالية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ات الاستريوفـ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yrofoam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معروفة باسم " الفوم " أو الفلين الأبيض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واسير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على أن تغلق نهايتها جيدا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اميل البلاستيكية على أن تغلق فوهتها جيدا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راميل الصاج على أن يتم طلائها بمادة عازلة مقاومة للصدأ وأن تغلق فوهتها جيدا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د ـ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غطاء  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Lid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صنع من مادة صنع الشبكة ويشبهها وفائدة الغطاء هو منع الأسماك من القفز خـارج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قفص إلى  جانب الحماية من الطيور التي تتغذى على ا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شكل وحجم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شكل الأقفاص يتم اختيارها بما يتناسـب مع طبيعة المسطح المـائي فقد تكون الأقفاص دائر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أو مضلعة ( مربعة ، مستطيلة أو متعددة الأضلاع 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كل الدائري للأقفاص قد يكون أكثر كفاءة لكنه أكثر كلفة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كلان الدائري والمستطيل هما الأكثر شيوعاً مع العلم بأن الشكل لا يؤثر على الإنتاج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 حجم القفص فيكون تبعاً لاتساع وعمق المسطح المائي ومن أمثلة الأحجام المستخدمة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6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4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 أو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إختيار موقع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cs typeface="Majalla UI"/>
              </a:rPr>
              <a:t>عند اختيار موقع الأقفاص يجب مراعاة الآتي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  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يجب أن يكون الموقع بعيداً عن طرق الملاحة أو شواطيء السباحة والتنزّ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764640"/>
            <a:ext cx="83534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 تكون سرعة تيار الماء مناسبة ( م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سم/ثانية ) لتسمح بتغيير المياه داخل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فص والتخلص من المواد العضوية الغير مرغوب فيها مع الحفاظ على معدل تركيز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كسجين الذائب في المياه بحيث يكون كافياً لمتطلبات الأسماك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 المياه بطيئة الحركة (أقل م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سم/ثانية) فلا تساعد على تجديد المياه في الأقفـاص بالشك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كافي لتوفير الأكسجين اللازم لحياة الأسماك . كما أنها لا تساعد على التخلص من فضلات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أسماك المتراكمة أسفل الأقفاص مما يؤدي إلى تخمرها وبالتالي تصبح مصدراً للعدوى بالإضافة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إلى تأثيرها السيء على البيئة المائية داخل الأقفا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ومن ناحية آخرى فإن شدة تيار الماء ( أكثر م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سم/ثانية ) تعرض الأسماك للإجهاد نتيجة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لقيامها بمجهود كبير للحفاظ على توازنها داخل القفص وهذا المجهود على حساب معدل النمو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بالإضافة إلى أن شدة تيار الماء تؤدي إلى فقد الغذاء المقدم للأسماك وهو ما يعتبر تكلفة مهدرة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فضل المسطح المائي العميق كما يفضل أن لا تقل المسافة بين قاع القفص وقاع المجرى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مائي عن متر أو أكثر للسماح لتيار الماء بحمل المخلفات العضوية وعدم تراكمها تحت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قفا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فضل أن يكون قاع المسطح المائي رملي أو طين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جب أن يكون المسطح المائي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يدا عن الملوثات البيولوجية أو الصناعية أو الكيميائ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سماك المناسبة للإستزراع في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من خلال التجارب والأبحاث والتطبيقات الواقعية فقد نجحت العديد من الأسماك للتربية في الأقفاص العائمة ويمكن إيجاز أهمها فيما يلي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ولاً :أسماك المياه العذب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بلط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لطي النيلي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Oreochromis niloticu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، حققت نجاحاً كبيـراً في جمهورية مص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ربية والصـي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بلطي الأزرق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Oreochromis aureu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بلطي الأسـود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Oreochromis spilurus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والذي أمكن استزراعة في المملكة العربية السعودية في مياة البحر الأحمر وفي مياه الخليج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ربي بدولة الكوي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1-25T20:38:55Z</dcterms:modified>
  <cp:revision>470</cp:revision>
  <dc:subject/>
  <dc:title>Principals of General Zoology (Zoo-103)</dc:title>
</cp:coreProperties>
</file>