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FFE-FA76-480F-8DDD-55CE5B81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63F-B7FC-4AA6-98CD-D2823492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9CA-51BA-4C6A-81EE-5C4614FE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ACE-B658-4968-A207-BAE4AAB0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F505-D899-482E-BF34-36315CF7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01AC-E7A6-4BC8-B11E-273EA846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1B04-8951-427A-AB8D-B8E2A78D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4DD8-6925-47C0-95BD-C4CDCFA7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4B19-5604-4677-B0A4-98B603E8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31EB-1E6E-4DBA-946C-FA2FEF66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5DC2-6676-41E6-9F45-8E951B19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E5E-1705-4C96-A312-C3ABC6FA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02C0-CC36-4048-97BB-3BF50113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B3EF-9225-4B34-BD2A-30D2ADAF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CF3A-F2D1-448A-B02B-37EC07E9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F19C-2100-4B86-B6EB-13D5E6C6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2E05-504C-4BFB-9F35-20389855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55C3-C8CC-483C-859B-39CD0E6E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5CE22-CC16-4A07-9AE1-DF975E85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EE8D-334C-4C39-A965-01F07562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CDCAA-419D-45B4-89C5-80A65459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4026-B211-4AE0-AE52-2F762CD4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617-F302-4E3C-BC69-C9ECD55E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29AB-857D-49E1-90F0-29801999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16281-8ACA-4EEA-B3E9-2B25C544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6602-21B8-4BEE-BCA5-BFFEE8BD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50126-16CE-418B-B09B-AA54872B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7B5BF-83BE-499D-B2E0-8F376B6A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DE14-60CE-4DD6-A6B5-2916A19B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EEA9-42D7-484B-9255-F5739E2C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DCEEE-024E-44C2-8A89-2450D2A8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EC3F6-A043-4924-B94C-4B68A115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74AA-FDB7-4899-8397-5013AE66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F4A-82D4-4EDE-89A4-98D38B98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A801B-43E0-4E49-A0AA-98EB50DC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563AB-FC20-4637-8FFC-9FE6908C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0C72F-2EFC-4904-A72F-0CB42451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C718D-0431-42D3-B34B-4BB29EE5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0ACF-686F-41D9-911A-7EBC0993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8D4E5-87B8-47E0-8CFD-C5B29DF1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43EE-BB5B-4C92-BC5F-581417BC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51E6-BAB3-4FBF-95F6-70FF1061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E1946-09C2-45A3-8C4F-04C93AE5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A17-4E48-4E93-8986-9D096546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110-9544-4F3B-A2A7-FC194645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9C1-1CAE-43F8-AC1F-5EC1E9D5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402-7783-4D76-93A4-7F3C12BB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B3C-FCBA-43B8-B4D2-545DA6AF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E88D-1539-4C8D-961A-E1A242663A6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1843-9FDB-4292-B6C6-A8F9AE435A7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7BB1-F2C9-4D8F-9DAC-36FA5AC979B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6F46-9C88-4516-9AAA-3F9E2877FCC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إدارة الإنتاج في الأحواض والبرك الترابية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Production management in the tanks and earthen ponds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7" descr="C:\Users\hp\Desktop\صور إستزراع سمكي\hqdefault.jpg"/>
          <p:cNvPicPr/>
          <p:nvPr/>
        </p:nvPicPr>
        <p:blipFill>
          <a:blip r:embed="rId1"/>
          <a:stretch/>
        </p:blipFill>
        <p:spPr>
          <a:xfrm>
            <a:off x="4643280" y="2565360"/>
            <a:ext cx="4213440" cy="3645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hp\Desktop\صور إستزراع سمكي\14.jpg"/>
          <p:cNvPicPr/>
          <p:nvPr/>
        </p:nvPicPr>
        <p:blipFill>
          <a:blip r:embed="rId2"/>
          <a:stretch/>
        </p:blipFill>
        <p:spPr>
          <a:xfrm>
            <a:off x="324000" y="2565360"/>
            <a:ext cx="4176720" cy="36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إدارة الإنتاج في الأحواض والبرك الترابية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Production management in the tanks and earthen pond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9280" y="2565360"/>
            <a:ext cx="8785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إن إدارة العملية الإنتاجية داخل المزارع السمكية على أسس علمية و باستخدام الخبرا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عملية الجيدة يعتبر العامل الأساسي لنجاح هذه المشاري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يمكن تقسيم عمليات إدارة الإنتاج في الأحواض والبرك إلى المراحل التالية:-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مليات التفريخ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3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رحلة اليرق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3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رحلة التسمي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3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رحلة الحصا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عمليات التفري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شمل عدة مراحل حتي يتم الحصول على اليرقات (الزريعة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y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إنتقاء الآباء والأمه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يار الأصبعيات التي تتمتع بمواصفات ظاهرية جيدة ليتم تربيتها تربية خاصة لتكون أباء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أمهات المستقبل </a:t>
            </a:r>
            <a:r>
              <a:rPr b="0" lang="ar-SA" sz="22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 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التزاوج والتفريخ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عندما تصل الإصبعيات إلى حجم البلوغ الجنسي يتم دمج الأجناس في أحواض خاص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سواء كانت برك ترابية أو أحواض لإجراء التزاوج وتسمى هذه الأحواض بأحواض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تفريخ حيث يتم التزاوج والتفريخ إما طبيعياً أو صناعياً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الطريقة الطبيعية للتزاوج والتفريخ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ا توضع الذكور والإناث معاً في أحواض التفريخ بمعدلات تختلف حسب نوع الأسما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إلا أنها غالباً ما تكون بنسبة ذكر واحد لكل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إناث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: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في حالة البلطي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بمعدل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سمكة / م</a:t>
            </a:r>
            <a:r>
              <a:rPr b="0" lang="ar-SA" sz="22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تترك لتضع البيض طبيعياً دون أي تدخل خارجي ، ويخص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بيض أيضاً طبيعياً بالحيوانات المنوية التي تنتجها الذكور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0920" y="69192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الطرق الصناعية للتزاوج والتفريخ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يقصد بالطرق الصناعية : التدخل الخارجي لتحفيز عملية التزاوج والتفريخ أو لاستخلا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بيض من إناث الأسماك والسائل المنوي من الذكور ثم إجراء عملية التزواج والتفريخ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تتم هذه العملية بعدة وسائل تختلف حسب نوعية الأسماك والظروف البيئية . ومن الوسائ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مستعملة والمعروفة عالمياً ما يلي :-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حقن بالهرمونات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ستخلاص الخلايا الجنسية بالتنصيل أو البذل (الضغط باليد على البطن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حقن بالهرمونات و استخلاص الخلايا الجنس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استخلاص الخلايا الجنسية بالتشري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جدر الإشـارة هنا إلى أن هذه الوسائل جميعاً سهلة التنفيذ وتؤدي إلى نتائج جيدة كما أ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ستعمال أي من هذه الوسائل الأربعة يعتمد على نوع الأسماك والحاجة لتلك الوسيل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تحضين البيض المخص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د إجراء الإخصاب بأيٍ من الطرق السابقة يتم تحضين البيض المخصب إلى أن يتم الفقس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تخرج الزريعة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ry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3495c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0920" y="764640"/>
            <a:ext cx="864216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مرحلة اليرقات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وفيها يتم نقل اليرقات إلى أحواض خاصة لتربيتها ورعايتها حتى الوصول بها إلى حج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إصبعيات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fingerling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مرحلة التسمين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فيها يتم نقل الإصبعيات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fingerling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 إلى أحواض أكبر لتربيتها ورعايتها حتى الوصو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بها إلى الحجم التسويق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مرحلة الحصاد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ا يتم جمع الأسماك عند وصولها إلى الحجم التسويقي ومن ثم بيعها لتكتمل بذلك آخ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مراحل الإستزراع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تم عملية الحصاد إما جزئيا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(حصاد جزئي)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أو كليا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(حصاد كلي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02T20:32:10Z</dcterms:modified>
  <cp:revision>498</cp:revision>
  <dc:subject/>
  <dc:title>Principals of General Zoology (Zoo-103)</dc:title>
</cp:coreProperties>
</file>