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69B6-64DE-45E5-BAC9-C8AE5567A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69B6-3A9C-443D-AA92-7197186E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BD1D-2FFB-4B53-AF4D-DDCC4CE73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0A5A-1553-4F23-8919-9EE7BF181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76C9-3DC8-437B-90DC-EC25548A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FB7D-D089-4747-87F3-787D0E36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F93F-573D-4F48-840D-C5B34D4B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FF22-BB64-4C5D-B49C-B21BB0B4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DC58-D0CC-4D8C-9C6C-2E139EA0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18DD-F009-4485-A333-1BEAE5F7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1EB1-0982-41B9-B07E-05100EB0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8F40-98CD-48EC-B723-46814C58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6381-1B50-4F0E-B03E-2D0A3FFA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BC03-C0D6-4EAA-B35E-A1B18E0B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F593-46DD-4B5B-A3E6-5933AF03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5CAB-19E0-4317-B2A5-F8962C518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7BDC-BFCC-4666-9D17-9AC008C2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8B93D-6C42-4214-A071-AFA3B91CD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456CC-EF49-4691-9ADC-439C1DD2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5ECCD-CCE3-4254-AED8-E7027687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D3B60-5A78-4C73-ADC5-90BE4858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9714F-3A59-4639-A8E5-7289418D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CF58-CBEE-4C7B-82D1-8790C31B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AB853-F8BA-446E-9D1D-D96C4F39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00093-E939-48D3-8087-112D823A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72BB5-AC92-480F-A97C-B86FE45A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1375B-0124-4D1E-A147-C785A0C5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CA12E-86A5-498F-9673-75853CAC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8669D-C39C-4497-96E0-DB7BAA6FF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801E5-A5A3-41C1-946E-8A35410AA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4FE3B-B6E2-4954-9DAF-639542291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8126C-1B80-4B8E-BB0E-317ABEF5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F8892-6C95-49BF-8911-6242ACA2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A2E6-8A2E-46AB-8B82-2DEFB9A7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63DCB-16E0-499A-9FD2-931F48E8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04FFE-4746-4DCA-9CB7-89B20BDB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E19D6-1B82-4CCB-BE35-88FF00EA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84B70-0BA0-4DAC-9E2C-161065AA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44310-D96B-49A2-ABD0-E5F1CAA7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FAB2E-DA4E-4196-B121-95F17969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7FB3E-99AB-47E1-80BA-59D4661E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4D847-BEF6-476A-AB8D-D97FD4B6F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AF653-87F5-467D-A633-1EAF4EFA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25EE-8DAF-4D8D-8868-F4ED9BA6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A7F9-E792-41E3-85F3-58C335B0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A940-04E6-4E31-B621-288E44FD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E6EC-A995-4975-BA0F-B9AB4D21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9733-7B10-49A4-8469-4157DD8F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DE2D-6479-4581-BF4C-CC4C92C74A88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F6F5-2740-4A76-BD47-F31BBA09A0D0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A8E9-AAF1-42EC-ABCC-8BB185AC7DDF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97B0-6D6C-4ACD-AF61-7ACA21A30CEF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0728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Calibri"/>
                <a:cs typeface="Traditional Arabic"/>
              </a:rPr>
              <a:t>إدارة الإنتاج في الأحواض والبرك الترابية</a:t>
            </a:r>
            <a:br>
              <a:rPr sz="2800"/>
            </a:b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Production management in the tanks and earthen ponds</a:t>
            </a: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Picture 7" descr="C:\Users\hp\Desktop\صور إستزراع سمكي\hqdefault.jpg"/>
          <p:cNvPicPr/>
          <p:nvPr/>
        </p:nvPicPr>
        <p:blipFill>
          <a:blip r:embed="rId1"/>
          <a:stretch/>
        </p:blipFill>
        <p:spPr>
          <a:xfrm>
            <a:off x="4643280" y="2565360"/>
            <a:ext cx="4213440" cy="3645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C:\Users\hp\Desktop\صور إستزراع سمكي\14.jpg"/>
          <p:cNvPicPr/>
          <p:nvPr/>
        </p:nvPicPr>
        <p:blipFill>
          <a:blip r:embed="rId2"/>
          <a:stretch/>
        </p:blipFill>
        <p:spPr>
          <a:xfrm>
            <a:off x="324000" y="2565360"/>
            <a:ext cx="4176720" cy="3600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  <a:cs typeface="Traditional Arabic"/>
              </a:rPr>
              <a:t>إدارة الإنتاج في الأحواض والبرك الترابية</a:t>
            </a:r>
            <a:br>
              <a:rPr sz="2800"/>
            </a:b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Production management in the tanks and earthen pond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79280" y="2565360"/>
            <a:ext cx="878544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إن إدارة العملية الإنتاجية داخل المزارع السمكية على أسس علمية و باستخدام الخبرات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العملية الجيدة يعتبر العامل الأساسي لنجاح هذه المشاريع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يمكن تقسيم عمليات إدارة الإنتاج في الأحواض والبرك إلى المراحل التالية:-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onstantia"/>
                <a:ea typeface="Majalla UI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Constantia"/>
                <a:ea typeface="Majalla UI"/>
              </a:rPr>
              <a:t>-</a:t>
            </a:r>
            <a:r>
              <a:rPr b="1" lang="ar-SA" sz="28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عمليات التفريخ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onstantia"/>
                <a:ea typeface="Majalla UI"/>
              </a:rPr>
              <a:t>2</a:t>
            </a:r>
            <a:r>
              <a:rPr b="1" lang="ar-SA" sz="2800" spc="-1" strike="noStrike">
                <a:solidFill>
                  <a:srgbClr val="0000ff"/>
                </a:solidFill>
                <a:latin typeface="Constantia"/>
                <a:ea typeface="Majalla UI"/>
              </a:rPr>
              <a:t>-</a:t>
            </a:r>
            <a:r>
              <a:rPr b="1" lang="ar-SA" sz="32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مرحلة اليرقات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onstantia"/>
                <a:ea typeface="Majalla UI"/>
              </a:rPr>
              <a:t>3</a:t>
            </a:r>
            <a:r>
              <a:rPr b="1" lang="ar-SA" sz="2800" spc="-1" strike="noStrike">
                <a:solidFill>
                  <a:srgbClr val="0000ff"/>
                </a:solidFill>
                <a:latin typeface="Constantia"/>
                <a:ea typeface="Majalla UI"/>
              </a:rPr>
              <a:t>-</a:t>
            </a:r>
            <a:r>
              <a:rPr b="1" lang="ar-SA" sz="32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مرحلة التسمين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onstantia"/>
                <a:ea typeface="Majalla UI"/>
              </a:rPr>
              <a:t>4</a:t>
            </a:r>
            <a:r>
              <a:rPr b="1" lang="ar-SA" sz="2800" spc="-1" strike="noStrike">
                <a:solidFill>
                  <a:srgbClr val="0000ff"/>
                </a:solidFill>
                <a:latin typeface="Constantia"/>
                <a:ea typeface="Majalla UI"/>
              </a:rPr>
              <a:t>-</a:t>
            </a:r>
            <a:r>
              <a:rPr b="1" lang="ar-SA" sz="32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مرحلة الحصاد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4000" y="692280"/>
            <a:ext cx="8424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onstantia"/>
                <a:ea typeface="Majalla UI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Constantia"/>
                <a:ea typeface="Majalla UI"/>
              </a:rPr>
              <a:t>-</a:t>
            </a:r>
            <a:r>
              <a:rPr b="1" lang="ar-SA" sz="2800" spc="-1" strike="noStrike">
                <a:solidFill>
                  <a:srgbClr val="c00000"/>
                </a:solidFill>
                <a:latin typeface="Constantia"/>
                <a:ea typeface="Majalla UI"/>
              </a:rPr>
              <a:t> عمليات التفريخ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شمل عدة مراحل حتي يتم الحصول على اليرقات (الزريعة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y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أ-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cs typeface="Majalla UI"/>
              </a:rPr>
              <a:t>إنتقاء الآباء والأمهات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ختيار الأصبعيات التي تتمتع بمواصفات ظاهرية جيدة ليتم تربيتها تربية خاصة لتكون أباء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وأمهات المستقبل </a:t>
            </a:r>
            <a:r>
              <a:rPr b="0" lang="ar-SA" sz="22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ب -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cs typeface="Majalla UI"/>
              </a:rPr>
              <a:t>التزاوج والتفريخ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عندما تصل الإصبعيات إلى حجم البلوغ الجنسي يتم دمج الأجناس في أحواض خاص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سواء كانت برك ترابية أو أحواض لإجراء التزاوج وتسمى هذه الأحواض بأحواض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تفريخ حيث يتم التزاوج والتفريخ إما طبيعياً أو صناعياً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ـ الطريقة الطبيعية للتزاوج والتفريخ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 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وفيها توضع الذكور والإناث معاً في أحواض التفريخ بمعدلات تختلف حسب نوع الأسماك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إلا أنها غالباً ما تكون بنسبة ذكر واحد لكل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2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أو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3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أو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4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إناث (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1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: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2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في حالة البلطي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وبمعدل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50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سمكة / م</a:t>
            </a:r>
            <a:r>
              <a:rPr b="0" lang="ar-SA" sz="2200" spc="-1" strike="noStrike" baseline="30000">
                <a:solidFill>
                  <a:srgbClr val="000000"/>
                </a:solidFill>
                <a:latin typeface="Constantia"/>
                <a:ea typeface="Majalla UI"/>
              </a:rPr>
              <a:t>3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وتترك لتضع البيض طبيعياً دون أي تدخل خارجي ، ويخصب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بيض أيضاً طبيعياً بالحيوانات المنوية التي تنتجها الذكور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250920" y="691920"/>
            <a:ext cx="86421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193680" indent="-193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ـ الطرق الصناعية للتزاوج والتفريخ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3680" indent="-193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يقصد بالطرق الصناعية : التدخل الخارجي لتحفيز عملية التزاوج والتفريخ أو لاستخلاص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3680" indent="-193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بيض من إناث الأسماك والسائل المنوي من الذكور ثم إجراء عملية التزواج والتفريخ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3680" indent="-193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وتتم هذه العملية بعدة وسائل تختلف حسب نوعية الأسماك والظروف البيئية . ومن الوسائل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3680" indent="-193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المستعملة والمعروفة عالمياً ما يلي :-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3680" indent="-193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</a:t>
            </a:r>
            <a:r>
              <a:rPr b="1" lang="ar-SA" sz="22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الحقن بالهرمونات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3680" indent="-19368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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استخلاص الخلايا الجنسية بالتنصيل أو البذل (الضغط باليد على البطن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3680" indent="-19368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</a:t>
            </a:r>
            <a:r>
              <a:rPr b="1" lang="ar-SA" sz="22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الحقن بالهرمونات و استخلاص الخلايا الجنسي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3680" indent="-19368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</a:t>
            </a:r>
            <a:r>
              <a:rPr b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استخلاص الخلايا الجنسية بالتشريح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3680" indent="-193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جدر الإشـارة هنا إلى أن هذه الوسائل جميعاً سهلة التنفيذ وتؤدي إلى نتائج جيدة كما أن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3680" indent="-193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ستعمال أي من هذه الوسائل الأربعة يعتمد على نوع الأسماك والحاجة لتلك الوسيل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3680" indent="-193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</a:t>
            </a:r>
            <a:r>
              <a:rPr b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تحضين البيض المخصب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3680" indent="-19368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  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بعد إجراء الإخصاب بأيٍ من الطرق السابقة يتم تحضين البيض المخصب إلى أن يتم الفقس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3680" indent="-193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وتخرج الزريعة (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ry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3680" indent="-19368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3680" indent="-193680" algn="r" rtl="1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93680" indent="-19368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3680" indent="-19368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3495c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250920" y="764640"/>
            <a:ext cx="864216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onstantia"/>
                <a:ea typeface="Majalla UI"/>
              </a:rPr>
              <a:t>2</a:t>
            </a:r>
            <a:r>
              <a:rPr b="1" lang="ar-SA" sz="2800" spc="-1" strike="noStrike">
                <a:solidFill>
                  <a:srgbClr val="0000ff"/>
                </a:solidFill>
                <a:latin typeface="Constantia"/>
                <a:ea typeface="Majalla UI"/>
              </a:rPr>
              <a:t>-</a:t>
            </a:r>
            <a:r>
              <a:rPr b="1" lang="ar-SA" sz="2800" spc="-1" strike="noStrike">
                <a:solidFill>
                  <a:srgbClr val="c00000"/>
                </a:solidFill>
                <a:latin typeface="Constantia"/>
                <a:ea typeface="Majalla UI"/>
              </a:rPr>
              <a:t> مرحلة اليرقات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وفيها يتم نقل اليرقات إلى أحواض خاصة لتربيتها ورعايتها حتى الوصول بها إلى حجم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الإصبعيات (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fingerlings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onstantia"/>
                <a:ea typeface="Majalla UI"/>
              </a:rPr>
              <a:t>3</a:t>
            </a:r>
            <a:r>
              <a:rPr b="1" lang="ar-SA" sz="2800" spc="-1" strike="noStrike">
                <a:solidFill>
                  <a:srgbClr val="0000ff"/>
                </a:solidFill>
                <a:latin typeface="Constantia"/>
                <a:ea typeface="Majalla UI"/>
              </a:rPr>
              <a:t>-</a:t>
            </a:r>
            <a:r>
              <a:rPr b="1" lang="ar-SA" sz="2800" spc="-1" strike="noStrike">
                <a:solidFill>
                  <a:srgbClr val="c00000"/>
                </a:solidFill>
                <a:latin typeface="Constantia"/>
                <a:ea typeface="Majalla UI"/>
              </a:rPr>
              <a:t> مرحلة التسمين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وفيها يتم نقل الإصبعيات (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fingerlings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) إلى أحواض أكبر لتربيتها ورعايتها حتى الوصول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بها إلى الحجم التسويقي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onstantia"/>
                <a:ea typeface="Majalla UI"/>
              </a:rPr>
              <a:t>4</a:t>
            </a:r>
            <a:r>
              <a:rPr b="1" lang="ar-SA" sz="2800" spc="-1" strike="noStrike">
                <a:solidFill>
                  <a:srgbClr val="0000ff"/>
                </a:solidFill>
                <a:latin typeface="Constantia"/>
                <a:ea typeface="Majalla UI"/>
              </a:rPr>
              <a:t>-</a:t>
            </a:r>
            <a:r>
              <a:rPr b="1" lang="ar-SA" sz="2800" spc="-1" strike="noStrike">
                <a:solidFill>
                  <a:srgbClr val="c00000"/>
                </a:solidFill>
                <a:latin typeface="Constantia"/>
                <a:ea typeface="Majalla UI"/>
              </a:rPr>
              <a:t> مرحلة الحصاد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Constantia"/>
                <a:ea typeface="Majalla UI"/>
              </a:rPr>
              <a:t> 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وفيها يتم جمع الأسماك عند وصولها إلى الحجم التسويقي ومن ثم بيعها لتكتمل بذلك آخر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مراحل الإستزراع</a:t>
            </a:r>
            <a:r>
              <a:rPr b="1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Constantia"/>
                <a:ea typeface="Majalla UI"/>
              </a:rPr>
              <a:t>    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تم عملية الحصاد إما جزئيا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(حصاد جزئي)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أو كليا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(حصاد كلي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hp</cp:lastModifiedBy>
  <dcterms:modified xsi:type="dcterms:W3CDTF">2017-12-02T20:32:10Z</dcterms:modified>
  <cp:revision>498</cp:revision>
  <dc:subject/>
  <dc:title>Principals of General Zoology (Zoo-103)</dc:title>
</cp:coreProperties>
</file>