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8D9-8DD0-4155-84CE-66E00A861E9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661-E287-4739-AC57-655A0B28A26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832-E017-428A-B376-3E2755629A3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A63-01D9-470D-B7F5-CF7F881C1F1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D71-D58F-40D2-84E7-E2549C47D0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C82-BB2D-45F6-A220-858A02D0B28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BA7-D302-4EA4-9BE3-54B2CE72AE5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62FC-E8A3-48B9-9186-4E3BEAE867A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3E7-7C73-499C-8172-CBDC2A9F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3A9-C8BE-4762-9BAE-8C7387CE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A3D-221E-41E1-A2F1-64B552D9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8C3-132F-4C9A-8EEF-D9F56AF8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18A-1254-44BA-B2D0-2D527E7F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D02C-BBE9-4616-B665-3A451BD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5A0-96CD-4B82-8093-98792393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5A3E-4C27-41DA-9D61-42297298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F4F2-C9B3-49A7-9DB8-92A9000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53D-6559-417F-BE8F-34ACE135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6542-E695-4C05-A02F-BEC5B0C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E79-0BAC-4808-8DB9-7CDACFF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4F0-D89F-44D2-807E-91BC968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030-D939-4011-A1FD-B0D995A8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39D-B6E0-4540-9514-9DEF5B0B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5419-1E0E-4AC0-9257-53720F9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580-59AA-420D-A63F-AF930F42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F547-1CCA-46A1-86CF-A8E92AA7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8F39-4907-483B-B955-DAA0FB8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15F6-B3FE-4AEF-9BF2-A0AE6336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25E7-85C2-48DC-834F-23216834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0057-32EE-42AB-952F-1D88C035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9E8-C2FD-46B9-98ED-EB8CA4C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D7E4-8628-41E9-BB2F-987ABF4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860B-D553-4910-ACA9-875C5AD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F01C-5641-4FA8-8EB9-83391F6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8598-BE1C-42EA-8660-3E88587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DBD4-7B54-4EF9-8CED-8F8CA7F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24B3-0370-409A-981E-4B67EB9E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B2F4-58E3-4BE6-98B4-5BB46823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EE68-403B-48AE-B00D-35519807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D996-D1CD-49DD-8BCF-2926A05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3135-D7A1-44D9-B8DC-34FFBD90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0C9-C37D-47A4-9E1B-E951266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3DA0-332C-429F-86AE-3319417F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906A-7954-4C0C-BA29-8E6B2F7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327B-D493-4DB8-9FCC-9302750C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6E3B-3894-4AA0-A963-153E9100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1670-011C-46DC-A655-0C8FE8B6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2CDC-917E-40A9-8252-1B90502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C734-18DC-4394-9015-A2E68110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7686-2E88-46EC-81C8-9EB8A70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0BEA-A4B2-480E-A120-0AA73BFD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CE353-4211-46B4-BD96-6A5B0F93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74E-B51A-4029-B78F-EA9F6624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F09A-3585-44AB-9608-E56885CB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7083-A88F-4DFF-8748-7B075B40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4A69-B8E4-4837-8A89-4FFECDC0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3F89-94AB-440A-944F-2F95B4FC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83C04-B1D9-4B76-937B-4673DC7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05A4-8378-45A7-BAF0-1B5EDDA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2561-D65C-4191-8484-88D197B0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B462-7DEB-4196-8419-3BAFC88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45D0-E9C5-44D7-BE58-9A9C7A4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A164C-553E-4192-8989-C5803BA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9E1-5EAE-4599-8235-27E1C8A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9AD7-0B11-4E72-9B91-476571AA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209-8343-4C86-8DF1-5E891B4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6F5-4CC4-49BC-9552-F15E33B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A11-3CE4-4F2E-9A84-A9647B55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B6F-D3C4-46F8-9F0C-D6151C676BE4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E4F-2799-4639-9433-5E00D43736A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مستطيل مستدير الزوايا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مستطيل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مستطيل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مستطيل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B2E1-C6C5-4133-AAA3-6C90EC4D5F88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2D1-366E-4FD8-8133-DF1AF5126E3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مستطيل مستدير الزوايا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مستطيل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مستطيل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مستطيل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9F3F-3138-4246-8872-D0DF5E8BEE06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CAB-1CA8-45CF-B4AA-4739B1D2737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مستطيل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مستطيل مستدير الزوايا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81AC-1415-4A72-83B4-A9253A338CF4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1C59-AB24-4353-8802-81844D4404C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مستطيل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مستطيل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مستطيل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548-2AD5-41B1-9CE7-ED2BD7A7E99D}" type="datetime"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Times New Roman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F50-2F6B-42BC-92C0-18939F9FED1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مستطيل 3" descr=""/>
          <p:cNvPicPr/>
          <p:nvPr/>
        </p:nvPicPr>
        <p:blipFill>
          <a:blip r:embed="rId1"/>
          <a:stretch/>
        </p:blipFill>
        <p:spPr>
          <a:xfrm>
            <a:off x="1225440" y="1706400"/>
            <a:ext cx="6748560" cy="1140120"/>
          </a:xfrm>
          <a:prstGeom prst="rect">
            <a:avLst/>
          </a:prstGeom>
          <a:ln w="0">
            <a:noFill/>
          </a:ln>
        </p:spPr>
      </p:pic>
      <p:sp>
        <p:nvSpPr>
          <p:cNvPr id="236" name="عنصر نائب للتذييل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عنصر نائب لرقم الشريحة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CE1D-227C-483B-8D7E-99A2FE393CF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rcRect l="15766" t="0" r="0" b="0"/>
          <a:stretch/>
        </p:blipFill>
        <p:spPr>
          <a:xfrm>
            <a:off x="2050920" y="3916440"/>
            <a:ext cx="5297760" cy="1368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3046320"/>
            <a:ext cx="41148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 النماذج و التقارير</a:t>
            </a: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 -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E1E4-EEDA-4822-B7A2-E0216B4DDBC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5219640" y="3645000"/>
            <a:ext cx="187344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نسيق النصوص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1063-829A-4DFA-BBF7-0D840130F6E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4859280" y="3960720"/>
            <a:ext cx="22338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رتيب الحقول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 rtl="1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عمليات الحسابية على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 rtl="1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يمكنك برنامج قواعد البيانات أكسيس من إجراء مجموعة من العمليات الحسابية والمنطقية على حقول قواعد البيانات من نوع عملة أو رقم ومن هذه العمليات (الجمع والطرح والقسمة والضرب )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CEF-A2B6-45CB-B776-1C4C10BF226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0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4230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700360" y="4748040"/>
            <a:ext cx="3816360" cy="9471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نفتح عرض تصميم النموذج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مستطيل 5"/>
          <p:cNvSpPr/>
          <p:nvPr/>
        </p:nvSpPr>
        <p:spPr>
          <a:xfrm>
            <a:off x="1692360" y="333360"/>
            <a:ext cx="64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طوات إجراء عملية حسابية على النموذج :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A90-8BB9-4DA3-9020-CC49E240A51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2484360" y="5157720"/>
            <a:ext cx="4680000" cy="22269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نقر بشكل مزدوج على مربع الحقل المطلوب إجراء عملية حسابية فيه لتظهر ورقة الخصائص على اليسار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086-8BAF-4B90-B7E3-626EBE26765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صورة 4" descr="Microsoft Access - الجامعة : قاعدة بيانات (Access 2007)"/>
          <p:cNvPicPr/>
          <p:nvPr/>
        </p:nvPicPr>
        <p:blipFill>
          <a:blip r:embed="rId1"/>
          <a:srcRect l="0" t="18921" r="46771" b="31640"/>
          <a:stretch/>
        </p:blipFill>
        <p:spPr>
          <a:xfrm>
            <a:off x="250920" y="907920"/>
            <a:ext cx="8675640" cy="43387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1042920" y="5157720"/>
            <a:ext cx="7777080" cy="13737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نقر على مستطيل ( مصدر عنصر التحكم )  ثم على الزر ( ... 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سيظهر مربع حوار (منشئ التعبير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3A5-CB99-4EC9-AE14-F4A60D20F17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066680" y="4819680"/>
            <a:ext cx="7777440" cy="26535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– امسح النص المكتوب واكتب مكانه إشارة (=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ثم اختار اسم الحقل الأول من قائمة فئات التعبير ثم ادخل الاشارة الرياضية (- , + ، / ، * ) ثم اختار اسم الحقل الثاني ثم موافق واعرض النموذج لتظهر نتيجة العملية الحسابي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4" name="صورة 5" descr="منشئ التعبير"/>
          <p:cNvPicPr/>
          <p:nvPr/>
        </p:nvPicPr>
        <p:blipFill>
          <a:blip r:embed="rId1"/>
          <a:stretch/>
        </p:blipFill>
        <p:spPr>
          <a:xfrm>
            <a:off x="395280" y="257040"/>
            <a:ext cx="84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0BBA-82D5-4F74-A1FA-7CE858E08F6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468360" y="4486320"/>
            <a:ext cx="4895640" cy="947160"/>
          </a:xfrm>
          <a:prstGeom prst="rect">
            <a:avLst/>
          </a:prstGeom>
          <a:solidFill>
            <a:srgbClr val="f4e7e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ألاحظ ظهور نتيجة العملية الحسابي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سهم منحني إلى اليمين 5"/>
          <p:cNvSpPr/>
          <p:nvPr/>
        </p:nvSpPr>
        <p:spPr>
          <a:xfrm flipH="1" flipV="1" rot="20896200">
            <a:off x="2810520" y="3109320"/>
            <a:ext cx="823680" cy="1181160"/>
          </a:xfrm>
          <a:custGeom>
            <a:avLst/>
            <a:gdLst>
              <a:gd name="textAreaLeft" fmla="*/ 110160 w 823680"/>
              <a:gd name="textAreaRight" fmla="*/ 713520 w 823680"/>
              <a:gd name="textAreaTop" fmla="*/ 217800 h 1181160"/>
              <a:gd name="textAreaBottom" fmla="*/ 8600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77" stAng="-5400000" swAng="-5400000"/>
                <a:lnTo>
                  <a:pt x="0" y="11741"/>
                </a:lnTo>
                <a:arcTo wR="21600" hR="7977" stAng="10800000" swAng="-3302448"/>
                <a:lnTo>
                  <a:pt x="16200" y="21347"/>
                </a:lnTo>
                <a:lnTo>
                  <a:pt x="21600" y="17836"/>
                </a:lnTo>
                <a:lnTo>
                  <a:pt x="16200" y="13819"/>
                </a:lnTo>
                <a:lnTo>
                  <a:pt x="16200" y="15701"/>
                </a:lnTo>
                <a:arcTo wR="21600" hR="7977" stAng="7497552" swAng="2995039"/>
                <a:lnTo>
                  <a:pt x="610" y="9859"/>
                </a:lnTo>
                <a:arcTo wR="21600" hR="7977" stAng="-10492591" swAng="5092591"/>
                <a:close/>
              </a:path>
              <a:path fill="darkenLess" w="21600" h="21600">
                <a:moveTo>
                  <a:pt x="21600" y="0"/>
                </a:moveTo>
                <a:arcTo wR="21600" hR="7977" stAng="-5400000" swAng="-5400000"/>
                <a:lnTo>
                  <a:pt x="0" y="7977"/>
                </a:lnTo>
                <a:arcTo wR="21600" hR="7977" stAng="10800000" swAng="-307409"/>
                <a:lnTo>
                  <a:pt x="610" y="9859"/>
                </a:lnTo>
                <a:arcTo wR="21600" hR="7977" stAng="-10492591" swAng="5092591"/>
                <a:close/>
              </a:path>
            </a:pathLst>
          </a:cu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تقارير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Reports</a:t>
            </a:r>
            <a:r>
              <a:rPr b="1" lang="en-US" sz="3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هي الطريقة الرسمية لعرض وطباعة البيانات التي تم استرجاعها من قاعدة البيانات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ولا تسمح التقارير للمستخدم من تعديل بياناتها فهي فقط للقراءة والطباعة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أوجه الاختلاف بين التقارير و النماذج :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44792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 يمكن استخدام التقارير لإدخال البيانات كما هو الحال في النماذج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الهدف من تصميم التقارير هو الحصول عليها مطبوعة على ورق 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أما النماذج فهو اظهارها على الشاشه داخل نوافذ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 يمكن تعديل بيانات التقرير عند معاينة طباعته أو اظهاره أوبعد  طباعته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1447920"/>
            <a:ext cx="82915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النماذج في قاعدة البيانات تشبه النماذج الورقية فهي تحتوي على خانات معنونة فارغة تعبأ بالبيانات من قبل المستخدم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النماذج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orms</a:t>
            </a:r>
            <a:r>
              <a:rPr b="1" lang="en-US" sz="3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4" descr="http://www.up-king.com/almaciat/7zvufyljepdw2nqo251y.jpg"/>
          <p:cNvPicPr/>
          <p:nvPr/>
        </p:nvPicPr>
        <p:blipFill>
          <a:blip r:embed="rId1"/>
          <a:srcRect l="6395" t="5096" r="8223" b="23630"/>
          <a:stretch/>
        </p:blipFill>
        <p:spPr>
          <a:xfrm>
            <a:off x="3463920" y="3343320"/>
            <a:ext cx="2465280" cy="306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www.mars.com/canada/en/assets/images/center-contents/Application.jpg"/>
          <p:cNvPicPr/>
          <p:nvPr/>
        </p:nvPicPr>
        <p:blipFill>
          <a:blip r:embed="rId2"/>
          <a:stretch/>
        </p:blipFill>
        <p:spPr>
          <a:xfrm>
            <a:off x="6300720" y="3343320"/>
            <a:ext cx="2592360" cy="2809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www.tawdef.com/tahmel/uploads/9536b40099.gif"/>
          <p:cNvPicPr/>
          <p:nvPr/>
        </p:nvPicPr>
        <p:blipFill>
          <a:blip r:embed="rId3"/>
          <a:srcRect l="0" t="0" r="0" b="16336"/>
          <a:stretch/>
        </p:blipFill>
        <p:spPr>
          <a:xfrm>
            <a:off x="826920" y="3343320"/>
            <a:ext cx="2221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16B1-1F76-4F75-AD82-5202A7AF57B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318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708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179280" y="2708280"/>
            <a:ext cx="2376720" cy="39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يمكن إنشاء تقرير من استعلام أو جدول أو من جدولين بينهما علاقة واختيار الحقول المطلوب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DDE5-90B5-472E-8C77-F1997436F72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2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323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708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32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179280" y="2708280"/>
            <a:ext cx="237672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التجميع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6CE-7995-4A30-9BC6-FE4A0F27895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9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179280" y="2708280"/>
            <a:ext cx="237672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فرز السجلا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1" name="صورة 8" descr="معالج التقارير"/>
          <p:cNvPicPr/>
          <p:nvPr/>
        </p:nvPicPr>
        <p:blipFill>
          <a:blip r:embed="rId2"/>
          <a:stretch/>
        </p:blipFill>
        <p:spPr>
          <a:xfrm>
            <a:off x="2771640" y="2708280"/>
            <a:ext cx="4629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CD7-A165-45DE-A24A-965BC620C94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179280" y="2708280"/>
            <a:ext cx="237672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طريقة التخطيط والاتجا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7" name="صورة 4" descr="معالج التقارير"/>
          <p:cNvPicPr/>
          <p:nvPr/>
        </p:nvPicPr>
        <p:blipFill>
          <a:blip r:embed="rId2"/>
          <a:stretch/>
        </p:blipFill>
        <p:spPr>
          <a:xfrm>
            <a:off x="2700360" y="2644920"/>
            <a:ext cx="4629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184-ABFE-4C84-AD09-A0133F0B094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تقرير باستخدام معالج التقارير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1" name="صورة 7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179280" y="2708280"/>
            <a:ext cx="237672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سمية التقرير واختيار فتحه أو التعديل على تصميمه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صورة 8" descr="معالج التقارير"/>
          <p:cNvPicPr/>
          <p:nvPr/>
        </p:nvPicPr>
        <p:blipFill>
          <a:blip r:embed="rId2"/>
          <a:stretch/>
        </p:blipFill>
        <p:spPr>
          <a:xfrm>
            <a:off x="2771640" y="2708280"/>
            <a:ext cx="46292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69D5-44C1-4041-9C84-3F733AE1D90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فتح التقرير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7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092C-531B-47E4-B0DC-4AE68A37092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تقرير وإعدادات الصفحة للطباعة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989680"/>
          </a:xfrm>
          <a:prstGeom prst="rect">
            <a:avLst/>
          </a:prstGeom>
          <a:ln w="0">
            <a:noFill/>
          </a:ln>
        </p:spPr>
      </p:pic>
      <p:pic>
        <p:nvPicPr>
          <p:cNvPr id="352" name="صورة 6" descr="أرقام الصفحات"/>
          <p:cNvPicPr/>
          <p:nvPr/>
        </p:nvPicPr>
        <p:blipFill>
          <a:blip r:embed="rId2"/>
          <a:stretch/>
        </p:blipFill>
        <p:spPr>
          <a:xfrm>
            <a:off x="4859280" y="4581360"/>
            <a:ext cx="2457360" cy="2022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1368360" y="4684680"/>
            <a:ext cx="2374920" cy="222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رتيب الحقول وتنسيقها و إضافة ارقام الصفحات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81A-DE61-4DE1-97BA-7428561A900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00360" y="1557000"/>
            <a:ext cx="389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نتهى بحمد الله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1447560"/>
            <a:ext cx="8496360" cy="46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Perpetua"/>
              </a:rPr>
              <a:t> تستخدم النماذج كطريقة ثانية لإدخال البيانات في الجداول , وتعتبر طريقة سهلة لإدخال البيانات على شكل سجل واحد في كل مرة بدلاً من إدخالها في شبكة من الأعمدة و الصفوف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Perpetua"/>
              </a:rPr>
              <a:t> النموذج هو واجهة لحقول الجدول ويسري عليه كل ما تم فرضه على الحقول من حيث الخصائص وأنواع البيانات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النماذج 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Forms</a:t>
            </a:r>
            <a:r>
              <a:rPr b="1" lang="en-US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مكن أن يقلل النموذج من أخطاء إدخال البيانات 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مكن أن يحتوي النموذج على حقول من عدة جداول بشرط أن يكون بينهما علاقة .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Perpetua"/>
              </a:rPr>
              <a:t>يجب أن يرتبط النموذج بجدول واحد على الأقل.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itle 4"/>
          <p:cNvSpPr/>
          <p:nvPr/>
        </p:nvSpPr>
        <p:spPr>
          <a:xfrm>
            <a:off x="395280" y="404640"/>
            <a:ext cx="82296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مزايا أستخدام النماذج لإدخال البيانات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F3E-9DE9-4371-9FA3-AE6B229BD4F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516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252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صورة 6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179280" y="2708280"/>
            <a:ext cx="2376720" cy="39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يمكن إنشاء نموذج من جدول واحد أو من جدولين بينهما علاقة واختيار الحقول المطلوبة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00C4-5379-4303-AF73-42430552CA8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58" name="صورة 6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59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79280" y="2708280"/>
            <a:ext cx="237672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اختيار نوع التخطيط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58E-7AC6-4126-BC0B-9B320CE3AAC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64" name="صورة 4" descr="معالج النماذج"/>
          <p:cNvPicPr/>
          <p:nvPr/>
        </p:nvPicPr>
        <p:blipFill>
          <a:blip r:embed="rId2"/>
          <a:stretch/>
        </p:blipFill>
        <p:spPr>
          <a:xfrm>
            <a:off x="2700360" y="2492280"/>
            <a:ext cx="4629240" cy="3459240"/>
          </a:xfrm>
          <a:prstGeom prst="rect">
            <a:avLst/>
          </a:prstGeom>
          <a:ln w="0">
            <a:noFill/>
          </a:ln>
        </p:spPr>
      </p:pic>
      <p:sp>
        <p:nvSpPr>
          <p:cNvPr id="265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إنشاء نموذج باستخدام معالج النما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79280" y="2708280"/>
            <a:ext cx="2376720" cy="265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تسمية النموذ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واختيار فتح النموذج أو تعديل تصميمه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9469-885C-46CE-BBCC-95D91861083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9" name="صورة 3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270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فتح النموذج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لتذييل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b13f9a"/>
                </a:solidFill>
                <a:latin typeface="Perpetua"/>
              </a:rPr>
              <a:t>أ.مشاعل المطل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عنصر نائب لرقم الشريحة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B07-0093-4C03-AE7D-AB5B36C117E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Title 4"/>
          <p:cNvSpPr/>
          <p:nvPr/>
        </p:nvSpPr>
        <p:spPr>
          <a:xfrm>
            <a:off x="611280" y="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تعديل تصميم النموذج 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صورة 5" descr="Microsoft Access - الجامعة : قاعدة بيانات (Access 200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275" name="صورة 6" descr="التاريخ والوقت"/>
          <p:cNvPicPr/>
          <p:nvPr/>
        </p:nvPicPr>
        <p:blipFill>
          <a:blip r:embed="rId2"/>
          <a:stretch/>
        </p:blipFill>
        <p:spPr>
          <a:xfrm>
            <a:off x="4506840" y="2662200"/>
            <a:ext cx="2629080" cy="29624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900000" y="5600880"/>
            <a:ext cx="3456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- إدراج التاريخ والوقت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9:28Z</dcterms:created>
  <dc:creator>user</dc:creator>
  <dc:description/>
  <dc:language>en-US</dc:language>
  <cp:lastModifiedBy>User</cp:lastModifiedBy>
  <dcterms:modified xsi:type="dcterms:W3CDTF">2016-03-24T05:32:53Z</dcterms:modified>
  <cp:revision>133</cp:revision>
  <dc:subject/>
  <dc:title>عرض تقديمي في PowerPoint</dc:title>
</cp:coreProperties>
</file>