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24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0.png" ContentType="image/png"/>
  <Override PartName="/ppt/media/image31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2961-A463-430F-AB40-34C26BFC18E3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B4FF-5BD9-47A3-A88B-69F6C2BC46BE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A992-0AD9-4256-880A-A7E5C73005B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DC70-D7B2-4BC1-83A7-48F8670C76F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B6F7-29F3-43BF-8AE1-62BE272E98D9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E275-356F-4E79-B8A2-3E41AF4FB917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8151-0AF2-4625-8F86-5A8D67E61D78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8457-66F9-40DB-8C17-ACEDA9594CB7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8001-08FE-49F2-A385-6DBAED31F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D33E-1AB5-4D61-8D86-95653C43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D185-8BB7-49C0-A920-B8008E800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F876-EC60-4BA2-AFF7-4387AEF8D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7ED2-2E8B-407B-9CD6-8EF89A86D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F628-3AED-4C74-8A05-F9FD4699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1C93E-3CCB-4E24-9F94-5E00B8B1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57D2-46B2-4C71-B08C-BE40A7A7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50AC-28C9-4DDA-9EED-C3521560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2E7B-4115-460D-B921-16737B25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D8EB-74C7-4F2E-A3A8-4776294C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9C32-9D17-409A-91CD-6B1D4AB6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7A23-90E1-49B8-8A2C-28DCA032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C1EE-44C2-467E-8BCF-B4B7F8AF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15E2-7B68-4653-8FFC-2C86F0A9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96E9-D9F0-46B0-92C6-9E1F58FBC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B8928-46EC-467D-8F72-07DDAB9D1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8D838-D1D7-41AE-B3AB-72DB19280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78D68-34EC-4858-BF7F-8A0145E4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38770-73DB-4504-B75A-48678F04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D09C3-4FBB-40E6-B442-84451260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81731-4711-4F58-B1F1-D4D13087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686E-919D-4FB1-BD93-D6B1389E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98B8B-19F5-4D08-BC2F-D74E035C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674C1-38C0-49B5-846B-BF7A42E9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66B7D-F305-4CA0-8437-D64C5DEF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FFA19-9AFD-4B52-9ADF-A5981047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186DD-8EDC-4E2D-9073-214685A3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89DF8-018F-45D6-900D-7A8EFA029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55EB0-3B8C-49DF-BBF2-A4964CA62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23473-1091-4771-92FD-9CECAC3ED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5D77D-52A8-4305-A39A-4C0FA714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1D984-CE8B-472E-A8EF-571F820D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1FCC-F942-450F-B885-723DE5EF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DC177-55DB-4EA2-BAF1-81EEB8F6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30B97-A203-46FC-AB63-A0E240CD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8F90F-EB1C-4D11-8F37-0684A527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B0678-8487-4D2C-B605-C03E80CD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5FBD1-C1A4-43B3-9416-28D6ACB0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90B82-E8F7-4CCB-ABAE-1FC15F74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CB3D0-16B1-4AE3-AF77-8892B64E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43132-4685-46E0-9276-C4B6A1E54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8246D-3760-4A7D-A296-C44C10E87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C22F4-5E6C-4879-83C6-E5E1FD0F1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62CC-6B68-4A33-B2F0-5DA14ABA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9E69D-D91D-4AE8-B6C9-08677D83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1B1CF-73E6-4E72-95B4-9DBCEE20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79F73-5A3F-4391-A4FB-1006EA87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66F56-EFF5-4AC2-A41D-A9820929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52C6D-04A7-41D5-B498-65E2089A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09A81-1FB5-4B18-BA77-6B4E30AA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AF190-4DB3-4E21-898D-376AE865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EA530-A76E-47CC-9D58-2AA6E601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30CA9-2E14-4FDC-96D9-48E45984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CF955-B65C-427D-B882-875E3BB47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14CC-4639-4151-A586-0827648F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2FF3E-53CF-45AB-B255-9905D85DA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F3F1-9EC0-40A2-BC03-0A030A88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E3BA-0D2A-44EF-ADBE-2586D374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1F66-4EA4-4F34-9226-A816102C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مستطيل مستدير الزوايا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de6c3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3E21-16EB-4226-B4D3-C36102A3EB8B}" type="datetime">
              <a:rPr b="0" lang="ar-SA" sz="1400" spc="-1" strike="noStrike">
                <a:solidFill>
                  <a:srgbClr val="b13f9a"/>
                </a:solidFill>
                <a:latin typeface="Times New Roman"/>
              </a:rPr>
              <a:t>١٤٤٨/٠٢/١٧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Times New Roman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007F-EF23-4276-9A77-EEB6324BA489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مستطيل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مستطيل مستدير الزوايا 12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مستطيل 6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مستطيل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مستطيل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cf6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de6c3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A422-0B77-4B73-911B-A47B2F6CB024}" type="datetime">
              <a:rPr b="0" lang="ar-SA" sz="1400" spc="-1" strike="noStrike">
                <a:solidFill>
                  <a:srgbClr val="b13f9a"/>
                </a:solidFill>
                <a:latin typeface="Times New Roman"/>
              </a:rPr>
              <a:t>١٤٤٨/٠٢/١٧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Times New Roman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1A3B-28FC-4492-B44A-4FFB8E94476E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ستطيل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مستطيل مستدير الزوايا 9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مستطيل مستدير الزوايا 9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مستطيل 6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مستطيل 7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مستطيل 8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cf6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de6c3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6EBF-1C4A-4420-A7FB-0900D64D463D}" type="datetime">
              <a:rPr b="0" lang="ar-SA" sz="1400" spc="-1" strike="noStrike">
                <a:solidFill>
                  <a:srgbClr val="b13f9a"/>
                </a:solidFill>
                <a:latin typeface="Times New Roman"/>
              </a:rPr>
              <a:t>١٤٤٨/٠٢/١٧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Times New Roman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7C00-C5FD-4688-81A0-46176BEB6592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مستطيل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مستطيل مستدير الزوايا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مستطيل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مستطيل مستدير الزوايا 8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de6c3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F78D-A893-4428-BE63-4B3386B845C0}" type="datetime">
              <a:rPr b="0" lang="ar-SA" sz="1400" spc="-1" strike="noStrike">
                <a:solidFill>
                  <a:srgbClr val="b13f9a"/>
                </a:solidFill>
                <a:latin typeface="Times New Roman"/>
              </a:rPr>
              <a:t>١٤٤٨/٠٢/١٧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Times New Roman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6FF5-CE8F-4E1B-A369-83F14B47E733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مستطيل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مستطيل مستدير الزوايا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مستطيل 1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مستطيل 1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مستطيل 12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cf6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de6c3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2DCA-1445-4848-8ECD-3275C4213C9E}" type="datetime">
              <a:rPr b="0" lang="ar-SA" sz="1400" spc="-1" strike="noStrike">
                <a:solidFill>
                  <a:srgbClr val="b13f9a"/>
                </a:solidFill>
                <a:latin typeface="Times New Roman"/>
              </a:rPr>
              <a:t>١٤٤٨/٠٢/١٧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Times New Roman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D2CD-236D-457F-858E-75EE2E1609E1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مستطيل 3" descr=""/>
          <p:cNvPicPr/>
          <p:nvPr/>
        </p:nvPicPr>
        <p:blipFill>
          <a:blip r:embed="rId1"/>
          <a:stretch/>
        </p:blipFill>
        <p:spPr>
          <a:xfrm>
            <a:off x="1225440" y="1706400"/>
            <a:ext cx="6748560" cy="1140120"/>
          </a:xfrm>
          <a:prstGeom prst="rect">
            <a:avLst/>
          </a:prstGeom>
          <a:ln w="0">
            <a:noFill/>
          </a:ln>
        </p:spPr>
      </p:pic>
      <p:sp>
        <p:nvSpPr>
          <p:cNvPr id="236" name="عنصر نائب للتذييل 6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Perpetua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7" name="عنصر نائب لرقم الشريحة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C5DD-7F5E-44F9-A657-03BE74564FB2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2"/>
          <a:srcRect l="15766" t="0" r="0" b="0"/>
          <a:stretch/>
        </p:blipFill>
        <p:spPr>
          <a:xfrm>
            <a:off x="2050920" y="3916440"/>
            <a:ext cx="5297760" cy="136836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643120" y="3046320"/>
            <a:ext cx="41148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Franklin Gothic Book"/>
              </a:rPr>
              <a:t> النماذج و التقارير</a:t>
            </a:r>
            <a:r>
              <a:rPr b="0" lang="ar-SA" sz="4000" spc="-1" strike="noStrike">
                <a:solidFill>
                  <a:srgbClr val="ffffff"/>
                </a:solidFill>
                <a:latin typeface="Franklin Gothic Book"/>
              </a:rPr>
              <a:t> -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عنصر نائب للتذييل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Perpetua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8" name="عنصر نائب لرقم الشريحة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3AB5-526F-4C3D-BC50-8EE59491CA32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9" name="Title 4"/>
          <p:cNvSpPr/>
          <p:nvPr/>
        </p:nvSpPr>
        <p:spPr>
          <a:xfrm>
            <a:off x="611280" y="0"/>
            <a:ext cx="82296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 تعديل تصميم النموذج  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0" name="صورة 3" descr="Microsoft Access - الجامعة : قاعدة بيانات (Access 2007)"/>
          <p:cNvPicPr/>
          <p:nvPr/>
        </p:nvPicPr>
        <p:blipFill>
          <a:blip r:embed="rId1"/>
          <a:stretch/>
        </p:blipFill>
        <p:spPr>
          <a:xfrm>
            <a:off x="0" y="968400"/>
            <a:ext cx="9144000" cy="5889600"/>
          </a:xfrm>
          <a:prstGeom prst="rect">
            <a:avLst/>
          </a:prstGeom>
          <a:ln w="0">
            <a:noFill/>
          </a:ln>
        </p:spPr>
      </p:pic>
      <p:sp>
        <p:nvSpPr>
          <p:cNvPr id="281" name="TextBox 4"/>
          <p:cNvSpPr/>
          <p:nvPr/>
        </p:nvSpPr>
        <p:spPr>
          <a:xfrm>
            <a:off x="5219640" y="3645000"/>
            <a:ext cx="1873440" cy="94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- تنسيق النصوص 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عنصر نائب للتذييل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Perpetua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3" name="عنصر نائب لرقم الشريحة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8000-BDDA-4678-A98A-BCD9ABD8D9B3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Title 4"/>
          <p:cNvSpPr/>
          <p:nvPr/>
        </p:nvSpPr>
        <p:spPr>
          <a:xfrm>
            <a:off x="611280" y="0"/>
            <a:ext cx="82296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 تعديل تصميم النموذج  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5" name="صورة 3" descr="Microsoft Access - الجامعة : قاعدة بيانات (Access 2007)"/>
          <p:cNvPicPr/>
          <p:nvPr/>
        </p:nvPicPr>
        <p:blipFill>
          <a:blip r:embed="rId1"/>
          <a:stretch/>
        </p:blipFill>
        <p:spPr>
          <a:xfrm>
            <a:off x="0" y="968400"/>
            <a:ext cx="9144000" cy="5889600"/>
          </a:xfrm>
          <a:prstGeom prst="rect">
            <a:avLst/>
          </a:prstGeom>
          <a:ln w="0">
            <a:noFill/>
          </a:ln>
        </p:spPr>
      </p:pic>
      <p:sp>
        <p:nvSpPr>
          <p:cNvPr id="286" name="TextBox 4"/>
          <p:cNvSpPr/>
          <p:nvPr/>
        </p:nvSpPr>
        <p:spPr>
          <a:xfrm>
            <a:off x="4859280" y="3960720"/>
            <a:ext cx="2233800" cy="94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- ترتيب الحقول 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5694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 rtl="1">
              <a:lnSpc>
                <a:spcPct val="100000"/>
              </a:lnSpc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cs typeface="Arial"/>
              </a:rPr>
              <a:t>العمليات الحسابية على النماذج 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 algn="just" rtl="1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 algn="just" rtl="1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يمكنك برنامج قواعد البيانات أكسيس من إجراء مجموعة من العمليات الحسابية والمنطقية على حقول قواعد البيانات من نوع عملة أو رقم ومن هذه العمليات (الجمع والطرح والقسمة والضرب ) 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عنصر نائب للتذييل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Perpetua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9" name="عنصر نائب لرقم الشريحة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F94F-E7E5-4DD2-BB18-B6CCEED4B41A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0" name="صورة 3" descr="Microsoft Access - الجامعة : قاعدة بيانات (Access 2007)"/>
          <p:cNvPicPr/>
          <p:nvPr/>
        </p:nvPicPr>
        <p:blipFill>
          <a:blip r:embed="rId1"/>
          <a:stretch/>
        </p:blipFill>
        <p:spPr>
          <a:xfrm>
            <a:off x="684360" y="1197000"/>
            <a:ext cx="7848360" cy="5423040"/>
          </a:xfrm>
          <a:prstGeom prst="rect">
            <a:avLst/>
          </a:prstGeom>
          <a:ln w="0">
            <a:noFill/>
          </a:ln>
        </p:spPr>
      </p:pic>
      <p:sp>
        <p:nvSpPr>
          <p:cNvPr id="291" name="TextBox 4"/>
          <p:cNvSpPr/>
          <p:nvPr/>
        </p:nvSpPr>
        <p:spPr>
          <a:xfrm>
            <a:off x="2700360" y="4748040"/>
            <a:ext cx="3816360" cy="947160"/>
          </a:xfrm>
          <a:prstGeom prst="rect">
            <a:avLst/>
          </a:prstGeom>
          <a:solidFill>
            <a:srgbClr val="f4e7e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- نفتح عرض تصميم النموذج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مستطيل 5"/>
          <p:cNvSpPr/>
          <p:nvPr/>
        </p:nvSpPr>
        <p:spPr>
          <a:xfrm>
            <a:off x="1692360" y="333360"/>
            <a:ext cx="648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a34b73"/>
                </a:solidFill>
                <a:uFillTx/>
                <a:latin typeface="Arial"/>
                <a:cs typeface="Arial"/>
              </a:rPr>
              <a:t>خطوات إجراء عملية حسابية على النموذج : 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عنصر نائب للتذييل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Perpetua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4" name="عنصر نائب لرقم الشريحة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83AD-38DD-4CA8-A4AB-637A4B53B68C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5" name="صورة 3" descr="Microsoft Access - الجامعة : قاعدة بيانات (Access 2007)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96" name="TextBox 4"/>
          <p:cNvSpPr/>
          <p:nvPr/>
        </p:nvSpPr>
        <p:spPr>
          <a:xfrm>
            <a:off x="2484360" y="5157720"/>
            <a:ext cx="4680000" cy="2226960"/>
          </a:xfrm>
          <a:prstGeom prst="rect">
            <a:avLst/>
          </a:prstGeom>
          <a:solidFill>
            <a:srgbClr val="f4e7e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- انقر بشكل مزدوج على مربع الحقل المطلوب إجراء عملية حسابية فيه لتظهر ورقة الخصائص على اليسار 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عنصر نائب للتذييل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Perpetua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عنصر نائب لرقم الشريحة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CE35-A7F2-4969-BB33-E976FFBD25F6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9" name="صورة 4" descr="Microsoft Access - الجامعة : قاعدة بيانات (Access 2007)"/>
          <p:cNvPicPr/>
          <p:nvPr/>
        </p:nvPicPr>
        <p:blipFill>
          <a:blip r:embed="rId1"/>
          <a:srcRect l="0" t="18921" r="46771" b="31640"/>
          <a:stretch/>
        </p:blipFill>
        <p:spPr>
          <a:xfrm>
            <a:off x="250920" y="907920"/>
            <a:ext cx="8675640" cy="4338720"/>
          </a:xfrm>
          <a:prstGeom prst="rect">
            <a:avLst/>
          </a:prstGeom>
          <a:ln w="0">
            <a:noFill/>
          </a:ln>
        </p:spPr>
      </p:pic>
      <p:sp>
        <p:nvSpPr>
          <p:cNvPr id="300" name="TextBox 4"/>
          <p:cNvSpPr/>
          <p:nvPr/>
        </p:nvSpPr>
        <p:spPr>
          <a:xfrm>
            <a:off x="1042920" y="5157720"/>
            <a:ext cx="7777080" cy="1373760"/>
          </a:xfrm>
          <a:prstGeom prst="rect">
            <a:avLst/>
          </a:prstGeom>
          <a:solidFill>
            <a:srgbClr val="f4e7e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- انقر على مستطيل ( مصدر عنصر التحكم )  ثم على الزر ( ... )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 سيظهر مربع حوار (منشئ التعبير)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عنصر نائب للتذييل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Perpetua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2" name="عنصر نائب لرقم الشريحة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3E24-2193-4456-B805-873950075670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3" name="TextBox 4"/>
          <p:cNvSpPr/>
          <p:nvPr/>
        </p:nvSpPr>
        <p:spPr>
          <a:xfrm>
            <a:off x="1066680" y="4819680"/>
            <a:ext cx="7777440" cy="2653560"/>
          </a:xfrm>
          <a:prstGeom prst="rect">
            <a:avLst/>
          </a:prstGeom>
          <a:solidFill>
            <a:srgbClr val="f4e7e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 – امسح النص المكتوب واكتب مكانه إشارة (=)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ثم اختار اسم الحقل الأول من قائمة فئات التعبير ثم ادخل الاشارة الرياضية (- , + ، / ، * ) ثم اختار اسم الحقل الثاني ثم موافق واعرض النموذج لتظهر نتيجة العملية الحسابية 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04" name="صورة 5" descr="منشئ التعبير"/>
          <p:cNvPicPr/>
          <p:nvPr/>
        </p:nvPicPr>
        <p:blipFill>
          <a:blip r:embed="rId1"/>
          <a:stretch/>
        </p:blipFill>
        <p:spPr>
          <a:xfrm>
            <a:off x="395280" y="257040"/>
            <a:ext cx="842472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عنصر نائب للتذييل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Perpetua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6" name="عنصر نائب لرقم الشريحة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89EC-2BD9-4665-B9CA-49CDDE60E8C9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07" name="صورة 3" descr="Microsoft Access - الجامعة : قاعدة بيانات (Access 2007)"/>
          <p:cNvPicPr/>
          <p:nvPr/>
        </p:nvPicPr>
        <p:blipFill>
          <a:blip r:embed="rId1"/>
          <a:stretch/>
        </p:blipFill>
        <p:spPr>
          <a:xfrm>
            <a:off x="0" y="0"/>
            <a:ext cx="9144000" cy="6742080"/>
          </a:xfrm>
          <a:prstGeom prst="rect">
            <a:avLst/>
          </a:prstGeom>
          <a:ln w="0">
            <a:noFill/>
          </a:ln>
        </p:spPr>
      </p:pic>
      <p:sp>
        <p:nvSpPr>
          <p:cNvPr id="308" name="TextBox 4"/>
          <p:cNvSpPr/>
          <p:nvPr/>
        </p:nvSpPr>
        <p:spPr>
          <a:xfrm>
            <a:off x="468360" y="4486320"/>
            <a:ext cx="4895640" cy="947160"/>
          </a:xfrm>
          <a:prstGeom prst="rect">
            <a:avLst/>
          </a:prstGeom>
          <a:solidFill>
            <a:srgbClr val="f4e7e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5</a:t>
            </a: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- ألاحظ ظهور نتيجة العملية الحسابية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9" name="سهم منحني إلى اليمين 5"/>
          <p:cNvSpPr/>
          <p:nvPr/>
        </p:nvSpPr>
        <p:spPr>
          <a:xfrm flipH="1" flipV="1" rot="20896200">
            <a:off x="2810520" y="3109320"/>
            <a:ext cx="823680" cy="1181160"/>
          </a:xfrm>
          <a:custGeom>
            <a:avLst/>
            <a:gdLst>
              <a:gd name="textAreaLeft" fmla="*/ 110160 w 823680"/>
              <a:gd name="textAreaRight" fmla="*/ 713520 w 823680"/>
              <a:gd name="textAreaTop" fmla="*/ 217800 h 1181160"/>
              <a:gd name="textAreaBottom" fmla="*/ 860040 h 1181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77" stAng="-5400000" swAng="-5400000"/>
                <a:lnTo>
                  <a:pt x="0" y="11741"/>
                </a:lnTo>
                <a:arcTo wR="21600" hR="7977" stAng="10800000" swAng="-3302448"/>
                <a:lnTo>
                  <a:pt x="16200" y="21347"/>
                </a:lnTo>
                <a:lnTo>
                  <a:pt x="21600" y="17836"/>
                </a:lnTo>
                <a:lnTo>
                  <a:pt x="16200" y="13819"/>
                </a:lnTo>
                <a:lnTo>
                  <a:pt x="16200" y="15701"/>
                </a:lnTo>
                <a:arcTo wR="21600" hR="7977" stAng="7497552" swAng="2995039"/>
                <a:lnTo>
                  <a:pt x="610" y="9859"/>
                </a:lnTo>
                <a:arcTo wR="21600" hR="7977" stAng="-10492591" swAng="5092591"/>
                <a:close/>
              </a:path>
              <a:path fill="darkenLess" w="21600" h="21600">
                <a:moveTo>
                  <a:pt x="21600" y="0"/>
                </a:moveTo>
                <a:arcTo wR="21600" hR="7977" stAng="-5400000" swAng="-5400000"/>
                <a:lnTo>
                  <a:pt x="0" y="7977"/>
                </a:lnTo>
                <a:arcTo wR="21600" hR="7977" stAng="10800000" swAng="-307409"/>
                <a:lnTo>
                  <a:pt x="610" y="9859"/>
                </a:lnTo>
                <a:arcTo wR="21600" hR="7977" stAng="-10492591" swAng="5092591"/>
                <a:close/>
              </a:path>
            </a:pathLst>
          </a:custGeom>
          <a:solidFill>
            <a:srgbClr val="b83d68"/>
          </a:solidFill>
          <a:ln w="1260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cs typeface="Arial"/>
              </a:rPr>
              <a:t>التقارير </a:t>
            </a:r>
            <a:r>
              <a:rPr b="1" lang="en-US" sz="36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Reports</a:t>
            </a:r>
            <a:r>
              <a:rPr b="1" lang="en-US" sz="3600" spc="-1" strike="noStrike">
                <a:solidFill>
                  <a:srgbClr val="b13f9a"/>
                </a:solidFill>
                <a:latin typeface="Franklin Gothic Book"/>
              </a:rPr>
              <a:t> </a:t>
            </a: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:</a:t>
            </a: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686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هي الطريقة الرسمية لعرض وطباعة البيانات التي تم استرجاعها من قاعدة البيانات 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ولا تسمح التقارير للمستخدم من تعديل بياناتها فهي فقط للقراءة والطباعة 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indent="0" algn="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cs typeface="Arial"/>
              </a:rPr>
              <a:t>أوجه الاختلاف بين التقارير و النماذج :</a:t>
            </a: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000" y="1447920"/>
            <a:ext cx="821844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لا يمكن استخدام التقارير لإدخال البيانات كما هو الحال في النماذج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الهدف من تصميم التقارير هو الحصول عليها مطبوعة على ورق ,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indent="0" algn="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  أما النماذج فهو اظهارها على الشاشه داخل نوافذ 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لا يمكن تعديل بيانات التقرير عند معاينة طباعته أو اظهاره أوبعد  طباعته  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indent="0" algn="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395280" y="1447920"/>
            <a:ext cx="829152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 algn="just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النماذج في قاعدة البيانات تشبه النماذج الورقية فهي تحتوي على خانات معنونة فارغة تعبأ بالبيانات من قبل المستخدم 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indent="0" algn="just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indent="0" algn="just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Title 4"/>
          <p:cNvSpPr/>
          <p:nvPr/>
        </p:nvSpPr>
        <p:spPr>
          <a:xfrm>
            <a:off x="395280" y="404640"/>
            <a:ext cx="8229600" cy="9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 النماذج </a:t>
            </a:r>
            <a:r>
              <a:rPr b="1" lang="en-US" sz="36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Forms</a:t>
            </a:r>
            <a:r>
              <a:rPr b="1" lang="en-US" sz="3600" spc="-1" strike="noStrike">
                <a:solidFill>
                  <a:srgbClr val="b13f9a"/>
                </a:solidFill>
                <a:latin typeface="Franklin Gothic Book"/>
              </a:rPr>
              <a:t> </a:t>
            </a: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2" name="Picture 4" descr="http://www.up-king.com/almaciat/7zvufyljepdw2nqo251y.jpg"/>
          <p:cNvPicPr/>
          <p:nvPr/>
        </p:nvPicPr>
        <p:blipFill>
          <a:blip r:embed="rId1"/>
          <a:srcRect l="6395" t="5096" r="8223" b="23630"/>
          <a:stretch/>
        </p:blipFill>
        <p:spPr>
          <a:xfrm>
            <a:off x="3463920" y="3343320"/>
            <a:ext cx="2465280" cy="30607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http://www.mars.com/canada/en/assets/images/center-contents/Application.jpg"/>
          <p:cNvPicPr/>
          <p:nvPr/>
        </p:nvPicPr>
        <p:blipFill>
          <a:blip r:embed="rId2"/>
          <a:stretch/>
        </p:blipFill>
        <p:spPr>
          <a:xfrm>
            <a:off x="6300720" y="3343320"/>
            <a:ext cx="2592360" cy="28098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http://www.tawdef.com/tahmel/uploads/9536b40099.gif"/>
          <p:cNvPicPr/>
          <p:nvPr/>
        </p:nvPicPr>
        <p:blipFill>
          <a:blip r:embed="rId3"/>
          <a:srcRect l="0" t="0" r="0" b="16336"/>
          <a:stretch/>
        </p:blipFill>
        <p:spPr>
          <a:xfrm>
            <a:off x="826920" y="3343320"/>
            <a:ext cx="222120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Perpetua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5" name="Slide Number Placeholder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AB3C-76E8-4640-B66A-63CEC60873D7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6" name="Title 4"/>
          <p:cNvSpPr/>
          <p:nvPr/>
        </p:nvSpPr>
        <p:spPr>
          <a:xfrm>
            <a:off x="611280" y="0"/>
            <a:ext cx="82296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 إنشاء تقرير باستخدام معالج التقارير 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17" name="صورة 3" descr="Microsoft Access - الجامعة : قاعدة بيانات (Access 2007)"/>
          <p:cNvPicPr/>
          <p:nvPr/>
        </p:nvPicPr>
        <p:blipFill>
          <a:blip r:embed="rId1"/>
          <a:stretch/>
        </p:blipFill>
        <p:spPr>
          <a:xfrm>
            <a:off x="0" y="968400"/>
            <a:ext cx="9144000" cy="5889600"/>
          </a:xfrm>
          <a:prstGeom prst="rect">
            <a:avLst/>
          </a:prstGeom>
          <a:ln w="0">
            <a:noFill/>
          </a:ln>
        </p:spPr>
      </p:pic>
      <p:pic>
        <p:nvPicPr>
          <p:cNvPr id="318" name="صورة 4" descr="معالج التقارير"/>
          <p:cNvPicPr/>
          <p:nvPr/>
        </p:nvPicPr>
        <p:blipFill>
          <a:blip r:embed="rId2"/>
          <a:stretch/>
        </p:blipFill>
        <p:spPr>
          <a:xfrm>
            <a:off x="2700360" y="2708280"/>
            <a:ext cx="4629240" cy="3459240"/>
          </a:xfrm>
          <a:prstGeom prst="rect">
            <a:avLst/>
          </a:prstGeom>
          <a:ln w="0">
            <a:noFill/>
          </a:ln>
        </p:spPr>
      </p:pic>
      <p:sp>
        <p:nvSpPr>
          <p:cNvPr id="319" name="TextBox 4"/>
          <p:cNvSpPr/>
          <p:nvPr/>
        </p:nvSpPr>
        <p:spPr>
          <a:xfrm>
            <a:off x="179280" y="2708280"/>
            <a:ext cx="2376720" cy="3933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- يمكن إنشاء تقرير من استعلام أو جدول أو من جدولين بينهما علاقة واختيار الحقول المطلوبة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عنصر نائب للتذييل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Perpetua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1" name="عنصر نائب لرقم الشريحة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4B6F-CEDC-48C0-BF28-3212FE1FA5A8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22" name="صورة 3" descr="Microsoft Access - الجامعة : قاعدة بيانات (Access 2007)"/>
          <p:cNvPicPr/>
          <p:nvPr/>
        </p:nvPicPr>
        <p:blipFill>
          <a:blip r:embed="rId1"/>
          <a:stretch/>
        </p:blipFill>
        <p:spPr>
          <a:xfrm>
            <a:off x="0" y="968400"/>
            <a:ext cx="9144000" cy="5889600"/>
          </a:xfrm>
          <a:prstGeom prst="rect">
            <a:avLst/>
          </a:prstGeom>
          <a:ln w="0">
            <a:noFill/>
          </a:ln>
        </p:spPr>
      </p:pic>
      <p:pic>
        <p:nvPicPr>
          <p:cNvPr id="323" name="صورة 4" descr="معالج التقارير"/>
          <p:cNvPicPr/>
          <p:nvPr/>
        </p:nvPicPr>
        <p:blipFill>
          <a:blip r:embed="rId2"/>
          <a:stretch/>
        </p:blipFill>
        <p:spPr>
          <a:xfrm>
            <a:off x="2700360" y="2708280"/>
            <a:ext cx="4629240" cy="3459240"/>
          </a:xfrm>
          <a:prstGeom prst="rect">
            <a:avLst/>
          </a:prstGeom>
          <a:ln w="0">
            <a:noFill/>
          </a:ln>
        </p:spPr>
      </p:pic>
      <p:sp>
        <p:nvSpPr>
          <p:cNvPr id="324" name="Title 4"/>
          <p:cNvSpPr/>
          <p:nvPr/>
        </p:nvSpPr>
        <p:spPr>
          <a:xfrm>
            <a:off x="611280" y="0"/>
            <a:ext cx="82296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 إنشاء تقرير باستخدام معالج التقارير 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5" name="TextBox 4"/>
          <p:cNvSpPr/>
          <p:nvPr/>
        </p:nvSpPr>
        <p:spPr>
          <a:xfrm>
            <a:off x="179280" y="2708280"/>
            <a:ext cx="2376720" cy="1373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- اختيار طريقة التجميع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عنصر نائب للتذييل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Perpetua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7" name="عنصر نائب لرقم الشريحة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071F-82C6-44F7-A353-2ADF3729C4DD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8" name="Title 4"/>
          <p:cNvSpPr/>
          <p:nvPr/>
        </p:nvSpPr>
        <p:spPr>
          <a:xfrm>
            <a:off x="611280" y="0"/>
            <a:ext cx="82296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 إنشاء تقرير باستخدام معالج التقارير 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29" name="صورة 7" descr="Microsoft Access - الجامعة : قاعدة بيانات (Access 2007)"/>
          <p:cNvPicPr/>
          <p:nvPr/>
        </p:nvPicPr>
        <p:blipFill>
          <a:blip r:embed="rId1"/>
          <a:stretch/>
        </p:blipFill>
        <p:spPr>
          <a:xfrm>
            <a:off x="0" y="968400"/>
            <a:ext cx="9144000" cy="5889600"/>
          </a:xfrm>
          <a:prstGeom prst="rect">
            <a:avLst/>
          </a:prstGeom>
          <a:ln w="0">
            <a:noFill/>
          </a:ln>
        </p:spPr>
      </p:pic>
      <p:sp>
        <p:nvSpPr>
          <p:cNvPr id="330" name="TextBox 4"/>
          <p:cNvSpPr/>
          <p:nvPr/>
        </p:nvSpPr>
        <p:spPr>
          <a:xfrm>
            <a:off x="179280" y="2708280"/>
            <a:ext cx="2376720" cy="1373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- اختيار طريقة فرز السجلات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31" name="صورة 8" descr="معالج التقارير"/>
          <p:cNvPicPr/>
          <p:nvPr/>
        </p:nvPicPr>
        <p:blipFill>
          <a:blip r:embed="rId2"/>
          <a:stretch/>
        </p:blipFill>
        <p:spPr>
          <a:xfrm>
            <a:off x="2771640" y="2708280"/>
            <a:ext cx="46292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عنصر نائب للتذييل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Perpetua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3" name="عنصر نائب لرقم الشريحة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0A99-64C9-4F19-A9DF-C8EEB2405DD6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4" name="Title 4"/>
          <p:cNvSpPr/>
          <p:nvPr/>
        </p:nvSpPr>
        <p:spPr>
          <a:xfrm>
            <a:off x="611280" y="0"/>
            <a:ext cx="82296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 إنشاء تقرير باستخدام معالج التقارير 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35" name="صورة 3" descr="Microsoft Access - الجامعة : قاعدة بيانات (Access 2007)"/>
          <p:cNvPicPr/>
          <p:nvPr/>
        </p:nvPicPr>
        <p:blipFill>
          <a:blip r:embed="rId1"/>
          <a:stretch/>
        </p:blipFill>
        <p:spPr>
          <a:xfrm>
            <a:off x="0" y="968400"/>
            <a:ext cx="9144000" cy="5889600"/>
          </a:xfrm>
          <a:prstGeom prst="rect">
            <a:avLst/>
          </a:prstGeom>
          <a:ln w="0">
            <a:noFill/>
          </a:ln>
        </p:spPr>
      </p:pic>
      <p:sp>
        <p:nvSpPr>
          <p:cNvPr id="336" name="TextBox 4"/>
          <p:cNvSpPr/>
          <p:nvPr/>
        </p:nvSpPr>
        <p:spPr>
          <a:xfrm>
            <a:off x="179280" y="2708280"/>
            <a:ext cx="2376720" cy="180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- اختيار طريقة التخطيط والاتجاه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37" name="صورة 4" descr="معالج التقارير"/>
          <p:cNvPicPr/>
          <p:nvPr/>
        </p:nvPicPr>
        <p:blipFill>
          <a:blip r:embed="rId2"/>
          <a:stretch/>
        </p:blipFill>
        <p:spPr>
          <a:xfrm>
            <a:off x="2700360" y="2644920"/>
            <a:ext cx="46292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عنصر نائب للتذييل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Perpetua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9" name="عنصر نائب لرقم الشريحة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0D99-7B17-4A1C-84BE-8AD6AB9B55CB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0" name="Title 4"/>
          <p:cNvSpPr/>
          <p:nvPr/>
        </p:nvSpPr>
        <p:spPr>
          <a:xfrm>
            <a:off x="611280" y="0"/>
            <a:ext cx="82296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 إنشاء تقرير باستخدام معالج التقارير 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41" name="صورة 7" descr="Microsoft Access - الجامعة : قاعدة بيانات (Access 2007)"/>
          <p:cNvPicPr/>
          <p:nvPr/>
        </p:nvPicPr>
        <p:blipFill>
          <a:blip r:embed="rId1"/>
          <a:stretch/>
        </p:blipFill>
        <p:spPr>
          <a:xfrm>
            <a:off x="0" y="968400"/>
            <a:ext cx="9144000" cy="5889600"/>
          </a:xfrm>
          <a:prstGeom prst="rect">
            <a:avLst/>
          </a:prstGeom>
          <a:ln w="0">
            <a:noFill/>
          </a:ln>
        </p:spPr>
      </p:pic>
      <p:sp>
        <p:nvSpPr>
          <p:cNvPr id="342" name="TextBox 4"/>
          <p:cNvSpPr/>
          <p:nvPr/>
        </p:nvSpPr>
        <p:spPr>
          <a:xfrm>
            <a:off x="179280" y="2708280"/>
            <a:ext cx="2376720" cy="2226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5</a:t>
            </a: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- تسمية التقرير واختيار فتحه أو التعديل على تصميمه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43" name="صورة 8" descr="معالج التقارير"/>
          <p:cNvPicPr/>
          <p:nvPr/>
        </p:nvPicPr>
        <p:blipFill>
          <a:blip r:embed="rId2"/>
          <a:stretch/>
        </p:blipFill>
        <p:spPr>
          <a:xfrm>
            <a:off x="2771640" y="2708280"/>
            <a:ext cx="462924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ooter Placeholder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Perpetua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5" name="Slide Number Placeholder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DF04-77AE-4DD4-9607-20A5BA7DCC26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6" name="Title 4"/>
          <p:cNvSpPr/>
          <p:nvPr/>
        </p:nvSpPr>
        <p:spPr>
          <a:xfrm>
            <a:off x="611280" y="0"/>
            <a:ext cx="82296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 فتح التقرير  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47" name="صورة 5" descr="Microsoft Access - الجامعة : قاعدة بيانات (Access 2007)"/>
          <p:cNvPicPr/>
          <p:nvPr/>
        </p:nvPicPr>
        <p:blipFill>
          <a:blip r:embed="rId1"/>
          <a:stretch/>
        </p:blipFill>
        <p:spPr>
          <a:xfrm>
            <a:off x="0" y="968400"/>
            <a:ext cx="9144000" cy="59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عنصر نائب للتذييل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Perpetua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9" name="عنصر نائب لرقم الشريحة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84F2-5812-4979-9A1C-AE123EB0234B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0" name="Title 4"/>
          <p:cNvSpPr/>
          <p:nvPr/>
        </p:nvSpPr>
        <p:spPr>
          <a:xfrm>
            <a:off x="611280" y="0"/>
            <a:ext cx="82296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 تعديل تصميم التقرير وإعدادات الصفحة للطباعة 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51" name="صورة 5" descr="Microsoft Access - الجامعة : قاعدة بيانات (Access 2007)"/>
          <p:cNvPicPr/>
          <p:nvPr/>
        </p:nvPicPr>
        <p:blipFill>
          <a:blip r:embed="rId1"/>
          <a:stretch/>
        </p:blipFill>
        <p:spPr>
          <a:xfrm>
            <a:off x="0" y="968400"/>
            <a:ext cx="9144000" cy="5989680"/>
          </a:xfrm>
          <a:prstGeom prst="rect">
            <a:avLst/>
          </a:prstGeom>
          <a:ln w="0">
            <a:noFill/>
          </a:ln>
        </p:spPr>
      </p:pic>
      <p:pic>
        <p:nvPicPr>
          <p:cNvPr id="352" name="صورة 6" descr="أرقام الصفحات"/>
          <p:cNvPicPr/>
          <p:nvPr/>
        </p:nvPicPr>
        <p:blipFill>
          <a:blip r:embed="rId2"/>
          <a:stretch/>
        </p:blipFill>
        <p:spPr>
          <a:xfrm>
            <a:off x="4859280" y="4581360"/>
            <a:ext cx="2457360" cy="2022480"/>
          </a:xfrm>
          <a:prstGeom prst="rect">
            <a:avLst/>
          </a:prstGeom>
          <a:ln w="0">
            <a:noFill/>
          </a:ln>
        </p:spPr>
      </p:pic>
      <p:sp>
        <p:nvSpPr>
          <p:cNvPr id="353" name="TextBox 4"/>
          <p:cNvSpPr/>
          <p:nvPr/>
        </p:nvSpPr>
        <p:spPr>
          <a:xfrm>
            <a:off x="1368360" y="4684680"/>
            <a:ext cx="2374920" cy="2226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ترتيب الحقول وتنسيقها و إضافة ارقام الصفحات 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Footer Placeholder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Perpetua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A4D7-BC22-4EA1-ABE3-36F5B9E5E8F1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00360" y="1557000"/>
            <a:ext cx="3898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Franklin Gothic Book"/>
              </a:rPr>
              <a:t>انتهى بحمد الله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539280" y="1447560"/>
            <a:ext cx="8496360" cy="46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 algn="just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buClr>
                <a:srgbClr val="b83d68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 تستخدم النماذج كطريقة ثانية لإدخال البيانات في الجداول , وتعتبر طريقة سهلة لإدخال البيانات على شكل سجل واحد في كل مرة بدلاً من إدخالها في شبكة من الأعمدة و الصفوف 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indent="0" algn="just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indent="0" algn="just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b83d68"/>
                </a:solidFill>
                <a:latin typeface="Perpetua"/>
              </a:rPr>
              <a:t> النموذج هو واجهة لحقول الجدول ويسري عليه كل ما تم فرضه على الحقول من حيث الخصائص وأنواع البيانات 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indent="0" algn="just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6" name="Title 4"/>
          <p:cNvSpPr/>
          <p:nvPr/>
        </p:nvSpPr>
        <p:spPr>
          <a:xfrm>
            <a:off x="395280" y="404640"/>
            <a:ext cx="8229600" cy="9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 النماذج </a:t>
            </a:r>
            <a:r>
              <a:rPr b="1" lang="en-US" sz="36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Forms</a:t>
            </a:r>
            <a:r>
              <a:rPr b="1" lang="en-US" sz="36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 </a:t>
            </a: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buClr>
                <a:srgbClr val="b83d68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Perpetua"/>
              </a:rPr>
              <a:t>يمكن أن يقلل النموذج من أخطاء إدخال البيانات .</a:t>
            </a:r>
            <a:endParaRPr b="0" lang="en-US" sz="34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buClr>
                <a:srgbClr val="b83d68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Perpetua"/>
              </a:rPr>
              <a:t>يمكن أن يحتوي النموذج على حقول من عدة جداول بشرط أن يكون بينهما علاقة .</a:t>
            </a:r>
            <a:endParaRPr b="0" lang="en-US" sz="34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buClr>
                <a:srgbClr val="b83d68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Perpetua"/>
              </a:rPr>
              <a:t>يجب أن يرتبط النموذج بجدول واحد على الأقل. </a:t>
            </a:r>
            <a:endParaRPr b="0" lang="en-US" sz="3400" spc="-1" strike="noStrike">
              <a:solidFill>
                <a:srgbClr val="000000"/>
              </a:solidFill>
              <a:latin typeface="Perpetua"/>
            </a:endParaRPr>
          </a:p>
          <a:p>
            <a:pPr indent="0" algn="just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indent="0" algn="just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8" name="Title 4"/>
          <p:cNvSpPr/>
          <p:nvPr/>
        </p:nvSpPr>
        <p:spPr>
          <a:xfrm>
            <a:off x="395280" y="404640"/>
            <a:ext cx="8229600" cy="9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 مزايا أستخدام النماذج لإدخال البيانات 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Perpetua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Slide Number Placeholder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F4D8-7851-4A39-9BD6-DA9128068241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1" name="صورة 3" descr="Microsoft Access - الجامعة : قاعدة بيانات (Access 2007)"/>
          <p:cNvPicPr/>
          <p:nvPr/>
        </p:nvPicPr>
        <p:blipFill>
          <a:blip r:embed="rId1"/>
          <a:stretch/>
        </p:blipFill>
        <p:spPr>
          <a:xfrm>
            <a:off x="0" y="965160"/>
            <a:ext cx="9144000" cy="5892840"/>
          </a:xfrm>
          <a:prstGeom prst="rect">
            <a:avLst/>
          </a:prstGeom>
          <a:ln w="0">
            <a:noFill/>
          </a:ln>
        </p:spPr>
      </p:pic>
      <p:sp>
        <p:nvSpPr>
          <p:cNvPr id="252" name="Title 4"/>
          <p:cNvSpPr/>
          <p:nvPr/>
        </p:nvSpPr>
        <p:spPr>
          <a:xfrm>
            <a:off x="611280" y="0"/>
            <a:ext cx="82296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 إنشاء نموذج باستخدام معالج النماذج 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3" name="صورة 6" descr="معالج النماذج"/>
          <p:cNvPicPr/>
          <p:nvPr/>
        </p:nvPicPr>
        <p:blipFill>
          <a:blip r:embed="rId2"/>
          <a:stretch/>
        </p:blipFill>
        <p:spPr>
          <a:xfrm>
            <a:off x="2700360" y="2492280"/>
            <a:ext cx="4629240" cy="3459240"/>
          </a:xfrm>
          <a:prstGeom prst="rect">
            <a:avLst/>
          </a:prstGeom>
          <a:ln w="0">
            <a:noFill/>
          </a:ln>
        </p:spPr>
      </p:pic>
      <p:sp>
        <p:nvSpPr>
          <p:cNvPr id="254" name="TextBox 4"/>
          <p:cNvSpPr/>
          <p:nvPr/>
        </p:nvSpPr>
        <p:spPr>
          <a:xfrm>
            <a:off x="179280" y="2708280"/>
            <a:ext cx="2376720" cy="3933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- يمكن إنشاء نموذج من جدول واحد أو من جدولين بينهما علاقة واختيار الحقول المطلوبة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Perpetua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Slide Number Placeholder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A440-E57C-4547-BBE4-CF5A291B3D26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7" name="صورة 3" descr="Microsoft Access - الجامعة : قاعدة بيانات (Access 2007)"/>
          <p:cNvPicPr/>
          <p:nvPr/>
        </p:nvPicPr>
        <p:blipFill>
          <a:blip r:embed="rId1"/>
          <a:stretch/>
        </p:blipFill>
        <p:spPr>
          <a:xfrm>
            <a:off x="0" y="968400"/>
            <a:ext cx="9144000" cy="5889600"/>
          </a:xfrm>
          <a:prstGeom prst="rect">
            <a:avLst/>
          </a:prstGeom>
          <a:ln w="0">
            <a:noFill/>
          </a:ln>
        </p:spPr>
      </p:pic>
      <p:pic>
        <p:nvPicPr>
          <p:cNvPr id="258" name="صورة 6" descr="معالج النماذج"/>
          <p:cNvPicPr/>
          <p:nvPr/>
        </p:nvPicPr>
        <p:blipFill>
          <a:blip r:embed="rId2"/>
          <a:stretch/>
        </p:blipFill>
        <p:spPr>
          <a:xfrm>
            <a:off x="2700360" y="2492280"/>
            <a:ext cx="4629240" cy="3459240"/>
          </a:xfrm>
          <a:prstGeom prst="rect">
            <a:avLst/>
          </a:prstGeom>
          <a:ln w="0">
            <a:noFill/>
          </a:ln>
        </p:spPr>
      </p:pic>
      <p:sp>
        <p:nvSpPr>
          <p:cNvPr id="259" name="Title 4"/>
          <p:cNvSpPr/>
          <p:nvPr/>
        </p:nvSpPr>
        <p:spPr>
          <a:xfrm>
            <a:off x="611280" y="0"/>
            <a:ext cx="82296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 إنشاء نموذج باستخدام معالج النماذج 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0" name="TextBox 4"/>
          <p:cNvSpPr/>
          <p:nvPr/>
        </p:nvSpPr>
        <p:spPr>
          <a:xfrm>
            <a:off x="179280" y="2708280"/>
            <a:ext cx="2376720" cy="94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- اختيار نوع التخطيط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عنصر نائب للتذييل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Perpetua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عنصر نائب لرقم الشريحة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86DC-0537-4E5D-8575-6EB9C4771969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3" name="صورة 3" descr="Microsoft Access - الجامعة : قاعدة بيانات (Access 2007)"/>
          <p:cNvPicPr/>
          <p:nvPr/>
        </p:nvPicPr>
        <p:blipFill>
          <a:blip r:embed="rId1"/>
          <a:stretch/>
        </p:blipFill>
        <p:spPr>
          <a:xfrm>
            <a:off x="0" y="968400"/>
            <a:ext cx="9144000" cy="5889600"/>
          </a:xfrm>
          <a:prstGeom prst="rect">
            <a:avLst/>
          </a:prstGeom>
          <a:ln w="0">
            <a:noFill/>
          </a:ln>
        </p:spPr>
      </p:pic>
      <p:pic>
        <p:nvPicPr>
          <p:cNvPr id="264" name="صورة 4" descr="معالج النماذج"/>
          <p:cNvPicPr/>
          <p:nvPr/>
        </p:nvPicPr>
        <p:blipFill>
          <a:blip r:embed="rId2"/>
          <a:stretch/>
        </p:blipFill>
        <p:spPr>
          <a:xfrm>
            <a:off x="2700360" y="2492280"/>
            <a:ext cx="4629240" cy="3459240"/>
          </a:xfrm>
          <a:prstGeom prst="rect">
            <a:avLst/>
          </a:prstGeom>
          <a:ln w="0">
            <a:noFill/>
          </a:ln>
        </p:spPr>
      </p:pic>
      <p:sp>
        <p:nvSpPr>
          <p:cNvPr id="265" name="Title 4"/>
          <p:cNvSpPr/>
          <p:nvPr/>
        </p:nvSpPr>
        <p:spPr>
          <a:xfrm>
            <a:off x="611280" y="0"/>
            <a:ext cx="82296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 إنشاء نموذج باستخدام معالج النماذج 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TextBox 4"/>
          <p:cNvSpPr/>
          <p:nvPr/>
        </p:nvSpPr>
        <p:spPr>
          <a:xfrm>
            <a:off x="179280" y="2708280"/>
            <a:ext cx="2376720" cy="2653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- تسمية النموذج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واختيار فتح النموذج أو تعديل تصميمه 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عنصر نائب للتذييل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Perpetua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عنصر نائب لرقم الشريحة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2C89-2D8E-4990-AC62-C1478A41D062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9" name="صورة 3" descr="Microsoft Access - الجامعة : قاعدة بيانات (Access 2007)"/>
          <p:cNvPicPr/>
          <p:nvPr/>
        </p:nvPicPr>
        <p:blipFill>
          <a:blip r:embed="rId1"/>
          <a:stretch/>
        </p:blipFill>
        <p:spPr>
          <a:xfrm>
            <a:off x="0" y="968400"/>
            <a:ext cx="9144000" cy="5889600"/>
          </a:xfrm>
          <a:prstGeom prst="rect">
            <a:avLst/>
          </a:prstGeom>
          <a:ln w="0">
            <a:noFill/>
          </a:ln>
        </p:spPr>
      </p:pic>
      <p:sp>
        <p:nvSpPr>
          <p:cNvPr id="270" name="Title 4"/>
          <p:cNvSpPr/>
          <p:nvPr/>
        </p:nvSpPr>
        <p:spPr>
          <a:xfrm>
            <a:off x="611280" y="0"/>
            <a:ext cx="82296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cs typeface="Arial"/>
              </a:rPr>
              <a:t>فتح النموذج 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عنصر نائب للتذييل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Perpetua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2" name="عنصر نائب لرقم الشريحة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FE49-16F1-4FB7-90A7-4981512677D0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3" name="Title 4"/>
          <p:cNvSpPr/>
          <p:nvPr/>
        </p:nvSpPr>
        <p:spPr>
          <a:xfrm>
            <a:off x="611280" y="0"/>
            <a:ext cx="82296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 تعديل تصميم النموذج  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4" name="صورة 5" descr="Microsoft Access - الجامعة : قاعدة بيانات (Access 2007)"/>
          <p:cNvPicPr/>
          <p:nvPr/>
        </p:nvPicPr>
        <p:blipFill>
          <a:blip r:embed="rId1"/>
          <a:stretch/>
        </p:blipFill>
        <p:spPr>
          <a:xfrm>
            <a:off x="0" y="968400"/>
            <a:ext cx="9144000" cy="5889600"/>
          </a:xfrm>
          <a:prstGeom prst="rect">
            <a:avLst/>
          </a:prstGeom>
          <a:ln w="0">
            <a:noFill/>
          </a:ln>
        </p:spPr>
      </p:pic>
      <p:pic>
        <p:nvPicPr>
          <p:cNvPr id="275" name="صورة 6" descr="التاريخ والوقت"/>
          <p:cNvPicPr/>
          <p:nvPr/>
        </p:nvPicPr>
        <p:blipFill>
          <a:blip r:embed="rId2"/>
          <a:stretch/>
        </p:blipFill>
        <p:spPr>
          <a:xfrm>
            <a:off x="4506840" y="2662200"/>
            <a:ext cx="2629080" cy="2962440"/>
          </a:xfrm>
          <a:prstGeom prst="rect">
            <a:avLst/>
          </a:prstGeom>
          <a:ln w="0">
            <a:noFill/>
          </a:ln>
        </p:spPr>
      </p:pic>
      <p:sp>
        <p:nvSpPr>
          <p:cNvPr id="276" name="TextBox 4"/>
          <p:cNvSpPr/>
          <p:nvPr/>
        </p:nvSpPr>
        <p:spPr>
          <a:xfrm>
            <a:off x="900000" y="5600880"/>
            <a:ext cx="3456000" cy="94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- إدراج التاريخ والوقت 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14:49:28Z</dcterms:created>
  <dc:creator>user</dc:creator>
  <dc:description/>
  <dc:language>en-US</dc:language>
  <cp:lastModifiedBy>User</cp:lastModifiedBy>
  <dcterms:modified xsi:type="dcterms:W3CDTF">2016-03-24T05:32:53Z</dcterms:modified>
  <cp:revision>133</cp:revision>
  <dc:subject/>
  <dc:title>عرض تقديمي في PowerPoint</dc:title>
</cp:coreProperties>
</file>