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8D3-9647-4AC2-B4A0-7A687633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888-30ED-42C9-8AC8-408A6832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949-FB0A-4786-92B3-E13B35CD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197-F8C9-4CA3-AF4F-88C7782E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8F3E-F1CD-4509-B252-55DEEAA7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085C-34E7-4418-8226-3683FDCE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1DA3-C014-40B9-9B7D-BF82DFE5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352F-17AE-426E-879E-40227EB2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0C27-B90F-4677-B81C-B141B24D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D62D-48B5-4FA3-9F91-FE6F252B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9166-4692-40DE-B70A-2180EA55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F97-8AD8-4C5F-ACEF-B465F7D8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BCF4-9A84-428F-BCD3-2E1E4212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5DA0-974F-48CC-9B84-EE9B3DFC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63A9-C022-4068-8393-FD9A5432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CC85-5F14-42B1-9C2A-6EE2F8AD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F51F-E76D-484C-AFDC-9C4FC09A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D503A-5BF0-4A86-9F8C-7E1A4B37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1E762-308B-4213-831F-F0DBB9D7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3B42B-7200-488C-9014-F8E91ED4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A61F0-4750-4CB1-8B2D-B49E47EF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36445-D8AE-4AFD-8355-21A5AB8B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ACA-0AE9-4EAD-95F7-D2DA4E43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178D6-D825-49DC-B8CB-78A5CBD7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4E6EE-CDD6-4B5E-A94E-CF875306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9AD10-CBE5-48D1-9425-E8B9F0A9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0681-4F8B-4AA4-9FA9-1D886779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B783-24CD-43C9-98FE-5DA01334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E4F54-028F-492E-BADA-950969D3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9EB09-284E-4F0A-A4A7-6B513E3B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47AEE-F3B8-46CC-9CC3-6E7D2C9E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323B6-DF96-473B-AB9C-3EA193D7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B4D27-279F-4FB0-BF00-00F0F917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0B9-B00D-4C13-8787-C82CD002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D8993-E731-4551-884B-57491B0E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9F262-74F4-47AE-AB26-C350FD04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0E078-7592-46C6-A70B-0AAB03CD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950A3-544B-42F5-9FD2-B751531B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4252A-3295-443F-ACD7-8826A31C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29AE4-6003-46B0-98AF-FC296997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1F68F-A1AC-4BEF-9E60-06E02E55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34754-CBC0-42B3-9316-6429F9B0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F5B9E-DB95-45EF-9D3E-83A61DB2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962-1AD2-4E21-A3F7-C3D4E230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317-8A69-4DE4-AA58-4B904C94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350-554C-45C3-AAC2-DADF0180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74C-01DF-4338-BFC9-5F6F7551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A3F-57A6-4C9C-BA0C-5F7042D3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68B9-8E38-4F84-9D60-3D5D2B708231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0E63-6F5B-45BC-9D0F-EC75C90F55AC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BF14-480C-4084-82F0-83BE5B55D25B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C99D-88A5-4ECF-802D-13ED104CAB6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116000" y="5661000"/>
            <a:ext cx="69850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90560" y="5950080"/>
            <a:ext cx="583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         1438-143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116000" y="1052640"/>
            <a:ext cx="69850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quatic Ecology – Zoo 374     2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C:\Users\hp\Desktop\صور بيئات مائية\MLH_7_Carswell.jpg"/>
          <p:cNvPicPr/>
          <p:nvPr/>
        </p:nvPicPr>
        <p:blipFill>
          <a:blip r:embed="rId1"/>
          <a:stretch/>
        </p:blipFill>
        <p:spPr>
          <a:xfrm>
            <a:off x="4572000" y="2133720"/>
            <a:ext cx="4152960" cy="3382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C:\Users\hp\Desktop\صور بيئات مائية\maxresdefault (1).jpg"/>
          <p:cNvPicPr/>
          <p:nvPr/>
        </p:nvPicPr>
        <p:blipFill>
          <a:blip r:embed="rId2"/>
          <a:stretch/>
        </p:blipFill>
        <p:spPr>
          <a:xfrm>
            <a:off x="395280" y="2133720"/>
            <a:ext cx="4105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rine Environment (Habitat) </a:t>
            </a:r>
            <a:r>
              <a:rPr b="1" lang="ar-SA" sz="2800" spc="-1" strike="noStrike">
                <a:solidFill>
                  <a:srgbClr val="0000ff"/>
                </a:solidFill>
                <a:latin typeface="Stencil"/>
                <a:cs typeface="Arial Unicode MS"/>
              </a:rPr>
              <a:t>البيئة البحرية</a:t>
            </a: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528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4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</a:t>
            </a:r>
            <a:r>
              <a:rPr b="1" lang="ar-SA" sz="2200" spc="-1" strike="noStrike">
                <a:solidFill>
                  <a:srgbClr val="c00000"/>
                </a:solidFill>
                <a:latin typeface="Stencil"/>
                <a:cs typeface="Arial Unicode MS"/>
              </a:rPr>
              <a:t>المنطقة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Stencil"/>
                <a:cs typeface="Arial Unicode MS"/>
              </a:rPr>
              <a:t>القاعية   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Benthic zone</a:t>
            </a:r>
            <a:r>
              <a:rPr b="1" lang="en-US" sz="2200" spc="-1" strike="noStrike">
                <a:solidFill>
                  <a:srgbClr val="c00000"/>
                </a:solidFill>
                <a:latin typeface="Stencil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يمكن تقسيم المنطقة القاعية إلى منطقتين متميزتين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  أ-</a:t>
            </a:r>
            <a:r>
              <a:rPr b="1" lang="ar-SA" sz="18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Subnerit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: هى المنطقة القاعية الممتدة من الساحل حتى عمق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 ب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Suboceanic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هى المنطقة القاعية التي تقع على عمق يزيد ع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أهم خصائص المنطقة القاعية </a:t>
            </a:r>
            <a:r>
              <a:rPr b="0" lang="ar-SA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تباين العوامل البيئية مثل الحرارة والملوحة والإضاءة وحركة الماء أقل بكثير من الطبقات السطح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ـ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كلما إزداد العمق كلما إزداد ثبات العوامل البيئ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بعد عمة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م لايوجد تأثير للتغيرات الموسمية على البيئ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تتوفر في البيئة القاعية العديد من أماكن المعيشة وذلك للإختلاف الكبير في طبيعة قاع البحار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والمحيطات والذي يتأثر بعدة عوامل ( سرعة التيارات القاعية ـ العمق – القرب من اليابسة والصف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جيولوجية للشاطىء ـ المواد العالقة في طبقة المياه فوق القاع ـ نوع تجمعات الكائنات الحية القاعية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50920" y="836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Stencil"/>
                <a:cs typeface="Times New Roman"/>
              </a:rPr>
              <a:t>كائنات المنطقة القاعية</a:t>
            </a:r>
            <a:r>
              <a:rPr b="0" lang="ar-SA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يمكن تقسيم كائنات المنطقة القاعية إلى مجموعتين رئيسيتين هما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Times New Roman"/>
              </a:rPr>
              <a:t>أ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Times New Roman"/>
              </a:rPr>
              <a:t>الكائنات التي تعيش على القا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Times New Roman"/>
              </a:rPr>
              <a:t>ب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Times New Roman"/>
              </a:rPr>
              <a:t>الكائنات التي تعيش قرب القا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Times New Roman"/>
              </a:rPr>
              <a:t>                                       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Times New Roman"/>
              </a:rPr>
              <a:t>أ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Times New Roman"/>
              </a:rPr>
              <a:t>الكائنات التي تعيش على القا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تشمل كلاً من 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طحالب : ( الخضراء ـ الخضراء المزرقة ـ الحمراء ـ البنية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ـ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بكتريا : توجد في الرواسب وعلى مختلف الأعماق في البحار والمحيطات وهي المسؤولة الرئيسية عن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تحلل المواد العضوية ( هل تشبه بكتريا المياه الضحلة أم تختلف عنها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؟؟؟؟؟؟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أوليات : تشبه أوليات المياه الضحلة ومن أهمها مجموعة الهدبيات والأميبيات ومن أشهر الأميبي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النوع المعروف بـ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Xenophyophor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مجموعة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eiofaun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( مجموعة من اللافقاريات القاعية الصغيرة مثل الديدان الخيطية حرة المعيش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وأنواع من القشريات مجدافية الأرجل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pepod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يوانات القاعية : تشمل كلاً من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أنواع من الأسفنج من أشهرها الأسفنج الزجاجي ـ الزهريات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nthozo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ثل شقائق النعمان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nem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عظع أنواع الرخو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قشريات : لكنها أقل مما عليه في المياه الضحلة ومن أهمها مجموعة متساوية الأرجل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mphipo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أما السرطانات فلا تتواجد في أعماق تزيد ع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43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 بينما الروبيان فلا يتواجد في أعماق تزيد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60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Times New Roman"/>
              </a:rPr>
              <a:t>ب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Times New Roman"/>
              </a:rPr>
              <a:t>الكائنات التي تعيش قرب القا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شمل كلاً من 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ائمات الحيوانية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Zooplankton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تواجد بنسبة قليلة جدا في المناطق العميقة من البحار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المحيطات ومن أهمها أنواع من الميدوزا ( الجوفمعويات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oelentera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 والتي تتميز بألوانها اللآمعة والمضيئ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كذلك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قشريات مجدافية الأرجل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pepod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والتى تتميز بكبر حجمها مقارنة بمثيلاتها في المياه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المضيئ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ائنات السابحة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Nekt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الأسماك وخاصة القوابع والمفلطحات ورتبة الأسماك الصائد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Lophiform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ـ أنواع من القشريات كالروبيان 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من رأسية القدم كالحبار والأخطبوط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2-16T12:38:41Z</dcterms:modified>
  <cp:revision>259</cp:revision>
  <dc:subject/>
  <dc:title>Principals of General Zoology (Zoo-103)</dc:title>
</cp:coreProperties>
</file>