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159-838D-4607-9C5A-AD7DA4EA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653-6D06-4E3E-A998-D53CB8E1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130-0E8F-43A4-A704-9CA55AAD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DBA-34F8-4407-97F0-4914CC1C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6F83-844F-4AC3-9F70-956AB797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0711-83AA-43F7-BB75-08218AFC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C02E-79D6-4D5D-9AED-D9A0DC9F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23E5-0FB3-4656-AE5B-22C2E7CC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5454-9420-465A-AEFC-E769F2E2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4FB4-6445-4AB7-8994-96FE09E7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9683-DA08-4CE2-8591-A389513E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141-1054-425E-92C5-39B1D89F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3195-190A-4E85-AC37-A4672E7A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A513-7547-4674-8A45-1396099F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D1CB-7459-4F85-A0D7-D9EED170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9CEB-FD24-4CD1-A1D1-154CB013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DD4D-EBA0-4ACB-9E13-CDE07F3E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D178-1049-4172-BD19-270B304C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3CFC3-B6DB-46E0-8E47-AB72C4C3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AB09E-AE42-4984-9E56-2F0D705C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63C28-4495-452D-AB45-25577E2A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D67F-AF35-42D9-84BB-5B9DC216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A67-B360-4145-816F-98FD7DB0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3C87-704B-417F-BCBC-89AC4533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3F513-799D-4810-9EB5-1F6F52A6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6BB4-4490-461A-B1F4-8837A1BE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C31F9-EE1C-4A8E-BE70-C7B4C2B7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B485-F15C-4A98-B4F0-206464ED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4087F-79E0-4CB2-9127-F190FC1F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6556A-7DDB-4F56-8766-0670B072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11F23-B391-4416-ABDE-DAECF1A4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10851-CFDD-4AD5-8053-4766DEE9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13867-1B84-486F-81EB-251622A8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577-A0E6-4B70-8E36-AADF4EC7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7E07F-6B10-40AF-B7D8-10B8A4C3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E2109-F280-42DA-B767-8C0118C6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DC9EE-70F5-4224-AAEC-AA55A4FB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BA9F0-834F-4E0B-9C49-9D88B92B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F10F8-3150-4E55-9A30-3DADA968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92508-F014-4FF9-B8DF-68E82AF1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B9256-77BF-42C2-848D-4E742F19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61B1-B855-4F3E-8E00-A8A9A53B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C747-8437-48E2-9BA4-4D3564BF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5DE-F4CD-46BD-853C-866E446A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93F-68AA-48BB-9750-556629F4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D09-83F4-46D8-B5D3-2A55C1BD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14A-A0F5-4CAD-B8E3-972546A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AF9-2C3C-4925-AC91-648A736C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E73D-14FB-4D1F-9E98-AB4766607B22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96F5-53B8-4E92-87BD-767159F2AEE1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AB82-DA93-49EA-B643-E4281B36D581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60D3-491C-44D2-A857-5616EA077DAB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C:\Users\hp\Desktop\صور بيئات مائية\MLH_7_Carswell.jpg"/>
          <p:cNvPicPr/>
          <p:nvPr/>
        </p:nvPicPr>
        <p:blipFill>
          <a:blip r:embed="rId1"/>
          <a:stretch/>
        </p:blipFill>
        <p:spPr>
          <a:xfrm>
            <a:off x="4572000" y="2133720"/>
            <a:ext cx="4152960" cy="3382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C:\Users\hp\Desktop\صور بيئات مائية\maxresdefault (1).jpg"/>
          <p:cNvPicPr/>
          <p:nvPr/>
        </p:nvPicPr>
        <p:blipFill>
          <a:blip r:embed="rId2"/>
          <a:stretch/>
        </p:blipFill>
        <p:spPr>
          <a:xfrm>
            <a:off x="395280" y="2133720"/>
            <a:ext cx="4105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rine Environment (Habitat)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البيئة البحرية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528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Arial Unicode MS"/>
              </a:rPr>
              <a:t>المنطقة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Arial Unicode MS"/>
              </a:rPr>
              <a:t>القاعية   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Benthic zone</a:t>
            </a:r>
            <a:r>
              <a:rPr b="1" lang="en-US" sz="2200" spc="-1" strike="noStrike">
                <a:solidFill>
                  <a:srgbClr val="c00000"/>
                </a:solidFill>
                <a:latin typeface="Stenci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يمكن تقسيم المنطقة القاعية إلى منطقتين متميزتي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 أ-</a:t>
            </a:r>
            <a:r>
              <a:rPr b="1" lang="ar-SA" sz="18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ubneri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: هى المنطقة القاعية الممتدة من الساحل حتى 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ب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uboceanic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هى المنطقة القاعية التي تقع على عمق يزيد ع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أهم خصائص المنطقة القاعية </a:t>
            </a: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تباين العوامل البيئية مثل الحرارة والملوحة والإضاءة وحركة الماء أقل بكثير من الطبقات السطح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كلما إزداد العمق كلما إزداد ثبات العوامل البيئ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بعد عمة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م لايوجد تأثير للتغيرات الموسمية على البيئ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تتوفر في البيئة القاعية العديد من أماكن المعيشة وذلك للإختلاف الكبير في طبيعة قاع البحا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والمحيطات والذي يتأثر بعدة عوامل ( سرعة التيارات القاعية ـ العمق – القرب من اليابسة والصف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جيولوجية للشاطىء ـ المواد العالقة في طبقة المياه فوق القاع ـ نوع تجمعات الكائنات الحية القاعية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920" y="836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Times New Roman"/>
              </a:rPr>
              <a:t>كائنات المنطقة القاعية</a:t>
            </a: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يمكن تقسيم كائنات المنطقة القاعية إلى مجموعتين رئيسيتين هما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Times New Roman"/>
              </a:rPr>
              <a:t>أ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Times New Roman"/>
              </a:rPr>
              <a:t>الكائنات التي تعيش على القا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Times New Roman"/>
              </a:rPr>
              <a:t>ب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Times New Roman"/>
              </a:rPr>
              <a:t>الكائنات التي تعيش قرب القا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Times New Roman"/>
              </a:rPr>
              <a:t>                                       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Times New Roman"/>
              </a:rPr>
              <a:t>أ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Times New Roman"/>
              </a:rPr>
              <a:t>الكائنات التي تعيش على القا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تشمل كلاً من 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طحالب : ( الخضراء ـ الخضراء المزرقة ـ الحمراء ـ البنية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بكتريا : توجد في الرواسب وعلى مختلف الأعماق في البحار والمحيطات وهي المسؤولة الرئيسية ع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تحلل المواد العضوية ( هل تشبه بكتريا المياه الضحلة أم تختلف عنها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؟؟؟؟؟؟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أوليات : تشبه أوليات المياه الضحلة ومن أهمها مجموعة الهدبيات والأميبيات ومن أشهر الأميبي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النوع المعروف بـ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Xenophyophor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مجموعة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eiofau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( مجموعة من اللافقاريات القاعية الصغيرة مثل الديدان الخيطية حرة المعيش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وأنواع من القشريات مجدافية الأرجل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pepod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يوانات القاعية : تشمل كلاً م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أنواع من الأسفنج من أشهرها الأسفنج الزجاجي ـ الزهريات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nthozo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ثل شقائق النعمان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nem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عظع أنواع الرخو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قشريات : لكنها أقل مما عليه في المياه الضحلة ومن أهمها مجموعة متساوية الأرجل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mphipo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أما السرطانات فلا تتواجد في أعماق تزيد ع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43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بينما الروبيان فلا يتواجد في أعماق تزيد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60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Times New Roman"/>
              </a:rPr>
              <a:t>ب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Times New Roman"/>
              </a:rPr>
              <a:t>الكائنات التي تعيش قرب القا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شمل كلاً من 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ائمات الحيواني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Zooplankton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تواجد بنسبة قليلة جدا في المناطق العميقة من البحا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المحيطات ومن أهمها أنواع من الميدوزا ( الجوفمعويات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elentera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 والتي تتميز بألوانها اللآمعة والمضيئ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كذلك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قشريات مجدافية الأرجل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pepod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والتى تتميز بكبر حجمها مقارنة بمثيلاتها في المياه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المضيئ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سابح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ekt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الأسماك وخاصة القوابع والمفلطحات ورتبة الأسماك الصائد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Lophiform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ـ أنواع من القشريات كالروبيان 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ن رأسية القدم كالحبار والأخطبوط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16T12:38:41Z</dcterms:modified>
  <cp:revision>259</cp:revision>
  <dc:subject/>
  <dc:title>Principals of General Zoology (Zoo-103)</dc:title>
</cp:coreProperties>
</file>