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32B-62AF-4BAE-9BC5-9BB3B2D466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F82-7301-469D-AFE7-D7243C4DE4B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511-D068-41A0-B817-DC8532C412B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E331-3837-4681-A183-37A6F1B7730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054C-EA42-420D-ACC0-67588EC168E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8044-167C-4F01-83B3-B117AC44CB6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6C1-4E12-49C2-9A0A-DFF528EB68E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BB2E-A0CA-4D59-A7D4-5FDCC345CA3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5450-1919-445F-8B93-409DDBF9565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6000-9C1E-4852-8A7A-9DC25F044D3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6EE-F513-4FA2-91D7-8B9E111B1CE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7BD5-3244-41BC-B281-FCAD24D8DFA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ED8-38AB-4A4A-BE11-80A839F002D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E9F1-9752-4E2F-9AAD-ABDD0CC23A0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3D6-7419-4AFD-94D8-B46AF46FB5B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7ADD-920A-4C13-BD88-2AD93ADCFC8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258-0A12-4EA2-95B3-FC1A31C024D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DBC1-9E7F-4CDB-80AD-1C360B3ED63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841E-5237-4A0D-B036-93538CEAA3B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3D1-C363-4662-A514-A506482EA96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042-4249-47DD-9323-E662EE8FFE3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C5A3-AFB7-49B5-9D32-EBC9B6703E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2330-C284-4727-A2FC-85DB27446A0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A099-D8F9-4CD1-961E-0FF62B1536E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B57E-FEE6-4B95-B6B9-88D3302453F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3F8B-14EB-400C-9B29-FF555BDEA8F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3CE7-1B2E-438C-9CBE-A0A3664436E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C97F-D838-4CB2-9E89-73E1C7CCEA5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520E-3A6C-42E8-8378-C0D67EB4C8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EAF0-8D76-4882-B819-F0EFF208F2D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8D3B-40B2-407A-976D-82ECB20AF2F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42AE-A81E-4CCD-85C3-5081592FE57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EB06-E297-451D-AA39-B147A71DB3C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750-0470-42E5-88D2-78EB189E1C2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63EF-75AA-4310-9616-D1992930E0A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D88-6A6F-4AD0-B9DB-B83D1B3F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5C9-B074-4C57-8CB9-F0B7282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D64-DD1B-44E0-AD53-64DEEAC7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FCB-6108-4C70-8FCB-3C070482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21CC-2418-412D-B110-3B905A5F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4D1C-C9E1-4236-8403-14865D2C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06A0-7BF0-4C53-ADE0-C2065E97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A880-2906-4DE7-9ADA-930710F3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5DEE-959A-4690-9F33-1A08F971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4F8C-86BA-4406-9126-C1EB1D8C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919F-0DBB-43A0-9CE3-CB0B2DB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A26-63BE-42F5-BBA9-537301A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EF3E-BF04-418B-8902-90D2B40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41D8-DA96-4852-A080-4779EB3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F984-48E5-4D3B-A599-666B581F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61AA-88EB-4B28-86FE-3866A47A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1C9F-3BB3-4E4B-864A-81EC12F7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0F63-7F16-44A3-8C22-C7CC2914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2E9E-60AA-4DB5-AD0E-C1B6CDEA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A44F-3346-4514-8B67-1189BC7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D8B0-D1F0-4D4D-AB10-AB192726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A39E-415D-411F-A96C-92C62914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2B9-0C2F-483A-A48C-39C9EEDE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0F53-1179-45AC-B0D1-3E2666E3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F380-88C2-4FF1-B4C0-FB3F103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BFCF-25A9-4548-97E7-3C8E6FFD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53A4-DF90-42E7-AEA7-7472E1C8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A999-4228-41AD-B216-7E8775EF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74CA-DD47-4B68-8A3C-72325546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BC5A-D5FB-4924-86E4-24CCDF18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FB89-7767-45A0-9C02-12F4BA1A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F5E3-9A8A-43E0-A46A-C40D8611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7FC4-28B4-4E63-B2C9-97277830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51C-00E7-4216-9167-0039D1A1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F5FCC-F369-4A98-AC79-DABE3170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F85B-D3B4-4F82-927F-45A54E4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5F00-9E86-451B-B85F-1F4EA5E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8711-2847-411B-A6C3-7D52C8B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91BB-BA32-4311-9580-48C6BA2A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4609-AB8F-4815-BCFD-7869B2D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EC31-0CC2-4F30-A0E2-CEE5BBF6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32F4-BA76-4DB9-9264-8877A39E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CF5B-CF95-404B-A987-324A7915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7DDD8-C87B-413B-974F-234A0BCE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E34-2EB1-43F8-87C8-8AE24424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104D6-5646-4E96-B5D0-C834A78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F48C-B35C-408E-B631-82C1FCF4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C6C8-0B41-4371-A20F-BE8BD33A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CD8B-EAAD-4C36-9E3A-A54A479C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FA5E-FE59-41BB-A90C-DF9F5F4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D277-1E85-45A1-B506-25CA3764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626D9-8602-4DAF-B7AA-71DA659F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A155D-D98B-465F-B03A-482ADFB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DE5F-A147-40B5-BCDD-76B39B4B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7BFC-C80D-472A-8691-4C740F52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4FE-A5B3-484D-93EB-C07291F3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DE8E-2582-4CD8-89FC-A81A9989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CE79-5D14-459F-A27D-CDED6809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860F-661A-41C7-B4DC-66BAE9AC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B678-EB5A-47E6-BC9B-2896369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6999-9B9D-46FB-8137-C6836B85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50CA-CF18-4EEF-B473-4E9760A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FC3C9-E908-432B-9188-3632D78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D92E7-480D-4F2F-B25D-220AC546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3399-CAFF-466B-8DCE-7CE1BF3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10184-9EB6-4DAF-9601-6099F1F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30C-77B4-48D1-B581-B2531F2E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8D03B-3539-4144-AF2B-66398F35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72F4-421B-403B-9648-FB10CC19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0C1D-3188-4BE0-9A0C-AA8B98E3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451C0-E43F-4244-B1FC-DA00DDA8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8AD0-AD58-48A7-89CE-73633F5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C1092-D8BD-4D58-8B0C-692FABEB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67610-1656-4FF5-8555-2673726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C44C-9466-4540-B378-48D84F0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FC8FA-9FFD-4836-8D74-D01FDB57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D54A2-D0F7-4DFD-9A6B-744B499E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29C-7B60-4BF9-B1D9-94A8A16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3FC5A-44A9-4182-9383-9032281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E2BF8-5107-4A38-84C6-7D699CCD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940AF-A883-4CC2-8359-FD3AA41F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6755-6696-4F07-AB61-54B9C8BA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76CF4-AA0D-44AB-A579-156751F7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70A-3C71-4783-8A39-37B8803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159-D153-462B-83E8-059F3D0F551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475A-1514-42EC-A102-DD6D197DD1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C322-D12E-47C8-AB61-C955B9867C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54A2-171B-4059-8CF8-A747278A12B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0DD7-0BBB-4ED1-BE49-5BE37592864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4C66-1292-49D9-AD58-815D9BC9C6B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CE2-7BD0-4FE9-91B2-918452AEEBE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j2.bmp"/>
          <p:cNvPicPr/>
          <p:nvPr/>
        </p:nvPicPr>
        <p:blipFill>
          <a:blip r:embed="rId2"/>
          <a:stretch/>
        </p:blipFill>
        <p:spPr>
          <a:xfrm>
            <a:off x="609480" y="1668600"/>
            <a:ext cx="77724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2"/>
          <a:srcRect l="18743" t="25000" r="19180" b="10418"/>
          <a:stretch/>
        </p:blipFill>
        <p:spPr>
          <a:xfrm>
            <a:off x="76320" y="1523880"/>
            <a:ext cx="8858160" cy="5181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457200" y="3048120"/>
            <a:ext cx="830592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68480" y="3733920"/>
            <a:ext cx="37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how tables to be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9"/>
          <p:cNvCxnSpPr/>
          <p:nvPr/>
        </p:nvCxnSpPr>
        <p:spPr>
          <a:xfrm flipH="1">
            <a:off x="609120" y="3504960"/>
            <a:ext cx="15336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previews example, the DEPARTMENT_ID column is common to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ables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t must be prefixed by the table name to avoid </a:t>
            </a:r>
            <a:r>
              <a:rPr b="0" i="1" lang="en-US" sz="3200" spc="-1" strike="noStrike">
                <a:solidFill>
                  <a:srgbClr val="0070c0"/>
                </a:solidFill>
                <a:latin typeface="Corbel"/>
              </a:rPr>
              <a:t>ambiguit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2"/>
          <a:srcRect l="20500" t="29168" r="17423" b="12500"/>
          <a:stretch/>
        </p:blipFill>
        <p:spPr>
          <a:xfrm>
            <a:off x="228600" y="1752480"/>
            <a:ext cx="8686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19091" t="33337" r="17188" b="33337"/>
          <a:stretch/>
        </p:blipFill>
        <p:spPr>
          <a:xfrm>
            <a:off x="76320" y="1666800"/>
            <a:ext cx="8991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463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Use table prefixes to qualify column names that are in multiple t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mprove performance by using table prefix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For simplicity: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We can distinguish columns that have identical names but reside in different tables by using column </a:t>
            </a:r>
            <a:r>
              <a:rPr b="0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rcRect l="21670" t="33337" r="19180" b="26043"/>
          <a:stretch/>
        </p:blipFill>
        <p:spPr>
          <a:xfrm>
            <a:off x="228600" y="1600200"/>
            <a:ext cx="86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rcRect l="15226" t="50005" r="14496" b="25000"/>
          <a:stretch/>
        </p:blipFill>
        <p:spPr>
          <a:xfrm>
            <a:off x="-76320" y="1600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2"/>
          <a:srcRect l="16399" t="19793" r="12739" b="6250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Sometimes you may need to join more than two tables.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, to display the last name, the department name, and the city for each employee, you have to join the EMPLOYEES, DEPARTMENTS, and LOCATIONS tables. (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470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metimes you need to use data from more than one table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example1, the report displays data from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separate tabl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mployee IDs exist in the EMPLOYEE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partment IDs exist in both the EMPLOYEES and DEPARTMENTS tabl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cation IDs exist in the DEPARTMENT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oduce the report, you need to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link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DEPARTMENT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ables and access data from both of them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rcRect l="12885" t="28125" r="16836" b="6250"/>
          <a:stretch/>
        </p:blipFill>
        <p:spPr>
          <a:xfrm>
            <a:off x="0" y="15238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2"/>
          <a:srcRect l="18743" t="20832" r="15079" b="9375"/>
          <a:stretch/>
        </p:blipFill>
        <p:spPr>
          <a:xfrm>
            <a:off x="76320" y="1523880"/>
            <a:ext cx="8915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nonequijoi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is a join condition containing something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ther than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 equality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relationship between the  EMPLOYEES table and the JOB_GRADES table has an example of a nonequijoi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relationship between the two tables is that  the SALARY column in the EMPLOYEES table must be between the values in the  LOWEST_SALARY and HIGHEST_SALARY columns of the JOB_GRADES table. The relationship is obtained using an operator other than equals (=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rcRect l="20500" t="30212" r="15669" b="10418"/>
          <a:stretch/>
        </p:blipFill>
        <p:spPr>
          <a:xfrm>
            <a:off x="152280" y="1600200"/>
            <a:ext cx="8888400" cy="4648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01160" y="3276720"/>
            <a:ext cx="4764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n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that salary must be betwee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ir of low and high 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 flipH="1">
            <a:off x="532800" y="3047760"/>
            <a:ext cx="15300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e that : 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other conditions such as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l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g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can be used also. But BETWEEN  condition is the simpl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f a row does not satisfy a join condition, the row will not appear in the query result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For example, in the equijoin condition of EMPLOYEES and DEPARTMENTS tables, employee Grant does not appear because there is no department ID recorded for her in the EMPLOYEES table</a:t>
            </a:r>
            <a:r>
              <a:rPr b="0" lang="en-US" sz="32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nstead of seeing 20 employees in the result set, you see 19 records. (</a:t>
            </a:r>
            <a:r>
              <a:rPr b="0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rcRect l="13472" t="12500" r="16253" b="22918"/>
          <a:stretch/>
        </p:blipFill>
        <p:spPr>
          <a:xfrm>
            <a:off x="76320" y="1676520"/>
            <a:ext cx="8991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see rows that do not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meet the join conditio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 use the outer jo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outer join operator is the plus sign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(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+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table2.column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 = table2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3581280"/>
            <a:ext cx="7238880" cy="121932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57200" y="5105520"/>
            <a:ext cx="7238880" cy="129528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1.column = is the condition that joins (or relates) the tables togethe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2.column (+) is the outer join symbol, which can be placed on either side of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clause condition, but </a:t>
            </a: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 on both sid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Place the outer join symbol following the name of the column in the table witho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the matching ro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j3.bmp"/>
          <p:cNvPicPr/>
          <p:nvPr/>
        </p:nvPicPr>
        <p:blipFill>
          <a:blip r:embed="rId2"/>
          <a:stretch/>
        </p:blipFill>
        <p:spPr>
          <a:xfrm>
            <a:off x="-6480" y="1600200"/>
            <a:ext cx="876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rcRect l="19440" t="17638" r="15735" b="11531"/>
          <a:stretch/>
        </p:blipFill>
        <p:spPr>
          <a:xfrm>
            <a:off x="304920" y="1523880"/>
            <a:ext cx="847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500" spc="-1" strike="noStrike">
              <a:solidFill>
                <a:srgbClr val="ffc800"/>
              </a:solidFill>
              <a:latin typeface="Corbel"/>
              <a:ea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lide example displays employee last names, department ID’s and department names. The Contracting department does not have any employees.  The empty value is shown in the output show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uter Join Restri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outer join operator can appear on only one side of the expression: the side that has information missing. It returns those rows from one table that have no direct match in the other tabl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condition involving an outer join cannot use the IN operator or be linked to another condition by the OR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rcRect l="32494" t="27288" r="28701" b="36476"/>
          <a:stretch/>
        </p:blipFill>
        <p:spPr>
          <a:xfrm>
            <a:off x="0" y="16765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rcRect l="12885" t="17707" r="11568" b="29168"/>
          <a:stretch/>
        </p:blipFill>
        <p:spPr>
          <a:xfrm>
            <a:off x="228600" y="16002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rcRect l="17572" t="28130" r="18010" b="12500"/>
          <a:stretch/>
        </p:blipFill>
        <p:spPr>
          <a:xfrm>
            <a:off x="-76320" y="1600200"/>
            <a:ext cx="911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last name, department number, and department name for all employe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employee last name, department name, location ID, and city of all employees who earn a commi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A Cartesian product is formed whe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omit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inval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ll rows in the first table are joined to all rows in the second 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To avoid a Cartesian product, always include a valid join condition in a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WHERE claus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j1.bmp"/>
          <p:cNvPicPr/>
          <p:nvPr/>
        </p:nvPicPr>
        <p:blipFill>
          <a:blip r:embed="rId2"/>
          <a:stretch/>
        </p:blipFill>
        <p:spPr>
          <a:xfrm>
            <a:off x="347760" y="1600200"/>
            <a:ext cx="8186760" cy="4952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5654520" y="3809880"/>
            <a:ext cx="3308040" cy="9169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first tab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OIN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seco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rcRect l="21291" t="25876" r="17586" b="16471"/>
          <a:stretch/>
        </p:blipFill>
        <p:spPr>
          <a:xfrm>
            <a:off x="158760" y="1676520"/>
            <a:ext cx="8908920" cy="4724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380880" y="3048120"/>
            <a:ext cx="3048120" cy="182880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533520" y="2666880"/>
            <a:ext cx="8001000" cy="16002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077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Use a join to query data from more than one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d9253e"/>
                </a:solidFill>
                <a:latin typeface="Corbel"/>
              </a:rPr>
              <a:t>column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column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rite the join condition in the 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WHERE clause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Prefix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column name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ith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able name “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when the same column name appears in more than one table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 “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>
              <a:alpha val="45000"/>
            </a:srgbClr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When writing a SELECT statement that joins tables, precede the column name with the table name for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clarity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nd to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enhance database access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. 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optiona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1" lang="en-US" sz="2500" spc="-1" strike="noStrike">
                <a:solidFill>
                  <a:srgbClr val="0070c0"/>
                </a:solidFill>
                <a:latin typeface="Corbel"/>
              </a:rPr>
              <a:t>same column name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ppears in more than one table, the column name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be prefixed with the table name.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mandatory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o join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 together, you need a minimum of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-1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 conditions. </a:t>
            </a:r>
            <a:r>
              <a:rPr b="0" lang="en-US" sz="2500" spc="-1" strike="noStrike">
                <a:solidFill>
                  <a:srgbClr val="b48200"/>
                </a:solidFill>
                <a:latin typeface="Corbel"/>
              </a:rPr>
              <a:t>For exampl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to join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four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, a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minimum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of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thre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s is required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his rule may not  apply if your table has a concatenated primary key, in which case more than one column is required to uniquely identify each row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-302760" y="5562720"/>
            <a:ext cx="9743760" cy="459720"/>
          </a:xfrm>
          <a:prstGeom prst="rect">
            <a:avLst/>
          </a:prstGeom>
          <a:gradFill rotWithShape="0">
            <a:gsLst>
              <a:gs pos="0">
                <a:srgbClr val="ffde7f"/>
              </a:gs>
              <a:gs pos="100000">
                <a:srgbClr val="fff5da"/>
              </a:gs>
            </a:gsLst>
            <a:lin ang="162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[Bonus] Q:How to define a table with a composite primary k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ad00"/>
                </a:solidFill>
                <a:latin typeface="Calibri"/>
              </a:rPr>
              <a:t>To determine an employee’s department name you compare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the DEPARTMENT_ID column in the EMPLOYEES t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e DEPARTMENT_ID values in the DEPARTMENTS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ationship between the EMPLOYEES and DEPARTMENTS tables is an </a:t>
            </a: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equi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is, values in the DEPARTMENT_ID column on both tabl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t be eq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Frequent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is type of join invol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y comp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Note: Equijoins are also called simple joins or inne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8:26:03Z</dcterms:created>
  <dc:creator>Hmra</dc:creator>
  <dc:description/>
  <dc:language>en-US</dc:language>
  <cp:lastModifiedBy>Sony</cp:lastModifiedBy>
  <dcterms:modified xsi:type="dcterms:W3CDTF">2014-04-26T14:53:12Z</dcterms:modified>
  <cp:revision>43</cp:revision>
  <dc:subject/>
  <dc:title>Displaying Data  from Multiple Tables</dc:title>
</cp:coreProperties>
</file>