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59B6-52D1-4B6D-BF3E-08FB868DB4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D19-27AA-484D-AE11-39617B95AC3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8905-C0DE-4481-8BE0-612DD169B6C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2EB7-DA48-4353-ABE7-FF70CD98507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304B-4E27-4EB7-9EAD-EB28FCBD05D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DF20-6B68-45A5-9DFF-D4BB8520F4F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DFF-6CAC-48B0-B487-139706C02B4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CACB-2D9E-4DDD-BD4F-86010BE9BB4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1F55-2FDC-408E-972F-CF7B3ECBE97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B950-B249-4E73-A030-D7569E7DBF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CC07-CF1C-426E-B737-8E8EEFE6B8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7F92-EC41-4C5C-8344-4C717BFCCF7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CB1C-F9F1-4B08-AD26-6AE94EDA48F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4380-63A5-40DA-AF0C-5EEF0F0D1F2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FE4D-A267-4B6B-B2B3-64CAC3AD018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7758-9B4C-41B8-BB23-70C9A6293C1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D742-CA33-492E-B09F-90B5DE65DC0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4331-8BE5-455F-88A9-9D9A4B76224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0983-217B-472E-8DDF-5852DE088D4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DE6D-BD9B-47F6-9C1C-5FC299D7514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C896-75E4-44E5-932A-C7D13C19351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FF1C-C224-4404-9854-21AAC682C88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E315-D77B-4D77-9E0D-511CC050199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FABF-3BE2-4A5B-BC60-76A6F88C547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DA45-F617-4576-98EB-02B6A9753ED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F1D9-4916-403D-BA55-70A35C6214C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9E92-028F-467B-B25B-76CBFD08F75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41B-CC7E-40B3-8D9C-0AC0A9A117E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96EE-FD05-4AB6-9600-5BF5CEE6103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C5CF-D679-4309-ABDF-F2339F0C259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EA02-E4ED-4982-85F8-9C0B7C7CBC9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90BE-4A16-4BD0-AA0F-8DB6952A7CA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2210-35AF-481E-BBBA-DB9CDD2125A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25CC-47AF-492D-BFA1-C20C357663D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ADD2-18EC-4D16-8C64-87C1A6F5E31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B56-2119-4B79-BE39-7395B42E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F55-2673-407C-841B-E524CC19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E9F-03B7-46E8-8F98-A7830C40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E1B-A4C8-4073-8264-B0EA7206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4C3-CBCC-455D-8B02-31E88BFB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33E7-AFD6-4B06-992A-AC48B8ED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9AF8-A259-44D5-8E25-62F11AF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C978-6596-4EC6-B044-B7AE1A5C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00D3-0A1C-4962-AF49-1036A828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EBA1-82DF-45B6-8B05-97A4749F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8473-3CE6-4351-8286-D17D08F1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4D5-533E-4F8A-A204-2DD57CED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E02F-8F6E-4DA1-B349-B66C92BC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8CF7-2B25-4C69-B45A-DF3CE1DB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5277-B63F-4086-9C10-472AC20D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6F2E-F6B4-479B-8D4F-DB271C37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7ACB-E133-41D1-8A60-CF5B2325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A8D9-7978-4506-AB0E-7FC19240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0D53-C496-4812-8925-AA8BFD21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E491-6A32-4A60-8CB0-6714B61B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FD69-AAA3-4E42-9414-6CE471E9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9532-53B4-4CDA-AAF4-62B0168E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758-3B3A-454F-9A7C-AA7008A2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9BA2-97DA-4D73-81F1-46EC49DC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D18D-6231-4B37-8DA4-F314CBCD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DCC1-906C-422B-B796-9E4BDB2E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AB41-796A-4591-A546-9565088F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EE86-9413-42DA-A8AE-CD4A7B5D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C011-30E3-40CC-9F3D-4B4C17B8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0060-3E3B-4E22-9E5D-02B28903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4C8C-8E22-435A-BB66-C31B20EF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EECE-AE0B-4B99-ADFB-59879D36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B91E-D6B1-49C3-B71B-B4FEDC34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4B9-7379-4520-B4E8-FAC64AB6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A5918-EE14-415E-A6BB-C433B291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C5E1-DBAE-449F-8F45-13BA5233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FA5C-B74E-481A-9703-389FD4AB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FF2B-8238-41A6-B365-32E95AD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182E-C39B-43E2-8D58-B1E8DC74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BAF7E-213F-44D6-B9B5-0438D4EF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EEFE-62F4-40CC-B89A-4E296A18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92A6-83B2-48F9-92AB-F69379B7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2EDA-C59A-42F6-A528-4FAAE334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608D5-39A7-4EBC-BCF0-123FE7E9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57F-B3EA-4CF0-9FA5-E40EB6AD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CB88D-D30A-402E-A575-2F398D18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8E70B-4F8A-482A-B6A0-42B441F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43132-66BE-4963-A8B3-68A75A31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07DA8-4151-4B64-AE2E-699BC7CA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6666-1F7A-4B44-9F22-0FB7EBD9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1C7B1-2E49-4B25-ADF1-80D4DE0F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BD498-F19D-4A49-918B-F38ED59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E3642-8C56-428E-B32B-821F16B6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F29D4-0851-4225-BDC1-FFABA859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C3BE5-571D-4DFE-9E98-576B33A8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231-911E-44E3-A06A-B92EB9A4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F5AA3-0B01-4ACE-9086-4E2EF9D2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8609A-B496-417F-94CD-ED12F4D1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EAFCF-AA4E-4721-A51D-A782F5A1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EE0B7-0FF1-4B60-A6C3-6D7C9FC6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7DD3A-EC4F-4FEE-997A-0F490D1B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7429-1A99-4ED8-9249-3A81389C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4AF19-88E3-453C-9C5F-FB49E2CA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3F679-0CEE-41D1-AEF2-29643EF4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AA61C-5961-48F2-9A84-05B5D4E7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870D6-883C-43DD-A966-57A4855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771-D49A-4D2D-B74F-A363996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9B91-3B1E-411C-A236-E912ED3D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8684B-82B7-4E06-A182-701D3E7D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5FCDD-0FCF-47CE-A389-7E8C7471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96F90-60E0-45B5-8833-FEFBBA8C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13E1A-FF5C-4151-9E11-4BFB2DB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A70D4-33A5-4458-A9A0-4F1A9EBB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04199-8950-442C-8C4F-C83D7AE4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E7DBA-A7E4-4EE6-AD60-85793643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1D89-9A9B-44B9-9399-09D9157D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0BAB1-E758-407D-8778-A403ED2F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2D0-C4D1-4E8C-B291-A6C9D935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756B8-B3B4-4CF2-B9CC-2324C95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7FF5-B5AF-47A3-8A7A-4517714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A00B4-6B4D-4B2C-92A8-6D70BE21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6219-1444-4C35-86AF-B1828F80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4D2E-E52E-4BAD-BFD1-1B8921E4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306-86C8-4C06-BDEC-E8DB70C2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F4CB-222A-4D00-A6B8-A1935F8ADB0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B5E-F214-49BE-BB9B-78FF210944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6A3A-09E9-4236-9D3C-7EDF52C82A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52D2-A31B-4E98-B463-4787E283C66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ADA3-3C02-4ABE-B16F-756379E5A57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ABD2-B5FF-4A82-936C-AFA56893046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0117-04ED-472D-AAC9-E5067064524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j2.bmp"/>
          <p:cNvPicPr/>
          <p:nvPr/>
        </p:nvPicPr>
        <p:blipFill>
          <a:blip r:embed="rId2"/>
          <a:stretch/>
        </p:blipFill>
        <p:spPr>
          <a:xfrm>
            <a:off x="609480" y="1668600"/>
            <a:ext cx="77724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2"/>
          <a:srcRect l="18743" t="25000" r="19180" b="10418"/>
          <a:stretch/>
        </p:blipFill>
        <p:spPr>
          <a:xfrm>
            <a:off x="76320" y="1523880"/>
            <a:ext cx="8858160" cy="5181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457200" y="3048120"/>
            <a:ext cx="830592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68480" y="3733920"/>
            <a:ext cx="378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how tables to be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9"/>
          <p:cNvCxnSpPr/>
          <p:nvPr/>
        </p:nvCxnSpPr>
        <p:spPr>
          <a:xfrm flipH="1">
            <a:off x="609120" y="3504960"/>
            <a:ext cx="15336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Note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previews example, the DEPARTMENT_ID column is common to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ables,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t must be prefixed by the table name to avoid </a:t>
            </a:r>
            <a:r>
              <a:rPr b="0" i="1" lang="en-US" sz="3200" spc="-1" strike="noStrike">
                <a:solidFill>
                  <a:srgbClr val="0070c0"/>
                </a:solidFill>
                <a:latin typeface="Corbel"/>
              </a:rPr>
              <a:t>ambiguit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2"/>
          <a:srcRect l="20500" t="29168" r="17423" b="12500"/>
          <a:stretch/>
        </p:blipFill>
        <p:spPr>
          <a:xfrm>
            <a:off x="228600" y="1752480"/>
            <a:ext cx="8686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-12600"/>
            <a:ext cx="82296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19091" t="33337" r="17188" b="33337"/>
          <a:stretch/>
        </p:blipFill>
        <p:spPr>
          <a:xfrm>
            <a:off x="76320" y="1666800"/>
            <a:ext cx="8991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463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Use table prefixes to qualify column names that are in multiple t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mprove performance by using table prefix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For simplicity: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We can distinguish columns that have identical names but reside in different tables by using column </a:t>
            </a:r>
            <a:r>
              <a:rPr b="0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2"/>
          <a:srcRect l="21670" t="33337" r="19180" b="26043"/>
          <a:stretch/>
        </p:blipFill>
        <p:spPr>
          <a:xfrm>
            <a:off x="228600" y="1600200"/>
            <a:ext cx="86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rcRect l="15226" t="50005" r="14496" b="25000"/>
          <a:stretch/>
        </p:blipFill>
        <p:spPr>
          <a:xfrm>
            <a:off x="-76320" y="1600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2"/>
          <a:srcRect l="16399" t="19793" r="12739" b="6250"/>
          <a:stretch/>
        </p:blipFill>
        <p:spPr>
          <a:xfrm>
            <a:off x="0" y="1447920"/>
            <a:ext cx="9220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Sometimes you may need to join more than two tables. 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, to display the last name, the department name, and the city for each employee, you have to join the EMPLOYEES, DEPARTMENTS, and LOCATIONS tables. (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470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metimes you need to use data from more than one table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example1, the report displays data from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two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separate tabl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mployee IDs exist in the EMPLOYEE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partment IDs exist in both the EMPLOYEES and DEPARTMENTS table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cation IDs exist in the DEPARTMENT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produce the report, you need to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link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DEPARTMENT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ables and access data from both of them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2"/>
          <a:srcRect l="12885" t="28125" r="16836" b="6250"/>
          <a:stretch/>
        </p:blipFill>
        <p:spPr>
          <a:xfrm>
            <a:off x="0" y="152388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2"/>
          <a:srcRect l="18743" t="20832" r="15079" b="9375"/>
          <a:stretch/>
        </p:blipFill>
        <p:spPr>
          <a:xfrm>
            <a:off x="76320" y="1523880"/>
            <a:ext cx="8915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nonequijoi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is a join condition containing something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ther than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 equality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relationship between the  EMPLOYEES table and the JOB_GRADES table has an example of a nonequijoi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relationship between the two tables is that  the SALARY column in the EMPLOYEES table must be between the values in the  LOWEST_SALARY and HIGHEST_SALARY columns of the JOB_GRADES table. The relationship is obtained using an operator other than equals (=)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rcRect l="20500" t="30212" r="15669" b="10418"/>
          <a:stretch/>
        </p:blipFill>
        <p:spPr>
          <a:xfrm>
            <a:off x="152280" y="1600200"/>
            <a:ext cx="8888400" cy="4648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228600" y="2590920"/>
            <a:ext cx="868680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101160" y="3276720"/>
            <a:ext cx="4764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n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that salary must be betwee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ir of low and high 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6"/>
          <p:cNvCxnSpPr/>
          <p:nvPr/>
        </p:nvCxnSpPr>
        <p:spPr>
          <a:xfrm flipH="1">
            <a:off x="532800" y="3047760"/>
            <a:ext cx="15300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e that : 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other conditions such as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l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g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can be used also. But BETWEEN  condition is the simples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f a row does not satisfy a join condition, the row will not appear in the query result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For example, in the equijoin condition of EMPLOYEES and DEPARTMENTS tables, employee Grant does not appear because there is no department ID recorded for her in the EMPLOYEES table</a:t>
            </a:r>
            <a:r>
              <a:rPr b="0" lang="en-US" sz="32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nstead of seeing 20 employees in the result set, you see 19 records. (</a:t>
            </a:r>
            <a:r>
              <a:rPr b="0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2"/>
          <a:srcRect l="13472" t="12500" r="16253" b="22918"/>
          <a:stretch/>
        </p:blipFill>
        <p:spPr>
          <a:xfrm>
            <a:off x="76320" y="1676520"/>
            <a:ext cx="8991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see rows that do not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meet the join condition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e use the outer joi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outer join operator is the plus sign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(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+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table2.column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 = table2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3581280"/>
            <a:ext cx="7238880" cy="121932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57200" y="5105520"/>
            <a:ext cx="7238880" cy="129528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1.column = is the condition that joins (or relates) the tables together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2.column (+) is the outer join symbol, which can be placed on either side of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clause condition, but </a:t>
            </a: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 on both sid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Place the outer join symbol following the name of the column in the table witho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the matching row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j3.bmp"/>
          <p:cNvPicPr/>
          <p:nvPr/>
        </p:nvPicPr>
        <p:blipFill>
          <a:blip r:embed="rId2"/>
          <a:stretch/>
        </p:blipFill>
        <p:spPr>
          <a:xfrm>
            <a:off x="-6480" y="1600200"/>
            <a:ext cx="876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rcRect l="19440" t="17638" r="15735" b="11531"/>
          <a:stretch/>
        </p:blipFill>
        <p:spPr>
          <a:xfrm>
            <a:off x="304920" y="1523880"/>
            <a:ext cx="84708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500" spc="-1" strike="noStrike">
              <a:solidFill>
                <a:srgbClr val="ffc800"/>
              </a:solidFill>
              <a:latin typeface="Corbel"/>
              <a:ea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lide example displays employee last names, department ID’s and department names. The Contracting department does not have any employees.  The empty value is shown in the output show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uter Join Restrictio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outer join operator can appear on only one side of the expression: the side that has information missing. It returns those rows from one table that have no direct match in the other tabl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condition involving an outer join cannot use the IN operator or be linked to another condition by the OR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rcRect l="32494" t="27288" r="28701" b="36476"/>
          <a:stretch/>
        </p:blipFill>
        <p:spPr>
          <a:xfrm>
            <a:off x="0" y="16765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rcRect l="12885" t="17707" r="11568" b="29168"/>
          <a:stretch/>
        </p:blipFill>
        <p:spPr>
          <a:xfrm>
            <a:off x="228600" y="1600200"/>
            <a:ext cx="876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rcRect l="17572" t="28130" r="18010" b="12500"/>
          <a:stretch/>
        </p:blipFill>
        <p:spPr>
          <a:xfrm>
            <a:off x="-76320" y="1600200"/>
            <a:ext cx="9117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last name, department number, and department name for all employee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employee last name, department name, location ID, and city of all employees who earn a commis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A Cartesian product is formed whe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omit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inval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ll rows in the first table are joined to all rows in the second t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To avoid a Cartesian product, always include a valid join condition in a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WHERE claus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j1.bmp"/>
          <p:cNvPicPr/>
          <p:nvPr/>
        </p:nvPicPr>
        <p:blipFill>
          <a:blip r:embed="rId2"/>
          <a:stretch/>
        </p:blipFill>
        <p:spPr>
          <a:xfrm>
            <a:off x="347760" y="1600200"/>
            <a:ext cx="8186760" cy="4952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5654520" y="3809880"/>
            <a:ext cx="3308040" cy="9169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first tab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JOIN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secon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rcRect l="21291" t="25876" r="17586" b="16471"/>
          <a:stretch/>
        </p:blipFill>
        <p:spPr>
          <a:xfrm>
            <a:off x="158760" y="1676520"/>
            <a:ext cx="8908920" cy="47242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380880" y="3048120"/>
            <a:ext cx="3048120" cy="182880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533520" y="2666880"/>
            <a:ext cx="8001000" cy="16002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774800"/>
            <a:ext cx="80773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Use a join to query data from more than one ta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d9253e"/>
                </a:solidFill>
                <a:latin typeface="Corbel"/>
              </a:rPr>
              <a:t>column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column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rite the join condition in the </a:t>
            </a:r>
            <a:r>
              <a:rPr b="1" i="1" lang="en-US" sz="3000" spc="-1" strike="noStrike">
                <a:solidFill>
                  <a:srgbClr val="000000"/>
                </a:solidFill>
                <a:latin typeface="Corbel"/>
              </a:rPr>
              <a:t>WHERE clause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Prefix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column name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ith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table name “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when the same column name appears in more than one table.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 “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>
              <a:alpha val="45000"/>
            </a:srgbClr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When writing a SELECT statement that joins tables, precede the column name with the table name for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clarity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nd to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enhance database access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. 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optiona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If the </a:t>
            </a:r>
            <a:r>
              <a:rPr b="1" lang="en-US" sz="2500" spc="-1" strike="noStrike">
                <a:solidFill>
                  <a:srgbClr val="0070c0"/>
                </a:solidFill>
                <a:latin typeface="Corbel"/>
              </a:rPr>
              <a:t>same column name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ppears in more than one table, the column name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be prefixed with the table name.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mandatory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o join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 together, you need a minimum of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-1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 conditions. </a:t>
            </a:r>
            <a:r>
              <a:rPr b="0" lang="en-US" sz="2500" spc="-1" strike="noStrike">
                <a:solidFill>
                  <a:srgbClr val="b48200"/>
                </a:solidFill>
                <a:latin typeface="Corbel"/>
              </a:rPr>
              <a:t>For exampl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to join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four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, a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minimum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of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thre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s is required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his rule may not  apply if your table has a concatenated primary key, in which case more than one column is required to uniquely identify each row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-302760" y="5562720"/>
            <a:ext cx="9743760" cy="459720"/>
          </a:xfrm>
          <a:prstGeom prst="rect">
            <a:avLst/>
          </a:prstGeom>
          <a:gradFill rotWithShape="0">
            <a:gsLst>
              <a:gs pos="0">
                <a:srgbClr val="ffde7f"/>
              </a:gs>
              <a:gs pos="100000">
                <a:srgbClr val="fff5da"/>
              </a:gs>
            </a:gsLst>
            <a:lin ang="162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[Bonus] Q:How to define a table with a composite primary k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5335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ad00"/>
                </a:solidFill>
                <a:latin typeface="Calibri"/>
              </a:rPr>
              <a:t>To determine an employee’s department name you compare th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the DEPARTMENT_ID column in the EMPLOYEES tab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he DEPARTMENT_ID values in the DEPARTMENTS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lationship between the EMPLOYEES and DEPARTMENTS tables is an </a:t>
            </a: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equi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at is, values in the DEPARTMENT_ID column on both tabl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st be eq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Frequent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is type of join involv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m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e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ey comp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Note: Equijoins are also called simple joins or inne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8:26:03Z</dcterms:created>
  <dc:creator>Hmra</dc:creator>
  <dc:description/>
  <dc:language>en-US</dc:language>
  <cp:lastModifiedBy>Sony</cp:lastModifiedBy>
  <dcterms:modified xsi:type="dcterms:W3CDTF">2014-04-26T14:53:12Z</dcterms:modified>
  <cp:revision>43</cp:revision>
  <dc:subject/>
  <dc:title>Displaying Data  from Multiple Tables</dc:title>
</cp:coreProperties>
</file>