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14.jpeg" ContentType="image/jpeg"/>
  <Override PartName="/ppt/media/image5.gif" ContentType="image/gif"/>
  <Override PartName="/ppt/media/image6.wmf" ContentType="image/x-wmf"/>
  <Override PartName="/ppt/media/image7.wmf" ContentType="image/x-wmf"/>
  <Override PartName="/ppt/media/image9.jpeg" ContentType="image/jpeg"/>
  <Override PartName="/ppt/media/image11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67C1-255B-4E31-BE71-82EB3263F5D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8588-DC36-4758-8697-A28F7221AD67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FB51-C380-4962-99B0-787E6485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611F-0419-4A2F-B78E-5799B6E2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B7E1-FA58-4D24-9379-1E51569B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9DA0-8107-44B5-B053-544D3EDF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9FC1-3ADC-4A8E-9BAC-A80406B8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016D-413E-4AF2-8918-A3271503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2781-57E5-4A6D-888A-1F22B960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4209-4464-43BA-A00D-B3E5FA65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BA16-9000-4661-A97B-69B2BC58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109A-6980-4350-BDB9-15468558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3C4A-D077-4CAD-9443-E762672A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0AF8-A78F-40CA-9B1E-B1ACF28A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00FB-B551-44B5-AD52-23B79FEB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D790-9D25-4698-8F11-85FD412C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28F6-CF41-4D1E-97F2-831BD766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DFC1-6319-4167-AF2F-613A494D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EACF-AECD-41EF-B54C-63DCC8AE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EAD7-5488-4961-A62F-7159207D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362A-E415-49AA-8F2B-0B5CE9F5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0E3F-44F2-4EED-853B-7EDC8AE4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DEA3-F215-4DB7-9884-D9E3DFAE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1B63-63AE-4FCB-9282-128BBD50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5E90-D9E9-4B16-A537-E3352FEB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7C43-AE92-4A5B-B442-6C457874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9B3A-7033-4129-A17A-F7C43EF957AA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E965-E0CC-49A0-9BD4-9A07405F54BD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صورة 3" descr="ش.jpg"/>
          <p:cNvPicPr/>
          <p:nvPr/>
        </p:nvPicPr>
        <p:blipFill>
          <a:blip r:embed="rId1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صورة 2" descr="ش.jpg"/>
          <p:cNvPicPr/>
          <p:nvPr/>
        </p:nvPicPr>
        <p:blipFill>
          <a:blip r:embed="rId2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1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مستطيل 8"/>
          <p:cNvSpPr/>
          <p:nvPr/>
        </p:nvSpPr>
        <p:spPr>
          <a:xfrm>
            <a:off x="468360" y="1916280"/>
            <a:ext cx="77756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مقرر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: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356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نهج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تعليم وتعلم العلوم الشرعية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الفصل الدراسي الأول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8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\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9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ه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0000"/>
                </a:solidFill>
                <a:uFillTx/>
                <a:latin typeface="Agency FB"/>
                <a:cs typeface="Times New Roman"/>
              </a:rPr>
              <a:t>المحاضرة الخامسة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2208600" y="549360"/>
            <a:ext cx="52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أولا : الخطة السنو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250920" y="1773360"/>
            <a:ext cx="8497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 أهم فوائد الخطة السنوية أو التخطيط طويل المدى , هو أنه يوفر للمعلم رؤية شاملة لسير العملية التعليمية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لذا يجب مراعاة مايلي عند اعداد الخطة السنوية للتدريس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اطلاع على الأهداف العامة للمنهج ومراعاة تحقيق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اطلاع على محتوى المنهج الدراسي , ليتعرف على علاقته بما سبق أن درسه المتعلمون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شمولية النظر إلى محتوى المنهج وجوانبه المختلف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مدى مناسبة الوقت لتدريس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C:\Users\dell\Pictures\imagesCAANLOL9.jpg"/>
          <p:cNvPicPr/>
          <p:nvPr/>
        </p:nvPicPr>
        <p:blipFill>
          <a:blip r:embed="rId1"/>
          <a:stretch/>
        </p:blipFill>
        <p:spPr>
          <a:xfrm>
            <a:off x="179280" y="1890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250920" y="836640"/>
            <a:ext cx="8208720" cy="72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توزيع القيم والأوزان بما يتناسب مع هذه الموضوعا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ختيار الأساليب التعليلية والتقويمية المناسبة له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ختيار المناشط المحققه لللأهداف وفقا للامكانات المتاحة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66"/>
                </a:solidFill>
                <a:uFillTx/>
                <a:latin typeface="Arial"/>
              </a:rPr>
              <a:t>العناصر التي يجب أن تتضمنها الخطة السنوي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حديد الأهداف التربوية للمادة المراد تدريس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حديد محتوى المادة الدراس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وضع تخطيط لتدريس الموضوعات والوحد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حديد طرق التعلم وأساليبه المناسب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حديد أساليب التقوي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حديد المصادر والمراجع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3419640" y="4046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ثانيا : خطة الدر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539640" y="907920"/>
            <a:ext cx="8353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تكون خطة الدرس من عدد من العناصر أو المكونات وقد تختلف من حيث عددها وترتيبها من خطة لأخرى وفقا لطبيعة المادة الدراسية أو المرحلة التعليمية , إلا أنه ثمة عناصر أسية اتفق المربون أهمية توافرها في خطة الدرس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- الإطار العام للدرس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3700440"/>
          <a:ext cx="6096240" cy="1189080"/>
        </p:xfrm>
        <a:graphic>
          <a:graphicData uri="http://schemas.openxmlformats.org/drawingml/2006/table">
            <a:tbl>
              <a:tblPr/>
              <a:tblGrid>
                <a:gridCol w="3021120"/>
                <a:gridCol w="3075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ماد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تاريخ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حص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ص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موضوع الدر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فص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3773520" y="981000"/>
            <a:ext cx="47592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- الأهداف السلوك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سبق الحديث عنه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684360" y="2205000"/>
            <a:ext cx="79200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- محتوى الدرس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المادة العلمية ” عناصر الدرس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 - طريقة التدريس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سيتم الحديث عن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C:\Users\dell\Pictures\imagesCA4SJSEM.jpg"/>
          <p:cNvPicPr/>
          <p:nvPr/>
        </p:nvPicPr>
        <p:blipFill>
          <a:blip r:embed="rId1"/>
          <a:stretch/>
        </p:blipFill>
        <p:spPr>
          <a:xfrm>
            <a:off x="0" y="4005360"/>
            <a:ext cx="34815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95280" y="836640"/>
            <a:ext cx="835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ar-SA" sz="3600" spc="-1" strike="noStrike" u="sng">
                <a:solidFill>
                  <a:srgbClr val="ff0000"/>
                </a:solidFill>
                <a:uFillTx/>
                <a:latin typeface="Arial"/>
              </a:rPr>
              <a:t>-  الأنشطة التعليمي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قد تكون في بداية الدرس أو مصاحبة له أو تالية ل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يراعى في اختيارها المرحلة العمرية وخبرات المتعلمي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قد تكون فردية وقد تكون جماعية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يكون عددها مناسب لحتوى الدرس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سبة اكتساب الخبرة منها عالي جدا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تمارس من قبل الطلا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C:\Users\dell\Pictures\imagesCAAOWWTD.jpg"/>
          <p:cNvPicPr/>
          <p:nvPr/>
        </p:nvPicPr>
        <p:blipFill>
          <a:blip r:embed="rId1"/>
          <a:stretch/>
        </p:blipFill>
        <p:spPr>
          <a:xfrm>
            <a:off x="0" y="4581360"/>
            <a:ext cx="4356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539640" y="765000"/>
            <a:ext cx="86043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r>
              <a:rPr b="1" lang="ar-SA" sz="3600" spc="-1" strike="noStrike" u="sng">
                <a:solidFill>
                  <a:srgbClr val="ff0000"/>
                </a:solidFill>
                <a:uFillTx/>
                <a:latin typeface="Arial"/>
              </a:rPr>
              <a:t>- الوسائل التعليمية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تعد وتجهز قبل عملية التدري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تثري المواقف التعليمي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تكون مناسبة اموضوع الدرس ومستوى التلامي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تستخدم من قبل المعل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C:\Users\dell\Pictures\imagesCAXCUKIR.jpg"/>
          <p:cNvPicPr/>
          <p:nvPr/>
        </p:nvPicPr>
        <p:blipFill>
          <a:blip r:embed="rId1"/>
          <a:stretch/>
        </p:blipFill>
        <p:spPr>
          <a:xfrm>
            <a:off x="179280" y="4292640"/>
            <a:ext cx="4969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539640" y="765000"/>
            <a:ext cx="860436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ar-SA" sz="4400" spc="-1" strike="noStrike" u="sng">
                <a:solidFill>
                  <a:srgbClr val="ff0000"/>
                </a:solidFill>
                <a:uFillTx/>
                <a:latin typeface="Arial"/>
              </a:rPr>
              <a:t>-غلق الدرس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إعادة استرجاع معلومات الدرس بشكل منظم و سريع , ليثبت المعلومات لدى الطلاب و يجمع تفرعات الدرس في نقاط رئيس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C:\Users\dell\Pictures\imagesCAXCUKIR.jpg"/>
          <p:cNvPicPr/>
          <p:nvPr/>
        </p:nvPicPr>
        <p:blipFill>
          <a:blip r:embed="rId1"/>
          <a:stretch/>
        </p:blipFill>
        <p:spPr>
          <a:xfrm>
            <a:off x="179280" y="4292640"/>
            <a:ext cx="4969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250920" y="404640"/>
            <a:ext cx="8497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- أساليب التقوي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يستخدم للتأكد من تحقيق أهداف الدر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أثناء الدرس ( تقويم تكويني) في نهاية الدرس ( تقويم ختامي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عد مسبق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يكون مناسب لمحتوى الدرس ومستوى الطلا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من أساليب التقويم المناسبة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- توجيه الأسئلة من المعلم للتلاميذ والعكس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- تطبيق بعض حلول المشكلات والقضايا الوارده في الدرس على حالات جديد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- اعداد التلاميذ ملخصا بالأفكار الرئيسية للدرس أو الفوائد المكتسبة من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- اعداد تدريبات متنوعة لقياس المهار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ستهدفة من الدرس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C:\Users\dell\Pictures\imagesCAOBW3NE.jpg"/>
          <p:cNvPicPr/>
          <p:nvPr/>
        </p:nvPicPr>
        <p:blipFill>
          <a:blip r:embed="rId1"/>
          <a:stretch/>
        </p:blipFill>
        <p:spPr>
          <a:xfrm>
            <a:off x="179280" y="5157720"/>
            <a:ext cx="30290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468360" y="549360"/>
            <a:ext cx="8207280" cy="59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- الواجبات المنزل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ختيار الوقت المناسب لإعطائه للتلامي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تنوع يراعي الفروق الفردية للتلامي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 - تمار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 - قراءات اضاف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 - أنشطة على شكل مشروع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C:\Users\dell\Pictures\imagesCAOBW3NE.jpg"/>
          <p:cNvPicPr/>
          <p:nvPr/>
        </p:nvPicPr>
        <p:blipFill>
          <a:blip r:embed="rId1"/>
          <a:stretch/>
        </p:blipFill>
        <p:spPr>
          <a:xfrm>
            <a:off x="324000" y="4221000"/>
            <a:ext cx="828036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المرج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مدخل إلى المناهج وطرق التدر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” حسن جعفر الخليفة 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”الفصل الخامس 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G:\2UDNCA131I5ACAANPNRDCA92NRXXCAA4UK7GCA855N2PCA27TRP1CANH925SCAOUQX7KCA8OLLABCAJ1WCNXCARXM0YICAVJM7LCCA7U8829CA250F38CAN3G74NCARSTEGLCAZPM8IUCABDH9SKCA0HL8IU.jpg"/>
          <p:cNvPicPr/>
          <p:nvPr/>
        </p:nvPicPr>
        <p:blipFill>
          <a:blip r:embed="rId1"/>
          <a:stretch/>
        </p:blipFill>
        <p:spPr>
          <a:xfrm>
            <a:off x="0" y="4437000"/>
            <a:ext cx="38512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مستطيل 4"/>
          <p:cNvGrpSpPr/>
          <p:nvPr/>
        </p:nvGrpSpPr>
        <p:grpSpPr>
          <a:xfrm>
            <a:off x="49320" y="274680"/>
            <a:ext cx="2481120" cy="3479760"/>
            <a:chOff x="49320" y="274680"/>
            <a:chExt cx="2481120" cy="3479760"/>
          </a:xfrm>
        </p:grpSpPr>
        <p:pic>
          <p:nvPicPr>
            <p:cNvPr id="94" name="مستطيل 4" descr=""/>
            <p:cNvPicPr/>
            <p:nvPr/>
          </p:nvPicPr>
          <p:blipFill>
            <a:blip r:embed="rId1"/>
            <a:stretch/>
          </p:blipFill>
          <p:spPr>
            <a:xfrm>
              <a:off x="49320" y="274680"/>
              <a:ext cx="2481120" cy="34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79280" y="404640"/>
              <a:ext cx="2214720" cy="32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صورة 3" descr="ش.jpg"/>
          <p:cNvPicPr/>
          <p:nvPr/>
        </p:nvPicPr>
        <p:blipFill>
          <a:blip r:embed="rId2"/>
          <a:stretch/>
        </p:blipFill>
        <p:spPr>
          <a:xfrm>
            <a:off x="1332000" y="1484280"/>
            <a:ext cx="351144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7" name="صورة 2" descr="ش.jpg"/>
          <p:cNvPicPr/>
          <p:nvPr/>
        </p:nvPicPr>
        <p:blipFill>
          <a:blip r:embed="rId3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8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468360" y="184464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7030a0"/>
                </a:solidFill>
                <a:latin typeface="Arial"/>
              </a:rPr>
              <a:t>التخطيط للدروس اليومية مع التركيز على أهمية الأهداف السلوكية و صياغتها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Public\Pictures\Stage\004.jpg"/>
          <p:cNvPicPr/>
          <p:nvPr/>
        </p:nvPicPr>
        <p:blipFill>
          <a:blip r:embed="rId1"/>
          <a:stretch/>
        </p:blipFill>
        <p:spPr>
          <a:xfrm>
            <a:off x="611280" y="404640"/>
            <a:ext cx="7632720" cy="61437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2"/>
          <p:cNvSpPr/>
          <p:nvPr/>
        </p:nvSpPr>
        <p:spPr>
          <a:xfrm>
            <a:off x="1020600" y="858960"/>
            <a:ext cx="6815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</a:rPr>
              <a:t>شكرا لحسن استماعكن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G:\Pictures\50232_105909019482389_4608592_n.jpg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684360" y="112536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6000" spc="-1" strike="noStrike">
                <a:solidFill>
                  <a:srgbClr val="ff0000"/>
                </a:solidFill>
                <a:latin typeface="Arial"/>
                <a:cs typeface="Times New Roman"/>
              </a:rPr>
              <a:t>لنراجع المحاضرة السابقة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1026"/>
          <p:cNvSpPr txBox="1"/>
          <p:nvPr/>
        </p:nvSpPr>
        <p:spPr>
          <a:xfrm rot="19378800">
            <a:off x="834840" y="2855520"/>
            <a:ext cx="659124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103" name="Object 1028"/>
          <p:cNvGraphicFramePr/>
          <p:nvPr/>
        </p:nvGraphicFramePr>
        <p:xfrm>
          <a:off x="5791320" y="5035680"/>
          <a:ext cx="2830320" cy="15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5035680"/>
                    <a:ext cx="283032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6"/>
          <p:cNvSpPr/>
          <p:nvPr/>
        </p:nvSpPr>
        <p:spPr>
          <a:xfrm>
            <a:off x="395280" y="395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66"/>
                </a:solidFill>
                <a:latin typeface="Arial"/>
              </a:rPr>
              <a:t>الأهد</a:t>
            </a:r>
            <a:r>
              <a:rPr b="1" lang="ar-SA" sz="3600" spc="-1" strike="noStrike">
                <a:solidFill>
                  <a:srgbClr val="ff0066"/>
                </a:solidFill>
                <a:latin typeface="Arial"/>
              </a:rPr>
              <a:t>اف المتوقع تحققها من المحاضرة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68360" y="1557360"/>
            <a:ext cx="8351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- أن تتعرف الطالبة على ما يلي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فهوم التخطيط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همية التخطيط للمعلم والمتعلم ولعملية التدري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أن تتدرب الطالبة على التخطيط الفعال للدروس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عنصر نائب لرقم الشريحة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1B73-C04A-46A5-8736-4C896563DA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"/>
          <p:cNvSpPr/>
          <p:nvPr/>
        </p:nvSpPr>
        <p:spPr>
          <a:xfrm>
            <a:off x="468360" y="1989000"/>
            <a:ext cx="8207280" cy="4176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3"/>
          <p:cNvGrpSpPr/>
          <p:nvPr/>
        </p:nvGrpSpPr>
        <p:grpSpPr>
          <a:xfrm>
            <a:off x="755640" y="349200"/>
            <a:ext cx="7848360" cy="4132080"/>
            <a:chOff x="755640" y="349200"/>
            <a:chExt cx="7848360" cy="4132080"/>
          </a:xfrm>
        </p:grpSpPr>
        <p:sp>
          <p:nvSpPr>
            <p:cNvPr id="111" name="AutoShape 4"/>
            <p:cNvSpPr/>
            <p:nvPr/>
          </p:nvSpPr>
          <p:spPr>
            <a:xfrm>
              <a:off x="898200" y="349200"/>
              <a:ext cx="7705800" cy="1943280"/>
            </a:xfrm>
            <a:prstGeom prst="flowChartMultidocument">
              <a:avLst/>
            </a:prstGeom>
            <a:solidFill>
              <a:srgbClr val="ffff00"/>
            </a:solidFill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000" spc="-1" strike="noStrike">
                  <a:solidFill>
                    <a:srgbClr val="000000"/>
                  </a:solidFill>
                  <a:latin typeface="Times New Roman"/>
                  <a:cs typeface="PT Bold Heading"/>
                </a:rPr>
                <a:t>نشاط تمهيد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5"/>
            <p:cNvSpPr/>
            <p:nvPr/>
          </p:nvSpPr>
          <p:spPr>
            <a:xfrm>
              <a:off x="755640" y="2076480"/>
              <a:ext cx="6622920" cy="24048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3366"/>
                  </a:solidFill>
                  <a:latin typeface="Times New Roman"/>
                  <a:cs typeface="PT Bold Heading"/>
                </a:rPr>
                <a:t>بالتعاون مع أفراد مجموعتك , اكتبي جملة مفيدة باستخدام مفهوم « التخطيط «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صورة 735" descr="get-5-2007-pouh4z2v.gif"/>
          <p:cNvPicPr/>
          <p:nvPr/>
        </p:nvPicPr>
        <p:blipFill>
          <a:blip r:embed="rId1"/>
          <a:stretch/>
        </p:blipFill>
        <p:spPr>
          <a:xfrm rot="325200">
            <a:off x="1007640" y="4266720"/>
            <a:ext cx="1031760" cy="928800"/>
          </a:xfrm>
          <a:prstGeom prst="rect">
            <a:avLst/>
          </a:prstGeom>
          <a:ln w="0">
            <a:noFill/>
          </a:ln>
        </p:spPr>
      </p:pic>
      <p:pic>
        <p:nvPicPr>
          <p:cNvPr id="114" name="صورة 735" descr="get-5-2007-pouh4z2v.gif"/>
          <p:cNvPicPr/>
          <p:nvPr/>
        </p:nvPicPr>
        <p:blipFill>
          <a:blip r:embed="rId2"/>
          <a:stretch/>
        </p:blipFill>
        <p:spPr>
          <a:xfrm rot="325200">
            <a:off x="2930040" y="4833720"/>
            <a:ext cx="1032120" cy="928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5280" y="2204640"/>
            <a:ext cx="8424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التخطيط على وجه العموم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هو عبارة عن أسلوب علمي يتم بموجبه اتخاذ التدابير العملية اللازمة لتحقيق أهداف مستقبلية معين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التخطيط للتدريس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عملية منظمة وهادفة تتضمن اتخاذ مجموعة من الاجراءات والقرارات للوصول إلى الأهداف المنشودة على مراحل معينة وخلال فترة زمنية محددة بإستخدام الإمكانات المتاحة أفضل استخدام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  </a:t>
            </a:r>
            <a:r>
              <a:rPr b="1" lang="ar-SA" sz="4400" spc="-1" strike="noStrike">
                <a:solidFill>
                  <a:srgbClr val="ff0066"/>
                </a:solidFill>
                <a:latin typeface="Calibri"/>
              </a:rPr>
              <a:t>أولا : المحاضر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2"/>
          <p:cNvSpPr/>
          <p:nvPr/>
        </p:nvSpPr>
        <p:spPr>
          <a:xfrm>
            <a:off x="2124000" y="333360"/>
            <a:ext cx="6624720" cy="16923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فهوم التخطيط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30" descr="PE01561_"/>
          <p:cNvPicPr/>
          <p:nvPr/>
        </p:nvPicPr>
        <p:blipFill>
          <a:blip r:embed="rId1"/>
          <a:stretch/>
        </p:blipFill>
        <p:spPr>
          <a:xfrm>
            <a:off x="179280" y="476280"/>
            <a:ext cx="16192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Calibri"/>
              </a:rPr>
              <a:t>أهمية التخطيط للتدريس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مكين المعلم من تحديد أهداف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تاحة الفرصة للمعلم للاطلاع على المحتوى الدراسي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بعاد المعلم عن الارتجال والتخبط والاضطراب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نح المعلم الثقة بالنفس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زيادة قدرة المعلم على مراعاة الفروق الفرد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مكين المعلم من زيادة درجة تفاع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المتعلمين في المواقف الصف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030" descr="PE01561_"/>
          <p:cNvPicPr/>
          <p:nvPr/>
        </p:nvPicPr>
        <p:blipFill>
          <a:blip r:embed="rId1"/>
          <a:stretch/>
        </p:blipFill>
        <p:spPr>
          <a:xfrm>
            <a:off x="0" y="3760920"/>
            <a:ext cx="21956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مساعدة المعلم في إدارة الصف بفاعلي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نيل المعلم احترام المتعلمين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9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1116000" y="4508640"/>
            <a:ext cx="24480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Calibri"/>
              </a:rPr>
              <a:t>أنواع التخطيط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507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3300"/>
                </a:solidFill>
                <a:uFillTx/>
                <a:latin typeface="Calibri"/>
              </a:rPr>
              <a:t>أولا : أنواع التخطيط تبعا لحجم المادة الدراسي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التخطيط للوحد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التخطيط للدر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3300"/>
                </a:solidFill>
                <a:uFillTx/>
                <a:latin typeface="Calibri"/>
              </a:rPr>
              <a:t>ثانيا : أنواع التخطيط تبعا لزمن التنفي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الخطط طويلة المدى ” الخطة السنوية“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الخطط الشهر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الخطة اليومية , قصيرة المدى ”خطة الدرس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C:\Users\dell\Pictures\imagesCACYJG58.jpg"/>
          <p:cNvPicPr/>
          <p:nvPr/>
        </p:nvPicPr>
        <p:blipFill>
          <a:blip r:embed="rId1"/>
          <a:stretch/>
        </p:blipFill>
        <p:spPr>
          <a:xfrm>
            <a:off x="0" y="5013360"/>
            <a:ext cx="30099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5:06:08Z</dcterms:created>
  <dc:creator>t com mahmd</dc:creator>
  <dc:description/>
  <dc:language>en-US</dc:language>
  <cp:lastModifiedBy>dell</cp:lastModifiedBy>
  <dcterms:modified xsi:type="dcterms:W3CDTF">2017-10-31T07:51:21Z</dcterms:modified>
  <cp:revision>66</cp:revision>
  <dc:subject/>
  <dc:title>الانكيت</dc:title>
</cp:coreProperties>
</file>