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E036-BEC1-4886-BA09-B756AC67F4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677-A6CC-4433-B97E-23A47A811394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397-BC7A-49DB-A95E-65059E3F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C9A-2928-4493-9A22-DC15E829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D93-B4F1-4ABE-8906-930CE427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FD2-0BB2-4B82-B448-5BA42192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F03-0A67-428D-A7C4-FDF32988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0736-D526-443A-97EB-DF10DD2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90A-D314-40A9-856F-8222D7B7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7412-7961-4437-8014-2CE3005B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4BA7-656E-4A4B-AD56-D2C3ABC8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6E9-938F-4D75-9F80-BAFDD257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2E49-A5B6-4A5D-8CA2-1B947B4E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93D-F3F3-4405-AA57-5BEA0DCC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E04B-8C2C-44AD-9F06-4527B7A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D53-1C4D-4E77-BB9D-796EA74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877D-7122-4DA2-A3E2-28433ABB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9FA4-952E-4132-ADCB-49A932BA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F72B-DBCC-4C36-9B5D-C754448F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225-C269-4506-A32B-0773F9AA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741-4440-4EAE-AF98-186EE8BE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966-21EC-4A3C-87D0-4935A523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010-A26B-4F04-992A-3721389E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608-0C71-4D7F-8492-14B1D241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7922-AD39-403D-BAB1-5E8FA75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B35-3488-435D-ABCB-EA8DBDF0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0975-5D8C-4F69-AD62-2F66BB64D3B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AB18-410D-47A4-9EC9-03210ABD2BE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خامس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208600" y="549360"/>
            <a:ext cx="52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أولا : الخطة السنو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50920" y="177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أهم فوائد الخطة السنوية أو التخطيط طويل المدى , هو أنه يوفر للمعلم رؤية شاملة لسير العملية التعليم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لذا يجب مراعاة مايلي عند اعداد الخطة السنوية للتدريس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طلاع على الأهداف العامة للمنهج ومراعاة تحقيق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اطلاع على محتوى المنهج الدراسي , ليتعرف على علاقته بما سبق أن درسه المتعلمو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مولية النظر إلى محتوى المنهج وجوانبه المختل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دى مناسبة الوقت لتدري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dell\Pictures\imagesCAANLOL9.jpg"/>
          <p:cNvPicPr/>
          <p:nvPr/>
        </p:nvPicPr>
        <p:blipFill>
          <a:blip r:embed="rId1"/>
          <a:stretch/>
        </p:blipFill>
        <p:spPr>
          <a:xfrm>
            <a:off x="17928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50920" y="836640"/>
            <a:ext cx="8208720" cy="72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توزيع القيم والأوزان بما يتناسب مع هذه الموضوع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ختيار الأساليب التعليلية والتقويمية المناسبة ل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ختيار المناشط المحققه لللأهداف وفقا ل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Arial"/>
              </a:rPr>
              <a:t>العناصر التي يجب أن تتضمنها الخطة السنوي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الأهداف التربوية للمادة المراد تدريس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محتوى المادة الدراس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ضع تخطيط لتدريس الموضوعات والوحد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طرق التعلم وأساليبه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أساليب التقوي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حديد المصادر والمراج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41964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ثانيا : خطة الدر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539640" y="90792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خطة الدرس من عدد من العناصر أو المكونات وقد تختلف من حيث عددها وترتيبها من خطة لأخرى وفقا لطبيعة المادة الدراسية أو المرحلة التعليمية , إلا أنه ثمة عناصر أسية اتفق المربون أهمية توافرها في خطة الدرس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الإطار العام ل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3880" y="3700440"/>
          <a:ext cx="6096240" cy="1189080"/>
        </p:xfrm>
        <a:graphic>
          <a:graphicData uri="http://schemas.openxmlformats.org/drawingml/2006/table">
            <a:tbl>
              <a:tblPr/>
              <a:tblGrid>
                <a:gridCol w="3021120"/>
                <a:gridCol w="3075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ما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اريخ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ح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ص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موضوع الدر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ص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773520" y="981000"/>
            <a:ext cx="47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الأهداف السلوك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بق الحديث عن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84360" y="2205000"/>
            <a:ext cx="7920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محتوى الدر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المادة العلمية ” عناصر الدرس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 - طريقة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يتم الحديث عن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4005360"/>
            <a:ext cx="3481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95280" y="836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-  الأنشطة التعلي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قد تكون في بداية الدرس أو مصاحبة له أو تالية 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يراعى في اختيارها المرحلة العمرية وخبرات المتعلمي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قد تكون فردية وقد تكون جماعية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كون عددها مناسب لحتوى الدرس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سبة اكتساب الخبرة منها عالي جد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مارس من قبل الطلا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dell\Pictures\imagesCAAOWWTD.jpg"/>
          <p:cNvPicPr/>
          <p:nvPr/>
        </p:nvPicPr>
        <p:blipFill>
          <a:blip r:embed="rId1"/>
          <a:stretch/>
        </p:blipFill>
        <p:spPr>
          <a:xfrm>
            <a:off x="0" y="4581360"/>
            <a:ext cx="4356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539640" y="765000"/>
            <a:ext cx="8604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- الوسائل التعليم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تعد وتجهز قبل عملية التدري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ثري المواقف التعلي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كون مناسبة اموضوع الدرس ومستوى التلامي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ستخدم من قبل المعل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dell\Pictures\imagesCAXCUKIR.jpg"/>
          <p:cNvPicPr/>
          <p:nvPr/>
        </p:nvPicPr>
        <p:blipFill>
          <a:blip r:embed="rId1"/>
          <a:stretch/>
        </p:blipFill>
        <p:spPr>
          <a:xfrm>
            <a:off x="179280" y="4292640"/>
            <a:ext cx="496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539640" y="765000"/>
            <a:ext cx="860436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-غلق ال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إعادة استرجاع معلومات الدرس بشكل منظم و سريع , ليثبت المعلومات لدى الطلاب و يجمع تفرعات الدرس في نقاط 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dell\Pictures\imagesCAXCUKIR.jpg"/>
          <p:cNvPicPr/>
          <p:nvPr/>
        </p:nvPicPr>
        <p:blipFill>
          <a:blip r:embed="rId1"/>
          <a:stretch/>
        </p:blipFill>
        <p:spPr>
          <a:xfrm>
            <a:off x="179280" y="4292640"/>
            <a:ext cx="496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250920" y="404640"/>
            <a:ext cx="849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- أساليب التقو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ستخدم للتأكد من تحقيق أهداف الد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ثناء الدرس ( تقويم تكويني) في نهاية الدرس ( تقويم ختامي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عد مسبق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كون مناسب لمحتوى الدرس ومستو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ن أساليب التقويم المناسب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وجيه الأسئلة من المعلم للتلاميذ والعك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تطبيق بعض حلول المشكلات والقضايا الوارده في الدرس على حالات جديد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التلاميذ ملخصا بالأفكار الرئيسية للدرس أو الفوائد المكتسبة م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- اعداد تدريبات متنوعة لقياس المه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ستهدفة من الدر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179280" y="515772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68360" y="549360"/>
            <a:ext cx="820728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- الواجبات المنز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ختيار الوقت المناسب لإعطائه للتلامي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نوع يراعي الفروق الفردية للتلامي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- تمار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- قراءات اضا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- أنشطة على شكل مشروع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324000" y="4221000"/>
            <a:ext cx="8280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دخل إلى المناهج وطرق التد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” حسن جعفر الخليفة 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”الفصل الخامس 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0" y="4437000"/>
            <a:ext cx="3851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94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صورة 3" descr="ش.jpg"/>
          <p:cNvPicPr/>
          <p:nvPr/>
        </p:nvPicPr>
        <p:blipFill>
          <a:blip r:embed="rId2"/>
          <a:stretch/>
        </p:blipFill>
        <p:spPr>
          <a:xfrm>
            <a:off x="1332000" y="1484280"/>
            <a:ext cx="351144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7030a0"/>
                </a:solidFill>
                <a:latin typeface="Arial"/>
              </a:rPr>
              <a:t>التخطيط للدروس اليومية مع التركيز على أهمية الأهداف السلوكية و صياغتها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3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395280" y="395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</a:t>
            </a:r>
            <a:r>
              <a:rPr b="1" lang="ar-SA" sz="3600" spc="-1" strike="noStrike">
                <a:solidFill>
                  <a:srgbClr val="ff0066"/>
                </a:solidFill>
                <a:latin typeface="Arial"/>
              </a:rPr>
              <a:t>اف المتوقع تحققها من المحاضر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1557360"/>
            <a:ext cx="8351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أن تتعرف الطالبة على ما يلي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فهوم التخطيط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ية التخطيط للمعلم والمتعلم ولعملية التدري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ن تتدرب الطالبة على التخطيط الفعال للدروس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37C8-AA0E-46BB-8575-A8B5BB6399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755640" y="349200"/>
            <a:ext cx="7848360" cy="4132080"/>
            <a:chOff x="755640" y="349200"/>
            <a:chExt cx="7848360" cy="4132080"/>
          </a:xfrm>
        </p:grpSpPr>
        <p:sp>
          <p:nvSpPr>
            <p:cNvPr id="111" name="AutoShape 4"/>
            <p:cNvSpPr/>
            <p:nvPr/>
          </p:nvSpPr>
          <p:spPr>
            <a:xfrm>
              <a:off x="898200" y="349200"/>
              <a:ext cx="7705800" cy="194328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755640" y="2076480"/>
              <a:ext cx="6622920" cy="2404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جملة مفيدة باستخدام مفهوم « التخطيط «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4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خطيط على وجه العموم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و عبارة عن أسلوب علمي يتم بموجبه اتخاذ التدابير العملية اللازمة لتحقيق أهداف مستقبل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تخطيط للتدريس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ملية منظمة وهادفة تتضمن اتخاذ مجموعة من الاجراءات والقرارات للوصول إلى الأهداف المنشودة على مراحل معينة وخلال فترة زمنية محددة بإستخدام الإمكانات المتاحة أفضل استخد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2124000" y="333360"/>
            <a:ext cx="662472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خطي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30" descr="PE01561_"/>
          <p:cNvPicPr/>
          <p:nvPr/>
        </p:nvPicPr>
        <p:blipFill>
          <a:blip r:embed="rId1"/>
          <a:stretch/>
        </p:blipFill>
        <p:spPr>
          <a:xfrm>
            <a:off x="179280" y="476280"/>
            <a:ext cx="1619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Calibri"/>
              </a:rPr>
              <a:t>أهمية التخطيط للتدريس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تحديد أهدا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تاحة الفرصة للمعلم للاطلاع على المحتوى الدراس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بعاد المعلم عن الارتجال والتخبط والاضطراب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 المعلم الثقة بالنف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زيادة قدرة المعلم على مراعاة الفروق الفرد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مكين المعلم من زيادة درجة تفاع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المتعلمين في المواقف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30" descr="PE01561_"/>
          <p:cNvPicPr/>
          <p:nvPr/>
        </p:nvPicPr>
        <p:blipFill>
          <a:blip r:embed="rId1"/>
          <a:stretch/>
        </p:blipFill>
        <p:spPr>
          <a:xfrm>
            <a:off x="0" y="3760920"/>
            <a:ext cx="21956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مساعدة المعلم في إدارة الصف بفاعل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نيل المعلم احترام المتعلمين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أنواع التخطي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أولا : أنواع التخطيط تبعا لحجم المادة الدراس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وحد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تخطيط للدر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00"/>
                </a:solidFill>
                <a:uFillTx/>
                <a:latin typeface="Calibri"/>
              </a:rPr>
              <a:t>ثانيا : أنواع التخطيط تبعا لزمن التنفي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طويلة المدى ” الخطة السنوية“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ط الشهر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الخطة اليومية , قصيرة المدى ”خطة الدرس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C:\Users\dell\Pictures\imagesCACYJG58.jpg"/>
          <p:cNvPicPr/>
          <p:nvPr/>
        </p:nvPicPr>
        <p:blipFill>
          <a:blip r:embed="rId1"/>
          <a:stretch/>
        </p:blipFill>
        <p:spPr>
          <a:xfrm>
            <a:off x="0" y="5013360"/>
            <a:ext cx="3009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0-31T07:51:21Z</dcterms:modified>
  <cp:revision>66</cp:revision>
  <dc:subject/>
  <dc:title>الانكيت</dc:title>
</cp:coreProperties>
</file>