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3DB-39FA-4EF4-B403-ABF43B58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E22-B691-4E10-8AE0-3AAF0519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035-CD66-4A8F-A284-636B762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D43-837A-44F4-B896-E3F70FE3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F65-935B-43B9-A35F-62D4FFFE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72C-BCC6-4F1B-B4C6-89A3566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F5F-C3DF-4574-9375-5090C87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E9E-3F8B-46BA-B1F1-EF08F8A7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807-BE02-4E7B-9263-54253076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C51-0DCE-4EF6-897A-FB5CEEE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430-A54A-4EC2-BFC2-C2F0BE1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5B3-DD91-46E0-90BD-B62B5D4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AEFD-FA1D-4423-804A-E6C11FAEE5B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خامس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خطيط الدروس وفق نموذج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1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خطيط الدرس ب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نشـــــــــــــــــــــــــــــــــــــا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user</cp:lastModifiedBy>
  <dcterms:modified xsi:type="dcterms:W3CDTF">2014-10-28T20:30:51Z</dcterms:modified>
  <cp:revision>50</cp:revision>
  <dc:subject/>
  <dc:title>الانكيت</dc:title>
</cp:coreProperties>
</file>