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10.wmf" ContentType="image/x-wmf"/>
  <Override PartName="/ppt/media/image12.jpeg" ContentType="image/jpeg"/>
  <Override PartName="/ppt/media/image3.jpeg" ContentType="image/jpeg"/>
  <Override PartName="/ppt/media/image4.jpeg" ContentType="image/jpeg"/>
  <Override PartName="/ppt/media/image8.wmf" ContentType="image/x-wmf"/>
  <Override PartName="/ppt/media/image9.wmf" ContentType="image/x-wmf"/>
  <Override PartName="/ppt/media/image11.wmf" ContentType="image/x-wmf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E033-08DE-42DD-8965-5C17B951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51D1-0225-4282-B387-D20004E5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BC98-ED6C-4AE8-A02A-036F3BBC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C246-8FC8-4B95-BC4F-FF45F60C2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4076-D462-4833-943F-66442EFB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EFB9-9F44-4271-B3A2-CC6065F7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6501-A7C0-4140-8967-23242552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66DF-9CF8-4BDC-AF43-6A9B63E0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9A30-F2DA-4F03-97A9-EE374135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A1D0-1BD4-4A5F-8258-45D449BC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16A6-3279-46D1-B1C6-52418387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C111-2B6F-42A4-AD26-73829FF1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AA1D-0483-4159-A408-10232D61A6E4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hp\Pictures\خلفيات بوربوينت\2530alhnu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hp\Pictures\يسم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Public\Pictures\Stage\004.jpg"/>
          <p:cNvPicPr/>
          <p:nvPr/>
        </p:nvPicPr>
        <p:blipFill>
          <a:blip r:embed="rId1"/>
          <a:stretch/>
        </p:blipFill>
        <p:spPr>
          <a:xfrm>
            <a:off x="611280" y="404640"/>
            <a:ext cx="7632720" cy="614376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1020600" y="858960"/>
            <a:ext cx="6815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</a:rPr>
              <a:t>شكرا لحسن استماعكن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صورة 3" descr="ش.jpg"/>
          <p:cNvPicPr/>
          <p:nvPr/>
        </p:nvPicPr>
        <p:blipFill>
          <a:blip r:embed="rId1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6" name="صورة 2" descr="ش.jpg"/>
          <p:cNvPicPr/>
          <p:nvPr/>
        </p:nvPicPr>
        <p:blipFill>
          <a:blip r:embed="rId2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7000920" y="285840"/>
            <a:ext cx="1619280" cy="1557360"/>
          </a:xfrm>
          <a:prstGeom prst="rect">
            <a:avLst/>
          </a:prstGeom>
          <a:ln w="0">
            <a:noFill/>
          </a:ln>
        </p:spPr>
      </p:pic>
      <p:sp>
        <p:nvSpPr>
          <p:cNvPr id="49" name="مستطيل 8"/>
          <p:cNvSpPr/>
          <p:nvPr/>
        </p:nvSpPr>
        <p:spPr>
          <a:xfrm>
            <a:off x="468360" y="1916280"/>
            <a:ext cx="77756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مقرر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: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340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نهج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طرق تدريس العلوم الشرع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الفصل الدراسي الأول  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5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\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6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0000"/>
                </a:solidFill>
                <a:uFillTx/>
                <a:latin typeface="Agency FB"/>
                <a:cs typeface="Times New Roman"/>
              </a:rPr>
              <a:t>المحاضرة الخامس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H:\1شعار القسم.JPG"/>
          <p:cNvPicPr/>
          <p:nvPr/>
        </p:nvPicPr>
        <p:blipFill>
          <a:blip r:embed="rId4"/>
          <a:stretch/>
        </p:blipFill>
        <p:spPr>
          <a:xfrm>
            <a:off x="317520" y="255600"/>
            <a:ext cx="18828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مستطيل 4"/>
          <p:cNvGrpSpPr/>
          <p:nvPr/>
        </p:nvGrpSpPr>
        <p:grpSpPr>
          <a:xfrm>
            <a:off x="49320" y="274680"/>
            <a:ext cx="2481120" cy="3479760"/>
            <a:chOff x="49320" y="274680"/>
            <a:chExt cx="2481120" cy="3479760"/>
          </a:xfrm>
        </p:grpSpPr>
        <p:pic>
          <p:nvPicPr>
            <p:cNvPr id="52" name="مستطيل 4" descr=""/>
            <p:cNvPicPr/>
            <p:nvPr/>
          </p:nvPicPr>
          <p:blipFill>
            <a:blip r:embed="rId1"/>
            <a:stretch/>
          </p:blipFill>
          <p:spPr>
            <a:xfrm>
              <a:off x="49320" y="274680"/>
              <a:ext cx="2481120" cy="34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79280" y="404640"/>
              <a:ext cx="221472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صورة 3" descr="ش.jpg"/>
          <p:cNvPicPr/>
          <p:nvPr/>
        </p:nvPicPr>
        <p:blipFill>
          <a:blip r:embed="rId2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5" name="صورة 2" descr="ش.jpg"/>
          <p:cNvPicPr/>
          <p:nvPr/>
        </p:nvPicPr>
        <p:blipFill>
          <a:blip r:embed="rId3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1287360" y="2890800"/>
            <a:ext cx="6740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تخطيط الدروس وفق نموذج الانكيت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G:\Pictures\50232_105909019482389_4608592_n.jpg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684360" y="112536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6000" spc="-1" strike="noStrike">
                <a:solidFill>
                  <a:srgbClr val="ff0000"/>
                </a:solidFill>
                <a:latin typeface="Arial"/>
                <a:cs typeface="Times New Roman"/>
              </a:rPr>
              <a:t>لنراجع المحاضرة السابقة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1026"/>
          <p:cNvSpPr txBox="1"/>
          <p:nvPr/>
        </p:nvSpPr>
        <p:spPr>
          <a:xfrm rot="19378800">
            <a:off x="834840" y="2855520"/>
            <a:ext cx="659124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61" name="Object 1028"/>
          <p:cNvGraphicFramePr/>
          <p:nvPr/>
        </p:nvGraphicFramePr>
        <p:xfrm>
          <a:off x="5791320" y="5035680"/>
          <a:ext cx="2830320" cy="15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5035680"/>
                    <a:ext cx="283032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 Box 6"/>
          <p:cNvSpPr/>
          <p:nvPr/>
        </p:nvSpPr>
        <p:spPr>
          <a:xfrm>
            <a:off x="1835280" y="39528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66"/>
                </a:solidFill>
                <a:latin typeface="Arial"/>
              </a:rPr>
              <a:t>الأهداف المتوقع تحققها من المحاضر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468360" y="1557360"/>
            <a:ext cx="835164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تعرف على مفهوم الانكي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تعرف على سبب اعتماد تحضير الانكيت في كلية الترب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التدرب على اعداد الدروس بطريقة تحضير الانكي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الانكيت هي عبارة عن منظمة دولية تهتم باعتماد برامج اعداد المعلمين والتخصصات الأخرى التي سيعمل خريجها في قطاع التعليم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  </a:t>
            </a:r>
            <a:r>
              <a:rPr b="1" lang="ar-SA" sz="4400" spc="-1" strike="noStrike">
                <a:solidFill>
                  <a:srgbClr val="ff0066"/>
                </a:solidFill>
                <a:latin typeface="Calibri"/>
              </a:rPr>
              <a:t>أولا : المحاضر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2"/>
          <p:cNvSpPr/>
          <p:nvPr/>
        </p:nvSpPr>
        <p:spPr>
          <a:xfrm>
            <a:off x="1476360" y="297000"/>
            <a:ext cx="6624720" cy="16920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فهوم الانكيت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30" descr="PE01561_"/>
          <p:cNvPicPr/>
          <p:nvPr/>
        </p:nvPicPr>
        <p:blipFill>
          <a:blip r:embed="rId1"/>
          <a:stretch/>
        </p:blipFill>
        <p:spPr>
          <a:xfrm>
            <a:off x="179280" y="3760920"/>
            <a:ext cx="4362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مل هيئة الانكيت على إحداث فرق واضح وملموس في نوعية التعليم من حيث تحسين مستوى المعلمين الذين يتم اعدادهم لمهنة المستقب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ينطلق هذا العمل من نتائج الدراسات الكثيرة التي أشارت إلى أن الإعداد الجيد للمعلم يعتبر من العوامل الهامة جدا في رفع مستوى تحصيل تلاميذ المدارس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ject 1" descr=""/>
          <p:cNvPicPr/>
          <p:nvPr/>
        </p:nvPicPr>
        <p:blipFill>
          <a:blip r:embed="rId1"/>
          <a:stretch/>
        </p:blipFill>
        <p:spPr>
          <a:xfrm>
            <a:off x="108000" y="4437000"/>
            <a:ext cx="3244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هم مزايا تخطيط الدرس بالانكيت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تميز هذا النوع من التحضير بأنه لا تنتهي مهمته بمجرد الانتهاء من شرح الدرس , بل هو يستمر لمرحلة ما بعد شرح الدرس ليعود المعلم إلى نموذج التحضير مرة أخرى ليقوم بتقييم الدرس وكافة مجرياته , ويضع مقترحات للتحسين والتطوير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9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1116000" y="4508640"/>
            <a:ext cx="24480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Calibri"/>
              </a:rPr>
              <a:t>نشـــــــــــــــــــــــــــــــــــــاط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عدي بالتعاون مع زميلاتك أحد الدروس بطريقة الانكيت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1" descr="ANd9GcT6rmB08Q0cHlYox5pPbTw0T_RprNVNaMKRoFhFIbIJQukKASUR"/>
          <p:cNvPicPr/>
          <p:nvPr/>
        </p:nvPicPr>
        <p:blipFill>
          <a:blip r:embed="rId1"/>
          <a:stretch/>
        </p:blipFill>
        <p:spPr>
          <a:xfrm>
            <a:off x="0" y="4653000"/>
            <a:ext cx="3203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user</cp:lastModifiedBy>
  <dcterms:modified xsi:type="dcterms:W3CDTF">2014-10-28T20:30:51Z</dcterms:modified>
  <cp:revision>50</cp:revision>
  <dc:subject/>
  <dc:title>الانكيت</dc:title>
</cp:coreProperties>
</file>