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C9C5B-030E-495A-BC35-9CCE8EF91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C61D5-422B-4EFC-AE17-2A7A8AAD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DA4D-445C-4B40-93A5-50C963B2D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248F6-9F7E-4E70-AC30-649FA6439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09079-72BA-486B-8DD7-B5E9C2A7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4E0A-ADE7-46D7-930A-06A7D007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E2D6-79DF-4B30-BDDA-3D3671549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7643-A9F8-4D77-A28B-45BFB9D4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FC2EC-C27D-43E0-BCDF-EBF0F77D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E218-80BE-44D6-8DD6-15B02A46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E2C9-0213-45B1-A162-83FA37F82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C8A8-4069-4367-8F49-80021015E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4091-46F9-4A23-9EE7-84714937C2D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سبيرمان – ثورندايك</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ر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دل الدائرة في الشكل الموضح على القدر المشترك بين جميع الاختبارات، أي على العامل العام، وتدل الأشكال المستطيلة على الاختبارات، حيث يقع جزء من كل اختبار داخل الدائرة، وهو مقدار تشبعه بالعامل العام، وجزء خارج الدائرة، وهو العامل الخاص بالاختبار.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ح من الشكل أن تشبع الاختبارين أ  ، ب بالعامل العام أكبر من تشبع الاختبارين ج ، د ، ومن ثم فإن قيمة معامل الارتباط بين أ، ب أكبر من معامل الارتباط بين ج ، د أو بين أ ، ج أو   د، أو  ب ، ج، أو ب، د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أن ما يهمنا دائماً </a:t>
            </a:r>
            <a:r>
              <a:rPr b="0" lang="ar-SA" sz="2800" spc="-1" strike="noStrike">
                <a:solidFill>
                  <a:srgbClr val="00b050"/>
                </a:solidFill>
                <a:latin typeface="Traditional Arabic"/>
                <a:cs typeface="Traditional Arabic"/>
              </a:rPr>
              <a:t>هو قياس العامل العام، فإن قيمة أي اختبار عقلي تقاس بمقدار تشبعه بهذا العامل.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إذا استطعنا أن نعد اختباراً يبلغ تشبعه بهذا العامل العام أ</a:t>
            </a:r>
            <a:r>
              <a:rPr b="0" lang="ar-SA" sz="2800" spc="-1" strike="noStrike" u="sng">
                <a:solidFill>
                  <a:srgbClr val="7030a0"/>
                </a:solidFill>
                <a:uFillTx/>
                <a:latin typeface="Traditional Arabic"/>
                <a:cs typeface="Traditional Arabic"/>
              </a:rPr>
              <a:t>على درجة ممكنة فإننا يمكن أن نستغني به عن باقي الاختبارات الأخرى.</a:t>
            </a:r>
            <a:r>
              <a:rPr b="0" lang="ar-SA" sz="2800" spc="-1" strike="noStrike">
                <a:solidFill>
                  <a:srgbClr val="c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ذلك يحلل سبيرمان درجة الفرد في أي اختبار عقلي، إلى عاملين رئيسيين أي أن:</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د = ع + 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يث أن د = </a:t>
            </a:r>
            <a:r>
              <a:rPr b="0" lang="ar-SA" sz="2800" spc="-1" strike="noStrike">
                <a:solidFill>
                  <a:srgbClr val="009900"/>
                </a:solidFill>
                <a:latin typeface="Traditional Arabic"/>
                <a:cs typeface="Traditional Arabic"/>
              </a:rPr>
              <a:t>درجة الفرد في الاختبار.</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 = </a:t>
            </a:r>
            <a:r>
              <a:rPr b="0" lang="ar-SA" sz="2800" spc="-1" strike="noStrike">
                <a:solidFill>
                  <a:srgbClr val="3333cc"/>
                </a:solidFill>
                <a:latin typeface="Traditional Arabic"/>
                <a:cs typeface="Traditional Arabic"/>
              </a:rPr>
              <a:t>مقدار تشبع الاختبار بالعامل العام.</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 </a:t>
            </a:r>
            <a:r>
              <a:rPr b="0" lang="ar-SA" sz="2800" spc="-1" strike="noStrike">
                <a:solidFill>
                  <a:srgbClr val="c00000"/>
                </a:solidFill>
                <a:latin typeface="Traditional Arabic"/>
                <a:cs typeface="Traditional Arabic"/>
              </a:rPr>
              <a:t>مقدار تشبع الاختبار بالعامل الخاص.</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قيق الفرض: ولكي يبرهن سبيرمان على صحة فرضه هذا، </a:t>
            </a:r>
            <a:r>
              <a:rPr b="0" lang="ar-SA" sz="2800" spc="-1" strike="noStrike">
                <a:solidFill>
                  <a:srgbClr val="3333cc"/>
                </a:solidFill>
                <a:latin typeface="Traditional Arabic"/>
                <a:cs typeface="Traditional Arabic"/>
              </a:rPr>
              <a:t>قام بإجراء سلسلة من التجارب وكانت طريقته تقوم على أساس إعداد مجموعة من الاختبارات، التي تقيس نواحي النشاط العقلي المعرف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تطبيقها على مجموعة من الأفراد، </a:t>
            </a:r>
            <a:r>
              <a:rPr b="0" lang="ar-SA" sz="2800" spc="-1" strike="noStrike">
                <a:solidFill>
                  <a:srgbClr val="009900"/>
                </a:solidFill>
                <a:latin typeface="Traditional Arabic"/>
                <a:cs typeface="Traditional Arabic"/>
              </a:rPr>
              <a:t>يتم حساب معاملات الارتباط بينها، ثم تنظيم المعاملات في جدول خاص يسمى مصفوفة معاملات الارتباط</a:t>
            </a:r>
            <a:r>
              <a:rPr b="0" lang="ar-SA" sz="2800" spc="-1" strike="noStrike">
                <a:solidFill>
                  <a:srgbClr val="000000"/>
                </a:solidFill>
                <a:latin typeface="Traditional Arabic"/>
                <a:cs typeface="Traditional Arabic"/>
              </a:rPr>
              <a:t>، </a:t>
            </a:r>
            <a:r>
              <a:rPr b="0" lang="ar-SA" sz="2800" spc="-1" strike="noStrike">
                <a:solidFill>
                  <a:srgbClr val="c00000"/>
                </a:solidFill>
                <a:latin typeface="Traditional Arabic"/>
                <a:cs typeface="Traditional Arabic"/>
              </a:rPr>
              <a:t>وبعد ذلك يقوم بدراسة الخواص الإحصائية للمصفوفة، لإثبات أنها تدل على وجود عامل عام، وتحديد مقدار تشبع كل اختبار بهذا العامل.</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عد سبيرمان مجموعة من الاختبارات البسيطة التي تقيس التميز الحسي والسمعي والبصري واللمسي، وطبقها على مجموعات من التلاميذ، ثم حصل على تقديرات المعلمين لذكاء التلاميذ، وعلى درجات تحصيلهم المدرسي، ثم حسب معاملات الارتباط بينهما، وأخذ يعالجها بأساليب متعددة، لكي يوضح انه تدل على وجود عامل عام.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سبيرمان إلى أن هناك اتجاهات ثلاثة: </a:t>
            </a:r>
            <a:r>
              <a:rPr b="0" lang="ar-SA" sz="2800" spc="-1" strike="noStrike">
                <a:solidFill>
                  <a:srgbClr val="c00000"/>
                </a:solidFill>
                <a:latin typeface="Traditional Arabic"/>
                <a:cs typeface="Traditional Arabic"/>
              </a:rPr>
              <a:t>الاتجاه الأحادي الذي يؤكد أن الذكاء وظيفة أو سمة واحدة, أو هو نوع من القوة المسيطرة على نشاط الإنسان</a:t>
            </a:r>
            <a:r>
              <a:rPr b="0" lang="ar-SA" sz="2800" spc="-1" strike="noStrike">
                <a:solidFill>
                  <a:srgbClr val="000000"/>
                </a:solidFill>
                <a:latin typeface="Traditional Arabic"/>
                <a:ea typeface="Traditional Arabic"/>
              </a:rPr>
              <a:t>, والتي يمكن قياسها والتعبير عنها بدرجة واحدة, وقد أشار سبيرمان إلى أن هذا الاتجاه كان شائعا بين عامة الناس, ولدى بعض علماء النفس مثل بينيه وترمان، </a:t>
            </a:r>
            <a:r>
              <a:rPr b="0" lang="ar-SA" sz="2800" spc="-1" strike="noStrike">
                <a:solidFill>
                  <a:srgbClr val="00b050"/>
                </a:solidFill>
                <a:latin typeface="Traditional Arabic"/>
                <a:cs typeface="Traditional Arabic"/>
              </a:rPr>
              <a:t>والاتجاه الثاني يؤكد وجود عدة قدرات أو ملكات عقلية منفصلة</a:t>
            </a:r>
            <a:r>
              <a:rPr b="0" lang="ar-SA" sz="2800" spc="-1" strike="noStrike">
                <a:solidFill>
                  <a:srgbClr val="000000"/>
                </a:solidFill>
                <a:latin typeface="Traditional Arabic"/>
                <a:ea typeface="Traditional Arabic"/>
              </a:rPr>
              <a:t>, مثل الحكم والتذكر والانتباه والإبداع, ومن ثم يرى أن كل قدرة يجب أن تقاس بمقاييسها الخاصة.</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هناك اتجاه ثالث أشار إليه سبيرمان بالاتجاه (الفوضوي), وهو التطرف يؤدي إليه الاتجاه الثاني</a:t>
            </a:r>
            <a:r>
              <a:rPr b="0" lang="ar-SA" sz="2800" spc="-1" strike="noStrike">
                <a:solidFill>
                  <a:srgbClr val="632523"/>
                </a:solidFill>
                <a:latin typeface="Traditional Arabic"/>
                <a:ea typeface="Traditional Arabic"/>
              </a:rPr>
              <a:t>,</a:t>
            </a:r>
            <a:r>
              <a:rPr b="0" lang="ar-SA" sz="2800" spc="-1" strike="noStrike">
                <a:solidFill>
                  <a:srgbClr val="000000"/>
                </a:solidFill>
                <a:latin typeface="Traditional Arabic"/>
                <a:ea typeface="Traditional Arabic"/>
              </a:rPr>
              <a:t> إذ إن افتراض عدة ملكات منفصلة يقود بالضرورة إلى تصور أن كل واحدة منها تنقسم بدورها إلى ملكات فرعية أو جزئ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ناقش سبيرمان هذه الاتجاهات في تعريف الذكاء موضحًا أوجه قصورها, ولكنه لم يقدم تعريفا بديلاً. </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فقد كان واضحاً في أن العامل العام </a:t>
            </a:r>
            <a:r>
              <a:rPr b="0" lang="ar-SA" sz="2800" spc="-1" strike="noStrike">
                <a:solidFill>
                  <a:srgbClr val="009900"/>
                </a:solidFill>
                <a:latin typeface="Traditional Arabic"/>
                <a:ea typeface="Traditional Arabic"/>
              </a:rPr>
              <a:t>(ع) الذي توصل إليه ليس شيئا محددا أو ملموسًا, وإنما هو قيمة أو مقدار فقط,</a:t>
            </a:r>
            <a:r>
              <a:rPr b="0" lang="ar-SA" sz="2800" spc="-1" strike="noStrike">
                <a:solidFill>
                  <a:srgbClr val="c00000"/>
                </a:solidFill>
                <a:latin typeface="Traditional Arabic"/>
                <a:ea typeface="Traditional Arabic"/>
              </a:rPr>
              <a:t> ومن المعلوم أن المقدار لا يحدد طبيعة الخاصية أو الطاقة التي يمثلها </a:t>
            </a:r>
            <a:r>
              <a:rPr b="0" lang="ar-SA" sz="2800" spc="-1" strike="noStrike">
                <a:solidFill>
                  <a:srgbClr val="009900"/>
                </a:solidFill>
                <a:latin typeface="Traditional Arabic"/>
                <a:cs typeface="Traditional Arabic"/>
              </a:rPr>
              <a:t>هذا العامل العام</a:t>
            </a:r>
            <a:r>
              <a:rPr b="0" lang="ar-SA" sz="2800" spc="-1" strike="noStrike">
                <a:solidFill>
                  <a:srgbClr val="c00000"/>
                </a:solidFill>
                <a:latin typeface="Traditional Arabic"/>
                <a:ea typeface="Traditional Arabic"/>
              </a:rPr>
              <a:t>, أنه مقياس موضوعي, </a:t>
            </a:r>
            <a:r>
              <a:rPr b="0" lang="ar-SA" sz="2800" spc="-1" strike="noStrike">
                <a:solidFill>
                  <a:srgbClr val="3333cc"/>
                </a:solidFill>
                <a:latin typeface="Traditional Arabic"/>
                <a:cs typeface="Traditional Arabic"/>
              </a:rPr>
              <a:t>قد يكون هو الذكاء وقد لا يكون.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أن سبيرمان يقترح إمكانية </a:t>
            </a:r>
            <a:r>
              <a:rPr b="0" lang="ar-SA" sz="2800" spc="-1" strike="noStrike">
                <a:solidFill>
                  <a:srgbClr val="c00000"/>
                </a:solidFill>
                <a:latin typeface="Traditional Arabic"/>
                <a:cs typeface="Traditional Arabic"/>
              </a:rPr>
              <a:t>العامل العام طاقة عقلية </a:t>
            </a:r>
            <a:r>
              <a:rPr b="0" lang="ar-SA" sz="2800" spc="-1" strike="noStrike">
                <a:solidFill>
                  <a:srgbClr val="000000"/>
                </a:solidFill>
                <a:latin typeface="Traditional Arabic"/>
                <a:cs typeface="Traditional Arabic"/>
              </a:rPr>
              <a:t>لدى الفرد, تظهر في كل نشاط عقلي يقوم به, مهما اختلفت ميادينه</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و أنها أشبه بالطاقة الكهربائية التي تدير الآلات وتنير المصابيح وهي كلها أجهزه تشترك في التيار الكهربائي, ولكنها تختلف كل منها عن الأخرى في خصائصها الخاصة أو النو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اعتقد سبيرمان أن مقدار العامل العام </a:t>
            </a:r>
            <a:r>
              <a:rPr b="0" lang="ar-SA" sz="2800" spc="-1" strike="noStrike">
                <a:solidFill>
                  <a:srgbClr val="3333cc"/>
                </a:solidFill>
                <a:latin typeface="Traditional Arabic"/>
                <a:cs typeface="Traditional Arabic"/>
              </a:rPr>
              <a:t>لدى الفرد الواحد ثابت</a:t>
            </a:r>
            <a:r>
              <a:rPr b="0" lang="ar-SA" sz="2800" spc="-1" strike="noStrike">
                <a:solidFill>
                  <a:srgbClr val="000000"/>
                </a:solidFill>
                <a:latin typeface="Traditional Arabic"/>
                <a:ea typeface="Traditional Arabic"/>
              </a:rPr>
              <a:t>, بصرف النظر عن نوع العمل الذي يستخدمه في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سبب طبيعته كطاقة عقلية </a:t>
            </a:r>
            <a:r>
              <a:rPr b="0" lang="ar-SA" sz="2800" spc="-1" strike="noStrike">
                <a:solidFill>
                  <a:srgbClr val="c00000"/>
                </a:solidFill>
                <a:latin typeface="Traditional Arabic"/>
                <a:cs typeface="Traditional Arabic"/>
              </a:rPr>
              <a:t>فإنه لا يتأثر بالتعليم أو التدريب أو البيئة </a:t>
            </a:r>
            <a:r>
              <a:rPr b="0" lang="ar-SA" sz="2800" spc="-1" strike="noStrike">
                <a:solidFill>
                  <a:srgbClr val="000000"/>
                </a:solidFill>
                <a:latin typeface="Traditional Arabic"/>
                <a:cs typeface="Traditional Arabic"/>
              </a:rPr>
              <a:t>ولا يمكن زيادة كميته بأية أساليب تربوية خاصة.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ه فطري, والوراثة عامل رئيسي في تحديد مقداره لدى الفرد</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ا ينطبق هذا – بطبيعة الحال – </a:t>
            </a:r>
            <a:r>
              <a:rPr b="0" lang="ar-SA" sz="2800" spc="-1" strike="noStrike">
                <a:solidFill>
                  <a:srgbClr val="c00000"/>
                </a:solidFill>
                <a:latin typeface="Traditional Arabic"/>
                <a:cs typeface="Traditional Arabic"/>
              </a:rPr>
              <a:t>على العوامل النوعية أو الخاصة</a:t>
            </a:r>
            <a:r>
              <a:rPr b="0" lang="ar-SA" sz="2800" spc="-1" strike="noStrike">
                <a:solidFill>
                  <a:srgbClr val="009900"/>
                </a:solidFill>
                <a:latin typeface="Traditional Arabic"/>
                <a:ea typeface="Traditional Arabic"/>
              </a:rPr>
              <a:t>. إذ أنها يمكن أن تتأثر بشكل كبير بالأساليب التربوية المستخدمة</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أن دور البيئة فيها كبير وملموس.</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أن سبيرمان في كتاباته المبكرة يعتبر أن العامل العام هو الأساس أو المحدد لنجاح الفرد في ما يزاوله من نشاط, فإنه في المجلد الثاني من كتابه " علم النفس عبر العصور ”، والذي نشر عام </a:t>
            </a:r>
            <a:r>
              <a:rPr b="0" lang="ar-SA" sz="2800" spc="-1" strike="noStrike">
                <a:solidFill>
                  <a:srgbClr val="000000"/>
                </a:solidFill>
                <a:latin typeface="Traditional Arabic"/>
                <a:ea typeface="Traditional Arabic"/>
              </a:rPr>
              <a:t>1937</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تخذ مواقف نظرية جديدة بالنسبة لأهمية كل من العاملين العام والنوعي في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هو يرى أن الفرد لكي يكون لديه قدرة على تحقيق إنجازات عظيمة في أي عمل حياتي لابد أن يكون لديه درجات عالية من كل من العاملين: العام (ع) والنوعي(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وجدت درجة متوسطة من كل منهما كان النجاح متوسطًا أيضًا, وفي نفس الوقت لا يمكن تعويض أي منهم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ا أن الدرجة المرتفعة في العامل العام, والمقترنة بدرجة منخفضة نسبيًا في العامل النوعي بالنسبة لنشاط معين, أو العكس, سوف تؤدي على أحسن الفروض إلى نجاح متوسط وحين ما يكون العاملان منخفضين, فإنه لن يكون لدى الفرد أي فرصة للنجاح في العم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على ذلك, إذا استطعنا أن نقيس كل من العامل العام والعوامل النوعية لدى الفرد المعين, فإنه يمكننا أن نحدد المجال الذي يتوقع أن ينجح فيه في حياته المستقبلية. </a:t>
            </a: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وهو أمر يكون له فائدته الكبيرة في عمليات التوجيه التعليمي.</a:t>
            </a:r>
            <a:endParaRPr b="0" lang="en-US" sz="2800" spc="-1" strike="noStrike">
              <a:solidFill>
                <a:srgbClr val="000000"/>
              </a:solidFill>
              <a:latin typeface="Arial"/>
            </a:endParaRPr>
          </a:p>
          <a:p>
            <a:pPr algn="just"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كذلك أشار سبيرمان إلى أن البحوث تدل </a:t>
            </a:r>
            <a:r>
              <a:rPr b="0" lang="ar-SA" sz="2600" spc="-1" strike="noStrike">
                <a:solidFill>
                  <a:srgbClr val="c00000"/>
                </a:solidFill>
                <a:latin typeface="Traditional Arabic"/>
                <a:cs typeface="Traditional Arabic"/>
              </a:rPr>
              <a:t>على أن أنواع المهن المختلفة تتطلب توافر العامل العام بدرجات متفاوتة, وأي فرد يلتحق بعمل, وليس لدية من العامل العام ما يكفي هذا العمل, سوف يكون أداؤه فيه فقيرًا. </a:t>
            </a:r>
            <a:endParaRPr b="0" lang="en-US" sz="2600" spc="-1" strike="noStrike">
              <a:solidFill>
                <a:srgbClr val="000000"/>
              </a:solidFill>
              <a:latin typeface="Arial"/>
            </a:endParaRPr>
          </a:p>
          <a:p>
            <a:pPr algn="just"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في نفس الوقت, </a:t>
            </a:r>
            <a:r>
              <a:rPr b="0" lang="ar-SA" sz="2600" spc="-1" strike="noStrike">
                <a:solidFill>
                  <a:srgbClr val="009900"/>
                </a:solidFill>
                <a:latin typeface="Traditional Arabic"/>
                <a:cs typeface="Traditional Arabic"/>
              </a:rPr>
              <a:t>إذا التحق الفرد بعمل لا يتطلب كل ما لديه من العامل العام, فإنه لن يكون راضيًا عن عمله كما أنه سيضيع قدرًا كبيرا من جهوده بلا عائد.</a:t>
            </a: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من أن نظرية سبيرمان, كانت أول محاولة علمية موضوعية لتحليل نتائج الاختبارات العقلية وكان لها بذلك فضل الريادة في ميدان بحوث الذكاء, وفي تطوير وسائل ونظريات القياس العقلي, </a:t>
            </a:r>
            <a:r>
              <a:rPr b="0" lang="ar-SA" sz="2800" spc="-1" strike="noStrike">
                <a:solidFill>
                  <a:srgbClr val="c00000"/>
                </a:solidFill>
                <a:latin typeface="Traditional Arabic"/>
                <a:cs typeface="Traditional Arabic"/>
              </a:rPr>
              <a:t>فإن العلماء في نقدهم لفكرة العامل العام, أخذوا عليه بعض العيوب المنهجية, أهمها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أن عدد الاختبارات التي استخدمها في تكوين نظريته كان قليلا جدًا, وكانت جميعها حسية بسيطة, ومن ثم فهي لا تعكس تنوع النشاط العقلي المعرفي الذي يميز الإنسان مما يسهل ظهور العامل العام</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كان حجم العينات التي اعتمد عليها في بحوثه صغيراً, وكانوا جميعاً من تلاميذ المدارس, ومن ثم فإن النتائج التي توصل إليها, لا يصح تعميمها.</a:t>
            </a: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سن أفراد العينة كان صغيرا أيضًا إذ كانوا أطفالا لم يصلوا بعد إلى مرحلة المراهقــة, ومن المعروف الآن أن النشاط العقلي لا يتنوع, وأن القدرات العقلية لا تتمايز بشكل واضح, إلا في مرحلة المراهقــة ولذلك كان طبيعيًّا أن يظهر عامل واحد فقط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هذا حاول العلماء فيما </a:t>
            </a:r>
            <a:r>
              <a:rPr b="0" lang="ar-SA" sz="2800" spc="-1" strike="noStrike">
                <a:solidFill>
                  <a:srgbClr val="009900"/>
                </a:solidFill>
                <a:latin typeface="Traditional Arabic"/>
                <a:cs typeface="Traditional Arabic"/>
              </a:rPr>
              <a:t>بعد تلافي هذه الملاحظات المنهجية في بحوثهم, من حيث طبيعة الاختبارات وعددها وحجم العينة وأعمار أفرادها, كما حاولوا تطوير أساليب التحليل الإحصائي, وابتكار طرق أنسب للبحث , وكان نتيجة لذلك, ظهور نظريات أخرى في التكوين العقلي. </a:t>
            </a:r>
            <a:endParaRPr b="0" lang="en-US" sz="28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395280" y="2852640"/>
            <a:ext cx="7831080" cy="23821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قال بأن الطباع سراقة</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الناس مجبولون على تشبه بعضهم ببعض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تخير أنموذجًا من حولك يعينك على المطلب ويقودك نحو الهدف الأسمى</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ثورنديك من أشد النقاد لنظرية سبيرمان في الذكاء, </a:t>
            </a:r>
            <a:r>
              <a:rPr b="0" lang="ar-SA" sz="2800" spc="-1" strike="noStrike">
                <a:solidFill>
                  <a:srgbClr val="3333cc"/>
                </a:solidFill>
                <a:latin typeface="Traditional Arabic"/>
                <a:cs typeface="Traditional Arabic"/>
              </a:rPr>
              <a:t>فقد رفض فكرة وجود عامل عام في جميع الاختبارات العقلية, وكان رأيه أن هذا تبسيط مخل, </a:t>
            </a:r>
            <a:r>
              <a:rPr b="0" lang="ar-SA" sz="2800" spc="-1" strike="noStrike">
                <a:solidFill>
                  <a:srgbClr val="c00000"/>
                </a:solidFill>
                <a:latin typeface="Traditional Arabic"/>
                <a:cs typeface="Traditional Arabic"/>
              </a:rPr>
              <a:t>نتج عن قلة عدد أفراد العينة التي استخدمها سبيرمان, وكذلك عن قلة عدد الاختبارات التي طبقها عليهم وطبيعتها الحسية البسيط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ثل نظرية ثورنديك في الذكاء جانبا واحدا من إسهاماته في علم النفس, فقد عالج الذكاء باعتباره أحد العوامل التي تؤثر في التعلم الإنسان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ثورنديك أحد الأفراد القلائل الذين قدموا نظامًا نظريًا متكاملا, يتضمن مجموعة متنوعة من مظاهر السلوك, التي لا تنفصل عن بعضها. </a:t>
            </a: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ثورنديك صاحب نظرية في التعليم, تعرف بالنظرية " الارتباطيه", وهي تمثل بداية لجميع نظريات التعزيز الحال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السلوك من وجهة نظره, </a:t>
            </a:r>
            <a:r>
              <a:rPr b="0" lang="ar-SA" sz="2800" spc="-1" strike="noStrike">
                <a:solidFill>
                  <a:srgbClr val="c00000"/>
                </a:solidFill>
                <a:latin typeface="Traditional Arabic"/>
                <a:cs typeface="Traditional Arabic"/>
              </a:rPr>
              <a:t>هو كل ما يفعله الكائن الحي أو ما يقوم به من نشاط وهو عملية تبدأ بتنبيه على السطح الحاسي للكائن الحي, ثم ينتقل هذا التنبيه من الأطراف العصبية إلى المراكز العصبية إلى المخ , وينتهي باستجابة ما</a:t>
            </a:r>
            <a:r>
              <a:rPr b="0" lang="ar-SA" sz="2800" spc="-1" strike="noStrike">
                <a:solidFill>
                  <a:srgbClr val="000000"/>
                </a:solidFill>
                <a:latin typeface="Traditional Arabic"/>
                <a:ea typeface="Traditional Arabic"/>
              </a:rPr>
              <a:t>, فهو يبدأ من المبدأ السلوكي المعروف </a:t>
            </a:r>
            <a:r>
              <a:rPr b="0" lang="ar-SA" sz="2800" spc="-1" strike="noStrike">
                <a:solidFill>
                  <a:srgbClr val="009900"/>
                </a:solidFill>
                <a:latin typeface="Traditional Arabic"/>
                <a:cs typeface="Traditional Arabic"/>
              </a:rPr>
              <a:t>م – س أو مثير – استجاب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نظريته بهذا المعنى نظرية ذرية, إذ أنها تؤكد أهمية تحليل السلوك إلى وحداته البسيطة التي تتكون من ارتباطات بين استجابات معينة,ومن ثم يحدث ارتباط بين المثير والاستجاب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تصور ثورنديك هذه الروابط على أنها عصبية فسيولوجية في أساسها, ويمثل كل ارتباط منها جزءًا صغيرا من خبرة الكائن الحي, ومن ثم يوجد لدى الكائن الحي عدد من الروابط بقدر ما لديه من خبرات جزئ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حاول ثرونديك أن يفسر الذكاء في ضوء </a:t>
            </a:r>
            <a:r>
              <a:rPr b="0" lang="ar-SA" sz="2800" spc="-1" strike="noStrike">
                <a:solidFill>
                  <a:srgbClr val="c00000"/>
                </a:solidFill>
                <a:latin typeface="Traditional Arabic"/>
                <a:cs typeface="Traditional Arabic"/>
              </a:rPr>
              <a:t>الروابط العصبية</a:t>
            </a:r>
            <a:r>
              <a:rPr b="0" lang="ar-SA" sz="2800" spc="-1" strike="noStrike">
                <a:solidFill>
                  <a:srgbClr val="000000"/>
                </a:solidFill>
                <a:latin typeface="Traditional Arabic"/>
                <a:ea typeface="Traditional Arabic"/>
              </a:rPr>
              <a:t>, فالذكاء يعتمد أساساً على عدد الوصلات العصبية ودرجة تعقيد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و يعتقد في وجود فروق وراثية بين الكائنات الحية, في قدرتها على تكوين الترابطات </a:t>
            </a:r>
            <a:r>
              <a:rPr b="0" lang="ar-SA" sz="2800" spc="-1" strike="noStrike">
                <a:solidFill>
                  <a:srgbClr val="c00000"/>
                </a:solidFill>
                <a:latin typeface="Traditional Arabic"/>
                <a:cs typeface="Traditional Arabic"/>
              </a:rPr>
              <a:t>والإنسان باعتباره يملك أعظم إمكانية لتكوين الارتباطات العصبية</a:t>
            </a:r>
            <a:r>
              <a:rPr b="0" lang="ar-SA" sz="2800" spc="-1" strike="noStrike">
                <a:solidFill>
                  <a:srgbClr val="000000"/>
                </a:solidFill>
                <a:latin typeface="Traditional Arabic"/>
                <a:ea typeface="Traditional Arabic"/>
              </a:rPr>
              <a:t>, يسلك بشكل أكثر ذكاء من أي فرد أو أي كائن حي آخر لديه إمكانية أقل لتكوين مثل هذه الارتباطات أن هذه الإمكانية تتيح للإنسان أن يستفيد بأكبر درجة ممكنة, من الخبرات العديدة التي يمر بها ومن التنوع الشديد في الاستثارة التي يتعرض لها, والتي يمكن أن ترتبط بها استجابات معينة.</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بنفس الصورة توجد فروق في الذكاء بين أفراد الجنس البشري, وهي فروق في مقدار الارتباطات العصب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أحد أنواع هذه الارتباطات يسمى الذكاء </a:t>
            </a:r>
            <a:r>
              <a:rPr b="0" lang="ar-SA" sz="2800" spc="-1" strike="noStrike">
                <a:solidFill>
                  <a:srgbClr val="000000"/>
                </a:solidFill>
                <a:latin typeface="Traditional Arabic"/>
                <a:cs typeface="Traditional Arabic"/>
              </a:rPr>
              <a:t>بينما قد تسمى أشكال أخرى من </a:t>
            </a:r>
            <a:r>
              <a:rPr b="0" lang="ar-SA" sz="2800" spc="-1" strike="noStrike">
                <a:solidFill>
                  <a:srgbClr val="3333cc"/>
                </a:solidFill>
                <a:latin typeface="Traditional Arabic"/>
                <a:cs typeface="Traditional Arabic"/>
              </a:rPr>
              <a:t>الارتباطات بالخلق والمهارة والمزا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 يمكن أن </a:t>
            </a:r>
            <a:r>
              <a:rPr b="0" lang="ar-SA" sz="2800" spc="-1" strike="noStrike">
                <a:solidFill>
                  <a:srgbClr val="c00000"/>
                </a:solidFill>
                <a:latin typeface="Traditional Arabic"/>
                <a:cs typeface="Traditional Arabic"/>
              </a:rPr>
              <a:t>نصنف الارتباطات </a:t>
            </a:r>
            <a:r>
              <a:rPr b="0" lang="ar-SA" sz="2800" spc="-1" strike="noStrike">
                <a:solidFill>
                  <a:srgbClr val="000000"/>
                </a:solidFill>
                <a:latin typeface="Traditional Arabic"/>
                <a:cs typeface="Traditional Arabic"/>
              </a:rPr>
              <a:t>بشكل أكثر تفصيلا </a:t>
            </a:r>
            <a:r>
              <a:rPr b="0" lang="ar-SA" sz="2800" spc="-1" strike="noStrike">
                <a:solidFill>
                  <a:srgbClr val="00b050"/>
                </a:solidFill>
                <a:latin typeface="Traditional Arabic"/>
                <a:cs typeface="Traditional Arabic"/>
              </a:rPr>
              <a:t>مثل القدرة على الجمع والقدرة على القراءة والميل نحو الموسيقى والأمانة</a:t>
            </a:r>
            <a:r>
              <a:rPr b="0" lang="ar-SA" sz="2800" spc="-1" strike="noStrike">
                <a:solidFill>
                  <a:srgbClr val="000000"/>
                </a:solidFill>
                <a:latin typeface="Traditional Arabic"/>
                <a:ea typeface="Traditional Arabic"/>
              </a:rPr>
              <a:t> في العمل ومهما اختلفت الفئات فأنها جميعا تحدد في عبارات عدد الارتباطات التي تتكون وأنواعها </a:t>
            </a:r>
            <a:r>
              <a:rPr b="0" lang="ar-SA" sz="2800" spc="-1" strike="noStrike">
                <a:solidFill>
                  <a:srgbClr val="c00000"/>
                </a:solidFill>
                <a:latin typeface="Traditional Arabic"/>
                <a:cs typeface="Traditional Arabic"/>
              </a:rPr>
              <a:t>فالذكاء إذن نعنى به سلاسل أو مجموعات معينة من الارتباطات التي يمكن أن نعطيها اسما أكثر عمومية </a:t>
            </a:r>
            <a:r>
              <a:rPr b="0" lang="ar-SA" sz="2800" spc="-1" strike="noStrike">
                <a:solidFill>
                  <a:srgbClr val="000000"/>
                </a:solidFill>
                <a:latin typeface="Traditional Arabic"/>
                <a:cs typeface="Traditional Arabic"/>
              </a:rPr>
              <a:t>وهذه الارتباطات لها أهمية سواء في تعلم سلسة من المقاطع عديمة المعني أو في التقدير الوصفي من جانب الفرد لأي أمر من الأمور.</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فرق الوحيد بين الأشكال الراقية من </a:t>
            </a:r>
            <a:r>
              <a:rPr b="0" lang="ar-SA" sz="2800" spc="-1" strike="noStrike">
                <a:solidFill>
                  <a:srgbClr val="3333cc"/>
                </a:solidFill>
                <a:latin typeface="Traditional Arabic"/>
                <a:cs typeface="Traditional Arabic"/>
              </a:rPr>
              <a:t>النشاط العقلي يتمثل في عدد الارتباطات اللازمة للقيام بهذا النشاط </a:t>
            </a:r>
            <a:r>
              <a:rPr b="0" lang="ar-SA" sz="2800" spc="-1" strike="noStrike">
                <a:solidFill>
                  <a:srgbClr val="c00000"/>
                </a:solidFill>
                <a:latin typeface="Traditional Arabic"/>
                <a:cs typeface="Traditional Arabic"/>
              </a:rPr>
              <a:t>وبنفس الطريقة يختلف الفرد ذو الذكاء المرتفع عن صاحب الذكاء المنخفض</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يرى ثرونديك أنه لكي نحدد ذكاء الإنسان يجب أن يكون ممكنا تحديد طبيعته الأصلية وأن نتتبع عملية تكوين كل ارتباط منذ بداية حياة الفرد حتى لحظة دراست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مثل هذه الطريقة مستحيلة كما يقرر ثرونديك, وثمة طريقة أخرى تتمثل في </a:t>
            </a:r>
            <a:r>
              <a:rPr b="0" lang="ar-SA" sz="2800" spc="-1" strike="noStrike">
                <a:solidFill>
                  <a:srgbClr val="0070c0"/>
                </a:solidFill>
                <a:latin typeface="Traditional Arabic"/>
                <a:cs typeface="Traditional Arabic"/>
              </a:rPr>
              <a:t>تحليل كل وظيفة عقلية إلى مكوناتها من الارتباطات بين المثيرات والاستجابات </a:t>
            </a:r>
            <a:r>
              <a:rPr b="0" lang="ar-SA" sz="2800" spc="-1" strike="noStrike">
                <a:solidFill>
                  <a:srgbClr val="000000"/>
                </a:solidFill>
                <a:latin typeface="Traditional Arabic"/>
                <a:cs typeface="Traditional Arabic"/>
              </a:rPr>
              <a:t>ولكن رد كل الأفعال إلى مكوناتها الأساسية أكثر صعوبة مما يتصور البعض, إنه أمر مستحيل, أن نصل إلى المكونات العصب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أي </a:t>
            </a:r>
            <a:r>
              <a:rPr b="0" lang="ar-SA" sz="2800" spc="-1" strike="noStrike">
                <a:solidFill>
                  <a:srgbClr val="c00000"/>
                </a:solidFill>
                <a:latin typeface="Traditional Arabic"/>
                <a:cs typeface="Traditional Arabic"/>
              </a:rPr>
              <a:t>الارتباطات التي تكمن وراء كل سلوك </a:t>
            </a:r>
            <a:r>
              <a:rPr b="0" lang="ar-SA" sz="2800" spc="-1" strike="noStrike">
                <a:solidFill>
                  <a:srgbClr val="000000"/>
                </a:solidFill>
                <a:latin typeface="Traditional Arabic"/>
                <a:cs typeface="Traditional Arabic"/>
              </a:rPr>
              <a:t>حتى لو سألنا الأفراد المفحوصين, فإننا سنحصل على تقارير مختلفة وفقا لما يختار الفرد أن يعطينا تقريرا عن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هذا يرى ثرونديك أن يجب على الباحث النفسي أن يحدد نفسه بالسلوك الظاهر الملاحظ للفرد. ويقتصر على دراسته وقياس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على أساس تصنيف هذا السلوك الظاهر </a:t>
            </a:r>
            <a:r>
              <a:rPr b="1" lang="ar-SA" sz="2800" spc="-1" strike="noStrike">
                <a:solidFill>
                  <a:srgbClr val="009900"/>
                </a:solidFill>
                <a:latin typeface="Traditional Arabic"/>
                <a:cs typeface="Traditional Arabic"/>
              </a:rPr>
              <a:t>ميّز ثرونديك كما أشرنا سابقاً بين ثلاثة أنواع من الذكاء وهي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ذكاء المجرد </a:t>
            </a:r>
            <a:r>
              <a:rPr b="0" lang="ar-SA" sz="2800" spc="-1" strike="noStrike">
                <a:solidFill>
                  <a:srgbClr val="000000"/>
                </a:solidFill>
                <a:latin typeface="Traditional Arabic"/>
                <a:cs typeface="Traditional Arabic"/>
              </a:rPr>
              <a:t>ويتمثل في القدرة على معالجة الألفاظ والرموز والتعامل معها</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الميكانيكي</a:t>
            </a:r>
            <a:r>
              <a:rPr b="0" lang="ar-SA" sz="2800" spc="-1" strike="noStrike">
                <a:solidFill>
                  <a:srgbClr val="000000"/>
                </a:solidFill>
                <a:latin typeface="Traditional Arabic"/>
                <a:ea typeface="Traditional Arabic"/>
              </a:rPr>
              <a:t> ويظهر في القدرة على معالجة الأشياء والمواد العيانية المحسوسة كما يبدو في المهارات اليدوية الميكانيكي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الذكاء الاجتماعي </a:t>
            </a:r>
            <a:r>
              <a:rPr b="0" lang="ar-SA" sz="2800" spc="-1" strike="noStrike">
                <a:solidFill>
                  <a:srgbClr val="000000"/>
                </a:solidFill>
                <a:latin typeface="Traditional Arabic"/>
                <a:cs typeface="Traditional Arabic"/>
              </a:rPr>
              <a:t>ويتضمن القدرة على فهم الناس والتعامل معهم والتصرف في المواقف الاجتماعية المختلف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تقد ثرونديك أن هذه الأبعاد الثلاثة ضرورية في قياس الذكاء ولهذا يكون من الأفضل أن يعطينا الاختبار تقديرات مستقلة لكل بعد منها على حدة بالإضافة إلى ما أكده ثرونديك من أننا ينبغي أن نعد اختبارات لقياس كل نوع من أنواع الذكاء الثلاثة على حدة الذكاء المجرد والميكانيكي والاجتماع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حاول ثرونديك ومعاونوه تحقيق ذلك في إعداد اختباره المشهور (</a:t>
            </a:r>
            <a:r>
              <a:rPr b="0" lang="en-US" sz="2800" spc="-1" strike="noStrike">
                <a:solidFill>
                  <a:srgbClr val="000000"/>
                </a:solidFill>
                <a:latin typeface="Traditional Arabic"/>
                <a:ea typeface="Traditional Arabic"/>
              </a:rPr>
              <a:t>CAVD</a:t>
            </a:r>
            <a:r>
              <a:rPr b="0" lang="ar-SA" sz="2800" spc="-1" strike="noStrike">
                <a:solidFill>
                  <a:srgbClr val="000000"/>
                </a:solidFill>
                <a:latin typeface="Traditional Arabic"/>
                <a:ea typeface="Traditional Arabic"/>
              </a:rPr>
              <a:t>) والذي أعده لقياس الذكاء المجرد فقط وقد اشتمل هذا المقياس على أربعة اختبارات فرع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ي </a:t>
            </a:r>
            <a:r>
              <a:rPr b="0" lang="ar-SA" sz="2800" spc="-1" strike="noStrike">
                <a:solidFill>
                  <a:srgbClr val="009900"/>
                </a:solidFill>
                <a:latin typeface="Traditional Arabic"/>
                <a:cs typeface="Traditional Arabic"/>
              </a:rPr>
              <a:t>تكميل الجمل (</a:t>
            </a:r>
            <a:r>
              <a:rPr b="0" lang="en-US" sz="2800" spc="-1" strike="noStrike">
                <a:solidFill>
                  <a:srgbClr val="009900"/>
                </a:solidFill>
                <a:latin typeface="Traditional Arabic"/>
                <a:ea typeface="Traditional Arabic"/>
              </a:rPr>
              <a:t>C</a:t>
            </a:r>
            <a:r>
              <a:rPr b="0" lang="ar-SA" sz="2800" spc="-1" strike="noStrike">
                <a:solidFill>
                  <a:srgbClr val="009900"/>
                </a:solidFill>
                <a:latin typeface="Traditional Arabic"/>
                <a:ea typeface="Traditional Arabic"/>
              </a:rPr>
              <a:t>)</a:t>
            </a:r>
            <a:r>
              <a:rPr b="0" lang="ar-SA" sz="2800" spc="-1" strike="noStrike">
                <a:solidFill>
                  <a:srgbClr val="000000"/>
                </a:solidFill>
                <a:latin typeface="Traditional Arabic"/>
                <a:cs typeface="Traditional Arabic"/>
              </a:rPr>
              <a:t>، </a:t>
            </a:r>
            <a:r>
              <a:rPr b="0" lang="ar-SA" sz="2800" spc="-1" strike="noStrike">
                <a:solidFill>
                  <a:srgbClr val="3333cc"/>
                </a:solidFill>
                <a:latin typeface="Traditional Arabic"/>
                <a:cs typeface="Traditional Arabic"/>
              </a:rPr>
              <a:t>والاستدلال الحسابي (</a:t>
            </a:r>
            <a:r>
              <a:rPr b="0" lang="en-US" sz="2800" spc="-1" strike="noStrike">
                <a:solidFill>
                  <a:srgbClr val="3333cc"/>
                </a:solidFill>
                <a:latin typeface="Traditional Arabic"/>
                <a:ea typeface="Traditional Arabic"/>
              </a:rPr>
              <a:t>A</a:t>
            </a:r>
            <a:r>
              <a:rPr b="0" lang="ar-SA" sz="2800" spc="-1" strike="noStrike">
                <a:solidFill>
                  <a:srgbClr val="3333cc"/>
                </a:solidFill>
                <a:latin typeface="Traditional Arabic"/>
                <a:ea typeface="Traditional Arabic"/>
              </a:rPr>
              <a:t>)،  </a:t>
            </a:r>
            <a:r>
              <a:rPr b="0" lang="ar-SA" sz="2800" spc="-1" strike="noStrike">
                <a:solidFill>
                  <a:srgbClr val="c00000"/>
                </a:solidFill>
                <a:latin typeface="Traditional Arabic"/>
                <a:cs typeface="Traditional Arabic"/>
              </a:rPr>
              <a:t>اختبار المفردات (</a:t>
            </a:r>
            <a:r>
              <a:rPr b="0" lang="en-US" sz="2800" spc="-1" strike="noStrike">
                <a:solidFill>
                  <a:srgbClr val="c00000"/>
                </a:solidFill>
                <a:latin typeface="Traditional Arabic"/>
                <a:ea typeface="Traditional Arabic"/>
              </a:rPr>
              <a:t>V</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تنفيذ المعلومات (</a:t>
            </a:r>
            <a:r>
              <a:rPr b="0" lang="en-US" sz="2800" spc="-1" strike="noStrike">
                <a:solidFill>
                  <a:srgbClr val="009900"/>
                </a:solidFill>
                <a:latin typeface="Traditional Arabic"/>
                <a:ea typeface="Traditional Arabic"/>
              </a:rPr>
              <a:t>D</a:t>
            </a:r>
            <a:r>
              <a:rPr b="0" lang="ar-SA" sz="2800" spc="-1" strike="noStrike">
                <a:solidFill>
                  <a:srgbClr val="009900"/>
                </a:solidFill>
                <a:latin typeface="Traditional Arabic"/>
                <a:ea typeface="Traditional Arabic"/>
              </a:rPr>
              <a:t>)، </a:t>
            </a:r>
            <a:r>
              <a:rPr b="0" lang="ar-SA" sz="2800" spc="-1" strike="noStrike">
                <a:solidFill>
                  <a:srgbClr val="000000"/>
                </a:solidFill>
                <a:latin typeface="Traditional Arabic"/>
                <a:cs typeface="Traditional Arabic"/>
              </a:rPr>
              <a:t>وقد دعا ثرونديك أيضاً إلى وضع اختبارات جيدة لقياس النوعين الآخرين للذكاء.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هي نظرية ثرونديك في الذكاء ورأيه في كيفية قياسه </a:t>
            </a:r>
            <a:r>
              <a:rPr b="0" lang="ar-SA" sz="2800" spc="-1" strike="noStrike">
                <a:solidFill>
                  <a:srgbClr val="009900"/>
                </a:solidFill>
                <a:latin typeface="Traditional Arabic"/>
                <a:cs typeface="Traditional Arabic"/>
              </a:rPr>
              <a:t>وعلى الرغم من أن تصنيفه كان تصنيفاً لأنواع العمل</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كثر من أن يكون تحليلاً للتنظيم العقلي للإنسان وأن </a:t>
            </a:r>
            <a:r>
              <a:rPr b="0" lang="ar-SA" sz="2800" spc="-1" strike="noStrike">
                <a:solidFill>
                  <a:srgbClr val="3333cc"/>
                </a:solidFill>
                <a:latin typeface="Traditional Arabic"/>
                <a:cs typeface="Traditional Arabic"/>
              </a:rPr>
              <a:t>تصوره للوصلات والارتباطات العصبية لم يكن من الممكن إثبات صدقه أو خطأه فإن نظريته قد وضعت البذور الأولى لنظرية العوامل الطائفية المتعددة</a:t>
            </a:r>
            <a:r>
              <a:rPr b="0" lang="en-US" sz="2800" spc="-1" strike="noStrike">
                <a:solidFill>
                  <a:srgbClr val="3333cc"/>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34"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اختلاف في المنهج يلازمه اختلاف في التصور النظري ومن هنا يمكننا تصنيف نظريات الذكاء إلى مجموعتين رئيسيتين :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مجموعة النظريات العاملية</a:t>
            </a:r>
            <a:r>
              <a:rPr b="0" lang="ar-SA" sz="2800" spc="-1" strike="noStrike">
                <a:solidFill>
                  <a:srgbClr val="000000"/>
                </a:solidFill>
                <a:latin typeface="Traditional Arabic"/>
                <a:cs typeface="Traditional Arabic"/>
              </a:rPr>
              <a:t>، التي اعتمدت على المنهج الإحصائي في دراسته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مجموعة النظريات الوصفية</a:t>
            </a:r>
            <a:r>
              <a:rPr b="0" lang="ar-SA" sz="2800" spc="-1" strike="noStrike">
                <a:solidFill>
                  <a:srgbClr val="000000"/>
                </a:solidFill>
                <a:latin typeface="Traditional Arabic"/>
                <a:cs typeface="Traditional Arabic"/>
              </a:rPr>
              <a:t>، وهي تلك التي اتبعت الملاحظة والتجرب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يمكن تقسيم النظريات العاملية الرئيسية إلى قسمين هما:</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أول يعالج مجموعة النظريات العاملية التي ظهرت في النصف الأول من القرن العشرين.</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ثاني ويتناول نظرية جيلفورد احد علماء النفس البارزين في النصف الثاني من القرن العشري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قدمة : </a:t>
            </a:r>
            <a:r>
              <a:rPr b="0" lang="ar-SA" sz="2800" spc="-1" strike="noStrike">
                <a:solidFill>
                  <a:srgbClr val="000000"/>
                </a:solidFill>
                <a:latin typeface="Traditional Arabic"/>
                <a:cs typeface="Traditional Arabic"/>
              </a:rPr>
              <a:t>على الرغم مما رأينا من إخفاق علماء النفس في وضع تعريف واحد يتفق عليه الجميع للذكاء </a:t>
            </a:r>
            <a:r>
              <a:rPr b="0" lang="ar-SA" sz="2800" spc="-1" strike="noStrike">
                <a:solidFill>
                  <a:srgbClr val="3333cc"/>
                </a:solidFill>
                <a:latin typeface="Traditional Arabic"/>
                <a:cs typeface="Traditional Arabic"/>
              </a:rPr>
              <a:t>فقد أدركوا أن الاتجاه الصحيح للبحث في النشاط العقلي هو دراسة الاختبارات العقلية المختلفة دراسة علمية دقيقة لمعرفة ما تقيسه.</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فهل تقيس الاختبارات العقلية شيئاً واحداً؟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م أنها تقيس نواحي مختلفة من نشاط الإنسان؟ وما هي طبيعة النشاط العق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لإجابة على هذه التساؤلات، </a:t>
            </a:r>
            <a:r>
              <a:rPr b="0" lang="ar-SA" sz="2800" spc="-1" strike="noStrike">
                <a:solidFill>
                  <a:srgbClr val="c00000"/>
                </a:solidFill>
                <a:latin typeface="Traditional Arabic"/>
                <a:cs typeface="Traditional Arabic"/>
              </a:rPr>
              <a:t>لجأ أصحاب المنهج الإحصائي إلى استخدام الأساليب الإحصائية في تحليل نتائج تلك الاختبارات، وكان المنهج الأساسي الذي اعتمدت عليه النظريات الحديثة </a:t>
            </a:r>
            <a:r>
              <a:rPr b="0" lang="ar-SA" sz="2800" spc="-1" strike="noStrike">
                <a:solidFill>
                  <a:srgbClr val="000000"/>
                </a:solidFill>
                <a:latin typeface="Traditional Arabic"/>
                <a:cs typeface="Traditional Arabic"/>
              </a:rPr>
              <a:t>هو </a:t>
            </a:r>
            <a:r>
              <a:rPr b="0" lang="ar-SA" sz="2800" spc="-1" strike="noStrike">
                <a:solidFill>
                  <a:srgbClr val="3333cc"/>
                </a:solidFill>
                <a:latin typeface="Traditional Arabic"/>
                <a:cs typeface="Traditional Arabic"/>
              </a:rPr>
              <a:t>منهج 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تب على ابتكار هذا المنهج واستخدامه في ميدان علم النفس، ثم تطويره على يد العلماء، </a:t>
            </a:r>
            <a:r>
              <a:rPr b="0" lang="ar-SA" sz="2800" spc="-1" strike="noStrike">
                <a:solidFill>
                  <a:srgbClr val="009900"/>
                </a:solidFill>
                <a:latin typeface="Traditional Arabic"/>
                <a:cs typeface="Traditional Arabic"/>
              </a:rPr>
              <a:t>ظهور عدة نظريات عاملية تفسر النشاط المعرفي للإنسان وتضع تصورات مختلفة عن التكوين العقلي عنده.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ar-SA" sz="2800" spc="-1" strike="noStrike">
                <a:solidFill>
                  <a:srgbClr val="000000"/>
                </a:solidFill>
                <a:latin typeface="Traditional Arabic"/>
                <a:cs typeface="Traditional Arabic"/>
              </a:rPr>
              <a:t>تعتبر نظرية العالم الانجليزي سبيرمان، أول نظرية تؤسس على التحليل الإحصائي لنتائج الاختبار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بداية القرن الثامن عشر ، وفي الوقت الذي اهتم فيه كل من بينيه وتيرمان بالمشكلات العملية للذكاء، نجد إن دراسات سبيرمان تقع جميعها تقريباً في </a:t>
            </a:r>
            <a:r>
              <a:rPr b="0" lang="ar-SA" sz="2800" spc="-1" strike="noStrike">
                <a:solidFill>
                  <a:srgbClr val="c00000"/>
                </a:solidFill>
                <a:latin typeface="Traditional Arabic"/>
                <a:cs typeface="Traditional Arabic"/>
              </a:rPr>
              <a:t>مجال التنظير</a:t>
            </a:r>
            <a:r>
              <a:rPr b="0" lang="ar-SA" sz="2800" spc="-1" strike="noStrike">
                <a:solidFill>
                  <a:srgbClr val="000000"/>
                </a:solidFill>
                <a:latin typeface="Traditional Arabic"/>
                <a:cs typeface="Traditional Arabic"/>
              </a:rPr>
              <a:t>، أي </a:t>
            </a:r>
            <a:r>
              <a:rPr b="0" lang="ar-SA" sz="2800" spc="-1" strike="noStrike">
                <a:solidFill>
                  <a:srgbClr val="c00000"/>
                </a:solidFill>
                <a:latin typeface="Traditional Arabic"/>
                <a:cs typeface="Traditional Arabic"/>
              </a:rPr>
              <a:t>التصور النظري لطبيعة الذكاء.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انت نظريته التي عرفت باسم </a:t>
            </a:r>
            <a:r>
              <a:rPr b="0" lang="ar-SA" sz="2800" spc="-1" strike="noStrike">
                <a:solidFill>
                  <a:srgbClr val="c00000"/>
                </a:solidFill>
                <a:latin typeface="Traditional Arabic"/>
                <a:ea typeface="Traditional Arabic"/>
              </a:rPr>
              <a:t>(نظرية العاملين)، </a:t>
            </a:r>
            <a:r>
              <a:rPr b="0" lang="ar-SA" sz="2800" spc="-1" strike="noStrike">
                <a:solidFill>
                  <a:srgbClr val="000000"/>
                </a:solidFill>
                <a:latin typeface="Traditional Arabic"/>
                <a:cs typeface="Traditional Arabic"/>
              </a:rPr>
              <a:t>أساساً لكثير من التطورات التي حدثت بعد ذلك في دراسة الذكاء والنشاط العقل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وقت الذي كان فيه بينيه يعد اختباره المشهور لقياس الذكاء، نشر سبيرمان عام </a:t>
            </a:r>
            <a:r>
              <a:rPr b="0" lang="ar-SA" sz="2800" spc="-1" strike="noStrike">
                <a:solidFill>
                  <a:srgbClr val="000000"/>
                </a:solidFill>
                <a:latin typeface="Traditional Arabic"/>
                <a:ea typeface="Traditional Arabic"/>
              </a:rPr>
              <a:t>1904</a:t>
            </a:r>
            <a:r>
              <a:rPr b="0" lang="ar-SA" sz="2800" spc="-1" strike="noStrike">
                <a:solidFill>
                  <a:srgbClr val="000000"/>
                </a:solidFill>
                <a:latin typeface="Traditional Arabic"/>
                <a:ea typeface="Traditional Arabic"/>
              </a:rPr>
              <a:t> مقالتين متخصصتين، إحداهما </a:t>
            </a:r>
            <a:r>
              <a:rPr b="0" lang="ar-SA" sz="2800" spc="-1" strike="noStrike">
                <a:solidFill>
                  <a:srgbClr val="009900"/>
                </a:solidFill>
                <a:latin typeface="Traditional Arabic"/>
                <a:cs typeface="Traditional Arabic"/>
              </a:rPr>
              <a:t>تركزت حول أساليب الارتباط، والأخرى كرست لموضوع الذكاء.</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3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نتقد سبيرمان في مقالته هذه، الطرق والأساليب التي كانت متبعة قبل ذلك (في القرن التاسع عشر) في دراسة الذكاء وقياس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لاحظ إن </a:t>
            </a:r>
            <a:r>
              <a:rPr b="0" lang="ar-SA" sz="2800" spc="-1" strike="noStrike">
                <a:solidFill>
                  <a:srgbClr val="c00000"/>
                </a:solidFill>
                <a:latin typeface="Traditional Arabic"/>
                <a:cs typeface="Traditional Arabic"/>
              </a:rPr>
              <a:t>الطرق المعملية </a:t>
            </a:r>
            <a:r>
              <a:rPr b="0" lang="ar-SA" sz="2800" spc="-1" strike="noStrike">
                <a:solidFill>
                  <a:srgbClr val="000000"/>
                </a:solidFill>
                <a:latin typeface="Traditional Arabic"/>
                <a:cs typeface="Traditional Arabic"/>
              </a:rPr>
              <a:t>التي كانت سائدة آنذاك، كمنهج رئيسي في دراسة السمات النفسية، تتناول جوانب لا علاقة لها بالسمات النفسية التي نرغب في دراسته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ول أوجه القصور- من وجهة نظر سبيرمان – أن الباحثين غالباً ما كانوا يعطون اسماً لشيء ما لا ينطبق على محتوا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مصطلح (الانتباه الإرادي) كان شائع الاستخدام، ومع ذلك لم تكن أساليب قياسه إلا عينة غير ممثلة لهذه العملية النفسي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ضف إلى هذا أن معظم الدراسات كانت تستخدم أعداداً قليلة من المفحوصين، ومع ذلك غالباً ما توصل منها الباحثين إلى تعميمات سطحية، لم يكن هناك أسس متينة لها.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ا بالإضافة إلى افتقار التعبير الكمي الدقيق عن البيانات.</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دم صياغة المشكلات موضع البحث صياغة دقيقة واضح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ذا المنطلق رفض سبيرمان الأساليب التي استخدمها العلماء في قياس الذكاء باستخدام أساليب </a:t>
            </a:r>
            <a:r>
              <a:rPr b="0" lang="ar-SA" sz="2800" spc="-1" strike="noStrike">
                <a:solidFill>
                  <a:srgbClr val="009900"/>
                </a:solidFill>
                <a:latin typeface="Traditional Arabic"/>
                <a:cs typeface="Traditional Arabic"/>
              </a:rPr>
              <a:t>حسية بسيطة مثل التمييز الحسي، وزمن الرجع، وسرعة النقر، والقابلية للخداع البصري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3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مقال، قدم سبيرمان الفرض الأساسي لنظريته، وقد عبر عنه بقوله </a:t>
            </a:r>
            <a:r>
              <a:rPr b="0" lang="ar-SA" sz="2800" spc="-1" strike="noStrike">
                <a:solidFill>
                  <a:srgbClr val="c00000"/>
                </a:solidFill>
                <a:latin typeface="Traditional Arabic"/>
                <a:cs typeface="Traditional Arabic"/>
              </a:rPr>
              <a:t>أن جميع مظاهر النشاط العقلي تشترك في وظيفة أساسية واحدة (أو مجموعة وظائف) بينما تختلف العناصر الخاصة بكل مظهر من مظاهر النشاط</a:t>
            </a:r>
            <a:r>
              <a:rPr b="0" lang="ar-SA" sz="2800" spc="-1" strike="noStrike">
                <a:solidFill>
                  <a:srgbClr val="000000"/>
                </a:solidFill>
                <a:latin typeface="Traditional Arabic"/>
                <a:cs typeface="Traditional Arabic"/>
              </a:rPr>
              <a:t>، عنها في مظاهر النشاط العقلي الأخرى بعبارة أخرى، افترض سبيرمان </a:t>
            </a:r>
            <a:r>
              <a:rPr b="0" lang="ar-SA" sz="2800" spc="-1" strike="noStrike">
                <a:solidFill>
                  <a:srgbClr val="009900"/>
                </a:solidFill>
                <a:latin typeface="Traditional Arabic"/>
                <a:cs typeface="Traditional Arabic"/>
              </a:rPr>
              <a:t>أن جميع أساليب النشاط المعرفي لدى الإنسان، تشترك فيما بينها في عامل عام واحد، بينما تختلف عن بعضها في نواحي خاصة أو نوعية تختلف في كل حالة عن الأخرى.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تشترك جميع الاختبارات في العامل العام، بينما لا يمكن أن يشترك اختباران في عامل نوعي واحد،</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ويختلف مقدار العامل العام من اختبار لآخر، وهو ما يفسر اختلاف معاملات الارتباط في قيمته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تتزايد قيمة معامل الارتباط بقدر تزايد تشبع الاختبارات بالعامل العام، والشكل أدناه يوضح الفكر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608040" y="64620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graphicFrame>
        <p:nvGraphicFramePr>
          <p:cNvPr id="72" name=""/>
          <p:cNvGraphicFramePr/>
          <p:nvPr/>
        </p:nvGraphicFramePr>
        <p:xfrm>
          <a:off x="5761080" y="2625840"/>
          <a:ext cx="1828800" cy="1500120"/>
        </p:xfrm>
        <a:graphic>
          <a:graphicData uri="http://schemas.openxmlformats.org/drawingml/2006/table">
            <a:tbl>
              <a:tblPr/>
              <a:tblGrid>
                <a:gridCol w="1828800"/>
              </a:tblGrid>
              <a:tr h="1500120">
                <a:tc>
                  <a:txBody>
                    <a:bodyPr lIns="68400" rIns="68400" tIns="0" bIns="0" anchor="t">
                      <a:noAutofit/>
                    </a:bodyPr>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Calibri"/>
                        </a:rPr>
                        <a:t>د</a:t>
                      </a:r>
                      <a:endParaRPr b="0" lang="en-US" sz="44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3" name=""/>
          <p:cNvGraphicFramePr/>
          <p:nvPr/>
        </p:nvGraphicFramePr>
        <p:xfrm>
          <a:off x="5632560" y="4653000"/>
          <a:ext cx="1828800" cy="1500120"/>
        </p:xfrm>
        <a:graphic>
          <a:graphicData uri="http://schemas.openxmlformats.org/drawingml/2006/table">
            <a:tbl>
              <a:tblPr/>
              <a:tblGrid>
                <a:gridCol w="1828800"/>
              </a:tblGrid>
              <a:tr h="1500120">
                <a:tc>
                  <a:txBody>
                    <a:bodyPr lIns="68400" rIns="68400" tIns="0" bIns="0" anchor="t">
                      <a:noAutofit/>
                    </a:bodyPr>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Calibri"/>
                        </a:rPr>
                        <a:t>           </a:t>
                      </a:r>
                      <a:r>
                        <a:rPr b="1" lang="ar-SA" sz="3200" spc="-1" strike="noStrike">
                          <a:solidFill>
                            <a:srgbClr val="000000"/>
                          </a:solidFill>
                          <a:latin typeface="Calibri"/>
                          <a:ea typeface="Calibri"/>
                        </a:rPr>
                        <a:t> أ</a:t>
                      </a:r>
                      <a:endParaRPr b="0" lang="en-US" sz="32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4" name=""/>
          <p:cNvGraphicFramePr/>
          <p:nvPr/>
        </p:nvGraphicFramePr>
        <p:xfrm>
          <a:off x="2332080" y="2697120"/>
          <a:ext cx="1828800" cy="1500120"/>
        </p:xfrm>
        <a:graphic>
          <a:graphicData uri="http://schemas.openxmlformats.org/drawingml/2006/table">
            <a:tbl>
              <a:tblPr/>
              <a:tblGrid>
                <a:gridCol w="1828800"/>
              </a:tblGrid>
              <a:tr h="1581840">
                <a:tc>
                  <a:txBody>
                    <a:bodyPr lIns="68400" rIns="68400" tIns="0" bIns="0" anchor="t">
                      <a:noAutofit/>
                    </a:bodyPr>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ج</a:t>
                      </a:r>
                      <a:endParaRPr b="0" lang="en-US" sz="36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5" name=""/>
          <p:cNvGraphicFramePr/>
          <p:nvPr/>
        </p:nvGraphicFramePr>
        <p:xfrm>
          <a:off x="2411280" y="4653000"/>
          <a:ext cx="1828800" cy="1500120"/>
        </p:xfrm>
        <a:graphic>
          <a:graphicData uri="http://schemas.openxmlformats.org/drawingml/2006/table">
            <a:tbl>
              <a:tblPr/>
              <a:tblGrid>
                <a:gridCol w="1828800"/>
              </a:tblGrid>
              <a:tr h="1746360">
                <a:tc>
                  <a:txBody>
                    <a:bodyPr lIns="68400" rIns="68400" tIns="0" bIns="0" anchor="t">
                      <a:noAutofit/>
                    </a:bodyPr>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Calibri"/>
                        </a:rPr>
                        <a:t>ب</a:t>
                      </a:r>
                      <a:endParaRPr b="0" lang="en-US" sz="11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ea typeface="Calibri"/>
                        </a:rPr>
                        <a:t>                         </a:t>
                      </a:r>
                      <a:r>
                        <a:rPr b="1" lang="ar-SA" sz="4000" spc="-1" strike="noStrike">
                          <a:solidFill>
                            <a:srgbClr val="000000"/>
                          </a:solidFill>
                          <a:latin typeface="Calibri"/>
                          <a:cs typeface="Calibri"/>
                        </a:rPr>
                        <a:t>ب</a:t>
                      </a:r>
                      <a:endParaRPr b="0" lang="en-US" sz="40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sp>
        <p:nvSpPr>
          <p:cNvPr id="76" name="Oval 1"/>
          <p:cNvSpPr/>
          <p:nvPr/>
        </p:nvSpPr>
        <p:spPr>
          <a:xfrm>
            <a:off x="3117960" y="3197160"/>
            <a:ext cx="3429000" cy="2786040"/>
          </a:xfrm>
          <a:prstGeom prst="ellipse">
            <a:avLst/>
          </a:prstGeom>
          <a:solidFill>
            <a:srgbClr val="ffff00"/>
          </a:solidFill>
          <a:ln w="0">
            <a:noFill/>
          </a:ln>
          <a:effectLst>
            <a:outerShdw dist="17819" dir="2700000" blurRad="0" rotWithShape="0">
              <a:srgbClr val="622423"/>
            </a:outerShdw>
          </a:effectLst>
        </p:spPr>
        <p:style>
          <a:lnRef idx="0"/>
          <a:fillRef idx="0"/>
          <a:effectRef idx="0"/>
          <a:fontRef idx="minor"/>
        </p:style>
        <p:txBody>
          <a:bodyPr lIns="90000" rIns="90000" tIns="46800" bIns="46800" anchor="t">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raditional Arabic"/>
                <a:cs typeface="Traditional Arabic"/>
              </a:rPr>
              <a:t>العامل العام</a:t>
            </a:r>
            <a:endParaRPr b="0" lang="en-US" sz="6600" spc="-1" strike="noStrike">
              <a:solidFill>
                <a:srgbClr val="000000"/>
              </a:solidFill>
              <a:latin typeface="Arial"/>
            </a:endParaRPr>
          </a:p>
        </p:txBody>
      </p:sp>
      <p:sp>
        <p:nvSpPr>
          <p:cNvPr id="77" name="مستطيل 10"/>
          <p:cNvSpPr/>
          <p:nvPr/>
        </p:nvSpPr>
        <p:spPr>
          <a:xfrm>
            <a:off x="1815480" y="1484280"/>
            <a:ext cx="58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raditional Arabic"/>
                <a:cs typeface="Traditional Arabic"/>
              </a:rPr>
              <a:t>تصور سبيرمان للعامل العام</a:t>
            </a:r>
            <a:r>
              <a:rPr b="1" lang="ar-SA" sz="3200" spc="-1" strike="noStrike">
                <a:solidFill>
                  <a:srgbClr val="3333cc"/>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03T20:09:56Z</dcterms:modified>
  <cp:revision>150</cp:revision>
  <dc:subject/>
  <dc:title>الشريحة 1</dc:title>
</cp:coreProperties>
</file>