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gif" ContentType="image/gif"/>
  <Override PartName="/ppt/media/image8.wmf" ContentType="image/x-wmf"/>
  <Override PartName="/ppt/media/image6.png" ContentType="image/png"/>
  <Override PartName="/ppt/media/image7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1D1-2706-4C71-99EF-D865C39C4E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A866-57B8-44EC-8271-019C97636105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03C-6F3C-4954-9507-D763054E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D51-8947-4E4E-BD3A-B8A0FCB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27E-BD1F-4D47-B7B9-5882283F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974-3D0F-44BF-94C3-7B258BA8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DEE5-7FBC-4BEA-95CF-FD3FF6D4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6DBB-30E2-4AFF-A3C7-AD830E6E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8580-3344-48EE-B48E-67594FE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A469-5EFD-4502-8E02-ECF9EC3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85F9-4407-4EDB-AC65-BBE8D865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A4F6-B785-4312-9617-75A668D3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8936-921D-43A7-A7FB-34194F4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C02-2589-46F1-A9B2-285DFEB5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04B-26D5-455B-BED6-DCFB895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84B3-527E-4057-9586-8FD79EE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4455-109E-49CC-A282-B77D8B90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D98F-7688-4BF3-AB43-CB864B8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C81-680A-4DDF-A267-1F5E601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93F-8E08-4BEC-B58E-F7DD877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969-0C4D-4F1D-9731-31C25ED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F76-7630-4F78-9FC0-354DCD6D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269-BF2C-41DA-A7E0-9089E37B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C30-A8F0-4A70-A90E-CBA3AB1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306-9799-4088-8148-BFE3C3E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FBE-77CF-40E2-89FB-2C8A447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BB1-2C0B-4901-9C27-808B6090ECE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FC9-6919-4F4D-B409-905787AD337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راب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جوانب أعداد المعلم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0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Calibri"/>
              </a:rPr>
              <a:t>أولا : الجانب النظري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اد التخصصي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اد التربو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مواد الثقافي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:\Users\dell\Pictures\imagesCACYJG58.jpg"/>
          <p:cNvPicPr/>
          <p:nvPr/>
        </p:nvPicPr>
        <p:blipFill>
          <a:blip r:embed="rId1"/>
          <a:stretch/>
        </p:blipFill>
        <p:spPr>
          <a:xfrm>
            <a:off x="0" y="4221000"/>
            <a:ext cx="3492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1"/>
          <p:cNvSpPr/>
          <p:nvPr/>
        </p:nvSpPr>
        <p:spPr>
          <a:xfrm>
            <a:off x="324000" y="1268280"/>
            <a:ext cx="8135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3300"/>
                </a:solidFill>
                <a:uFillTx/>
                <a:latin typeface="Arial"/>
              </a:rPr>
              <a:t>ثانيا : الجانب العملي </a:t>
            </a:r>
            <a:r>
              <a:rPr b="1" lang="ar-SA" sz="20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يطلق عليها ” التربية العملية أو ” التربية الميدانية وهي تعرف بأنها ” جزء من إعداد المعلم يتم من خلالها تدريب الطالب المعلم تدريجيا على التدريس الحقيقي في المدارس ,بهدف إكسابه الخبرات والمهارات التدريسية اللازمة , لكي يقوم بالتدريس الفعال ويتم ذلك في وقت محدد وتحت إشراف استاذ من الكلية ”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مربع نص 1"/>
          <p:cNvSpPr/>
          <p:nvPr/>
        </p:nvSpPr>
        <p:spPr>
          <a:xfrm>
            <a:off x="539640" y="1773360"/>
            <a:ext cx="810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مرج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دخل إلى المناهج وطرق التدريس , د. حسن جعفر خلي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فصل الثامن ( حتى نهاية الجانب العملي لإعداد المعلم 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94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87360" y="2276640"/>
            <a:ext cx="674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04a7b"/>
                </a:solidFill>
                <a:latin typeface="Arial"/>
              </a:rPr>
              <a:t>إعداد المعلم نظرياً وعمليا ً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3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6"/>
          <p:cNvSpPr/>
          <p:nvPr/>
        </p:nvSpPr>
        <p:spPr>
          <a:xfrm>
            <a:off x="539640" y="395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155736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ن تتعرف الطالبة على ما يل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أهمية إعداد المعلم وأسباب هذه الأهم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جوانب النظرية لإعداد الم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جوانب العملية لإعداد المعل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761-9699-4F9B-A7DD-EFDFB73D1C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611280" y="1052640"/>
            <a:ext cx="8064360" cy="4131720"/>
            <a:chOff x="611280" y="1052640"/>
            <a:chExt cx="8064360" cy="4131720"/>
          </a:xfrm>
        </p:grpSpPr>
        <p:sp>
          <p:nvSpPr>
            <p:cNvPr id="111" name="AutoShape 4"/>
            <p:cNvSpPr/>
            <p:nvPr/>
          </p:nvSpPr>
          <p:spPr>
            <a:xfrm>
              <a:off x="969840" y="1052640"/>
              <a:ext cx="7705800" cy="194292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611280" y="2779560"/>
              <a:ext cx="6838920" cy="2404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بعض م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الأدوار التي يقوم بها المعلم في العملية التعليمية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4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280" y="2133360"/>
            <a:ext cx="842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ها أولوية خاصة وأهمية كبرى في كافة النظم التعليمية سواء في البلدان المتقدمة أو النامية على حد سواء , لأن التطورات التي حدثت وتحدث تباعا في العالم فرضت على مؤسسات إعداد المعلمين أدوارا ومهام جديدة للمعلم , لابد أن يتكيف معها ويحيط بها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نها على سبيل المثا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- الخبير التعليم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- موجه لطلاب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باحث ومحلل تربو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2124000" y="333360"/>
            <a:ext cx="662472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مية إعداد المعل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C:\Users\dell\Pictures\untitled.png"/>
          <p:cNvPicPr/>
          <p:nvPr/>
        </p:nvPicPr>
        <p:blipFill>
          <a:blip r:embed="rId1"/>
          <a:stretch/>
        </p:blipFill>
        <p:spPr>
          <a:xfrm>
            <a:off x="539640" y="414972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Calibri"/>
              </a:rPr>
              <a:t>وترجع أهمية إعداد المعلم إلى عوامل عديدة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سرعة التغيرات الحادثة في العالم والتي أصبحت جزءا من الواقع الذي نعيشه ,, ولعل أهم هذه التغيرات ما يل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نمو الهائل والمتسارع في المعرفة والفك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قدم المذهل في الأساليب التقنية ونظم المعلوم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غير فلسفة التعليم وأهداف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اتساع في النظرة إلى بيئة الإنسان من محلية إلى عال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دراك أهمية الثروة البشرية في التن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549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– يندرج التعليم في إطار العمل المهني المنظ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أن مهنة التعليم أصبحت مهنة معقدة ومتداخلة وتؤثر فيها عناصر كثير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زايد الطلب الاجتماعي على التعليم في الوطن العرب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غير طبيعة الدور الذي يلعبه المعلم في العملية التعليم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C:\Users\dell\Pictures\imagesZFZQ7IUP.jpg"/>
          <p:cNvPicPr/>
          <p:nvPr/>
        </p:nvPicPr>
        <p:blipFill>
          <a:blip r:embed="rId1"/>
          <a:stretch/>
        </p:blipFill>
        <p:spPr>
          <a:xfrm>
            <a:off x="0" y="4292640"/>
            <a:ext cx="26686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تجديد والتدريب التربوي ومايتمخض عنه من تطوير ممارسات جديدة تهدف إلى تحسين مدخلات النظام التربو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تزايد الاهتمام المجتمعي بالتربية كأداة من أدوات التنمية من خلال دورها في إعداد القوى البشرية اللازمة لتحقيق لتحقيق أهداف التنمية الاجتماعية والاقتصادية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0" y="486900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11-08T05:27:15Z</dcterms:modified>
  <cp:revision>70</cp:revision>
  <dc:subject/>
  <dc:title>الانكيت</dc:title>
</cp:coreProperties>
</file>