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gif" ContentType="image/gif"/>
  <Override PartName="/ppt/media/image8.wmf" ContentType="image/x-wmf"/>
  <Override PartName="/ppt/media/image6.png" ContentType="image/png"/>
  <Override PartName="/ppt/media/image7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4A3A-D25D-489E-8D5E-854B7959C8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51B5-5347-487E-BCF0-CB5B9FC13851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832-05D6-4F52-859D-102BDE72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F3D-74C2-4DE3-8542-55BD8B1E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018-9CC5-4534-AD2F-D5A6A998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D9E-5224-41A0-9BCC-2E2848C6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0F21-5FD0-4718-B12B-B670DF8D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CE66-9315-4198-BE4C-E16034C5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29A6-A67D-48BA-B6B8-DC2D691E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CA3C-6BD7-4994-A40D-11224246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6176-7C48-4671-B2C5-242491E3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1D3E-1F37-4A9A-A18E-FBB8CFD6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0C1C-961F-4C20-90FD-4A1AA8C7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38C-C7D0-47E6-8289-F0FA8B1E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DE46-2CC1-4549-B19B-0F7DF70D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F7A9-A398-452C-B8C6-72384BDB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5F28-28A7-453C-8674-6507E073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26EC-86FC-455C-AD7E-FD3445D0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44CC-DAE9-4784-A9DC-7F32271C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1A6-9602-4B40-8D21-A4538773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AE8-9BD1-421A-8B89-4263C5FE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67C-6080-4506-A623-14248EF1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AA0-97EE-4F74-9D98-390150D7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86C-3FB4-4361-975C-34A5E2A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D72-0679-427B-BA3C-9FCEA285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9C5-E5EA-47C9-9CE8-5925549E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148-036D-4A81-8D03-E02887459F3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2DB7-4134-4B3B-A5F2-EEF1D0E6B31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رابع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جوانب أعداد المعلم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07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3300"/>
                </a:solidFill>
                <a:uFillTx/>
                <a:latin typeface="Calibri"/>
              </a:rPr>
              <a:t>أولا : الجانب النظري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واد التخصصي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واد التربو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واد الثقافي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C:\Users\dell\Pictures\imagesCACYJG58.jpg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مستطيل 1"/>
          <p:cNvSpPr/>
          <p:nvPr/>
        </p:nvSpPr>
        <p:spPr>
          <a:xfrm>
            <a:off x="324000" y="1268280"/>
            <a:ext cx="8135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</a:rPr>
              <a:t>ثانيا : الجانب العملي </a:t>
            </a:r>
            <a:r>
              <a:rPr b="1" lang="ar-SA" sz="20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يطلق عليها ” التربية العملية أو ” التربية الميدانية وهي تعرف بأنها ” جزء من إعداد المعلم يتم من خلالها تدريب الطالب المعلم تدريجيا على التدريس الحقيقي في المدارس ,بهدف إكسابه الخبرات والمهارات التدريسية اللازمة , لكي يقوم بالتدريس الفعال ويتم ذلك في وقت محدد وتحت إشراف استاذ من الكلية ”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مربع نص 1"/>
          <p:cNvSpPr/>
          <p:nvPr/>
        </p:nvSpPr>
        <p:spPr>
          <a:xfrm>
            <a:off x="539640" y="1773360"/>
            <a:ext cx="810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مرج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دخل إلى المناهج وطرق التدريس , د. حسن جعفر خلي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فصل الثامن ( حتى نهاية الجانب العملي لإعداد المعلم 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94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287360" y="2276640"/>
            <a:ext cx="674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04a7b"/>
                </a:solidFill>
                <a:latin typeface="Arial"/>
              </a:rPr>
              <a:t>إعداد المعلم نظرياً وعمليا 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03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6"/>
          <p:cNvSpPr/>
          <p:nvPr/>
        </p:nvSpPr>
        <p:spPr>
          <a:xfrm>
            <a:off x="539640" y="395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155736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ن تتعرف الطالبة على ما يلي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أهمية إعداد المعلم وأسباب هذه الأهم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جوانب النظرية لإعداد الم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جوانب العملية لإعداد المعل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8F8B-1B6E-4AE3-AD2E-5E43C66201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"/>
          <p:cNvSpPr/>
          <p:nvPr/>
        </p:nvSpPr>
        <p:spPr>
          <a:xfrm>
            <a:off x="468360" y="1989000"/>
            <a:ext cx="8207280" cy="417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611280" y="1052640"/>
            <a:ext cx="8064360" cy="4131720"/>
            <a:chOff x="611280" y="1052640"/>
            <a:chExt cx="8064360" cy="4131720"/>
          </a:xfrm>
        </p:grpSpPr>
        <p:sp>
          <p:nvSpPr>
            <p:cNvPr id="111" name="AutoShape 4"/>
            <p:cNvSpPr/>
            <p:nvPr/>
          </p:nvSpPr>
          <p:spPr>
            <a:xfrm>
              <a:off x="969840" y="1052640"/>
              <a:ext cx="7705800" cy="1942920"/>
            </a:xfrm>
            <a:prstGeom prst="flowChartMultidocument">
              <a:avLst/>
            </a:prstGeom>
            <a:solidFill>
              <a:srgbClr val="ffff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Times New Roman"/>
                  <a:cs typeface="PT Bold Heading"/>
                </a:rPr>
                <a:t>نشاط تمهيد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611280" y="2779560"/>
              <a:ext cx="6838920" cy="24048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بالتعاون مع أفراد مجموعتك , اكتبي بعض م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الأدوار التي يقوم بها المعلم في العملية التعليمية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007640" y="426672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114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2930040" y="4833720"/>
            <a:ext cx="1032120" cy="92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280" y="2133360"/>
            <a:ext cx="8425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ها أولوية خاصة وأهمية كبرى في كافة النظم التعليمية سواء في البلدان المتقدمة أو النامية على حد سواء , لأن التطورات التي حدثت وتحدث تباعا في العالم فرضت على مؤسسات إعداد المعلمين أدوارا ومهام جديدة للمعلم , لابد أن يتكيف معها ويحيط بها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منها على سبيل المثا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- الخبير التعليم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- موجه لطلاب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باحث ومحلل تربو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2124000" y="333360"/>
            <a:ext cx="6624720" cy="1692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مية إعداد المعل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C:\Users\dell\Pictures\untitled.png"/>
          <p:cNvPicPr/>
          <p:nvPr/>
        </p:nvPicPr>
        <p:blipFill>
          <a:blip r:embed="rId1"/>
          <a:stretch/>
        </p:blipFill>
        <p:spPr>
          <a:xfrm>
            <a:off x="539640" y="414972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Calibri"/>
              </a:rPr>
              <a:t>وترجع أهمية إعداد المعلم إلى عوامل عديدة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سرعة التغيرات الحادثة في العالم والتي أصبحت جزءا من الواقع الذي نعيشه ,, ولعل أهم هذه التغيرات ما يل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نمو الهائل والمتسارع في المعرفة والفك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قدم المذهل في الأساليب التقنية ونظم المعلوم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غير فلسفة التعليم وأهداف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اتساع في النظرة إلى بيئة الإنسان من محلية إلى عال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دراك أهمية الثروة البشرية في التن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549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– يندرج التعليم في إطار العمل المهني المنظ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أن مهنة التعليم أصبحت مهنة معقدة ومتداخلة وتؤثر فيها عناصر كثير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تزايد الطلب الاجتماعي على التعليم في الوطن العرب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تغير طبيعة الدور الذي يلعبه المعلم في العملية التعليم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7" descr="C:\Users\dell\Pictures\imagesZFZQ7IUP.jpg"/>
          <p:cNvPicPr/>
          <p:nvPr/>
        </p:nvPicPr>
        <p:blipFill>
          <a:blip r:embed="rId1"/>
          <a:stretch/>
        </p:blipFill>
        <p:spPr>
          <a:xfrm>
            <a:off x="0" y="4292640"/>
            <a:ext cx="26686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836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تجديد والتدريب التربوي ومايتمخض عنه من تطوير ممارسات جديدة تهدف إلى تحسين مدخلات النظام التربو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تزايد الاهتمام المجتمعي بالتربية كأداة من أدوات التنمية من خلال دورها في إعداد القوى البشرية اللازمة لتحقيق لتحقيق أهداف التنمية الاجتماعية والاقتصادية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0" y="486900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11-08T05:27:15Z</dcterms:modified>
  <cp:revision>70</cp:revision>
  <dc:subject/>
  <dc:title>الانكيت</dc:title>
</cp:coreProperties>
</file>