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9.gif" ContentType="image/gif"/>
  <Override PartName="/ppt/media/image11.wmf" ContentType="image/x-wmf"/>
  <Override PartName="/ppt/media/image17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5.png" ContentType="image/png"/>
  <Override PartName="/ppt/media/image18.wmf" ContentType="image/x-wmf"/>
  <Override PartName="/ppt/media/image24.jpeg" ContentType="image/jpeg"/>
  <Override PartName="/ppt/media/image3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07C7-C35B-46EA-9E7F-55AB6A5955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F015-C254-483F-B84F-C0FBD7D23347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D71-00BE-4269-902D-F991699F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DA4-E48B-490C-B7FE-40FF8BB2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2B4-556D-41FF-990C-1AD6CC56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426-7C11-4DB5-92C0-EF7CD125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8000-5D17-4CF5-96CA-CD7DD469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E27D-CE19-4B42-89CE-2D93B65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28AF-583C-493E-BFC0-29ABD07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F9FC-BBE7-405C-B104-8A7BE5EE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4F2B-D3AB-481A-B09B-B2DC88D5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B392-BA1F-4407-BEB7-C43E687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C85-CB5F-41C4-9716-ECAF521D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136-AA0A-4067-9694-4AE056E3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4D37-BE8E-4FA8-8500-283EBCF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81E0-F493-4AE6-A5B6-10B6E81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9E15-3D30-4C6A-94CE-C30C45B8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C60-FA5D-4002-9426-DC07258D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DDA-9ADB-430E-86FB-E4587516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6B0-0ACC-4CC9-B5FB-502DEF5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C4E-CEB0-4B05-995A-FDC5BEC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DBE-5CE7-40F3-AE01-0B37B15A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C3C-1A0D-4FEC-8E7D-84F7B14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504-85D8-4B85-8D61-2ECF9C8E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A76-C2BD-40BA-87C1-67F355F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FEE-7B64-4986-A58C-983F6A6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6EFB-0CB4-49CD-878F-98942249FA1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3FB-B501-4330-96C8-9D81FE04882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0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amal\Pictures\imagesCAPQBFX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378080" y="677880"/>
            <a:ext cx="72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4552920"/>
            <a:ext cx="705816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12460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42920" y="1052640"/>
            <a:ext cx="74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ثانيا : أهمية التخطيط للمتعلم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لبية احتياجا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إثارة دافعية التعل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زيادة درجة التفاعل في الموقف الصف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تمنحه الثقة بالنفس .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amal\Pictures\imagesCAYJIJOJ.jpg"/>
          <p:cNvPicPr/>
          <p:nvPr/>
        </p:nvPicPr>
        <p:blipFill>
          <a:blip r:embed="rId1"/>
          <a:stretch/>
        </p:blipFill>
        <p:spPr>
          <a:xfrm>
            <a:off x="0" y="189000"/>
            <a:ext cx="4932360" cy="41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amal\Pictures\imagesCAI7J0R0.jpg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4437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amal\Pictures\untitled.png"/>
          <p:cNvPicPr/>
          <p:nvPr/>
        </p:nvPicPr>
        <p:blipFill>
          <a:blip r:embed="rId3"/>
          <a:stretch/>
        </p:blipFill>
        <p:spPr>
          <a:xfrm>
            <a:off x="0" y="4149720"/>
            <a:ext cx="4932360" cy="270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amal\Pictures\imagesCAZD59E0.jpg"/>
          <p:cNvPicPr/>
          <p:nvPr/>
        </p:nvPicPr>
        <p:blipFill>
          <a:blip r:embed="rId4"/>
          <a:stretch/>
        </p:blipFill>
        <p:spPr>
          <a:xfrm>
            <a:off x="4932360" y="4149720"/>
            <a:ext cx="421164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ثالثا  : أهمية التخطيط لعملية التدريس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إسهام في تحسين المخرجات التعليمية النهائ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إسهام في تحسين الكفاية التعلي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إسهام في توفير الجهد والزمن والتكل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عمل على جعل معنى للتعلي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مبادئ التخطيط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فهم الصحيح لفلسفة التربية وأهداف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فهم الصحيح للأهداف بمستوياتها المتعد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تنوع مجالات الأهداف بحيث لا تقتصر على مجال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معرفة خصائص المتعلم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مراعاة الفروق الفردية بين المتعلم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مراعاة البيئة المادية لعملية التدريس من حيث توافر التسهيلات والتجهيزات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197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مبادئ التخطيط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إلمام بالمادة التي يتولى المعلم تدريسها قبل الشروع بعملية التدريس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فعيل التغذية الراجع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3716280"/>
            <a:ext cx="4788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أنواع التخطي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أولا : أنواع التخطيط تبعا لحجم المادة الدراس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وحد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در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ثانيا : أنواع التخطيط تبعا لزمن التنفي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طويلة الأج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الشه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ة اليو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50920" y="4508640"/>
            <a:ext cx="4176720" cy="155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3419640" y="40464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خطة الدر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39640" y="90792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خطة الدرس من عدد من العناصر أو المكونات وقد تختلف من حيث عددها وترتيبها من خطة لأخرى وفقا لطبيعة المادة الدراسية أو المرحلة التعليمية , إلا أنه ثمة عناصر أسية اتفق المربون أهمية توافرها في خطة الدرس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إطار العام ل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700440"/>
          <a:ext cx="6096240" cy="1189080"/>
        </p:xfrm>
        <a:graphic>
          <a:graphicData uri="http://schemas.openxmlformats.org/drawingml/2006/table">
            <a:tbl>
              <a:tblPr/>
              <a:tblGrid>
                <a:gridCol w="3021120"/>
                <a:gridCol w="3075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ما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اري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ح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ص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موضوع الدر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ص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773520" y="981000"/>
            <a:ext cx="47592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أهداف السلوك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بق الحديث عن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84360" y="22050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محتوى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المادة العلمية ” عناصر الدرس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 - طريقة التدري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سبق الحديث عن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4005360"/>
            <a:ext cx="3481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395280" y="836640"/>
            <a:ext cx="8353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-  الأنشطة التعلي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قد تكون في بداية الدرس أو مصاحبة له أو تالية 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راعى في اختيارها المرحلة العمرية وخبرات المتعل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تكون فردية وقد تكون جماع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كون عددها مناسب لحتوى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نسبة اكتساب الخبرة منها عالي جدا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dell\Pictures\imagesCAAOWWTD.jpg"/>
          <p:cNvPicPr/>
          <p:nvPr/>
        </p:nvPicPr>
        <p:blipFill>
          <a:blip r:embed="rId1"/>
          <a:stretch/>
        </p:blipFill>
        <p:spPr>
          <a:xfrm>
            <a:off x="0" y="4581360"/>
            <a:ext cx="435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9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راب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539640" y="765000"/>
            <a:ext cx="86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وسائل التعليم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عد وتجهز قبل عملية التدري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ثري المواقف التعليم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ون مناسبة اموضوع الدرس ومستوى التلامي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dell\Pictures\imagesCAXCUKIR.jpg"/>
          <p:cNvPicPr/>
          <p:nvPr/>
        </p:nvPicPr>
        <p:blipFill>
          <a:blip r:embed="rId1"/>
          <a:stretch/>
        </p:blipFill>
        <p:spPr>
          <a:xfrm>
            <a:off x="179280" y="4292640"/>
            <a:ext cx="496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50920" y="40464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أساليب التقو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ستخدم للتأكد من تحقيق أهداف الد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ثناء الدرس ( تقويم تكويني) في نهاية الدرس ( تقويم ختامي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عد مسبق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كون مناسب لمحتوى الدرس ومستو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ن أساليب التقويم المناسب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وجيه الأسئلة من المعلم للتلاميذ والعك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طبيق بعض حلول المشكلات والقضايا الوارده في الدرس على حالات جدي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التلاميذ ملخصا بالأفكار الرئيسية للدرس أو الفوائد المكتسبة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تدريبات متنوعة لقياس المه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تهدفة من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179280" y="515772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468360" y="549360"/>
            <a:ext cx="820728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واجبات المنز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ختيار الوقت المناسب لإعطائه للتلامي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نوع يراعي الفروق الفردية للتلامي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- تمار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- قراءات اضاف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- أنشطة على شكل مشروع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324000" y="4221000"/>
            <a:ext cx="8280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100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1287360" y="28908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تخطيط للدروس اليوم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وأساليب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8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8360" y="1557360"/>
            <a:ext cx="835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 تتعرف الطالبة على مفهوم التخطيط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ن تتعرف الطالبة على أهمية التخطيط للمعلم والمتعلم ولعملية التدري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ن تتدرب الطالبة على التخطيط الفعال للدروس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335F-126E-4A9F-9A43-B3AE161641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755640" y="349200"/>
            <a:ext cx="7848360" cy="4132080"/>
            <a:chOff x="755640" y="349200"/>
            <a:chExt cx="7848360" cy="4132080"/>
          </a:xfrm>
        </p:grpSpPr>
        <p:sp>
          <p:nvSpPr>
            <p:cNvPr id="116" name="AutoShape 4"/>
            <p:cNvSpPr/>
            <p:nvPr/>
          </p:nvSpPr>
          <p:spPr>
            <a:xfrm>
              <a:off x="898200" y="349200"/>
              <a:ext cx="7705800" cy="194328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755640" y="2076480"/>
              <a:ext cx="6622920" cy="2404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جملة مفيدة باستخدام مفهوم « التخطيط «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9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التخطيط في اللغ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 خط يخط خط على الشيء رسم علا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لتخطيط : التسطير والتهذي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التخطيط في الاصطلاح التربوي :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ملية تصور ذهني مقصود ومسبق للمواقف التعليمية وما يجري فيها من فعاليات وأنواع نشاط يراها المعلم مناسبة لتحقيق أهدافه المخطط ل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خطي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30" descr="PE01561_"/>
          <p:cNvPicPr/>
          <p:nvPr/>
        </p:nvPicPr>
        <p:blipFill>
          <a:blip r:embed="rId1"/>
          <a:stretch/>
        </p:blipFill>
        <p:spPr>
          <a:xfrm>
            <a:off x="0" y="1989000"/>
            <a:ext cx="161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Calibri"/>
              </a:rPr>
              <a:t>أهمية التخطيط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أولا : أهمية التخطيط للمعلم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تحديد أهدا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تاحة الفرصة للمعلم للاطلاع على المحتوى الدراس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بعاد المعلم عن الارتجال والتخبط والاضطرا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 المعلم الثقة بالنف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زيادة قدرة المعلم على مراعاة الفروق الفرد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زيادة درجة تفاع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متعلمين في المواقف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030" descr="PE01561_"/>
          <p:cNvPicPr/>
          <p:nvPr/>
        </p:nvPicPr>
        <p:blipFill>
          <a:blip r:embed="rId1"/>
          <a:stretch/>
        </p:blipFill>
        <p:spPr>
          <a:xfrm>
            <a:off x="0" y="3760920"/>
            <a:ext cx="2195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مساعدة المعلم في إدارة الصف بفاعل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نيل المعلم احترام المتعلمين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10-21T08:21:13Z</dcterms:modified>
  <cp:revision>51</cp:revision>
  <dc:subject/>
  <dc:title>الانكيت</dc:title>
</cp:coreProperties>
</file>