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3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9.gif" ContentType="image/gif"/>
  <Override PartName="/ppt/media/image11.wmf" ContentType="image/x-wmf"/>
  <Override PartName="/ppt/media/image17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jpeg" ContentType="image/jpeg"/>
  <Override PartName="/ppt/media/image5.png" ContentType="image/png"/>
  <Override PartName="/ppt/media/image18.wmf" ContentType="image/x-wmf"/>
  <Override PartName="/ppt/media/image24.jpeg" ContentType="image/jpeg"/>
  <Override PartName="/ppt/media/image3.jpeg" ContentType="image/jpeg"/>
  <Override PartName="/ppt/media/image15.jpeg" ContentType="image/jpeg"/>
  <Override PartName="/ppt/media/image14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E06A-6BE3-4916-A708-CFC9C32FE83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F04D-3985-444E-BD86-93F0F315322E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917F-2147-42A4-B6E5-B0F7F37A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EADA-75C5-4F84-96DC-36475351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A9D-96D9-45EF-B9F9-E1C69287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C364-488F-4EFA-B528-6EF1D0CF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9703-DC43-49A1-9282-83EFA580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5AC1-B0BB-47AE-8984-53BABDB7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439E-DE75-423F-92E6-7D1BAE8A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05F3-E9E2-4C5B-B589-4F62C011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CAEE-A3DF-4949-A7D9-A93E97F0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8987-5569-48CC-9512-95AA7257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7E25-D10C-4D0B-877C-758D45C1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57EB-58B7-4EB5-A8A3-0B12EBE6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0F68-A7A1-4D75-8C96-5B968C0E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EA08-E7BF-402D-84F6-DC068958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EFB3-AF06-48DA-A89C-768E8CFB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0D13-0CA3-4DB2-8C11-B616C5E6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05A7-53CC-4C93-AFB2-C71A3703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286C-438C-4944-BD8D-BB699074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11B6-062C-4288-80B9-09E0C1BA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46BD-A649-4AD2-B27C-8CC9ED94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ECF4-E379-4D9F-B83D-8E0558D0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12C-0BF1-4352-97FB-199BD481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0025-1237-4659-ACFA-1A9D3D0B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6934-87BC-4551-BB76-47E3AE0D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5AA8-730B-4D7B-9CAD-A60041AB68C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348A-24B6-41F9-8C15-0B0A1E1FB12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VSXBB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0" name="الفاتحة.wav" descr=""/>
          <p:cNvPicPr/>
          <p:nvPr/>
        </p:nvPicPr>
        <p:blipFill>
          <a:blip r:embed="rId2"/>
          <a:stretch/>
        </p:blipFill>
        <p:spPr>
          <a:xfrm>
            <a:off x="1522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20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Users\amal\Pictures\imagesCAPQBFX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1378080" y="677880"/>
            <a:ext cx="7226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4552920"/>
            <a:ext cx="7058160" cy="2305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5124600" y="692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042920" y="1052640"/>
            <a:ext cx="7416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ثانيا : أهمية التخطيط للمتعلم 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لبية احتياجات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إثارة دافعية التعلم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زيادة درجة التفاعل في الموقف الصف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تمنحه الثقة بالنفس .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Users\amal\Pictures\imagesCAYJIJOJ.jpg"/>
          <p:cNvPicPr/>
          <p:nvPr/>
        </p:nvPicPr>
        <p:blipFill>
          <a:blip r:embed="rId1"/>
          <a:stretch/>
        </p:blipFill>
        <p:spPr>
          <a:xfrm>
            <a:off x="0" y="189000"/>
            <a:ext cx="4932360" cy="4103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Users\amal\Pictures\imagesCAI7J0R0.jpg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4437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Users\amal\Pictures\untitled.png"/>
          <p:cNvPicPr/>
          <p:nvPr/>
        </p:nvPicPr>
        <p:blipFill>
          <a:blip r:embed="rId3"/>
          <a:stretch/>
        </p:blipFill>
        <p:spPr>
          <a:xfrm>
            <a:off x="0" y="4149720"/>
            <a:ext cx="4932360" cy="2708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amal\Pictures\imagesCAZD59E0.jpg"/>
          <p:cNvPicPr/>
          <p:nvPr/>
        </p:nvPicPr>
        <p:blipFill>
          <a:blip r:embed="rId4"/>
          <a:stretch/>
        </p:blipFill>
        <p:spPr>
          <a:xfrm>
            <a:off x="4932360" y="4149720"/>
            <a:ext cx="421164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Calibri"/>
              </a:rPr>
              <a:t>ثالثا  : أهمية التخطيط لعملية التدريس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إسهام في تحسين المخرجات التعليمية النهائ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الإسهام في تحسين الكفاية التعليم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الإسهام في توفير الجهد والزمن والتكلف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العمل على جعل معنى للتعلي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ject 1" descr=""/>
          <p:cNvPicPr/>
          <p:nvPr/>
        </p:nvPicPr>
        <p:blipFill>
          <a:blip r:embed="rId1"/>
          <a:stretch/>
        </p:blipFill>
        <p:spPr>
          <a:xfrm>
            <a:off x="108000" y="4437000"/>
            <a:ext cx="3244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مبادئ التخطيط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فهم الصحيح لفلسفة التربية وأهداف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فهم الصحيح للأهداف بمستوياتها المتعدد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تنوع مجالات الأهداف بحيث لا تقتصر على مجال واحد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معرفة خصائص المتعلمي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مراعاة الفروق الفردية بين المتعلمي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مراعاة البيئة المادية لعملية التدريس من حيث توافر التسهيلات والتجهيزات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11" descr="ANd9GcT6rmB08Q0cHlYox5pPbTw0T_RprNVNaMKRoFhFIbIJQukKASUR"/>
          <p:cNvPicPr/>
          <p:nvPr/>
        </p:nvPicPr>
        <p:blipFill>
          <a:blip r:embed="rId1"/>
          <a:stretch/>
        </p:blipFill>
        <p:spPr>
          <a:xfrm>
            <a:off x="0" y="4653000"/>
            <a:ext cx="1979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مبادئ التخطيط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لإلمام بالمادة التي يتولى المعلم تدريسها قبل الشروع بعملية التدريس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تفعيل التغذية الراجع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11" descr="ANd9GcT6rmB08Q0cHlYox5pPbTw0T_RprNVNaMKRoFhFIbIJQukKASUR"/>
          <p:cNvPicPr/>
          <p:nvPr/>
        </p:nvPicPr>
        <p:blipFill>
          <a:blip r:embed="rId1"/>
          <a:stretch/>
        </p:blipFill>
        <p:spPr>
          <a:xfrm>
            <a:off x="0" y="3716280"/>
            <a:ext cx="4788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أنواع التخطيط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507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3300"/>
                </a:solidFill>
                <a:uFillTx/>
                <a:latin typeface="Calibri"/>
              </a:rPr>
              <a:t>أولا : أنواع التخطيط تبعا لحجم المادة الدراسي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تخطيط للوحد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تخطيط للدر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3300"/>
                </a:solidFill>
                <a:uFillTx/>
                <a:latin typeface="Calibri"/>
              </a:rPr>
              <a:t>ثانيا : أنواع التخطيط تبعا لزمن التنفي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خطط طويلة الأج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خطط الشهر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خطة اليوم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50920" y="4508640"/>
            <a:ext cx="4176720" cy="1558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3419640" y="40464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خطة الدر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539640" y="907920"/>
            <a:ext cx="8353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تكون خطة الدرس من عدد من العناصر أو المكونات وقد تختلف من حيث عددها وترتيبها من خطة لأخرى وفقا لطبيعة المادة الدراسية أو المرحلة التعليمية , إلا أنه ثمة عناصر أسية اتفق المربون أهمية توافرها في خطة الدرس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- الإطار العام للدر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3700440"/>
          <a:ext cx="6096240" cy="1189080"/>
        </p:xfrm>
        <a:graphic>
          <a:graphicData uri="http://schemas.openxmlformats.org/drawingml/2006/table">
            <a:tbl>
              <a:tblPr/>
              <a:tblGrid>
                <a:gridCol w="3021120"/>
                <a:gridCol w="3075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ماد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تاريخ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حص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ص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موضوع الدر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فص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3773520" y="981000"/>
            <a:ext cx="47592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- الأهداف السلوكي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بق الحديث عنه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684360" y="2205000"/>
            <a:ext cx="7920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- محتوى الدر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 المادة العلمية ” عناصر الدرس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 - طريقة التدري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            سبق الحديث عن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Users\dell\Pictures\imagesCA4SJSEM.jpg"/>
          <p:cNvPicPr/>
          <p:nvPr/>
        </p:nvPicPr>
        <p:blipFill>
          <a:blip r:embed="rId1"/>
          <a:stretch/>
        </p:blipFill>
        <p:spPr>
          <a:xfrm>
            <a:off x="0" y="4005360"/>
            <a:ext cx="34815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"/>
          <p:cNvSpPr/>
          <p:nvPr/>
        </p:nvSpPr>
        <p:spPr>
          <a:xfrm>
            <a:off x="395280" y="836640"/>
            <a:ext cx="835344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ar-SA" sz="3600" spc="-1" strike="noStrike" u="sng">
                <a:solidFill>
                  <a:srgbClr val="ff0000"/>
                </a:solidFill>
                <a:uFillTx/>
                <a:latin typeface="Arial"/>
              </a:rPr>
              <a:t>-  الأنشطة التعليم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قد تكون في بداية الدرس أو مصاحبة له أو تالية ل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يراعى في اختيارها المرحلة العمرية وخبرات المتعلم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قد تكون فردية وقد تكون جماع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كون عددها مناسب لحتوى الدر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نسبة اكتساب الخبرة منها عالي جدا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C:\Users\dell\Pictures\imagesCAAOWWTD.jpg"/>
          <p:cNvPicPr/>
          <p:nvPr/>
        </p:nvPicPr>
        <p:blipFill>
          <a:blip r:embed="rId1"/>
          <a:stretch/>
        </p:blipFill>
        <p:spPr>
          <a:xfrm>
            <a:off x="0" y="4581360"/>
            <a:ext cx="4356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95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40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طرق تدريس العلوم الشرع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5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رابع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H:\1شعار القسم.JPG"/>
          <p:cNvPicPr/>
          <p:nvPr/>
        </p:nvPicPr>
        <p:blipFill>
          <a:blip r:embed="rId4"/>
          <a:stretch/>
        </p:blipFill>
        <p:spPr>
          <a:xfrm>
            <a:off x="317520" y="255600"/>
            <a:ext cx="18828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539640" y="765000"/>
            <a:ext cx="860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- الوسائل التعليمية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تعد وتجهز قبل عملية التدري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ثري المواقف التعليمي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كون مناسبة اموضوع الدرس ومستوى التلامي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C:\Users\dell\Pictures\imagesCAXCUKIR.jpg"/>
          <p:cNvPicPr/>
          <p:nvPr/>
        </p:nvPicPr>
        <p:blipFill>
          <a:blip r:embed="rId1"/>
          <a:stretch/>
        </p:blipFill>
        <p:spPr>
          <a:xfrm>
            <a:off x="179280" y="4292640"/>
            <a:ext cx="4969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250920" y="404640"/>
            <a:ext cx="8497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- أساليب التقوي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يستخدم للتأكد من تحقيق أهداف الدر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أثناء الدرس ( تقويم تكويني) في نهاية الدرس ( تقويم ختامي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عد مسبق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يكون مناسب لمحتوى الدرس ومستوى الطلا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من أساليب التقويم المناسب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- توجيه الأسئلة من المعلم للتلاميذ والعك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- تطبيق بعض حلول المشكلات والقضايا الوارده في الدرس على حالات جديد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- اعداد التلاميذ ملخصا بالأفكار الرئيسية للدرس أو الفوائد المكتسبة من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- اعداد تدريبات متنوعة لقياس المهار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ستهدفة من الدر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Users\dell\Pictures\imagesCAOBW3NE.jpg"/>
          <p:cNvPicPr/>
          <p:nvPr/>
        </p:nvPicPr>
        <p:blipFill>
          <a:blip r:embed="rId1"/>
          <a:stretch/>
        </p:blipFill>
        <p:spPr>
          <a:xfrm>
            <a:off x="179280" y="5157720"/>
            <a:ext cx="30290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468360" y="549360"/>
            <a:ext cx="820728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- الواجبات المنزلي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ختيار الوقت المناسب لإعطائه للتلامي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نوع يراعي الفروق الفردية للتلامي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- تماري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- قراءات اضافي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- أنشطة على شكل مشروع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C:\Users\dell\Pictures\imagesCAOBW3NE.jpg"/>
          <p:cNvPicPr/>
          <p:nvPr/>
        </p:nvPicPr>
        <p:blipFill>
          <a:blip r:embed="rId1"/>
          <a:stretch/>
        </p:blipFill>
        <p:spPr>
          <a:xfrm>
            <a:off x="324000" y="4221000"/>
            <a:ext cx="82803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Public\Pictures\Stage\004.jpg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1437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"/>
          <p:cNvSpPr/>
          <p:nvPr/>
        </p:nvSpPr>
        <p:spPr>
          <a:xfrm>
            <a:off x="1020600" y="858960"/>
            <a:ext cx="681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</a:rPr>
              <a:t>شكرا لحسن استماعك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684360" y="1125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المحاضرة السابقة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مستطيل 4"/>
          <p:cNvGrpSpPr/>
          <p:nvPr/>
        </p:nvGrpSpPr>
        <p:grpSpPr>
          <a:xfrm>
            <a:off x="49320" y="274680"/>
            <a:ext cx="2481120" cy="3479760"/>
            <a:chOff x="49320" y="274680"/>
            <a:chExt cx="2481120" cy="3479760"/>
          </a:xfrm>
        </p:grpSpPr>
        <p:pic>
          <p:nvPicPr>
            <p:cNvPr id="100" name="مستطيل 4" descr=""/>
            <p:cNvPicPr/>
            <p:nvPr/>
          </p:nvPicPr>
          <p:blipFill>
            <a:blip r:embed="rId1"/>
            <a:stretch/>
          </p:blipFill>
          <p:spPr>
            <a:xfrm>
              <a:off x="49320" y="274680"/>
              <a:ext cx="248112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79280" y="404640"/>
              <a:ext cx="221472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صورة 3" descr="ش.jpg"/>
          <p:cNvPicPr/>
          <p:nvPr/>
        </p:nvPicPr>
        <p:blipFill>
          <a:blip r:embed="rId2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3" name="صورة 2" descr="ش.jpg"/>
          <p:cNvPicPr/>
          <p:nvPr/>
        </p:nvPicPr>
        <p:blipFill>
          <a:blip r:embed="rId3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4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8"/>
          <p:cNvSpPr/>
          <p:nvPr/>
        </p:nvSpPr>
        <p:spPr>
          <a:xfrm>
            <a:off x="1287360" y="2890800"/>
            <a:ext cx="6740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التخطيط للدروس اليومية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وأساليب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08" name="Object 1028"/>
          <p:cNvGraphicFramePr/>
          <p:nvPr/>
        </p:nvGraphicFramePr>
        <p:xfrm>
          <a:off x="5791320" y="5035680"/>
          <a:ext cx="283032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035680"/>
                    <a:ext cx="283032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6"/>
          <p:cNvSpPr/>
          <p:nvPr/>
        </p:nvSpPr>
        <p:spPr>
          <a:xfrm>
            <a:off x="1835280" y="39528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66"/>
                </a:solidFill>
                <a:latin typeface="Arial"/>
              </a:rPr>
              <a:t>الأهداف المتوقع تحققها من المحاضر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68360" y="1557360"/>
            <a:ext cx="8351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ن تتعرف الطالبة على مفهوم التخطيط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أن تتعرف الطالبة على أهمية التخطيط للمعلم والمتعلم ولعملية التدري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أن تتدرب الطالبة على التخطيط الفعال للدروس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814F-8F76-4A6F-8447-DF06D1C70E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"/>
          <p:cNvSpPr/>
          <p:nvPr/>
        </p:nvSpPr>
        <p:spPr>
          <a:xfrm>
            <a:off x="468360" y="1989000"/>
            <a:ext cx="8207280" cy="4176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755640" y="349200"/>
            <a:ext cx="7848360" cy="4132080"/>
            <a:chOff x="755640" y="349200"/>
            <a:chExt cx="7848360" cy="4132080"/>
          </a:xfrm>
        </p:grpSpPr>
        <p:sp>
          <p:nvSpPr>
            <p:cNvPr id="116" name="AutoShape 4"/>
            <p:cNvSpPr/>
            <p:nvPr/>
          </p:nvSpPr>
          <p:spPr>
            <a:xfrm>
              <a:off x="898200" y="349200"/>
              <a:ext cx="7705800" cy="1943280"/>
            </a:xfrm>
            <a:prstGeom prst="flowChartMultidocument">
              <a:avLst/>
            </a:prstGeom>
            <a:solidFill>
              <a:srgbClr val="ffff00"/>
            </a:soli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000000"/>
                  </a:solidFill>
                  <a:latin typeface="Times New Roman"/>
                  <a:cs typeface="PT Bold Heading"/>
                </a:rPr>
                <a:t>نشاط تمهيد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5"/>
            <p:cNvSpPr/>
            <p:nvPr/>
          </p:nvSpPr>
          <p:spPr>
            <a:xfrm>
              <a:off x="755640" y="2076480"/>
              <a:ext cx="6622920" cy="24048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3366"/>
                  </a:solidFill>
                  <a:latin typeface="Times New Roman"/>
                  <a:cs typeface="PT Bold Heading"/>
                </a:rPr>
                <a:t>بالتعاون مع أفراد مجموعتك , اكتبي جملة مفيدة باستخدام مفهوم « التخطيط «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1007640" y="4266720"/>
            <a:ext cx="1031760" cy="928800"/>
          </a:xfrm>
          <a:prstGeom prst="rect">
            <a:avLst/>
          </a:prstGeom>
          <a:ln w="0">
            <a:noFill/>
          </a:ln>
        </p:spPr>
      </p:pic>
      <p:pic>
        <p:nvPicPr>
          <p:cNvPr id="119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2930040" y="4833720"/>
            <a:ext cx="1032120" cy="928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Calibri"/>
              </a:rPr>
              <a:t>التخطيط في اللغ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ن خط يخط خط على الشيء رسم علام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التخطيط : التسطير والتهذيب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Calibri"/>
              </a:rPr>
              <a:t>التخطيط في الاصطلاح التربوي :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عملية تصور ذهني مقصود ومسبق للمواقف التعليمية وما يجري فيها من فعاليات وأنواع نشاط يراها المعلم مناسبة لتحقيق أهدافه المخطط ل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  </a:t>
            </a:r>
            <a:r>
              <a:rPr b="1" lang="ar-SA" sz="4400" spc="-1" strike="noStrike">
                <a:solidFill>
                  <a:srgbClr val="ff0066"/>
                </a:solidFill>
                <a:latin typeface="Calibri"/>
              </a:rPr>
              <a:t>أولا : المحاضر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1476360" y="297000"/>
            <a:ext cx="6624720" cy="16920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فهوم التخطيط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30" descr="PE01561_"/>
          <p:cNvPicPr/>
          <p:nvPr/>
        </p:nvPicPr>
        <p:blipFill>
          <a:blip r:embed="rId1"/>
          <a:stretch/>
        </p:blipFill>
        <p:spPr>
          <a:xfrm>
            <a:off x="0" y="1989000"/>
            <a:ext cx="1619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Calibri"/>
              </a:rPr>
              <a:t>أهمية التخطيط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Calibri"/>
              </a:rPr>
              <a:t>أولا : أهمية التخطيط للمعلم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مكين المعلم من تحديد أهداف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تاحة الفرصة للمعلم للاطلاع على المحتوى الدراسي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بعاد المعلم عن الارتجال والتخبط والاضطراب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نح المعلم الثقة بالنفس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زيادة قدرة المعلم على مراعاة الفروق الفرد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مكين المعلم من زيادة درجة تفاع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المتعلمين في المواقف الصف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030" descr="PE01561_"/>
          <p:cNvPicPr/>
          <p:nvPr/>
        </p:nvPicPr>
        <p:blipFill>
          <a:blip r:embed="rId1"/>
          <a:stretch/>
        </p:blipFill>
        <p:spPr>
          <a:xfrm>
            <a:off x="0" y="3760920"/>
            <a:ext cx="2195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مساعدة المعلم في إدارة الصف بفاعلي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نيل المعلم احترام المتعلمين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9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1116000" y="4508640"/>
            <a:ext cx="24480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4-10-21T08:21:13Z</dcterms:modified>
  <cp:revision>51</cp:revision>
  <dc:subject/>
  <dc:title>الانكيت</dc:title>
</cp:coreProperties>
</file>