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78DB-06AC-4AC2-993F-EBFEB94A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F3E2-9DBA-4509-B4AA-7B85ACAD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8D65-7E57-41D3-96D3-151BC9AE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E5B5-58D0-4F33-9D3B-D2ED6F47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E0FD-88DC-4FBD-BCB3-CF17BC99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977A-2D4D-4516-B095-98782A6B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3E09-E8CC-460E-859F-EECFFB93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D517-B9A0-4B1B-A0A8-03D5FB47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A40A-F6DE-404A-95B3-487B5872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C69E-87FA-40C5-BA56-F63585C7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369C-80D9-421A-8CB3-D7A8A9CD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8516-75D3-4AC2-AEA7-CB6E4280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A904-8376-4BCB-A8C9-6D73D8C35F8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52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مرحلة الأولى 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أسا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1785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أصوات غير مقصودة نتيجة حركة الشفاة واللسان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الأصوات غالبا تأخذ صورة البكاء  باختلاف الحالة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Calibri"/>
              </a:rPr>
              <a:t>طفل متلازمة داو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مرحلة الثانية من 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سابيع -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شهو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57200" y="2143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مربع نص 4"/>
          <p:cNvSpPr/>
          <p:nvPr/>
        </p:nvSpPr>
        <p:spPr>
          <a:xfrm>
            <a:off x="1857240" y="1857240"/>
            <a:ext cx="4357800" cy="375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تحكم إلى حد ما في الصو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في حالة السرور(المناغ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وفي حالة الغضب (الغضب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ويطلق أصوات على شكل مقاطع صوتية مقترنة الحروف الساكنة مع المتحركة مثل: دادا, با ,ما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</a:rPr>
              <a:t>الأطفال الذين يعانون من الاعاقة السمعية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مربع نص 1"/>
          <p:cNvSpPr/>
          <p:nvPr/>
        </p:nvSpPr>
        <p:spPr>
          <a:xfrm>
            <a:off x="1214280" y="642960"/>
            <a:ext cx="6000840" cy="131292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Calibri"/>
              </a:rPr>
              <a:t>المرحلة الثالثة </a:t>
            </a:r>
            <a:r>
              <a:rPr b="0" lang="ar-SA" sz="40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0" lang="ar-SA" sz="40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ar-SA" sz="4000" spc="-1" strike="noStrike">
                <a:solidFill>
                  <a:srgbClr val="ffffff"/>
                </a:solidFill>
                <a:latin typeface="Calibri"/>
              </a:rPr>
              <a:t>10</a:t>
            </a:r>
            <a:r>
              <a:rPr b="0" lang="ar-SA" sz="4000" spc="-1" strike="noStrike">
                <a:solidFill>
                  <a:srgbClr val="ffffff"/>
                </a:solidFill>
                <a:latin typeface="Calibri"/>
              </a:rPr>
              <a:t>شهو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Calibri"/>
              </a:rPr>
              <a:t>0</a:t>
            </a:r>
            <a:r>
              <a:rPr b="0" lang="ar-SA" sz="4000" spc="-1" strike="noStrike">
                <a:solidFill>
                  <a:srgbClr val="ffffff"/>
                </a:solidFill>
                <a:latin typeface="Calibri"/>
              </a:rPr>
              <a:t>ملاحظة“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ربع نص 2"/>
          <p:cNvSpPr/>
          <p:nvPr/>
        </p:nvSpPr>
        <p:spPr>
          <a:xfrm>
            <a:off x="2071800" y="2071800"/>
            <a:ext cx="5357880" cy="183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يستخدم مقاطع صوتية  ما  -تا  -نا لاستخدامها بطريقة غرض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</a:rPr>
              <a:t>الأطفال الذين يعانون من الاعاقة السمعية لاتظهر لديهم هذه المقاط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مربع نص 1"/>
          <p:cNvSpPr/>
          <p:nvPr/>
        </p:nvSpPr>
        <p:spPr>
          <a:xfrm>
            <a:off x="2786040" y="642960"/>
            <a:ext cx="4429080" cy="131292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Calibri"/>
              </a:rPr>
              <a:t>المرحلة الرابعة</a:t>
            </a:r>
            <a:r>
              <a:rPr b="0" lang="ar-SA" sz="4000" spc="-1" strike="noStrike">
                <a:solidFill>
                  <a:srgbClr val="ffffff"/>
                </a:solidFill>
                <a:latin typeface="Calibri"/>
              </a:rPr>
              <a:t>11</a:t>
            </a:r>
            <a:r>
              <a:rPr b="0" lang="ar-SA" sz="40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ar-SA" sz="40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مربع نص 2"/>
          <p:cNvSpPr/>
          <p:nvPr/>
        </p:nvSpPr>
        <p:spPr>
          <a:xfrm>
            <a:off x="2571840" y="1857240"/>
            <a:ext cx="5500440" cy="22885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في الشهر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تظهر الكلمة الأول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يصعب فهمها بشكل مجر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أهمية التعزي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</a:rPr>
              <a:t>قدرته على فهم الكلام أكثر من قدرته على التعبير الكلامي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مربع نص 1"/>
          <p:cNvSpPr/>
          <p:nvPr/>
        </p:nvSpPr>
        <p:spPr>
          <a:xfrm>
            <a:off x="3000240" y="785880"/>
            <a:ext cx="2786040" cy="6426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المرحلة الخامسة </a:t>
            </a: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12</a:t>
            </a: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18</a:t>
            </a: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مربع نص 2"/>
          <p:cNvSpPr/>
          <p:nvPr/>
        </p:nvSpPr>
        <p:spPr>
          <a:xfrm>
            <a:off x="2786040" y="2214720"/>
            <a:ext cx="2928960" cy="256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تتزداد عدد الكلمات لتصل عدد الكلمات إلى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بنهاية الشهر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يفهما المحيطون ب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Calibri"/>
              </a:rPr>
              <a:t>بنهاية هذه المرحلة يستخدم الطفل جملة مكونة من اسم وفعل(اكل تفاح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مربع نص 2"/>
          <p:cNvSpPr/>
          <p:nvPr/>
        </p:nvSpPr>
        <p:spPr>
          <a:xfrm>
            <a:off x="3143160" y="785880"/>
            <a:ext cx="2786040" cy="82548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alibri"/>
              </a:rPr>
              <a:t>المرحلة السادسة </a:t>
            </a:r>
            <a:r>
              <a:rPr b="0" lang="ar-SA" sz="2400" spc="-1" strike="noStrike">
                <a:solidFill>
                  <a:srgbClr val="ffffff"/>
                </a:solidFill>
                <a:latin typeface="Calibri"/>
              </a:rPr>
              <a:t>18</a:t>
            </a:r>
            <a:r>
              <a:rPr b="0" lang="ar-SA" sz="24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ar-SA" sz="2400" spc="-1" strike="noStrike">
                <a:solidFill>
                  <a:srgbClr val="ffffff"/>
                </a:solidFill>
                <a:latin typeface="Calibri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مربع نص 3"/>
          <p:cNvSpPr/>
          <p:nvPr/>
        </p:nvSpPr>
        <p:spPr>
          <a:xfrm>
            <a:off x="1714680" y="2428920"/>
            <a:ext cx="4286160" cy="1191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تزداد الكلمات لتصل ألى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300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كلم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ستخدام جملة من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كلمات (اسم ,فعل , صف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بدون حروف الجر وأل التعري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مربع نص 1"/>
          <p:cNvSpPr/>
          <p:nvPr/>
        </p:nvSpPr>
        <p:spPr>
          <a:xfrm>
            <a:off x="3000240" y="785880"/>
            <a:ext cx="4214880" cy="19224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Calibri"/>
              </a:rPr>
              <a:t>المرحلة السابعة  سنتين –ثلاث سنو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مربع نص 2"/>
          <p:cNvSpPr/>
          <p:nvPr/>
        </p:nvSpPr>
        <p:spPr>
          <a:xfrm>
            <a:off x="2500200" y="2143080"/>
            <a:ext cx="4286520" cy="22269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زداد الكلمات لتصل إلى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1000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كلم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يستخدم الأسئلة والأزمن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ايستطيع نطق جميع الاصو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مربع نص 1"/>
          <p:cNvSpPr/>
          <p:nvPr/>
        </p:nvSpPr>
        <p:spPr>
          <a:xfrm>
            <a:off x="3000240" y="785880"/>
            <a:ext cx="4214880" cy="192240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Calibri"/>
              </a:rPr>
              <a:t>المرحلة الثامنة  ثلاث سنوات –أربع سنو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مربع نص 2"/>
          <p:cNvSpPr/>
          <p:nvPr/>
        </p:nvSpPr>
        <p:spPr>
          <a:xfrm>
            <a:off x="3000240" y="2357280"/>
            <a:ext cx="4286520" cy="50299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زداد الكلمات لتصل إلى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1500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كلم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صبح لديه القدرة على إجراء محادثات طويل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%من الأصوات الساكنة ينطقها نطقا صحيحا وغالبا يكون هناك صعوبة في نطق حرف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ر, 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قدرة على تغيير نبرة الصو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مربع نص 1"/>
          <p:cNvSpPr/>
          <p:nvPr/>
        </p:nvSpPr>
        <p:spPr>
          <a:xfrm>
            <a:off x="3000240" y="785880"/>
            <a:ext cx="4214880" cy="192240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Calibri"/>
              </a:rPr>
              <a:t>المرحلة التاسعة اربع سنوات – </a:t>
            </a:r>
            <a:r>
              <a:rPr b="0" lang="ar-SA" sz="40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ar-SA" sz="4000" spc="-1" strike="noStrike">
                <a:solidFill>
                  <a:srgbClr val="ffffff"/>
                </a:solidFill>
                <a:latin typeface="Calibri"/>
              </a:rPr>
              <a:t> سنو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مربع نص 2"/>
          <p:cNvSpPr/>
          <p:nvPr/>
        </p:nvSpPr>
        <p:spPr>
          <a:xfrm>
            <a:off x="3000240" y="2357280"/>
            <a:ext cx="4286520" cy="180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زداد الكلمات لتصل إلى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2000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كلمة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90%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ن الأصوات الساكنة ينطقها نطقا صحيح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6T18:35:08Z</dcterms:created>
  <dc:creator>COMPULAND</dc:creator>
  <dc:description/>
  <dc:language>en-US</dc:language>
  <cp:lastModifiedBy>Maha Alhajri</cp:lastModifiedBy>
  <dcterms:modified xsi:type="dcterms:W3CDTF">2016-10-24T04:46:14Z</dcterms:modified>
  <cp:revision>12</cp:revision>
  <dc:subject/>
  <dc:title>المرحلة الأولى 4-6 أسابيع</dc:title>
</cp:coreProperties>
</file>