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B62-4DF2-47B4-9396-90CDC75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52A-DB65-439E-B282-53C9F25A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7FC-BE8D-4BFC-BD37-8D18FFC3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EFE-8F1B-427E-A6C0-0DD88261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354-64A7-4F99-9311-A959B65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2D2-28C0-4CA6-83A6-605AA6B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515-2A7D-47B7-A105-0BBCD2E1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42F-DE1A-46BC-916F-0ABF390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9DE-A944-4A96-9BBD-FE02FE96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A37-FD88-4219-8ADE-B66A886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8A5-AF18-4035-8294-35EFF09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D05-665A-41C2-A600-F948FF5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13C-B795-4AA0-8349-E89079D460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2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حلة الأولى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أسا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صوات غير مقصودة نتيجة حركة الشفاة واللس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الأصوات غالبا تأخذ صورة البكاء  باختلاف الحالة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</a:rPr>
              <a:t>طفل متلازمة دا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حلة الثانية من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سابيع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شه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1857240" y="1857240"/>
            <a:ext cx="43578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تحكم إلى حد ما في الصو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حالة السرور(المناغ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في حالة الغضب (الغضب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يطلق أصوات على شكل مقاطع صوتية مقترنة الحروف الساكنة مع المتحركة مثل: دادا, با ,ما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أطفال الذين يعانون من الاعاقة السمعية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1"/>
          <p:cNvSpPr/>
          <p:nvPr/>
        </p:nvSpPr>
        <p:spPr>
          <a:xfrm>
            <a:off x="1214280" y="642960"/>
            <a:ext cx="6000840" cy="1312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ثالثة 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شه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ملاحظة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2071800" y="2071800"/>
            <a:ext cx="5357880" cy="183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ستخدم مقاطع صوتية  ما  -تا  -نا لاستخدامها بطريقة غرض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أطفال الذين يعانون من الاعاقة السمعية لاتظهر لديهم هذه المقاط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1"/>
          <p:cNvSpPr/>
          <p:nvPr/>
        </p:nvSpPr>
        <p:spPr>
          <a:xfrm>
            <a:off x="2786040" y="642960"/>
            <a:ext cx="4429080" cy="1312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رابعة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2"/>
          <p:cNvSpPr/>
          <p:nvPr/>
        </p:nvSpPr>
        <p:spPr>
          <a:xfrm>
            <a:off x="2571840" y="1857240"/>
            <a:ext cx="55004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الشهر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تظهر الكلمة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عب فهمها بشكل مجر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همية التعز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قدرته على فهم الكلام أكثر من قدرته على التعبير الكلام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1"/>
          <p:cNvSpPr/>
          <p:nvPr/>
        </p:nvSpPr>
        <p:spPr>
          <a:xfrm>
            <a:off x="3000240" y="785880"/>
            <a:ext cx="2786040" cy="6426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المرحلة الخامسة 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12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2"/>
          <p:cNvSpPr/>
          <p:nvPr/>
        </p:nvSpPr>
        <p:spPr>
          <a:xfrm>
            <a:off x="2786040" y="2214720"/>
            <a:ext cx="2928960" cy="256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تزداد عدد الكلمات لتصل عدد الكلمات إلى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بنهاية الشه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فهما المحيطون ب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بنهاية هذه المرحلة يستخدم الطفل جملة مكونة من اسم وفعل(اكل تفاح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2"/>
          <p:cNvSpPr/>
          <p:nvPr/>
        </p:nvSpPr>
        <p:spPr>
          <a:xfrm>
            <a:off x="3143160" y="785880"/>
            <a:ext cx="2786040" cy="825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المرحلة السادسة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18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1714680" y="2428920"/>
            <a:ext cx="428616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زداد الكلمات لتصل ألى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كلم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ستخدام جملة من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كلمات (اسم ,فعل , صف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بدون حروف الجر وأل التعري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سابعة  سنتين –ثلاث سنو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2"/>
          <p:cNvSpPr/>
          <p:nvPr/>
        </p:nvSpPr>
        <p:spPr>
          <a:xfrm>
            <a:off x="2500200" y="2143080"/>
            <a:ext cx="4286520" cy="2226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الأسئلة والأزم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يستطيع نطق جميع الاصو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ثامنة  ثلاث سنوات –أربع سنو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3000240" y="2357280"/>
            <a:ext cx="4286520" cy="5029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صبح لديه القدرة على إجراء محادثات طوي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%من الأصوات الساكنة ينطقها نطقا صحيحا وغالبا يكون هناك صعوبة في نطق حر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ر, 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درة على تغيير نبرة الصو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مربع نص 1"/>
          <p:cNvSpPr/>
          <p:nvPr/>
        </p:nvSpPr>
        <p:spPr>
          <a:xfrm>
            <a:off x="3000240" y="785880"/>
            <a:ext cx="4214880" cy="19224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المرحلة التاسعة اربع سنوات – 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ar-SA" sz="4000" spc="-1" strike="noStrike">
                <a:solidFill>
                  <a:srgbClr val="ffffff"/>
                </a:solidFill>
                <a:latin typeface="Calibri"/>
              </a:rPr>
              <a:t> سنو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3000240" y="2357280"/>
            <a:ext cx="4286520" cy="180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زداد الكلمات لتصل إل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مة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90%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 الأصوات الساكنة ينطقها نطقا صحيح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8:35:08Z</dcterms:created>
  <dc:creator>COMPULAND</dc:creator>
  <dc:description/>
  <dc:language>en-US</dc:language>
  <cp:lastModifiedBy>Maha Alhajri</cp:lastModifiedBy>
  <dcterms:modified xsi:type="dcterms:W3CDTF">2016-10-24T04:46:14Z</dcterms:modified>
  <cp:revision>12</cp:revision>
  <dc:subject/>
  <dc:title>المرحلة الأولى 4-6 أسابيع</dc:title>
</cp:coreProperties>
</file>