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3.jpeg" ContentType="image/jpeg"/>
  <Override PartName="/ppt/media/image5.png" ContentType="image/png"/>
  <Override PartName="/ppt/media/image2.gif" ContentType="image/gif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E84-0FEF-4324-AEBD-9D1F7CC8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5F1-F64D-41B2-9771-EFD64E71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C71-2087-44C9-B5C7-B11FA72D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F37-9034-4DEF-8019-8C9F5474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9E2-EAEC-4A5D-BB79-46C841E1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823-0599-4B79-9351-732B4137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F21-D345-450B-AF27-DB25CD4D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5ED-0B36-4458-835C-81FC4A01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75C-8D1F-4EF2-B66F-5AE192AB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290-8F24-4C27-91A2-1BC032C1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B6D-D028-4A96-B368-53A0A0B1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EAB-D586-41A5-8FFF-161188C2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1F78-BC00-41C0-BE50-36B8F347CDC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p\Pictures\خلفيات بوربوينت\2530alhnu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hp\Pictures\يسم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وسائل تعليمية (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 جهاز عرض , مجسمات , لوحات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شطة تعليمية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أوراق عمل , ألعاب تعليمية , أنشطة شفهيه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حكام التجويد الواردة في النص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قرآن + تفسير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Users\dell\Pictures\imagesCACYJG58.jpg"/>
          <p:cNvPicPr/>
          <p:nvPr/>
        </p:nvPicPr>
        <p:blipFill>
          <a:blip r:embed="rId1"/>
          <a:stretch/>
        </p:blipFill>
        <p:spPr>
          <a:xfrm>
            <a:off x="324000" y="5084640"/>
            <a:ext cx="3009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ستنتاج الآداب والتوجيهات والفوائد الوارده في النص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خلل كل ما سبق التقويم التكوين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غلق الدرس + التقويم الختام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تطبيق عمل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واجب المنزل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قراءة إضافية عن الموضوع , تنفيذ مشروع مرتبط بالدرس داخل المدرسة أو خارجها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dell\Pictures\imagesCAGSXYSK.jpg"/>
          <p:cNvPicPr/>
          <p:nvPr/>
        </p:nvPicPr>
        <p:blipFill>
          <a:blip r:embed="rId1"/>
          <a:stretch/>
        </p:blipFill>
        <p:spPr>
          <a:xfrm>
            <a:off x="755640" y="465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(موضوعات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1268280"/>
            <a:ext cx="84960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لفكره العامة للدر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شرح التفصيلي لمعلومات الدرس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طرق تدريس متنو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ستنتاج الآداب والتوجيهات والفوائد الوارد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ربط بالواق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وجيه تربو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ربط المادة بالفروع الأخرى لمواد العلوم الشرع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C:\Users\dell\Pictures\imagesCAGSXYSK.jpg"/>
          <p:cNvPicPr/>
          <p:nvPr/>
        </p:nvPicPr>
        <p:blipFill>
          <a:blip r:embed="rId1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475920"/>
            <a:ext cx="79423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سائل تعليمية (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جهاز عرض , مجسمات , لوحات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شطة تعليمية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وراق عمل , ألعاب تعليمية , أنشطة شفهيه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خلل كل ما سبق التقويم التكوين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غلق الدرس + التقويم الختام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تطبيق عمل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واجب المنزل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قراءة إضافية عن الموضوع , تنفيذ مشروع مرتبط بالدرس داخل المدرسة أو خارجها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Users\dell\Pictures\imagesCAX78PWR.jpg"/>
          <p:cNvPicPr/>
          <p:nvPr/>
        </p:nvPicPr>
        <p:blipFill>
          <a:blip r:embed="rId1"/>
          <a:stretch/>
        </p:blipFill>
        <p:spPr>
          <a:xfrm>
            <a:off x="395280" y="4653000"/>
            <a:ext cx="14320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حاضرة الأول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4"/>
          <p:cNvCxnSpPr/>
          <p:nvPr/>
        </p:nvCxnSpPr>
        <p:spPr>
          <a:xfrm flipH="1">
            <a:off x="4284360" y="1844280"/>
            <a:ext cx="15832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TextBox 10"/>
          <p:cNvSpPr/>
          <p:nvPr/>
        </p:nvSpPr>
        <p:spPr>
          <a:xfrm>
            <a:off x="611280" y="1557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حاضرة الراب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611280" y="2852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ملازم   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    + عروض المحاضرات على الموق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54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طرق 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رابع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287360" y="981000"/>
            <a:ext cx="67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أساليب تدريس مواد العلوم الشرعي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0" y="3500280"/>
          <a:ext cx="9144000" cy="33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0280"/>
                    <a:ext cx="91440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971640" y="39528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الأهداف المتوقع تحققها من المحاضر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68360" y="155736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تصنيف مواد العلوم الشرعية في مدارس التعليم العا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تدرب على تقديم هذه الدروس وفق  تخطيط نموذج الانكي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درب على تدريس مواد العلوم الشرعية بنوعي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E:\صور\imagesCAZMJNKF.jpg"/>
          <p:cNvPicPr/>
          <p:nvPr/>
        </p:nvPicPr>
        <p:blipFill>
          <a:blip r:embed="rId1"/>
          <a:stretch/>
        </p:blipFill>
        <p:spPr>
          <a:xfrm>
            <a:off x="684360" y="5157720"/>
            <a:ext cx="2019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 - نصوص ( قرآن , تفسير , حديث 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 - موضوعات ( توحيد , فقه , ثقافة إسلامية 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2"/>
          <p:cNvSpPr/>
          <p:nvPr/>
        </p:nvSpPr>
        <p:spPr>
          <a:xfrm>
            <a:off x="250920" y="333360"/>
            <a:ext cx="8642160" cy="16923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نواع دروس مواد العلوم الشرعية في التعليم العا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dell\Pictures\imagesCA6C5HW6.jpg"/>
          <p:cNvPicPr/>
          <p:nvPr/>
        </p:nvPicPr>
        <p:blipFill>
          <a:blip r:embed="rId1"/>
          <a:stretch/>
        </p:blipFill>
        <p:spPr>
          <a:xfrm>
            <a:off x="0" y="4857840"/>
            <a:ext cx="2627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 المشتركة </a:t>
            </a:r>
            <a:br>
              <a:rPr sz="4000"/>
            </a:b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( نصوص – موضوعات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600200"/>
            <a:ext cx="8362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حل الواجب المنزلي للدرس السابق + مراجعة شاملة للدرس الساب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مهيد للدرس الجديد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مقدمة إنشائية من العام إلى الخاص , قصة , مشهد تمثيلي , ألعاب تعليمية , مقطع مرئ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ستنتاج موضوع الدرس الجديد وتدوينه على السبورة الصف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رض الأهداف المتوقع تحقيقها من الدر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C:\Users\dell\Pictures\imagesCA4SJSEM.jpg"/>
          <p:cNvPicPr/>
          <p:nvPr/>
        </p:nvPicPr>
        <p:blipFill>
          <a:blip r:embed="rId1"/>
          <a:stretch/>
        </p:blipFill>
        <p:spPr>
          <a:xfrm>
            <a:off x="0" y="5086440"/>
            <a:ext cx="2556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(  نصوص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268280"/>
            <a:ext cx="8281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قراءة النص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توضيح معاني المفردات الغير مفهومه للطالب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لفكره العامة للنص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شرح التفصيلي للنص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طرق تدريس متنوعة 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ربط بالواقع + توجيه تربوي + ربط المادة بالفروع الأخرى لمواد العلوم الشرع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C:\Users\dell\Pictures\imagesCA3RLC5D.jpg"/>
          <p:cNvPicPr/>
          <p:nvPr/>
        </p:nvPicPr>
        <p:blipFill>
          <a:blip r:embed="rId1"/>
          <a:stretch/>
        </p:blipFill>
        <p:spPr>
          <a:xfrm>
            <a:off x="0" y="0"/>
            <a:ext cx="1866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5-10-13T04:49:43Z</dcterms:modified>
  <cp:revision>58</cp:revision>
  <dc:subject/>
  <dc:title>الانكيت</dc:title>
</cp:coreProperties>
</file>