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3.jpeg" ContentType="image/jpeg"/>
  <Override PartName="/ppt/media/image5.png" ContentType="image/png"/>
  <Override PartName="/ppt/media/image2.gif" ContentType="image/gif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F4EF-BAE4-4834-AF53-49963FD8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D52-A03A-402F-988A-9F7BDD73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A74E-2E2C-41A1-8F1A-891D04F2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26DB-D87E-45FC-845D-5F03933E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473-766E-4C1A-A617-14328545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DE48-6A60-4A43-84FB-F60D5E82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E74-C208-416A-9C89-5AA255F3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272-4296-417A-95F0-5FCF3883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52F-A214-4585-8456-D0CBAE6C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6C8F-442D-49FE-BE70-4C321334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BE55-0B8D-4D59-9AAE-243ACC63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D472-9BC6-4800-9A9F-D8172A57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466E-B91E-4793-888A-17A9E877189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hp\Pictures\خلفيات بوربوينت\2530alhnu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hp\Pictures\يسم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وسائل تعليمية (</a:t>
            </a: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 جهاز عرض , مجسمات , لوحات 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أنشطة تعليمية </a:t>
            </a: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( أوراق عمل , ألعاب تعليمية , أنشطة شفهيه 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ناقشة احكام التجويد الواردة في النص </a:t>
            </a: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( قرآن + تفسير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C:\Users\dell\Pictures\imagesCACYJG58.jpg"/>
          <p:cNvPicPr/>
          <p:nvPr/>
        </p:nvPicPr>
        <p:blipFill>
          <a:blip r:embed="rId1"/>
          <a:stretch/>
        </p:blipFill>
        <p:spPr>
          <a:xfrm>
            <a:off x="324000" y="5084640"/>
            <a:ext cx="3009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ستنتاج الآداب والتوجيهات والفوائد الوارده في النص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تخلل كل ما سبق التقويم التكويني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غلق الدرس + التقويم الختامي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أسئلة , تمارين متنوعة , تطبيق عملي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واجب المنزلي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أسئلة , تمارين متنوعة , قراءة إضافية عن الموضوع , تنفيذ مشروع مرتبط بالدرس داخل المدرسة أو خارجها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Users\dell\Pictures\imagesCAGSXYSK.jpg"/>
          <p:cNvPicPr/>
          <p:nvPr/>
        </p:nvPicPr>
        <p:blipFill>
          <a:blip r:embed="rId1"/>
          <a:stretch/>
        </p:blipFill>
        <p:spPr>
          <a:xfrm>
            <a:off x="755640" y="4653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خطوات التدريس(موضوعات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1268280"/>
            <a:ext cx="84960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ناقشة الفكره العامة للدر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شرح التفصيلي لمعلومات الدرس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طرق تدريس متنوع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ستنتاج الآداب والتوجيهات والفوائد الوارد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ربط بالواق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وجيه تربوي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ربط المادة بالفروع الأخرى لمواد العلوم الشرعي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C:\Users\dell\Pictures\imagesCAGSXYSK.jpg"/>
          <p:cNvPicPr/>
          <p:nvPr/>
        </p:nvPicPr>
        <p:blipFill>
          <a:blip r:embed="rId1"/>
          <a:stretch/>
        </p:blipFill>
        <p:spPr>
          <a:xfrm>
            <a:off x="0" y="51148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11280" y="475920"/>
            <a:ext cx="79423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سائل تعليمية (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جهاز عرض , مجسمات , لوحات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نشطة تعليمية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أوراق عمل , ألعاب تعليمية , أنشطة شفهيه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تخلل كل ما سبق التقويم التكويني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غلق الدرس + التقويم الختامي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أسئلة , تمارين متنوعة , تطبيق عملي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واجب المنزلي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أسئلة , تمارين متنوعة , قراءة إضافية عن الموضوع , تنفيذ مشروع مرتبط بالدرس داخل المدرسة أو خارجها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C:\Users\dell\Pictures\imagesCAX78PWR.jpg"/>
          <p:cNvPicPr/>
          <p:nvPr/>
        </p:nvPicPr>
        <p:blipFill>
          <a:blip r:embed="rId1"/>
          <a:stretch/>
        </p:blipFill>
        <p:spPr>
          <a:xfrm>
            <a:off x="395280" y="4653000"/>
            <a:ext cx="14320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Public\Pictures\Stage\004.jpg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143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1020600" y="858960"/>
            <a:ext cx="681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</a:rPr>
              <a:t>شكرا لحسن استماعك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حاضرة الأول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4"/>
          <p:cNvCxnSpPr/>
          <p:nvPr/>
        </p:nvCxnSpPr>
        <p:spPr>
          <a:xfrm flipH="1">
            <a:off x="4284360" y="1844280"/>
            <a:ext cx="15832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TextBox 10"/>
          <p:cNvSpPr/>
          <p:nvPr/>
        </p:nvSpPr>
        <p:spPr>
          <a:xfrm>
            <a:off x="611280" y="1557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حاضرة الرابع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611280" y="285264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ملازم   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    + عروض المحاضرات على الموق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54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57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طرق تدريس العلوم الشرع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7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رابع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H:\1شعار القسم.JPG"/>
          <p:cNvPicPr/>
          <p:nvPr/>
        </p:nvPicPr>
        <p:blipFill>
          <a:blip r:embed="rId4"/>
          <a:stretch/>
        </p:blipFill>
        <p:spPr>
          <a:xfrm>
            <a:off x="317520" y="255600"/>
            <a:ext cx="18828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287360" y="981000"/>
            <a:ext cx="674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أساليب تدريس مواد العلوم الشرعية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0" y="3500280"/>
          <a:ext cx="9144000" cy="33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00280"/>
                    <a:ext cx="914400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684360" y="1125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المحاضرة السابقة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971640" y="39528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الأهداف المتوقع تحققها من المحاضرة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468360" y="155736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عرف على تصنيف مواد العلوم الشرعية في مدارس التعليم العام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التدرب على تقديم هذه الدروس وفق  تخطيط نموذج الانكي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درب على تدريس مواد العلوم الشرعية بنوعيه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E:\صور\imagesCAZMJNKF.jpg"/>
          <p:cNvPicPr/>
          <p:nvPr/>
        </p:nvPicPr>
        <p:blipFill>
          <a:blip r:embed="rId1"/>
          <a:stretch/>
        </p:blipFill>
        <p:spPr>
          <a:xfrm>
            <a:off x="684360" y="5157720"/>
            <a:ext cx="2019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2204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 - نصوص ( قرآن , تفسير , حديث 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 - موضوعات ( توحيد , فقه , ثقافة إسلامية 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  </a:t>
            </a:r>
            <a:r>
              <a:rPr b="1" lang="ar-SA" sz="4400" spc="-1" strike="noStrike">
                <a:solidFill>
                  <a:srgbClr val="ff0066"/>
                </a:solidFill>
                <a:latin typeface="Calibri"/>
              </a:rPr>
              <a:t>أولا : المحاضر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2"/>
          <p:cNvSpPr/>
          <p:nvPr/>
        </p:nvSpPr>
        <p:spPr>
          <a:xfrm>
            <a:off x="250920" y="333360"/>
            <a:ext cx="8642160" cy="16923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نواع دروس مواد العلوم الشرعية في التعليم العا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:\Users\dell\Pictures\imagesCA6C5HW6.jpg"/>
          <p:cNvPicPr/>
          <p:nvPr/>
        </p:nvPicPr>
        <p:blipFill>
          <a:blip r:embed="rId1"/>
          <a:stretch/>
        </p:blipFill>
        <p:spPr>
          <a:xfrm>
            <a:off x="0" y="4857840"/>
            <a:ext cx="2627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خطوات التدريس المشتركة </a:t>
            </a:r>
            <a:br>
              <a:rPr sz="4000"/>
            </a:b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( نصوص – موضوعات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4000" y="1600200"/>
            <a:ext cx="8362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حل الواجب المنزلي للدرس السابق + مراجعة شاملة للدرس السابق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تمهيد للدرس الجديد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( مقدمة إنشائية من العام إلى الخاص , قصة , مشهد تمثيلي , ألعاب تعليمية , مقطع مرئي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ستنتاج موضوع الدرس الجديد وتدوينه على السبورة الصف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عرض الأهداف المتوقع تحقيقها من الدر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C:\Users\dell\Pictures\imagesCA4SJSEM.jpg"/>
          <p:cNvPicPr/>
          <p:nvPr/>
        </p:nvPicPr>
        <p:blipFill>
          <a:blip r:embed="rId1"/>
          <a:stretch/>
        </p:blipFill>
        <p:spPr>
          <a:xfrm>
            <a:off x="0" y="5086440"/>
            <a:ext cx="25560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خطوات التدريس(  نصوص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1268280"/>
            <a:ext cx="82818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قراءة النص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توضيح معاني المفردات الغير مفهومه للطالبات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ناقشة الفكره العامة للنص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شرح التفصيلي للنص </a:t>
            </a: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( طرق تدريس متنوعة 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ربط بالواقع + توجيه تربوي + ربط المادة بالفروع الأخرى لمواد العلوم الشرعي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C:\Users\dell\Pictures\imagesCA3RLC5D.jpg"/>
          <p:cNvPicPr/>
          <p:nvPr/>
        </p:nvPicPr>
        <p:blipFill>
          <a:blip r:embed="rId1"/>
          <a:stretch/>
        </p:blipFill>
        <p:spPr>
          <a:xfrm>
            <a:off x="0" y="0"/>
            <a:ext cx="1866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5-10-13T04:49:43Z</dcterms:modified>
  <cp:revision>58</cp:revision>
  <dc:subject/>
  <dc:title>الانكيت</dc:title>
</cp:coreProperties>
</file>