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60E44-4ED6-4DDB-B30C-003D097E7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EDB3C-65A6-4045-840B-800F8F558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5BC44-60CC-4B4A-8E99-77B279CB7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D42C5-F091-444A-B407-6288A9870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BDA9E-A4C2-453B-B612-1FA44A3B4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A565D-8E7F-482F-BB64-556CBA9E1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A7108-40A7-4E6E-BFD0-E10EBC7D3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DCA3D-6F27-4DFD-A3EB-7B68E90DB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BA8F3-70F0-4BBF-90AB-5F789E363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381D4-C2B2-4E2A-9C5D-0D6EC0489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9036E-12CD-460C-BCC9-D23A8B870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D2286-6124-4A31-B664-59467CF1D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35907-E45D-41F7-9886-25C4FB6AB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A248C-D086-47DC-8EE8-64C6F21FA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CEA01-F4DB-4ECB-A370-D8C2D0570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CC635-7043-4169-B3B3-A401DE538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365DB-771B-4A58-816B-CB6A352F9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78686-1B7A-49BB-9DD1-E1ADCC3DD3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E010D-6B30-4D4F-93CB-A716B3949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A9787-F407-468A-8FA5-B6AB19B46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D2C32-3293-422F-9CA4-0C6E2A9F7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24BF4-5379-4677-AE07-F3B0C014D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D0B7F-F744-4976-BD54-42EF311A9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C6BAA1-171B-4716-AA5F-16032B61B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4F21A-A153-490E-90A6-AD824C132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980BD-C317-43D2-9716-19C5E384A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B0B96-E126-4414-8B83-B67632E32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DFBBD-6E16-41BD-92C1-BCCE228F0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D9BDEB-A8A6-45FA-A989-9A5B09015B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9C0E4-4707-4260-867C-7190AB8887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5D656A-B518-4496-B661-F78742DDE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CF2B51-E2F3-4AC4-AB6B-0AE54F534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CD5F5-DBF3-4A73-9431-1A8A366E0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E6F23-1CFF-4C0C-9E05-BE857E10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1283B-010B-4EDD-8A21-C6F473E0D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2DAA3-E55A-4879-BDC3-41893FEFA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05C8C-28A1-41AC-8EFF-7CEC88626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AB00A-9D16-4DDA-A4F7-31E066952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E9FC0-DEDC-4C00-AB19-9F4F689BC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AED6F-99DA-41AF-8298-DE4814F4A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A78FD-AF6C-4FD1-832D-B748E6F18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FE5B0F-0604-4F02-AF53-BDA3179310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C1FF2C-94CF-4438-AF4A-26A717FD7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2CF2A-9DA1-44CD-8B88-50006730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3724-DBCF-4A56-91A4-CF83D0E1C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16E9-0A87-4B84-BB5C-4706BB6D9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433E-1401-469A-B7FC-5D292A735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689E2-DD36-4753-B360-F6915D4C2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975A-3D4B-4F0D-9664-1664FDEEF297}"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FF4D-657C-4EDA-B970-2D3C4499F883}"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E658-6C92-426E-83A3-65513158A14F}"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4D19-0A9F-4ECF-B188-11116ED4FDDA}"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255680"/>
            <a:ext cx="7864560" cy="2011320"/>
          </a:xfrm>
          <a:prstGeom prst="rect">
            <a:avLst/>
          </a:prstGeom>
          <a:ln w="0">
            <a:noFill/>
          </a:ln>
        </p:spPr>
      </p:pic>
      <p:sp>
        <p:nvSpPr>
          <p:cNvPr id="196" name="PlaceHolder 1"/>
          <p:cNvSpPr>
            <a:spLocks noGrp="1"/>
          </p:cNvSpPr>
          <p:nvPr>
            <p:ph type="subTitle"/>
          </p:nvPr>
        </p:nvSpPr>
        <p:spPr>
          <a:xfrm>
            <a:off x="533160" y="3933360"/>
            <a:ext cx="7854840" cy="1047960"/>
          </a:xfrm>
          <a:prstGeom prst="rect">
            <a:avLst/>
          </a:prstGeom>
          <a:noFill/>
          <a:ln w="0">
            <a:noFill/>
          </a:ln>
        </p:spPr>
        <p:txBody>
          <a:bodyPr lIns="0" rIns="1836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ساب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78920" y="1484280"/>
            <a:ext cx="8713800" cy="5113440"/>
          </a:xfrm>
          <a:prstGeom prst="rect">
            <a:avLst/>
          </a:prstGeom>
          <a:noFill/>
          <a:ln w="0">
            <a:noFill/>
          </a:ln>
        </p:spPr>
        <p:txBody>
          <a:bodyPr lIns="90000" rIns="90000" tIns="46800" bIns="46800" anchor="t">
            <a:normAutofit fontScale="89000"/>
          </a:bodyPr>
          <a:p>
            <a:pPr algn="just"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4e6d"/>
                </a:solidFill>
                <a:uFillTx/>
                <a:latin typeface="Constantia"/>
              </a:rPr>
              <a:t>(</a:t>
            </a:r>
            <a:r>
              <a:rPr b="1" lang="ar-SA" sz="2200" spc="-1" strike="noStrike" u="sng">
                <a:solidFill>
                  <a:srgbClr val="004e6d"/>
                </a:solidFill>
                <a:uFillTx/>
                <a:latin typeface="Constantia"/>
              </a:rPr>
              <a:t>3</a:t>
            </a:r>
            <a:r>
              <a:rPr b="1" lang="ar-SA" sz="2200" spc="-1" strike="noStrike" u="sng">
                <a:solidFill>
                  <a:srgbClr val="004e6d"/>
                </a:solidFill>
                <a:uFillTx/>
                <a:latin typeface="Constantia"/>
              </a:rPr>
              <a:t>) الثبـــــات</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رف الأداة الثابتة بأنها الأداة التي تعطي نتائج متقاربة أو نفس النتائج إذا طبقت أكثر من مرة في ظروف متماثلة. ومن النادر أن يوجد مقياس صادق ولا يكون ثابتاً، فالمقياس الصادق هو مقياس ثابت لكن العكس ليس صحيحاً.</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3495c"/>
                </a:solidFill>
                <a:uFillTx/>
                <a:latin typeface="Constantia"/>
              </a:rPr>
              <a:t>طرق التحقق من الثبات:</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c9b74"/>
                </a:solidFill>
                <a:latin typeface="Constantia"/>
              </a:rPr>
              <a:t>1</a:t>
            </a:r>
            <a:r>
              <a:rPr b="0" lang="ar-SA" sz="2200" spc="-1" strike="noStrike">
                <a:solidFill>
                  <a:srgbClr val="0c9b74"/>
                </a:solidFill>
                <a:latin typeface="Constantia"/>
              </a:rPr>
              <a:t>- طريقة الإعادة: </a:t>
            </a:r>
            <a:r>
              <a:rPr b="0" lang="ar-SA" sz="2200" spc="-1" strike="noStrike">
                <a:solidFill>
                  <a:srgbClr val="000000"/>
                </a:solidFill>
                <a:latin typeface="Constantia"/>
              </a:rPr>
              <a:t>حيثي المرة طبق الباحث الأداة على عدد من المستجيبين ثم يكرر تطبيق الاداة نفسها على المستجيبين أنفسهم بعد فترة زمنية محددة تتراوح ما بين </a:t>
            </a:r>
            <a:r>
              <a:rPr b="0" lang="ar-SA" sz="2200" spc="-1" strike="noStrike">
                <a:solidFill>
                  <a:srgbClr val="000000"/>
                </a:solidFill>
                <a:latin typeface="Constantia"/>
              </a:rPr>
              <a:t>2</a:t>
            </a:r>
            <a:r>
              <a:rPr b="0" lang="ar-SA" sz="2200" spc="-1" strike="noStrike">
                <a:solidFill>
                  <a:srgbClr val="000000"/>
                </a:solidFill>
                <a:latin typeface="Constantia"/>
              </a:rPr>
              <a:t> – </a:t>
            </a:r>
            <a:r>
              <a:rPr b="0" lang="ar-SA" sz="2200" spc="-1" strike="noStrike">
                <a:solidFill>
                  <a:srgbClr val="000000"/>
                </a:solidFill>
                <a:latin typeface="Constantia"/>
              </a:rPr>
              <a:t>4</a:t>
            </a:r>
            <a:r>
              <a:rPr b="0" lang="ar-SA" sz="2200" spc="-1" strike="noStrike">
                <a:solidFill>
                  <a:srgbClr val="000000"/>
                </a:solidFill>
                <a:latin typeface="Constantia"/>
              </a:rPr>
              <a:t> أسابيع، وتحسب درجاتهم في المرة الاولى ودرجاتهم في المرة الثانية، ثم يحسب معامل الارتباط بين درجاتهم في المرتين وكلما ارتفع معامل الارتباط دل ذلك على ثبات الأداة.</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3495c"/>
                </a:solidFill>
                <a:latin typeface="Constantia"/>
              </a:rPr>
              <a:t>عيوب هذه الطريقة:</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المستجيبين قد يتعلمون من التطبيق في المرة الاولى، فبالتالي  انخفاض عامل التوتر وانتقال أثر التدريب.</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عندما تطول الفترة بين مرتي التطبيق يكون المستجيبين أكثر نمواً ونضجاً وخبرة ومعرفة.</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في حالة قصر الفترة الزمنية بين مرتي التطبيق فإن المستجيبين يتذكرون بعض أجزاء الأداة، مع محاولة ضبط العوامل الدخيلة المؤثرة في التجربة.</a:t>
            </a:r>
            <a:endParaRPr b="0" lang="en-US" sz="2200" spc="-1" strike="noStrike">
              <a:solidFill>
                <a:srgbClr val="000000"/>
              </a:solidFill>
              <a:latin typeface="Constantia"/>
            </a:endParaRPr>
          </a:p>
        </p:txBody>
      </p:sp>
      <p:sp>
        <p:nvSpPr>
          <p:cNvPr id="214"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412640"/>
            <a:ext cx="8229600" cy="4911480"/>
          </a:xfrm>
          <a:prstGeom prst="rect">
            <a:avLst/>
          </a:prstGeom>
          <a:noFill/>
          <a:ln w="0">
            <a:noFill/>
          </a:ln>
        </p:spPr>
        <p:txBody>
          <a:bodyPr lIns="90000" rIns="90000" tIns="46800" bIns="46800" anchor="t">
            <a:normAutofit fontScale="96000"/>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c9b74"/>
                </a:solidFill>
                <a:latin typeface="Constantia"/>
              </a:rPr>
              <a:t>2</a:t>
            </a:r>
            <a:r>
              <a:rPr b="0" lang="ar-SA" sz="2600" spc="-1" strike="noStrike">
                <a:solidFill>
                  <a:srgbClr val="0c9b74"/>
                </a:solidFill>
                <a:latin typeface="Constantia"/>
              </a:rPr>
              <a:t>- طريقة الصور المتكافئ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باحث صورتين متكافئتين من جميع الجوانب لأداة القياس، بحيث تتوافر فيهما المواصفات نفسها وعدد الأسئلة والصياغة والمحتوى ومستوى الصعوبة والأهداف والتعليمات والزمن والأمثلة التوضيحية، ثم يطبق الصورة الأولى وبعد فترة زمنية يطبق الصورة الثانية ثم يحسب معامل الارتباط بين درجات المستجيبين على الصورتين، فيكون هو معامل ثبات الادا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3495c"/>
                </a:solidFill>
                <a:latin typeface="Constantia"/>
              </a:rPr>
              <a:t>عيوب هذه الطريقة:</a:t>
            </a:r>
            <a:endParaRPr b="0" lang="en-US" sz="2600" spc="-1" strike="noStrike">
              <a:solidFill>
                <a:srgbClr val="000000"/>
              </a:solidFill>
              <a:latin typeface="Constantia"/>
            </a:endParaRPr>
          </a:p>
          <a:p>
            <a:pPr algn="just"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التأكد من تكافؤ صورتي الأداة.</a:t>
            </a:r>
            <a:endParaRPr b="0" lang="en-US" sz="2600" spc="-1" strike="noStrike">
              <a:solidFill>
                <a:srgbClr val="000000"/>
              </a:solidFill>
              <a:latin typeface="Constantia"/>
            </a:endParaRPr>
          </a:p>
          <a:p>
            <a:pPr algn="just"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توفير الظروف المتشابهة تماماً.</a:t>
            </a:r>
            <a:endParaRPr b="0" lang="en-US" sz="2600" spc="-1" strike="noStrike">
              <a:solidFill>
                <a:srgbClr val="000000"/>
              </a:solidFill>
              <a:latin typeface="Constantia"/>
            </a:endParaRPr>
          </a:p>
          <a:p>
            <a:pPr algn="just"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جهد والوقت الذي يبذل في الإعداد والتطبيق.</a:t>
            </a:r>
            <a:endParaRPr b="0" lang="en-US" sz="2600" spc="-1" strike="noStrike">
              <a:solidFill>
                <a:srgbClr val="000000"/>
              </a:solidFill>
              <a:latin typeface="Constantia"/>
            </a:endParaRPr>
          </a:p>
        </p:txBody>
      </p:sp>
      <p:sp>
        <p:nvSpPr>
          <p:cNvPr id="216"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ق التحقق من الثبات</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50920" y="1483920"/>
            <a:ext cx="8642160" cy="4840200"/>
          </a:xfrm>
          <a:prstGeom prst="rect">
            <a:avLst/>
          </a:prstGeom>
          <a:noFill/>
          <a:ln w="0">
            <a:noFill/>
          </a:ln>
        </p:spPr>
        <p:txBody>
          <a:bodyPr lIns="90000" rIns="90000" tIns="46800" bIns="46800" anchor="t">
            <a:normAutofit fontScale="93000"/>
          </a:bodyPr>
          <a:p>
            <a:pPr marL="253440" indent="-253440" algn="just"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c9b74"/>
                </a:solidFill>
                <a:latin typeface="Constantia"/>
              </a:rPr>
              <a:t>3</a:t>
            </a:r>
            <a:r>
              <a:rPr b="0" lang="ar-SA" sz="2200" spc="-1" strike="noStrike">
                <a:solidFill>
                  <a:srgbClr val="0c9b74"/>
                </a:solidFill>
                <a:latin typeface="Constantia"/>
              </a:rPr>
              <a:t>- طريقة الاتساق الداخلي:</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طبيق الأداة مرة واحدة: الأمر الذي يقود إلى التغلب على المشكلات التي أشير إليها كعيوب تواجه طريقتي إيجاد الثبات بالإعادة، وبالصور المتكافئة، والتي تنبع من تطبيق أداة القياس مرتين، ومن هذه الطرق ما يلي:</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76a3"/>
                </a:solidFill>
                <a:latin typeface="Constantia"/>
              </a:rPr>
              <a:t>أ-طريقة التجزئية النصفية:</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بهذه الطريقة يقسم المقياس إلى نصفين دون معرفة المفحوص، ويقدم إلى المستجيبين على أنه مقياس واحد، ثم يضع المصحح درجتين لكل مفحوص درجة على النصف الأول ودرجة على النصف الثاني، ثم يحسب معامل الارتباط بين درجات المستجيبين على نصفي المقياس، ويمسى معامل الثبات النصفي ويتم تصحيحه بمعادلة إحصائية مثل معادلة سبيرمان براون، أو جتمان أو رولون، ويكون المقياس ثابتاً إذا كان معامل الارتباط عالياً.</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3495c"/>
                </a:solidFill>
                <a:latin typeface="Constantia"/>
              </a:rPr>
              <a:t>عيوب هذه الطريقة:</a:t>
            </a:r>
            <a:endParaRPr b="0" lang="en-US" sz="2200" spc="-1" strike="noStrike">
              <a:solidFill>
                <a:srgbClr val="000000"/>
              </a:solidFill>
              <a:latin typeface="Constantia"/>
            </a:endParaRPr>
          </a:p>
          <a:p>
            <a:pPr marL="253440" indent="-253440" algn="just"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قسيم المقياس إلى قسمين يؤدي إلى عدم تجانس القسمين الجديدين أو تكافؤهما.</a:t>
            </a:r>
            <a:endParaRPr b="0" lang="en-US" sz="2200" spc="-1" strike="noStrike">
              <a:solidFill>
                <a:srgbClr val="000000"/>
              </a:solidFill>
              <a:latin typeface="Constantia"/>
            </a:endParaRPr>
          </a:p>
          <a:p>
            <a:pPr marL="253440" indent="-253440" algn="just"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يقل صدقهما لأن الفقرات لا تقيس جميع الأبعاد المتعلقة بالسمة.</a:t>
            </a:r>
            <a:endParaRPr b="0" lang="en-US" sz="2200" spc="-1" strike="noStrike">
              <a:solidFill>
                <a:srgbClr val="000000"/>
              </a:solidFill>
              <a:latin typeface="Constantia"/>
            </a:endParaRPr>
          </a:p>
          <a:p>
            <a:pPr marL="253440" indent="-253440" algn="just"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ناتج في هذه الطريقة هو معامل الثبات النصفي والذي يحتاج إلى تصحيح باستخدام معادلات إحصائية.</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8"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ق التحقق من الثبات</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483920"/>
            <a:ext cx="8229600" cy="4840200"/>
          </a:xfrm>
          <a:prstGeom prst="rect">
            <a:avLst/>
          </a:prstGeom>
          <a:noFill/>
          <a:ln w="0">
            <a:noFill/>
          </a:ln>
        </p:spPr>
        <p:txBody>
          <a:bodyPr lIns="90000" rIns="90000" tIns="46800" bIns="46800" anchor="t">
            <a:normAutofit fontScale="93000"/>
          </a:bodyPr>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6a3"/>
                </a:solidFill>
                <a:latin typeface="Constantia"/>
              </a:rPr>
              <a:t>ب-طريقة كودر ريتشاردسون:</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ناسب هذه الطريقة الفقرات الموضوعية أو فقرات الصواب والخطأ التي تأخذ الغجابة عليها أحد احتمالين: </a:t>
            </a:r>
            <a:r>
              <a:rPr b="0" lang="ar-SA" sz="2600" spc="-1" strike="noStrike">
                <a:solidFill>
                  <a:srgbClr val="000000"/>
                </a:solidFill>
                <a:latin typeface="Constantia"/>
              </a:rPr>
              <a:t>0</a:t>
            </a:r>
            <a:r>
              <a:rPr b="0" lang="ar-SA" sz="2600" spc="-1" strike="noStrike">
                <a:solidFill>
                  <a:srgbClr val="000000"/>
                </a:solidFill>
                <a:latin typeface="Constantia"/>
              </a:rPr>
              <a:t> أو </a:t>
            </a:r>
            <a:r>
              <a:rPr b="0" lang="ar-SA" sz="2600" spc="-1" strike="noStrike">
                <a:solidFill>
                  <a:srgbClr val="000000"/>
                </a:solidFill>
                <a:latin typeface="Constantia"/>
              </a:rPr>
              <a:t>1</a:t>
            </a:r>
            <a:r>
              <a:rPr b="0" lang="ar-SA" sz="2600" spc="-1" strike="noStrike">
                <a:solidFill>
                  <a:srgbClr val="000000"/>
                </a:solidFill>
                <a:latin typeface="Constantia"/>
              </a:rPr>
              <a:t> وتتضمن هذه الطريقة إجرائين الأول باستخدام معادلة كودر ريتشاردسون </a:t>
            </a:r>
            <a:r>
              <a:rPr b="0" lang="ar-SA" sz="2600" spc="-1" strike="noStrike">
                <a:solidFill>
                  <a:srgbClr val="000000"/>
                </a:solidFill>
                <a:latin typeface="Constantia"/>
              </a:rPr>
              <a:t>20</a:t>
            </a:r>
            <a:r>
              <a:rPr b="0" lang="ar-SA" sz="2600" spc="-1" strike="noStrike">
                <a:solidFill>
                  <a:srgbClr val="000000"/>
                </a:solidFill>
                <a:latin typeface="Constantia"/>
              </a:rPr>
              <a:t> والثاني باستخدام معادلة كودر ريتشاردسون </a:t>
            </a:r>
            <a:r>
              <a:rPr b="0" lang="ar-SA" sz="2600" spc="-1" strike="noStrike">
                <a:solidFill>
                  <a:srgbClr val="000000"/>
                </a:solidFill>
                <a:latin typeface="Constantia"/>
              </a:rPr>
              <a:t>21</a:t>
            </a:r>
            <a:r>
              <a:rPr b="0" lang="ar-SA" sz="2600" spc="-1" strike="noStrike">
                <a:solidFill>
                  <a:srgbClr val="000000"/>
                </a:solidFill>
                <a:latin typeface="Constantia"/>
              </a:rPr>
              <a:t> والفرق بينهما يتمل في أن </a:t>
            </a:r>
            <a:r>
              <a:rPr b="0" lang="en-US" sz="2600" spc="-1" strike="noStrike">
                <a:solidFill>
                  <a:srgbClr val="000000"/>
                </a:solidFill>
                <a:latin typeface="Constantia"/>
              </a:rPr>
              <a:t>KR21</a:t>
            </a:r>
            <a:r>
              <a:rPr b="0" lang="ar-SA" sz="2600" spc="-1" strike="noStrike">
                <a:solidFill>
                  <a:srgbClr val="000000"/>
                </a:solidFill>
                <a:latin typeface="Constantia"/>
              </a:rPr>
              <a:t> تستخدم عند اتفرض أن فقرات الاختبار متساوي في الصعوبة، بينما معادلة </a:t>
            </a:r>
            <a:r>
              <a:rPr b="0" lang="en-US" sz="2600" spc="-1" strike="noStrike">
                <a:solidFill>
                  <a:srgbClr val="000000"/>
                </a:solidFill>
                <a:latin typeface="Constantia"/>
              </a:rPr>
              <a:t>KR20</a:t>
            </a:r>
            <a:r>
              <a:rPr b="0" lang="ar-SA" sz="2600" spc="-1" strike="noStrike">
                <a:solidFill>
                  <a:srgbClr val="000000"/>
                </a:solidFill>
                <a:latin typeface="Constantia"/>
              </a:rPr>
              <a:t> لا تفترض ذلك.</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6a3"/>
                </a:solidFill>
                <a:latin typeface="Constantia"/>
              </a:rPr>
              <a:t>ج- إحصائيات الفقرة باستخدام معامل كرونباخ ألفا: ورمزه </a:t>
            </a:r>
            <a:r>
              <a:rPr b="0" lang="en-US" sz="2600" spc="-1" strike="noStrike">
                <a:solidFill>
                  <a:srgbClr val="0076a3"/>
                </a:solidFill>
                <a:latin typeface="Constantia"/>
              </a:rPr>
              <a:t>a</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ستخدم في إيجاد معامل الثبات للاختبارات ذات الفقرات الموضوعية وغير الموضوعي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ق التحقق من الثبات</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عوامل المؤثرة في ثبات الاختبار</a:t>
            </a:r>
            <a:endParaRPr b="0" lang="en-US" sz="5000" spc="-1" strike="noStrike">
              <a:solidFill>
                <a:srgbClr val="04617b"/>
              </a:solidFill>
              <a:latin typeface="Calibri"/>
            </a:endParaRPr>
          </a:p>
        </p:txBody>
      </p:sp>
      <p:sp>
        <p:nvSpPr>
          <p:cNvPr id="222" name=""/>
          <p:cNvSpPr txBox="1"/>
          <p:nvPr/>
        </p:nvSpPr>
        <p:spPr>
          <a:xfrm>
            <a:off x="178920" y="1935000"/>
            <a:ext cx="8713800" cy="4662720"/>
          </a:xfrm>
          <a:prstGeom prst="rect">
            <a:avLst/>
          </a:prstGeom>
          <a:noFill/>
          <a:ln w="0">
            <a:noFill/>
          </a:ln>
        </p:spPr>
        <p:txBody>
          <a:bodyPr lIns="90000" rIns="90000" tIns="46800" bIns="46800" anchor="t">
            <a:normAutofit fontScale="94000"/>
          </a:bodyPr>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1</a:t>
            </a:r>
            <a:r>
              <a:rPr b="0" lang="ar-SA" sz="2400" spc="-1" strike="noStrike">
                <a:solidFill>
                  <a:srgbClr val="000000"/>
                </a:solidFill>
                <a:latin typeface="Constantia"/>
              </a:rPr>
              <a:t>) طول الاختبار: يزداد ثبات ااختبار بزيادة طول الاختبار لأن ذلك يعني قدرته على تمثيل عينة واسعة من السلوك الذي يقيسه ويقل إذا كان الاختبار قصيراً.</a:t>
            </a:r>
            <a:endParaRPr b="0" lang="en-US" sz="2400" spc="-1" strike="noStrike">
              <a:solidFill>
                <a:srgbClr val="000000"/>
              </a:solidFill>
              <a:latin typeface="Constantia"/>
            </a:endParaRPr>
          </a:p>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2</a:t>
            </a:r>
            <a:r>
              <a:rPr b="0" lang="ar-SA" sz="2400" spc="-1" strike="noStrike">
                <a:solidFill>
                  <a:srgbClr val="000000"/>
                </a:solidFill>
                <a:latin typeface="Constantia"/>
              </a:rPr>
              <a:t>) زمن الاختبار: يزداد بزيادة الوقت الذي يستغرقه المفحوص في أداء الاختبار، ويقل الثبات بانخفاض مدة الاختبار.</a:t>
            </a:r>
            <a:endParaRPr b="0" lang="en-US" sz="2400" spc="-1" strike="noStrike">
              <a:solidFill>
                <a:srgbClr val="000000"/>
              </a:solidFill>
              <a:latin typeface="Constantia"/>
            </a:endParaRPr>
          </a:p>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3</a:t>
            </a:r>
            <a:r>
              <a:rPr b="0" lang="ar-SA" sz="2400" spc="-1" strike="noStrike">
                <a:solidFill>
                  <a:srgbClr val="000000"/>
                </a:solidFill>
                <a:latin typeface="Constantia"/>
              </a:rPr>
              <a:t>) تجانس المستجيبين: يزداد الثبات كلما قل تجانس المستجيبين لأنهم يحصلون على درجات متفاوته بينما يقل الثبات كلما ارتفع التجانس بين المستجيبين لتقارب درجاتهم وتغير ترتيبهم عند إعادة تطبيق الاختبار.</a:t>
            </a:r>
            <a:endParaRPr b="0" lang="en-US" sz="2400" spc="-1" strike="noStrike">
              <a:solidFill>
                <a:srgbClr val="000000"/>
              </a:solidFill>
              <a:latin typeface="Constantia"/>
            </a:endParaRPr>
          </a:p>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4</a:t>
            </a:r>
            <a:r>
              <a:rPr b="0" lang="ar-SA" sz="2400" spc="-1" strike="noStrike">
                <a:solidFill>
                  <a:srgbClr val="000000"/>
                </a:solidFill>
                <a:latin typeface="Constantia"/>
              </a:rPr>
              <a:t>) مستوى صعوبة الاختبار: يقل ثبات الاختبار كلما ازدادت سهولة الاختبار لأن يفقده القدرة على التمييز، كما يقل الثبات إذا ازدادت صعوبة الاختبار لأن ذلك سيدفع المستجيبين إلى التخمين وفي حالتي السهولة والصعوبة يأخذ المستجيبين درجات متقاربة ويصبح من السهل عند إعادة الاختبار أن يتغير ترتيب درجاتهم ولذا يقل الثبات.</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pic>
        <p:nvPicPr>
          <p:cNvPr id="198" name="عنصر نائب للمحتوى 5" descr=""/>
          <p:cNvPicPr/>
          <p:nvPr/>
        </p:nvPicPr>
        <p:blipFill>
          <a:blip r:embed="rId1"/>
          <a:stretch/>
        </p:blipFill>
        <p:spPr>
          <a:xfrm>
            <a:off x="219240" y="1925640"/>
            <a:ext cx="8553240" cy="467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sp>
        <p:nvSpPr>
          <p:cNvPr id="200" name=""/>
          <p:cNvSpPr txBox="1"/>
          <p:nvPr/>
        </p:nvSpPr>
        <p:spPr>
          <a:xfrm>
            <a:off x="178920" y="1935000"/>
            <a:ext cx="8713800" cy="4662720"/>
          </a:xfrm>
          <a:prstGeom prst="rect">
            <a:avLst/>
          </a:prstGeom>
          <a:noFill/>
          <a:ln w="0">
            <a:noFill/>
          </a:ln>
        </p:spPr>
        <p:txBody>
          <a:bodyPr lIns="90000" rIns="90000" tIns="46800" bIns="46800" anchor="t">
            <a:normAutofit/>
          </a:bodyPr>
          <a:p>
            <a:pPr marL="514440" indent="-514440" algn="just" rtl="1">
              <a:spcBef>
                <a:spcPts val="649"/>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الموضوعية:</a:t>
            </a:r>
            <a:endParaRPr b="0" lang="en-US" sz="2600" spc="-1" strike="noStrike">
              <a:solidFill>
                <a:srgbClr val="000000"/>
              </a:solidFill>
              <a:latin typeface="Constantia"/>
            </a:endParaRPr>
          </a:p>
          <a:p>
            <a:pPr marL="514440" indent="-514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قصد بالموضوعية عدم تأثر نتائج تصحيح أداة القياس باختلاف المصححين وتتصل هذه الموضوعية بجانبين:</a:t>
            </a:r>
            <a:endParaRPr b="0" lang="en-US" sz="2600" spc="-1" strike="noStrike">
              <a:solidFill>
                <a:srgbClr val="000000"/>
              </a:solidFill>
              <a:latin typeface="Constantia"/>
            </a:endParaRPr>
          </a:p>
          <a:p>
            <a:pPr marL="514440" indent="-514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دى فهم المفحوص لأهداف الأداة، ولكل فقرة من فقراتها، وللتعليمات التي توضح المطلوب من هذه الاداة.</a:t>
            </a:r>
            <a:endParaRPr b="0" lang="en-US" sz="2600" spc="-1" strike="noStrike">
              <a:solidFill>
                <a:srgbClr val="000000"/>
              </a:solidFill>
              <a:latin typeface="Constantia"/>
            </a:endParaRPr>
          </a:p>
          <a:p>
            <a:pPr marL="514440" indent="-5144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تصحيح الأداة ونظام تقدير الدرجات ويتحقق من خلال وجود مفتاح للتصحيح تحدد فيه الإجابات المطلو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76464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sp>
        <p:nvSpPr>
          <p:cNvPr id="202" name=""/>
          <p:cNvSpPr txBox="1"/>
          <p:nvPr/>
        </p:nvSpPr>
        <p:spPr>
          <a:xfrm>
            <a:off x="178920" y="1935000"/>
            <a:ext cx="8713800" cy="4662720"/>
          </a:xfrm>
          <a:prstGeom prst="rect">
            <a:avLst/>
          </a:prstGeom>
          <a:noFill/>
          <a:ln w="0">
            <a:noFill/>
          </a:ln>
        </p:spPr>
        <p:txBody>
          <a:bodyPr lIns="90000" rIns="90000" tIns="46800" bIns="46800" anchor="t">
            <a:normAutofit fontScale="99000"/>
          </a:bodyPr>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الصدق:</a:t>
            </a:r>
            <a:endParaRPr b="0" lang="en-US" sz="2600" spc="-1" strike="noStrike">
              <a:solidFill>
                <a:srgbClr val="000000"/>
              </a:solidFill>
              <a:latin typeface="Constantia"/>
            </a:endParaRPr>
          </a:p>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صدق من الشروط الهامة الواجب توفرها في أداة جمع البيانات، ويعني الصدق قدرة الأداة على قياس ما أعدت لقياسه فعلاً، فالاختبار الذي أعد لقياس تحصيل الطلبة في مساق علم النفس التربوي مثلاً لا بد من أن تدور أسئلته حول هذا الموضوع دون غيره، وهذا يعني أن صدق الاداة يرتبط بصدق كل سؤال أو فقرة.</a:t>
            </a:r>
            <a:endParaRPr b="0" lang="en-US" sz="2600" spc="-1" strike="noStrike">
              <a:solidFill>
                <a:srgbClr val="000000"/>
              </a:solidFill>
              <a:latin typeface="Constantia"/>
            </a:endParaRPr>
          </a:p>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نواع الصدق:</a:t>
            </a:r>
            <a:endParaRPr b="0" lang="en-US" sz="2600" spc="-1" strike="noStrike">
              <a:solidFill>
                <a:srgbClr val="000000"/>
              </a:solidFill>
              <a:latin typeface="Constantia"/>
            </a:endParaRPr>
          </a:p>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حدد صدق أداة البحث عادة من خلال العلاقة بين أداء المستجيب عليها وبين وظيفة تلك الاداة، ويمكن الحصول على عدد من المؤشرات التي تعزز صدق الأداة بعدة طرق من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54900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04" name=""/>
          <p:cNvSpPr txBox="1"/>
          <p:nvPr/>
        </p:nvSpPr>
        <p:spPr>
          <a:xfrm>
            <a:off x="250920" y="1197000"/>
            <a:ext cx="8642160" cy="5472000"/>
          </a:xfrm>
          <a:prstGeom prst="rect">
            <a:avLst/>
          </a:prstGeom>
          <a:noFill/>
          <a:ln w="0">
            <a:noFill/>
          </a:ln>
        </p:spPr>
        <p:txBody>
          <a:bodyPr lIns="90000" rIns="90000" tIns="46800" bIns="46800" anchor="t">
            <a:normAutofit fontScale="89000"/>
          </a:bodyPr>
          <a:p>
            <a:pPr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1</a:t>
            </a:r>
            <a:r>
              <a:rPr b="0" lang="ar-SA" sz="2600" spc="-1" strike="noStrike" u="sng">
                <a:solidFill>
                  <a:srgbClr val="03495c"/>
                </a:solidFill>
                <a:uFillTx/>
                <a:latin typeface="Constantia"/>
              </a:rPr>
              <a:t>) الصدق الظاهري:</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كانت محتويات الأداة وفقراتها مطابقة للسمة التي تقيسها فإنها تكون أكثر صدقاً. وهذا النوع ليس صدقاً حقيقياً إلا أنه ينال ثقة المستجيب وتعاونه.</a:t>
            </a:r>
            <a:endParaRPr b="0" lang="en-US" sz="2600" spc="-1" strike="noStrike">
              <a:solidFill>
                <a:srgbClr val="000000"/>
              </a:solidFill>
              <a:latin typeface="Constantia"/>
            </a:endParaRPr>
          </a:p>
          <a:p>
            <a:pPr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2</a:t>
            </a:r>
            <a:r>
              <a:rPr b="0" lang="ar-SA" sz="2600" spc="-1" strike="noStrike" u="sng">
                <a:solidFill>
                  <a:srgbClr val="03495c"/>
                </a:solidFill>
                <a:uFillTx/>
                <a:latin typeface="Constantia"/>
              </a:rPr>
              <a:t>) صدق المحتوى أو المضمون:</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حسب بفحص محتوى الاختبار وتحليل أسئلته لمعرفة مدى تمثيلها للسلوك الذي يقيسه الاختبار والتأكد من الأسئلة تغطي جميع جوانب السلوك. ويعتبر هذا النوع هو الأكثر ملائمة للاختبارات التحصيلية.</a:t>
            </a:r>
            <a:endParaRPr b="0" lang="en-US" sz="2600" spc="-1" strike="noStrike">
              <a:solidFill>
                <a:srgbClr val="000000"/>
              </a:solidFill>
              <a:latin typeface="Constantia"/>
            </a:endParaRPr>
          </a:p>
          <a:p>
            <a:pPr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3</a:t>
            </a:r>
            <a:r>
              <a:rPr b="0" lang="ar-SA" sz="2600" spc="-1" strike="noStrike" u="sng">
                <a:solidFill>
                  <a:srgbClr val="03495c"/>
                </a:solidFill>
                <a:uFillTx/>
                <a:latin typeface="Constantia"/>
              </a:rPr>
              <a:t>) الصدق التجريبي:</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مدى الاتفاق أو الارتباط بين الدرجات على الأداة المراد التحقق من صدقها وأداة آخرى على درجة عالية من الصدق والثبات والموضوعية وتسمى المحك، حيث ثبتت صلاحيتها لقياس نفس الجوانب التي تقيسها الاداة الجديدة، فإذا كان معامل الارتباط بينهما عالياً ووجباً كانت الاداة الجديدة صادقة. وقد ينظر إلى الصدق التجريبي بأنه يشير إلى مدى صلاحية أداة القياس بناء على نتائج تجريب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360"/>
            <a:ext cx="8229600" cy="57636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06" name=""/>
          <p:cNvSpPr txBox="1"/>
          <p:nvPr/>
        </p:nvSpPr>
        <p:spPr>
          <a:xfrm>
            <a:off x="179280" y="549000"/>
            <a:ext cx="8785440" cy="6119640"/>
          </a:xfrm>
          <a:prstGeom prst="rect">
            <a:avLst/>
          </a:prstGeom>
          <a:noFill/>
          <a:ln w="0">
            <a:noFill/>
          </a:ln>
        </p:spPr>
        <p:txBody>
          <a:bodyPr lIns="90000" rIns="90000" tIns="46800" bIns="46800" anchor="t">
            <a:normAutofit fontScale="90000"/>
          </a:bodyPr>
          <a:p>
            <a:pPr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3495c"/>
                </a:solidFill>
                <a:uFillTx/>
                <a:latin typeface="Constantia"/>
              </a:rPr>
              <a:t>(</a:t>
            </a:r>
            <a:r>
              <a:rPr b="0" lang="ar-SA" sz="2400" spc="-1" strike="noStrike" u="sng">
                <a:solidFill>
                  <a:srgbClr val="03495c"/>
                </a:solidFill>
                <a:uFillTx/>
                <a:latin typeface="Constantia"/>
              </a:rPr>
              <a:t>4</a:t>
            </a:r>
            <a:r>
              <a:rPr b="0" lang="ar-SA" sz="2400" spc="-1" strike="noStrike" u="sng">
                <a:solidFill>
                  <a:srgbClr val="03495c"/>
                </a:solidFill>
                <a:uFillTx/>
                <a:latin typeface="Constantia"/>
              </a:rPr>
              <a:t>) الصدق بدلالة المحك:</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شير إلى العلاقة بين نتائج الأداة المراد التحقق من صدقها بدلالة محك والنتائج التي يتم الحصول عليها من قياس آخر ممثل لمحك محدد، ويمكن أن يكون المحك في هذه الحالة أداة آخر، بحيث يتم حساب معامل الارتباط بين الدرجات على الأداة المطلوب التحقق من صدقها والدرجات على المحك، وفي هذه الحالة يسمى معامل الارتباط بمعامل الصدق بدلالة محك وهناك نوعان منه هما:</a:t>
            </a:r>
            <a:endParaRPr b="0" lang="en-US" sz="2400" spc="-1" strike="noStrike">
              <a:solidFill>
                <a:srgbClr val="000000"/>
              </a:solidFill>
              <a:latin typeface="Constantia"/>
            </a:endParaRPr>
          </a:p>
          <a:p>
            <a:pPr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a839"/>
                </a:solidFill>
                <a:latin typeface="Constantia"/>
              </a:rPr>
              <a:t>أ- الصدق التلازمي:</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تم الحكم على صدق الاختبار من خلال الارتباط بينه وبين أداوت آخرى صادقة، على أن يتم تطبيق الأداتين في الفترة الزمنية نفسها أو في فترات متقاربة، وذلك بتطبيق الأداة المراد التحقق من صدقها وأداة آخرى تتمتع بدرجة عالية من الصدق وذات علاقة بالسمة المراد قيساها على مجموعة من المفحوصين، ثم يتم إيجاد معامل الارتباط بين نتائج المفحوصين على الأداتين، فإذا كان مرتفعاً حكم بصدق الاختبار وإلا فالاختبار غير صادق.</a:t>
            </a:r>
            <a:endParaRPr b="0" lang="en-US" sz="2400" spc="-1" strike="noStrike">
              <a:solidFill>
                <a:srgbClr val="000000"/>
              </a:solidFill>
              <a:latin typeface="Constantia"/>
            </a:endParaRPr>
          </a:p>
          <a:p>
            <a:pPr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a839"/>
                </a:solidFill>
                <a:latin typeface="Constantia"/>
              </a:rPr>
              <a:t>ب- الصدق التنبؤي:</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تم حسابه عن طريق إيجاد مقدار العلاقة أو الارتباط بين الدرجات على الأداة المراد التحقق من صدقها ودرجات محك آخر تجمع عنه المعلومات بعد فترة زمنية طويلة نسبياً، يفيد في مجال التربية في توزيع الطلبة إلى مستويات دراسية معينة.</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28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08" name=""/>
          <p:cNvSpPr txBox="1"/>
          <p:nvPr/>
        </p:nvSpPr>
        <p:spPr>
          <a:xfrm>
            <a:off x="178920" y="1125000"/>
            <a:ext cx="8713800" cy="5472360"/>
          </a:xfrm>
          <a:prstGeom prst="rect">
            <a:avLst/>
          </a:prstGeom>
          <a:noFill/>
          <a:ln w="0">
            <a:noFill/>
          </a:ln>
        </p:spPr>
        <p:txBody>
          <a:bodyPr lIns="90000" rIns="90000" tIns="46800" bIns="46800" anchor="t">
            <a:normAutofit fontScale="90000"/>
          </a:bodyPr>
          <a:p>
            <a:pPr algn="just"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3495c"/>
                </a:solidFill>
                <a:uFillTx/>
                <a:latin typeface="Constantia"/>
              </a:rPr>
              <a:t>(</a:t>
            </a:r>
            <a:r>
              <a:rPr b="0" lang="ar-SA" sz="2400" spc="-1" strike="noStrike" u="sng">
                <a:solidFill>
                  <a:srgbClr val="03495c"/>
                </a:solidFill>
                <a:uFillTx/>
                <a:latin typeface="Constantia"/>
              </a:rPr>
              <a:t>5</a:t>
            </a:r>
            <a:r>
              <a:rPr b="0" lang="ar-SA" sz="2400" spc="-1" strike="noStrike" u="sng">
                <a:solidFill>
                  <a:srgbClr val="03495c"/>
                </a:solidFill>
                <a:uFillTx/>
                <a:latin typeface="Constantia"/>
              </a:rPr>
              <a:t>) صدق المحكمين:</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تم ذلك بعرض الأداة على عدد من المحكمين من المتخصصين والخبراء في المجال الذي تقيسه الأداة.</a:t>
            </a:r>
            <a:endParaRPr b="0" lang="en-US" sz="2400" spc="-1" strike="noStrike">
              <a:solidFill>
                <a:srgbClr val="000000"/>
              </a:solidFill>
              <a:latin typeface="Constantia"/>
            </a:endParaRPr>
          </a:p>
          <a:p>
            <a:pPr algn="just"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3495c"/>
                </a:solidFill>
                <a:uFillTx/>
                <a:latin typeface="Constantia"/>
              </a:rPr>
              <a:t>(</a:t>
            </a:r>
            <a:r>
              <a:rPr b="0" lang="ar-SA" sz="2400" spc="-1" strike="noStrike" u="sng">
                <a:solidFill>
                  <a:srgbClr val="03495c"/>
                </a:solidFill>
                <a:uFillTx/>
                <a:latin typeface="Constantia"/>
              </a:rPr>
              <a:t>6</a:t>
            </a:r>
            <a:r>
              <a:rPr b="0" lang="ar-SA" sz="2400" spc="-1" strike="noStrike" u="sng">
                <a:solidFill>
                  <a:srgbClr val="03495c"/>
                </a:solidFill>
                <a:uFillTx/>
                <a:latin typeface="Constantia"/>
              </a:rPr>
              <a:t>) صدق المفهوم:</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شار إليه بصدق البناء أو التكوين الفرضي ويمثل بالدرجة التي تقيس بها الأداة افتراضات السمة أو المفهوم التي بنيت لقياسها. أي يعني إلى أية درجة تؤكد نتائج تطبيق الأداة صحة الافتراضات المستخلصة من النظرية حول مفهوم السمة التي وضعت لقياسها. وهناك عدة طرق للتحقق من صدق البناء لاختبار ما، منها:</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c9b74"/>
                </a:solidFill>
                <a:latin typeface="Constantia"/>
              </a:rPr>
              <a:t>1</a:t>
            </a:r>
            <a:r>
              <a:rPr b="0" lang="ar-SA" sz="2400" spc="-1" strike="noStrike">
                <a:solidFill>
                  <a:srgbClr val="0c9b74"/>
                </a:solidFill>
                <a:latin typeface="Constantia"/>
              </a:rPr>
              <a:t>- مقياس التحليل لجوتمان: </a:t>
            </a:r>
            <a:r>
              <a:rPr b="0" lang="ar-SA" sz="2400" spc="-1" strike="noStrike">
                <a:solidFill>
                  <a:srgbClr val="000000"/>
                </a:solidFill>
                <a:latin typeface="Constantia"/>
              </a:rPr>
              <a:t>فإذا كان بالإمكان ترتيب فقرات الاختبار هرمياً فإنه يمكن التنبؤ بدرجة الفرد على الاختبار من معرفة هذا الترتيب.</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c9b74"/>
                </a:solidFill>
                <a:latin typeface="Constantia"/>
              </a:rPr>
              <a:t>2</a:t>
            </a:r>
            <a:r>
              <a:rPr b="0" lang="ar-SA" sz="2400" spc="-1" strike="noStrike">
                <a:solidFill>
                  <a:srgbClr val="0c9b74"/>
                </a:solidFill>
                <a:latin typeface="Constantia"/>
              </a:rPr>
              <a:t>- التحليل العاملي: </a:t>
            </a:r>
            <a:r>
              <a:rPr b="0" lang="ar-SA" sz="2400" spc="-1" strike="noStrike">
                <a:solidFill>
                  <a:srgbClr val="000000"/>
                </a:solidFill>
                <a:latin typeface="Constantia"/>
              </a:rPr>
              <a:t>من خلال مصفوفة الارتباطات بين الدراجات على فقرات الأداة في محاولة لإنقاص عدد العوامل أو المكونات التي تتجمع حولها فقرات الاختبار.</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c9b74"/>
                </a:solidFill>
                <a:latin typeface="Constantia"/>
              </a:rPr>
              <a:t>3</a:t>
            </a:r>
            <a:r>
              <a:rPr b="0" lang="ar-SA" sz="2400" spc="-1" strike="noStrike">
                <a:solidFill>
                  <a:srgbClr val="0c9b74"/>
                </a:solidFill>
                <a:latin typeface="Constantia"/>
              </a:rPr>
              <a:t>- المقارنات الطرفية: </a:t>
            </a:r>
            <a:r>
              <a:rPr b="0" lang="ar-SA" sz="2400" spc="-1" strike="noStrike">
                <a:solidFill>
                  <a:srgbClr val="000000"/>
                </a:solidFill>
                <a:latin typeface="Constantia"/>
              </a:rPr>
              <a:t>مدى قدرة الاختبار على التمييز بين المستويات المختلفة للسمة، أو التمييز بين المجموعات التي تمتلك درجات مرتفعة من السمة وتلك التي تمتلك درجات منخفضة منها، فإذا كشفت نتائج الاختبار عن وجود فرق حقيقي بين المجموعات فإن هذا مؤشر لصدق البناء للاختبار.</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10" name=""/>
          <p:cNvSpPr txBox="1"/>
          <p:nvPr/>
        </p:nvSpPr>
        <p:spPr>
          <a:xfrm>
            <a:off x="178920" y="1413000"/>
            <a:ext cx="8713800" cy="5184720"/>
          </a:xfrm>
          <a:prstGeom prst="rect">
            <a:avLst/>
          </a:prstGeom>
          <a:noFill/>
          <a:ln w="0">
            <a:noFill/>
          </a:ln>
        </p:spPr>
        <p:txBody>
          <a:bodyPr lIns="90000" rIns="90000" tIns="46800" bIns="46800" anchor="t">
            <a:normAutofit fontScale="95000"/>
          </a:bodyPr>
          <a:p>
            <a:pPr marL="259200" indent="-25920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7</a:t>
            </a:r>
            <a:r>
              <a:rPr b="0" lang="ar-SA" sz="2600" spc="-1" strike="noStrike" u="sng">
                <a:solidFill>
                  <a:srgbClr val="03495c"/>
                </a:solidFill>
                <a:uFillTx/>
                <a:latin typeface="Constantia"/>
              </a:rPr>
              <a:t>) الصدق العاملي:</a:t>
            </a:r>
            <a:endParaRPr b="0" lang="en-US" sz="2600" spc="-1" strike="noStrike">
              <a:solidFill>
                <a:srgbClr val="000000"/>
              </a:solidFill>
              <a:latin typeface="Constantia"/>
            </a:endParaRPr>
          </a:p>
          <a:p>
            <a:pPr marL="259200" indent="-2592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مد هذا الصدق على التحليل العاملي الذي يعتبر طريقة إحصائية لقياس العلاقة بين مجموعة من العوامل وفقاً لما يلي:</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يبق الباحث مجموعة أدوات تقيس السمة نفسها على عدد من المستجيبين.</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حسب معامل الارتباط بين كل اداة والأدوات الآخرى</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وجد أن هناك معامل ارتباط عال بين أداتين منها فإن ذلك يعني أن هناك سمات مشتركة بين هاتين الأداتين، ويمكن وضعهما تحت عامل مشترك واحد يشملهما معاَ، ويتم إعطاؤه اسماً.</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مكن حساب الصدق العاملي عن طريق إيجاد معامل الارتباط بين فقرات الاداة الواحدة، كما يمكن حسابه عن طريق إيجاد معامل الارتباط بين كل فقرة وبين الاداة ككل، ولذا فإن الفقرة تكون صادقة إذا كان معامل الارتباط بينها وبين الاداة الكلية عالي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476280"/>
            <a:ext cx="8229600" cy="8668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عوامل المؤثرة في صدق أداة القياس</a:t>
            </a:r>
            <a:endParaRPr b="0" lang="en-US" sz="5000" spc="-1" strike="noStrike">
              <a:solidFill>
                <a:srgbClr val="04617b"/>
              </a:solidFill>
              <a:latin typeface="Calibri"/>
            </a:endParaRPr>
          </a:p>
        </p:txBody>
      </p:sp>
      <p:sp>
        <p:nvSpPr>
          <p:cNvPr id="212" name=""/>
          <p:cNvSpPr txBox="1"/>
          <p:nvPr/>
        </p:nvSpPr>
        <p:spPr>
          <a:xfrm>
            <a:off x="250920" y="1268280"/>
            <a:ext cx="8642160" cy="5329440"/>
          </a:xfrm>
          <a:prstGeom prst="rect">
            <a:avLst/>
          </a:prstGeom>
          <a:noFill/>
          <a:ln w="0">
            <a:noFill/>
          </a:ln>
        </p:spPr>
        <p:txBody>
          <a:bodyPr lIns="90000" rIns="90000" tIns="46800" bIns="46800" anchor="t">
            <a:normAutofit fontScale="96000"/>
          </a:bodyPr>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3495c"/>
                </a:solidFill>
                <a:uFillTx/>
                <a:latin typeface="Constantia"/>
              </a:rPr>
              <a:t>عوامل تتعلق بالأداة نفسها:</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لغة الأداة فإذا كانت فوق مستوى المفحوص فإنه سيعجز عن فهم السؤال، وبالتالي لا يجيب عنه مما يؤثر في أدائه على المقياس.</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غموض الفقرات مما يجعل المفحوص تفسيرات متباينة ويجيب عنها إجابات خطأ.</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سهولة الفقرات أو صعوبتها تجعل المفحوص يحصل على علامات لا يستحقها.</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صياغة الفقرات فقد تحمل بين طياتها ادلة ومؤشرات للإجابة.</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3495c"/>
                </a:solidFill>
                <a:uFillTx/>
                <a:latin typeface="Constantia"/>
              </a:rPr>
              <a:t>عوامل تتعلق بتطبيق الأداة و تصحيحها:</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العوامل البيئية كالحرارة او الضوضاء.</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وضوح الطباعة وطريقة عرض الفقرات.</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تعليمات غير الواضحة التي لا تبين المطلوب من المفحوص.</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خدام الأداة في غير ما وضعت له.</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 استخدام الأداة مع الفئة التي وضعت له.</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3495c"/>
                </a:solidFill>
                <a:uFillTx/>
                <a:latin typeface="Constantia"/>
              </a:rPr>
              <a:t>عوامل تتعلق بشخصية المفحوص:</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اضطراب المفحوص وقلقه.</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التخمين أو الغش أو محاولة التأثير في الفاحص بطريقة ما.</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8T10:37:41Z</dcterms:created>
  <dc:creator>shr</dc:creator>
  <dc:description/>
  <dc:language>en-US</dc:language>
  <cp:lastModifiedBy>shr</cp:lastModifiedBy>
  <dcterms:modified xsi:type="dcterms:W3CDTF">2016-03-28T13:32:21Z</dcterms:modified>
  <cp:revision>18</cp:revision>
  <dc:subject/>
  <dc:title>طرائق التحقق من الخصائص السيكومترية لأداة البحث</dc:title>
</cp:coreProperties>
</file>