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E1A5E-DB3D-4BC2-A9C6-8FAC9891D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CAA2F-E63B-4B4F-8AB7-D5E6BE0A3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76822-999E-4824-B537-4FE7FEBFF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4F153-C170-499C-A936-59B9E32D2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5E327-292D-40AC-9191-4955B89DE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A1232-112F-4890-A8B9-30BD43B76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96E71-2722-42FB-A639-D9E09B166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B412A-E926-4176-95A2-2D7B0FDA0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1BA64-9633-4E5A-BFD0-55D65E063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8CAAD-C222-4653-833F-EB0B00062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65297-8E2B-41E9-82AB-31197ED04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ECFBE-8883-40A5-ABE6-F3E1D96C4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0E187-6C1D-47A5-BE5B-A2F464BCB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2C0A4-AA8E-4EF0-84D6-9E152CBF1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08B97-10B1-44BB-87CF-CE66ADA99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A640C-6065-48A3-A99F-22A2CBC5D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AA49D-FAFA-4737-ABBD-E30AFB9D1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5318F1F-E5AC-4370-B71F-869413223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899994-D71A-485E-8DAF-0DBA001F3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F5B80A-7D0C-4003-A31A-CAAEE734D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7EC22A-5526-41DB-943E-FB09981A4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4397E0-AEEA-41C6-8F8F-25515DB53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9034D-0A14-4F88-97E3-791883E9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DB33CA-27A6-455C-8125-2DA989E56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C8BE87-CFA8-45AA-A641-207F8408D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85A0B6-D192-4DB8-9D3F-3BCDE0FEB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B30DAE-6C82-4B77-854E-831728922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5D7E10-A750-46F1-9970-162004727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B30DA84-5BA3-4A47-A695-ABDAD9A283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304D41B-7499-4B1F-896E-2EAAC0BFBF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FE5710-0A7E-4FBF-87E5-E1C398DE9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0007C-1D90-4DC3-A9D4-541CE149C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9B483-0135-440B-A0C7-F39172136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A23AC-B59E-482B-B384-06C8FB987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76FD5-3C03-4371-924B-7663FAC24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F0786F-8645-43D8-AEA5-4421D45BA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09F83-1533-4E68-92A1-90B434456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1111F-B33F-4E47-982D-DA9D6F7C7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FA235-52D7-4321-9C9D-35ACBD56B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69674-5CBE-4AF4-9DAB-0B66A1597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583AA-CE7A-4373-BF44-6BA90BC47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380B8B-345A-4B41-8E9C-FCA3FDDBF6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6287F1-9E2B-48FD-B69E-5853BF163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7D323-7472-458A-9E7A-B94357742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104E-37F0-4118-B44A-0F614CE5E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1A938-1378-43AE-9E1C-8AFAF3DC8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F62E2-E63E-490B-9E60-F70E0E12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0A805-DD8E-44EA-862B-FBEF4F78A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CA60-6A89-4612-8837-4B9F58940FE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4293-28BC-4636-90DF-F3AD86CB7AA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67AA-E23F-4E46-A3BA-9FE3B5F6E08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3DF9-FA1D-4E2E-B169-AAC2115A2B2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لاختبارات الموضوعية للشخصية</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68360" y="4436640"/>
            <a:ext cx="4952880" cy="1752840"/>
          </a:xfrm>
          <a:prstGeom prst="rect">
            <a:avLst/>
          </a:prstGeom>
          <a:noFill/>
          <a:ln w="0">
            <a:noFill/>
          </a:ln>
        </p:spPr>
        <p:txBody>
          <a:bodyPr anchor="t">
            <a:noAutofit/>
          </a:bodyPr>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محاضرة السابع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rPr>
              <a:t>موجز لأهم نتائج دراسات هارتشون،ماي</a:t>
            </a:r>
            <a:endParaRPr b="0" lang="en-US" sz="36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جدا شكل من أشكال الخداع يرتبط بالتأكيد بحقائق مثل: الغباء التأخر الدراسي، عدم الثبات الانفعالي، العقبات الاجتماعية والاقتصادية والقصور الثقافي.</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الخداع ينتقل بين العائلات كانتقال لون العينين أو البشرة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داع يتأثر بالمجموعات أو الأصدقاء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ندما تتميز العلاقات بين المعلمين والطلاب بالتعاون والأمان يقل الخدا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
        <p:nvSpPr>
          <p:cNvPr id="235" name=""/>
          <p:cNvSpPr txBox="1"/>
          <p:nvPr/>
        </p:nvSpPr>
        <p:spPr>
          <a:xfrm>
            <a:off x="457200" y="1557000"/>
            <a:ext cx="8229600" cy="5016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يعرف بأنه: </a:t>
            </a:r>
            <a:r>
              <a:rPr b="0" lang="ar-SA" sz="2800" spc="-1" strike="noStrike">
                <a:solidFill>
                  <a:srgbClr val="000000"/>
                </a:solidFill>
                <a:latin typeface="Georgia"/>
              </a:rPr>
              <a:t>منهج للقياس يتضمن التسجيل السطحي للحوادث الفسيولوجية والتي يتحكم فيها الجهاز العصبي اللاإرادي.</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ن امثلة الاجهزة: </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بضة: لتسجيل معدل النبض.</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خمة: تسجيل تغير حجم الاوعية الدموية والشرايين.</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غط: لتسجيل ضغط الدم</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سم الكهربائي للقلب: لتسجيل حجم انقباض القلب.</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فسه: لتسجيل منحنى التنفس.</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عكس السيكوجلفاني: لتسجيل التغيرات الكهربية في الجلد.</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عدل عمليات الأيض: لتسجيل استهلاك الأكسج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844280"/>
            <a:ext cx="8229600" cy="4729320"/>
          </a:xfrm>
          <a:prstGeom prst="rect">
            <a:avLst/>
          </a:prstGeom>
          <a:noFill/>
          <a:ln w="0">
            <a:noFill/>
          </a:ln>
        </p:spPr>
        <p:txBody>
          <a:bodyPr anchor="t">
            <a:normAutofit fontScale="93000"/>
          </a:bodyPr>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أولا: جهاز الشد في العضلات: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النشاط الكهربائي الناتج عن انقباض العضلات.</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نياً: مقاييس النشاط القلبي الوعائي: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معدل النبض وضغط الدم بوصفها مؤشرات للتنبه الانفعالي.</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لثاً: درجة حرارة الجلد:</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س بشكل غير مباشر الاستجابة الوعائية الحركية.</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رابعاً: معدل التنفس وعمقه:</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تضح أن القلق والاضطرابات الخاصة بالألم يصاحبها دائماً تغيرات في نمط التنفس.</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 ص </a:t>
            </a:r>
            <a:r>
              <a:rPr b="0" lang="ar-SA" sz="2800" spc="-1" strike="noStrike">
                <a:solidFill>
                  <a:srgbClr val="000000"/>
                </a:solidFill>
                <a:latin typeface="Georgia"/>
              </a:rPr>
              <a:t>302</a:t>
            </a:r>
            <a:r>
              <a:rPr b="0" lang="ar-SA" sz="2800" spc="-1" strike="noStrike">
                <a:solidFill>
                  <a:srgbClr val="000000"/>
                </a:solidFill>
                <a:latin typeface="Georgia"/>
              </a:rPr>
              <a:t>-</a:t>
            </a:r>
            <a:r>
              <a:rPr b="0" lang="ar-SA" sz="2800" spc="-1" strike="noStrike">
                <a:solidFill>
                  <a:srgbClr val="000000"/>
                </a:solidFill>
                <a:latin typeface="Georgia"/>
              </a:rPr>
              <a:t>305</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7"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691920"/>
            <a:ext cx="8229600" cy="1012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ج- المقاييس النفسية الحركية</a:t>
            </a:r>
            <a:endParaRPr b="0" lang="en-US" sz="4000" spc="-1" strike="noStrike">
              <a:solidFill>
                <a:srgbClr val="424456"/>
              </a:solidFill>
              <a:latin typeface="Trebuchet MS"/>
            </a:endParaRPr>
          </a:p>
        </p:txBody>
      </p:sp>
      <p:sp>
        <p:nvSpPr>
          <p:cNvPr id="239" name=""/>
          <p:cNvSpPr txBox="1"/>
          <p:nvPr/>
        </p:nvSpPr>
        <p:spPr>
          <a:xfrm>
            <a:off x="456840" y="1773000"/>
            <a:ext cx="8435880" cy="4800600"/>
          </a:xfrm>
          <a:prstGeom prst="rect">
            <a:avLst/>
          </a:prstGeom>
          <a:noFill/>
          <a:ln w="0">
            <a:noFill/>
          </a:ln>
        </p:spPr>
        <p:txBody>
          <a:bodyPr anchor="t">
            <a:normAutofit fontScale="88000"/>
          </a:bodyPr>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هي تلك التي تقيس القدرات العضلية أو مزيج من القدرات العضلية والح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تضمن المهارة والقدرة على المعالجة والقدرة الحركية وتآزر العين واليد، وكذلك جوانب أخرى من الأداء العضل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ت بالقدرات الحركية النفسية لأنها لا تتلخص فقط في قدرات حركية أو عضلية من حيث هي بل إلى حد كبير على سرعة الوظائف النفسية ودقتها، فما يصيبها من عجز لا يكون نتيجة لعجز الجهاز الحركي لحاء المخ فقط بل نتيجة لاضطراب الوظائف النف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 اتضح من دراسات التوائم أن هذه القدرات ذات أساس وراثي قو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عد من أفضل المقاييس فائدة في تحديد عامل العصاب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رجع النشاط النفسي الحركي إلى التأثيرات الحركية للعمليات العقلية أو المخية، ويتفرع عنه نوعان من الوظائف: الحسي الحركي والفكري الحركي. وتقسم الوظائف النفسية الحركية إلى ثلاث استجابات حركية: بسيطة ومركبة ومستمر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1</a:t>
            </a:r>
            <a:r>
              <a:rPr b="0" lang="ar-SA" sz="2800" spc="-1" strike="noStrike">
                <a:solidFill>
                  <a:srgbClr val="326064"/>
                </a:solidFill>
                <a:latin typeface="Georgia"/>
              </a:rPr>
              <a:t>- </a:t>
            </a:r>
            <a:r>
              <a:rPr b="1" lang="ar-SA" sz="2800" spc="-1" strike="noStrike" u="sng">
                <a:solidFill>
                  <a:srgbClr val="326064"/>
                </a:solidFill>
                <a:uFillTx/>
                <a:latin typeface="Georgia"/>
              </a:rPr>
              <a:t>المهارة اليدو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المهارة الحركية لليد والذراع والأصابع مجتمعة  أو مستقلاً بعضها عن بعض.</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مثلة لاختبارات اليدين والأصاب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نقر والصلبان العشرة، والدوائر المتباعدة بمسافات متساوية والغير متساوية، والأوتاد والثقوب....</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ختبار أوكنر: لمهارة الأصابع واختبار المهارة بالملقاط</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773000"/>
            <a:ext cx="8229600" cy="480060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هارة اليدين والأصابع لدى فئات إكلينيك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طارية اختبارات الاستعدادات العامة من أكثر الاختبارات في البحوث الإكلينيكية للمهارة اليدوية ومهارة الأصابع.</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أكثر الاختبارات فعالية للتفرقة بين الأسوياء والذهانيون حيث يقع العصابيون في المنتص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صاميون المزمنين أبطأ من الأسوياء في اختبار المهارة اليدوية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ديساثيميين“ العصابيين المنطوين“ أفضل بدرجة من الأشخاص المنبسطين المنبسطين في اختبار الملاقط.</a:t>
            </a:r>
            <a:endParaRPr b="0" lang="en-US" sz="2800" spc="-1" strike="noStrike">
              <a:solidFill>
                <a:srgbClr val="000000"/>
              </a:solidFill>
              <a:latin typeface="Georgia"/>
            </a:endParaRPr>
          </a:p>
        </p:txBody>
      </p:sp>
      <p:sp>
        <p:nvSpPr>
          <p:cNvPr id="243"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24000" y="1916280"/>
            <a:ext cx="8229600" cy="4325760"/>
          </a:xfrm>
          <a:prstGeom prst="rect">
            <a:avLst/>
          </a:prstGeom>
          <a:noFill/>
          <a:ln w="0">
            <a:noFill/>
          </a:ln>
        </p:spPr>
        <p:txBody>
          <a:bodyPr anchor="t">
            <a:normAutofit fontScale="96000"/>
          </a:bodyPr>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الاختلاج الساكن:</a:t>
            </a:r>
            <a:endParaRPr b="0" lang="en-US" sz="2400" spc="-1" strike="noStrike">
              <a:solidFill>
                <a:srgbClr val="000000"/>
              </a:solidFill>
              <a:latin typeface="Georgia"/>
            </a:endParaRPr>
          </a:p>
          <a:p>
            <a:pPr marL="350280" indent="-24516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   </a:t>
            </a:r>
            <a:r>
              <a:rPr b="0" lang="ar-SA" sz="2400" spc="-1" strike="noStrike">
                <a:solidFill>
                  <a:srgbClr val="000000"/>
                </a:solidFill>
                <a:latin typeface="Georgia"/>
              </a:rPr>
              <a:t>يسمى اختلال تآزر الحركات الإرادية في حالة السكون وهو: نقص التآزر العضلي للفرد في الوقت الذي يحاول فيه الاحتفاظ بوضع ثابت لجسمه أو أطرافه.</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أحد اختبارات التحكم في الجسم.</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ستخدم بنجاح مقياساً موضوعياً للشخصية.</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طلب من المفحوص أن يقف مسترخياً ويداه متدليتان إلى جانبه وقدماه ملتصقتان وعيناه مغلقتان ويستمر الاختبار </a:t>
            </a:r>
            <a:r>
              <a:rPr b="0" lang="ar-SA" sz="2400" spc="-1" strike="noStrike">
                <a:solidFill>
                  <a:srgbClr val="000000"/>
                </a:solidFill>
                <a:latin typeface="Georgia"/>
              </a:rPr>
              <a:t>30</a:t>
            </a:r>
            <a:r>
              <a:rPr b="0" lang="ar-SA" sz="2400" spc="-1" strike="noStrike">
                <a:solidFill>
                  <a:srgbClr val="000000"/>
                </a:solidFill>
                <a:latin typeface="Georgia"/>
              </a:rPr>
              <a:t> ثانية. ودرجة المفحوص هي مجموع أقصى تمايل إلى الأمام وإلى الخلف.</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 الفشل في الاحتفاظ بالتوازن في هذا الوضع ”علامة رومبيرج“ .</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1"/>
          <p:cNvSpPr>
            <a:spLocks noGrp="1"/>
          </p:cNvSpPr>
          <p:nvPr>
            <p:ph type="title"/>
          </p:nvPr>
        </p:nvSpPr>
        <p:spPr>
          <a:xfrm>
            <a:off x="395280" y="54900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أ- النتائج الاكلينيكية: </a:t>
            </a:r>
            <a:r>
              <a:rPr b="0" lang="ar-SA" sz="2200" spc="-1" strike="noStrike">
                <a:solidFill>
                  <a:srgbClr val="000000"/>
                </a:solidFill>
                <a:latin typeface="Georgia"/>
              </a:rPr>
              <a:t>تزداد حركة الجسم في حالات الخراع ومرض الرقاص والشلل الرعاشي وتصلب شرايين المخ، ولم يلاحظ زيادة التمايل في حالات الصرع.</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ب- النتائج السيكولوجية:</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وجد اختلافات واسعة بين الأسوياء.</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وجد تذبذب كبير لدى الفرد الواحد.</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وضع الأقدام في مقدار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البصر والانتباه في درجة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عوق التوازن كل من التعب والكحول والمخدرات والموسيقى وعدم النوم.</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جنس المفحوص، الطول، الوزن، التدخين ولبس الحذاء لا تؤثر.</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رتيب الفئات الأقل تمايلا : الأسوياء – هستيريون– السيكوباتيين - حالات القلق - الذهانيون.</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47" name="PlaceHolder 1"/>
          <p:cNvSpPr>
            <a:spLocks noGrp="1"/>
          </p:cNvSpPr>
          <p:nvPr>
            <p:ph type="title"/>
          </p:nvPr>
        </p:nvSpPr>
        <p:spPr>
          <a:xfrm>
            <a:off x="395280" y="76500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2249640"/>
            <a:ext cx="8229600" cy="4324320"/>
          </a:xfrm>
          <a:prstGeom prst="rect">
            <a:avLst/>
          </a:prstGeom>
          <a:noFill/>
          <a:ln w="0">
            <a:noFill/>
          </a:ln>
        </p:spPr>
        <p:txBody>
          <a:bodyPr anchor="t">
            <a:normAutofit fontScale="94000"/>
          </a:bodyPr>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الإيحاء بتمايل الجسم:</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تقبل فكرة أو قضية دون وجود أدلة منطقية كافية لمثل هذا التقبل. ودراستها مهمة لمحاولة ربطها بالشخصية وبالعصابية (الهستيريا بوجه خاص) وبالقابلية للنوم الصناعي.</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من أنواعها:</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1</a:t>
            </a:r>
            <a:r>
              <a:rPr b="0" lang="ar-SA" sz="2800" spc="-1" strike="noStrike">
                <a:solidFill>
                  <a:srgbClr val="000000"/>
                </a:solidFill>
                <a:latin typeface="Georgia"/>
              </a:rPr>
              <a:t>- الإيحائية الأول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2</a:t>
            </a:r>
            <a:r>
              <a:rPr b="0" lang="ar-SA" sz="2800" spc="-1" strike="noStrike">
                <a:solidFill>
                  <a:srgbClr val="000000"/>
                </a:solidFill>
                <a:latin typeface="Georgia"/>
              </a:rPr>
              <a:t>- الإيحائية الثانو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إيحائية النفوذ.</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مكن أن تفرق بنجاح بين الأسوياء وغير الأسوياء.</a:t>
            </a:r>
            <a:endParaRPr b="0" lang="en-US" sz="2800" spc="-1" strike="noStrike">
              <a:solidFill>
                <a:srgbClr val="000000"/>
              </a:solidFill>
              <a:latin typeface="Georgia"/>
            </a:endParaRPr>
          </a:p>
        </p:txBody>
      </p:sp>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د- المقاييس المعرفية والإدراكية</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وامل المعرفية كتقدير الفرد لموقف معين له الأهمية ذاتها التي للتنبيه الفسيولوجي في تحديد التعبير عن الانفعال أو السمة المزاج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نفعال الذي يعبر عنه الفرد يرجع إلى تفاعل معقد بين حالة التنبيه الفسيولوجي، والخبرات السابقة في المواقف المشابهة وإدراك الشخص للموقف الاجتماعي الراهن.</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مهيد</a:t>
            </a:r>
            <a:endParaRPr b="0" lang="en-US" sz="4000" spc="-1" strike="noStrike">
              <a:solidFill>
                <a:srgbClr val="424456"/>
              </a:solidFill>
              <a:latin typeface="Trebuchet MS"/>
            </a:endParaRPr>
          </a:p>
        </p:txBody>
      </p:sp>
      <p:sp>
        <p:nvSpPr>
          <p:cNvPr id="217" name=""/>
          <p:cNvSpPr txBox="1"/>
          <p:nvPr/>
        </p:nvSpPr>
        <p:spPr>
          <a:xfrm>
            <a:off x="250920" y="2421000"/>
            <a:ext cx="8642160" cy="415296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نطلقت الاختبارات الموضوعية للشخصية نظراً للتشويه الذي كان يحصل في الاستخبارات من تزييف في الإجابات كونه تقريراً ذاتياً.</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سميت الاختبارات الموضوعية للشخصية أسماء متعددة، منها: اختبارات السلوك الموضوعية، الاختبارات الأدائية، الاختبارات الموضوعية الأدائ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ادراكية</a:t>
            </a:r>
            <a:endParaRPr b="0" lang="en-US" sz="40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98000"/>
          </a:bodyPr>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1</a:t>
            </a:r>
            <a:r>
              <a:rPr b="0" lang="ar-SA" sz="2800" spc="-1" strike="noStrike" u="sng">
                <a:solidFill>
                  <a:srgbClr val="326064"/>
                </a:solidFill>
                <a:uFillTx/>
                <a:latin typeface="Georgia"/>
              </a:rPr>
              <a:t>- مرونة الإغلاق:</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العوامل المستخرجة في التحليلات العاملية للإدراك.</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يتطلب التعرف إلى شكل وسط تفاصيل مشتته وتسبب الخلط ، كما في اختبارات الجشطلت. ص </a:t>
            </a:r>
            <a:r>
              <a:rPr b="0" lang="ar-SA" sz="2800" spc="-1" strike="noStrike">
                <a:solidFill>
                  <a:srgbClr val="000000"/>
                </a:solidFill>
                <a:latin typeface="Georgia"/>
              </a:rPr>
              <a:t>319</a:t>
            </a:r>
            <a:r>
              <a:rPr b="0" lang="ar-SA" sz="2800" spc="-1" strike="noStrike">
                <a:solidFill>
                  <a:srgbClr val="000000"/>
                </a:solidFill>
                <a:latin typeface="Georgia"/>
              </a:rPr>
              <a:t> شكل (</a:t>
            </a:r>
            <a:r>
              <a:rPr b="0" lang="ar-SA" sz="2800" spc="-1" strike="noStrike">
                <a:solidFill>
                  <a:srgbClr val="000000"/>
                </a:solidFill>
                <a:latin typeface="Georgia"/>
              </a:rPr>
              <a:t>30</a:t>
            </a:r>
            <a:r>
              <a:rPr b="0" lang="ar-SA" sz="2800" spc="-1" strike="noStrike">
                <a:solidFill>
                  <a:srgbClr val="000000"/>
                </a:solidFill>
                <a:latin typeface="Georgia"/>
              </a:rPr>
              <a:t>).</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من يحصل على درجات مرتفعة في مرونة الاغلاق فيتسمون ب: منعزلون اجتماعياً، مستقلون عن آراء الاخرين، تحليليون، مهتمون بالمشكلات النظرية والعلمية، يكرهون الروت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إدراكية</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326064"/>
                </a:solidFill>
                <a:uFillTx/>
                <a:latin typeface="Georgia"/>
              </a:rPr>
              <a:t>2</a:t>
            </a:r>
            <a:r>
              <a:rPr b="0" lang="ar-SA" sz="2400" spc="-1" strike="noStrike" u="sng">
                <a:solidFill>
                  <a:srgbClr val="326064"/>
                </a:solidFill>
                <a:uFillTx/>
                <a:latin typeface="Georgia"/>
              </a:rPr>
              <a:t>- اختبارات الاعتماد على المجال والاستقلال عنه:</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شير الاعتماد على المجال إلى أي مدى يتأثر إدراك الشكل العمودي (الشكل المستقيم) بالمجال البصري المحيط بالفرد.</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أ- اختبار تعديل الجسم: </a:t>
            </a:r>
            <a:r>
              <a:rPr b="0" lang="ar-SA" sz="2400" spc="-1" strike="noStrike">
                <a:solidFill>
                  <a:srgbClr val="000000"/>
                </a:solidFill>
                <a:latin typeface="Georgia"/>
              </a:rPr>
              <a:t>يجلس المفحوص في هذا الاختبار على مقعد في حجرة مائلة ويطلب منه أن يعدل مقعده ليتخذ الوضع العمودي الصحيح</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ب- اختبار القضيب والإطار: </a:t>
            </a:r>
            <a:r>
              <a:rPr b="0" lang="ar-SA" sz="2400" spc="-1" strike="noStrike">
                <a:solidFill>
                  <a:srgbClr val="000000"/>
                </a:solidFill>
                <a:latin typeface="Georgia"/>
              </a:rPr>
              <a:t>يجلس المفحوص في هذا الاختبار في مواجهة عصا مضيئة في حجرة مضلمة، ويطلب منه أن يعدل القضيب ليتخذ الوضع العمودي الصحيح بينما يميل الإطار والقضيب في اتجاهات متعاكسة </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ج- اختبار الأشكال المتضمنة: </a:t>
            </a:r>
            <a:r>
              <a:rPr b="0" lang="ar-SA" sz="2400" spc="-1" strike="noStrike">
                <a:solidFill>
                  <a:srgbClr val="000000"/>
                </a:solidFill>
                <a:latin typeface="Georgia"/>
              </a:rPr>
              <a:t>تقاس السرعة التي يتمكن فيها المفحوص من أن يجد أشكالاً هندسية بسيطة ويستخرجها من سلسلة الاشكال المركبة. ص </a:t>
            </a:r>
            <a:r>
              <a:rPr b="0" lang="ar-SA" sz="2400" spc="-1" strike="noStrike">
                <a:solidFill>
                  <a:srgbClr val="000000"/>
                </a:solidFill>
                <a:latin typeface="Georgia"/>
              </a:rPr>
              <a:t>325</a:t>
            </a:r>
            <a:r>
              <a:rPr b="0" lang="ar-SA" sz="2400" spc="-1" strike="noStrike">
                <a:solidFill>
                  <a:srgbClr val="000000"/>
                </a:solidFill>
                <a:latin typeface="Georgia"/>
              </a:rPr>
              <a:t> الشكل(</a:t>
            </a:r>
            <a:r>
              <a:rPr b="0" lang="ar-SA" sz="2400" spc="-1" strike="noStrike">
                <a:solidFill>
                  <a:srgbClr val="000000"/>
                </a:solidFill>
                <a:latin typeface="Georgia"/>
              </a:rPr>
              <a:t>33</a:t>
            </a:r>
            <a:r>
              <a:rPr b="0" lang="ar-SA"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14280"/>
            <a:ext cx="8229600" cy="5359680"/>
          </a:xfrm>
          <a:prstGeom prst="rect">
            <a:avLst/>
          </a:prstGeom>
          <a:noFill/>
          <a:ln w="0">
            <a:noFill/>
          </a:ln>
        </p:spPr>
        <p:txBody>
          <a:bodyPr anchor="t">
            <a:normAutofit fontScale="99000"/>
          </a:bodyPr>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عد الأشخاص الضين يقدرون على تحدد الوضع العمودي بدقة، ويجدون الأشكال المتضمنة بسرعة مستقلون عن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ستقلون عن المجال:</a:t>
            </a:r>
            <a:r>
              <a:rPr b="0" lang="ar-SA" sz="2800" spc="-1" strike="noStrike">
                <a:solidFill>
                  <a:srgbClr val="000000"/>
                </a:solidFill>
                <a:latin typeface="Georgia"/>
              </a:rPr>
              <a:t> </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اثق من نفسه – مطمئن آمن – أكثر نضجاً من الناحية النفسية – متقبل لذاته – نشط في التعامل مع البيئة – يميل إلى استخدام المنطق- أكثر وعياً بخبرات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عتمدين على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أقل شعوراً بالأمن – غير ناضج نفسياً – سلبي – أقل اتساقاً مع مشاعر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eorgia"/>
              </a:rPr>
              <a:t>الذكور أكثر استقلالاً عن المجال من الإناث.</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eorgia"/>
              </a:rPr>
              <a:t> الآباء المستقلين عن المجال أقل تسلط وتقييداً للأبناء من الآباء المعتمدين عن المجال.</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أساليب المعرفية</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جموعة من الطرق لعمليات الإدراك والتذكر والتفكير التي يفضلها الفرد في محاولة فهم العالم المحيط به والتعامل معه. ومن أهم هذه الأساليب:</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الأسلوب التأملي مقابل الاندفاعي: </a:t>
            </a:r>
            <a:r>
              <a:rPr b="0" lang="ar-SA" sz="2800" spc="-1" strike="noStrike">
                <a:solidFill>
                  <a:srgbClr val="000000"/>
                </a:solidFill>
                <a:latin typeface="Georgia"/>
              </a:rPr>
              <a:t>ويقاس باختبار مضاهاة الاشكال المألوفة، ويقيس استجابة الفرد عند مواجهة مشكلة أو مهمة، هل سيكون أسلوبه في حلها بطيئاً ودقيقاً (تأملي)، أو سريعاً وغير دقيق (اندفاعي)، ويرتبط هذا الأسلوب بعديد من المتغيرات الاجتماعية والحضار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لى الرغم من أن الاختبارات الموضوعية للشخصية تواجه مشكلات عديدة، فإنها – من وجهة نظر بعض علماء النفس- الأرض الموعودة، والعملة الحقيقية التي نبحث عنها باعتبارها أساساً لتجارب الشخصية وعلم النفس التطبيقي.</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ختبارات الموضوعية للشخصية</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fontScale="98000"/>
          </a:bodyPr>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معنى الموضوعي: </a:t>
            </a:r>
            <a:r>
              <a:rPr b="0" lang="ar-SA" sz="2600" spc="-1" strike="noStrike">
                <a:solidFill>
                  <a:srgbClr val="000000"/>
                </a:solidFill>
                <a:latin typeface="Georgia"/>
              </a:rPr>
              <a:t>هو ما يوجد في العالم الطبيعي أي خارج الذات.</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والملاحظة أو الحكم الموضوعي هو ما يتحرر من التحيز الشخصي. والموضوعية عكس الذاتية.</a:t>
            </a: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تسم الاختبار الموضوعي </a:t>
            </a:r>
            <a:r>
              <a:rPr b="0" lang="ar-SA" sz="2600" spc="-1" strike="noStrike">
                <a:solidFill>
                  <a:srgbClr val="000000"/>
                </a:solidFill>
                <a:latin typeface="Georgia"/>
              </a:rPr>
              <a:t>بالدقة والوضوح وتجنب الحكم الذاتي في كل من مادة الاختبار والفاحص والتعليمات وبدائل الإجابة والتسجيل والتصحيح والتفسير.</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عرف كاتل الاختبار الموضوعي للشخصية: </a:t>
            </a:r>
            <a:r>
              <a:rPr b="0" lang="ar-SA" sz="2600" spc="-1" strike="noStrike">
                <a:solidFill>
                  <a:srgbClr val="000000"/>
                </a:solidFill>
                <a:latin typeface="Georgia"/>
              </a:rPr>
              <a:t>”موقف يستخدم في التنبؤ بالسلوك في جانب معين غير الموقف الذي يقدمه، وهو اختبار له مغزى بالنسبة لعدد كبير من مواقف أخرى للسلوك، ويشير إلى ما يقيسه في الظاهر“.</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خصائص الاختبارات الموضوعية </a:t>
            </a:r>
            <a:endParaRPr b="0" lang="en-US" sz="4000" spc="-1" strike="noStrike">
              <a:solidFill>
                <a:srgbClr val="424456"/>
              </a:solidFill>
              <a:latin typeface="Trebuchet MS"/>
            </a:endParaRPr>
          </a:p>
        </p:txBody>
      </p:sp>
      <p:sp>
        <p:nvSpPr>
          <p:cNvPr id="221" name=""/>
          <p:cNvSpPr txBox="1"/>
          <p:nvPr/>
        </p:nvSpPr>
        <p:spPr>
          <a:xfrm>
            <a:off x="457200" y="1844280"/>
            <a:ext cx="8229600" cy="4729320"/>
          </a:xfrm>
          <a:prstGeom prst="rect">
            <a:avLst/>
          </a:prstGeom>
          <a:noFill/>
          <a:ln w="0">
            <a:noFill/>
          </a:ln>
        </p:spPr>
        <p:txBody>
          <a:bodyPr anchor="t">
            <a:normAutofit fontScale="91000"/>
          </a:bodyPr>
          <a:p>
            <a:pPr marL="331920" indent="-23256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قد يتضمن الاختبار الموضوعي مادة لفطية، ولكنه يميل إلى التركيز على أداء الشخص وسلوكه، حيث أنها تقيس ما يفعله الفحوص فعلاً، أكثر من قياسها لما يقوله عما يفعله.</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1</a:t>
            </a:r>
            <a:r>
              <a:rPr b="0" lang="ar-SA" sz="2600" spc="-1" strike="noStrike">
                <a:solidFill>
                  <a:srgbClr val="000000"/>
                </a:solidFill>
                <a:latin typeface="Georgia"/>
              </a:rPr>
              <a:t>- أن المفحوص فيها موجه للعمل أكثر من كونه موجهاً للتقرير اللفظي كما في الاستخبارات.</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2</a:t>
            </a:r>
            <a:r>
              <a:rPr b="0" lang="ar-SA" sz="2600" spc="-1" strike="noStrike">
                <a:solidFill>
                  <a:srgbClr val="000000"/>
                </a:solidFill>
                <a:latin typeface="Georgia"/>
              </a:rPr>
              <a:t>- أن الهدف مستتر ومقنع ولا يدرك المفحوص أي جوانب أدائه سوف يحصل على درجة. </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3</a:t>
            </a:r>
            <a:r>
              <a:rPr b="0" lang="ar-SA" sz="2600" spc="-1" strike="noStrike">
                <a:solidFill>
                  <a:srgbClr val="000000"/>
                </a:solidFill>
                <a:latin typeface="Georgia"/>
              </a:rPr>
              <a:t>- أن الاعمال التي تقدم للمفحوص أعمال محددة البناء أو مفصل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4</a:t>
            </a:r>
            <a:r>
              <a:rPr b="0" lang="ar-SA" sz="2600" spc="-1" strike="noStrike">
                <a:solidFill>
                  <a:srgbClr val="000000"/>
                </a:solidFill>
                <a:latin typeface="Georgia"/>
              </a:rPr>
              <a:t>- أن أي مشكلة أو أداء من وجهة نظر المفحوص له حل صحيح وكثيراً من الاختبارات يدركها المفحوص كمقاييس استعدادات، بحيث يسعى المفحوص فيها إلى إعطاء الإجابات الصحيح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تطبق الاختبارات الموضوعية فردياً أو جمعياً.</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28760" y="857160"/>
            <a:ext cx="8229600" cy="4525920"/>
          </a:xfrm>
          <a:prstGeom prst="rect">
            <a:avLst/>
          </a:prstGeom>
          <a:noFill/>
          <a:ln w="0">
            <a:noFill/>
          </a:ln>
        </p:spPr>
        <p:txBody>
          <a:bodyPr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3" name="رسم تخطيطي 3" descr=""/>
          <p:cNvPicPr/>
          <p:nvPr/>
        </p:nvPicPr>
        <p:blipFill>
          <a:blip r:embed="rId1"/>
          <a:stretch/>
        </p:blipFill>
        <p:spPr>
          <a:xfrm>
            <a:off x="1079640" y="1352520"/>
            <a:ext cx="7478640" cy="479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أ- اختبارات هارتشون، ماي</a:t>
            </a:r>
            <a:endParaRPr b="0" lang="en-US" sz="4000" spc="-1" strike="noStrike">
              <a:solidFill>
                <a:srgbClr val="424456"/>
              </a:solidFill>
              <a:latin typeface="Trebuchet MS"/>
            </a:endParaRPr>
          </a:p>
        </p:txBody>
      </p:sp>
      <p:sp>
        <p:nvSpPr>
          <p:cNvPr id="225" name=""/>
          <p:cNvSpPr txBox="1"/>
          <p:nvPr/>
        </p:nvSpPr>
        <p:spPr>
          <a:xfrm>
            <a:off x="250920" y="1773000"/>
            <a:ext cx="8642160" cy="4800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د دراسات هارتشون، ماي- علامة بارزة  في تاريخ الاختبارات الموضوعية للشخصية، وتحديداً فيما يشمل الطباع والخلق.</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تمد الفكرة الأساسية لهذه السلسلة على: تعريض الشخص للإغراء في مواقف يظن أنه يمكنه فيها أن يخالف المعايير والقواعد الأخلاقية دون أن يكتشف أمره. كان يعطى له اختبار مدرسي عادي ثم تنسخ الإجابات وتصحح، وتعطى له الإجابة النموذجية – في يوم تال -  لتصحيح إجابته الخاصة، ويمثل الفر بين الدرجة الحقيقية والدرجة التي أعطاها المفحوص لنفسه درجة الغش والخداع.</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درسا سمات متعددة أهمها: الأمانة، الصدق، الدأب في العمل، التعاون، الكرم، الغش والخداع، السرق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2064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24456"/>
                </a:solidFill>
                <a:latin typeface="Trebuchet MS"/>
              </a:rPr>
              <a:t>متطلبات القياس وضوابطه في تجارب هارتشون، ماي</a:t>
            </a:r>
            <a:endParaRPr b="0" lang="en-US" sz="2600" spc="-1" strike="noStrike">
              <a:solidFill>
                <a:srgbClr val="424456"/>
              </a:solidFill>
              <a:latin typeface="Trebuchet MS"/>
            </a:endParaRPr>
          </a:p>
        </p:txBody>
      </p:sp>
      <p:sp>
        <p:nvSpPr>
          <p:cNvPr id="227" name=""/>
          <p:cNvSpPr txBox="1"/>
          <p:nvPr/>
        </p:nvSpPr>
        <p:spPr>
          <a:xfrm>
            <a:off x="178920" y="1484280"/>
            <a:ext cx="8713800" cy="508968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يكون موقف الاختبار موقفاً طبيعياً كلما كان ذلك ممكناً.</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هناك فرص متساوية للمفحوصين لإظهار سلوكهم عندما يتم اختبارهم.</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تعين ألا يعرض الاختبار الطفل لأي ضغط خلقي أكثر مما يتعرض له في السياق الطبيعي.</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ضع الاختبار المفحوص والفاحص في علاقات اجتماعية زائف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ثير الاختبار شكوك ا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للنشاط المطلوب قيمة حقيقية بالنسبة ل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طبيعة الاختبار من النوع الذي لا تفسده العلن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إذا استخدمت في دراسات إحصائية يجب أن تكون اختبارات جمع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أن تكون نتائج الاختبارات واضحة وبعيدة عن الغموض.</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الدرجات كم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29" name=""/>
          <p:cNvSpPr txBox="1"/>
          <p:nvPr/>
        </p:nvSpPr>
        <p:spPr>
          <a:xfrm>
            <a:off x="178920" y="1628280"/>
            <a:ext cx="8713800" cy="4945320"/>
          </a:xfrm>
          <a:prstGeom prst="rect">
            <a:avLst/>
          </a:prstGeom>
          <a:noFill/>
          <a:ln w="0">
            <a:noFill/>
          </a:ln>
        </p:spPr>
        <p:txBody>
          <a:bodyPr anchor="t">
            <a:normAutofit fontScale="98000"/>
          </a:bodyPr>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1</a:t>
            </a:r>
            <a:r>
              <a:rPr b="1" lang="ar-SA" sz="2400" spc="-1" strike="noStrike">
                <a:solidFill>
                  <a:srgbClr val="326064"/>
                </a:solidFill>
                <a:latin typeface="Georgia"/>
              </a:rPr>
              <a:t>- </a:t>
            </a:r>
            <a:r>
              <a:rPr b="1" lang="ar-SA" sz="2400" spc="-1" strike="noStrike" u="sng">
                <a:solidFill>
                  <a:srgbClr val="326064"/>
                </a:solidFill>
                <a:uFillTx/>
                <a:latin typeface="Georgia"/>
              </a:rPr>
              <a:t>طريقة النسخ</a:t>
            </a:r>
            <a:r>
              <a:rPr b="0" lang="ar-SA" sz="2400" spc="-1" strike="noStrike" u="sng">
                <a:solidFill>
                  <a:srgbClr val="326064"/>
                </a:solidFill>
                <a:uFillTx/>
                <a:latin typeface="Georgia"/>
              </a:rPr>
              <a:t>:</a:t>
            </a:r>
            <a:endParaRPr b="0" lang="en-US" sz="2400" spc="-1" strike="noStrike">
              <a:solidFill>
                <a:srgbClr val="000000"/>
              </a:solidFill>
              <a:latin typeface="Georgia"/>
            </a:endParaRPr>
          </a:p>
          <a:p>
            <a:pPr marL="357480" indent="-25020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6064"/>
                </a:solidFill>
                <a:latin typeface="Georgia"/>
              </a:rPr>
              <a:t>   </a:t>
            </a:r>
            <a:r>
              <a:rPr b="0" lang="ar-SA" sz="2400" spc="-1" strike="noStrike">
                <a:solidFill>
                  <a:srgbClr val="000000"/>
                </a:solidFill>
                <a:latin typeface="Georgia"/>
              </a:rPr>
              <a:t>يقيس هذا الاختبار الخداع في الفصل الدراسي عندما يستخدم الأطفال بطريقة غير شرعية مفتاحاً للتصحيح أو ورقة إجابة نموذجية في الإجابة عن الاختبار.</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وتتحدد درجة الغش بزيادة درجة الفرد زيادة غير شرعية نتيجة استفادته من مفتاح التصحيح.</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معلومات: يتكون من </a:t>
            </a:r>
            <a:r>
              <a:rPr b="0" lang="ar-SA" sz="2400" spc="-1" strike="noStrike">
                <a:solidFill>
                  <a:srgbClr val="000000"/>
                </a:solidFill>
                <a:latin typeface="Georgia"/>
              </a:rPr>
              <a:t>28</a:t>
            </a:r>
            <a:r>
              <a:rPr b="0" lang="ar-SA" sz="2400" spc="-1" strike="noStrike">
                <a:solidFill>
                  <a:srgbClr val="000000"/>
                </a:solidFill>
                <a:latin typeface="Georgia"/>
              </a:rPr>
              <a:t> بند ويطلب من الطالب أن يضع دائرة بالحبر حول الإجابة الصحيحة بدلاً من وضع خط تحتها، ويشترط الإجابة على جميع البنود. وحتى يقوم الطالب بالغش في هذا الاختبار فيجب عليه أن يمحو الدائرة التي رسمها بالحبر ويرسم غيرها.</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حساب: يتكون من </a:t>
            </a:r>
            <a:r>
              <a:rPr b="0" lang="ar-SA" sz="2400" spc="-1" strike="noStrike">
                <a:solidFill>
                  <a:srgbClr val="000000"/>
                </a:solidFill>
                <a:latin typeface="Georgia"/>
              </a:rPr>
              <a:t>50</a:t>
            </a:r>
            <a:r>
              <a:rPr b="0" lang="ar-SA" sz="2400" spc="-1" strike="noStrike">
                <a:solidFill>
                  <a:srgbClr val="000000"/>
                </a:solidFill>
                <a:latin typeface="Georgia"/>
              </a:rPr>
              <a:t> مسألة، ويطلب من التلميذ أن يكتب إجاباتها في الهامش، ويستخدم الفلم الحبر في إجابته، وإذا قام التلميذ بتغيير إجابته بعد إعطائه مفتاح التصحيح يعتبر ذلك غشاً.</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طريقة الأداء المستحيل: </a:t>
            </a:r>
            <a:r>
              <a:rPr b="0" lang="ar-SA" sz="2400" spc="-1" strike="noStrike">
                <a:solidFill>
                  <a:srgbClr val="000000"/>
                </a:solidFill>
                <a:latin typeface="Georgia"/>
              </a:rPr>
              <a:t>تتضمن هذه الطريقة تقديم اختبار للطالب في ظروف يعد فيها الأداء فوق مستوى معين مشيراً إلى الغش والخداع.</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دوائر: تقدم للطالب صحيفة من الورق ووضع عليها عدد من الدوائر الصغيرة ويطلب منه أن يغلق عينيه ويضع علامة من نوع معين بالقلم الرصاص داخل كل دائرة، الأداء إذا زاد عن حد معين يعد دليلاً على الخداع عن طريق استراق البصر.</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ألغاز الميكانيكية: وتبدو سهلة ولكنها في الحقيقة صعبة جداً وتطلب مهارة حقيقية أكثر من معرفة سر الحيلة أو المبدأ لمستخدم.</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9T12:35:06Z</dcterms:created>
  <dc:creator>مرحبا</dc:creator>
  <dc:description/>
  <dc:language>en-US</dc:language>
  <cp:lastModifiedBy>shr</cp:lastModifiedBy>
  <dcterms:modified xsi:type="dcterms:W3CDTF">2016-03-29T16:03:24Z</dcterms:modified>
  <cp:revision>63</cp:revision>
  <dc:subject/>
  <dc:title>الشريحة 1</dc:title>
</cp:coreProperties>
</file>