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1D0-5EE0-400F-9AC3-0806C851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ADE-F038-4DF2-BA68-38E6481F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AB9-7A00-4E8A-8094-930532F3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7CE-E779-41F1-B2A5-AF5E315C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202-3FC1-499C-A56E-D58D2A2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88F-8D9E-4A21-9E72-BA9C56CF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DCF-41E5-4638-B526-5F66FB47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9AE-D7EB-402C-9EDB-22B12F47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2DF-81C3-4029-91A2-13E494F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71C-FBD4-462B-B3EC-CAA94CD9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14C-81CD-4003-8D95-BE6D01C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D7A-0421-4140-9623-334E5D3B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8EFE-FC21-4D06-8281-D8D18889ADF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صورة 3" descr="ش.jpg"/>
          <p:cNvPicPr/>
          <p:nvPr/>
        </p:nvPicPr>
        <p:blipFill>
          <a:blip r:embed="rId1"/>
          <a:stretch/>
        </p:blipFill>
        <p:spPr>
          <a:xfrm>
            <a:off x="1278000" y="774720"/>
            <a:ext cx="3511440" cy="31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صورة 2" descr="ش.jpg"/>
          <p:cNvPicPr/>
          <p:nvPr/>
        </p:nvPicPr>
        <p:blipFill>
          <a:blip r:embed="rId2"/>
          <a:stretch/>
        </p:blipFill>
        <p:spPr>
          <a:xfrm>
            <a:off x="2556000" y="3527280"/>
            <a:ext cx="5616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7000920" y="285840"/>
            <a:ext cx="1619280" cy="1557360"/>
          </a:xfrm>
          <a:prstGeom prst="rect">
            <a:avLst/>
          </a:prstGeom>
          <a:ln w="0">
            <a:noFill/>
          </a:ln>
        </p:spPr>
      </p:pic>
      <p:sp>
        <p:nvSpPr>
          <p:cNvPr id="45" name="مستطيل 8"/>
          <p:cNvSpPr/>
          <p:nvPr/>
        </p:nvSpPr>
        <p:spPr>
          <a:xfrm>
            <a:off x="468360" y="1916280"/>
            <a:ext cx="77756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مقرر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: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 (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35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نهج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تعليم وتعلم العلوم الشرعية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الفصل الدراسي الأول  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6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\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ea typeface="Times New Roman"/>
              </a:rPr>
              <a:t>1437</a:t>
            </a:r>
            <a:r>
              <a:rPr b="1" lang="ar-SA" sz="4400" spc="-1" strike="noStrike" u="sng">
                <a:solidFill>
                  <a:srgbClr val="7030a0"/>
                </a:solidFill>
                <a:uFillTx/>
                <a:latin typeface="Agency FB"/>
                <a:cs typeface="Times New Roman"/>
              </a:rPr>
              <a:t>ه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ff0000"/>
                </a:solidFill>
                <a:uFillTx/>
                <a:latin typeface="Agency FB"/>
                <a:cs typeface="Times New Roman"/>
              </a:rPr>
              <a:t>المحاضرة السابع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H:\1شعار القسم.JPG"/>
          <p:cNvPicPr/>
          <p:nvPr/>
        </p:nvPicPr>
        <p:blipFill>
          <a:blip r:embed="rId4"/>
          <a:stretch/>
        </p:blipFill>
        <p:spPr>
          <a:xfrm>
            <a:off x="317520" y="255600"/>
            <a:ext cx="18828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مربع نص 1"/>
          <p:cNvSpPr/>
          <p:nvPr/>
        </p:nvSpPr>
        <p:spPr>
          <a:xfrm>
            <a:off x="1187280" y="476280"/>
            <a:ext cx="691380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مكونات برامج التربية العم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ربع نص 2"/>
          <p:cNvSpPr/>
          <p:nvPr/>
        </p:nvSpPr>
        <p:spPr>
          <a:xfrm>
            <a:off x="826920" y="1773360"/>
            <a:ext cx="749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مقررات كامل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تدريبات تعد جزءا من مقرر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برامج وأنشطة غير صف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مربع نص 1"/>
          <p:cNvSpPr/>
          <p:nvPr/>
        </p:nvSpPr>
        <p:spPr>
          <a:xfrm>
            <a:off x="2039760" y="836640"/>
            <a:ext cx="45482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أهمية التربية العم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ربع نص 2"/>
          <p:cNvSpPr/>
          <p:nvPr/>
        </p:nvSpPr>
        <p:spPr>
          <a:xfrm>
            <a:off x="395280" y="1989000"/>
            <a:ext cx="849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عريف الطالب المعلم بجوانب العملية التربوية في المدرسة داخل حجرات الدرا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هيئة الفرص أمامه لترجمة المعرفة النظرية والمبادئ والأفكار التربوية التي تلقا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إتاحة الفرصة أماما كي يفهم طبيعة العمل الذي سيزاوله بعد التخر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مربع نص 1"/>
          <p:cNvSpPr/>
          <p:nvPr/>
        </p:nvSpPr>
        <p:spPr>
          <a:xfrm>
            <a:off x="2155680" y="333360"/>
            <a:ext cx="471996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أهداف التربية العمل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3"/>
          <p:cNvSpPr/>
          <p:nvPr/>
        </p:nvSpPr>
        <p:spPr>
          <a:xfrm>
            <a:off x="179280" y="1268280"/>
            <a:ext cx="8640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مكين الطالب المعلم من المهارات التدريسية اللازمة للقيام بالتدريس داخل الفص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إحداث تغيرات ايجابية في شخصية الطالب المعل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إسهام الفاعل في الأنشطة المدرسية المختل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اطلاع على أدوار الإدارة المدرسية ومسئوليات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نمية الاتجاهات الإيجابية للطالب المعلم نحو مهنة التدري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مربع نص 1"/>
          <p:cNvSpPr/>
          <p:nvPr/>
        </p:nvSpPr>
        <p:spPr>
          <a:xfrm>
            <a:off x="1908000" y="765000"/>
            <a:ext cx="5329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جراءات تنفيذ التربية العملية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ربع نص 2"/>
          <p:cNvSpPr/>
          <p:nvPr/>
        </p:nvSpPr>
        <p:spPr>
          <a:xfrm>
            <a:off x="5364000" y="198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ربع نص 3"/>
          <p:cNvSpPr/>
          <p:nvPr/>
        </p:nvSpPr>
        <p:spPr>
          <a:xfrm>
            <a:off x="1116000" y="3284640"/>
            <a:ext cx="69850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مهام الطالب المعلم في التربية العم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1187280" y="105264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66"/>
                </a:solidFill>
                <a:latin typeface="Arial"/>
              </a:rPr>
              <a:t>شكرا لحسن استماعك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Users\dell\Pictures\imagesCAWB1H9R.jpg"/>
          <p:cNvPicPr/>
          <p:nvPr/>
        </p:nvPicPr>
        <p:blipFill>
          <a:blip r:embed="rId1"/>
          <a:stretch/>
        </p:blipFill>
        <p:spPr>
          <a:xfrm>
            <a:off x="3203640" y="2924280"/>
            <a:ext cx="33130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692360" y="1773360"/>
            <a:ext cx="5905440" cy="143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ahoma"/>
                <a:cs typeface="Times New Roman"/>
              </a:rPr>
              <a:t>أساليب تنمية المهارات التدري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:\Users\dell\Pictures\imagesCAHEGAI4.jpg"/>
          <p:cNvPicPr/>
          <p:nvPr/>
        </p:nvPicPr>
        <p:blipFill>
          <a:blip r:embed="rId1"/>
          <a:stretch/>
        </p:blipFill>
        <p:spPr>
          <a:xfrm>
            <a:off x="611280" y="3716280"/>
            <a:ext cx="7993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:\Pictures\50232_105909019482389_4608592_n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84360" y="1125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6000" spc="-1" strike="noStrike">
                <a:solidFill>
                  <a:srgbClr val="ff0000"/>
                </a:solidFill>
                <a:latin typeface="Arial"/>
                <a:cs typeface="Times New Roman"/>
              </a:rPr>
              <a:t>لنراجع المحاضرة السابقة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241720" y="260280"/>
            <a:ext cx="4530600" cy="143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أولا : التدريس المصغ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324000" y="1700280"/>
            <a:ext cx="842472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مفهوم التدريس المصغ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وقف تدريسي بسيط يتدرب فيه الطالب المعلم , أو المعلم في الميدان على مواقف تعليمية حقيقية مصغرة , تشبه غرفة الفصل العادي , غير أنها لا تشتمل على العوامل المعقدة التي تدخل عادة في عملية التدريس , ويتم التدرب فيه على مهارة واحدة او اثنتين بغية اتقانهما قبل الانتقال إلى مهارات أخرى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ربع نص 1"/>
          <p:cNvSpPr/>
          <p:nvPr/>
        </p:nvSpPr>
        <p:spPr>
          <a:xfrm>
            <a:off x="324000" y="1268280"/>
            <a:ext cx="8569080" cy="295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نشأة التدريس المصغ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في أوائل الستينات من القرن العشرين , في بعض الجامعات الأمريكية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dell\Pictures\untitled.png"/>
          <p:cNvPicPr/>
          <p:nvPr/>
        </p:nvPicPr>
        <p:blipFill>
          <a:blip r:embed="rId1"/>
          <a:stretch/>
        </p:blipFill>
        <p:spPr>
          <a:xfrm>
            <a:off x="250920" y="4221000"/>
            <a:ext cx="27367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مربع نص 1"/>
          <p:cNvSpPr/>
          <p:nvPr/>
        </p:nvSpPr>
        <p:spPr>
          <a:xfrm>
            <a:off x="1763640" y="476280"/>
            <a:ext cx="576108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 المصغر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"/>
          <p:cNvSpPr/>
          <p:nvPr/>
        </p:nvSpPr>
        <p:spPr>
          <a:xfrm>
            <a:off x="755640" y="1341360"/>
            <a:ext cx="770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أولى : تحديد المهارة التدر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ثانية : بدء المشاهد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ثالثة : التخطيط للدرس المصغ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رابعة : القيام بالتدري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خامسة  : بدء الحوار والمناقش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مربع نص 1"/>
          <p:cNvSpPr/>
          <p:nvPr/>
        </p:nvSpPr>
        <p:spPr>
          <a:xfrm>
            <a:off x="1763640" y="476280"/>
            <a:ext cx="576108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خطوات التدريس المصغر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ربع نص 2"/>
          <p:cNvSpPr/>
          <p:nvPr/>
        </p:nvSpPr>
        <p:spPr>
          <a:xfrm>
            <a:off x="755640" y="134136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خامسة  : بدء الحوار والمناقش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سادسة : إعادة التدري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سابعة : التقوي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خطوة الثامنة : الانتقال إلى التدريس الكامل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مربع نص 1"/>
          <p:cNvSpPr/>
          <p:nvPr/>
        </p:nvSpPr>
        <p:spPr>
          <a:xfrm>
            <a:off x="179280" y="692280"/>
            <a:ext cx="8640720" cy="7711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ايجابيات التدريس المصغ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سهم في التخفيف من حدة الموقف التعلي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تيح التدرج في عملية التدري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تيح للمتدرب التعرف على مستوى أدائ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تيح التركيز على كل مهارة على ح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يسهم في حل المشكلات  التي تواجه القائمين على برامج اعداد المعلمي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340000" y="260280"/>
            <a:ext cx="4530600" cy="143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ثانيا : التربية العم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324000" y="1413000"/>
            <a:ext cx="842472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مفهوم التربية العملية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برنامج تدريبي تقدمه كليات التربية ومعاهدها على مدى فترة زمنية محددة تحت إشرافها ,بهدف إتاحة الفرصة للطلاب المعلمين لتطبيق ماتعلموه نظريا تطبيقا عمليا ,في أثناء قيامهم بالتدريس الفعلي في المدرسة , الأمر الذي يعمل على اكسابهم المهارات التدريسية المنشودة ويحقق الألفة بينهم وبين العناصر البشرية والمادية للعملية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15:06:08Z</dcterms:created>
  <dc:creator>t com mahmd</dc:creator>
  <dc:description/>
  <dc:language>en-US</dc:language>
  <cp:lastModifiedBy>dell</cp:lastModifiedBy>
  <dcterms:modified xsi:type="dcterms:W3CDTF">2015-11-14T04:49:05Z</dcterms:modified>
  <cp:revision>90</cp:revision>
  <dc:subject/>
  <dc:title>الانكيت</dc:title>
</cp:coreProperties>
</file>