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0FB6-6D13-4336-B8BE-7AF66A62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7C5D-7D9D-4ED0-8899-FCED0261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E2F-C587-4B67-B69B-A5001FC0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C116-BF99-4EDB-95FE-51AB7230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06F-AD80-46A4-84B8-CB63A582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F87-F7EF-4264-8242-B6E9DA0F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C817-19C4-4535-A099-69A54DED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3FCD-5D77-43C9-9A06-5964C97C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7781-A6E6-42D0-A566-D5915561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4E2B-1BF1-470E-B7F7-FB483D21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DF90-3D61-472B-A912-F70ACE14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AB0-86A8-4BBE-8486-736E329E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0574-2A62-4BC7-9C5E-1424EEFB7764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7000920" y="2858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45" name="مستطيل 8"/>
          <p:cNvSpPr/>
          <p:nvPr/>
        </p:nvSpPr>
        <p:spPr>
          <a:xfrm>
            <a:off x="468360" y="1916280"/>
            <a:ext cx="77756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57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عليم وتعلم العلوم الشرعية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7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0000"/>
                </a:solidFill>
                <a:uFillTx/>
                <a:latin typeface="Agency FB"/>
                <a:cs typeface="Times New Roman"/>
              </a:rPr>
              <a:t>المحاضرة السابع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H:\1شعار القسم.JPG"/>
          <p:cNvPicPr/>
          <p:nvPr/>
        </p:nvPicPr>
        <p:blipFill>
          <a:blip r:embed="rId4"/>
          <a:stretch/>
        </p:blipFill>
        <p:spPr>
          <a:xfrm>
            <a:off x="317520" y="255600"/>
            <a:ext cx="18828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مربع نص 1"/>
          <p:cNvSpPr/>
          <p:nvPr/>
        </p:nvSpPr>
        <p:spPr>
          <a:xfrm>
            <a:off x="1187280" y="476280"/>
            <a:ext cx="6913800" cy="1312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مكونات برامج التربية العم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ربع نص 2"/>
          <p:cNvSpPr/>
          <p:nvPr/>
        </p:nvSpPr>
        <p:spPr>
          <a:xfrm>
            <a:off x="826920" y="1773360"/>
            <a:ext cx="749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مقررات كامل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تدريبات تعد جزءا من مقررا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برامج وأنشطة غير صف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مربع نص 1"/>
          <p:cNvSpPr/>
          <p:nvPr/>
        </p:nvSpPr>
        <p:spPr>
          <a:xfrm>
            <a:off x="2039760" y="836640"/>
            <a:ext cx="45482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أهمية التربية العمل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مربع نص 2"/>
          <p:cNvSpPr/>
          <p:nvPr/>
        </p:nvSpPr>
        <p:spPr>
          <a:xfrm>
            <a:off x="395280" y="1989000"/>
            <a:ext cx="8497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عريف الطالب المعلم بجوانب العملية التربوية في المدرسة داخل حجرات الدرا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هيئة الفرص أمامه لترجمة المعرفة النظرية والمبادئ والأفكار التربوية التي تلقا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إتاحة الفرصة أماما كي يفهم طبيعة العمل الذي سيزاوله بعد التخر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مربع نص 1"/>
          <p:cNvSpPr/>
          <p:nvPr/>
        </p:nvSpPr>
        <p:spPr>
          <a:xfrm>
            <a:off x="2155680" y="333360"/>
            <a:ext cx="4719960" cy="1312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أهداف التربية العمل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مربع نص 3"/>
          <p:cNvSpPr/>
          <p:nvPr/>
        </p:nvSpPr>
        <p:spPr>
          <a:xfrm>
            <a:off x="179280" y="1268280"/>
            <a:ext cx="86407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مكين الطالب المعلم من المهارات التدريسية اللازمة للقيام بالتدريس داخل الفصل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إحداث تغيرات ايجابية في شخصية الطالب المعل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الإسهام الفاعل في الأنشطة المدرسية المختلف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الاطلاع على أدوار الإدارة المدرسية ومسئوليات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نمية الاتجاهات الإيجابية للطالب المعلم نحو مهنة التدري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مربع نص 1"/>
          <p:cNvSpPr/>
          <p:nvPr/>
        </p:nvSpPr>
        <p:spPr>
          <a:xfrm>
            <a:off x="1908000" y="765000"/>
            <a:ext cx="53294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اجراءات تنفيذ التربية العملية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مربع نص 2"/>
          <p:cNvSpPr/>
          <p:nvPr/>
        </p:nvSpPr>
        <p:spPr>
          <a:xfrm>
            <a:off x="5364000" y="198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مربع نص 3"/>
          <p:cNvSpPr/>
          <p:nvPr/>
        </p:nvSpPr>
        <p:spPr>
          <a:xfrm>
            <a:off x="1116000" y="3284640"/>
            <a:ext cx="698508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مهام الطالب المعلم في التربية العمل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1187280" y="105264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66"/>
                </a:solidFill>
                <a:latin typeface="Arial"/>
              </a:rPr>
              <a:t>شكرا لحسن استماعكن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\Users\dell\Pictures\imagesCAWB1H9R.jpg"/>
          <p:cNvPicPr/>
          <p:nvPr/>
        </p:nvPicPr>
        <p:blipFill>
          <a:blip r:embed="rId1"/>
          <a:stretch/>
        </p:blipFill>
        <p:spPr>
          <a:xfrm>
            <a:off x="3203640" y="2924280"/>
            <a:ext cx="331308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692360" y="1773360"/>
            <a:ext cx="5905440" cy="1434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Tahoma"/>
                <a:cs typeface="Times New Roman"/>
              </a:rPr>
              <a:t>أساليب تنمية المهارات التدريس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C:\Users\dell\Pictures\imagesCAHEGAI4.jpg"/>
          <p:cNvPicPr/>
          <p:nvPr/>
        </p:nvPicPr>
        <p:blipFill>
          <a:blip r:embed="rId1"/>
          <a:stretch/>
        </p:blipFill>
        <p:spPr>
          <a:xfrm>
            <a:off x="611280" y="3716280"/>
            <a:ext cx="7993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:\Pictures\50232_105909019482389_4608592_n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684360" y="1125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6000" spc="-1" strike="noStrike">
                <a:solidFill>
                  <a:srgbClr val="ff0000"/>
                </a:solidFill>
                <a:latin typeface="Arial"/>
                <a:cs typeface="Times New Roman"/>
              </a:rPr>
              <a:t>لنراجع المحاضرة السابقة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241720" y="260280"/>
            <a:ext cx="4530600" cy="1434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أولا : التدريس المصغ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24000" y="1700280"/>
            <a:ext cx="842472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مفهوم التدريس المصغر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وقف تدريسي بسيط يتدرب فيه الطالب المعلم , أو المعلم في الميدان على مواقف تعليمية حقيقية مصغرة , تشبه غرفة الفصل العادي , غير أنها لا تشتمل على العوامل المعقدة التي تدخل عادة في عملية التدريس , ويتم التدرب فيه على مهارة واحدة او اثنتين بغية اتقانهما قبل الانتقال إلى مهارات أخرى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ربع نص 1"/>
          <p:cNvSpPr/>
          <p:nvPr/>
        </p:nvSpPr>
        <p:spPr>
          <a:xfrm>
            <a:off x="324000" y="1268280"/>
            <a:ext cx="8569080" cy="2958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نشأة التدريس المصغ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في أوائل الستينات من القرن العشرين , في بعض الجامعات الأمريكية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dell\Pictures\untitled.png"/>
          <p:cNvPicPr/>
          <p:nvPr/>
        </p:nvPicPr>
        <p:blipFill>
          <a:blip r:embed="rId1"/>
          <a:stretch/>
        </p:blipFill>
        <p:spPr>
          <a:xfrm>
            <a:off x="250920" y="4221000"/>
            <a:ext cx="27367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مربع نص 1"/>
          <p:cNvSpPr/>
          <p:nvPr/>
        </p:nvSpPr>
        <p:spPr>
          <a:xfrm>
            <a:off x="1763640" y="476280"/>
            <a:ext cx="5761080" cy="1312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خطوات التدريس المصغر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ربع نص 2"/>
          <p:cNvSpPr/>
          <p:nvPr/>
        </p:nvSpPr>
        <p:spPr>
          <a:xfrm>
            <a:off x="755640" y="1341360"/>
            <a:ext cx="770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خطوة الأولى : تحديد المهارة التدريس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خطوة الثانية : بدء المشاهد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خطوة الثالثة : التخطيط للدرس المصغ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خطوة الرابعة : القيام بالتدري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خطوة الخامسة  : بدء الحوار والمناقش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مربع نص 1"/>
          <p:cNvSpPr/>
          <p:nvPr/>
        </p:nvSpPr>
        <p:spPr>
          <a:xfrm>
            <a:off x="1763640" y="476280"/>
            <a:ext cx="5761080" cy="1312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خطوات التدريس المصغر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ربع نص 2"/>
          <p:cNvSpPr/>
          <p:nvPr/>
        </p:nvSpPr>
        <p:spPr>
          <a:xfrm>
            <a:off x="755640" y="1341360"/>
            <a:ext cx="770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خطوة الخامسة  : بدء الحوار والمناقش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خطوة السادسة : إعادة التدري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خطوة السابعة : التقوي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خطوة الثامنة : الانتقال إلى التدريس الكامل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مربع نص 1"/>
          <p:cNvSpPr/>
          <p:nvPr/>
        </p:nvSpPr>
        <p:spPr>
          <a:xfrm>
            <a:off x="179280" y="692280"/>
            <a:ext cx="8640720" cy="7711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يجابيات التدريس المصغ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يسهم في التخفيف من حدة الموقف التعليم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يتيح التدرج في عملية التدريب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يتيح للمتدرب التعرف على مستوى أدائ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يتيح التركيز على كل مهارة على حد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يسهم في حل المشكلات  التي تواجه القائمين على برامج اعداد المعلمي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2340000" y="260280"/>
            <a:ext cx="4530600" cy="1434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ثانيا : التربية العم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324000" y="1413000"/>
            <a:ext cx="842472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مفهوم التربية العملية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برنامج تدريبي تقدمه كليات التربية ومعاهدها على مدى فترة زمنية محددة تحت إشرافها ,بهدف إتاحة الفرصة للطلاب المعلمين لتطبيق ماتعلموه نظريا تطبيقا عمليا ,في أثناء قيامهم بالتدريس الفعلي في المدرسة , الأمر الذي يعمل على اكسابهم المهارات التدريسية المنشودة ويحقق الألفة بينهم وبين العناصر البشرية والمادية للعملية التعليم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5-11-14T04:49:05Z</dcterms:modified>
  <cp:revision>90</cp:revision>
  <dc:subject/>
  <dc:title>الانكيت</dc:title>
</cp:coreProperties>
</file>