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53716-3F41-444C-B276-CAF0B39E0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AC67F-6560-4AD5-BC0D-7320452B9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0FB23-1C02-4605-AC6C-2B13C3F6F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9C641-5C2C-4224-B5DC-B8593799D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751887-027D-4E7B-A7D6-78356BE9DA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11C2D-390E-4D3D-BA20-F085D01AE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AC2A3-9CFA-44FD-99BB-3BBC69695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3E24B-6411-497D-930A-CA5D5AA5B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E6928-8BCB-4509-82A0-C09E5210A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4F0FE-1EB9-4DF0-A44E-E032A7EEB0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56A6E-26F5-4C70-8B9E-33B41256B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A63A6-9C0A-4CAA-99E8-E8F25E1D1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32252-DC27-4748-81FF-77874BA7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81D38-2578-4479-A161-8633B698B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807CD-E000-4B8F-A2B4-23F87A073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4EAC9-536C-4B96-9B96-2014239DE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E1CA8-7F1B-46D9-92F2-4994FA5E5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10C2E8-4ACF-480D-AE5E-7F45D52A6F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16B07-7B7B-428C-A296-75D022664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7DB5FF-A184-4CE1-A822-CC9F431C4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A87E42-0558-4C16-B368-5D5D06BF9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00180-2F63-44A4-BF66-BA9F8C99A5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F6315-3A72-4E56-9A53-C2D7600F1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99B05-7D8A-4A9F-B6D3-73EC471A26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DE53C-3666-40F8-8C03-CDB5C1ACA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A4BD36-36D4-47AC-B7F9-3DD4E0815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7AFA58-A1F0-416A-8C64-02DDBC713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E3C60-2334-49F3-BE14-ED5A55045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530330-8445-4E9B-AAE2-DBAA24D40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711E1-A01C-4D25-96C1-9D871DEEB5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0443FE-D3B4-445E-9282-0CFC65C7AE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50BA85-FE54-49DB-982E-355C47B27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370A9-DC48-4248-BBAF-87D232E399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0D71-CCA6-4DD5-99B2-79C64E60A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15C5B1-F963-4489-866F-E2361E27F4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083E20-DEA7-44E2-91E1-300F1A984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7B509-FAD8-4FB7-830B-D3E665DC8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35E51-CC56-4A61-B5C6-CF20260351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5F43B9-7E24-4B92-B5CC-CCCEFCC37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9E946E-52EF-453C-993E-E356E7E13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768C07-75CB-40D9-B74B-1B7397C892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F53218-E80B-4306-8E3D-AE63101B09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8D5728-CC33-4342-A696-FEDCF06FDF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9BAE-DAC2-475B-BA79-78AD7972A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7042-7169-46F7-82AE-A088179C5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16A3D-77DD-4B70-9B9D-137D1C717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306B6-D3C1-4F40-A65A-B185D7675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575f6d"/>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487BD-0C2F-4400-87A0-2D4B222ADB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35a68"/>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4DF74-60ED-4797-81A3-F3E50EF95307}" type="slidenum">
              <a:rPr b="0" lang="ar-SA" sz="1200" spc="-1" strike="noStrike">
                <a:solidFill>
                  <a:srgbClr val="535a68"/>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3e896"/>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E839-CD19-4DBC-AFF7-7DAF0C0E32D0}" type="slidenum">
              <a:rPr b="0" lang="ar-SA" sz="1200" spc="-1" strike="noStrike">
                <a:solidFill>
                  <a:srgbClr val="f3e896"/>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39d"/>
                </a:solidFill>
                <a:latin typeface="Calibri"/>
              </a:rPr>
              <a:t>Click to edit the title text format</a:t>
            </a:r>
            <a:endParaRPr b="0" lang="en-US" sz="5000" spc="-1" strike="noStrike">
              <a:solidFill>
                <a:srgbClr val="fff39d"/>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3e896"/>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3e896"/>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DD32-A753-4EE5-8F01-58F2A83ADBE4}" type="slidenum">
              <a:rPr b="0" lang="ar-SA" sz="1200" spc="-1" strike="noStrike">
                <a:solidFill>
                  <a:srgbClr val="f3e896"/>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4d6ca7">
                  <a:alpha val="45098"/>
                </a:srgbClr>
              </a:gs>
              <a:gs pos="100000">
                <a:srgbClr val="c90b00">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941100">
                  <a:alpha val="45098"/>
                </a:srgbClr>
              </a:gs>
              <a:gs pos="100000">
                <a:srgbClr val="5480d1">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575f6d"/>
                </a:solidFill>
                <a:latin typeface="Calibri"/>
              </a:rPr>
              <a:t>Click to edit the title text format</a:t>
            </a:r>
            <a:endParaRPr b="0" lang="en-US" sz="5000" spc="-1" strike="noStrike">
              <a:solidFill>
                <a:srgbClr val="575f6d"/>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fe863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7598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b32c16"/>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5cd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535a68"/>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535a68"/>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BD81-8B82-4ADE-8349-845574EE2E46}" type="slidenum">
              <a:rPr b="0" lang="ar-SA" sz="1200" spc="-1" strike="noStrike">
                <a:solidFill>
                  <a:srgbClr val="535a68"/>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33160" y="1196640"/>
            <a:ext cx="7854840" cy="3784680"/>
          </a:xfrm>
          <a:prstGeom prst="rect">
            <a:avLst/>
          </a:prstGeom>
          <a:noFill/>
          <a:ln w="0">
            <a:noFill/>
          </a:ln>
        </p:spPr>
        <p:txBody>
          <a:bodyPr lIns="0" rIns="1836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nstanti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00000"/>
                </a:solidFill>
                <a:latin typeface="Constantia"/>
              </a:rPr>
              <a:t>أدوات البحث العلمي</a:t>
            </a:r>
            <a:br>
              <a:rPr sz="4800"/>
            </a:br>
            <a:endParaRPr b="0" lang="en-US" sz="48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414752"/>
                </a:solidFill>
                <a:latin typeface="Constantia"/>
              </a:rPr>
              <a:t>المحاضرة السادس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179280" y="1341000"/>
            <a:ext cx="8640720" cy="5327640"/>
          </a:xfrm>
          <a:prstGeom prst="rect">
            <a:avLst/>
          </a:prstGeom>
          <a:noFill/>
          <a:ln w="0">
            <a:noFill/>
          </a:ln>
        </p:spPr>
        <p:txBody>
          <a:bodyPr anchor="t">
            <a:normAutofit fontScale="94000"/>
          </a:bodyPr>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جدية المستجيب وصدق الإجابة:</a:t>
            </a:r>
            <a:endParaRPr b="0" lang="en-US" sz="24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وضع أسئلة خاصة توضح مدى صدق المفحوص مثل: وضع اسئلة واضحة الإجابة ولا تحتمل أكثر من إجابة مثل: (هل كذبت في حياتك؟)</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وضع أسئلة ترتبط إجابتها بإجابات أسئلة أخرى موجودة بالاستبيان.</a:t>
            </a:r>
            <a:endParaRPr b="0" lang="en-US" sz="2200" spc="-1" strike="noStrike">
              <a:solidFill>
                <a:srgbClr val="000000"/>
              </a:solidFill>
              <a:latin typeface="Constantia"/>
            </a:endParaRPr>
          </a:p>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ترتيب الأسئلة:</a:t>
            </a:r>
            <a:endParaRPr b="0" lang="en-US" sz="2400" spc="-1" strike="noStrike">
              <a:solidFill>
                <a:srgbClr val="000000"/>
              </a:solidFill>
              <a:latin typeface="Constantia"/>
            </a:endParaRPr>
          </a:p>
          <a:p>
            <a:pPr marL="256320" indent="-2563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بدء بالأسئلة السهلة المتعلقة بالحقائق الواضحة مثل السن والحالة الاجتماعية.</a:t>
            </a:r>
            <a:endParaRPr b="0" lang="en-US" sz="2400" spc="-1" strike="noStrike">
              <a:solidFill>
                <a:srgbClr val="000000"/>
              </a:solidFill>
              <a:latin typeface="Constantia"/>
            </a:endParaRPr>
          </a:p>
          <a:p>
            <a:pPr marL="256320" indent="-2563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رتب بشكل منطقي بوضع أسئلة المجال أو البعد الواحد مع بعض.</a:t>
            </a:r>
            <a:endParaRPr b="0" lang="en-US" sz="2400" spc="-1" strike="noStrike">
              <a:solidFill>
                <a:srgbClr val="000000"/>
              </a:solidFill>
              <a:latin typeface="Constantia"/>
            </a:endParaRPr>
          </a:p>
          <a:p>
            <a:pPr marL="256320" indent="-2563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عامة:</a:t>
            </a:r>
            <a:endParaRPr b="0" lang="en-US" sz="24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1</a:t>
            </a:r>
            <a:r>
              <a:rPr b="0" lang="ar-SA" sz="2200" spc="-1" strike="noStrike">
                <a:solidFill>
                  <a:srgbClr val="000000"/>
                </a:solidFill>
                <a:latin typeface="Constantia"/>
              </a:rPr>
              <a:t>- أن لا يكون الاستبيان طويلا مملا ويتطلب جهد شاق ووقت طويل.</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2</a:t>
            </a:r>
            <a:r>
              <a:rPr b="0" lang="ar-SA" sz="2200" spc="-1" strike="noStrike">
                <a:solidFill>
                  <a:srgbClr val="000000"/>
                </a:solidFill>
                <a:latin typeface="Constantia"/>
              </a:rPr>
              <a:t>- تجنب وضع أسئلة غير مفيدة، وأن تكون مرتبطة بمشكلة البحث.</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3</a:t>
            </a:r>
            <a:r>
              <a:rPr b="0" lang="ar-SA" sz="2200" spc="-1" strike="noStrike">
                <a:solidFill>
                  <a:srgbClr val="000000"/>
                </a:solidFill>
                <a:latin typeface="Constantia"/>
              </a:rPr>
              <a:t>- أن لا تكون الفقرات تتطلب تفكير عميق ودقيق.</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4</a:t>
            </a:r>
            <a:r>
              <a:rPr b="0" lang="ar-SA" sz="2200" spc="-1" strike="noStrike">
                <a:solidFill>
                  <a:srgbClr val="000000"/>
                </a:solidFill>
                <a:latin typeface="Constantia"/>
              </a:rPr>
              <a:t>- وضوح الكتابة وجمالية الإخراج مما يساهم في تشويق المستجيب للإجابة.</a:t>
            </a:r>
            <a:endParaRPr b="0" lang="en-US" sz="2200" spc="-1" strike="noStrike">
              <a:solidFill>
                <a:srgbClr val="000000"/>
              </a:solidFill>
              <a:latin typeface="Constantia"/>
            </a:endParaRPr>
          </a:p>
          <a:p>
            <a:pPr marL="256320" indent="-25632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5</a:t>
            </a:r>
            <a:r>
              <a:rPr b="0" lang="ar-SA" sz="2200" spc="-1" strike="noStrike">
                <a:solidFill>
                  <a:srgbClr val="000000"/>
                </a:solidFill>
                <a:latin typeface="Constantia"/>
              </a:rPr>
              <a:t>- إذا كان هناك إمكانية للحصول على المعلومات من مصادر أخرى فلا داعي طلبها في الاستبيان.</a:t>
            </a:r>
            <a:endParaRPr b="0" lang="en-US" sz="2200" spc="-1" strike="noStrike">
              <a:solidFill>
                <a:srgbClr val="000000"/>
              </a:solidFill>
              <a:latin typeface="Constantia"/>
            </a:endParaRPr>
          </a:p>
        </p:txBody>
      </p:sp>
      <p:sp>
        <p:nvSpPr>
          <p:cNvPr id="213" name="PlaceHolder 1"/>
          <p:cNvSpPr>
            <a:spLocks noGrp="1"/>
          </p:cNvSpPr>
          <p:nvPr>
            <p:ph type="title"/>
          </p:nvPr>
        </p:nvSpPr>
        <p:spPr>
          <a:xfrm>
            <a:off x="468360" y="620280"/>
            <a:ext cx="8229600" cy="722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8920" y="1267920"/>
            <a:ext cx="8713800" cy="5256360"/>
          </a:xfrm>
          <a:prstGeom prst="rect">
            <a:avLst/>
          </a:prstGeom>
          <a:noFill/>
          <a:ln w="0">
            <a:noFill/>
          </a:ln>
        </p:spPr>
        <p:txBody>
          <a:bodyPr anchor="t">
            <a:normAutofit fontScale="92000"/>
          </a:bodyPr>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ابع </a:t>
            </a:r>
            <a:r>
              <a:rPr b="1" lang="ar-SA" sz="2400" spc="-1" strike="noStrike" u="sng">
                <a:solidFill>
                  <a:srgbClr val="862110"/>
                </a:solidFill>
                <a:uFillTx/>
                <a:latin typeface="Constantia"/>
              </a:rPr>
              <a:t>خطوات تصميم الاستبانة:</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5</a:t>
            </a:r>
            <a:r>
              <a:rPr b="0" lang="ar-SA" sz="2400" spc="-1" strike="noStrike">
                <a:solidFill>
                  <a:srgbClr val="000000"/>
                </a:solidFill>
                <a:latin typeface="Constantia"/>
              </a:rPr>
              <a:t>) عرض الصورة الأولية على المحكمين ( الخبراء). لمعرفة آرائهم بفقراتها ومدى وضوحها وملائمتها للبحث.</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6</a:t>
            </a:r>
            <a:r>
              <a:rPr b="0" lang="ar-SA" sz="2400" spc="-1" strike="noStrike">
                <a:solidFill>
                  <a:srgbClr val="000000"/>
                </a:solidFill>
                <a:latin typeface="Constantia"/>
              </a:rPr>
              <a:t>) تعديل الاستبانة بناء على آراء المحكمين.</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7</a:t>
            </a:r>
            <a:r>
              <a:rPr b="0" lang="ar-SA" sz="2400" spc="-1" strike="noStrike">
                <a:solidFill>
                  <a:srgbClr val="000000"/>
                </a:solidFill>
                <a:latin typeface="Constantia"/>
              </a:rPr>
              <a:t>) تجريب الصورة الأولية للاستبانة. على عينة محدودة من مجتمع الدراسة للتأكد من وضوح الأسئلة وبعدها عن الغموض وصدقها وثباتها.</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8</a:t>
            </a:r>
            <a:r>
              <a:rPr b="0" lang="ar-SA" sz="2400" spc="-1" strike="noStrike">
                <a:solidFill>
                  <a:srgbClr val="000000"/>
                </a:solidFill>
                <a:latin typeface="Constantia"/>
              </a:rPr>
              <a:t>) تعديل الاستبانة بعد تجريبها. من خلال الملاحظات التي برزت.</a:t>
            </a:r>
            <a:endParaRPr b="0" lang="en-US" sz="2400" spc="-1" strike="noStrike">
              <a:solidFill>
                <a:srgbClr val="000000"/>
              </a:solidFill>
              <a:latin typeface="Constantia"/>
            </a:endParaRPr>
          </a:p>
          <a:p>
            <a:pPr marL="473040" indent="-4730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9</a:t>
            </a:r>
            <a:r>
              <a:rPr b="0" lang="ar-SA" sz="2400" spc="-1" strike="noStrike">
                <a:solidFill>
                  <a:srgbClr val="000000"/>
                </a:solidFill>
                <a:latin typeface="Constantia"/>
              </a:rPr>
              <a:t>) صياغة الأسئلة في صورتها النهائية. وتحتوي على جزأين:</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مقدمة ويوضح فيها (الغرض العلمي للاستبانة، تشجيع المستجيبين على الإجابة، طمأنتهم على سرية المعلومات، توضيح فائدة البحث، توضيح طريقة الإجابة).</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قرات الاستبانة وتشمل أسئلة الاستبانة مع كافة البدائل التي توضع أمام كل فقرة ليقوم المستجيب باختيار البديل الذي يراه مناسباً.</a:t>
            </a:r>
            <a:endParaRPr b="0" lang="en-US" sz="2400" spc="-1" strike="noStrike">
              <a:solidFill>
                <a:srgbClr val="000000"/>
              </a:solidFill>
              <a:latin typeface="Constantia"/>
            </a:endParaRPr>
          </a:p>
          <a:p>
            <a:pPr marL="473040" indent="-47304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5" name="PlaceHolder 1"/>
          <p:cNvSpPr>
            <a:spLocks noGrp="1"/>
          </p:cNvSpPr>
          <p:nvPr>
            <p:ph type="title"/>
          </p:nvPr>
        </p:nvSpPr>
        <p:spPr>
          <a:xfrm>
            <a:off x="39528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78920" y="1341360"/>
            <a:ext cx="8713800" cy="4983120"/>
          </a:xfrm>
          <a:prstGeom prst="rect">
            <a:avLst/>
          </a:prstGeom>
          <a:noFill/>
          <a:ln w="0">
            <a:noFill/>
          </a:ln>
        </p:spPr>
        <p:txBody>
          <a:bodyPr anchor="t">
            <a:normAutofit fontScale="91000"/>
          </a:bodyPr>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ابع </a:t>
            </a:r>
            <a:r>
              <a:rPr b="1" lang="ar-SA" sz="2600" spc="-1" strike="noStrike" u="sng">
                <a:solidFill>
                  <a:srgbClr val="862110"/>
                </a:solidFill>
                <a:uFillTx/>
                <a:latin typeface="Constantia"/>
              </a:rPr>
              <a:t>خطوات تصميم الاستبانة:</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a:t>
            </a:r>
            <a:r>
              <a:rPr b="0" lang="ar-SA" sz="2600" spc="-1" strike="noStrike">
                <a:solidFill>
                  <a:srgbClr val="000000"/>
                </a:solidFill>
                <a:latin typeface="Constantia"/>
              </a:rPr>
              <a:t>10</a:t>
            </a:r>
            <a:r>
              <a:rPr b="0" lang="ar-SA" sz="2600" spc="-1" strike="noStrike">
                <a:solidFill>
                  <a:srgbClr val="000000"/>
                </a:solidFill>
                <a:latin typeface="Constantia"/>
              </a:rPr>
              <a:t>) توزيع الاستبانة على المستجيبين. ويتم بطريقتين هما:</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 الاتصال المباشر.</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تميز بأنه يتيح للباحث دراسة انفعالات المستجيبين و الإجابة عن تساؤلاتهم، وتشجيعهم على الاستجابة، وإقناعهم بجدية الموضوع.</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ؤخذ عليه ارتفاع النفقات المالية من تنقل الباحث بين أفراد العينة، والوقت الطويل الذي يستغرقه الباحث في اتصاله بالعينة.</a:t>
            </a:r>
            <a:endParaRPr b="0" lang="en-US" sz="2600" spc="-1" strike="noStrike">
              <a:solidFill>
                <a:srgbClr val="000000"/>
              </a:solidFill>
              <a:latin typeface="Constantia"/>
            </a:endParaRPr>
          </a:p>
          <a:p>
            <a:pPr marL="468000" indent="-4680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 الاتصال غير المباشر.</a:t>
            </a:r>
            <a:r>
              <a:rPr b="0" lang="ar-SA" sz="2400" spc="-1" strike="noStrike">
                <a:solidFill>
                  <a:srgbClr val="000000"/>
                </a:solidFill>
                <a:latin typeface="Constantia"/>
              </a:rPr>
              <a:t> حيث يتم توزيعها عن طريق البريد أو الانترنت.</a:t>
            </a:r>
            <a:endParaRPr b="0" lang="en-US" sz="24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تتميز بإمكانية الاتصال بأعداد كبيرة من المستجيبين في مناطق بعيدة، وتوفير كثير من الجهود والنفقات على الباحث.</a:t>
            </a:r>
            <a:endParaRPr b="0" lang="en-US" sz="2600" spc="-1" strike="noStrike">
              <a:solidFill>
                <a:srgbClr val="000000"/>
              </a:solidFill>
              <a:latin typeface="Constantia"/>
            </a:endParaRPr>
          </a:p>
          <a:p>
            <a:pPr marL="468000" indent="-46800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يؤخذ عليه أنه يتطلب وقت طويل في وصول الاستبانة وإعادتها للباحث، بعض أفراد العينة لا يجيبون عن الاستبانة ولا يعيدونها وبذلك يقل حجم العينة عن الحجم المطلوب.</a:t>
            </a:r>
            <a:endParaRPr b="0" lang="en-US" sz="2600" spc="-1" strike="noStrike">
              <a:solidFill>
                <a:srgbClr val="000000"/>
              </a:solidFill>
              <a:latin typeface="Constantia"/>
            </a:endParaRPr>
          </a:p>
        </p:txBody>
      </p:sp>
      <p:sp>
        <p:nvSpPr>
          <p:cNvPr id="217" name="PlaceHolder 1"/>
          <p:cNvSpPr>
            <a:spLocks noGrp="1"/>
          </p:cNvSpPr>
          <p:nvPr>
            <p:ph type="title"/>
          </p:nvPr>
        </p:nvSpPr>
        <p:spPr>
          <a:xfrm>
            <a:off x="39528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a:bodyPr>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ابع </a:t>
            </a:r>
            <a:r>
              <a:rPr b="1" lang="ar-SA" sz="2400" spc="-1" strike="noStrike" u="sng">
                <a:solidFill>
                  <a:srgbClr val="862110"/>
                </a:solidFill>
                <a:uFillTx/>
                <a:latin typeface="Constantia"/>
              </a:rPr>
              <a:t>خطوات تصميم الاستبانة:</a:t>
            </a: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1</a:t>
            </a:r>
            <a:r>
              <a:rPr b="0" lang="ar-SA" sz="2400" spc="-1" strike="noStrike">
                <a:solidFill>
                  <a:srgbClr val="000000"/>
                </a:solidFill>
                <a:latin typeface="Constantia"/>
              </a:rPr>
              <a:t>) متابعة المتخلفين عن إجابة فقرات الاستبانة، ويتم ذلك بإتباع الأساليب الممكنة. من خلال توجيه رسائل لغير المستجيبين لحثهم على الإجابة، أو اللجوء إلى الهاتف في آخر المطاف.</a:t>
            </a: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a:t>
            </a:r>
            <a:r>
              <a:rPr b="0" lang="ar-SA" sz="2400" spc="-1" strike="noStrike">
                <a:solidFill>
                  <a:srgbClr val="000000"/>
                </a:solidFill>
                <a:latin typeface="Constantia"/>
              </a:rPr>
              <a:t>12</a:t>
            </a:r>
            <a:r>
              <a:rPr b="0" lang="ar-SA" sz="2400" spc="-1" strike="noStrike">
                <a:solidFill>
                  <a:srgbClr val="000000"/>
                </a:solidFill>
                <a:latin typeface="Constantia"/>
              </a:rPr>
              <a:t>) تفريغ البيانات وتحليلها إحصائياً. واستبعاد الاستبانات غير المكتملة وذات الإجابات المتناقضة التي تم معرفتها من خلال العبارات الكاشفة. </a:t>
            </a:r>
            <a:endParaRPr b="0" lang="en-US" sz="2400" spc="-1" strike="noStrike">
              <a:solidFill>
                <a:srgbClr val="000000"/>
              </a:solidFill>
              <a:latin typeface="Constantia"/>
            </a:endParaRPr>
          </a:p>
          <a:p>
            <a:pPr marL="514440" indent="-51444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9" name="PlaceHolder 1"/>
          <p:cNvSpPr>
            <a:spLocks noGrp="1"/>
          </p:cNvSpPr>
          <p:nvPr>
            <p:ph type="title"/>
          </p:nvPr>
        </p:nvSpPr>
        <p:spPr>
          <a:xfrm>
            <a:off x="468360" y="692280"/>
            <a:ext cx="8229600" cy="938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أولاً: الاستبان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
        <p:nvSpPr>
          <p:cNvPr id="221" name=""/>
          <p:cNvSpPr txBox="1"/>
          <p:nvPr/>
        </p:nvSpPr>
        <p:spPr>
          <a:xfrm>
            <a:off x="179280" y="1341000"/>
            <a:ext cx="8785440" cy="5256360"/>
          </a:xfrm>
          <a:prstGeom prst="rect">
            <a:avLst/>
          </a:prstGeom>
          <a:noFill/>
          <a:ln w="0">
            <a:noFill/>
          </a:ln>
        </p:spPr>
        <p:txBody>
          <a:bodyPr anchor="t">
            <a:normAutofit fontScale="94000"/>
          </a:bodyPr>
          <a:p>
            <a:pPr marL="256320" indent="-2563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عريفها: </a:t>
            </a:r>
            <a:r>
              <a:rPr b="0" lang="ar-SA" sz="2600" spc="-1" strike="noStrike">
                <a:solidFill>
                  <a:srgbClr val="000000"/>
                </a:solidFill>
                <a:latin typeface="Constantia"/>
              </a:rPr>
              <a:t>المقابلة هي أداة أو محادثة موجهة بهدف الحصول على معلومات لاستخدامها في بحث علمي للاستعانة بها في عملية التوجيه والتشخيص والعلاج. وتعتمد على مقابلة الباحث للمستجيب وجها لوجه بغرض طرح عدد من الأسئلة للإجابة عنها. وتعتبر المقابلة استبياناً شفوياً.</a:t>
            </a:r>
            <a:endParaRPr b="0" lang="en-US" sz="2600" spc="-1" strike="noStrike">
              <a:solidFill>
                <a:srgbClr val="000000"/>
              </a:solidFill>
              <a:latin typeface="Constantia"/>
            </a:endParaRPr>
          </a:p>
          <a:p>
            <a:pPr marL="256320" indent="-2563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مميزات المقابل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مكن الباحث من دراسة وفهم التعبيرات النفسية للمفحوص والاطلاع على مدى انفعالاه وتأثره بالمعلومات التي يقدمها.</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تمكن الباحث من إقامة علاقة ثقة ومودة مع المفحوص مما يساعد في الكشف عن المعلومات المطلوب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يستطيع الباحث معرفة مدى صدق المفحوص من خلال توجيه اسئلة آخرى مرتبطة بالمجال التي يشك فيه.</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يستطيع الباحث التحكم في الزمن واكتشاف التناقض واستقصاء كل الأسئلة والعودة مرة آخرى لاستكمالها إن لزم الام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79280" y="1125000"/>
            <a:ext cx="8785440" cy="5472360"/>
          </a:xfrm>
          <a:prstGeom prst="rect">
            <a:avLst/>
          </a:prstGeom>
          <a:noFill/>
          <a:ln w="0">
            <a:noFill/>
          </a:ln>
        </p:spPr>
        <p:txBody>
          <a:bodyPr anchor="t">
            <a:normAutofit fontScale="98000"/>
          </a:bodyPr>
          <a:p>
            <a:pPr marL="267120" indent="-267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خطوات إجراء المقاب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تحديد أهداف المقاب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تحديد الأفراد الذين سيقابلهم الباحث. من خلال تحديد المجتمع الأصلي للدراسة ثم تحديد عينة ممثلة للمجتمع الأصلي.</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تحديد أسلة المقابلة ويراعى الوضح والموضوعية والتحديد والترتيب وطريقة توجيه الأسئلة.</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تحديد مكان المقابلة وزمانها.</a:t>
            </a:r>
            <a:endParaRPr b="0" lang="en-US" sz="2600" spc="-1" strike="noStrike">
              <a:solidFill>
                <a:srgbClr val="000000"/>
              </a:solidFill>
              <a:latin typeface="Constantia"/>
            </a:endParaRPr>
          </a:p>
          <a:p>
            <a:pPr marL="267120" indent="-2671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5</a:t>
            </a:r>
            <a:r>
              <a:rPr b="0" lang="ar-SA" sz="2600" spc="-1" strike="noStrike">
                <a:solidFill>
                  <a:srgbClr val="000000"/>
                </a:solidFill>
                <a:latin typeface="Constantia"/>
              </a:rPr>
              <a:t>- تنفيذ المقابلة. يلزم الباحث التدريب الجيد وإقامة الجو الودي مع المستجيبين والإصغاء والتشجيع على الاستمرار ويراعي ما يلي: (البدء بحديث مشوق والتقدم التدريجي نحو أهداف المقابلة، إشعاره بالطمأنينة، البدء بمناقشة الموضوعات المحايدة، صياغة الأسئلة بشكل واصح، إعطاء المفحوص الوقت الكافي للإجابة، عدم الدهشة عند سماع مواقف معينة، عدم توجيه اسئلة هجومية).</a:t>
            </a:r>
            <a:endParaRPr b="0" lang="en-US" sz="2600" spc="-1" strike="noStrike">
              <a:solidFill>
                <a:srgbClr val="000000"/>
              </a:solidFill>
              <a:latin typeface="Constantia"/>
            </a:endParaRPr>
          </a:p>
        </p:txBody>
      </p:sp>
      <p:sp>
        <p:nvSpPr>
          <p:cNvPr id="223" name="PlaceHolder 1"/>
          <p:cNvSpPr>
            <a:spLocks noGrp="1"/>
          </p:cNvSpPr>
          <p:nvPr>
            <p:ph type="title"/>
          </p:nvPr>
        </p:nvSpPr>
        <p:spPr>
          <a:xfrm>
            <a:off x="395280" y="692280"/>
            <a:ext cx="8229600" cy="650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79280" y="1268280"/>
            <a:ext cx="8785440" cy="5400720"/>
          </a:xfrm>
          <a:prstGeom prst="rect">
            <a:avLst/>
          </a:prstGeom>
          <a:noFill/>
          <a:ln w="0">
            <a:noFill/>
          </a:ln>
        </p:spPr>
        <p:txBody>
          <a:bodyPr anchor="t">
            <a:normAutofit fontScale="93000"/>
          </a:bodyPr>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تابع خطوات إجراء المقابلة:</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تسجيل المقابلة. إن وافق المستجيب مع مراعاة ( عدم الاستغراق في الكتابة لأن ذلك يربك المفحوص، لا يجوز تأجيل التسجيل حتى نهاية المقابلة لأن مع مرور الوقت قد ينسيه بعض الأحداث، التسجيل الصوتي أكثر دقة شريطة تقبل المفحوص لها، التأكد من سلامة المعنى وتسلسل الاحداث كما رواها المفحوص)</a:t>
            </a:r>
            <a:endParaRPr b="0" lang="en-US" sz="2400" spc="-1" strike="noStrike">
              <a:solidFill>
                <a:srgbClr val="000000"/>
              </a:solidFill>
              <a:latin typeface="Constantia"/>
            </a:endParaRPr>
          </a:p>
          <a:p>
            <a:pPr marL="253440" indent="-25344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أشكال المقابلة:</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مقابلة فردية. يقابل الباحث فرداً واحداً فقط</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مقابلة جمعية: يقابل عدداً من الأشخاص.</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مقابلة عفوية: كتلك التي يقابل فيها المعلم أحد أولياء الأمور</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مقابلة متعمقة ومقصودة كجلسات التحليل النفسي.</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كما تتخذ المقابلة حسب أهدافها أشكالاً عدة منها:</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مقابلة مسحية: بهدف الحصول على معلومات مثل دراسات الرأي العام.</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مقابلة تشخيصية: تهدف إلى تحديد مشكلة ما ومعرفة أسبابها وعواملها.</a:t>
            </a:r>
            <a:endParaRPr b="0" lang="en-US" sz="2400" spc="-1" strike="noStrike">
              <a:solidFill>
                <a:srgbClr val="000000"/>
              </a:solidFill>
              <a:latin typeface="Constantia"/>
            </a:endParaRPr>
          </a:p>
          <a:p>
            <a:pPr marL="253440" indent="-2534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مقابلة علاجية: تهدف إلى تقديم يد العون لشخص يواجه مشكلة ما.</a:t>
            </a:r>
            <a:endParaRPr b="0" lang="en-US" sz="2400" spc="-1" strike="noStrike">
              <a:solidFill>
                <a:srgbClr val="000000"/>
              </a:solidFill>
              <a:latin typeface="Constantia"/>
            </a:endParaRPr>
          </a:p>
        </p:txBody>
      </p:sp>
      <p:sp>
        <p:nvSpPr>
          <p:cNvPr id="225" name="PlaceHolder 1"/>
          <p:cNvSpPr>
            <a:spLocks noGrp="1"/>
          </p:cNvSpPr>
          <p:nvPr>
            <p:ph type="title"/>
          </p:nvPr>
        </p:nvSpPr>
        <p:spPr>
          <a:xfrm>
            <a:off x="395280" y="692280"/>
            <a:ext cx="8229600" cy="650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ثانياً: المقابل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79280" y="1483920"/>
            <a:ext cx="8785440" cy="5040360"/>
          </a:xfrm>
          <a:prstGeom prst="rect">
            <a:avLst/>
          </a:prstGeom>
          <a:noFill/>
          <a:ln w="0">
            <a:noFill/>
          </a:ln>
        </p:spPr>
        <p:txBody>
          <a:bodyPr anchor="t">
            <a:normAutofit/>
          </a:bodyPr>
          <a:p>
            <a:pPr marL="272880" indent="-272880" algn="just"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عتبر المقابلة مناسبة في الحالات التال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حين يكون المستجيبون أطفالاً، أو لا يعرفون القراءة والكتابة، أو من كبار السن أو المرضى، أو غير راغبين في الإدلاء بآرائهم كتاب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حين يتطلب البحث اطلاع الباحث على الظاهر التي يدرسها بنفسه.</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حين يكون هدف الباحث الحصول على وصف كيفي بدلاً من الوصف الكمي الرقم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حين يتطلب الحصول على المعلومات وجود علاقات شخصية قوية مع المستجيبين.</a:t>
            </a:r>
            <a:endParaRPr b="0" lang="en-US" sz="2600" spc="-1" strike="noStrike">
              <a:solidFill>
                <a:srgbClr val="000000"/>
              </a:solidFill>
              <a:latin typeface="Constantia"/>
            </a:endParaRPr>
          </a:p>
        </p:txBody>
      </p:sp>
      <p:sp>
        <p:nvSpPr>
          <p:cNvPr id="227" name="PlaceHolder 1"/>
          <p:cNvSpPr>
            <a:spLocks noGrp="1"/>
          </p:cNvSpPr>
          <p:nvPr>
            <p:ph type="title"/>
          </p:nvPr>
        </p:nvSpPr>
        <p:spPr>
          <a:xfrm>
            <a:off x="468360" y="691920"/>
            <a:ext cx="8229600" cy="866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ثانياً: المقابل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549000"/>
            <a:ext cx="8229600" cy="865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ثالثاً: الملاحظة</a:t>
            </a:r>
            <a:endParaRPr b="0" lang="en-US" sz="5000" spc="-1" strike="noStrike">
              <a:solidFill>
                <a:srgbClr val="575f6d"/>
              </a:solidFill>
              <a:latin typeface="Calibri"/>
            </a:endParaRPr>
          </a:p>
        </p:txBody>
      </p:sp>
      <p:sp>
        <p:nvSpPr>
          <p:cNvPr id="229" name=""/>
          <p:cNvSpPr txBox="1"/>
          <p:nvPr/>
        </p:nvSpPr>
        <p:spPr>
          <a:xfrm>
            <a:off x="178920" y="1268280"/>
            <a:ext cx="8713800" cy="5329440"/>
          </a:xfrm>
          <a:prstGeom prst="rect">
            <a:avLst/>
          </a:prstGeom>
          <a:noFill/>
          <a:ln w="0">
            <a:noFill/>
          </a:ln>
        </p:spPr>
        <p:txBody>
          <a:bodyPr anchor="t">
            <a:normAutofit fontScale="94000"/>
          </a:bodyPr>
          <a:p>
            <a:pPr marL="256320" indent="-25632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onstantia"/>
              </a:rPr>
              <a:t>تعريفها:</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هي توجيه الحواس لمشاهدة ومراقبة سلوك معين أو ظاهرة معينة وتسجيل جوانب السلوك أو خصائصه، مثل العادات والتقاليد الاجتماعية والاحتفالات والأعياد وغيرها، حيث يتطلب من الباحث أن يعيشها بنفسه بملاحظة واعية.</a:t>
            </a:r>
            <a:endParaRPr b="0" lang="en-US" sz="2200" spc="-1" strike="noStrike">
              <a:solidFill>
                <a:srgbClr val="000000"/>
              </a:solidFill>
              <a:latin typeface="Constantia"/>
            </a:endParaRPr>
          </a:p>
          <a:p>
            <a:pPr marL="256320" indent="-25632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c00000"/>
                </a:solidFill>
                <a:uFillTx/>
                <a:latin typeface="Constantia"/>
              </a:rPr>
              <a:t>أنواع الملاحظة</a:t>
            </a:r>
            <a:r>
              <a:rPr b="1" lang="ar-QA" sz="2200" spc="-1" strike="noStrike" u="sng">
                <a:solidFill>
                  <a:srgbClr val="c00000"/>
                </a:solidFill>
                <a:uFillTx/>
                <a:latin typeface="Constantia"/>
              </a:rPr>
              <a:t> :</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1</a:t>
            </a:r>
            <a:r>
              <a:rPr b="0" lang="ar-SA" sz="2200" spc="-1" strike="noStrike">
                <a:solidFill>
                  <a:srgbClr val="862110"/>
                </a:solidFill>
                <a:latin typeface="Constantia"/>
              </a:rPr>
              <a:t>- الملاحظة المباشرة وغير المباشرة: </a:t>
            </a:r>
            <a:r>
              <a:rPr b="0" lang="ar-SA" sz="2200" spc="-1" strike="noStrike">
                <a:solidFill>
                  <a:srgbClr val="000000"/>
                </a:solidFill>
                <a:latin typeface="Constantia"/>
              </a:rPr>
              <a:t>المباشرة من خلال اتصال الباحث بالأشخاص مباشرة وملاحظة سلوك معين، وغير المباشرة من خلال الاطلاع على التقارير والسجلات التي أعدها الآخرون.</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2</a:t>
            </a:r>
            <a:r>
              <a:rPr b="0" lang="ar-SA" sz="2200" spc="-1" strike="noStrike">
                <a:solidFill>
                  <a:srgbClr val="862110"/>
                </a:solidFill>
                <a:latin typeface="Constantia"/>
              </a:rPr>
              <a:t>- الملاحظة المحددة وغير المحددة: </a:t>
            </a:r>
            <a:r>
              <a:rPr b="0" lang="ar-SA" sz="2200" spc="-1" strike="noStrike">
                <a:solidFill>
                  <a:srgbClr val="000000"/>
                </a:solidFill>
                <a:latin typeface="Constantia"/>
              </a:rPr>
              <a:t>حين يكون لدى الباحث تصور مسبق عن نوع المعلومات التي يلاحظها أو السلوك الذي يراقبه تكون ملاحظته محددة، أما إذا قام بدراسة مسحية للتعرف إلى واقع معين أو جمع معلومات أو بيانات تكون غير محددة.</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3</a:t>
            </a:r>
            <a:r>
              <a:rPr b="0" lang="ar-SA" sz="2200" spc="-1" strike="noStrike">
                <a:solidFill>
                  <a:srgbClr val="862110"/>
                </a:solidFill>
                <a:latin typeface="Constantia"/>
              </a:rPr>
              <a:t>- الملاحظة بالمشاركة والملاحظة دون المشاركة: </a:t>
            </a:r>
            <a:r>
              <a:rPr b="0" lang="ar-SA" sz="2200" spc="-1" strike="noStrike">
                <a:solidFill>
                  <a:srgbClr val="000000"/>
                </a:solidFill>
                <a:latin typeface="Constantia"/>
              </a:rPr>
              <a:t>حين يقوم الباحث بملاحظاته من خلال المراقبة فتكون بدون مشاركة، أما إذا كان الباحث يقوم بمشاركتهم في الأنشطة لمن يدرسهم مثلاً ويعيش الحدث معهم فتكون ملاحظة بالمشاركة.</a:t>
            </a:r>
            <a:r>
              <a:rPr b="0" lang="ar-SA" sz="2200" spc="-1" strike="noStrike">
                <a:solidFill>
                  <a:srgbClr val="862110"/>
                </a:solidFill>
                <a:latin typeface="Constantia"/>
              </a:rPr>
              <a:t> </a:t>
            </a:r>
            <a:endParaRPr b="0" lang="en-US" sz="2200" spc="-1" strike="noStrike">
              <a:solidFill>
                <a:srgbClr val="000000"/>
              </a:solidFill>
              <a:latin typeface="Constantia"/>
            </a:endParaRPr>
          </a:p>
          <a:p>
            <a:pPr marL="256320" indent="-2563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862110"/>
                </a:solidFill>
                <a:latin typeface="Constantia"/>
              </a:rPr>
              <a:t>4</a:t>
            </a:r>
            <a:r>
              <a:rPr b="0" lang="ar-SA" sz="2200" spc="-1" strike="noStrike">
                <a:solidFill>
                  <a:srgbClr val="862110"/>
                </a:solidFill>
                <a:latin typeface="Constantia"/>
              </a:rPr>
              <a:t>- الملاحظة المقصودة وغير المقصودة: </a:t>
            </a:r>
            <a:r>
              <a:rPr b="0" lang="ar-SA" sz="2200" spc="-1" strike="noStrike">
                <a:solidFill>
                  <a:srgbClr val="000000"/>
                </a:solidFill>
                <a:latin typeface="Constantia"/>
              </a:rPr>
              <a:t>يقوم بها الباحث بالاتصال الهادف بشخص معين لتسجيل موقف معين تكون ملاحظة مقصودة، أما عندما يلاحظ الباحث عن طريق الصدفة وجود سلوك ما تكون ملاحظة غير مقصودة.</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79280" y="981000"/>
            <a:ext cx="8785440" cy="5616720"/>
          </a:xfrm>
          <a:prstGeom prst="rect">
            <a:avLst/>
          </a:prstGeom>
          <a:noFill/>
          <a:ln w="0">
            <a:noFill/>
          </a:ln>
        </p:spPr>
        <p:txBody>
          <a:bodyPr anchor="t">
            <a:normAutofit fontScale="92000"/>
          </a:bodyPr>
          <a:p>
            <a:pPr marL="250920" indent="-2509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c00000"/>
                </a:solidFill>
                <a:uFillTx/>
                <a:latin typeface="Constantia"/>
              </a:rPr>
              <a:t>خطوات الملاحظة:</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مجال الملاحظة وفقاً لأهداف الدراسة ومكانها وزمانها.</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داد بطاقة الملاحظة وتشمل أنماط السلوك المتوقع ملاحظته.</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أكد من صدق الملاحظة من خلال إعادة الملاحظة أكثر من مرة وعلى فترات متباعدة، ومقارنة ما يلاحظه الباحث مع ما يلاحظه باحث آخر في نفس المجال.</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سجيل خلال الملاحظة بعد استئذان المفحوص ودون تأجيل التسجيل.</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مزايا الملاحظ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إطلاع الباحث على ما يريد في ظروف طبيعي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التسجيل يضمن دقة المعلومات.</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لا تتطلب جهد كبير</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تسمح بالحصول على بيانات ومعلومات لا نحصل عليها من خلال المقابلة.</a:t>
            </a:r>
            <a:endParaRPr b="0" lang="en-US" sz="2400" spc="-1" strike="noStrike">
              <a:solidFill>
                <a:srgbClr val="000000"/>
              </a:solidFill>
              <a:latin typeface="Constantia"/>
            </a:endParaRPr>
          </a:p>
          <a:p>
            <a:pPr marL="250920" indent="-2509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عيوب الملاحظة:</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بعض المستجيبين قد يغيرون من سلوكهم إذا شعروا أنهم ملاحظون.</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تتطلب وقتاً طويلاً حتى يبرز السلوك المقصود.</a:t>
            </a:r>
            <a:endParaRPr b="0" lang="en-US" sz="2400" spc="-1" strike="noStrike">
              <a:solidFill>
                <a:srgbClr val="000000"/>
              </a:solidFill>
              <a:latin typeface="Constantia"/>
            </a:endParaRPr>
          </a:p>
          <a:p>
            <a:pPr marL="250920" indent="-2509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1" name="PlaceHolder 1"/>
          <p:cNvSpPr>
            <a:spLocks noGrp="1"/>
          </p:cNvSpPr>
          <p:nvPr>
            <p:ph type="title"/>
          </p:nvPr>
        </p:nvSpPr>
        <p:spPr>
          <a:xfrm>
            <a:off x="468360" y="475920"/>
            <a:ext cx="8229600" cy="6490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414752"/>
                </a:solidFill>
                <a:latin typeface="Calibri"/>
              </a:rPr>
              <a:t>ثالثاً: الملاحظ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69228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575f6d"/>
                </a:solidFill>
                <a:latin typeface="Calibri"/>
              </a:rPr>
              <a:t>مفهوم أداة البحث التربوي</a:t>
            </a:r>
            <a:endParaRPr b="0" lang="en-US" sz="4500" spc="-1" strike="noStrike">
              <a:solidFill>
                <a:srgbClr val="575f6d"/>
              </a:solidFill>
              <a:latin typeface="Calibri"/>
            </a:endParaRPr>
          </a:p>
        </p:txBody>
      </p:sp>
      <p:sp>
        <p:nvSpPr>
          <p:cNvPr id="197" name=""/>
          <p:cNvSpPr txBox="1"/>
          <p:nvPr/>
        </p:nvSpPr>
        <p:spPr>
          <a:xfrm>
            <a:off x="179280" y="1413000"/>
            <a:ext cx="8785440" cy="5256000"/>
          </a:xfrm>
          <a:prstGeom prst="rect">
            <a:avLst/>
          </a:prstGeom>
          <a:noFill/>
          <a:ln w="0">
            <a:noFill/>
          </a:ln>
        </p:spPr>
        <p:txBody>
          <a:bodyPr anchor="t">
            <a:normAutofit fontScale="97000"/>
          </a:bodyPr>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وسائل التي يستخدمها الباحث في حصوله على المعلومات المطلوبة من المصادر المعينة في بحثه.</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تحدد الأداة المناسبة في ضوء أهداف البحث وفرضياته والأسئلة التي يسعى إلى الإجابة عنها.</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تتباين أداوت البحث في قدرتها على قياس الاستجابة المطلوبة فالأداة التي تقيس استجابة معينة قد لا تكون قادرة على قياس استجابة آخرى. لهذا كان من الضروري لكل باحث أن يكون:</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طلعاً على أدوات البحث وأنواعها حتى يختار من بينها ما يناسب بحثه.</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لماً بخصائص أدوات البحث المختلفة من حيث مزاياها وعيوبها.</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متلكاً لمهارة تصميم أدوات البحث واستخدامها بشكل فعال.</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قادراً على تفسير النتائج التي يتم جمعها باستخدام هذه الأدوات.</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اعيا بمناهج البحث وتصميماتها المختلفة.</a:t>
            </a:r>
            <a:endParaRPr b="0" lang="en-US" sz="2400" spc="-1" strike="noStrike">
              <a:solidFill>
                <a:srgbClr val="000000"/>
              </a:solidFill>
              <a:latin typeface="Constantia"/>
            </a:endParaRPr>
          </a:p>
          <a:p>
            <a:pPr marL="264600" indent="-2646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للباحث أن يبنى أداة بحثه ويطورها بنفسه، أو يستخدم أدوات وضعها باحثون آخرون ولها علاقة بموضوع بحثه بعد أن يقوم بإجراء تعديل عليها يجعلها تتلاءم وغرض البحث.</a:t>
            </a:r>
            <a:endParaRPr b="0" lang="en-US" sz="2400" spc="-1" strike="noStrike">
              <a:solidFill>
                <a:srgbClr val="000000"/>
              </a:solidFill>
              <a:latin typeface="Constantia"/>
            </a:endParaRPr>
          </a:p>
          <a:p>
            <a:pPr marL="264600" indent="-2646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1483920"/>
            <a:ext cx="8229600" cy="4840200"/>
          </a:xfrm>
          <a:prstGeom prst="rect">
            <a:avLst/>
          </a:prstGeom>
          <a:noFill/>
          <a:ln w="0">
            <a:noFill/>
          </a:ln>
        </p:spPr>
        <p:txBody>
          <a:bodyPr anchor="t">
            <a:normAutofit fontScale="95000"/>
          </a:bodyPr>
          <a:p>
            <a:pPr marL="259200" indent="-2592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تعريفها:</a:t>
            </a:r>
            <a:endParaRPr b="0" lang="en-US" sz="2400" spc="-1" strike="noStrike">
              <a:solidFill>
                <a:srgbClr val="000000"/>
              </a:solidFill>
              <a:latin typeface="Constantia"/>
            </a:endParaRPr>
          </a:p>
          <a:p>
            <a:pPr marL="259200" indent="-25920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طلب أو أكثر يستخدم للحصول على ملاحظات منظمة ثمل سمة نفسية أو تربوية، ويعرف أيضاً بأنه إجراء منظم لقياس عينة من السلوك.</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مجالات استخدام الاختبارات:</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ربية: للكشف عن قدرات الطلاب وقياس مستوى تحصيلهم والتعرف على مشكلاتهم وقياس ذكائهم وميولهم وتوجيههم وإرشادهم.</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علم النفس: لقياس قدرات الفرد، والتعرف إلى شخصيته، والعوامل المؤثرة في سلوكه.</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إدراة: من أجل تدريب العاملين وتحديد مستوى أدائهم في العمل وتقويم انتاجهم في التوظيف والترفيع.</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صناعة:في اختيار العمال وتقويمهم وتدريبهم وتوجيههم.</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هندسة:لإجراء الدراسات وفحص المواد وفحص التربة.</a:t>
            </a:r>
            <a:endParaRPr b="0" lang="en-US" sz="2400" spc="-1" strike="noStrike">
              <a:solidFill>
                <a:srgbClr val="000000"/>
              </a:solidFill>
              <a:latin typeface="Constantia"/>
            </a:endParaRPr>
          </a:p>
          <a:p>
            <a:pPr marL="259200" indent="-259200" algn="just" rtl="1">
              <a:lnSpc>
                <a:spcPct val="8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طلب: لتشخيص الامراض والتحليل.</a:t>
            </a:r>
            <a:endParaRPr b="0" lang="en-US" sz="2400" spc="-1" strike="noStrike">
              <a:solidFill>
                <a:srgbClr val="000000"/>
              </a:solidFill>
              <a:latin typeface="Constantia"/>
            </a:endParaRPr>
          </a:p>
        </p:txBody>
      </p:sp>
      <p:sp>
        <p:nvSpPr>
          <p:cNvPr id="233" name="PlaceHolder 1"/>
          <p:cNvSpPr>
            <a:spLocks noGrp="1"/>
          </p:cNvSpPr>
          <p:nvPr>
            <p:ph type="title"/>
          </p:nvPr>
        </p:nvSpPr>
        <p:spPr>
          <a:xfrm>
            <a:off x="468360" y="620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رابعاً: الاختبارات</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178920" y="1557000"/>
            <a:ext cx="8713800" cy="5040360"/>
          </a:xfrm>
          <a:prstGeom prst="rect">
            <a:avLst/>
          </a:prstGeom>
          <a:noFill/>
          <a:ln w="0">
            <a:noFill/>
          </a:ln>
        </p:spPr>
        <p:txBody>
          <a:bodyPr anchor="t">
            <a:normAutofit/>
          </a:bodyPr>
          <a:p>
            <a:pPr marL="272880" indent="-272880" algn="r" rtl="1">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تصنيف الاختبارات:</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ظروف التطبيق: فردية وجامعي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تعليمات وطريقة الاستجابة: شفوية ومكتوب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يء المقاس: اختبارات الذكاء واختبارات الاستعداد واختبارات التحصيل، واختبارات الشخصية، واختبارات الميول.</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صياغة وشكل الفقرات: موضوعية، ومقالية.</a:t>
            </a:r>
            <a:endParaRPr b="0" lang="en-US" sz="2600" spc="-1" strike="noStrike">
              <a:solidFill>
                <a:srgbClr val="000000"/>
              </a:solidFill>
              <a:latin typeface="Constantia"/>
            </a:endParaRPr>
          </a:p>
          <a:p>
            <a:pPr marL="272880" indent="-272880" algn="r" rtl="1">
              <a:spcBef>
                <a:spcPts val="649"/>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طريقة تفسير النتائج: محكية المرجعـ ومعيارية المرجع.</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1"/>
          <p:cNvSpPr>
            <a:spLocks noGrp="1"/>
          </p:cNvSpPr>
          <p:nvPr>
            <p:ph type="title"/>
          </p:nvPr>
        </p:nvSpPr>
        <p:spPr>
          <a:xfrm>
            <a:off x="468360" y="620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414752"/>
                </a:solidFill>
                <a:latin typeface="Calibri"/>
              </a:rPr>
              <a:t>رابعاً: الاختبارات</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79280" y="1413000"/>
            <a:ext cx="8785440" cy="5184720"/>
          </a:xfrm>
          <a:prstGeom prst="rect">
            <a:avLst/>
          </a:prstGeom>
          <a:noFill/>
          <a:ln w="0">
            <a:noFill/>
          </a:ln>
        </p:spPr>
        <p:txBody>
          <a:bodyPr anchor="t">
            <a:normAutofit fontScale="87000"/>
          </a:bodyPr>
          <a:p>
            <a:pPr marL="237240" indent="-23724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خطوات إعداد اختبار تحصيلي:</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الغرض من الاختبار.، وتحديد نوع الفقرات وتوقيت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ديد الموضوعات الداخله في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صياغة أهداف تعليمية بصورة سلوكية في المستويات العقلية المختلفة.</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عداد جدول مواصفات للاختبار التحصيلي تشمل على تحليل المحتوى ومستويات المجال المعرفي المستهدف قياسها.</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صياغة فقرات (أسئلة) الاختبار بعد اختيار الشكل المناسب (صح وخطا، اختياري، مزاوجة، مقالي)</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مراجعة أسلة الاختبار في ضوء معايير الأسئلة الجيدة.</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خراج كراسة الاختبار وتتضمن التعليمات العامة للاختبار، والخاصة بكل سؤال.</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التهيئة لتطبيق الاختبار من تنظيم المفحوصين في القاعات وتوزيع ورق الاختبار.</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صحيح إجابات المفحوصين حسب مفتاح التصحيح الذي يعده الباحث بنفسه.</a:t>
            </a:r>
            <a:endParaRPr b="0" lang="en-US" sz="2400" spc="-1" strike="noStrike">
              <a:solidFill>
                <a:srgbClr val="000000"/>
              </a:solidFill>
              <a:latin typeface="Constantia"/>
            </a:endParaRPr>
          </a:p>
          <a:p>
            <a:pPr marL="237240" indent="-237240" algn="just" rtl="1">
              <a:lnSpc>
                <a:spcPct val="90000"/>
              </a:lnSpc>
              <a:spcBef>
                <a:spcPts val="601"/>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حليل النتائج.</a:t>
            </a:r>
            <a:endParaRPr b="0" lang="en-US" sz="2400" spc="-1" strike="noStrike">
              <a:solidFill>
                <a:srgbClr val="000000"/>
              </a:solidFill>
              <a:latin typeface="Constantia"/>
            </a:endParaRPr>
          </a:p>
        </p:txBody>
      </p:sp>
      <p:sp>
        <p:nvSpPr>
          <p:cNvPr id="237" name="PlaceHolder 1"/>
          <p:cNvSpPr>
            <a:spLocks noGrp="1"/>
          </p:cNvSpPr>
          <p:nvPr>
            <p:ph type="title"/>
          </p:nvPr>
        </p:nvSpPr>
        <p:spPr>
          <a:xfrm>
            <a:off x="395280" y="691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414752"/>
                </a:solidFill>
                <a:latin typeface="Calibri"/>
              </a:rPr>
              <a:t>رابعاً: الاختبارات</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
        <p:nvSpPr>
          <p:cNvPr id="199" name=""/>
          <p:cNvSpPr txBox="1"/>
          <p:nvPr/>
        </p:nvSpPr>
        <p:spPr>
          <a:xfrm>
            <a:off x="178920" y="1197000"/>
            <a:ext cx="8713800" cy="5400720"/>
          </a:xfrm>
          <a:prstGeom prst="rect">
            <a:avLst/>
          </a:prstGeom>
          <a:noFill/>
          <a:ln w="0">
            <a:noFill/>
          </a:ln>
        </p:spPr>
        <p:txBody>
          <a:bodyPr anchor="t">
            <a:normAutofit fontScale="97000"/>
          </a:bodyPr>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62110"/>
                </a:solidFill>
                <a:uFillTx/>
                <a:latin typeface="Constantia"/>
              </a:rPr>
              <a:t>تعريف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حتوي على العديد من الأسئلة المصاغة أو المعدة مسبق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حتوي على أسلة ذات موضوع واحد أو عدة مواضيع.</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تم الإجابة على فقرات الاستبانة من قبل المستجيب بطريقة ذاتية وبناء على تعليمات معدة مسبق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862110"/>
                </a:solidFill>
                <a:uFillTx/>
                <a:latin typeface="Constantia"/>
              </a:rPr>
              <a:t>أهمية الاستبانة ومميزاتها: </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عتبر من بين أكثر أداوت جمع البيانات استخدام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منخفضة التكاليف.</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إمكانية تطبيقها على أعداد كبيرة.</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توفير الإحساس بعدم معرفة المستجيب، وبالتالي الحصول على المعلومات الحساسة.</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سهولة تفريغ البيانات والتحليل وتفسير النتائج.</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استغراقها وقتاً طويلاً للإجابة على فقرات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حاجة المستجيب للاجتهاد حيث المطلوب منه هو اختيار الجواب المناسب فقط.</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إمكانية إيصالها لأشخاص يصعب الوصول إليهم.</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عدم حاجتها لعدد كبير من الأشخاص لجمعها.</a:t>
            </a:r>
            <a:endParaRPr b="0" lang="en-US" sz="2200" spc="-1" strike="noStrike">
              <a:solidFill>
                <a:srgbClr val="000000"/>
              </a:solidFill>
              <a:latin typeface="Constantia"/>
            </a:endParaRPr>
          </a:p>
          <a:p>
            <a:pPr marL="264600" indent="-264600" algn="just" rtl="1">
              <a:lnSpc>
                <a:spcPct val="80000"/>
              </a:lnSpc>
              <a:spcBef>
                <a:spcPts val="550"/>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78920" y="1484280"/>
            <a:ext cx="8713800" cy="5184720"/>
          </a:xfrm>
          <a:prstGeom prst="rect">
            <a:avLst/>
          </a:prstGeom>
          <a:noFill/>
          <a:ln w="0">
            <a:noFill/>
          </a:ln>
        </p:spPr>
        <p:txBody>
          <a:bodyPr anchor="t">
            <a:normAutofit fontScale="88000"/>
          </a:bodyPr>
          <a:p>
            <a:pPr marL="240120" indent="-240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افتراضات الاستبانة:</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طيع المستجيب أن يقرأ ويفهم الأسئلة أو الفقرات.</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تلك المستجيب المعلومات اللازمة التي يطلب منه الإجابة عنها.</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وفر الإرادة لدى المستجيب للإجابة عن الأسئلة أو الفقرات بأمانه.</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عيوب الاستبانة:</a:t>
            </a:r>
            <a:r>
              <a:rPr b="1" lang="ar-SA" sz="2600" spc="-1" strike="noStrike" u="sng">
                <a:solidFill>
                  <a:srgbClr val="000000"/>
                </a:solidFill>
                <a:uFillTx/>
                <a:latin typeface="Constantia"/>
              </a:rPr>
              <a:t> </a:t>
            </a:r>
            <a:r>
              <a:rPr b="0" lang="ar-SA" sz="2600" spc="-1" strike="noStrike">
                <a:solidFill>
                  <a:srgbClr val="000000"/>
                </a:solidFill>
                <a:latin typeface="Constantia"/>
              </a:rPr>
              <a:t>بعض المستجيبين </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انون من قصور في الإدراك أو الذاكرة.</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غير قادرين على التعبير اللفظي عن انطباعاتهم وأفكارهم تعبيراً دقيقاً.</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يس لديهم الحرية للبوح بما لديهم من معلومات.</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 يتجاهلون أسئلة معينة أو يزيفون إجاباتهم بما يتفق مع تحيزاتهم أو حماية مصالحهم أو الظهور في صورة أضل أو إرضاء الباحث.</a:t>
            </a:r>
            <a:endParaRPr b="0" lang="en-US" sz="2600" spc="-1" strike="noStrike">
              <a:solidFill>
                <a:srgbClr val="000000"/>
              </a:solidFill>
              <a:latin typeface="Constantia"/>
            </a:endParaRPr>
          </a:p>
          <a:p>
            <a:pPr marL="240120" indent="-24012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لا يعطون الاستبانة اهتماماً جدياً فيملأون استمارتها بإهمال أو يسجلون ما يفترضون حدوثه.</a:t>
            </a:r>
            <a:endParaRPr b="0" lang="en-US" sz="2600" spc="-1" strike="noStrike">
              <a:solidFill>
                <a:srgbClr val="000000"/>
              </a:solidFill>
              <a:latin typeface="Constantia"/>
            </a:endParaRPr>
          </a:p>
        </p:txBody>
      </p:sp>
      <p:sp>
        <p:nvSpPr>
          <p:cNvPr id="201" name="PlaceHolder 1"/>
          <p:cNvSpPr>
            <a:spLocks noGrp="1"/>
          </p:cNvSpPr>
          <p:nvPr>
            <p:ph type="title"/>
          </p:nvPr>
        </p:nvSpPr>
        <p:spPr>
          <a:xfrm>
            <a:off x="468360" y="620640"/>
            <a:ext cx="8229600" cy="938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575f6d"/>
                </a:solidFill>
                <a:latin typeface="Calibri"/>
              </a:rPr>
              <a:t>أولاً: الاستبانة</a:t>
            </a:r>
            <a:endParaRPr b="0" lang="en-US" sz="50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79280" y="1197000"/>
            <a:ext cx="8785440" cy="5472000"/>
          </a:xfrm>
          <a:prstGeom prst="rect">
            <a:avLst/>
          </a:prstGeom>
          <a:noFill/>
          <a:ln w="0">
            <a:noFill/>
          </a:ln>
        </p:spPr>
        <p:txBody>
          <a:bodyPr anchor="t">
            <a:normAutofit fontScale="95000"/>
          </a:bodyPr>
          <a:p>
            <a:pPr marL="259200" indent="-25920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أنواع الاستبانة: </a:t>
            </a:r>
            <a:r>
              <a:rPr b="0" lang="ar-SA" sz="2600" spc="-1" strike="noStrike">
                <a:solidFill>
                  <a:srgbClr val="000000"/>
                </a:solidFill>
                <a:latin typeface="Constantia"/>
              </a:rPr>
              <a:t>تتنوع حسب طريقة الإجابة عن فقراتها وفيما يلي عرضاً لأبرز هذه الأشكال:</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أولاً: الاستبانة ذات الإجابات مقيدة النهاية ( أو ذات البدال المختارة سلفاً):</a:t>
            </a:r>
            <a:endParaRPr b="0" lang="en-US" sz="2600" spc="-1" strike="noStrike">
              <a:solidFill>
                <a:srgbClr val="000000"/>
              </a:solidFill>
              <a:latin typeface="Constantia"/>
            </a:endParaRPr>
          </a:p>
          <a:p>
            <a:pPr marL="259200" indent="-2592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هذه الصيغة هي الغالبة، حيث يتم استخدام مقياس ليكرت المكون من فئات استجابة محددة مسبقاً مثل:</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غير موافق جداً، وغير موافق، ومحايد، وموافق، وموافق جداً.</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دائماً، وغالباً، وأحياناً، ونادرً.</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بدرجة كبيرة جداً، وبدرجة كبيرة، وبدرجة متوسطة، وبدرجة قليلة، وبدرجة قليلة جداً.</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م إعطاء قيمة لكل استجابة تتراوح من (</a:t>
            </a:r>
            <a:r>
              <a:rPr b="0" lang="ar-SA" sz="2600" spc="-1" strike="noStrike">
                <a:solidFill>
                  <a:srgbClr val="000000"/>
                </a:solidFill>
                <a:latin typeface="Constantia"/>
              </a:rPr>
              <a:t>1</a:t>
            </a:r>
            <a:r>
              <a:rPr b="0" lang="ar-SA" sz="2600" spc="-1" strike="noStrike">
                <a:solidFill>
                  <a:srgbClr val="000000"/>
                </a:solidFill>
                <a:latin typeface="Constantia"/>
              </a:rPr>
              <a:t> إلى </a:t>
            </a:r>
            <a:r>
              <a:rPr b="0" lang="ar-SA" sz="2600" spc="-1" strike="noStrike">
                <a:solidFill>
                  <a:srgbClr val="000000"/>
                </a:solidFill>
                <a:latin typeface="Constantia"/>
              </a:rPr>
              <a:t>4</a:t>
            </a:r>
            <a:r>
              <a:rPr b="0" lang="ar-SA" sz="2600" spc="-1" strike="noStrike">
                <a:solidFill>
                  <a:srgbClr val="000000"/>
                </a:solidFill>
                <a:latin typeface="Constantia"/>
              </a:rPr>
              <a:t> إلى </a:t>
            </a:r>
            <a:r>
              <a:rPr b="0" lang="ar-SA" sz="2600" spc="-1" strike="noStrike">
                <a:solidFill>
                  <a:srgbClr val="000000"/>
                </a:solidFill>
                <a:latin typeface="Constantia"/>
              </a:rPr>
              <a:t>5</a:t>
            </a:r>
            <a:r>
              <a:rPr b="0" lang="ar-SA" sz="2600" spc="-1" strike="noStrike">
                <a:solidFill>
                  <a:srgbClr val="000000"/>
                </a:solidFill>
                <a:latin typeface="Constantia"/>
              </a:rPr>
              <a:t>).</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تميز بسهولة فقراتها للمستجيبين، وسهولة تفريغ المعلومات وتحليلها من قبل الباحث</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اب عليها قلة كشفها عن دوافع المستجيب.</a:t>
            </a:r>
            <a:endParaRPr b="0" lang="en-US" sz="2600" spc="-1" strike="noStrike">
              <a:solidFill>
                <a:srgbClr val="000000"/>
              </a:solidFill>
              <a:latin typeface="Constantia"/>
            </a:endParaRPr>
          </a:p>
          <a:p>
            <a:pPr marL="259200" indent="-259200" algn="just"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9280" y="1268280"/>
            <a:ext cx="8785440" cy="5400720"/>
          </a:xfrm>
          <a:prstGeom prst="rect">
            <a:avLst/>
          </a:prstGeom>
          <a:noFill/>
          <a:ln w="0">
            <a:noFill/>
          </a:ln>
        </p:spPr>
        <p:txBody>
          <a:bodyPr anchor="t">
            <a:normAutofit fontScale="90000"/>
          </a:bodyPr>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62110"/>
                </a:solidFill>
                <a:latin typeface="Constantia"/>
              </a:rPr>
              <a:t>ثانياً: الاستبانة المفتوحة حيث تكون الاستجابات بها حرة أو غير مقيد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عبر عنها المستجيب بكلماته بنفسه، مثل: ما هي أهم المشكلات التي تعاني منها العملية التعليمية في المملكة. وتتميز بأنها:</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تعطي للمستجيب وقتاً للتفكير وعرض أفكاره.</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عبر المستجيب باللغة التي يراها مناسبة.</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إمكانية تفسير آراء المستجيبين.</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لذا فإن صدقها يعتمد على المستجيب بشكل كبير وعيوبها تكمن في صعوبة تصنيف الاستجابات وعرضها وتفسيرها، وتعتبر هامة في مرحلة الاستكشاف أو استطلاع الآراء في موضوع ما يراد عمل دراسة فيه.</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62110"/>
                </a:solidFill>
                <a:latin typeface="Constantia"/>
              </a:rPr>
              <a:t>ثالثاً: الاستبانة التي تكون الاستجابات فيها مقيدة ومفتوحة:</a:t>
            </a:r>
            <a:endParaRPr b="0" lang="en-US" sz="2400" spc="-1" strike="noStrike">
              <a:solidFill>
                <a:srgbClr val="000000"/>
              </a:solidFill>
              <a:latin typeface="Constantia"/>
            </a:endParaRPr>
          </a:p>
          <a:p>
            <a:pPr marL="245520" indent="-24552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يتم سؤال المستجيبين بأسئلة محددة وأخرى مفتوحة، ويستعمل عندما يكون موضوع البحث صعباً وعلى درجة من التعقيد، ويمتاز بأنه أكثر كفاءة في الحصول على معلومات، كما أنه يعطي للمستجيب فرصة لإبداء رأيه، كأن يترك في آخر الاستبانة صفحة بيضاء يكتب فيها المستجيبون ما يرغبون بإيضاحه. </a:t>
            </a:r>
            <a:endParaRPr b="0" lang="en-US" sz="2400" spc="-1" strike="noStrike">
              <a:solidFill>
                <a:srgbClr val="000000"/>
              </a:solidFill>
              <a:latin typeface="Constantia"/>
            </a:endParaRPr>
          </a:p>
          <a:p>
            <a:pPr marL="245520" indent="-245520" algn="just" rtl="1">
              <a:lnSpc>
                <a:spcPct val="90000"/>
              </a:lnSpc>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5"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267920"/>
            <a:ext cx="8229600" cy="505620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رابعأ: الاستبانة المصور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حيث تقدم فيها الأسئلة على شكل صور بدلاً من العبارات المكتوبة، وهذا النوع مفيد مع الأطفال والأميين، ومن عيوبها اقتصار استخدامها على المواقف التي تتضمن خصائص بصرية يمكن تمييزها وفهمها.</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62110"/>
                </a:solidFill>
                <a:latin typeface="Constantia"/>
              </a:rPr>
              <a:t>خامساً: الاستبانة ذات إجابات التكمل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هي تشبه الاستبانة المفتوحة من حيث أنها تعطي المستجيب فرصة حرية التعبير، وهي مغلقة أيضا لأن حرية المستجيب في التعبير مقيدة بمعلومات محددة حسب طبيعة السؤال.</a:t>
            </a:r>
            <a:endParaRPr b="0" lang="en-US" sz="2600" spc="-1" strike="noStrike">
              <a:solidFill>
                <a:srgbClr val="000000"/>
              </a:solidFill>
              <a:latin typeface="Constantia"/>
            </a:endParaRPr>
          </a:p>
        </p:txBody>
      </p:sp>
      <p:sp>
        <p:nvSpPr>
          <p:cNvPr id="207" name="PlaceHolder 1"/>
          <p:cNvSpPr>
            <a:spLocks noGrp="1"/>
          </p:cNvSpPr>
          <p:nvPr>
            <p:ph type="title"/>
          </p:nvPr>
        </p:nvSpPr>
        <p:spPr>
          <a:xfrm>
            <a:off x="468360" y="549360"/>
            <a:ext cx="8229600" cy="722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62028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
        <p:nvSpPr>
          <p:cNvPr id="209" name=""/>
          <p:cNvSpPr txBox="1"/>
          <p:nvPr/>
        </p:nvSpPr>
        <p:spPr>
          <a:xfrm>
            <a:off x="178920" y="1412640"/>
            <a:ext cx="8713800" cy="5111640"/>
          </a:xfrm>
          <a:prstGeom prst="rect">
            <a:avLst/>
          </a:prstGeom>
          <a:noFill/>
          <a:ln w="0">
            <a:noFill/>
          </a:ln>
        </p:spPr>
        <p:txBody>
          <a:bodyPr anchor="t">
            <a:normAutofit fontScale="93000"/>
          </a:bodyPr>
          <a:p>
            <a:pPr marL="253440" indent="-253440" algn="r" rtl="1">
              <a:lnSpc>
                <a:spcPct val="90000"/>
              </a:lnSpc>
              <a:spcBef>
                <a:spcPts val="649"/>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62110"/>
                </a:solidFill>
                <a:uFillTx/>
                <a:latin typeface="Constantia"/>
              </a:rPr>
              <a:t>خطوات تصميم الاستبانة:</a:t>
            </a:r>
            <a:endParaRPr b="0" lang="en-US" sz="26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حديد الموضوع العام للاستبانة.</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حديد المجالات التي يجب أن تشتمل عليها الاستبانة.</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حصر المعلومات المطلوبة لكل مجال.</a:t>
            </a:r>
            <a:endParaRPr b="0" lang="en-US" sz="2800" spc="-1" strike="noStrike">
              <a:solidFill>
                <a:srgbClr val="000000"/>
              </a:solidFill>
              <a:latin typeface="Constantia"/>
            </a:endParaRPr>
          </a:p>
          <a:p>
            <a:pPr marL="253440" indent="-253440" algn="r" rtl="1">
              <a:lnSpc>
                <a:spcPct val="90000"/>
              </a:lnSpc>
              <a:spcBef>
                <a:spcPts val="700"/>
              </a:spcBef>
              <a:buClr>
                <a:srgbClr val="b32c16"/>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ضع أسئلة لكل مجال من المجالات الفرعية السابقة. من خلال الدراسات السابقة، الكتب، الخبرة، ذوي الاختصاص، الاستبانات السابق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62110"/>
                </a:solidFill>
                <a:uFillTx/>
                <a:latin typeface="Constantia"/>
              </a:rPr>
              <a:t>* طرق كتابة الفقرات:</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1</a:t>
            </a:r>
            <a:r>
              <a:rPr b="0" lang="ar-SA" sz="2800" spc="-1" strike="noStrike">
                <a:solidFill>
                  <a:srgbClr val="000000"/>
                </a:solidFill>
                <a:latin typeface="Constantia"/>
              </a:rPr>
              <a:t>- أسئلة مباشرة وأسئلة غير مباشر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2</a:t>
            </a:r>
            <a:r>
              <a:rPr b="0" lang="ar-SA" sz="2800" spc="-1" strike="noStrike">
                <a:solidFill>
                  <a:srgbClr val="000000"/>
                </a:solidFill>
                <a:latin typeface="Constantia"/>
              </a:rPr>
              <a:t>- أسئلة عن حقائق وأسئلة عن آراء.</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3</a:t>
            </a:r>
            <a:r>
              <a:rPr b="0" lang="ar-SA" sz="2800" spc="-1" strike="noStrike">
                <a:solidFill>
                  <a:srgbClr val="000000"/>
                </a:solidFill>
                <a:latin typeface="Constantia"/>
              </a:rPr>
              <a:t>- أسئلة بصيغة استفهامية وأسئلة بصيغة جملة.</a:t>
            </a:r>
            <a:endParaRPr b="0" lang="en-US" sz="2800" spc="-1" strike="noStrike">
              <a:solidFill>
                <a:srgbClr val="000000"/>
              </a:solidFill>
              <a:latin typeface="Constantia"/>
            </a:endParaRPr>
          </a:p>
          <a:p>
            <a:pPr marL="253440" indent="-25344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4</a:t>
            </a:r>
            <a:r>
              <a:rPr b="0" lang="ar-SA" sz="2800" spc="-1" strike="noStrike">
                <a:solidFill>
                  <a:srgbClr val="000000"/>
                </a:solidFill>
                <a:latin typeface="Constantia"/>
              </a:rPr>
              <a:t>- أسئلة خاصة وأسلة عامة.</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50560" y="1341000"/>
            <a:ext cx="8713800" cy="5327640"/>
          </a:xfrm>
          <a:prstGeom prst="rect">
            <a:avLst/>
          </a:prstGeom>
          <a:noFill/>
          <a:ln w="0">
            <a:noFill/>
          </a:ln>
        </p:spPr>
        <p:txBody>
          <a:bodyPr anchor="t">
            <a:normAutofit fontScale="92000"/>
          </a:bodyPr>
          <a:p>
            <a:pPr marL="250920" indent="-25092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الإجاب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ألا يكون هناك أكثر من احتمال واحد للإجاب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أن تكون البدائل مستقلة عن بعضها.</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التأكد من أن الخيارات المتوفرة تشمل على جميع الإجابات المحتم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عدم اشتمال خيارات الإجابة على الخيارات السلبية مثل: (ليس لي رأي)</a:t>
            </a:r>
            <a:endParaRPr b="0" lang="en-US" sz="2400" spc="-1" strike="noStrike">
              <a:solidFill>
                <a:srgbClr val="000000"/>
              </a:solidFill>
              <a:latin typeface="Constantia"/>
            </a:endParaRPr>
          </a:p>
          <a:p>
            <a:pPr marL="250920" indent="-250920" algn="just" rtl="1">
              <a:spcBef>
                <a:spcPts val="601"/>
              </a:spcBef>
              <a:buClr>
                <a:srgbClr val="b32c16"/>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62110"/>
                </a:solidFill>
                <a:uFillTx/>
                <a:latin typeface="Constantia"/>
              </a:rPr>
              <a:t>قواعد تتعلق بصياغة الأسئ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أن تصاغ الفقرات بعبارات واضحة وكلمات سهلة.</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أن تستخدم الكلمات العامة التي يتفق الناس على معانيها.</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3</a:t>
            </a:r>
            <a:r>
              <a:rPr b="0" lang="ar-SA" sz="2400" spc="-1" strike="noStrike">
                <a:solidFill>
                  <a:srgbClr val="000000"/>
                </a:solidFill>
                <a:latin typeface="Constantia"/>
              </a:rPr>
              <a:t>- أن تستخدم العبارات القصيرة وواضحة المعنى.</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4</a:t>
            </a:r>
            <a:r>
              <a:rPr b="0" lang="ar-SA" sz="2400" spc="-1" strike="noStrike">
                <a:solidFill>
                  <a:srgbClr val="000000"/>
                </a:solidFill>
                <a:latin typeface="Constantia"/>
              </a:rPr>
              <a:t>- أن تصاغ الأسئلة ذات الطابع الكمي بشكل مباشر مثل: ( كم يبلغ راتبك الشهري؟)</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5</a:t>
            </a:r>
            <a:r>
              <a:rPr b="0" lang="ar-SA" sz="2400" spc="-1" strike="noStrike">
                <a:solidFill>
                  <a:srgbClr val="000000"/>
                </a:solidFill>
                <a:latin typeface="Constantia"/>
              </a:rPr>
              <a:t>- أن تحتوي الفقرة الواحدة على فكرة واحدة فقط .</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6</a:t>
            </a:r>
            <a:r>
              <a:rPr b="0" lang="ar-SA" sz="2400" spc="-1" strike="noStrike">
                <a:solidFill>
                  <a:srgbClr val="000000"/>
                </a:solidFill>
                <a:latin typeface="Constantia"/>
              </a:rPr>
              <a:t>- البعد عن وضع أسئلة محرجة مثل: ( هل أنت ثرثار؟)</a:t>
            </a:r>
            <a:endParaRPr b="0" lang="en-US" sz="2400" spc="-1" strike="noStrike">
              <a:solidFill>
                <a:srgbClr val="000000"/>
              </a:solidFill>
              <a:latin typeface="Constantia"/>
            </a:endParaRPr>
          </a:p>
          <a:p>
            <a:pPr marL="250920" indent="-2509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11" name="PlaceHolder 1"/>
          <p:cNvSpPr>
            <a:spLocks noGrp="1"/>
          </p:cNvSpPr>
          <p:nvPr>
            <p:ph type="title"/>
          </p:nvPr>
        </p:nvSpPr>
        <p:spPr>
          <a:xfrm>
            <a:off x="468360" y="620280"/>
            <a:ext cx="8229600" cy="722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575f6d"/>
                </a:solidFill>
                <a:latin typeface="Calibri"/>
              </a:rPr>
              <a:t>أولاً: الاستبانة</a:t>
            </a:r>
            <a:endParaRPr b="0" lang="en-US" sz="4500" spc="-1" strike="noStrike">
              <a:solidFill>
                <a:srgbClr val="575f6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9T16:09:05Z</dcterms:created>
  <dc:creator>مرحبا</dc:creator>
  <dc:description/>
  <dc:language>en-US</dc:language>
  <cp:lastModifiedBy>shr</cp:lastModifiedBy>
  <dcterms:modified xsi:type="dcterms:W3CDTF">2016-03-22T17:27:10Z</dcterms:modified>
  <cp:revision>49</cp:revision>
  <dc:subject/>
  <dc:title>أدوات البحث العلمي</dc:title>
</cp:coreProperties>
</file>