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3.jpeg" ContentType="image/jpeg"/>
  <Override PartName="/ppt/media/image5.png" ContentType="image/png"/>
  <Override PartName="/ppt/media/image2.gif" ContentType="image/gif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6B1-2438-4DA2-8AEF-592B162F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4EE-700D-4B1D-862A-FD8C70AF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144-2D6F-4687-AA5F-83ED87AC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8E0-1C69-4485-BFCE-D933C54C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FB7-6F12-4951-8BA8-A6530E6B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BB3-CD59-46E3-A66F-9A5029B5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B37-6ED7-41FF-8854-AFCFEAE2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047-10AE-450E-934F-2C3495F2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9A9-F34A-4657-9F2E-8D9221CC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8F0-0CB0-4936-8971-B276C389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099-A48E-4797-A94E-3AD716F6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154-98AB-44CF-9BF0-42D1D625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7328-715C-48E4-96FD-122F83F3D91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p\Pictures\خلفيات بوربوينت\2530alhnu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hp\Pictures\يسم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ستنتاج الآداب والتوجيهات والفوائد الوارده في النص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خلل كل ما سبق التقويم التكوين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غلق الدرس + التقويم الختام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تطبيق عمل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واجب المنزل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قراءة إضافية عن الموضوع , تنفيذ مشروع مرتبط بالدرس داخل المدرسة أو خارجها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dell\Pictures\imagesCAGSXYSK.jpg"/>
          <p:cNvPicPr/>
          <p:nvPr/>
        </p:nvPicPr>
        <p:blipFill>
          <a:blip r:embed="rId1"/>
          <a:stretch/>
        </p:blipFill>
        <p:spPr>
          <a:xfrm>
            <a:off x="755640" y="465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(موضوعات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4000" y="1268280"/>
            <a:ext cx="84960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لفكره العامة للدر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شرح التفصيلي لمعلومات الدرس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طرق تدريس متنو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ستنتاج الآداب والتوجيهات والفوائد الوارد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ربط بالواق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وجيه تربو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ربط المادة بالفروع الأخرى لمواد العلوم الشرع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C:\Users\dell\Pictures\imagesCAGSXYSK.jpg"/>
          <p:cNvPicPr/>
          <p:nvPr/>
        </p:nvPicPr>
        <p:blipFill>
          <a:blip r:embed="rId1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1280" y="475920"/>
            <a:ext cx="79423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سائل تعليمية (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جهاز عرض , مجسمات , لوحات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شطة تعليمية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وراق عمل , ألعاب تعليمية , أنشطة شفهيه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خلل كل ما سبق التقويم التكوين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غلق الدرس + التقويم الختام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تطبيق عمل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واجب المنزل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قراءة إضافية عن الموضوع , تنفيذ مشروع مرتبط بالدرس داخل المدرسة أو خارجها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C:\Users\dell\Pictures\imagesCAX78PWR.jpg"/>
          <p:cNvPicPr/>
          <p:nvPr/>
        </p:nvPicPr>
        <p:blipFill>
          <a:blip r:embed="rId1"/>
          <a:stretch/>
        </p:blipFill>
        <p:spPr>
          <a:xfrm>
            <a:off x="395280" y="4653000"/>
            <a:ext cx="14320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49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40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طرق 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5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سادس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287360" y="981000"/>
            <a:ext cx="67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أساليب تدريس مواد العلوم الشرعي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"/>
          <p:cNvGraphicFramePr/>
          <p:nvPr/>
        </p:nvGraphicFramePr>
        <p:xfrm>
          <a:off x="0" y="3500280"/>
          <a:ext cx="9144000" cy="33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0280"/>
                    <a:ext cx="91440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71640" y="39528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الأهداف المتوقع تحققها من المحاضر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68360" y="155736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تصنيف مواد العلوم الشرعية في مدارس التعليم العا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تدرب على تقديم هذه الدروس وفق  تخطيط نموذج الانكي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درب على تدريس مواد العلوم الشرعية بنوعي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E:\صور\imagesCAZMJNKF.jpg"/>
          <p:cNvPicPr/>
          <p:nvPr/>
        </p:nvPicPr>
        <p:blipFill>
          <a:blip r:embed="rId1"/>
          <a:stretch/>
        </p:blipFill>
        <p:spPr>
          <a:xfrm>
            <a:off x="684360" y="5157720"/>
            <a:ext cx="2019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 - نصوص ( قرآن , تفسير , حديث 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 - موضوعات ( توحيد , فقه , ثقافة إسلامية 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250920" y="333360"/>
            <a:ext cx="8642160" cy="16923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نواع دروس مواد العلوم الشرعية في التعليم العا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dell\Pictures\imagesCA6C5HW6.jpg"/>
          <p:cNvPicPr/>
          <p:nvPr/>
        </p:nvPicPr>
        <p:blipFill>
          <a:blip r:embed="rId1"/>
          <a:stretch/>
        </p:blipFill>
        <p:spPr>
          <a:xfrm>
            <a:off x="0" y="4857840"/>
            <a:ext cx="2627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 المشتركة </a:t>
            </a:r>
            <a:br>
              <a:rPr sz="4000"/>
            </a:b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( نصوص – موضوعات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600200"/>
            <a:ext cx="8362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حل الواجب المنزلي للدرس السابق + مراجعة شاملة للدرس الساب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مهيد للدرس الجديد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مقدمة إنشائية من العام إلى الخاص , قصة , مشهد تمثيلي , ألعاب تعليمية , مقطع مرئ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ستنتاج موضوع الدرس الجديد وتدوينه على السبورة الصف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رض الأهداف المتوقع تحقيقها من الدر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C:\Users\dell\Pictures\imagesCA4SJSEM.jpg"/>
          <p:cNvPicPr/>
          <p:nvPr/>
        </p:nvPicPr>
        <p:blipFill>
          <a:blip r:embed="rId1"/>
          <a:stretch/>
        </p:blipFill>
        <p:spPr>
          <a:xfrm>
            <a:off x="0" y="5086440"/>
            <a:ext cx="2556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(  نصوص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560" y="1268280"/>
            <a:ext cx="8281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قراءة النص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توضيح معاني المفردات الغير مفهومه للطالب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لفكره العامة للنص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شرح التفصيلي للنص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طرق تدريس متنوعة 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ربط بالواقع + توجيه تربوي + ربط المادة بالفروع الأخرى لمواد العلوم الشرع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dell\Pictures\imagesCA3RLC5D.jpg"/>
          <p:cNvPicPr/>
          <p:nvPr/>
        </p:nvPicPr>
        <p:blipFill>
          <a:blip r:embed="rId1"/>
          <a:stretch/>
        </p:blipFill>
        <p:spPr>
          <a:xfrm>
            <a:off x="0" y="0"/>
            <a:ext cx="1866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وسائل تعليمية (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 جهاز عرض , مجسمات , لوحات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شطة تعليمية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أوراق عمل , ألعاب تعليمية , أنشطة شفهيه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حكام التجويد الواردة في النص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قرآن + تفسير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:\Users\dell\Pictures\imagesCACYJG58.jpg"/>
          <p:cNvPicPr/>
          <p:nvPr/>
        </p:nvPicPr>
        <p:blipFill>
          <a:blip r:embed="rId1"/>
          <a:stretch/>
        </p:blipFill>
        <p:spPr>
          <a:xfrm>
            <a:off x="324000" y="5084640"/>
            <a:ext cx="3009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4-11-04T06:43:41Z</dcterms:modified>
  <cp:revision>56</cp:revision>
  <dc:subject/>
  <dc:title>الانكيت</dc:title>
</cp:coreProperties>
</file>