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7.jpeg" ContentType="image/jpeg"/>
  <Override PartName="/ppt/media/image1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media/image13.jpeg" ContentType="image/jpeg"/>
  <Override PartName="/ppt/media/image5.png" ContentType="image/png"/>
  <Override PartName="/ppt/media/image2.gif" ContentType="image/gif"/>
  <Override PartName="/ppt/media/image8.jpeg" ContentType="image/jpe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C460-F582-4856-90D7-332E806A5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A0BC-8F0E-4F71-BCAC-3D7212780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1489-CA91-437B-8E8D-998AB419D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66B7-D6E7-4404-B8A9-958C5A051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9235-99BD-4C41-B528-1A4246114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2461-7B02-4D47-953C-8F77F9F37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DD72-AF79-4644-BB3E-A4B214A31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81D5-8B1F-4B0E-A1AC-11D6A1D22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1B1E-F70D-4434-8D71-AA8074DC0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27ED-0197-40E2-B3D8-237B058A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0E80-73F9-4368-AC50-6E6CAAE8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5B45-CA8C-49F2-BD65-B6103F3E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9DF77-707E-417D-B52D-08C24F9487EB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C:\Users\hp\Pictures\خلفيات بوربوينت\2530alhnu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C:\Users\hp\Pictures\يسم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0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50920" y="1268280"/>
            <a:ext cx="8447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ستنتاج الآداب والتوجيهات والفوائد الوارده في النص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يتخلل كل ما سبق التقويم التكويني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غلق الدرس + التقويم الختامي 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( أسئلة , تمارين متنوعة , تطبيق عملي 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لواجب المنزلي 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( أسئلة , تمارين متنوعة , قراءة إضافية عن الموضوع , تنفيذ مشروع مرتبط بالدرس داخل المدرسة أو خارجها 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C:\Users\dell\Pictures\imagesCAGSXYSK.jpg"/>
          <p:cNvPicPr/>
          <p:nvPr/>
        </p:nvPicPr>
        <p:blipFill>
          <a:blip r:embed="rId1"/>
          <a:stretch/>
        </p:blipFill>
        <p:spPr>
          <a:xfrm>
            <a:off x="755640" y="465300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Calibri"/>
              </a:rPr>
              <a:t>خطوات التدريس(موضوعات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24000" y="1268280"/>
            <a:ext cx="84960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spcBef>
                <a:spcPts val="9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مناقشة الفكره العامة للدرس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الشرح التفصيلي لمعلومات الدرس 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( طرق تدريس متنوع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9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استنتاج الآداب والتوجيهات والفوائد الوارد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-ربط بالواقع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9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توجيه تربوي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- ربط المادة بالفروع الأخرى لمواد العلوم الشرعية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C:\Users\dell\Pictures\imagesCAGSXYSK.jpg"/>
          <p:cNvPicPr/>
          <p:nvPr/>
        </p:nvPicPr>
        <p:blipFill>
          <a:blip r:embed="rId1"/>
          <a:stretch/>
        </p:blipFill>
        <p:spPr>
          <a:xfrm>
            <a:off x="0" y="511488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0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11280" y="475920"/>
            <a:ext cx="794232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وسائل تعليمية (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 جهاز عرض , مجسمات , لوحات 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أنشطة تعليمية 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( أوراق عمل , ألعاب تعليمية , أنشطة شفهيه 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يتخلل كل ما سبق التقويم التكويني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غلق الدرس + التقويم الختامي 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( أسئلة , تمارين متنوعة , تطبيق عملي 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لواجب المنزلي 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( أسئلة , تمارين متنوعة , قراءة إضافية عن الموضوع , تنفيذ مشروع مرتبط بالدرس داخل المدرسة أو خارجها 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3" descr="C:\Users\dell\Pictures\imagesCAX78PWR.jpg"/>
          <p:cNvPicPr/>
          <p:nvPr/>
        </p:nvPicPr>
        <p:blipFill>
          <a:blip r:embed="rId1"/>
          <a:stretch/>
        </p:blipFill>
        <p:spPr>
          <a:xfrm>
            <a:off x="395280" y="4653000"/>
            <a:ext cx="143208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Users\Public\Pictures\Stage\004.jpg"/>
          <p:cNvPicPr/>
          <p:nvPr/>
        </p:nvPicPr>
        <p:blipFill>
          <a:blip r:embed="rId1"/>
          <a:stretch/>
        </p:blipFill>
        <p:spPr>
          <a:xfrm>
            <a:off x="611280" y="404640"/>
            <a:ext cx="7632720" cy="6143760"/>
          </a:xfrm>
          <a:prstGeom prst="rect">
            <a:avLst/>
          </a:prstGeom>
          <a:ln w="0">
            <a:noFill/>
          </a:ln>
        </p:spPr>
      </p:pic>
      <p:sp>
        <p:nvSpPr>
          <p:cNvPr id="84" name="TextBox 2"/>
          <p:cNvSpPr/>
          <p:nvPr/>
        </p:nvSpPr>
        <p:spPr>
          <a:xfrm>
            <a:off x="1020600" y="858960"/>
            <a:ext cx="6815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</a:rPr>
              <a:t>شكرا لحسن استماعكن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صورة 3" descr="ش.jpg"/>
          <p:cNvPicPr/>
          <p:nvPr/>
        </p:nvPicPr>
        <p:blipFill>
          <a:blip r:embed="rId1"/>
          <a:stretch/>
        </p:blipFill>
        <p:spPr>
          <a:xfrm>
            <a:off x="1278000" y="774720"/>
            <a:ext cx="3511440" cy="3190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6" name="صورة 2" descr="ش.jpg"/>
          <p:cNvPicPr/>
          <p:nvPr/>
        </p:nvPicPr>
        <p:blipFill>
          <a:blip r:embed="rId2"/>
          <a:stretch/>
        </p:blipFill>
        <p:spPr>
          <a:xfrm>
            <a:off x="2556000" y="3527280"/>
            <a:ext cx="5616360" cy="3191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7" name="عنوان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3"/>
          <a:stretch/>
        </p:blipFill>
        <p:spPr>
          <a:xfrm>
            <a:off x="7000920" y="285840"/>
            <a:ext cx="1619280" cy="1557360"/>
          </a:xfrm>
          <a:prstGeom prst="rect">
            <a:avLst/>
          </a:prstGeom>
          <a:ln w="0">
            <a:noFill/>
          </a:ln>
        </p:spPr>
      </p:pic>
      <p:sp>
        <p:nvSpPr>
          <p:cNvPr id="49" name="مستطيل 8"/>
          <p:cNvSpPr/>
          <p:nvPr/>
        </p:nvSpPr>
        <p:spPr>
          <a:xfrm>
            <a:off x="468360" y="1916280"/>
            <a:ext cx="777564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مقرر</a:t>
            </a:r>
            <a:r>
              <a:rPr b="1" lang="en-US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: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 (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340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نهج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طرق تدريس العلوم الشرعي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الفصل الدراسي الأول  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1435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\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1436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ه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 u="sng">
                <a:solidFill>
                  <a:srgbClr val="ff0000"/>
                </a:solidFill>
                <a:uFillTx/>
                <a:latin typeface="Agency FB"/>
                <a:cs typeface="Times New Roman"/>
              </a:rPr>
              <a:t>المحاضرة السادسة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H:\1شعار القسم.JPG"/>
          <p:cNvPicPr/>
          <p:nvPr/>
        </p:nvPicPr>
        <p:blipFill>
          <a:blip r:embed="rId4"/>
          <a:stretch/>
        </p:blipFill>
        <p:spPr>
          <a:xfrm>
            <a:off x="317520" y="255600"/>
            <a:ext cx="188280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عنوان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1287360" y="981000"/>
            <a:ext cx="6740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أساليب تدريس مواد العلوم الشرعية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Object 1"/>
          <p:cNvGraphicFramePr/>
          <p:nvPr/>
        </p:nvGraphicFramePr>
        <p:xfrm>
          <a:off x="0" y="3500280"/>
          <a:ext cx="9144000" cy="335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500280"/>
                    <a:ext cx="9144000" cy="33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G:\Pictures\50232_105909019482389_4608592_n.jpg"/>
          <p:cNvPicPr/>
          <p:nvPr/>
        </p:nvPicPr>
        <p:blipFill>
          <a:blip r:embed="rId1"/>
          <a:stretch/>
        </p:blipFill>
        <p:spPr>
          <a:xfrm>
            <a:off x="0" y="2071800"/>
            <a:ext cx="9144000" cy="4786200"/>
          </a:xfrm>
          <a:prstGeom prst="rect">
            <a:avLst/>
          </a:prstGeom>
          <a:ln w="0">
            <a:noFill/>
          </a:ln>
        </p:spPr>
      </p:pic>
      <p:sp>
        <p:nvSpPr>
          <p:cNvPr id="56" name="TextBox 1"/>
          <p:cNvSpPr/>
          <p:nvPr/>
        </p:nvSpPr>
        <p:spPr>
          <a:xfrm>
            <a:off x="684360" y="1125360"/>
            <a:ext cx="784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ar-SA" sz="6000" spc="-1" strike="noStrike">
                <a:solidFill>
                  <a:srgbClr val="ff0000"/>
                </a:solidFill>
                <a:latin typeface="Arial"/>
                <a:cs typeface="Times New Roman"/>
              </a:rPr>
              <a:t>لنراجع المحاضرة السابقة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1026"/>
          <p:cNvSpPr txBox="1"/>
          <p:nvPr/>
        </p:nvSpPr>
        <p:spPr>
          <a:xfrm rot="19378800">
            <a:off x="834840" y="2855520"/>
            <a:ext cx="6591240" cy="140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971640" y="395280"/>
            <a:ext cx="691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الأهداف المتوقع تحققها من المحاضرة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468360" y="1557360"/>
            <a:ext cx="835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لتعرف على تصنيف مواد العلوم الشرعية في مدارس التعليم العام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التدرب على تقديم هذه الدروس وفق  تخطيط نموذج الانكيت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لتدرب على تدريس مواد العلوم الشرعية بنوعيها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E:\صور\imagesCAZMJNKF.jpg"/>
          <p:cNvPicPr/>
          <p:nvPr/>
        </p:nvPicPr>
        <p:blipFill>
          <a:blip r:embed="rId1"/>
          <a:stretch/>
        </p:blipFill>
        <p:spPr>
          <a:xfrm>
            <a:off x="684360" y="5157720"/>
            <a:ext cx="20192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50920" y="220464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Calibri"/>
              </a:rPr>
              <a:t> - نصوص ( قرآن , تفسير , حديث )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Calibri"/>
              </a:rPr>
              <a:t> - موضوعات ( توحيد , فقه , ثقافة إسلامية )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0" y="549000"/>
            <a:ext cx="87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Calibri"/>
              </a:rPr>
              <a:t>  </a:t>
            </a:r>
            <a:r>
              <a:rPr b="1" lang="ar-SA" sz="4400" spc="-1" strike="noStrike">
                <a:solidFill>
                  <a:srgbClr val="ff0066"/>
                </a:solidFill>
                <a:latin typeface="Calibri"/>
              </a:rPr>
              <a:t>أولا : المحاضرة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AutoShape 2"/>
          <p:cNvSpPr/>
          <p:nvPr/>
        </p:nvSpPr>
        <p:spPr>
          <a:xfrm>
            <a:off x="250920" y="333360"/>
            <a:ext cx="8642160" cy="169236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نواع دروس مواد العلوم الشرعية في التعليم العام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C:\Users\dell\Pictures\imagesCA6C5HW6.jpg"/>
          <p:cNvPicPr/>
          <p:nvPr/>
        </p:nvPicPr>
        <p:blipFill>
          <a:blip r:embed="rId1"/>
          <a:stretch/>
        </p:blipFill>
        <p:spPr>
          <a:xfrm>
            <a:off x="0" y="4857840"/>
            <a:ext cx="26272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Calibri"/>
              </a:rPr>
              <a:t>خطوات التدريس المشتركة </a:t>
            </a:r>
            <a:br>
              <a:rPr sz="4000"/>
            </a:br>
            <a:r>
              <a:rPr b="1" lang="ar-SA" sz="4000" spc="-1" strike="noStrike">
                <a:solidFill>
                  <a:srgbClr val="ff0000"/>
                </a:solidFill>
                <a:latin typeface="Calibri"/>
              </a:rPr>
              <a:t>( نصوص – موضوعات 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24000" y="1600200"/>
            <a:ext cx="83628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حل الواجب المنزلي للدرس السابق + مراجعة شاملة للدرس السابق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لتمهيد للدرس الجديد 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( مقدمة إنشائية من العام إلى الخاص , قصة , مشهد تمثيلي , ألعاب تعليمية , مقطع مرئي 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ستنتاج موضوع الدرس الجديد وتدوينه على السبورة الصفي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عرض الأهداف المتوقع تحقيقها من الدر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6" descr="C:\Users\dell\Pictures\imagesCA4SJSEM.jpg"/>
          <p:cNvPicPr/>
          <p:nvPr/>
        </p:nvPicPr>
        <p:blipFill>
          <a:blip r:embed="rId1"/>
          <a:stretch/>
        </p:blipFill>
        <p:spPr>
          <a:xfrm>
            <a:off x="0" y="5086440"/>
            <a:ext cx="255600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Calibri"/>
              </a:rPr>
              <a:t>خطوات التدريس(  نصوص 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50560" y="1268280"/>
            <a:ext cx="82818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spcBef>
                <a:spcPts val="9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   قراءة النص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spcBef>
                <a:spcPts val="9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 توضيح معاني المفردات الغير مفهومه للطالبات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spcBef>
                <a:spcPts val="9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مناقشة الفكره العامة للنص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spcBef>
                <a:spcPts val="9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الشرح التفصيلي للنص </a:t>
            </a:r>
            <a:r>
              <a:rPr b="1" lang="ar-SA" sz="3600" spc="-1" strike="noStrike">
                <a:solidFill>
                  <a:srgbClr val="ff0000"/>
                </a:solidFill>
                <a:latin typeface="Calibri"/>
              </a:rPr>
              <a:t>( طرق تدريس متنوعة 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Calibri"/>
              </a:rPr>
              <a:t>+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 ربط بالواقع + توجيه تربوي + ربط المادة بالفروع الأخرى لمواد العلوم الشرعية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C:\Users\dell\Pictures\imagesCA3RLC5D.jpg"/>
          <p:cNvPicPr/>
          <p:nvPr/>
        </p:nvPicPr>
        <p:blipFill>
          <a:blip r:embed="rId1"/>
          <a:stretch/>
        </p:blipFill>
        <p:spPr>
          <a:xfrm>
            <a:off x="0" y="0"/>
            <a:ext cx="186696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9528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وسائل تعليمية (</a:t>
            </a:r>
            <a:r>
              <a:rPr b="1" lang="ar-SA" sz="3600" spc="-1" strike="noStrike">
                <a:solidFill>
                  <a:srgbClr val="ff0000"/>
                </a:solidFill>
                <a:latin typeface="Calibri"/>
              </a:rPr>
              <a:t> جهاز عرض , مجسمات , لوحات 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أنشطة تعليمية </a:t>
            </a:r>
            <a:r>
              <a:rPr b="1" lang="ar-SA" sz="3600" spc="-1" strike="noStrike">
                <a:solidFill>
                  <a:srgbClr val="ff0000"/>
                </a:solidFill>
                <a:latin typeface="Calibri"/>
              </a:rPr>
              <a:t>( أوراق عمل , ألعاب تعليمية , أنشطة شفهيه 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مناقشة احكام التجويد الواردة في النص </a:t>
            </a:r>
            <a:r>
              <a:rPr b="1" lang="ar-SA" sz="3600" spc="-1" strike="noStrike">
                <a:solidFill>
                  <a:srgbClr val="ff0000"/>
                </a:solidFill>
                <a:latin typeface="Calibri"/>
              </a:rPr>
              <a:t>( قرآن + تفسير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C:\Users\dell\Pictures\imagesCACYJG58.jpg"/>
          <p:cNvPicPr/>
          <p:nvPr/>
        </p:nvPicPr>
        <p:blipFill>
          <a:blip r:embed="rId1"/>
          <a:stretch/>
        </p:blipFill>
        <p:spPr>
          <a:xfrm>
            <a:off x="324000" y="5084640"/>
            <a:ext cx="30096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30T15:06:08Z</dcterms:created>
  <dc:creator>t com mahmd</dc:creator>
  <dc:description/>
  <dc:language>en-US</dc:language>
  <cp:lastModifiedBy>dell</cp:lastModifiedBy>
  <dcterms:modified xsi:type="dcterms:W3CDTF">2014-11-04T06:43:41Z</dcterms:modified>
  <cp:revision>56</cp:revision>
  <dc:subject/>
  <dc:title>الانكيت</dc:title>
</cp:coreProperties>
</file>