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CF28-DB6C-4EE2-B519-A2E65DB997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F5F4-F6FC-41F4-BFC3-6CDFFF728E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9318-6D22-45EE-B979-982A74E456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1969-3B27-48B9-AFEB-ED1F80974F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5D62-F392-43D8-A9A5-BA8BE06B84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2C34-FFC0-43E3-852B-176794337E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839-3C80-463C-B3FF-B72A86DE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75F-66A7-475F-AE6D-82124AC7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EB9-FECF-4EF1-907D-75792682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DDA-44A3-44CC-BBFB-2D5B2D5C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F89-C39F-4B27-9687-9BBA2597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272-E819-4BC3-B6C0-252FB84A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ED7-F319-447E-81D2-E4007716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347-082E-4E34-A3B9-CE5DF494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AEE-8680-4E53-9AB4-7746A2AD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39B-2931-402E-9FF7-614818D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3AB-BB16-4387-876C-816F4E74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C59-1479-4206-A02C-8ED09EC2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936C-10B3-4DE0-BE72-6F74720411D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9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عاشرة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:\1شعار القسم.JPG"/>
          <p:cNvPicPr/>
          <p:nvPr/>
        </p:nvPicPr>
        <p:blipFill>
          <a:blip r:embed="rId3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dell\Pictures\ksulogo.png"/>
          <p:cNvPicPr/>
          <p:nvPr/>
        </p:nvPicPr>
        <p:blipFill>
          <a:blip r:embed="rId4"/>
          <a:stretch/>
        </p:blipFill>
        <p:spPr>
          <a:xfrm>
            <a:off x="6084720" y="620640"/>
            <a:ext cx="244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00cc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15640" y="83664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ثالثا : اساليب تقويم المجال المهاري للمتعلم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ختبارات الأداء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ختبار الورقة والقل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ختبار التعرف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ختبار المحاكا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ختبار عينة العمل الممثلة للموقف الكلي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dell\Pictures\التقويم.png"/>
          <p:cNvPicPr/>
          <p:nvPr/>
        </p:nvPicPr>
        <p:blipFill>
          <a:blip r:embed="rId1"/>
          <a:stretch/>
        </p:blipFill>
        <p:spPr>
          <a:xfrm>
            <a:off x="468360" y="479736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0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مراحل تقويم التدري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626920" y="1773360"/>
            <a:ext cx="5824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أولاً : مرحلة التقويم القبلي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ثانيا : مرحلة التقويم البنائي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ثالثا : مرحلة التقويم البعدي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Users\dell\Pictures\images.jpg"/>
          <p:cNvPicPr/>
          <p:nvPr/>
        </p:nvPicPr>
        <p:blipFill>
          <a:blip r:embed="rId1"/>
          <a:stretch/>
        </p:blipFill>
        <p:spPr>
          <a:xfrm>
            <a:off x="250920" y="458136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04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شروط التقويم الجيد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1773360"/>
            <a:ext cx="7696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رتبط بالأهداف المنشودة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كون التقويم متنوعا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كون التقويم شاملا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تتوافر في أدوات التقويم الصدق والثبات والموضوعية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كون مستمرا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Calibri"/>
              </a:rPr>
              <a:t>أن يكون أقتصاديا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971640" y="472428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04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أهم مهارات تقويم التدري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26560" y="1844280"/>
            <a:ext cx="769644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31859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1859c"/>
                </a:solidFill>
                <a:latin typeface="Calibri"/>
              </a:rPr>
              <a:t>مراعاة التوقيت المناسب للتقو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31859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1859c"/>
                </a:solidFill>
                <a:latin typeface="Calibri"/>
              </a:rPr>
              <a:t>اختيار أدوات التقويم المناسبة لما يراد قياس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31859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1859c"/>
                </a:solidFill>
                <a:latin typeface="Calibri"/>
              </a:rPr>
              <a:t> تشجيع المتعلمين على التقويم الذات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31859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1859c"/>
                </a:solidFill>
                <a:latin typeface="Calibri"/>
              </a:rPr>
              <a:t>تعديل استراتجية التدريس تبعاً لنتائج التقويم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dell\Pictures\imagesCAOBW3NE.jpg"/>
          <p:cNvPicPr/>
          <p:nvPr/>
        </p:nvPicPr>
        <p:blipFill>
          <a:blip r:embed="rId1"/>
          <a:stretch/>
        </p:blipFill>
        <p:spPr>
          <a:xfrm>
            <a:off x="684360" y="4797360"/>
            <a:ext cx="30286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لمرجع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دخل إلى المناهج وطرق التدريس ” الفصل السابع 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1187280" y="105264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66"/>
                </a:solidFill>
                <a:latin typeface="Arial"/>
              </a:rPr>
              <a:t>شكرا لحسن استماعك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dell\Pictures\imagesCAWB1H9R.jpg"/>
          <p:cNvPicPr/>
          <p:nvPr/>
        </p:nvPicPr>
        <p:blipFill>
          <a:blip r:embed="rId1"/>
          <a:stretch/>
        </p:blipFill>
        <p:spPr>
          <a:xfrm>
            <a:off x="3203640" y="2924280"/>
            <a:ext cx="33130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900000" y="1413000"/>
            <a:ext cx="70567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ahoma"/>
                <a:cs typeface="Times New Roman"/>
              </a:rPr>
              <a:t>التقويم في تدريس العلوم الشرعية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Tahoma"/>
                <a:cs typeface="Times New Roman"/>
              </a:rPr>
              <a:t>أهدافه وأساليبه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dell\Pictures\imagesCAOBW3NE.jpg"/>
          <p:cNvPicPr/>
          <p:nvPr/>
        </p:nvPicPr>
        <p:blipFill>
          <a:blip r:embed="rId1"/>
          <a:stretch/>
        </p:blipFill>
        <p:spPr>
          <a:xfrm>
            <a:off x="826920" y="508464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5280" y="549360"/>
            <a:ext cx="835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فهوم تقويم التدري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في اللغة :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ن قومَ الشيء بمعنى عدل مساره للجهه المرغوب فيها , وأصلح نقاط الاعوجاج والقصور فيه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:\Users\dell\Pictures\999.png"/>
          <p:cNvPicPr/>
          <p:nvPr/>
        </p:nvPicPr>
        <p:blipFill>
          <a:blip r:embed="rId1"/>
          <a:stretch/>
        </p:blipFill>
        <p:spPr>
          <a:xfrm>
            <a:off x="250920" y="4869000"/>
            <a:ext cx="3429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5280" y="549360"/>
            <a:ext cx="8352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فهوم تقويم التدري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التقويم التربوي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عملية منظومية يتم من خلالها إصدار حكم دقيق وموضوعي , على منظومة تربوية معينة أو على أحد عناصرها , بغية اتخاذ قرارات تتعلق بإدخال تعديل أو إصلاح لما يتم الكشف عنه من قصور وخل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C:\Users\dell\Pictures\999.png"/>
          <p:cNvPicPr/>
          <p:nvPr/>
        </p:nvPicPr>
        <p:blipFill>
          <a:blip r:embed="rId1"/>
          <a:stretch/>
        </p:blipFill>
        <p:spPr>
          <a:xfrm>
            <a:off x="324000" y="515772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سهم في تطوير منظومة التدري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ساعد المعلم للتعرف على مدى اتقان الطلاب للمعارف والمهار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ساعد المعلم للتعرف على مهاراته التدريسية وكيفية تطوير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ساعد أولياء الأمور للتعرف على ما أحرزه أبنائهم من تقد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ساعد نتائج التقويم على تحسين التخطيط بوجه عام للعملية التعلي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200720" cy="1219320"/>
          </a:xfrm>
          <a:prstGeom prst="rect">
            <a:avLst/>
          </a:prstGeom>
          <a:solidFill>
            <a:srgbClr val="e6b9b8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همية تقويم التدري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9B45-D1DD-4327-AB48-CAB61E7008B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936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أساليب تقويم التدري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ولاً : أساليب تقويم المجال المعرفي للمتعل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9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      الاختبارات التحصيلية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أ. الاختبارات الشفهي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ب . الاختبارات التحريرية 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قال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وضوعي  ( الصواب والخطأ , الاختيار من متعدد , المزاوجه , التكملة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4360" y="126828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1484280"/>
            <a:ext cx="770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C:\Users\dell\Pictures\التقويم.png"/>
          <p:cNvPicPr/>
          <p:nvPr/>
        </p:nvPicPr>
        <p:blipFill>
          <a:blip r:embed="rId1"/>
          <a:stretch/>
        </p:blipFill>
        <p:spPr>
          <a:xfrm>
            <a:off x="324000" y="256536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cc00cc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42920" y="1143000"/>
            <a:ext cx="5995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ثانيا : أساليب تقويم المجال الوجداني للمتعلم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مقاييس الاتجاهات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مقياس ليكرت للاتجاها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C:\Users\dell\Pictures\التقويم 2.jpg"/>
          <p:cNvPicPr/>
          <p:nvPr/>
        </p:nvPicPr>
        <p:blipFill>
          <a:blip r:embed="rId1"/>
          <a:stretch/>
        </p:blipFill>
        <p:spPr>
          <a:xfrm>
            <a:off x="179280" y="4869000"/>
            <a:ext cx="262908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موذج لمقياس اتجا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96720" y="1413000"/>
          <a:ext cx="8301240" cy="3779640"/>
        </p:xfrm>
        <a:graphic>
          <a:graphicData uri="http://schemas.openxmlformats.org/drawingml/2006/table">
            <a:tbl>
              <a:tblPr/>
              <a:tblGrid>
                <a:gridCol w="1384560"/>
                <a:gridCol w="1382760"/>
                <a:gridCol w="1384200"/>
                <a:gridCol w="1382760"/>
                <a:gridCol w="1201680"/>
                <a:gridCol w="1565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عارض بشد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عار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محاي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واف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وافق بشد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العبار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أقبل على دارسة اللغة العربية بلهفة وشو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12-04T05:01:52Z</dcterms:modified>
  <cp:revision>99</cp:revision>
  <dc:subject/>
  <dc:title>الانكيت</dc:title>
</cp:coreProperties>
</file>