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527F-31E4-44EC-A60B-B9D0E87E9C5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7145-2F0D-446A-BB5B-C1AE27B61D3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8593-3B97-4438-9198-72C5CBC57B1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2E4E-6C93-47F6-A007-6A19E4A4240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11B7-2DE6-402C-B077-5694024DF43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14C7-C158-4D85-BD09-43760EEAE78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4BBC-0897-4E9E-B084-3D0134CB1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C988-F4C5-4FFF-9150-E3109D40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7220-0D7D-445A-8309-0E316538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A23F-4480-4978-AFC1-290481A6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ED9D-7B43-4722-8B3E-51568811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B04F-F9F4-4C6C-8405-28B18C58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CA41-6CFA-4FAF-BC96-6308297C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D0A8-3345-4574-B0FD-1866299F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3C5D-5962-40FB-9480-999E0E6E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4D51-17D5-4527-83A7-4AA35F69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61E4-A8D2-4135-A1A1-4E0185C8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5E77-CEDE-4961-BEFA-853902E0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5802-76BF-4353-9403-41E42F017C64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3" descr="ش.jpg"/>
          <p:cNvPicPr/>
          <p:nvPr/>
        </p:nvPicPr>
        <p:blipFill>
          <a:blip r:embed="rId1"/>
          <a:stretch/>
        </p:blipFill>
        <p:spPr>
          <a:xfrm>
            <a:off x="1278000" y="774720"/>
            <a:ext cx="3511440" cy="31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صورة 2" descr="ش.jpg"/>
          <p:cNvPicPr/>
          <p:nvPr/>
        </p:nvPicPr>
        <p:blipFill>
          <a:blip r:embed="rId2"/>
          <a:stretch/>
        </p:blipFill>
        <p:spPr>
          <a:xfrm>
            <a:off x="2556000" y="3527280"/>
            <a:ext cx="561636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0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مستطيل 8"/>
          <p:cNvSpPr/>
          <p:nvPr/>
        </p:nvSpPr>
        <p:spPr>
          <a:xfrm>
            <a:off x="468360" y="1916280"/>
            <a:ext cx="777564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مقرر</a:t>
            </a:r>
            <a:r>
              <a:rPr b="1" lang="en-US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: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 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356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نهج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تعليم وتعلم العلوم الشرعية 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الفصل الدراسي الأول  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8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\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98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ه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ff0000"/>
                </a:solidFill>
                <a:uFillTx/>
                <a:latin typeface="Agency FB"/>
                <a:cs typeface="Times New Roman"/>
              </a:rPr>
              <a:t>المحاضرة العاشرة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H:\1شعار القسم.JPG"/>
          <p:cNvPicPr/>
          <p:nvPr/>
        </p:nvPicPr>
        <p:blipFill>
          <a:blip r:embed="rId3"/>
          <a:stretch/>
        </p:blipFill>
        <p:spPr>
          <a:xfrm>
            <a:off x="317520" y="255600"/>
            <a:ext cx="1882800" cy="1476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C:\Users\dell\Pictures\ksulogo.png"/>
          <p:cNvPicPr/>
          <p:nvPr/>
        </p:nvPicPr>
        <p:blipFill>
          <a:blip r:embed="rId4"/>
          <a:stretch/>
        </p:blipFill>
        <p:spPr>
          <a:xfrm>
            <a:off x="6084720" y="620640"/>
            <a:ext cx="244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cc00cc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115640" y="836640"/>
            <a:ext cx="7651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ثالثا : اساليب تقويم المجال المهاري للمتعلم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اختبارات الأداء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 اختبار الورقة والقلم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 اختبار التعرف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 اختبار المحاكاة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 اختبار عينة العمل الممثلة للموقف الكلي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Users\dell\Pictures\التقويم.png"/>
          <p:cNvPicPr/>
          <p:nvPr/>
        </p:nvPicPr>
        <p:blipFill>
          <a:blip r:embed="rId1"/>
          <a:stretch/>
        </p:blipFill>
        <p:spPr>
          <a:xfrm>
            <a:off x="468360" y="4797360"/>
            <a:ext cx="24764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304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مراحل تقويم التدري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626920" y="1773360"/>
            <a:ext cx="582444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7375e"/>
                </a:solidFill>
                <a:latin typeface="Calibri"/>
              </a:rPr>
              <a:t>أولاً : مرحلة التقويم القبلي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7375e"/>
                </a:solidFill>
                <a:latin typeface="Calibri"/>
              </a:rPr>
              <a:t>ثانيا : مرحلة التقويم البنائي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7375e"/>
                </a:solidFill>
                <a:latin typeface="Calibri"/>
              </a:rPr>
              <a:t>ثالثا : مرحلة التقويم البعدي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C:\Users\dell\Pictures\images.jpg"/>
          <p:cNvPicPr/>
          <p:nvPr/>
        </p:nvPicPr>
        <p:blipFill>
          <a:blip r:embed="rId1"/>
          <a:stretch/>
        </p:blipFill>
        <p:spPr>
          <a:xfrm>
            <a:off x="250920" y="458136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304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شروط التقويم الجيد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55640" y="1773360"/>
            <a:ext cx="76960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80000"/>
              </a:lnSpc>
              <a:spcBef>
                <a:spcPts val="1001"/>
              </a:spcBef>
              <a:buClr>
                <a:srgbClr val="4f622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Calibri"/>
              </a:rPr>
              <a:t>أن يرتبط بالأهداف المنشودة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80000"/>
              </a:lnSpc>
              <a:spcBef>
                <a:spcPts val="1001"/>
              </a:spcBef>
              <a:buClr>
                <a:srgbClr val="4f622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Calibri"/>
              </a:rPr>
              <a:t>أن يكون التقويم متنوعا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80000"/>
              </a:lnSpc>
              <a:spcBef>
                <a:spcPts val="1001"/>
              </a:spcBef>
              <a:buClr>
                <a:srgbClr val="4f622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Calibri"/>
              </a:rPr>
              <a:t>أن يكون التقويم شاملا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80000"/>
              </a:lnSpc>
              <a:spcBef>
                <a:spcPts val="1001"/>
              </a:spcBef>
              <a:buClr>
                <a:srgbClr val="4f622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Calibri"/>
              </a:rPr>
              <a:t>أن تتوافر في أدوات التقويم الصدق والثبات والموضوعية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80000"/>
              </a:lnSpc>
              <a:spcBef>
                <a:spcPts val="1001"/>
              </a:spcBef>
              <a:buClr>
                <a:srgbClr val="4f622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Calibri"/>
              </a:rPr>
              <a:t>أن يكون مستمرا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80000"/>
              </a:lnSpc>
              <a:spcBef>
                <a:spcPts val="1001"/>
              </a:spcBef>
              <a:buClr>
                <a:srgbClr val="4f622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Calibri"/>
              </a:rPr>
              <a:t>أن يكون أقتصاديا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C:\Users\dell\Pictures\imagesCAOBW3NE.jpg"/>
          <p:cNvPicPr/>
          <p:nvPr/>
        </p:nvPicPr>
        <p:blipFill>
          <a:blip r:embed="rId1"/>
          <a:stretch/>
        </p:blipFill>
        <p:spPr>
          <a:xfrm>
            <a:off x="971640" y="4724280"/>
            <a:ext cx="30290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3044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أهم مهارات تقويم التدري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26560" y="1844280"/>
            <a:ext cx="769644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901"/>
              </a:spcBef>
              <a:buClr>
                <a:srgbClr val="31859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1859c"/>
                </a:solidFill>
                <a:latin typeface="Calibri"/>
              </a:rPr>
              <a:t>مراعاة التوقيت المناسب للتقويم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901"/>
              </a:spcBef>
              <a:buClr>
                <a:srgbClr val="31859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1859c"/>
                </a:solidFill>
                <a:latin typeface="Calibri"/>
              </a:rPr>
              <a:t>اختيار أدوات التقويم المناسبة لما يراد قياسه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901"/>
              </a:spcBef>
              <a:buClr>
                <a:srgbClr val="31859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1859c"/>
                </a:solidFill>
                <a:latin typeface="Calibri"/>
              </a:rPr>
              <a:t> تشجيع المتعلمين على التقويم الذاتي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901"/>
              </a:spcBef>
              <a:buClr>
                <a:srgbClr val="31859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1859c"/>
                </a:solidFill>
                <a:latin typeface="Calibri"/>
              </a:rPr>
              <a:t>تعديل استراتجية التدريس تبعاً لنتائج التقويم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Users\dell\Pictures\imagesCAOBW3NE.jpg"/>
          <p:cNvPicPr/>
          <p:nvPr/>
        </p:nvPicPr>
        <p:blipFill>
          <a:blip r:embed="rId1"/>
          <a:stretch/>
        </p:blipFill>
        <p:spPr>
          <a:xfrm>
            <a:off x="684360" y="4797360"/>
            <a:ext cx="302868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المرجع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مدخل إلى المناهج وطرق التدريس ” الفصل السابع ”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2"/>
          <p:cNvSpPr/>
          <p:nvPr/>
        </p:nvSpPr>
        <p:spPr>
          <a:xfrm>
            <a:off x="1187280" y="105264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66"/>
                </a:solidFill>
                <a:latin typeface="Arial"/>
              </a:rPr>
              <a:t>شكرا لحسن استماعكن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C:\Users\dell\Pictures\imagesCAWB1H9R.jpg"/>
          <p:cNvPicPr/>
          <p:nvPr/>
        </p:nvPicPr>
        <p:blipFill>
          <a:blip r:embed="rId1"/>
          <a:stretch/>
        </p:blipFill>
        <p:spPr>
          <a:xfrm>
            <a:off x="3203640" y="2924280"/>
            <a:ext cx="331308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900000" y="1413000"/>
            <a:ext cx="705672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ahoma"/>
                <a:cs typeface="Times New Roman"/>
              </a:rPr>
              <a:t>التقويم في تدريس العلوم الشرعية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0000"/>
                </a:solidFill>
                <a:latin typeface="Tahoma"/>
                <a:cs typeface="Times New Roman"/>
              </a:rPr>
              <a:t>أهدافه وأساليبه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C:\Users\dell\Pictures\imagesCAOBW3NE.jpg"/>
          <p:cNvPicPr/>
          <p:nvPr/>
        </p:nvPicPr>
        <p:blipFill>
          <a:blip r:embed="rId1"/>
          <a:stretch/>
        </p:blipFill>
        <p:spPr>
          <a:xfrm>
            <a:off x="826920" y="5084640"/>
            <a:ext cx="30290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G:\Pictures\50232_105909019482389_4608592_n.jpg"/>
          <p:cNvPicPr/>
          <p:nvPr/>
        </p:nvPicPr>
        <p:blipFill>
          <a:blip r:embed="rId1"/>
          <a:stretch/>
        </p:blipFill>
        <p:spPr>
          <a:xfrm>
            <a:off x="0" y="207180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684360" y="112536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6000" spc="-1" strike="noStrike">
                <a:solidFill>
                  <a:srgbClr val="ff0000"/>
                </a:solidFill>
                <a:latin typeface="Arial"/>
                <a:cs typeface="Times New Roman"/>
              </a:rPr>
              <a:t>لنراجع المحاضرة السابقة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1026"/>
          <p:cNvSpPr txBox="1"/>
          <p:nvPr/>
        </p:nvSpPr>
        <p:spPr>
          <a:xfrm rot="19378800">
            <a:off x="834840" y="2855520"/>
            <a:ext cx="6591240" cy="14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395280" y="549360"/>
            <a:ext cx="8352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buClr>
                <a:srgbClr val="7030a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مفهوم تقويم التدري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في اللغة :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من قومَ الشيء بمعنى عدل مساره للجهه المرغوب فيها , وأصلح نقاط الاعوجاج والقصور فيه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C:\Users\dell\Pictures\999.png"/>
          <p:cNvPicPr/>
          <p:nvPr/>
        </p:nvPicPr>
        <p:blipFill>
          <a:blip r:embed="rId1"/>
          <a:stretch/>
        </p:blipFill>
        <p:spPr>
          <a:xfrm>
            <a:off x="250920" y="4869000"/>
            <a:ext cx="34290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1026"/>
          <p:cNvSpPr txBox="1"/>
          <p:nvPr/>
        </p:nvSpPr>
        <p:spPr>
          <a:xfrm rot="19378800">
            <a:off x="834840" y="2855520"/>
            <a:ext cx="6591240" cy="14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395280" y="549360"/>
            <a:ext cx="835200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buClr>
                <a:srgbClr val="7030a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مفهوم تقويم التدري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 التقويم التربوي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و عملية منظومية يتم من خلالها إصدار حكم دقيق وموضوعي , على منظومة تربوية معينة أو على أحد عناصرها , بغية اتخاذ قرارات تتعلق بإدخال تعديل أو إصلاح لما يتم الكشف عنه من قصور وخلل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C:\Users\dell\Pictures\999.png"/>
          <p:cNvPicPr/>
          <p:nvPr/>
        </p:nvPicPr>
        <p:blipFill>
          <a:blip r:embed="rId1"/>
          <a:stretch/>
        </p:blipFill>
        <p:spPr>
          <a:xfrm>
            <a:off x="324000" y="5157720"/>
            <a:ext cx="2016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يسهم في تطوير منظومة التدري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يساعد المعلم للتعرف على مدى اتقان الطلاب للمعارف والمهارات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يساعد المعلم للتعرف على مهاراته التدريسية وكيفية تطويرها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يساعد أولياء الأمور للتعرف على ما أحرزه أبنائهم من تقدم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ساعد نتائج التقويم على تحسين التخطيط بوجه عام للعملية التعليم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200720" cy="1219320"/>
          </a:xfrm>
          <a:prstGeom prst="rect">
            <a:avLst/>
          </a:prstGeom>
          <a:solidFill>
            <a:srgbClr val="e6b9b8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أهمية تقويم التدري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A433-8C1E-4CFB-BF25-168D2EECCFF7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920000" cy="93672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أساليب تقويم التدري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14716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أولاً : أساليب تقويم المجال المعرفي للمتعلم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 rtl="1">
              <a:spcBef>
                <a:spcPts val="9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       الاختبارات التحصيلية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        أ. الاختبارات الشفهيه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        ب . الاختبارات التحريرية 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 المقالي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 الموضوعي  ( الصواب والخطأ , الاختيار من متعدد , المزاوجه , التكملة 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684360" y="126828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68360" y="1484280"/>
            <a:ext cx="770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C:\Users\dell\Pictures\التقويم.png"/>
          <p:cNvPicPr/>
          <p:nvPr/>
        </p:nvPicPr>
        <p:blipFill>
          <a:blip r:embed="rId1"/>
          <a:stretch/>
        </p:blipFill>
        <p:spPr>
          <a:xfrm>
            <a:off x="324000" y="2565360"/>
            <a:ext cx="24764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cc00cc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842920" y="1143000"/>
            <a:ext cx="5995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ثانيا : أساليب تقويم المجال الوجداني للمتعلم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مقاييس الاتجاهات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            مقياس ليكرت للاتجاهات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C:\Users\dell\Pictures\التقويم 2.jpg"/>
          <p:cNvPicPr/>
          <p:nvPr/>
        </p:nvPicPr>
        <p:blipFill>
          <a:blip r:embed="rId1"/>
          <a:stretch/>
        </p:blipFill>
        <p:spPr>
          <a:xfrm>
            <a:off x="179280" y="4869000"/>
            <a:ext cx="2629080" cy="17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نموذج لمقياس اتجاه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96720" y="1413000"/>
          <a:ext cx="8301240" cy="3779640"/>
        </p:xfrm>
        <a:graphic>
          <a:graphicData uri="http://schemas.openxmlformats.org/drawingml/2006/table">
            <a:tbl>
              <a:tblPr/>
              <a:tblGrid>
                <a:gridCol w="1384560"/>
                <a:gridCol w="1382760"/>
                <a:gridCol w="1384200"/>
                <a:gridCol w="1382760"/>
                <a:gridCol w="1201680"/>
                <a:gridCol w="1565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أعارض بشد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أعار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محايد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أواف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أوافق بشد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العبار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أقبل على دارسة اللغة العربية بلهفة وشو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15:06:08Z</dcterms:created>
  <dc:creator>t com mahmd</dc:creator>
  <dc:description/>
  <dc:language>en-US</dc:language>
  <cp:lastModifiedBy>dell</cp:lastModifiedBy>
  <dcterms:modified xsi:type="dcterms:W3CDTF">2017-12-04T05:01:52Z</dcterms:modified>
  <cp:revision>99</cp:revision>
  <dc:subject/>
  <dc:title>الانكيت</dc:title>
</cp:coreProperties>
</file>