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F66-977E-4BD2-8BCC-DDAA8FD6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CBF-8A9F-41FF-B4F3-FFEB81A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522-9A1E-4914-9907-CEE57C8D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929-799F-4603-BC68-3DE955CA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B1C-2E32-4690-8DB6-10B4F21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323-AD4B-49B3-90A5-8DBFD97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A37-5BFD-4646-B3D0-4D623163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F62-55EB-4D0F-AF41-1825D356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BF9-80F4-4E8F-B1B4-853DA41D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928-E04C-465E-8523-6A34DA5B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7D8-B317-408C-AA07-107D7B7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44A-3EC9-465C-AE06-5731C28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E5E-77F2-438E-8271-02F4C546993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9" name="مستطيل 8"/>
          <p:cNvSpPr/>
          <p:nvPr/>
        </p:nvSpPr>
        <p:spPr>
          <a:xfrm>
            <a:off x="468360" y="1916280"/>
            <a:ext cx="777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52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صورة 2" descr="ش.jpg"/>
          <p:cNvPicPr/>
          <p:nvPr/>
        </p:nvPicPr>
        <p:blipFill>
          <a:blip r:embed="rId3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28908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خطيط الدروس وفق نموذج الانكيت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1" name="Object 1028"/>
          <p:cNvGraphicFramePr/>
          <p:nvPr/>
        </p:nvGraphicFramePr>
        <p:xfrm>
          <a:off x="5791320" y="5035680"/>
          <a:ext cx="28303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035680"/>
                    <a:ext cx="28303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6"/>
          <p:cNvSpPr/>
          <p:nvPr/>
        </p:nvSpPr>
        <p:spPr>
          <a:xfrm>
            <a:off x="1835280" y="395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مفهوم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سبب اعتماد تحضير الانكيت في كلية الترب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التدرب على اعداد الدروس بطريقة تحضير الانكي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الانكيت هي عبارة عن منظمة دولية تهتم باعتماد برامج اعداد المعلمين والتخصصات الأخرى التي سيعمل خريجها في قطاع التعلي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476360" y="297000"/>
            <a:ext cx="6624720" cy="1692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فهوم الانكي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30" descr="PE01561_"/>
          <p:cNvPicPr/>
          <p:nvPr/>
        </p:nvPicPr>
        <p:blipFill>
          <a:blip r:embed="rId1"/>
          <a:stretch/>
        </p:blipFill>
        <p:spPr>
          <a:xfrm>
            <a:off x="179280" y="3760920"/>
            <a:ext cx="4362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هيئة الانكيت على إحداث فرق واضح وملموس في نوعية التعليم من حيث تحسين مستوى المعلمين الذين يتم اعدادهم لمهنة المستقب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نطلق هذا العمل من نتائج الدراسات الكثيرة التي أشارت إلى أن الإعداد الجيد للمعلم يعتبر من العوامل الهامة جدا في رفع مستوى تحصيل تلاميذ المدار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ct 1" descr=""/>
          <p:cNvPicPr/>
          <p:nvPr/>
        </p:nvPicPr>
        <p:blipFill>
          <a:blip r:embed="rId1"/>
          <a:stretch/>
        </p:blipFill>
        <p:spPr>
          <a:xfrm>
            <a:off x="108000" y="4437000"/>
            <a:ext cx="3244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 مزايا تخطيط الدرس بالانكي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يز هذا النوع من التحضير بأنه لا تنتهي مهمته بمجرد الانتهاء من شرح الدرس , بل هو يستمر لمرحلة ما بعد شرح الدرس ليعود المعلم إلى نموذج التحضير مرة أخرى ليقوم بتقييم الدرس وكافة مجرياته , ويضع مقترحات للتحسين والتطوير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نشـــــــــــــــــــــــــــــــــــــاط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عدي بالتعاون مع زميلاتك أحد الدروس بطريقة الانكي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4653000"/>
            <a:ext cx="3203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2-10T06:16:51Z</dcterms:modified>
  <cp:revision>51</cp:revision>
  <dc:subject/>
  <dc:title>الانكيت</dc:title>
</cp:coreProperties>
</file>