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BD2-DD79-4BBF-9E28-39B0C779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063-FCE8-4FFE-9905-8C3111E9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CD0-B2EE-44AA-9CF8-6FF9D35B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D29-A35F-4E80-A2F0-9425D646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581-8529-4649-B96D-A03B1DD0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FB9-6F95-4C8B-ADA3-EE61C65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868-14C1-45F9-A12D-BC05E3E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55F-00C0-4FC2-AC9B-BE72045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C60-BD5C-493B-B42B-BAD51E2A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C16-302B-4339-93A3-A954563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B1F-A458-45F3-BFE6-A2DB775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68B-C6DC-44AE-93A1-44F00D8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CAA-F9C8-4E40-A9E6-38509FA7B11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خطيط الدروس وفق نموذج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1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خطيط الدرس ب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نشـــــــــــــــــــــــــــــــــــــا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2-10T06:16:51Z</dcterms:modified>
  <cp:revision>51</cp:revision>
  <dc:subject/>
  <dc:title>الانكيت</dc:title>
</cp:coreProperties>
</file>