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42001-B035-4282-8399-3C299072D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5928D-64C6-4080-BF24-826195E9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14220-E9F8-4CB2-AB02-03135C8E4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3A3F2-0262-4C79-87D7-301FE7937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4B068-65F5-4E9D-8E3A-02D6084F0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8F83A-D28A-4C12-8B5B-F5DF02EBA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4E423-506F-4125-8D44-3219240E9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DC92D-78A9-4FAE-BEE1-7B591779E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B4CEF-E2A9-450B-9BFE-E5BD0334E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76C8D-7563-47E8-90B9-D8667E855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141FA-E042-4B43-B412-5B5522E73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8324-A2B1-45DA-9759-87F0F4E1C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44389-CFFF-4DAC-BFC8-8CB8A1E5E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71F96-FF4C-4A66-9313-085F7906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A1349-A913-44B7-9115-F25AC5F24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D141E-E1C3-4BC3-83C9-EE2344EAE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923B5-F3E9-47D3-95F1-0902799A3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6CCE8-CE50-452D-827D-5C668C2FAE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2CA56-6FF4-4663-A4B3-04DB17AE1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ECF25-2C77-45DB-8B72-6FB434A32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B4967-8703-42F2-8F8A-7B8DEC824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5BAB2-9A59-4888-8E03-3E84CDCDC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F704-7064-4733-9D30-4CDC9544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D0116-AC19-41B4-AA3E-06B671195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AFA1B-7155-452E-9290-0ABFF8566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21250-1397-4ACE-A956-61E6A2664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F36C0-DC0C-4AB9-AC7B-722A26E13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1695A-D00E-4E3E-B2DA-B765E96EA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96734-56F6-47B3-AFD9-346A7EF96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61633-081F-49C4-B271-57727C25D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AA6CF1-E97E-45F9-8C1C-90A8CE1C4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2F4DA-D1D7-4DF6-9AC7-AC7868A2F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F51AA-5CEB-4559-85EF-CE24951730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A820-E23C-435B-BBA1-C5EFC6B4A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99BCA-A44D-45F9-907D-405DCCA97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165DA-CE20-40C0-BEF6-FA14F8E8C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5DA18-7931-48B2-9684-AEC30D752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A5B40-59AD-4DB6-9B0C-93FA29FCA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D1B5A-902F-48EA-A6BC-D05B10547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72B90-C115-4067-8AFC-5A0F68EE1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BA516-9523-476A-8B65-6ABDD9263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3DBCA9-A547-4967-ADCD-AD5AE41D66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4A420D-C9E7-4230-BC52-009449FFC1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F3C0-3020-4994-A4E7-CDC04135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2D012-E9D1-4CC2-96B5-DD2EA7EB2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039A-F5F0-4342-A24D-3B4DFCF8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CE8C-CD3E-4022-A824-675725F6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85F2-231E-4A97-8038-599FF1BFE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A2D2-A413-41ED-9C19-F40EE3E4365A}"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F3A7-9B23-4688-98F3-A01FB2ACB981}"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F3D0-7420-4797-8D54-B30E9D5ED7CA}"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FAA6-11BA-4B83-941A-96086A2ACB57}"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ثالثة والراب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pic>
        <p:nvPicPr>
          <p:cNvPr id="214" name="عنصر نائب للمحتوى 3" descr=""/>
          <p:cNvPicPr/>
          <p:nvPr/>
        </p:nvPicPr>
        <p:blipFill>
          <a:blip r:embed="rId1"/>
          <a:stretch/>
        </p:blipFill>
        <p:spPr>
          <a:xfrm>
            <a:off x="450720" y="1663560"/>
            <a:ext cx="8242560" cy="467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54900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تصنيف البحوث حسب التصميم</a:t>
            </a:r>
            <a:endParaRPr b="0" lang="en-US" sz="4500" spc="-1" strike="noStrike">
              <a:solidFill>
                <a:srgbClr val="04617b"/>
              </a:solidFill>
              <a:latin typeface="Calibri"/>
            </a:endParaRPr>
          </a:p>
        </p:txBody>
      </p:sp>
      <p:sp>
        <p:nvSpPr>
          <p:cNvPr id="216" name=""/>
          <p:cNvSpPr txBox="1"/>
          <p:nvPr/>
        </p:nvSpPr>
        <p:spPr>
          <a:xfrm>
            <a:off x="178920" y="1267920"/>
            <a:ext cx="8713800" cy="5256360"/>
          </a:xfrm>
          <a:prstGeom prst="rect">
            <a:avLst/>
          </a:prstGeom>
          <a:noFill/>
          <a:ln w="0">
            <a:noFill/>
          </a:ln>
        </p:spPr>
        <p:txBody>
          <a:bodyPr anchor="t">
            <a:normAutofit fontScale="96000"/>
          </a:bodyPr>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بعض أنواع الدراسات الوصفي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1</a:t>
            </a:r>
            <a:r>
              <a:rPr b="1" lang="ar-SA" sz="2600" spc="-1" strike="noStrike" u="sng">
                <a:solidFill>
                  <a:srgbClr val="03495c"/>
                </a:solidFill>
                <a:uFillTx/>
                <a:latin typeface="Constantia"/>
              </a:rPr>
              <a:t>- الدراسات المسحية: </a:t>
            </a:r>
            <a:r>
              <a:rPr b="0" lang="ar-SA" sz="2600" spc="-1" strike="noStrike">
                <a:solidFill>
                  <a:srgbClr val="000000"/>
                </a:solidFill>
                <a:latin typeface="Constantia"/>
              </a:rPr>
              <a:t>وهي الدراسات التي تتم من خلال جمع معلومات وبيانات عن ظاهرة ما، بهدف التعرف إلى تلك الظاهرة وتحديد الوضع الحالي لها، والتعرف إلى جوانب القوة والضعف فيها، ويستخدم أدوات مثل الاستبيان والملاحظة والمقابلة والاختبار، ومن الأمثلة: المسح المدرسي، الاجتماعي، رأي عام.</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مثلاً: إذا قام باحث بدراسة مسحية لاتجاهات الطلبة نحو المدرسة فإن هذه الدراسة قد تعطي مؤشراً صادقاً عن مدى نجاح النظام المدرسي في تزويد الطلبة باحتياجاتهم، وهذا يساعد في الحكم على السياسة الحالية التي تتبعها المدرسة، وتحديد نقاط القوة للتأكيد عليها ونقاط الضعف لمعالجت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4617b"/>
                </a:solidFill>
                <a:latin typeface="Calibri"/>
              </a:rPr>
              <a:t>تصنيف البحوث حسب التصميم</a:t>
            </a:r>
            <a:br>
              <a:rPr sz="4000"/>
            </a:br>
            <a:r>
              <a:rPr b="0"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pic>
        <p:nvPicPr>
          <p:cNvPr id="218" name="عنصر نائب للمحتوى 3" descr=""/>
          <p:cNvPicPr/>
          <p:nvPr/>
        </p:nvPicPr>
        <p:blipFill>
          <a:blip r:embed="rId1"/>
          <a:stretch/>
        </p:blipFill>
        <p:spPr>
          <a:xfrm>
            <a:off x="603360" y="1938240"/>
            <a:ext cx="8242200" cy="455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6202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0" name=""/>
          <p:cNvSpPr txBox="1"/>
          <p:nvPr/>
        </p:nvSpPr>
        <p:spPr>
          <a:xfrm>
            <a:off x="178920" y="1773000"/>
            <a:ext cx="8713800" cy="4895640"/>
          </a:xfrm>
          <a:prstGeom prst="rect">
            <a:avLst/>
          </a:prstGeom>
          <a:noFill/>
          <a:ln w="0">
            <a:noFill/>
          </a:ln>
        </p:spPr>
        <p:txBody>
          <a:bodyPr anchor="t">
            <a:normAutofit fontScale="95000"/>
          </a:bodyPr>
          <a:p>
            <a:pPr marL="259200" indent="-25920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أولاً: البحث الوصفي:</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دراسات العلاقات: </a:t>
            </a:r>
            <a:r>
              <a:rPr b="0" lang="ar-SA" sz="2600" spc="-1" strike="noStrike">
                <a:solidFill>
                  <a:srgbClr val="000000"/>
                </a:solidFill>
                <a:latin typeface="Constantia"/>
              </a:rPr>
              <a:t>تهتم بدراسة العلاقات بين الظواهر والتعمق فيها لمعرفة الارتباطات الداخلية في هذه الظواهر والارتباطات الخارجية بينها وبين الظواهر الأخرى.</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من أشكال دراسة العلاقات:</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 دراسة الحالة: </a:t>
            </a:r>
            <a:r>
              <a:rPr b="0" lang="ar-SA" sz="2600" spc="-1" strike="noStrike">
                <a:solidFill>
                  <a:srgbClr val="000000"/>
                </a:solidFill>
                <a:latin typeface="Constantia"/>
              </a:rPr>
              <a:t>تهتم بحالة فرد أو جماعة أو مؤسسة من خلال جمع معلومات عن الوضع الحالي والأوضاع السابقة لها بأسلوب معمق. وتستلزم أحياناً اشتراك فريق من تخصصات مختلفة، لكل فرد دور يقوم به ويجمع من خلال هذا الدور بيانات عن الحالة. </a:t>
            </a:r>
            <a:r>
              <a:rPr b="0" lang="ar-SA" sz="2600" spc="-1" strike="noStrike" u="sng">
                <a:solidFill>
                  <a:srgbClr val="000000"/>
                </a:solidFill>
                <a:uFillTx/>
                <a:latin typeface="Constantia"/>
              </a:rPr>
              <a:t>مثال: </a:t>
            </a:r>
            <a:r>
              <a:rPr b="0" lang="ar-SA" sz="2600" spc="-1" strike="noStrike">
                <a:solidFill>
                  <a:srgbClr val="000000"/>
                </a:solidFill>
                <a:latin typeface="Constantia"/>
              </a:rPr>
              <a:t>دراسة حالة الضعف في التحصيل لدى طالب في الصف الثاني، من المفترض أن يشترك في الدراسة المعلم والمدير والمرشد وولي الأم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2" name=""/>
          <p:cNvSpPr txBox="1"/>
          <p:nvPr/>
        </p:nvSpPr>
        <p:spPr>
          <a:xfrm>
            <a:off x="178920" y="1916280"/>
            <a:ext cx="8713800" cy="4752720"/>
          </a:xfrm>
          <a:prstGeom prst="rect">
            <a:avLst/>
          </a:prstGeom>
          <a:noFill/>
          <a:ln w="0">
            <a:noFill/>
          </a:ln>
        </p:spPr>
        <p:txBody>
          <a:bodyPr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ب- الدراسات العلية المقارن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بحث بشكل جاد عن أسباب حدوث الظاهرة عن طريق إجراء مقارنات بين الظواهر المختلفة لاكتشاف العوامل التي تصاحب الحدث.</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ي هذا النوع على الباحث أن يبحث عن العلاقة السببية (علاقة السبب بالنتيج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دراسة أسباب ضعف تحصيل الطلبة في الرياضيات وكانت النتيجة أن الطريقة التقليدية في التدريس عامل مهم في ضعف تحصيل الطل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ب- الدراسات الارتباط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هتم بالكشف عن العلاقات بين متغيرين أو أكثر لمعرفة مدى الارتباط بين هذه المتغيرات والتعبير عنها كمياً من خلال معاملات الارتباط بين المتغيرات أو بين مستويات المتغير الواحد.</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دراسة علاقة الذكاء بالتحصيل في الرياضيات على عينة من طلبة الصف التاسع كأن يجد معامل الارتباط بين المتغيرين باستخدام معادلات رياضية خاصة ومن خلال النتيجة التي يحصل عليها يستطيع الحكم لى اتجاه وقوة العلاق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pic>
        <p:nvPicPr>
          <p:cNvPr id="226" name="عنصر نائب للمحتوى 3" descr=""/>
          <p:cNvPicPr/>
          <p:nvPr/>
        </p:nvPicPr>
        <p:blipFill>
          <a:blip r:embed="rId1"/>
          <a:stretch/>
        </p:blipFill>
        <p:spPr>
          <a:xfrm>
            <a:off x="603360" y="1908000"/>
            <a:ext cx="8242200" cy="458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475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8" name=""/>
          <p:cNvSpPr txBox="1"/>
          <p:nvPr/>
        </p:nvSpPr>
        <p:spPr>
          <a:xfrm>
            <a:off x="179280" y="1628640"/>
            <a:ext cx="8785440" cy="522936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أولاً: البحث الوصف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3</a:t>
            </a:r>
            <a:r>
              <a:rPr b="1" lang="ar-SA" sz="2600" spc="-1" strike="noStrike" u="sng">
                <a:solidFill>
                  <a:srgbClr val="03495c"/>
                </a:solidFill>
                <a:uFillTx/>
                <a:latin typeface="Constantia"/>
              </a:rPr>
              <a:t>- الدراسات التطورية (النمائية): </a:t>
            </a:r>
            <a:r>
              <a:rPr b="0" lang="ar-SA" sz="2600" spc="-1" strike="noStrike">
                <a:solidFill>
                  <a:srgbClr val="000000"/>
                </a:solidFill>
                <a:latin typeface="Constantia"/>
              </a:rPr>
              <a:t>تصف التغيرات التي تحدث في بعض الظواهر والمتغيرات عبر مرحلة من الزمن، وتقسم الدراسات التطورية إلى قسمين هما:</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9" name="رسم تخطيطي 3" descr=""/>
          <p:cNvPicPr/>
          <p:nvPr/>
        </p:nvPicPr>
        <p:blipFill>
          <a:blip r:embed="rId1"/>
          <a:stretch/>
        </p:blipFill>
        <p:spPr>
          <a:xfrm>
            <a:off x="1530360" y="3060720"/>
            <a:ext cx="6156360" cy="351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31" name=""/>
          <p:cNvSpPr txBox="1"/>
          <p:nvPr/>
        </p:nvSpPr>
        <p:spPr>
          <a:xfrm>
            <a:off x="179280" y="1935000"/>
            <a:ext cx="8785440" cy="4662720"/>
          </a:xfrm>
          <a:prstGeom prst="rect">
            <a:avLst/>
          </a:prstGeom>
          <a:noFill/>
          <a:ln w="0">
            <a:noFill/>
          </a:ln>
        </p:spPr>
        <p:txBody>
          <a:bodyPr anchor="t">
            <a:normAutofit fontScale="87000"/>
          </a:bodyPr>
          <a:p>
            <a:pPr marL="237240" indent="-237240" algn="just" rtl="1">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3495c"/>
                </a:solidFill>
                <a:uFillTx/>
                <a:latin typeface="Constantia"/>
              </a:rPr>
              <a:t>3</a:t>
            </a:r>
            <a:r>
              <a:rPr b="1" lang="ar-SA" sz="2500" spc="-1" strike="noStrike" u="sng">
                <a:solidFill>
                  <a:srgbClr val="03495c"/>
                </a:solidFill>
                <a:uFillTx/>
                <a:latin typeface="Constantia"/>
              </a:rPr>
              <a:t>- الدراسات التطورية (النمائية):</a:t>
            </a:r>
            <a:endParaRPr b="0" lang="en-US" sz="2500" spc="-1" strike="noStrike">
              <a:solidFill>
                <a:srgbClr val="000000"/>
              </a:solidFill>
              <a:latin typeface="Constantia"/>
            </a:endParaRPr>
          </a:p>
          <a:p>
            <a:pPr marL="237240" indent="-23724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3495c"/>
                </a:solidFill>
                <a:uFillTx/>
                <a:latin typeface="Constantia"/>
              </a:rPr>
              <a:t>(أ) دراسات النمو: </a:t>
            </a:r>
            <a:r>
              <a:rPr b="0" lang="ar-SA" sz="2500" spc="-1" strike="noStrike">
                <a:solidFill>
                  <a:srgbClr val="000000"/>
                </a:solidFill>
                <a:latin typeface="Constantia"/>
              </a:rPr>
              <a:t>تهتم بالمتغيرات التي تحدث للظواهر ومعدل هذه التغيرات والعوامل التي تؤثر عليها، وتنقسم إلى قسمين هما:</a:t>
            </a:r>
            <a:endParaRPr b="0" lang="en-US" sz="2500" spc="-1" strike="noStrike">
              <a:solidFill>
                <a:srgbClr val="000000"/>
              </a:solidFill>
              <a:latin typeface="Constantia"/>
            </a:endParaRPr>
          </a:p>
          <a:p>
            <a:pPr marL="237240" indent="-23724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76a3"/>
                </a:solidFill>
                <a:latin typeface="Constantia"/>
              </a:rPr>
              <a:t>(</a:t>
            </a:r>
            <a:r>
              <a:rPr b="0" lang="ar-SA" sz="2500" spc="-1" strike="noStrike">
                <a:solidFill>
                  <a:srgbClr val="0076a3"/>
                </a:solidFill>
                <a:latin typeface="Constantia"/>
              </a:rPr>
              <a:t>1</a:t>
            </a:r>
            <a:r>
              <a:rPr b="0" lang="ar-SA" sz="2500" spc="-1" strike="noStrike">
                <a:solidFill>
                  <a:srgbClr val="0076a3"/>
                </a:solidFill>
                <a:latin typeface="Constantia"/>
              </a:rPr>
              <a:t>)الدراسات الطولية: </a:t>
            </a:r>
            <a:r>
              <a:rPr b="0" lang="ar-SA" sz="2500" spc="-1" strike="noStrike">
                <a:solidFill>
                  <a:srgbClr val="000000"/>
                </a:solidFill>
                <a:latin typeface="Constantia"/>
              </a:rPr>
              <a:t>تتم باختيار عدداً قليلاً من الأفراد وقياس المتغير موضوع الدراسة لمرات متتابعة في فترات زمنية محددة (طويلة) (مثلاً كل سنة)، مثلاً: دراسة تطور النمو اللغوي لدى عينة من طلبة الصف الأول من خلال تكرار القياس على العينة نفسها الصف الثاني والثالث وملاحظة مدى التطور اللغوي.</a:t>
            </a:r>
            <a:endParaRPr b="0" lang="en-US" sz="2500" spc="-1" strike="noStrike">
              <a:solidFill>
                <a:srgbClr val="000000"/>
              </a:solidFill>
              <a:latin typeface="Constantia"/>
            </a:endParaRPr>
          </a:p>
          <a:p>
            <a:pPr marL="237240" indent="-23724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76a3"/>
                </a:solidFill>
                <a:latin typeface="Constantia"/>
              </a:rPr>
              <a:t>(</a:t>
            </a:r>
            <a:r>
              <a:rPr b="0" lang="ar-SA" sz="2500" spc="-1" strike="noStrike">
                <a:solidFill>
                  <a:srgbClr val="0076a3"/>
                </a:solidFill>
                <a:latin typeface="Constantia"/>
              </a:rPr>
              <a:t>2</a:t>
            </a:r>
            <a:r>
              <a:rPr b="0" lang="ar-SA" sz="2500" spc="-1" strike="noStrike">
                <a:solidFill>
                  <a:srgbClr val="0076a3"/>
                </a:solidFill>
                <a:latin typeface="Constantia"/>
              </a:rPr>
              <a:t>)الدراسات المستعرضة: </a:t>
            </a:r>
            <a:r>
              <a:rPr b="0" lang="ar-SA" sz="2500" spc="-1" strike="noStrike">
                <a:solidFill>
                  <a:srgbClr val="000000"/>
                </a:solidFill>
                <a:latin typeface="Constantia"/>
              </a:rPr>
              <a:t>تتم باختيار أكثر من مجموعة من الأفراد (عدد كبير) في فترة زمنية مختلفة (قصيرة) وقياس المتغير موضوع الدراسة على مجموعة من الأفراد في وقت واحد، مثلاً: دراسة التطور اللغوي لدى عينة من طلبة الصفوف الاول والثاني والثالث  في نفس الفترة الزمنية وملاحظة مدى التطور باختلاف الصف.</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33" name=""/>
          <p:cNvSpPr txBox="1"/>
          <p:nvPr/>
        </p:nvSpPr>
        <p:spPr>
          <a:xfrm>
            <a:off x="250560" y="1935000"/>
            <a:ext cx="8713800" cy="4734000"/>
          </a:xfrm>
          <a:prstGeom prst="rect">
            <a:avLst/>
          </a:prstGeom>
          <a:noFill/>
          <a:ln w="0">
            <a:noFill/>
          </a:ln>
        </p:spPr>
        <p:txBody>
          <a:bodyPr anchor="t">
            <a:normAutofit fontScale="93000"/>
          </a:bodyPr>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3495c"/>
                </a:solidFill>
                <a:uFillTx/>
                <a:latin typeface="Constantia"/>
              </a:rPr>
              <a:t>3</a:t>
            </a:r>
            <a:r>
              <a:rPr b="1" lang="ar-SA" sz="2800" spc="-1" strike="noStrike" u="sng">
                <a:solidFill>
                  <a:srgbClr val="03495c"/>
                </a:solidFill>
                <a:uFillTx/>
                <a:latin typeface="Constantia"/>
              </a:rPr>
              <a:t>- الدراسات التطورية (النمائية):</a:t>
            </a:r>
            <a:endParaRPr b="0" lang="en-US" sz="2800" spc="-1" strike="noStrike">
              <a:solidFill>
                <a:srgbClr val="000000"/>
              </a:solidFill>
              <a:latin typeface="Constantia"/>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3495c"/>
                </a:solidFill>
                <a:uFillTx/>
                <a:latin typeface="Constantia"/>
              </a:rPr>
              <a:t>(ب) دراسات الاتجاه: </a:t>
            </a:r>
            <a:endParaRPr b="0" lang="en-US" sz="2800" spc="-1" strike="noStrike">
              <a:solidFill>
                <a:srgbClr val="000000"/>
              </a:solidFill>
              <a:latin typeface="Constantia"/>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درس ظاهرة ما في واقعها الحالي ومتابعة دراستها في فترات زمنية قادمة (أو من الممكن أن تكون قد تمت دراستها سابقاً) وذلك بهدف معرفة اتجاهات تطور هذه الظاهرة والتنبؤ بما يمكن أن يحدث في المستقبل.</a:t>
            </a:r>
            <a:endParaRPr b="0" lang="en-US" sz="2800" spc="-1" strike="noStrike">
              <a:solidFill>
                <a:srgbClr val="000000"/>
              </a:solidFill>
              <a:latin typeface="Constantia"/>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مثال: إذا أراد باحث التنبؤ بمعدلات الطلبة في الثانوية العامة في السنوات المقبلة، فإن عليه دراسة واقع معدلات الطلبة في وضعها الحالي وكذلك الرجوع على مدى السنوات العشر الماضية مثلاً، مما ييسر عليه التنبؤ بما يمكن أن يحدث لهذه الظاهرة في السنوات المقبلة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وظائفها</a:t>
            </a:r>
            <a:endParaRPr b="0" lang="en-US" sz="5000" spc="-1" strike="noStrike">
              <a:solidFill>
                <a:srgbClr val="04617b"/>
              </a:solidFill>
              <a:latin typeface="Calibri"/>
            </a:endParaRPr>
          </a:p>
        </p:txBody>
      </p:sp>
      <p:pic>
        <p:nvPicPr>
          <p:cNvPr id="198" name="عنصر نائب للمحتوى 4" descr=""/>
          <p:cNvPicPr/>
          <p:nvPr/>
        </p:nvPicPr>
        <p:blipFill>
          <a:blip r:embed="rId1"/>
          <a:stretch/>
        </p:blipFill>
        <p:spPr>
          <a:xfrm>
            <a:off x="450720" y="1871640"/>
            <a:ext cx="8242560" cy="446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pic>
        <p:nvPicPr>
          <p:cNvPr id="235" name="عنصر نائب للمحتوى 3" descr=""/>
          <p:cNvPicPr/>
          <p:nvPr/>
        </p:nvPicPr>
        <p:blipFill>
          <a:blip r:embed="rId1"/>
          <a:stretch/>
        </p:blipFill>
        <p:spPr>
          <a:xfrm>
            <a:off x="444600" y="1925640"/>
            <a:ext cx="8254800" cy="440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endParaRPr b="0" lang="en-US" sz="4000" spc="-1" strike="noStrike">
              <a:solidFill>
                <a:srgbClr val="04617b"/>
              </a:solidFill>
              <a:latin typeface="Calibri"/>
            </a:endParaRPr>
          </a:p>
        </p:txBody>
      </p:sp>
      <p:sp>
        <p:nvSpPr>
          <p:cNvPr id="237" name=""/>
          <p:cNvSpPr txBox="1"/>
          <p:nvPr/>
        </p:nvSpPr>
        <p:spPr>
          <a:xfrm>
            <a:off x="457200" y="1412640"/>
            <a:ext cx="8229600" cy="4911480"/>
          </a:xfrm>
          <a:prstGeom prst="rect">
            <a:avLst/>
          </a:prstGeom>
          <a:noFill/>
          <a:ln w="0">
            <a:noFill/>
          </a:ln>
        </p:spPr>
        <p:txBody>
          <a:bodyPr anchor="t">
            <a:normAutofit fontScale="89000"/>
          </a:bodyPr>
          <a:p>
            <a:pPr marL="242640" indent="-2426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ثانياً: التصاميم التجريبية:</a:t>
            </a:r>
            <a:endParaRPr b="0" lang="en-US" sz="2800" spc="-1" strike="noStrike">
              <a:solidFill>
                <a:srgbClr val="000000"/>
              </a:solidFill>
              <a:latin typeface="Constantia"/>
            </a:endParaRPr>
          </a:p>
          <a:p>
            <a:pPr marL="242640" indent="-242640" algn="just" rtl="1">
              <a:spcBef>
                <a:spcPts val="700"/>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3495c"/>
                </a:solidFill>
                <a:uFillTx/>
                <a:latin typeface="Constantia"/>
              </a:rPr>
              <a:t>البحث التجريبي: </a:t>
            </a:r>
            <a:r>
              <a:rPr b="0" lang="ar-SA" sz="2800" spc="-1" strike="noStrike">
                <a:solidFill>
                  <a:srgbClr val="000000"/>
                </a:solidFill>
                <a:latin typeface="Constantia"/>
              </a:rPr>
              <a:t>تغير معتمد ومضبوط للشروط المحددة للظاهرة وملاحظة نواتج التغير في الظاهرة موضوع الدراسة، ويعرف أيضأ أنه استخدام التجربة في إثبات الفروض.</a:t>
            </a:r>
            <a:endParaRPr b="0" lang="en-US" sz="2800" spc="-1" strike="noStrike">
              <a:solidFill>
                <a:srgbClr val="000000"/>
              </a:solidFill>
              <a:latin typeface="Constant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3495c"/>
                </a:solidFill>
                <a:uFillTx/>
                <a:latin typeface="Constantia"/>
              </a:rPr>
              <a:t>مثال: </a:t>
            </a:r>
            <a:r>
              <a:rPr b="0" lang="ar-SA" sz="2800" spc="-1" strike="noStrike">
                <a:solidFill>
                  <a:srgbClr val="000000"/>
                </a:solidFill>
                <a:latin typeface="Constantia"/>
              </a:rPr>
              <a:t>أراد باحث دراسة أثر تدريس الرياضيات باستخدام الحاسوب في تحصيل الطلبة، فقام باختيار شعبتين أحدهما درست المادة التعليمية باستخدام الحاسوب والأخرى درست نفس المادة بالطريقة التقليدية في التدريس، وبعد الانتهاء من تطبيق التجربة، أجرى الباحث اختباراً تحصيلياً على طلبة الشعبتين وقارن بين نتائج الطلبة لتحديد وجود أو عدم وجود أثر لاستخدام الحاسوب في تدريس الرياضيات. يتضمن المثال العناصر التالية: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39" name=""/>
          <p:cNvSpPr txBox="1"/>
          <p:nvPr/>
        </p:nvSpPr>
        <p:spPr>
          <a:xfrm>
            <a:off x="0" y="1413000"/>
            <a:ext cx="8964720" cy="525600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جموعة التجريبية: التي تعرضت للمتغير التجريبي الجديد (التدريس باستخدام الحاسوب) وذلك بهدف معرفة أثر ذلك المتغير.</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جموعة الضابطة: التي لم تتعرض لتأثير المتغير التجريبي الجديد وبقيت تحت ظروف عادية. وتتضح أهمية تلك المجموعة في كونها أساس الحكم على مدى الفائدة الناتجة عن تطبيق المتغير التجريبي.</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غير المستقل: الذي يراد بحث أثره في متغير آخر، بحيث يستطيع الباحث التحكم في قياس أثره في المتغير الآخر، وهو هنا يمثل طريقة التدريس. وللمتغير المستقل (طريقة التدريس) في هذا المثال مستويات هما التدريس باستخدام الحاسوب والتدريس بالطريقة التقليدية.</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غير التابع: الذي يحاول الباحث معرفة أثر المتغير المستقل فيه، وهو هنا يمثل التحصيل في الرياضيات. ويقاس بعلامة الطالب في الاختبار التحصيلي الذي تم تطبيقه على طلبة المجموعتين التجريبية والضابط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غيرات الدخيلة: نوع من المتغيرات المستقلة، لا يدخل في تصميم الدراسة ولا يخضع لسيطرة الباحث، لكنه قد يؤثر في المتغير التابع تأثيراً غير مرغوب فيه. وفي هذا المثال هي الجنس والدافعية والقدرات الخاصة، ويحاول الباحث التقليل من أثرها عن طريق ما يمسى بضبط المتغيرات الدخيلة، وأفضل طريقة هي استخدام مجموعتين متكافئتين في بداية التجربة واختيار إحداهما بطريقة عشوائية كمجموعة تجريبية تخضع لتأثير المتغير المستقل، والأخرى ضابطة لا تخضع تأثير المتغير المستقل، شريطة أن تتعرض المجموعتان خلال فترة تنفيذ التجربة إلى نفس الظروف باستثناء تأثير المتغير المستقل على المجموعة التجريبية فقط.</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i="1" lang="ar-SA" sz="5400" spc="-1" strike="noStrike">
                <a:solidFill>
                  <a:srgbClr val="03495c"/>
                </a:solidFill>
                <a:latin typeface="Calibri"/>
              </a:rPr>
              <a:t>تهدف عملية الضبط إلى ما يلي:</a:t>
            </a:r>
            <a:endParaRPr b="0" lang="en-US" sz="5400" spc="-1" strike="noStrike">
              <a:solidFill>
                <a:srgbClr val="04617b"/>
              </a:solidFill>
              <a:latin typeface="Calibri"/>
            </a:endParaRPr>
          </a:p>
        </p:txBody>
      </p:sp>
      <p:sp>
        <p:nvSpPr>
          <p:cNvPr id="243" name=""/>
          <p:cNvSpPr txBox="1"/>
          <p:nvPr/>
        </p:nvSpPr>
        <p:spPr>
          <a:xfrm>
            <a:off x="178920" y="1628280"/>
            <a:ext cx="8713800" cy="4969080"/>
          </a:xfrm>
          <a:prstGeom prst="rect">
            <a:avLst/>
          </a:prstGeom>
          <a:noFill/>
          <a:ln w="0">
            <a:noFill/>
          </a:ln>
        </p:spPr>
        <p:txBody>
          <a:bodyPr anchor="t">
            <a:normAutofit/>
          </a:bodyPr>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u="sng">
                <a:solidFill>
                  <a:srgbClr val="03495c"/>
                </a:solidFill>
                <a:uFillTx/>
                <a:latin typeface="Constantia"/>
              </a:rPr>
              <a:t>1</a:t>
            </a:r>
            <a:r>
              <a:rPr b="1" i="1" lang="ar-SA" sz="2200" spc="-1" strike="noStrike" u="sng">
                <a:solidFill>
                  <a:srgbClr val="03495c"/>
                </a:solidFill>
                <a:uFillTx/>
                <a:latin typeface="Constantia"/>
              </a:rPr>
              <a:t>– عزل المتغيرات:</a:t>
            </a:r>
            <a:endParaRPr b="0" lang="en-US" sz="2200" spc="-1" strike="noStrike">
              <a:solidFill>
                <a:srgbClr val="000000"/>
              </a:solidFill>
              <a:latin typeface="Constantia"/>
            </a:endParaRPr>
          </a:p>
          <a:p>
            <a:pPr marL="272880" indent="-27288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يقوم الباحث أحيانا بدراسة أثر متغير ما علي سلوك الإنسان ولكن هذا السلوك يتأثر أيضاً بمتغيرات وعوامل أخرى, وفي مثل هذه الحالة لابد من عزل العوامل الأخرى وإبعادها عن التجربة.</a:t>
            </a: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u="sng">
                <a:solidFill>
                  <a:srgbClr val="03495c"/>
                </a:solidFill>
                <a:uFillTx/>
                <a:latin typeface="Constantia"/>
              </a:rPr>
              <a:t>2</a:t>
            </a:r>
            <a:r>
              <a:rPr b="1" i="1" lang="ar-SA" sz="2200" spc="-1" strike="noStrike" u="sng">
                <a:solidFill>
                  <a:srgbClr val="03495c"/>
                </a:solidFill>
                <a:uFillTx/>
                <a:latin typeface="Constantia"/>
              </a:rPr>
              <a:t>– تثبيت المتغيرات:</a:t>
            </a:r>
            <a:endParaRPr b="0" lang="en-US" sz="2200" spc="-1" strike="noStrike">
              <a:solidFill>
                <a:srgbClr val="000000"/>
              </a:solidFill>
              <a:latin typeface="Constantia"/>
            </a:endParaRPr>
          </a:p>
          <a:p>
            <a:pPr marL="272880" indent="-27288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إن استخدام المجموعات المتكافئة يعني أن الباحث قام بتثبيت جميع المتغيرات المؤثرة, لأن المجموعة التجريبية تماثل المجموعة الضابطة وما يؤثر في إحدى المجموعتين يؤثر في الأخرى فإذا أضاف الباحث المتغير التجريبي فإن المجموعة التجريبية تتميز به فقط.</a:t>
            </a: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3495c"/>
                </a:solidFill>
                <a:uFillTx/>
                <a:latin typeface="Constantia"/>
              </a:rPr>
              <a:t>3</a:t>
            </a:r>
            <a:r>
              <a:rPr b="1" lang="ar-SA" sz="2200" spc="-1" strike="noStrike" u="sng">
                <a:solidFill>
                  <a:srgbClr val="03495c"/>
                </a:solidFill>
                <a:uFillTx/>
                <a:latin typeface="Constantia"/>
              </a:rPr>
              <a:t>–التحكم في مقدار المتغير التجريبي:</a:t>
            </a:r>
            <a:endParaRPr b="0" lang="en-US" sz="2200" spc="-1" strike="noStrike">
              <a:solidFill>
                <a:srgbClr val="000000"/>
              </a:solidFill>
              <a:latin typeface="Constantia"/>
            </a:endParaRPr>
          </a:p>
          <a:p>
            <a:pPr marL="272880" indent="-27288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يستخدم الباحث هذا الأسلوب من الضبط عن طريق تقديم مقدار معين من المتغير التجريبي ثم يزيد من هذا المقدار أو يقلل لمعرفة أثر الزيادة أو النقص علي المتغير التابع.</a:t>
            </a: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89000"/>
          </a:bodyPr>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نواع التجارب:</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1</a:t>
            </a:r>
            <a:r>
              <a:rPr b="1" lang="ar-SA" sz="2600" spc="-1" strike="noStrike" u="sng">
                <a:solidFill>
                  <a:srgbClr val="03495c"/>
                </a:solidFill>
                <a:uFillTx/>
                <a:latin typeface="Constantia"/>
              </a:rPr>
              <a:t>) حسب طريقة إجرائه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أ-تجارب معملية: </a:t>
            </a:r>
            <a:r>
              <a:rPr b="0" lang="ar-SA" sz="2600" spc="-1" strike="noStrike">
                <a:solidFill>
                  <a:srgbClr val="000000"/>
                </a:solidFill>
                <a:latin typeface="Constantia"/>
              </a:rPr>
              <a:t>تتم داخل المختبر في ظروف صناعية خاصة تصمم لأغراض التجربة، وتتميز بدقتها وسهولة ضبط المتغيرات الدخيلة فيها. </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إجراء تجربة في مختبر العلوم لدراسة أثر التفاعل الكيميائي بين مادتين كيميائتين إحداهما حامضية والآخرى قلوية. </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ب-تجارب غير المعملية: </a:t>
            </a:r>
            <a:r>
              <a:rPr b="0" lang="ar-SA" sz="2600" spc="-1" strike="noStrike">
                <a:solidFill>
                  <a:srgbClr val="000000"/>
                </a:solidFill>
                <a:latin typeface="Constantia"/>
              </a:rPr>
              <a:t>تتم خارج المختبر في ظروف طبيعية، وتكون أقل دقة وأكثر صعوبة في ضبط المتغيرات الدخيلة.</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إجراء تجربة في المدرسة لدراسة أثر استخدام برنامج تدريبي في تنمية التفكير الإبداعي لدى الطل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7" name=""/>
          <p:cNvSpPr txBox="1"/>
          <p:nvPr/>
        </p:nvSpPr>
        <p:spPr>
          <a:xfrm>
            <a:off x="179280" y="1483920"/>
            <a:ext cx="8785440" cy="525780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نواع التجارب:</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حسب أفراد الدراس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أ-تجارب على مجموعة واحدة: </a:t>
            </a:r>
            <a:r>
              <a:rPr b="0" lang="ar-SA" sz="2600" spc="-1" strike="noStrike">
                <a:solidFill>
                  <a:srgbClr val="000000"/>
                </a:solidFill>
                <a:latin typeface="Constantia"/>
              </a:rPr>
              <a:t>تتعرض المجموعة لتأثير المتغير المستقل ويتم دراسة وضع المجموعة قبل وبعد تأثير المتغير المستقل، فإذا وجدت فروق ذات دلالة بين وضع المجموعة قبل وبعد تأثيره، فإن هذا الفرق يعزى لتأثير المتغير المستقل.</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ب-تجارب على أكثر من مجموعة: </a:t>
            </a:r>
            <a:r>
              <a:rPr b="0" lang="ar-SA" sz="2600" spc="-1" strike="noStrike">
                <a:solidFill>
                  <a:srgbClr val="000000"/>
                </a:solidFill>
                <a:latin typeface="Constantia"/>
              </a:rPr>
              <a:t>تتطلب مجموعتين على الأقل، إحداهما تتعرض لتأثير المتغير المستقل وتسمى التجريبية، والآخرى لا تتعرض لتأثير المتغير المستقل وتسمى الضابطة، وقد يكون عدد المجموعات أكثر من اثنين فمثلا يمكن استخدام مجموعتين تجريبيتين مقابل مجموعة ضابطة واحد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نواع التجارب:</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3</a:t>
            </a:r>
            <a:r>
              <a:rPr b="1" lang="ar-SA" sz="2600" spc="-1" strike="noStrike" u="sng">
                <a:solidFill>
                  <a:srgbClr val="03495c"/>
                </a:solidFill>
                <a:uFillTx/>
                <a:latin typeface="Constantia"/>
              </a:rPr>
              <a:t>) حسب مدة الدراس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أ-تجارب قصيرة: </a:t>
            </a:r>
            <a:r>
              <a:rPr b="0" lang="ar-SA" sz="2600" spc="-1" strike="noStrike">
                <a:solidFill>
                  <a:srgbClr val="000000"/>
                </a:solidFill>
                <a:latin typeface="Constantia"/>
              </a:rPr>
              <a:t>تطبق ضمن فترة زمنية قصيرة، وتتميز بالدقة وسهولة ضبط المتغيرات.</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ب-تجارب طويلة: </a:t>
            </a:r>
            <a:r>
              <a:rPr b="0" lang="ar-SA" sz="2600" spc="-1" strike="noStrike">
                <a:solidFill>
                  <a:srgbClr val="000000"/>
                </a:solidFill>
                <a:latin typeface="Constantia"/>
              </a:rPr>
              <a:t>تطبق ضمن فترة طويلة، وهي أقل دقة وذلك لأنها تتأثر بمرور الزمن بمتغيرات دخيلة تؤثر في النتائج مثل النضج والخبر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51" name=""/>
          <p:cNvSpPr txBox="1"/>
          <p:nvPr/>
        </p:nvSpPr>
        <p:spPr>
          <a:xfrm>
            <a:off x="250920" y="1935000"/>
            <a:ext cx="8642160" cy="4734000"/>
          </a:xfrm>
          <a:prstGeom prst="rect">
            <a:avLst/>
          </a:prstGeom>
          <a:noFill/>
          <a:ln w="0">
            <a:noFill/>
          </a:ln>
        </p:spPr>
        <p:txBody>
          <a:bodyPr anchor="t">
            <a:normAutofit fontScale="99000"/>
          </a:bodyPr>
          <a:p>
            <a:pPr marL="270000" indent="-27000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ثانياً: التصاميم التجريبية:</a:t>
            </a:r>
            <a:endParaRPr b="0" lang="en-US" sz="2400" spc="-1" strike="noStrike">
              <a:solidFill>
                <a:srgbClr val="000000"/>
              </a:solidFill>
              <a:latin typeface="Constantia"/>
            </a:endParaRPr>
          </a:p>
          <a:p>
            <a:pPr marL="270000" indent="-270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3495c"/>
                </a:solidFill>
                <a:uFillTx/>
                <a:latin typeface="Constantia"/>
              </a:rPr>
              <a:t>(</a:t>
            </a:r>
            <a:r>
              <a:rPr b="1" lang="ar-SA" sz="2400" spc="-1" strike="noStrike" u="sng">
                <a:solidFill>
                  <a:srgbClr val="03495c"/>
                </a:solidFill>
                <a:uFillTx/>
                <a:latin typeface="Constantia"/>
              </a:rPr>
              <a:t>2</a:t>
            </a:r>
            <a:r>
              <a:rPr b="1" lang="ar-SA" sz="2400" spc="-1" strike="noStrike" u="sng">
                <a:solidFill>
                  <a:srgbClr val="03495c"/>
                </a:solidFill>
                <a:uFillTx/>
                <a:latin typeface="Constantia"/>
              </a:rPr>
              <a:t>) البحث الإجرائي: </a:t>
            </a:r>
            <a:r>
              <a:rPr b="0" lang="ar-SA" sz="2400" spc="-1" strike="noStrike">
                <a:solidFill>
                  <a:srgbClr val="000000"/>
                </a:solidFill>
                <a:latin typeface="Constantia"/>
              </a:rPr>
              <a:t>يعتمد على مشكلة مباشرة تواجه الباحث في ميدان العمل، فهو دراسة علمية للعمليات والطرق المستخدمة في الميدان بهدف زيادة فاعلية هذه الطرق واكتشاف طرق جديدة أكثر ملائمة لميدان العمل.</a:t>
            </a:r>
            <a:endParaRPr b="0" lang="en-US" sz="2400" spc="-1" strike="noStrike">
              <a:solidFill>
                <a:srgbClr val="000000"/>
              </a:solidFill>
              <a:latin typeface="Constantia"/>
            </a:endParaRPr>
          </a:p>
          <a:p>
            <a:pPr marL="270000" indent="-270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عتبر البحث الإجرائي أحد أمثلة البحوث التطبيقية التي تهدف إلى اختبار الفرضيات والاعتماد على نتائج تلك الفرضيات في حل المشكلات العملية .</a:t>
            </a:r>
            <a:endParaRPr b="0" lang="en-US" sz="2400" spc="-1" strike="noStrike">
              <a:solidFill>
                <a:srgbClr val="000000"/>
              </a:solidFill>
              <a:latin typeface="Constantia"/>
            </a:endParaRPr>
          </a:p>
          <a:p>
            <a:pPr marL="270000" indent="-270000" algn="just" rtl="1">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هو لا يهدف إلى تعميم النتائج، بل يبحث عن حلول لمشكلة ما.</a:t>
            </a:r>
            <a:endParaRPr b="0" lang="en-US" sz="2400" spc="-1" strike="noStrike">
              <a:solidFill>
                <a:srgbClr val="000000"/>
              </a:solidFill>
              <a:latin typeface="Constantia"/>
            </a:endParaRPr>
          </a:p>
          <a:p>
            <a:pPr marL="270000" indent="-270000" algn="just" rtl="1">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onstantia"/>
              </a:rPr>
              <a:t>مثال: </a:t>
            </a:r>
            <a:r>
              <a:rPr b="0" lang="ar-SA" sz="2400" spc="-1" strike="noStrike">
                <a:solidFill>
                  <a:srgbClr val="000000"/>
                </a:solidFill>
                <a:latin typeface="Constantia"/>
              </a:rPr>
              <a:t>شعور مدير مدرسة الثانوية أن المستوى التحصيلي لطلبة الثانوية قد انخفض، وذلك من خلال نتائج الطلبة في الفصل الدراسي الأو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8229600" cy="795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وظائفها</a:t>
            </a:r>
            <a:endParaRPr b="0" lang="en-US" sz="5000" spc="-1" strike="noStrike">
              <a:solidFill>
                <a:srgbClr val="04617b"/>
              </a:solidFill>
              <a:latin typeface="Calibri"/>
            </a:endParaRPr>
          </a:p>
        </p:txBody>
      </p:sp>
      <p:sp>
        <p:nvSpPr>
          <p:cNvPr id="200" name=""/>
          <p:cNvSpPr txBox="1"/>
          <p:nvPr/>
        </p:nvSpPr>
        <p:spPr>
          <a:xfrm>
            <a:off x="179280" y="1125000"/>
            <a:ext cx="8785440" cy="5543640"/>
          </a:xfrm>
          <a:prstGeom prst="rect">
            <a:avLst/>
          </a:prstGeom>
          <a:noFill/>
          <a:ln w="0">
            <a:noFill/>
          </a:ln>
        </p:spPr>
        <p:txBody>
          <a:bodyPr anchor="t">
            <a:normAutofit fontScale="94000"/>
          </a:bodyPr>
          <a:p>
            <a:pPr marL="256320" indent="-2563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ولاً: البحث الأساسي: </a:t>
            </a:r>
            <a:r>
              <a:rPr b="0" lang="ar-SA" sz="2600" spc="-1" strike="noStrike">
                <a:solidFill>
                  <a:srgbClr val="000000"/>
                </a:solidFill>
                <a:latin typeface="Constantia"/>
              </a:rPr>
              <a:t>يتم تنفيذه لاختبار نظرية أو مبدأ، بهدف الإضافة إلى المعرفة العلمية، ويتم إجراء مثل هذه البحوث في المختبرات، </a:t>
            </a:r>
            <a:r>
              <a:rPr b="0" lang="ar-SA" sz="2600" spc="-1" strike="noStrike" u="sng">
                <a:solidFill>
                  <a:srgbClr val="000000"/>
                </a:solidFill>
                <a:uFillTx/>
                <a:latin typeface="Constantia"/>
              </a:rPr>
              <a:t>فمثلاً</a:t>
            </a:r>
            <a:r>
              <a:rPr b="0" lang="ar-SA" sz="2600" spc="-1" strike="noStrike">
                <a:solidFill>
                  <a:srgbClr val="000000"/>
                </a:solidFill>
                <a:latin typeface="Constantia"/>
              </a:rPr>
              <a:t> تلك البحوث التي تهدف إلى اكتشاف علاقات ومبادئ عامة في التعليم والتعلم مثل نظريات بافلوف وثورندايك.</a:t>
            </a:r>
            <a:endParaRPr b="0" lang="en-US" sz="2600" spc="-1" strike="noStrike">
              <a:solidFill>
                <a:srgbClr val="000000"/>
              </a:solidFill>
              <a:latin typeface="Constantia"/>
            </a:endParaRPr>
          </a:p>
          <a:p>
            <a:pPr marL="256320" indent="-2563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ثانياً: البحث التطبيقي: </a:t>
            </a:r>
            <a:r>
              <a:rPr b="0" lang="ar-SA" sz="2600" spc="-1" strike="noStrike">
                <a:solidFill>
                  <a:srgbClr val="000000"/>
                </a:solidFill>
                <a:latin typeface="Constantia"/>
              </a:rPr>
              <a:t>يتم بتطبيق المعرفة الجديدة في حل المشكلات بهدف تحسين الواقع العملي من خلال اختبار النظريات التي توصلت إليها البحوث الأساسية في مواقف حقيقة، </a:t>
            </a:r>
            <a:r>
              <a:rPr b="0" lang="ar-SA" sz="2600" spc="-1" strike="noStrike" u="sng">
                <a:solidFill>
                  <a:srgbClr val="000000"/>
                </a:solidFill>
                <a:uFillTx/>
                <a:latin typeface="Constantia"/>
              </a:rPr>
              <a:t>فمثلاً</a:t>
            </a:r>
            <a:r>
              <a:rPr b="0" lang="ar-SA" sz="2600" spc="-1" strike="noStrike">
                <a:solidFill>
                  <a:srgbClr val="000000"/>
                </a:solidFill>
                <a:latin typeface="Constantia"/>
              </a:rPr>
              <a:t> تلك البحوث التي تجري في غرفة الصف لتحديد القيمة العملية للمبادئ والنظريات والعلاقات التي اكتشفها البحث الأساسي.</a:t>
            </a:r>
            <a:endParaRPr b="0" lang="en-US" sz="2600" spc="-1" strike="noStrike">
              <a:solidFill>
                <a:srgbClr val="000000"/>
              </a:solidFill>
              <a:latin typeface="Constantia"/>
            </a:endParaRPr>
          </a:p>
          <a:p>
            <a:pPr marL="256320" indent="-2563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ثالثاً: البحث التقويمي: </a:t>
            </a:r>
            <a:r>
              <a:rPr b="0" lang="ar-SA" sz="2600" spc="-1" strike="noStrike">
                <a:solidFill>
                  <a:srgbClr val="000000"/>
                </a:solidFill>
                <a:latin typeface="Constantia"/>
              </a:rPr>
              <a:t>يركز على تقدير أهمية وقيمة ممارسة معينة في موقع ما، بهدف تحديد مدى تحقيق الممارسة لأهدافها، </a:t>
            </a:r>
            <a:r>
              <a:rPr b="0" lang="ar-SA" sz="2600" spc="-1" strike="noStrike" u="sng">
                <a:solidFill>
                  <a:srgbClr val="000000"/>
                </a:solidFill>
                <a:uFillTx/>
                <a:latin typeface="Constantia"/>
              </a:rPr>
              <a:t>فمثلاً</a:t>
            </a:r>
            <a:r>
              <a:rPr b="0" lang="ar-SA" sz="2600" spc="-1" strike="noStrike">
                <a:solidFill>
                  <a:srgbClr val="000000"/>
                </a:solidFill>
                <a:latin typeface="Constantia"/>
              </a:rPr>
              <a:t> عند شعور مدير المدرسة في موقع ما أن نسبة التسرب من المدرسة في ازدياد، فإنه سيلجأ إلى ممارسة معينة أو عدة ممارسات للحد من تلك الظاهرة وهي التسرب المدرس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مناهجها</a:t>
            </a:r>
            <a:endParaRPr b="0" lang="en-US" sz="5000" spc="-1" strike="noStrike">
              <a:solidFill>
                <a:srgbClr val="04617b"/>
              </a:solidFill>
              <a:latin typeface="Calibri"/>
            </a:endParaRPr>
          </a:p>
        </p:txBody>
      </p:sp>
      <p:pic>
        <p:nvPicPr>
          <p:cNvPr id="202" name="عنصر نائب للمحتوى 3" descr=""/>
          <p:cNvPicPr/>
          <p:nvPr/>
        </p:nvPicPr>
        <p:blipFill>
          <a:blip r:embed="rId1"/>
          <a:stretch/>
        </p:blipFill>
        <p:spPr>
          <a:xfrm>
            <a:off x="444600" y="1925640"/>
            <a:ext cx="857700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75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مناهجها</a:t>
            </a:r>
            <a:endParaRPr b="0" lang="en-US" sz="5000" spc="-1" strike="noStrike">
              <a:solidFill>
                <a:srgbClr val="04617b"/>
              </a:solidFill>
              <a:latin typeface="Calibri"/>
            </a:endParaRPr>
          </a:p>
        </p:txBody>
      </p:sp>
      <p:sp>
        <p:nvSpPr>
          <p:cNvPr id="204" name=""/>
          <p:cNvSpPr txBox="1"/>
          <p:nvPr/>
        </p:nvSpPr>
        <p:spPr>
          <a:xfrm>
            <a:off x="178920" y="1267920"/>
            <a:ext cx="8713800" cy="5056200"/>
          </a:xfrm>
          <a:prstGeom prst="rect">
            <a:avLst/>
          </a:prstGeom>
          <a:noFill/>
          <a:ln w="0">
            <a:noFill/>
          </a:ln>
        </p:spPr>
        <p:txBody>
          <a:bodyPr anchor="t">
            <a:normAutofit fontScale="89000"/>
          </a:bodyPr>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ولاً: البحث الكمي: </a:t>
            </a:r>
            <a:r>
              <a:rPr b="0" lang="ar-SA" sz="2600" spc="-1" strike="noStrike">
                <a:solidFill>
                  <a:srgbClr val="000000"/>
                </a:solidFill>
                <a:latin typeface="Constantia"/>
              </a:rPr>
              <a:t>يهتم بجمع البيانات من خلال استعمال أدوات قياس كمية يجري تطبيقها على عينة ممثلة للمجتمع الأصلي، بحيث تتم معالجة تلك البيانات بأساليب إحصائية تقود إلى نتائج يمكن تعميمها على المجتمع الأصلي في ضوء نتائج الفرضيات التي تم إعدادها مسبق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أدوات المستخدمة: الاختبارات والاستبيانات</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م العينة: كبير جداً</a:t>
            </a:r>
            <a:endParaRPr b="0" lang="en-US" sz="2600" spc="-1" strike="noStrike">
              <a:solidFill>
                <a:srgbClr val="000000"/>
              </a:solidFill>
              <a:latin typeface="Constantia"/>
            </a:endParaRPr>
          </a:p>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ثانياً: البحث النوعي: </a:t>
            </a:r>
            <a:r>
              <a:rPr b="0" lang="ar-SA" sz="2600" spc="-1" strike="noStrike">
                <a:solidFill>
                  <a:srgbClr val="000000"/>
                </a:solidFill>
                <a:latin typeface="Constantia"/>
              </a:rPr>
              <a:t>يعتمد على دراسة الظاهرة في ظروفها الطبيعية باعتبارها مصدراً مباشراً للبيانات، بحيث يتم عرض البيانات بطريقة وصفية تستخدم الكلمات، حيث يتم وضع الافتراضات والاستنتاجات أثناء عملية جمع البيانات.</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أدوات المستخدمة: الملاحظة المباشرة والمقابلة.</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م العينة: صغيرة جد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التصميم</a:t>
            </a:r>
            <a:endParaRPr b="0" lang="en-US" sz="5000" spc="-1" strike="noStrike">
              <a:solidFill>
                <a:srgbClr val="04617b"/>
              </a:solidFill>
              <a:latin typeface="Calibri"/>
            </a:endParaRPr>
          </a:p>
        </p:txBody>
      </p:sp>
      <p:pic>
        <p:nvPicPr>
          <p:cNvPr id="206" name="عنصر نائب للمحتوى 3" descr=""/>
          <p:cNvPicPr/>
          <p:nvPr/>
        </p:nvPicPr>
        <p:blipFill>
          <a:blip r:embed="rId1"/>
          <a:stretch/>
        </p:blipFill>
        <p:spPr>
          <a:xfrm>
            <a:off x="450720" y="1841400"/>
            <a:ext cx="8242560" cy="44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2280"/>
            <a:ext cx="8229600" cy="723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التصميم</a:t>
            </a:r>
            <a:endParaRPr b="0" lang="en-US" sz="5000" spc="-1" strike="noStrike">
              <a:solidFill>
                <a:srgbClr val="04617b"/>
              </a:solidFill>
              <a:latin typeface="Calibri"/>
            </a:endParaRPr>
          </a:p>
        </p:txBody>
      </p:sp>
      <p:pic>
        <p:nvPicPr>
          <p:cNvPr id="208" name="عنصر نائب للمحتوى 5" descr=""/>
          <p:cNvPicPr/>
          <p:nvPr/>
        </p:nvPicPr>
        <p:blipFill>
          <a:blip r:embed="rId1"/>
          <a:stretch/>
        </p:blipFill>
        <p:spPr>
          <a:xfrm>
            <a:off x="165240" y="1547640"/>
            <a:ext cx="8746920" cy="505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224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10" name=""/>
          <p:cNvSpPr txBox="1"/>
          <p:nvPr/>
        </p:nvSpPr>
        <p:spPr>
          <a:xfrm>
            <a:off x="179280" y="1413000"/>
            <a:ext cx="8785440" cy="5256000"/>
          </a:xfrm>
          <a:prstGeom prst="rect">
            <a:avLst/>
          </a:prstGeom>
          <a:noFill/>
          <a:ln w="0">
            <a:noFill/>
          </a:ln>
        </p:spPr>
        <p:txBody>
          <a:bodyPr anchor="t">
            <a:normAutofit fontScale="90000"/>
          </a:bodyPr>
          <a:p>
            <a:pPr marL="244080" indent="-244080" algn="just" rtl="1">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3495c"/>
                </a:solidFill>
                <a:uFillTx/>
                <a:latin typeface="Constantia"/>
              </a:rPr>
              <a:t>1</a:t>
            </a:r>
            <a:r>
              <a:rPr b="1" lang="ar-SA" sz="2500" spc="-1" strike="noStrike" u="sng">
                <a:solidFill>
                  <a:srgbClr val="03495c"/>
                </a:solidFill>
                <a:uFillTx/>
                <a:latin typeface="Constantia"/>
              </a:rPr>
              <a:t>- البحث التاريخي: </a:t>
            </a:r>
            <a:r>
              <a:rPr b="0" lang="ar-SA" sz="2500" spc="-1" strike="noStrike">
                <a:solidFill>
                  <a:srgbClr val="000000"/>
                </a:solidFill>
                <a:latin typeface="Constantia"/>
              </a:rPr>
              <a:t>يهتم بجمع الحقائق والمعلومات من خلال دراسة الوثائق والسجلات والآثار للمواقف والأحداث والظواهر التي مضى عليها مدة من الزمن. حيث يحاول الباحث دراسة الماضي لفهم الحاضر والتنبؤ بالمستقبل. مثل: تحديد الدراسة بعدد الطلبة الملتحقين في مدارس الريف في فترة السبعينات.</a:t>
            </a:r>
            <a:endParaRPr b="0" lang="en-US" sz="25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ويتم جمع البيانات من مصدرين:</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المصادر الأولية: التي قد تكون وثيقة الأصل مثل أسماء الكتب والرسائل.</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المصادر الثانوية: التي تمثل نسخه عن الوثيقة الأصلية أو تقرير مكتوب.</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وتتعرض بيانات البحث التاريخي إلى نوعين من النقد للحكم على مدى ملائمتها:</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نقدر خارجي: يتعلق بموثوقية الوثيقة التي أخذت منها البيانات، ويتعلق كذلك بسلامتها أو اكتمالها.</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نقد داخلي: يتعلق بدرجة الثقة والمصداقية الخاصة بما تحتويه الوثيقة من حيث مدى توافق محتواها مع محتوى وثائق أخرى.</a:t>
            </a:r>
            <a:endParaRPr b="0" lang="en-US" sz="2400" spc="-1" strike="noStrike">
              <a:solidFill>
                <a:srgbClr val="000000"/>
              </a:solidFill>
              <a:latin typeface="Constantia"/>
            </a:endParaRPr>
          </a:p>
          <a:p>
            <a:pPr marL="244080" indent="-2440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4080" indent="-2440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44080" indent="-2440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12" name=""/>
          <p:cNvSpPr txBox="1"/>
          <p:nvPr/>
        </p:nvSpPr>
        <p:spPr>
          <a:xfrm>
            <a:off x="178920" y="2060280"/>
            <a:ext cx="8713800" cy="4537080"/>
          </a:xfrm>
          <a:prstGeom prst="rect">
            <a:avLst/>
          </a:prstGeom>
          <a:noFill/>
          <a:ln w="0">
            <a:noFill/>
          </a:ln>
        </p:spPr>
        <p:txBody>
          <a:bodyPr anchor="t">
            <a:normAutofit/>
          </a:bodyPr>
          <a:p>
            <a:pPr marL="271440" indent="-2714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البحث الوصفي:</a:t>
            </a:r>
            <a:endParaRPr b="0" lang="en-US" sz="2600" spc="-1" strike="noStrike">
              <a:solidFill>
                <a:srgbClr val="000000"/>
              </a:solidFill>
              <a:latin typeface="Constantia"/>
            </a:endParaRPr>
          </a:p>
          <a:p>
            <a:pPr marL="271440" indent="-271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مد على دراسة الواقع أو الظاهرة كما توجد في الواقع، ويهتم بوصفها وصفاً دقيقاً، من خلال التعبير الكمي أو النوعي.</a:t>
            </a:r>
            <a:endParaRPr b="0" lang="en-US" sz="2600" spc="-1" strike="noStrike">
              <a:solidFill>
                <a:srgbClr val="000000"/>
              </a:solidFill>
              <a:latin typeface="Constantia"/>
            </a:endParaRPr>
          </a:p>
          <a:p>
            <a:pPr marL="271440" indent="-271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فمثلا:</a:t>
            </a:r>
            <a:r>
              <a:rPr b="0" lang="ar-SA" sz="2600" spc="-1" strike="noStrike">
                <a:solidFill>
                  <a:srgbClr val="000000"/>
                </a:solidFill>
                <a:latin typeface="Constantia"/>
              </a:rPr>
              <a:t> إذا أراد باحث دراسة المشكلات التي تؤثر في تحصيل الطلبة في الرياضيات فإنه يعرض نتائجه بأسلوب نوعي كأن يقول المشكلات هي الطبيعية المجردة للرياضيات، قلة إعطاء واجبات منزلية، قلة معرفة أولياء الأمور بمادة الرياضيات. أما بأسلوب كمي فانه يحتاج إلى إجراء عملية العد و التكرارات والنسب المئوية للبيانات التي تمثل متغيرات الدراس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4T18:41:03Z</dcterms:created>
  <dc:creator>shr</dc:creator>
  <dc:description/>
  <dc:language>en-US</dc:language>
  <cp:lastModifiedBy>shr</cp:lastModifiedBy>
  <dcterms:modified xsi:type="dcterms:W3CDTF">2016-02-16T16:44:13Z</dcterms:modified>
  <cp:revision>34</cp:revision>
  <dc:subject/>
  <dc:title>أنواع البحوث التربوية</dc:title>
</cp:coreProperties>
</file>