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A7F32-D333-4C22-BF26-94DC04ACA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8379D-4BD6-4714-9939-267B45DF1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DF3F2-79FD-4FC1-B5BE-D44923D9D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52D00-58B7-425A-9329-F5D4F9B7E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94D954-1603-4B0C-996B-D17C835CA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BA5D8-FF1A-40F2-95DC-FB2E22FFD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55EA8-0C67-4F56-B20F-38E0DBE98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8331BC-5A26-4BCC-8B5B-F5954EDA0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BF3945-3ED4-4D7C-9640-39A53B665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CF51F-80EB-420A-A2D3-6468EA0EF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5E4AA-A9B6-40A9-ADA7-62516AA7B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56B1E-EA66-4321-BFB2-01FCFF294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BB4F5-E9FB-42E0-90D2-7F739FB0F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ACEF3-8BF0-4A78-944E-A159641E2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16943E-97BD-4A11-B640-1CBAE0D2B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BF2E7-DD19-4384-BE44-5345B9AB2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C5F32-C76C-4A98-A923-CEF13B2B1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4C165B-30A0-4191-8000-70AE4A6E2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44FEB-1415-4D3B-BE43-B0C018479B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EBCB3-3DEF-4A91-A5C2-7B4BD1104E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B2CC94-5F3E-4D8B-9611-0DF2D1B47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925324-DD55-4BCD-AE0E-0EB33C69C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DC295-30AA-4415-BF3A-5E4A567D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2C196-E05F-4427-9644-345EF8349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EA8ECE-DC42-4EAD-ABBC-F1B59FB3F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B41EB-578C-4E1F-A0C6-924207A6D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192D0-49FE-4BD4-82F2-35ED1BA6A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DA3D97-74AA-488E-8FC6-803C499E35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996321-2CAD-4868-ACCB-510842731A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C03A7-8092-44E3-B062-05A371CE5A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A17929-5083-48E9-B854-AC94AD8BE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B85047-27D1-4B63-B2D7-1ECE3EEBA3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5C7DE4-0B4B-4CDF-A818-A8816BACE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9F123-BA3A-4EC9-B32C-0A6DCBA3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EB1BB7-70F5-43E5-95DE-E65715C17C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FB0276-2B45-4C04-901E-8EA685C12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2ED61-5CCA-4763-A596-262715CDF5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19810-418B-4E80-8678-86529D956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EE7855-FC46-4FF6-B8E4-629F31E409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79D2E-62FB-44F6-8010-63701B10E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0CB82-B5AE-4D8B-8A12-63B968AD5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EAF601-C473-46EB-8069-F3A90F1D5D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34FCB7-EE76-4A2A-87E6-C9797C90A3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204C65-A2EC-495B-B2B0-C2DAFF7C38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61B2E-9014-4AE1-B067-4C03016C3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2EDFCE-390D-414D-9C4A-FF82CAE831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F894F-0EA2-4F65-B99F-BDDBC5134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6D4E63-9991-4D09-BD49-C4029E454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ACE78-9B16-44D0-8DC4-19A93E7563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3D832D-EA3E-47FA-A794-9F82484021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B18D1-D6B4-48CE-912A-1F3AD6D48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7D0045-9F94-4F61-AF4A-5A432269E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432FA-8BE0-4DCB-8115-2A47E9C33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4B3053-D2F0-42BA-AD2F-C22F6EBCBC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9640EF-7B7E-4B94-8869-9FB7799DE8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2510A-9D76-477E-91D1-41A56634D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538ADA-B3CD-4BD8-BF4D-F612BAA6EE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11C41A-D35B-4F0D-89AF-CF6AFFDF6E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6682F0-F329-49BF-830F-671A5AD93C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1E9BA2-A52A-49ED-9FCF-A4658EC5DC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1456F6-C8B4-427C-9366-675B16A784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19C525-CEE4-4354-BDEC-61994158E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C510B6-872E-4E60-AD00-B1247AF8B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7B994-0228-4973-95C7-F6FA99462A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A219A-97A1-446A-A1CE-CA538AA63B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4C858C-23AF-4E6B-B4C7-1252203F93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D5889-2901-4049-BCE4-0A4D46561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0C520-55C2-41DD-A377-809F7A338A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1090C-C63C-4FB1-9B37-43C4E9A7B2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DDB35-C2CF-43C6-9A28-ED8D9C7E3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314229-8308-49DD-9351-288C794A5A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876A9-D0C5-415B-BA09-9AC293688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294809-6644-4A0F-8DE7-0AB090EB76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708189-1E06-453E-B920-ABB1F390B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6BE176-6459-4279-B24B-C375F4DB5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072D3-D343-4C09-BE8E-B61FEAD5A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9BAFE-98B8-4A10-BCFD-3EEE32B3E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33F8D-08EE-4062-8262-45478476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5C7707-189A-43F8-B7D7-0A945CAF8B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57389C-7134-4FE2-AF01-6E66E2DE7F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DE2BF-FC67-44BC-AA46-CAC01D54C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D8434B-78F5-49AD-8565-A8ABEC17EB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83E713-BBA4-4B0C-816D-4D6FD1C4F2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EE9464B-34B7-410E-A9AF-C2EE8226B3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0885F-7606-4EFC-B28D-B4EF39B991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9D91E0-2171-4D9B-827D-8EC81C0F444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43F0E6-950B-45E2-91B7-E0DFF4E8FA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E4A4B-2FC2-4F6E-9FD3-EFA45ED9F1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8FA5-0626-4FD8-84DD-26037B362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45E056-0A1E-4E1F-A4AB-28F967AE22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149EF-9DA0-4E73-89C2-7244AC5799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C9867-C875-4839-95BE-697A14E316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918C0C-5380-4606-A719-7E70F9A6A8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2A7BCA-B506-4514-8285-B739DE66BF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1EA224-DC16-4CE0-AF8E-4D8C66B971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1A53BF-D8A8-48E2-89FE-81DCCA18E96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12600" y="5784840"/>
            <a:ext cx="3414600" cy="1092240"/>
            <a:chOff x="-12600" y="5784840"/>
            <a:chExt cx="3414600" cy="1092240"/>
          </a:xfrm>
        </p:grpSpPr>
        <p:pic>
          <p:nvPicPr>
            <p:cNvPr id="3" name="مثلث قائم الزاوية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7BEC4-085B-4E3E-B76A-13976E28C00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9"/>
            <p:cNvGrpSpPr/>
            <p:nvPr/>
          </p:nvGrpSpPr>
          <p:grpSpPr>
            <a:xfrm>
              <a:off x="2520" y="4992120"/>
              <a:ext cx="9141480" cy="1872360"/>
              <a:chOff x="2520" y="4992120"/>
              <a:chExt cx="9141480" cy="1872360"/>
            </a:xfrm>
          </p:grpSpPr>
          <p:pic>
            <p:nvPicPr>
              <p:cNvPr id="52" name="شكل حر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102A-6C11-434D-A826-FFA65960EE1A}"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12600" y="5784840"/>
            <a:ext cx="3414600" cy="1092240"/>
            <a:chOff x="-12600" y="5784840"/>
            <a:chExt cx="3414600" cy="1092240"/>
          </a:xfrm>
        </p:grpSpPr>
        <p:pic>
          <p:nvPicPr>
            <p:cNvPr id="99" name="مثلث قائم الزاوية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2240"/>
            <a:ext cx="3421080" cy="11095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5DC6-ACD2-4EBB-BD0B-163F8A123825}"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12600" y="5784840"/>
            <a:ext cx="3414600" cy="1092240"/>
            <a:chOff x="-12600" y="5784840"/>
            <a:chExt cx="3414600" cy="1092240"/>
          </a:xfrm>
        </p:grpSpPr>
        <p:pic>
          <p:nvPicPr>
            <p:cNvPr id="148" name="مثلث قائم الزاوية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03FCD-E09E-422D-8880-93B57AA4EA22}"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3018-9D33-42CD-B045-C049E0C907C5}"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12600" y="5784840"/>
            <a:ext cx="3414600" cy="1092240"/>
            <a:chOff x="-12600" y="5784840"/>
            <a:chExt cx="3414600" cy="1092240"/>
          </a:xfrm>
        </p:grpSpPr>
        <p:pic>
          <p:nvPicPr>
            <p:cNvPr id="236" name="مثلث قائم الزاوية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005F8-6F8A-479D-91B8-812DA16AA40B}"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AD3B-9ED4-4FA4-8FB9-8E57E4EDC030}"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6"/>
          <p:cNvGrpSpPr/>
          <p:nvPr/>
        </p:nvGrpSpPr>
        <p:grpSpPr>
          <a:xfrm>
            <a:off x="-12600" y="5784840"/>
            <a:ext cx="3414600" cy="1092240"/>
            <a:chOff x="-12600" y="5784840"/>
            <a:chExt cx="3414600" cy="1092240"/>
          </a:xfrm>
        </p:grpSpPr>
        <p:pic>
          <p:nvPicPr>
            <p:cNvPr id="324" name="مثلث قائم الزاوية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8" descr=""/>
          <p:cNvPicPr/>
          <p:nvPr/>
        </p:nvPicPr>
        <p:blipFill>
          <a:blip r:embed="rId4"/>
          <a:stretch/>
        </p:blipFill>
        <p:spPr>
          <a:xfrm>
            <a:off x="-19080" y="5772240"/>
            <a:ext cx="3421080" cy="1109520"/>
          </a:xfrm>
          <a:prstGeom prst="rect">
            <a:avLst/>
          </a:prstGeom>
          <a:ln w="0">
            <a:noFill/>
          </a:ln>
        </p:spPr>
      </p:pic>
      <p:sp>
        <p:nvSpPr>
          <p:cNvPr id="327"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5BA5-A255-4045-832A-C3AFB9F3B1F3}"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76440" y="633240"/>
            <a:ext cx="7785000" cy="25117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464646"/>
                </a:solidFill>
                <a:latin typeface="Lucida Sans Unicode"/>
              </a:rPr>
              <a:t>تعريفها- تاريخها- فروضها – أهدافها –استخداماتها – أشكالها – صياغتها- بدائل الإجابة- تطبيقها- تقدير الدرجات- أشهر نماذج الاستخبارات</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178920" y="1196640"/>
            <a:ext cx="8713800" cy="5327640"/>
          </a:xfrm>
          <a:prstGeom prst="rect">
            <a:avLst/>
          </a:prstGeom>
          <a:noFill/>
          <a:ln w="0">
            <a:noFill/>
          </a:ln>
        </p:spPr>
        <p:txBody>
          <a:bodyPr anchor="t">
            <a:normAutofit fontScale="92000"/>
          </a:bodyPr>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b050"/>
                </a:solidFill>
                <a:latin typeface="Lucida Sans Unicode"/>
              </a:rPr>
              <a:t> الأسئلة مقابل العبارات:</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تصاغ بنود الاستخبار أما بشكل أسئلة أو عبارات تقريرية، لكن بعد العديد من البحوث وجد أن العبارات أفضل من الأسئلة لدى الأطفال والراشدين، كما ظهر أن المريض في جلسات العلاج النفسي يستجيب بتوسع أكبر وبحديث أكثر إسهاباً للعبارات وليس للأسئلة.</a:t>
            </a:r>
            <a:endParaRPr b="0" lang="en-US" sz="24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الأسئلة مفتوحة النهاية مقابل  المغلقة: </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فتوحة</a:t>
            </a:r>
            <a:r>
              <a:rPr b="0" lang="ar-SA" sz="2700" spc="-1" strike="noStrike">
                <a:solidFill>
                  <a:srgbClr val="00b0f0"/>
                </a:solidFill>
                <a:latin typeface="Lucida Sans Unicode"/>
              </a:rPr>
              <a:t>: </a:t>
            </a:r>
            <a:r>
              <a:rPr b="0" lang="ar-SA" sz="2700" spc="-1" strike="noStrike">
                <a:solidFill>
                  <a:srgbClr val="000000"/>
                </a:solidFill>
                <a:latin typeface="Lucida Sans Unicode"/>
              </a:rPr>
              <a:t>تسمى  الصيغة لحرة أو غير المشكلة وتثير استجابات حرة أو مفتوحة، وتناسب البحوث الكيفي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الأسئلة المغلقة: </a:t>
            </a:r>
            <a:r>
              <a:rPr b="0" lang="ar-SA" sz="2700" spc="-1" strike="noStrike">
                <a:solidFill>
                  <a:srgbClr val="000000"/>
                </a:solidFill>
                <a:latin typeface="Lucida Sans Unicode"/>
              </a:rPr>
              <a:t>تسمى أسئلة ذات الاختيار المقيد، وتتطلب من المفحوص أن يختار بين مجموعة من الاستجابات المقدمة له، وتناسب البحوث الكمية.</a:t>
            </a: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b050"/>
                </a:solidFill>
                <a:latin typeface="Lucida Sans Unicode"/>
              </a:rPr>
              <a:t> عدد فئات الإجابة: </a:t>
            </a:r>
            <a:r>
              <a:rPr b="0" lang="ar-SA" sz="2700" spc="-1" strike="noStrike">
                <a:solidFill>
                  <a:srgbClr val="000000"/>
                </a:solidFill>
                <a:latin typeface="Lucida Sans Unicode"/>
              </a:rPr>
              <a:t>الأفضل بشكل عام احتمالات الإجابة التي تشتمل على بدائل تتراوح مابين خمسة إلى التسعة.</a:t>
            </a:r>
            <a:endParaRPr b="0" lang="en-US" sz="2700" spc="-1" strike="noStrike">
              <a:solidFill>
                <a:srgbClr val="000000"/>
              </a:solidFill>
              <a:latin typeface="Lucida Sans Unicode"/>
            </a:endParaRPr>
          </a:p>
          <a:p>
            <a:pPr algn="just"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9"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79280" y="1268280"/>
            <a:ext cx="8785440" cy="5400720"/>
          </a:xfrm>
          <a:prstGeom prst="rect">
            <a:avLst/>
          </a:prstGeom>
          <a:noFill/>
          <a:ln w="0">
            <a:noFill/>
          </a:ln>
        </p:spPr>
        <p:txBody>
          <a:bodyPr anchor="t">
            <a:normAutofit fontScale="92000"/>
          </a:bodyPr>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قدم بنود الاستخبار على شكل أسئلة أو عبارات تقريرية، ويجيب المفحوص عنها على ضوء فئات للإجابة أو بدائل محددة سلفاً، ويطلب منه اختيار بديل واحد إجابة عن كل بند. وهناك خمس فئات، كل واحدة مستقلة عن الأخرى وهي كما يلي: </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أ- صيغة الاختيار من بديلين.</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نعم، لا – صواب، خطأ</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ب- صياغة الاختيار من ثلاث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غير متأكد تضاف إلى الصيغة السابقة بديل ثالث</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ج- صياغة الاختيار بين أربع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لا، أحياناً، مطلق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د- صياغة الاختيار بين خمسة بدائل.</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مثل: أبداً، نادراً، أحياناً، كثيراً، دائماً.</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هـ- الاختيار المقيد بين عدد من البنود.</a:t>
            </a:r>
            <a:endParaRPr b="0" lang="en-US" sz="2300" spc="-1" strike="noStrike">
              <a:solidFill>
                <a:srgbClr val="000000"/>
              </a:solidFill>
              <a:latin typeface="Lucida Sans Unicode"/>
            </a:endParaRPr>
          </a:p>
          <a:p>
            <a:pPr marL="335520" indent="-23508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تكون البدال على شكل عبارات ذات شدة مختلفة في إطار السمة أو العرض ذاته.</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 الفئة الوسطى:</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Lucida Sans Unicode"/>
              </a:rPr>
              <a:t>يعبر عنها بعبارات مثل: لا أعرف، محايد، غير مكترث، لا تعليق.</a:t>
            </a:r>
            <a:endParaRPr b="0" lang="en-US" sz="2300" spc="-1" strike="noStrike">
              <a:solidFill>
                <a:srgbClr val="000000"/>
              </a:solidFill>
              <a:latin typeface="Lucida Sans Unicode"/>
            </a:endParaRPr>
          </a:p>
          <a:p>
            <a:pPr marL="335520" indent="-23508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1faecd"/>
                </a:solidFill>
                <a:latin typeface="Lucida Sans Unicode"/>
              </a:rPr>
              <a:t>فئة ( لاأعرف) أو (لا رأي لي).</a:t>
            </a:r>
            <a:endParaRPr b="0" lang="en-US" sz="2300" spc="-1" strike="noStrike">
              <a:solidFill>
                <a:srgbClr val="000000"/>
              </a:solidFill>
              <a:latin typeface="Lucida Sans Unicode"/>
            </a:endParaRPr>
          </a:p>
        </p:txBody>
      </p:sp>
      <p:pic>
        <p:nvPicPr>
          <p:cNvPr id="391"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طبق الاختبار فردي أو جمعي.</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تقليل من أثر العوامل الدخيلة .. ويفضل أن يطبق الاستخبار صباحاً لتجنب تأثير التعب.</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عدم تعجل المفحوص في الاستخبارات الغير موقوت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أن لا يكون الاستخبار طويلاً ممل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جب تكوين علاقة ودية تمتاز بمرونة الفاحص وعدم عدوانيته، وأن يكون غير متصيد للأخطاء.</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الأخذ بعين الاعتبار تعليمات الاستخبار.</a:t>
            </a:r>
            <a:endParaRPr b="0" lang="en-US" sz="2700" spc="-1" strike="noStrike">
              <a:solidFill>
                <a:srgbClr val="000000"/>
              </a:solidFill>
              <a:latin typeface="Lucida Sans Unicode"/>
            </a:endParaRPr>
          </a:p>
        </p:txBody>
      </p:sp>
      <p:pic>
        <p:nvPicPr>
          <p:cNvPr id="39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179280" y="1197000"/>
            <a:ext cx="8785440" cy="5116320"/>
          </a:xfrm>
          <a:prstGeom prst="rect">
            <a:avLst/>
          </a:prstGeom>
          <a:noFill/>
          <a:ln w="0">
            <a:noFill/>
          </a:ln>
        </p:spPr>
        <p:txBody>
          <a:bodyPr anchor="t">
            <a:normAutofit fontScale="95000"/>
          </a:bodyPr>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بعد أن يجيب المفحوص تقدر درجات الاستخبار أي يصحح، واهم طرق التصحيح أربع كما يلي: </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أ- مفتاح التصحيح: </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جمع العلامات التي وضعها المفحوص على أحد احتمالات الإجابة، والتي تطابق مفتاح التصحيح نخصل على الدرجة الكلية ل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 الجمع البسيط:</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جمع كل فئة من فئات الاستجابة على حدة، كمجموع موافق جداً، ومجموع موافق وهكذا..</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 تحديد أوزان للاستجابة:</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تحويل فئات الاستجابة إلى أوزان، ثم تجمع هذه الأوزان، وتمثل الدرجة الكلية على الاستخبار.</a:t>
            </a:r>
            <a:endParaRPr b="0" lang="en-US" sz="2500" spc="-1" strike="noStrike">
              <a:solidFill>
                <a:srgbClr val="000000"/>
              </a:solidFill>
              <a:latin typeface="Lucida Sans Unicode"/>
            </a:endParaRPr>
          </a:p>
          <a:p>
            <a:pPr marL="346680" indent="-24264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د- التصحيح الآلي:</a:t>
            </a:r>
            <a:endParaRPr b="0" lang="en-US" sz="2500" spc="-1" strike="noStrike">
              <a:solidFill>
                <a:srgbClr val="000000"/>
              </a:solidFill>
              <a:latin typeface="Lucida Sans Unicode"/>
            </a:endParaRPr>
          </a:p>
          <a:p>
            <a:pPr marL="346680" indent="-24264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يكون هناك أوراق مستقلة للإجابة، ويقوم المفحوص بتسويد مكان الإجابة بقلم رصاص يمكن قراءته عن طريق جهاز آلي فاحص. ثم تستخرج الدرجة الكلية وتقارن بالمعايير، ويخرج الحاسب تقرير مطبوع عن كل مفحوص.</a:t>
            </a:r>
            <a:endParaRPr b="0" lang="en-US" sz="2500" spc="-1" strike="noStrike">
              <a:solidFill>
                <a:srgbClr val="000000"/>
              </a:solidFill>
              <a:latin typeface="Lucida Sans Unicode"/>
            </a:endParaRPr>
          </a:p>
        </p:txBody>
      </p:sp>
      <p:pic>
        <p:nvPicPr>
          <p:cNvPr id="39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179280" y="1481040"/>
            <a:ext cx="8785440" cy="4972320"/>
          </a:xfrm>
          <a:prstGeom prst="rect">
            <a:avLst/>
          </a:prstGeom>
          <a:noFill/>
          <a:ln w="0">
            <a:noFill/>
          </a:ln>
        </p:spPr>
        <p:txBody>
          <a:bodyPr anchor="t">
            <a:normAutofit fontScale="99000"/>
          </a:bodyPr>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يمكن أن تصنف الدرجات المستخرجة من الاستخبار إلى أربعة أنواع كما يلي: </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أ- السمات النوع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الدرجات هنا إلى سمات كالعصابية، الانبساطية، الثقة بالنفس.....</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ب-</a:t>
            </a:r>
            <a:r>
              <a:rPr b="0" lang="ar-SA" sz="2100" spc="-1" strike="noStrike">
                <a:solidFill>
                  <a:srgbClr val="1faecd"/>
                </a:solidFill>
                <a:latin typeface="Lucida Sans Unicode"/>
              </a:rPr>
              <a:t> </a:t>
            </a:r>
            <a:r>
              <a:rPr b="1" lang="ar-SA" sz="2100" spc="-1" strike="noStrike">
                <a:solidFill>
                  <a:srgbClr val="1faecd"/>
                </a:solidFill>
                <a:latin typeface="Lucida Sans Unicode"/>
              </a:rPr>
              <a:t>المجموعة الإكلينيكي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شير إلى مجموعة إكلينيكية مثل مجموعة الفصاميين أو السيكوباتيين.... مثل قائمة مينسوتا متعدد الاوجه.</a:t>
            </a: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ج- التوافق:</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فسر الدرجة المستخرجة من قوائم مثل قائمة “كاليفورنيا النفسية“ من وضع جف،،، وقائمة ”بل“ للتوافق على أساس مدى نجاح الفرد في توافقه لمختلف جوانب البيئة كالمنزل أو المدرسة.</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1faecd"/>
                </a:solidFill>
                <a:latin typeface="Lucida Sans Unicode"/>
              </a:rPr>
              <a:t>د- تقبل الذات:</a:t>
            </a:r>
            <a:endParaRPr b="0" lang="en-US" sz="2100" spc="-1" strike="noStrike">
              <a:solidFill>
                <a:srgbClr val="000000"/>
              </a:solidFill>
              <a:latin typeface="Lucida Sans Unicode"/>
            </a:endParaRPr>
          </a:p>
          <a:p>
            <a:pPr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ثل مقاييس مفهوم الذات، حيث يقابل الفاحص بين الذات الواقعية والمثالية، أو تقارن الأوصاف الذاتية المرغوبة بغير المرغوبة، بهدف استخراج مقاييس للمفارقة بين الذات وتقبل الذات.</a:t>
            </a:r>
            <a:endParaRPr b="0" lang="en-US" sz="2100" spc="-1" strike="noStrike">
              <a:solidFill>
                <a:srgbClr val="000000"/>
              </a:solidFill>
              <a:latin typeface="Lucida Sans Unicode"/>
            </a:endParaRPr>
          </a:p>
        </p:txBody>
      </p:sp>
      <p:pic>
        <p:nvPicPr>
          <p:cNvPr id="39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60" y="1196640"/>
            <a:ext cx="8893080" cy="5545080"/>
          </a:xfrm>
          <a:prstGeom prst="rect">
            <a:avLst/>
          </a:prstGeom>
          <a:noFill/>
          <a:ln w="0">
            <a:noFill/>
          </a:ln>
        </p:spPr>
        <p:txBody>
          <a:bodyPr anchor="t">
            <a:normAutofit/>
          </a:bodyPr>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تغير صياغة البنود. والحل إحكام صياغة بنود الاستخبارات ليكون فهم المفحوصين لها واحداً.</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صيغ الإ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اتجاهات المفحوصين نحو الاستخبار.</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نوع العوامل التي تؤثر في الاستجابة. منها اتجاه المفحوص نحو موقف القياس بشكل عام، وذكاءه ومدى فهمه للأسئل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لتفسير الذاتي ونقص المعنى النسب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نقص استبصار المفحوص ومعرفته بنفس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الحالة المزاجية الراهنة والخبرات الحديث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عدم الدقة في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اختلاف ظروف التطبيق عن ظروف التقن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ات الاستخدام في مجال الطب النفس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عامل التعليم الراقي.</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تأثير كتابة المفحوص لاسمه.</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النتائج المستخرجة من عينات متطوعين.</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تا الثبات والصدق.</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تزييف المفحوص للاستجابة.</a:t>
            </a:r>
            <a:endParaRPr b="0" lang="en-US" sz="2100" spc="-1" strike="noStrike">
              <a:solidFill>
                <a:srgbClr val="000000"/>
              </a:solidFill>
              <a:latin typeface="Lucida Sans Unicode"/>
            </a:endParaRPr>
          </a:p>
          <a:p>
            <a:pPr marL="365040" indent="-255600" algn="r"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Lucida Sans Unicode"/>
              </a:rPr>
              <a:t>مشكلة أساليب الاستجابة.</a:t>
            </a:r>
            <a:endParaRPr b="0" lang="en-US" sz="2100" spc="-1" strike="noStrike">
              <a:solidFill>
                <a:srgbClr val="000000"/>
              </a:solidFill>
              <a:latin typeface="Lucida Sans Unicode"/>
            </a:endParaRPr>
          </a:p>
        </p:txBody>
      </p:sp>
      <p:pic>
        <p:nvPicPr>
          <p:cNvPr id="399"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مصدر مهم للمعلومات عن سلوك الفرد.</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كثر نضجاً من بقية طرق تقدير الشخص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لومات قيمة عن توزيع السمات لدى الجمهو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مدنا بمعدلات انتشار بعض الاضطرابات النفسية لدى مختلف شرائح المجتمع.</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وضوعية في جمع البيانات، وتقدير الدرجات وتفسير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رونة، وانخفاض التكلف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ستخدم بنجاح في المجال الإرشادي والإكلينيكي.</a:t>
            </a:r>
            <a:endParaRPr b="0" lang="en-US" sz="2700" spc="-1" strike="noStrike">
              <a:solidFill>
                <a:srgbClr val="000000"/>
              </a:solidFill>
              <a:latin typeface="Lucida Sans Unicode"/>
            </a:endParaRPr>
          </a:p>
        </p:txBody>
      </p:sp>
      <p:pic>
        <p:nvPicPr>
          <p:cNvPr id="401"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0680"/>
            <a:ext cx="8229600" cy="5116680"/>
          </a:xfrm>
          <a:prstGeom prst="rect">
            <a:avLst/>
          </a:prstGeom>
          <a:noFill/>
          <a:ln w="0">
            <a:noFill/>
          </a:ln>
        </p:spPr>
        <p:txBody>
          <a:bodyPr anchor="t">
            <a:normAutofit/>
          </a:bodyPr>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ينيسوتا متعدد الأوجه للشخصي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عوامل الخمسة الكبرى.</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ستخبار ايزنك.</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قائمة القلق: الحالة والسمة.</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مسح المخاوف.</a:t>
            </a:r>
            <a:endParaRPr b="0" lang="en-US" sz="3000" spc="-1" strike="noStrike">
              <a:solidFill>
                <a:srgbClr val="000000"/>
              </a:solidFill>
              <a:latin typeface="Lucida Sans Unicode"/>
            </a:endParaRPr>
          </a:p>
          <a:p>
            <a:pPr marL="365040" indent="-25560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a:p>
            <a:pPr marL="365040" indent="-25560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قائمة بك للاكتئاب.</a:t>
            </a:r>
            <a:endParaRPr b="0" lang="en-US" sz="3000" spc="-1" strike="noStrike">
              <a:solidFill>
                <a:srgbClr val="000000"/>
              </a:solidFill>
              <a:latin typeface="Lucida Sans Unicode"/>
            </a:endParaRPr>
          </a:p>
        </p:txBody>
      </p:sp>
      <p:pic>
        <p:nvPicPr>
          <p:cNvPr id="403" name="عنوان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362800" cy="4525920"/>
          </a:xfrm>
          <a:prstGeom prst="rect">
            <a:avLst/>
          </a:prstGeom>
          <a:noFill/>
          <a:ln w="0">
            <a:noFill/>
          </a:ln>
        </p:spPr>
        <p:txBody>
          <a:bodyPr anchor="t">
            <a:normAutofit fontScale="86000"/>
          </a:bodyPr>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الاستخبار في اللغة العربية من السؤال عن الخبر، من باب خبر وهو واحد من الأخبار، وخبر الأمر علمه.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هي طريقة من طرق قياس الشخصية أو نوع من أنواع المقابلة المقننة.</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شتمل الاستخبار على مجموعة من الأسئلة  أو العبارات التقريرية التي يجيب عنها المفحوص كتابياً وأمام كل سؤال أو عبارة عدة بدائل. </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يقيس الاستخبار سمة واحدة و أحياناً يقيس مجموعة من السمات.</a:t>
            </a:r>
            <a:endParaRPr b="0" lang="en-US" sz="3000" spc="-1" strike="noStrike">
              <a:solidFill>
                <a:srgbClr val="000000"/>
              </a:solidFill>
              <a:latin typeface="Lucida Sans Unicode"/>
            </a:endParaRPr>
          </a:p>
          <a:p>
            <a:pPr marL="313920" indent="-219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Lucida Sans Unicode"/>
              </a:rPr>
              <a:t> استخبارات الشخصية تهدف إلى تقدير الجوانب الوجدانية والانفعالية والنواحي الاجتماعية المتعلقة بالتوافق أو سوء التوافق.</a:t>
            </a:r>
            <a:endParaRPr b="0" lang="en-US" sz="3000" spc="-1" strike="noStrike">
              <a:solidFill>
                <a:srgbClr val="000000"/>
              </a:solidFill>
              <a:latin typeface="Lucida Sans Unicode"/>
            </a:endParaRPr>
          </a:p>
        </p:txBody>
      </p:sp>
      <p:pic>
        <p:nvPicPr>
          <p:cNvPr id="37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fontScale="97000"/>
          </a:bodyPr>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رنسس جولتون“ عام </a:t>
            </a:r>
            <a:r>
              <a:rPr b="0" lang="ar-SA" sz="2700" spc="-1" strike="noStrike">
                <a:solidFill>
                  <a:srgbClr val="000000"/>
                </a:solidFill>
                <a:latin typeface="Lucida Sans Unicode"/>
              </a:rPr>
              <a:t>1880</a:t>
            </a:r>
            <a:r>
              <a:rPr b="0" lang="ar-SA" sz="2700" spc="-1" strike="noStrike">
                <a:solidFill>
                  <a:srgbClr val="000000"/>
                </a:solidFill>
                <a:latin typeface="Lucida Sans Unicode"/>
              </a:rPr>
              <a:t>م، صمم أول استخبار للشخصية في محاولة لدراسة العالم الداخل للإدراك والمشاعر.</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دارون، جولتون“ وزعوا بعض الأشكال البسيطة من الاستخبارات في انجلترا ، وتبعهم ” بيرسون“ عام </a:t>
            </a:r>
            <a:r>
              <a:rPr b="0" lang="ar-SA" sz="2700" spc="-1" strike="noStrike">
                <a:solidFill>
                  <a:srgbClr val="000000"/>
                </a:solidFill>
                <a:latin typeface="Lucida Sans Unicode"/>
              </a:rPr>
              <a:t>1904</a:t>
            </a:r>
            <a:r>
              <a:rPr b="0" lang="ar-SA" sz="2700" spc="-1" strike="noStrike">
                <a:solidFill>
                  <a:srgbClr val="000000"/>
                </a:solidFill>
                <a:latin typeface="Lucida Sans Unicode"/>
              </a:rPr>
              <a:t>م.</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ستانلي هول“ استخدم الاستخبارات في أواخر القرن الماضي في دراساته عن تطور المراهقة.</a:t>
            </a:r>
            <a:endParaRPr b="0" lang="en-US" sz="2700" spc="-1" strike="noStrike">
              <a:solidFill>
                <a:srgbClr val="000000"/>
              </a:solidFill>
              <a:latin typeface="Lucida Sans Unicode"/>
            </a:endParaRPr>
          </a:p>
          <a:p>
            <a:pPr marL="353880" indent="-24768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ودوورث“ وضع صحيفة البيانات الشخصية عام </a:t>
            </a:r>
            <a:r>
              <a:rPr b="0" lang="ar-SA" sz="2700" spc="-1" strike="noStrike">
                <a:solidFill>
                  <a:srgbClr val="000000"/>
                </a:solidFill>
                <a:latin typeface="Lucida Sans Unicode"/>
              </a:rPr>
              <a:t>1919</a:t>
            </a:r>
            <a:r>
              <a:rPr b="0" lang="ar-SA" sz="2700" spc="-1" strike="noStrike">
                <a:solidFill>
                  <a:srgbClr val="000000"/>
                </a:solidFill>
                <a:latin typeface="Lucida Sans Unicode"/>
              </a:rPr>
              <a:t>م وهي الميلاد الحقيقي لصورة الاستخبارات بصورتها الحالية.حيث وضعت الصحيفة بهدف فرز الغير لائقين عقلياً كجنود في الحرب العالمية الأولى.</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fontScale="99000"/>
          </a:bodyPr>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بين الحرب العالميتين استخبارات كثيرة تقيس سمات عامه أو محدده كالانبساط –الانطواء، السيطرة- الخضوع، الامان-عدم الامان...........</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عام </a:t>
            </a:r>
            <a:r>
              <a:rPr b="0" lang="ar-SA" sz="2700" spc="-1" strike="noStrike">
                <a:solidFill>
                  <a:srgbClr val="000000"/>
                </a:solidFill>
                <a:latin typeface="Lucida Sans Unicode"/>
              </a:rPr>
              <a:t>1939</a:t>
            </a:r>
            <a:r>
              <a:rPr b="0" lang="ar-SA" sz="2700" spc="-1" strike="noStrike">
                <a:solidFill>
                  <a:srgbClr val="000000"/>
                </a:solidFill>
                <a:latin typeface="Lucida Sans Unicode"/>
              </a:rPr>
              <a:t>م، بدأ تأليف قائمة مينسوت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ي الاربعينات نشر جيلفورد القائم العاملية في مجال ا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كما نشر ”كاتل“ قائمته ذات السته عشر عاملاً للشخصية.</a:t>
            </a:r>
            <a:endParaRPr b="0" lang="en-US" sz="2700" spc="-1" strike="noStrike">
              <a:solidFill>
                <a:srgbClr val="000000"/>
              </a:solidFill>
              <a:latin typeface="Lucida Sans Unicode"/>
            </a:endParaRPr>
          </a:p>
          <a:p>
            <a:pPr marL="361080" indent="-25272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في نهاية الخمسينات نشر ايزنك قائمة“ مودسلي“ للشخصية، وفي بداية التسعينات نشر مع زوجته مقاييس ايزنك للشخصية.</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9280" y="1481040"/>
            <a:ext cx="8785440" cy="4525920"/>
          </a:xfrm>
          <a:prstGeom prst="rect">
            <a:avLst/>
          </a:prstGeom>
          <a:noFill/>
          <a:ln w="0">
            <a:noFill/>
          </a:ln>
        </p:spPr>
        <p:txBody>
          <a:bodyPr anchor="t">
            <a:normAutofit fontScale="91000"/>
          </a:bodyPr>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السلوك اللفظي ليس عشوائياً بل مرتبط بالخصائص الفردية الدائمة أو ذات المدى الطويل.</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Lucida Sans Unicode"/>
              </a:rPr>
              <a:t>هناك ثلاثة افتراضات يوردها ”ستاجنر“ وهي:</a:t>
            </a: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1faecd"/>
                </a:solidFill>
                <a:latin typeface="Lucida Sans Unicode"/>
              </a:rPr>
              <a:t> أ- </a:t>
            </a:r>
            <a:r>
              <a:rPr b="1" lang="ar-SA" sz="2500" spc="-1" strike="noStrike">
                <a:solidFill>
                  <a:srgbClr val="1faecd"/>
                </a:solidFill>
                <a:latin typeface="Lucida Sans Unicode"/>
              </a:rPr>
              <a:t>السمات</a:t>
            </a:r>
            <a:r>
              <a:rPr b="0" lang="ar-SA" sz="2500" spc="-1" strike="noStrike">
                <a:solidFill>
                  <a:srgbClr val="1faecd"/>
                </a:solidFill>
                <a:latin typeface="Lucida Sans Unicode"/>
              </a:rPr>
              <a:t> </a:t>
            </a:r>
            <a:r>
              <a:rPr b="1" lang="ar-SA" sz="2500" spc="-1" strike="noStrike">
                <a:solidFill>
                  <a:srgbClr val="1faecd"/>
                </a:solidFill>
                <a:latin typeface="Lucida Sans Unicode"/>
              </a:rPr>
              <a:t>المشتركة</a:t>
            </a:r>
            <a:r>
              <a:rPr b="0" lang="ar-SA" sz="2500" spc="-1" strike="noStrike">
                <a:solidFill>
                  <a:srgbClr val="1faecd"/>
                </a:solidFill>
                <a:latin typeface="Lucida Sans Unicode"/>
              </a:rPr>
              <a:t>: </a:t>
            </a:r>
            <a:r>
              <a:rPr b="0" lang="ar-SA" sz="2500" spc="-1" strike="noStrike">
                <a:solidFill>
                  <a:srgbClr val="000000"/>
                </a:solidFill>
                <a:latin typeface="Lucida Sans Unicode"/>
              </a:rPr>
              <a:t>هي تراكيب متشابهة في أساسها على المستوى الكيفي وليس الكمي لدى جميع الأشخاص، وهذه السمات قابله للتدرج لوحدات. مثلا سمة الاتزان الانفعالي والمثابرة مشتركة لدى الجميع لكن اختلافها كمياً.</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ب-الطبيعة</a:t>
            </a:r>
            <a:r>
              <a:rPr b="0" lang="ar-SA" sz="2500" spc="-1" strike="noStrike">
                <a:solidFill>
                  <a:srgbClr val="1faecd"/>
                </a:solidFill>
                <a:latin typeface="Lucida Sans Unicode"/>
              </a:rPr>
              <a:t> </a:t>
            </a:r>
            <a:r>
              <a:rPr b="1" lang="ar-SA" sz="2500" spc="-1" strike="noStrike">
                <a:solidFill>
                  <a:srgbClr val="1faecd"/>
                </a:solidFill>
                <a:latin typeface="Lucida Sans Unicode"/>
              </a:rPr>
              <a:t>الكمية</a:t>
            </a:r>
            <a:r>
              <a:rPr b="0" lang="ar-SA" sz="2500" spc="-1" strike="noStrike">
                <a:solidFill>
                  <a:srgbClr val="1faecd"/>
                </a:solidFill>
                <a:latin typeface="Lucida Sans Unicode"/>
              </a:rPr>
              <a:t> </a:t>
            </a:r>
            <a:r>
              <a:rPr b="1" lang="ar-SA" sz="2500" spc="-1" strike="noStrike">
                <a:solidFill>
                  <a:srgbClr val="1faecd"/>
                </a:solidFill>
                <a:latin typeface="Lucida Sans Unicode"/>
              </a:rPr>
              <a:t>للسمات: </a:t>
            </a:r>
            <a:r>
              <a:rPr b="0" lang="ar-SA" sz="2500" spc="-1" strike="noStrike">
                <a:solidFill>
                  <a:srgbClr val="000000"/>
                </a:solidFill>
                <a:latin typeface="Lucida Sans Unicode"/>
              </a:rPr>
              <a:t>تختلف السمات بين الأفراد اختلافا كمياً وليس كيفياً وتقدر هذه السمات كمياَ عن طريق جمع عدد المؤشرات التي تدل على السمة.</a:t>
            </a:r>
            <a:endParaRPr b="0" lang="en-US" sz="2500" spc="-1" strike="noStrike">
              <a:solidFill>
                <a:srgbClr val="000000"/>
              </a:solidFill>
              <a:latin typeface="Lucida Sans Unicode"/>
            </a:endParaRPr>
          </a:p>
          <a:p>
            <a:pPr marL="331920" indent="-232560" algn="just"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31920" indent="-232560" algn="just" rtl="1">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a:solidFill>
                  <a:srgbClr val="1faecd"/>
                </a:solidFill>
                <a:latin typeface="Lucida Sans Unicode"/>
              </a:rPr>
              <a:t>ج-العلاقة</a:t>
            </a:r>
            <a:r>
              <a:rPr b="0" lang="ar-SA" sz="2500" spc="-1" strike="noStrike">
                <a:solidFill>
                  <a:srgbClr val="1faecd"/>
                </a:solidFill>
                <a:latin typeface="Lucida Sans Unicode"/>
              </a:rPr>
              <a:t> </a:t>
            </a:r>
            <a:r>
              <a:rPr b="1" lang="ar-SA" sz="2500" spc="-1" strike="noStrike">
                <a:solidFill>
                  <a:srgbClr val="1faecd"/>
                </a:solidFill>
                <a:latin typeface="Lucida Sans Unicode"/>
              </a:rPr>
              <a:t>مع</a:t>
            </a:r>
            <a:r>
              <a:rPr b="0" lang="ar-SA" sz="2500" spc="-1" strike="noStrike">
                <a:solidFill>
                  <a:srgbClr val="1faecd"/>
                </a:solidFill>
                <a:latin typeface="Lucida Sans Unicode"/>
              </a:rPr>
              <a:t> </a:t>
            </a:r>
            <a:r>
              <a:rPr b="1" lang="ar-SA" sz="2500" spc="-1" strike="noStrike">
                <a:solidFill>
                  <a:srgbClr val="1faecd"/>
                </a:solidFill>
                <a:latin typeface="Lucida Sans Unicode"/>
              </a:rPr>
              <a:t>تركيب</a:t>
            </a:r>
            <a:r>
              <a:rPr b="0" lang="ar-SA" sz="2500" spc="-1" strike="noStrike">
                <a:solidFill>
                  <a:srgbClr val="1faecd"/>
                </a:solidFill>
                <a:latin typeface="Lucida Sans Unicode"/>
              </a:rPr>
              <a:t> </a:t>
            </a:r>
            <a:r>
              <a:rPr b="1" lang="ar-SA" sz="2500" spc="-1" strike="noStrike">
                <a:solidFill>
                  <a:srgbClr val="1faecd"/>
                </a:solidFill>
                <a:latin typeface="Lucida Sans Unicode"/>
              </a:rPr>
              <a:t>داخلي: </a:t>
            </a:r>
            <a:r>
              <a:rPr b="0" lang="ar-SA" sz="2500" spc="-1" strike="noStrike">
                <a:solidFill>
                  <a:srgbClr val="000000"/>
                </a:solidFill>
                <a:latin typeface="Lucida Sans Unicode"/>
              </a:rPr>
              <a:t>درجة الشخص على الاستخبار تعكس بعضا من خصائصه الذاتية أو جانبا من التركيب الداخلي لديه فيما يختص بالسمة المقيسة كما يدركها هو ذاته وليس كما يدركها الآخرين عنه.</a:t>
            </a:r>
            <a:endParaRPr b="0" lang="en-US" sz="2500" spc="-1" strike="noStrike">
              <a:solidFill>
                <a:srgbClr val="000000"/>
              </a:solidFill>
              <a:latin typeface="Lucida Sans Unicode"/>
            </a:endParaRPr>
          </a:p>
        </p:txBody>
      </p:sp>
      <p:pic>
        <p:nvPicPr>
          <p:cNvPr id="379"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79280" y="1481040"/>
            <a:ext cx="8785440" cy="4525920"/>
          </a:xfrm>
          <a:prstGeom prst="rect">
            <a:avLst/>
          </a:prstGeom>
          <a:noFill/>
          <a:ln w="0">
            <a:noFill/>
          </a:ln>
        </p:spPr>
        <p:txBody>
          <a:bodyPr anchor="t">
            <a:normAutofit fontScale="96000"/>
          </a:bodyPr>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3200" spc="-1" strike="noStrike">
                <a:solidFill>
                  <a:srgbClr val="000000"/>
                </a:solidFill>
                <a:latin typeface="Lucida Sans Unicode"/>
              </a:rPr>
              <a:t>اكتشاف حقائق والحصول على معلومات عامة وخاصة عن الفرد.</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معتقدات الفرد وآرائه و تحيزاته.</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وصل إلى مشاعره تجاه موضوعات معينة في المجتمع.</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لتعرف على السلوك الماضي أو الحاضر له في موقف معين.</a:t>
            </a:r>
            <a:endParaRPr b="0" lang="en-US" sz="3200" spc="-1" strike="noStrike">
              <a:solidFill>
                <a:srgbClr val="000000"/>
              </a:solidFill>
              <a:latin typeface="Lucida Sans Unicode"/>
            </a:endParaRPr>
          </a:p>
          <a:p>
            <a:pPr marL="350280" indent="-2451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Lucida Sans Unicode"/>
              </a:rPr>
              <a:t> اكتشاف الأسباب الشعورية لمعتقداته واتجاهاته وسلوكه.</a:t>
            </a:r>
            <a:endParaRPr b="0" lang="en-US" sz="3200" spc="-1" strike="noStrike">
              <a:solidFill>
                <a:srgbClr val="000000"/>
              </a:solidFill>
              <a:latin typeface="Lucida Sans Unicode"/>
            </a:endParaRPr>
          </a:p>
        </p:txBody>
      </p:sp>
      <p:pic>
        <p:nvPicPr>
          <p:cNvPr id="381"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1faecd"/>
                </a:solidFill>
                <a:latin typeface="Lucida Sans Unicode"/>
              </a:rPr>
              <a:t>أ- في مجال الاختيار: </a:t>
            </a:r>
            <a:r>
              <a:rPr b="0" lang="ar-SA" sz="2700" spc="-1" strike="noStrike">
                <a:solidFill>
                  <a:srgbClr val="000000"/>
                </a:solidFill>
                <a:latin typeface="Lucida Sans Unicode"/>
              </a:rPr>
              <a:t>الانتقاء والترقية للمناصب القيادية، الدخول لميدان التدريب، الالتحاق بالمدارس والجامعات، نقل الأطفال ذوي التوافق السيئ إلى المدارس الخاص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ب- في مجال الإرشاد والعلاج: </a:t>
            </a:r>
            <a:r>
              <a:rPr b="0" lang="ar-SA" sz="2700" spc="-1" strike="noStrike">
                <a:solidFill>
                  <a:srgbClr val="000000"/>
                </a:solidFill>
                <a:latin typeface="Lucida Sans Unicode"/>
              </a:rPr>
              <a:t>جمع البيانات عن المفحوص، تقدير الشخصية قبل العلاج وبعده، مد الشخص بمعلومات عن ميوله واتجاهاته لاتخاذه قرارات تعليمية أو مهني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faecd"/>
                </a:solidFill>
                <a:latin typeface="Lucida Sans Unicode"/>
              </a:rPr>
              <a:t> ج- في مجال البحوث: </a:t>
            </a:r>
            <a:r>
              <a:rPr b="0" lang="ar-SA" sz="2700" spc="-1" strike="noStrike">
                <a:solidFill>
                  <a:srgbClr val="000000"/>
                </a:solidFill>
                <a:latin typeface="Lucida Sans Unicode"/>
              </a:rPr>
              <a:t>بيان مدى تأثر التلاميذ ببرنامج معين،  تأثير برامج العنف على الأطفال، دراسة شخصية المرضى بأمراض عضوية أخرى....</a:t>
            </a:r>
            <a:endParaRPr b="0" lang="en-US" sz="2700" spc="-1" strike="noStrike">
              <a:solidFill>
                <a:srgbClr val="000000"/>
              </a:solidFill>
              <a:latin typeface="Lucida Sans Unicode"/>
            </a:endParaRPr>
          </a:p>
        </p:txBody>
      </p:sp>
      <p:pic>
        <p:nvPicPr>
          <p:cNvPr id="383"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507520" cy="4525920"/>
          </a:xfrm>
          <a:prstGeom prst="rect">
            <a:avLst/>
          </a:prstGeom>
          <a:noFill/>
          <a:ln w="0">
            <a:noFill/>
          </a:ln>
        </p:spPr>
        <p:txBody>
          <a:bodyPr anchor="t">
            <a:normAutofit fontScale="91000"/>
          </a:bodyPr>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1" lang="ar-SA" sz="2700" spc="-1" strike="noStrike">
                <a:solidFill>
                  <a:srgbClr val="0070c0"/>
                </a:solidFill>
                <a:latin typeface="Lucida Sans Unicode"/>
              </a:rPr>
              <a:t>أ-</a:t>
            </a:r>
            <a:r>
              <a:rPr b="0" lang="ar-SA" sz="2700" spc="-1" strike="noStrike">
                <a:solidFill>
                  <a:srgbClr val="000000"/>
                </a:solidFill>
                <a:latin typeface="Lucida Sans Unicode"/>
              </a:rPr>
              <a:t> </a:t>
            </a:r>
            <a:r>
              <a:rPr b="1" lang="ar-SA" sz="2700" spc="-1" strike="noStrike">
                <a:solidFill>
                  <a:srgbClr val="0070c0"/>
                </a:solidFill>
                <a:latin typeface="Lucida Sans Unicode"/>
              </a:rPr>
              <a:t>القائمة أو الكتيب:</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تحوي البنود والعبارات و الأسئلة. تبدأ من عشرة بنود حتى سبعمائة، وقد تستخدم القائمة على أنها ورقة أسئلة فقط، بحيث يضع الفرد إجاباته على ورقة إجابة مستقل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ستخدم فردياَ أو جماع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ب- البطاقات:</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a:t>
            </a:r>
            <a:r>
              <a:rPr b="0" lang="ar-SA" sz="2700" spc="-1" strike="noStrike">
                <a:solidFill>
                  <a:srgbClr val="000000"/>
                </a:solidFill>
                <a:latin typeface="Lucida Sans Unicode"/>
              </a:rPr>
              <a:t>بحيث يكون لكل بند بطاقة مستقلة، ويطلب من المفحوص أن يصنف البطاقات مثلا :موافق/ غير موافق – ينطبق علي/ لا ينطبق علي.</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 لا تستخدم إلا بشكل فردي فقط.</a:t>
            </a:r>
            <a:endParaRPr b="0" lang="en-US" sz="2700" spc="-1" strike="noStrike">
              <a:solidFill>
                <a:srgbClr val="000000"/>
              </a:solidFill>
              <a:latin typeface="Lucida Sans Unicode"/>
            </a:endParaRPr>
          </a:p>
        </p:txBody>
      </p:sp>
      <p:pic>
        <p:nvPicPr>
          <p:cNvPr id="385"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fontScale="92000"/>
          </a:bodyPr>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صياغة السؤال تؤثر في إعطاء إجابات يرى الشخص أنها صادقة لأحداث لم تحدث.</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إذن صياغة السؤال تحدد إلى حد بعيد نوع الإجابة له. </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كتابة البند أو العبارات تحتاج فن ومهارة إبداعية وليست بالأمر السهل.</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ن أهم العوامل التي تؤثر في الاستجابات: معاني الكلمات الخاصة، والعبارات وتجاوره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دلت الأبحاث أن الأشخاص لديهم استعداد كبير للموافقة على العبارات المصاغة سلبياً أكثر من معارضة عبارات مصوغة إيجابياً.</a:t>
            </a:r>
            <a:endParaRPr b="0" lang="en-US" sz="2700" spc="-1" strike="noStrike">
              <a:solidFill>
                <a:srgbClr val="000000"/>
              </a:solidFill>
              <a:latin typeface="Lucida Sans Unicode"/>
            </a:endParaRPr>
          </a:p>
          <a:p>
            <a:pPr marL="335520" indent="-235080" algn="just" rtl="1">
              <a:spcBef>
                <a:spcPts val="400"/>
              </a:spcBef>
              <a:buClr>
                <a:srgbClr val="2da2bf"/>
              </a:buClr>
              <a:buSzPct val="68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عبارات القصيرة تفضل أكثر عن العبارات الطويلة.</a:t>
            </a:r>
            <a:endParaRPr b="0" lang="en-US" sz="2700" spc="-1" strike="noStrike">
              <a:solidFill>
                <a:srgbClr val="000000"/>
              </a:solidFill>
              <a:latin typeface="Lucida Sans Unicode"/>
            </a:endParaRPr>
          </a:p>
        </p:txBody>
      </p:sp>
      <p:pic>
        <p:nvPicPr>
          <p:cNvPr id="387" name="عنوان 1"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7T12:13:08Z</dcterms:created>
  <dc:creator>مرحبا</dc:creator>
  <dc:description/>
  <dc:language>en-US</dc:language>
  <cp:lastModifiedBy>shr</cp:lastModifiedBy>
  <dcterms:modified xsi:type="dcterms:W3CDTF">2016-05-21T16:06:43Z</dcterms:modified>
  <cp:revision>47</cp:revision>
  <dc:subject/>
  <dc:title>الشريحة 1</dc:title>
</cp:coreProperties>
</file>