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2869-1757-46B6-B6CB-9F7A2120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D35-424C-4127-A715-AA152040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8AC-739D-41C4-9B39-D56EE6AE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F98-F0C4-43D9-8D85-B1BE565F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865-2282-4420-A829-220683F4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789-F186-4C79-838F-ACB11FFC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E4A-AC2B-493C-AEB2-6652F914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AF4-9F9B-4CD9-AE88-05132815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6D1-AD95-400D-BB48-9A7A742D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F2D-33EC-4794-ADEF-F7B454C9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5FE-284F-4C98-A810-78D4C125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CE3-322C-405D-9D96-44D1110D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16ED-7BC0-4DB5-8E01-F593B0EED5E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يم وتعلم العلوم الشرعية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8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9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ثانية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Users\dell\Pictures\ksulogo.png"/>
          <p:cNvPicPr/>
          <p:nvPr/>
        </p:nvPicPr>
        <p:blipFill>
          <a:blip r:embed="rId3"/>
          <a:stretch/>
        </p:blipFill>
        <p:spPr>
          <a:xfrm>
            <a:off x="5867280" y="476280"/>
            <a:ext cx="28814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أهداف الخاصة ل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ثالثا : الحديث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جيد التلميذات قراءة نصوص الحديث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نمية الوازع الديني لدى التلميذا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تعرف التلميذة على مكانة الأحاديث النبوية من القرآن الكريم والدين الإسلامي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https://encrypted-tbn3.gstatic.com/images?q=tbn:ANd9GcT3hh0VNtCWVDt0CydwJjypl6k85_gxnirHS228s4qsmy-58trISA"/>
          <p:cNvPicPr/>
          <p:nvPr/>
        </p:nvPicPr>
        <p:blipFill>
          <a:blip r:embed="rId1"/>
          <a:stretch/>
        </p:blipFill>
        <p:spPr>
          <a:xfrm>
            <a:off x="611280" y="4292640"/>
            <a:ext cx="3097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أهداف الخاصة ل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رابعا :  التوحيد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ستكمال جوانب العقيدة لدى التلميذا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بناء عقيدة التلميذات على الإقناع بدل التقليد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نقية عقائد التلميذات من الشوائب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C:\Users\dell\Pictures\imagesCA39Q286.jpg"/>
          <p:cNvPicPr/>
          <p:nvPr/>
        </p:nvPicPr>
        <p:blipFill>
          <a:blip r:embed="rId1"/>
          <a:stretch/>
        </p:blipFill>
        <p:spPr>
          <a:xfrm>
            <a:off x="324000" y="4508640"/>
            <a:ext cx="220968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أهداف الخاصة ل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خامسا : الفقه 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ن تكتسب التلميذات المعلومات والأحكام والمبادئ المتعلقة بأبواب الفق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ن تقوم التلميذات ما لديهن من معلومات وأحكام فقهية ومهارات تعبد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دريب التلميذات على الاستنتاج والاستدلال عل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أحكام الفقهية من القرآن والسنة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C:\Users\dell\Pictures\imagesCAU16SDG.jpg"/>
          <p:cNvPicPr/>
          <p:nvPr/>
        </p:nvPicPr>
        <p:blipFill>
          <a:blip r:embed="rId1"/>
          <a:stretch/>
        </p:blipFill>
        <p:spPr>
          <a:xfrm>
            <a:off x="179280" y="3860640"/>
            <a:ext cx="1828800" cy="24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أهداف الخاصة ل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سادسا  : التجويد 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تعرف التلميذة على أحكام التجويد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تدرب التلميذة على تلاوة القرآن الكريم تلاوة صحيح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قويم ألسنة التلميذات وتعويدهن على إخراج الحروف من مخارجها الصحيحة ومراعاة صفاتها العارضة والثابت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https://encrypted-tbn2.gstatic.com/images?q=tbn:ANd9GcTdzdPGD2zq-QDtIDRdHbfigoi-GxtLmcI9j3GoVTe01aaR8LHo6w"/>
          <p:cNvPicPr/>
          <p:nvPr/>
        </p:nvPicPr>
        <p:blipFill>
          <a:blip r:embed="rId1"/>
          <a:stretch/>
        </p:blipFill>
        <p:spPr>
          <a:xfrm>
            <a:off x="468360" y="5084640"/>
            <a:ext cx="29336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0" y="1835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الأهداف الإجرائية السلوكية: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هي التي تصف سلوكا معينا يمكن ملاحظته و قياسه , ويتوقع أن يكون المتعلم قادرا على أدائه في نهاية موقف تعليمي محد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E:\صورة 2.jpg"/>
          <p:cNvPicPr/>
          <p:nvPr/>
        </p:nvPicPr>
        <p:blipFill>
          <a:blip r:embed="rId1"/>
          <a:stretch/>
        </p:blipFill>
        <p:spPr>
          <a:xfrm>
            <a:off x="0" y="4076640"/>
            <a:ext cx="4140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صياغة الأهداف السلوك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هتم التربويون بصياغة الأهداف اهتماما بالغا , وذلك لأن وضوح الأهداف يؤدي إلى وضوح إجراءات التعليم والتقوي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لكي يكون المعلم قادرا على صياغة أهدافه بشكل محدد , فلا بد أن يضع نصب عينيه أن الهدف يجب تنفيذه وتقويمه وإلا كان الأمر مضيعه للوقت ومن ثم لا يحقق المتعلمون أهدافهم التي رسمتها لهم فلسفة التربية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E:\صورة 2.jpg"/>
          <p:cNvPicPr/>
          <p:nvPr/>
        </p:nvPicPr>
        <p:blipFill>
          <a:blip r:embed="rId1"/>
          <a:stretch/>
        </p:blipFill>
        <p:spPr>
          <a:xfrm>
            <a:off x="179280" y="5029200"/>
            <a:ext cx="2727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1371600" y="247680"/>
            <a:ext cx="7010280" cy="685800"/>
          </a:xfrm>
          <a:custGeom>
            <a:avLst/>
            <a:gdLst>
              <a:gd name="textAreaLeft" fmla="*/ 80640 w 7010280"/>
              <a:gd name="textAreaRight" fmla="*/ 6929640 w 7010280"/>
              <a:gd name="textAreaTop" fmla="*/ 80640 h 685800"/>
              <a:gd name="textAreaBottom" fmla="*/ 605160 h 685800"/>
            </a:gdLst>
            <a:ahLst/>
            <a:rect l="textAreaLeft" t="textAreaTop" r="textAreaRight" b="textAreaBottom"/>
            <a:pathLst>
              <a:path w="22069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17092" y="21600"/>
                </a:lnTo>
                <a:arcTo wR="3600" hR="3600" stAng="10800000" swAng="5400000"/>
                <a:lnTo>
                  <a:pt x="220692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14360" y="247320"/>
            <a:ext cx="7067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Times New Roman"/>
              </a:rPr>
              <a:t>لماذا نهتم بصياغة الهدف السلوكي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1562040" y="1844640"/>
            <a:ext cx="5753160" cy="571680"/>
            <a:chOff x="1562040" y="1844640"/>
            <a:chExt cx="5753160" cy="571680"/>
          </a:xfrm>
        </p:grpSpPr>
        <p:sp>
          <p:nvSpPr>
            <p:cNvPr id="90" name="Line 5"/>
            <p:cNvSpPr/>
            <p:nvPr/>
          </p:nvSpPr>
          <p:spPr>
            <a:xfrm flipH="1">
              <a:off x="1562040" y="1882800"/>
              <a:ext cx="5732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"/>
            <p:cNvSpPr/>
            <p:nvPr/>
          </p:nvSpPr>
          <p:spPr>
            <a:xfrm>
              <a:off x="1581120" y="1882800"/>
              <a:ext cx="0" cy="5335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7"/>
            <p:cNvSpPr/>
            <p:nvPr/>
          </p:nvSpPr>
          <p:spPr>
            <a:xfrm>
              <a:off x="7315200" y="1844640"/>
              <a:ext cx="0" cy="5335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8"/>
          <p:cNvGrpSpPr/>
          <p:nvPr/>
        </p:nvGrpSpPr>
        <p:grpSpPr>
          <a:xfrm>
            <a:off x="250920" y="2637000"/>
            <a:ext cx="8702640" cy="3458160"/>
            <a:chOff x="250920" y="2637000"/>
            <a:chExt cx="8702640" cy="3458160"/>
          </a:xfrm>
        </p:grpSpPr>
        <p:grpSp>
          <p:nvGrpSpPr>
            <p:cNvPr id="94" name="Group 9"/>
            <p:cNvGrpSpPr/>
            <p:nvPr/>
          </p:nvGrpSpPr>
          <p:grpSpPr>
            <a:xfrm>
              <a:off x="4452840" y="2638440"/>
              <a:ext cx="4329000" cy="1033200"/>
              <a:chOff x="4452840" y="2638440"/>
              <a:chExt cx="4329000" cy="1033200"/>
            </a:xfrm>
          </p:grpSpPr>
          <p:sp>
            <p:nvSpPr>
              <p:cNvPr id="95" name="Rectangle 10"/>
              <p:cNvSpPr/>
              <p:nvPr/>
            </p:nvSpPr>
            <p:spPr>
              <a:xfrm>
                <a:off x="4452840" y="2638440"/>
                <a:ext cx="4329000" cy="837720"/>
              </a:xfrm>
              <a:prstGeom prst="rect">
                <a:avLst/>
              </a:prstGeom>
              <a:gradFill rotWithShape="0">
                <a:gsLst>
                  <a:gs pos="0">
                    <a:srgbClr val="ffe0d1"/>
                  </a:gs>
                  <a:gs pos="50000">
                    <a:srgbClr val="ffffff"/>
                  </a:gs>
                  <a:gs pos="100000">
                    <a:srgbClr val="ffe0d1"/>
                  </a:gs>
                </a:gsLst>
                <a:lin ang="54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11"/>
              <p:cNvSpPr/>
              <p:nvPr/>
            </p:nvSpPr>
            <p:spPr>
              <a:xfrm>
                <a:off x="4530240" y="2895120"/>
                <a:ext cx="425160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993300"/>
                    </a:solidFill>
                    <a:latin typeface="Times New Roman"/>
                    <a:cs typeface="Times New Roman"/>
                  </a:rPr>
                  <a:t>تنظيم طرق وأساليب التدريس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Rectangle 12"/>
            <p:cNvSpPr/>
            <p:nvPr/>
          </p:nvSpPr>
          <p:spPr>
            <a:xfrm>
              <a:off x="250920" y="2649600"/>
              <a:ext cx="4016160" cy="837720"/>
            </a:xfrm>
            <a:prstGeom prst="rect">
              <a:avLst/>
            </a:prstGeom>
            <a:gradFill rotWithShape="0">
              <a:gsLst>
                <a:gs pos="0">
                  <a:srgbClr val="ffe0d1"/>
                </a:gs>
                <a:gs pos="50000">
                  <a:srgbClr val="ffffff"/>
                </a:gs>
                <a:gs pos="100000">
                  <a:srgbClr val="ffe0d1"/>
                </a:gs>
              </a:gsLst>
              <a:lin ang="5400000"/>
            </a:gra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324000" y="2637000"/>
              <a:ext cx="36972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993300"/>
                  </a:solidFill>
                  <a:latin typeface="Times New Roman"/>
                  <a:cs typeface="Times New Roman"/>
                </a:rPr>
                <a:t>الاختيار المناسب للوسائل التعليمية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4"/>
            <p:cNvGrpSpPr/>
            <p:nvPr/>
          </p:nvGrpSpPr>
          <p:grpSpPr>
            <a:xfrm>
              <a:off x="250920" y="4516200"/>
              <a:ext cx="4176720" cy="1578960"/>
              <a:chOff x="250920" y="4516200"/>
              <a:chExt cx="4176720" cy="1578960"/>
            </a:xfrm>
          </p:grpSpPr>
          <p:sp>
            <p:nvSpPr>
              <p:cNvPr id="100" name="Rectangle 15"/>
              <p:cNvSpPr/>
              <p:nvPr/>
            </p:nvSpPr>
            <p:spPr>
              <a:xfrm>
                <a:off x="250920" y="4516200"/>
                <a:ext cx="4176720" cy="1578960"/>
              </a:xfrm>
              <a:prstGeom prst="rect">
                <a:avLst/>
              </a:prstGeom>
              <a:gradFill rotWithShape="0">
                <a:gsLst>
                  <a:gs pos="0">
                    <a:srgbClr val="ffe0d1"/>
                  </a:gs>
                  <a:gs pos="50000">
                    <a:srgbClr val="ffffff"/>
                  </a:gs>
                  <a:gs pos="100000">
                    <a:srgbClr val="ffe0d1"/>
                  </a:gs>
                </a:gsLst>
                <a:lin ang="54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16"/>
              <p:cNvSpPr/>
              <p:nvPr/>
            </p:nvSpPr>
            <p:spPr>
              <a:xfrm>
                <a:off x="403200" y="4567320"/>
                <a:ext cx="3953160" cy="12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200" spc="-1" strike="noStrike">
                    <a:solidFill>
                      <a:srgbClr val="993300"/>
                    </a:solidFill>
                    <a:latin typeface="Times New Roman"/>
                    <a:cs typeface="Times New Roman"/>
                  </a:rPr>
                  <a:t>تصميم وإعداد أساليب ووسائل التقويم المناسبة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17"/>
            <p:cNvSpPr/>
            <p:nvPr/>
          </p:nvSpPr>
          <p:spPr>
            <a:xfrm>
              <a:off x="1584360" y="3657600"/>
              <a:ext cx="0" cy="6663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8"/>
            <p:cNvGrpSpPr/>
            <p:nvPr/>
          </p:nvGrpSpPr>
          <p:grpSpPr>
            <a:xfrm>
              <a:off x="4876920" y="3622680"/>
              <a:ext cx="4076640" cy="2148840"/>
              <a:chOff x="4876920" y="3622680"/>
              <a:chExt cx="4076640" cy="2148840"/>
            </a:xfrm>
          </p:grpSpPr>
          <p:grpSp>
            <p:nvGrpSpPr>
              <p:cNvPr id="104" name="Group 19"/>
              <p:cNvGrpSpPr/>
              <p:nvPr/>
            </p:nvGrpSpPr>
            <p:grpSpPr>
              <a:xfrm>
                <a:off x="4876920" y="4582440"/>
                <a:ext cx="4076640" cy="1189080"/>
                <a:chOff x="4876920" y="4582440"/>
                <a:chExt cx="4076640" cy="1189080"/>
              </a:xfrm>
            </p:grpSpPr>
            <p:sp>
              <p:nvSpPr>
                <p:cNvPr id="105" name="Rectangle 20"/>
                <p:cNvSpPr/>
                <p:nvPr/>
              </p:nvSpPr>
              <p:spPr>
                <a:xfrm>
                  <a:off x="4876920" y="4582440"/>
                  <a:ext cx="4076640" cy="105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e0d1"/>
                    </a:gs>
                    <a:gs pos="50000">
                      <a:srgbClr val="ffffff"/>
                    </a:gs>
                    <a:gs pos="100000">
                      <a:srgbClr val="ffe0d1"/>
                    </a:gs>
                  </a:gsLst>
                  <a:lin ang="5400000"/>
                </a:gradFill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Text Box 21"/>
                <p:cNvSpPr/>
                <p:nvPr/>
              </p:nvSpPr>
              <p:spPr>
                <a:xfrm>
                  <a:off x="5448600" y="4653720"/>
                  <a:ext cx="3276360" cy="11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 rtl="1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993300"/>
                      </a:solidFill>
                      <a:latin typeface="Times New Roman"/>
                      <a:cs typeface="Times New Roman"/>
                    </a:rPr>
                    <a:t>وصف السلوكيات أو الأداء المتوقع بعد التدريس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Line 22"/>
              <p:cNvSpPr/>
              <p:nvPr/>
            </p:nvSpPr>
            <p:spPr>
              <a:xfrm>
                <a:off x="7277040" y="3622680"/>
                <a:ext cx="0" cy="67176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Line 23"/>
          <p:cNvSpPr/>
          <p:nvPr/>
        </p:nvSpPr>
        <p:spPr>
          <a:xfrm>
            <a:off x="4464000" y="1052640"/>
            <a:ext cx="0" cy="612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1476360" y="297000"/>
            <a:ext cx="6624720" cy="1692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871640" y="692280"/>
            <a:ext cx="59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مواصفات الهدف السلوكي الج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87280" y="2241720"/>
            <a:ext cx="8029800" cy="143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أن تكون عبارة الهدف محددة وواضحة 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30320" y="3187800"/>
            <a:ext cx="8797680" cy="131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ن تصف عبارة الهدف سلوك المتعلم لا سلوك المعلم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87280" y="4311720"/>
            <a:ext cx="889308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لا تصف عبارة الهدف عملية التعلم أو موضوعات التعل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87280" y="5372280"/>
            <a:ext cx="8640720" cy="1861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تصف عبارة الهدف سلوكاً قابلاً للملاحظة أو يسهل الاستدلال عليه بسلوك قابل للملاحظة .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فالهدف يجب أن يتضمن عناصر ثلاثة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فعل الذي يشير إلى السلوك . ( أن + فعل مضارع 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محتوى الذي يؤدي إلى السلوك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عيار التقوي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E:\صورة 4.jpg"/>
          <p:cNvPicPr/>
          <p:nvPr/>
        </p:nvPicPr>
        <p:blipFill>
          <a:blip r:embed="rId1"/>
          <a:stretch/>
        </p:blipFill>
        <p:spPr>
          <a:xfrm>
            <a:off x="179280" y="4149720"/>
            <a:ext cx="3961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483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مثال 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ن يذكر المتعلم موجبات الغسل الشرعي الخمس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سلوك : يذك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محتوى : موجبات الغسل الشرع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عيار التقويم : ذكر الموجبات الخمس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E:\imagesCAZMJNKF.jpg"/>
          <p:cNvPicPr/>
          <p:nvPr/>
        </p:nvPicPr>
        <p:blipFill>
          <a:blip r:embed="rId1"/>
          <a:stretch/>
        </p:blipFill>
        <p:spPr>
          <a:xfrm>
            <a:off x="0" y="4941720"/>
            <a:ext cx="3635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مرج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دخل إلى المناهج وطرق التدرس ” حسن جعفر الخليفة ”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ص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99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دريس التربية الإسلامية،الأسس النظرية والأساليب العملية"          / ماجد زكي جلاد  ,,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ص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35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37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ثيقة الأهداف العامة لمقررات العلوم الشرع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1"/>
          <a:stretch/>
        </p:blipFill>
        <p:spPr>
          <a:xfrm>
            <a:off x="0" y="4437000"/>
            <a:ext cx="3851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E:\imagesCAZMJNKF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3313080"/>
          </a:xfrm>
          <a:prstGeom prst="rect">
            <a:avLst/>
          </a:prstGeom>
          <a:ln w="0">
            <a:noFill/>
          </a:ln>
        </p:spPr>
      </p:pic>
      <p:sp>
        <p:nvSpPr>
          <p:cNvPr id="49" name="Oval 2073"/>
          <p:cNvSpPr/>
          <p:nvPr/>
        </p:nvSpPr>
        <p:spPr>
          <a:xfrm>
            <a:off x="4643280" y="3429000"/>
            <a:ext cx="4032360" cy="1647720"/>
          </a:xfrm>
          <a:prstGeom prst="ellipse">
            <a:avLst/>
          </a:prstGeom>
          <a:gradFill rotWithShape="0">
            <a:gsLst>
              <a:gs pos="0">
                <a:srgbClr val="2c587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ــــــــــــا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072"/>
          <p:cNvSpPr/>
          <p:nvPr/>
        </p:nvSpPr>
        <p:spPr>
          <a:xfrm>
            <a:off x="324000" y="3429000"/>
            <a:ext cx="4043160" cy="1639800"/>
          </a:xfrm>
          <a:prstGeom prst="ellipse">
            <a:avLst/>
          </a:prstGeom>
          <a:gradFill rotWithShape="0">
            <a:gsLst>
              <a:gs pos="0">
                <a:srgbClr val="ff7f7f"/>
              </a:gs>
              <a:gs pos="100000">
                <a:srgbClr val="666699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خاصــــــــــــ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077"/>
          <p:cNvSpPr/>
          <p:nvPr/>
        </p:nvSpPr>
        <p:spPr>
          <a:xfrm>
            <a:off x="2843280" y="5084640"/>
            <a:ext cx="3814560" cy="13892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لعلوم الشرعية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53" name="Object 1028"/>
          <p:cNvGraphicFramePr/>
          <p:nvPr/>
        </p:nvGraphicFramePr>
        <p:xfrm>
          <a:off x="5791320" y="3429000"/>
          <a:ext cx="28303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429000"/>
                    <a:ext cx="28303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"/>
          <p:cNvSpPr/>
          <p:nvPr/>
        </p:nvSpPr>
        <p:spPr>
          <a:xfrm>
            <a:off x="1547640" y="3244680"/>
            <a:ext cx="532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00"/>
                </a:solidFill>
                <a:latin typeface="Arial"/>
              </a:rPr>
              <a:t>مفهوم الهدف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E:\صورة 2.jpg"/>
          <p:cNvPicPr/>
          <p:nvPr/>
        </p:nvPicPr>
        <p:blipFill>
          <a:blip r:embed="rId3"/>
          <a:stretch/>
        </p:blipFill>
        <p:spPr>
          <a:xfrm>
            <a:off x="0" y="0"/>
            <a:ext cx="36352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324000" y="1844640"/>
            <a:ext cx="8640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في اللغة :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ل شي مرتفع من بناء أو غيره , وهو الغرض الذي توجه إليه السهام ونحوه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الهدف التربوي :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نسوب إلى التربية التي تقصد إلى تغيير سلوك التلاميذ أو إحداث تغييرات إيجابية في بعض سلوكاتهم أو تعديلها أو إلغاءها , وذلك بتعلم سلوكيات جديدة وممارستها بمستوى مقبول من الكفاية في الظروف الملائم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E:\صورة 1.png"/>
          <p:cNvPicPr/>
          <p:nvPr/>
        </p:nvPicPr>
        <p:blipFill>
          <a:blip r:embed="rId1"/>
          <a:stretch/>
        </p:blipFill>
        <p:spPr>
          <a:xfrm>
            <a:off x="0" y="0"/>
            <a:ext cx="2987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أهداف العامة ل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</a:rPr>
              <a:t>تنبثق الأهداف العامة لتدريس مواد العلوم الشرعية, من أهداف التربية الإسلامية بشكل عام, وتتمثل فيما يلي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حقيق العبودية الخالصة لله وحده في حياة الفرد والمجتم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كوين الإنسان المؤمن المتميز عن أهل الكفر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ربط الأجيال المتتابعة بالتراث والحضارة الإسلام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303"/>
          <p:cNvPicPr/>
          <p:nvPr/>
        </p:nvPicPr>
        <p:blipFill>
          <a:blip r:embed="rId1"/>
          <a:srcRect l="43759" t="3816" r="3130" b="45834"/>
          <a:stretch/>
        </p:blipFill>
        <p:spPr>
          <a:xfrm>
            <a:off x="0" y="5157720"/>
            <a:ext cx="2916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439560" y="692280"/>
            <a:ext cx="8309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الهدف التعليمي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دل على أنماط السلوكيات التي يكتسبها المتعلمون من العملية التعليمية التعلمية , وهي بمثابة تحديد إجرائي للأهداف التربوية , وهي أكثر خصوصية من الأهداف التربوية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s://encrypted-tbn3.gstatic.com/images?q=tbn:ANd9GcR6wjCGrKL9Cqjs0izDigsfzx9FzAMuh2Ua2xykgp0pMUhOTcpIRQ"/>
          <p:cNvPicPr/>
          <p:nvPr/>
        </p:nvPicPr>
        <p:blipFill>
          <a:blip r:embed="rId1"/>
          <a:stretch/>
        </p:blipFill>
        <p:spPr>
          <a:xfrm>
            <a:off x="684360" y="4437000"/>
            <a:ext cx="7920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أهداف الخاصة ل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أولا: القرآن الكريم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حسن التلميذة قراءة القرآن وتجيد تلاوته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درك التلميذة معنى ما تتلو من الآيات بصفة عام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تعبد التلميذة بتلاوة القرآن أو استماعه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https://encrypted-tbn0.gstatic.com/images?q=tbn:ANd9GcQhRy3XyHMQRM5Z4zxI1TWM3QaAgJV-wt6egOmN1TCY4ZgOw_dY"/>
          <p:cNvPicPr/>
          <p:nvPr/>
        </p:nvPicPr>
        <p:blipFill>
          <a:blip r:embed="rId1"/>
          <a:stretch/>
        </p:blipFill>
        <p:spPr>
          <a:xfrm>
            <a:off x="755640" y="4797360"/>
            <a:ext cx="75614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أهداف الخاصة ل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ثانيا : التفسير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جيد التلميذة قراءة الآيات المخصصة للتدريس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ستوعب التلميذات معاني الآيات مفردات وتراكيب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 تستنتج التلميذات من الآيات ما تضمنته من القيم والمبادئ والتوجيها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C:\Users\dell\Pictures\imagesCAR4HOMS.jpg"/>
          <p:cNvPicPr/>
          <p:nvPr/>
        </p:nvPicPr>
        <p:blipFill>
          <a:blip r:embed="rId1"/>
          <a:stretch/>
        </p:blipFill>
        <p:spPr>
          <a:xfrm>
            <a:off x="755640" y="44370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7-10-18T08:27:54Z</dcterms:modified>
  <cp:revision>50</cp:revision>
  <dc:subject/>
  <dc:title>الانكيت</dc:title>
</cp:coreProperties>
</file>