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D5C-27DE-44C3-A7B4-0340D6CC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7FB-A09E-4F0B-B837-BA5883FF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AC3-67CA-4C47-A5AF-31262571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B7A-6F28-4FFF-BF4E-3B3B7BD3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553-BB51-4B16-9322-5DE65172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158-E1E8-4A3E-A10D-8FB04C5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4B0-BA24-43F2-8A3D-9939889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CAD-BCE1-430E-B62D-32E2395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05B-5410-45CD-8F6B-C239D247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8C3-FCA0-409A-B587-8C366B2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A3F-1C2C-4E7D-B8F2-B32C0E70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608-EED5-44C3-BD7B-0CB9516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77A-FB8A-4FF3-9374-14BC5C8A41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Times New Roman"/>
              </a:rPr>
              <a:t>ما هي المهارات اللغوية الرئيسية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6"/>
          <p:cNvPicPr/>
          <p:nvPr/>
        </p:nvPicPr>
        <p:blipFill>
          <a:blip r:embed="rId1"/>
          <a:stretch/>
        </p:blipFill>
        <p:spPr>
          <a:xfrm>
            <a:off x="3780000" y="3933720"/>
            <a:ext cx="1695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أهمية تنمية مهارة الاستماع لطفل الروض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لغة الشفوية ( تحصيلا وتعبيرا وفهم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قدرة على تمييز الاصو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عدة الطفل على تنظيم افكار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اعدة الطفل على التخ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الذاكرة السمعية لدى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دة مدى الانتباه عند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مية مهارة الاستماع تنعكس على كافة المهارات العقلية والاجتماعية والإبدا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تختلف قدرة الاطفال على الاستماع من مرحلة الى اخرى ومن طفل الى اخر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et-7-2008-do7a_com_ngxidjd7"/>
          <p:cNvPicPr/>
          <p:nvPr/>
        </p:nvPicPr>
        <p:blipFill>
          <a:blip r:embed="rId1"/>
          <a:stretch/>
        </p:blipFill>
        <p:spPr>
          <a:xfrm>
            <a:off x="900000" y="4437000"/>
            <a:ext cx="69120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هناك عدد من العوامل التي تؤثر على قدرة الطفل على الاستماع الجي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ضج السم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حلة النمو العقل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تفك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يلة اللغو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اسبة محتوى الاس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فر بيئة فيزيقية واجتماعية داع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م مهارات الاستما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476360" y="1484280"/>
            <a:ext cx="6192720" cy="1008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مييز السمعي بين الاصو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( اصوات الاحرف والكلمات...السج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وع الصوت ودرج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403280" y="2708280"/>
            <a:ext cx="6193080" cy="10080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فهم السماع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ن يفهم الطفل معنى ما يسمعه ( يفهم احداث القصة..اوامر لفظية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403280" y="4005360"/>
            <a:ext cx="6193080" cy="1008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ذاكرة السمع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 ان يتذكر الطفل الكلمات والجمل والأناشيد التي سمع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476360" y="5373720"/>
            <a:ext cx="6192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حكم اللفظ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الذاكرة السمعية+ الفهم السماعي ( الالغا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34"/>
          <p:cNvPicPr/>
          <p:nvPr/>
        </p:nvPicPr>
        <p:blipFill>
          <a:blip r:embed="rId1"/>
          <a:stretch/>
        </p:blipFill>
        <p:spPr>
          <a:xfrm rot="18900000">
            <a:off x="7327800" y="620280"/>
            <a:ext cx="18162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ض الأنشطة التي تنمي مهارات الاستماع عند الطف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6732720" y="1628640"/>
            <a:ext cx="1800000" cy="1440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وار والمحادث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11280" y="3573360"/>
            <a:ext cx="1800000" cy="144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لغا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611280" y="1628640"/>
            <a:ext cx="216036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لعاب اللغوية المختلف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2916360" y="4941720"/>
            <a:ext cx="3527280" cy="144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ييز بعض الاصوات من حيث نوع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حدتها..اتجاهها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صوات المتشابهة و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6659640" y="3500280"/>
            <a:ext cx="1800000" cy="1440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ستماع للقص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أناش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5"/>
          <p:cNvPicPr/>
          <p:nvPr/>
        </p:nvPicPr>
        <p:blipFill>
          <a:blip r:embed="rId1"/>
          <a:stretch/>
        </p:blipFill>
        <p:spPr>
          <a:xfrm>
            <a:off x="3963960" y="2205000"/>
            <a:ext cx="1200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ننشد معاً...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na"/>
          <p:cNvPicPr/>
          <p:nvPr/>
        </p:nvPicPr>
        <p:blipFill>
          <a:blip r:embed="rId1"/>
          <a:stretch/>
        </p:blipFill>
        <p:spPr>
          <a:xfrm>
            <a:off x="3348000" y="3141720"/>
            <a:ext cx="2409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33"/>
                </a:solidFill>
                <a:latin typeface="Times New Roman"/>
                <a:cs typeface="Times New Roman"/>
              </a:rPr>
              <a:t>لنلعب سوياً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w06w-bader"/>
          <p:cNvPicPr/>
          <p:nvPr/>
        </p:nvPicPr>
        <p:blipFill>
          <a:blip r:embed="rId1"/>
          <a:stretch/>
        </p:blipFill>
        <p:spPr>
          <a:xfrm>
            <a:off x="3564000" y="3141720"/>
            <a:ext cx="1992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ثانياً...مهارة الت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م المهارات اللغوية وأكثرها استخدا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تبط ارتباطا وثيقا بمهارة الاس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ق هذه المهارة الوظيفة الرئيسية للغة ( التواص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1947431"/>
          <p:cNvPicPr/>
          <p:nvPr/>
        </p:nvPicPr>
        <p:blipFill>
          <a:blip r:embed="rId1"/>
          <a:stretch/>
        </p:blipFill>
        <p:spPr>
          <a:xfrm>
            <a:off x="3851280" y="4365720"/>
            <a:ext cx="22654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 u="sng">
                <a:solidFill>
                  <a:srgbClr val="33cc33"/>
                </a:solidFill>
                <a:uFillTx/>
                <a:latin typeface="Arial"/>
              </a:rPr>
              <a:t>أهم مهارات التحدث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طق السليم للحروف ومخارج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سلسل المنطقي للأفك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ياغة الجملة بشكل صح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ظيف المفردات اللغوية وتنو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019816"/>
          <p:cNvPicPr/>
          <p:nvPr/>
        </p:nvPicPr>
        <p:blipFill>
          <a:blip r:embed="rId1"/>
          <a:stretch/>
        </p:blipFill>
        <p:spPr>
          <a:xfrm>
            <a:off x="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كيف يمكننا تنمية مهارة التحدث عند طفل الروض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ثراء حصيلة الطفل اللغوية بالمفردات التي يحتاجها في حياته الي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مية الانتباه الى الطريقة التي نلفظ بها الاحرف والكلم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اقشة والحوار: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بين المعلمة والأطفال“   ” وبين الاطفال مع بعضهم البعض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أسئلة مفتوحة...مجموعات صغيرة ...بشكل فردي وتواصل بصر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ويدهم على التفكير المنطقي وعلى الاستنت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ويدهم على تقبل وجهات نظر الاخ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3l04eo"/>
          <p:cNvPicPr/>
          <p:nvPr/>
        </p:nvPicPr>
        <p:blipFill>
          <a:blip r:embed="rId4"/>
          <a:stretch/>
        </p:blipFill>
        <p:spPr>
          <a:xfrm flipH="1" rot="10800000">
            <a:off x="971640" y="1247040"/>
            <a:ext cx="662472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9999"/>
                </a:solidFill>
                <a:uFillTx/>
                <a:latin typeface="Times New Roman"/>
                <a:cs typeface="Times New Roman"/>
              </a:rPr>
              <a:t>أولا...مهارة الاستم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فل يسمع وهو لا يزال جنين في بطن امه.   مثال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كل الاستماع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من النشاط اللغوي الذي يمارسه الطفل يوم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هل هناك فرق بين السماع.........الاستماع........الإنصات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u6pxeh"/>
          <p:cNvPicPr/>
          <p:nvPr/>
        </p:nvPicPr>
        <p:blipFill>
          <a:blip r:embed="rId3"/>
          <a:stretch/>
        </p:blipFill>
        <p:spPr>
          <a:xfrm>
            <a:off x="3851280" y="3141720"/>
            <a:ext cx="11048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99"/>
                </a:solidFill>
                <a:uFillTx/>
                <a:latin typeface="Arial"/>
              </a:rPr>
              <a:t>بعض الأنشطة التي تنمي مهارة ال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ديث الح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وار والمناقش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ور/ بطاقات التحد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صص.“ اعادة تمثيل احداث القصة..اعادة سردها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سماع..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ما يصل الى الاذن من اصوات دون انتباه لها او اهتمام ( الاستماع الهامش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استماع..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طاء الطفل عناية واهتمام لاستقبال الاصوات بهدف فهمها (الاستماع الانتباه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imes New Roman"/>
                <a:cs typeface="Times New Roman"/>
              </a:rPr>
              <a:t>الانصات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استماع بدرجة عالية من الانتباه ( الانصات التحليل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يمارس الطفل هذه الانواع المختلفة للاستماع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أي أنواع الاستماع تحتاج الى تدريب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313462"/>
          <p:cNvPicPr/>
          <p:nvPr/>
        </p:nvPicPr>
        <p:blipFill>
          <a:blip r:embed="rId1"/>
          <a:stretch/>
        </p:blipFill>
        <p:spPr>
          <a:xfrm>
            <a:off x="0" y="249228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الاستماع والإنصات الجيد يتطل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لامة الحواس + عمليات عقلية (تمييز وفهم وإدرا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6"/>
          <p:cNvPicPr/>
          <p:nvPr/>
        </p:nvPicPr>
        <p:blipFill>
          <a:blip r:embed="rId1"/>
          <a:stretch/>
        </p:blipFill>
        <p:spPr>
          <a:xfrm rot="16200000">
            <a:off x="3998880" y="690120"/>
            <a:ext cx="1149480" cy="43524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2843280" y="3357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84360" y="4581360"/>
            <a:ext cx="4319280" cy="1079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دراك السمعي في ضوء الخبرات السابق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مهارات الذاكرة السم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ل تحتاج مهارة الاستماع الى تدريب....ام انها تنضج من خلال الوقت والنمو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_12_11"/>
          <p:cNvPicPr/>
          <p:nvPr/>
        </p:nvPicPr>
        <p:blipFill>
          <a:blip r:embed="rId1"/>
          <a:stretch/>
        </p:blipFill>
        <p:spPr>
          <a:xfrm>
            <a:off x="3564000" y="3068640"/>
            <a:ext cx="22255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ريب الطفل على مهارة الاستماع والإدراك السمعي يؤدي الى الارتقاء بالمهارات اللغوية الاخرى ” تحدث وقراءة وكتابة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علاقة وثيقة بين مهارتي الاستماع والتحد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SzPct val="1440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ى الكثير من اللغويين ضرورة تعليم ” الادراك الفونيمي“ لأطفال ما قبل المدرسة تمهيدا لاكتساب مهارة القراء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اج الطفل ان يركز على الاصوات حتى يصنع الكل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لمات صنعت من خلال مجموعة اصوات...والقدرة على استقطاع تلك الاصوات من الكلمات وإعادة مزجها ببعضها البع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ادراك الفونيم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طفل على تعلم مبادئ علم الاصوات مث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هم الاحرف الابج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رفة ان هناك علاقة بين الحرف المطبوع والصوت الملفو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50920" y="620640"/>
            <a:ext cx="8569080" cy="93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5f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دراك الفونيمي.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دة كلام تساعد على تمييز نطق لفظة ما عن نطق لفظة ا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اهي أهمية تنمية مهارة الاستماع للطفل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1_12_11"/>
          <p:cNvPicPr/>
          <p:nvPr/>
        </p:nvPicPr>
        <p:blipFill>
          <a:blip r:embed="rId1"/>
          <a:stretch/>
        </p:blipFill>
        <p:spPr>
          <a:xfrm>
            <a:off x="3492360" y="907920"/>
            <a:ext cx="21560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0:19:08Z</dcterms:created>
  <dc:creator>user</dc:creator>
  <dc:description/>
  <dc:language>en-US</dc:language>
  <cp:lastModifiedBy>Mahmoud Alsaleh</cp:lastModifiedBy>
  <dcterms:modified xsi:type="dcterms:W3CDTF">2016-09-26T13:35:19Z</dcterms:modified>
  <cp:revision>125</cp:revision>
  <dc:subject/>
  <dc:title>الشريحة 1</dc:title>
</cp:coreProperties>
</file>