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B6C-D13F-478D-9E88-B87F9162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AFA-1003-43FC-BF70-9D08D5F8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BAAE-FC4A-4E16-802A-D241FFD8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572-CC12-4EAF-9A17-74386FED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16D-0223-4897-B348-DCF37B0E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9FD4-9E78-4D49-B854-BFE13EF6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AC3-38DB-4019-9C7F-DB58936A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AF5-B717-4CD1-9B91-7D8A34C2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CAF-E444-4DE2-B750-14FCCC23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288-4FD3-4E58-B531-672D9D59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C7D-29B3-4041-B588-4AE5A7A4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D1A8-9142-4E89-8D51-D005ED48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57DB-5497-45A6-AEF7-A69BFBC308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</a:rPr>
              <a:t>ثانياً... اللغة الكاملة في رياض الاطفال كمنحى للتعلم</a:t>
            </a:r>
            <a:br>
              <a:rPr sz="3600"/>
            </a:br>
            <a:r>
              <a:rPr b="1" lang="ar-SA" sz="3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ole Language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اذا نعني باللغة الكاملة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63l04eo"/>
          <p:cNvPicPr/>
          <p:nvPr/>
        </p:nvPicPr>
        <p:blipFill>
          <a:blip r:embed="rId1"/>
          <a:stretch/>
        </p:blipFill>
        <p:spPr>
          <a:xfrm flipH="1" rot="10800000">
            <a:off x="900000" y="1772640"/>
            <a:ext cx="691380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99"/>
                </a:solidFill>
                <a:uFillTx/>
                <a:latin typeface="Arial"/>
              </a:rPr>
              <a:t>تابع..الممارسات المناسبة في تعليم القراءة والكتا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42920" y="1773360"/>
            <a:ext cx="60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لمرحلة الاولى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99"/>
                </a:solidFill>
                <a:uFillTx/>
                <a:latin typeface="Arial"/>
              </a:rPr>
              <a:t>الوعي بعملية القراءة والكتابة واكتشاف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استمتاع بسماع القصص ومناقشت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دراك ان الكلمة المطبوعة تحمل رسا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حاولة ممارسة القراءة والكتابة من تلقاء انفس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عرف على بعض الكتابات الموجودة في بيئت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عرف على اصوات الحرو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خدام بعض الحروف لتكوين كلمات معروفة لديهم         ( مثل...)؟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1779851"/>
          <p:cNvPicPr/>
          <p:nvPr/>
        </p:nvPicPr>
        <p:blipFill>
          <a:blip r:embed="rId1"/>
          <a:stretch/>
        </p:blipFill>
        <p:spPr>
          <a:xfrm>
            <a:off x="0" y="3213000"/>
            <a:ext cx="2771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99"/>
                </a:solidFill>
                <a:uFillTx/>
                <a:latin typeface="Arial"/>
              </a:rPr>
              <a:t>تابع..الممارسات المناسبة في تعليم القراءة والكتا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42920" y="1773360"/>
            <a:ext cx="60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لمرحلة الثاني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99"/>
                </a:solidFill>
                <a:uFillTx/>
                <a:latin typeface="Arial"/>
              </a:rPr>
              <a:t>تجارب في القراءة والكتا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ستمتعوا بما يقرأ عليهم ويسردوا بأنفسهم القص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ستخدموا لغة وصف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ميزوا بين الاحرف المتشابهة والمختل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عرفون مخارج الاحر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طابقوا الكلمة المسموعة بالمكتو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601"/>
              </a:spcBef>
              <a:buClr>
                <a:srgbClr val="ff33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بدؤوا بكتابة بعض الاحرف وبعض الكلم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1779851"/>
          <p:cNvPicPr/>
          <p:nvPr/>
        </p:nvPicPr>
        <p:blipFill>
          <a:blip r:embed="rId1"/>
          <a:stretch/>
        </p:blipFill>
        <p:spPr>
          <a:xfrm>
            <a:off x="0" y="3213000"/>
            <a:ext cx="2771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660066"/>
                </a:solidFill>
                <a:uFillTx/>
                <a:latin typeface="Arial"/>
              </a:rPr>
              <a:t>خامسا..استراتيجيات تطوير اللغة في رياض الاطف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Arial"/>
              </a:rPr>
              <a:t>دور المعلمة في تحقيق البرنامج اللغوي في الروضة من خل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عرفة مكونات النشاط اللغوي في الروض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جهيز بيئة غنية باللغ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دمج اللغة من خلال فترات البرنامج اليو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خطيط للخبرات اللغو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قييم نمو الاطفال اللغ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شراك الاهل في تعليم اللغ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نمية اللغة من خلال الوحدات التعلي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1740702"/>
          <p:cNvPicPr/>
          <p:nvPr/>
        </p:nvPicPr>
        <p:blipFill>
          <a:blip r:embed="rId1"/>
          <a:stretch/>
        </p:blipFill>
        <p:spPr>
          <a:xfrm>
            <a:off x="179280" y="2349360"/>
            <a:ext cx="352764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660066"/>
                </a:solidFill>
                <a:uFillTx/>
                <a:latin typeface="Arial"/>
              </a:rPr>
              <a:t>استراتيجيات تطوير اللغة في رياض الاطف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cc33"/>
              </a:buClr>
              <a:buFont typeface="Wingdings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cc33"/>
                </a:solidFill>
                <a:latin typeface="Arial"/>
              </a:rPr>
              <a:t>معرفة مكونات النشاط اللغوي في الروض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وفير الفرصة للأطفال لربط اللغة بالمتعة والترفي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ثراء لغة الطفل وتزويده بالكلمات الجديدة بشكل دور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نمية مهارات التمييز السمعي(اعطاءهم فرصة للتعرف على الاصوات وتصنيفها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نمية معرفة الطفل بالطباعة“ شكل الكلمة المكتوبة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عريف الطفل بالأحرف و الكلمات بشكل متدرج ومناس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نمية الاستيعاب والفهم ( الفهم القرائي- الفهم السماعي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تعامل مع الكتب والمطبوعات الأخر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جميع تلك الانشطة يمارسها الاطفال من خلال الحديث- الاناشيد- اللعب- سرد القصص- الكتا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660066"/>
                </a:solidFill>
                <a:uFillTx/>
                <a:latin typeface="Arial"/>
              </a:rPr>
              <a:t>استراتيجيات تطوير اللغة في رياض الاطف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33cc33"/>
              </a:buClr>
              <a:buFont typeface="Wingdings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Arial"/>
              </a:rPr>
              <a:t>تجهيز بيئة غنية باللغ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جهيز الاركان ومناطق اللعب بشكل يدعم محادثة الاطف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ستخدام المطبوعات بشكل وظيفي،يدعم الانشطة واللعب  (مثال : وصفات الطهي- خطوات تجربة ،،،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ثراء الاركان المختلفة بأدوات اللغة ( اقلام- اوراق –  كتب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660066"/>
                </a:solidFill>
                <a:uFillTx/>
                <a:latin typeface="Arial"/>
              </a:rPr>
              <a:t>استراتيجيات تطوير اللغة في رياض الاطف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Wingdings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Arial"/>
              </a:rPr>
              <a:t>دمج اللغة من خلال فترات الجدول اليوم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ستخدم الاطفال الانشطة اللغوية طوال فترات الجدول اليومي في الروض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ابتداء من تسجيل الحضور الصباح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المحادثات بين الاطفال انفسهم وبين الاطفال والمعلمة طوال اليو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تصفح الكت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الاناش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660066"/>
                </a:solidFill>
                <a:uFillTx/>
                <a:latin typeface="Arial"/>
              </a:rPr>
              <a:t>استراتيجيات تطوير اللغة في رياض الاطف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مكن ان تشجع المعلمة الاطفال على استخدام ادوات اللغة مثل الاقلام والأوراق من خلال اللعب في الاركا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يمكن استخدام الاناشيد في الفترات الانتقالية مثل توزيع الاطفال على   الاركان او الذهاب لغسيل اليدين قبل الوج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اثناء فترة الوجبة تكون هناك محادثات بين الاطفال والمعل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مكن استخدام الانشطة اللغوية في الملعب الخارجي ( قراءة تعليمات لعبة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قراءة القوانين- الكتابة بالطباشير على الارض- التخطيط على الرمل.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فترة اللقاء الأخير غالبا ما تكون فترة استمتاع بالأناشيد والقص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660066"/>
                </a:solidFill>
                <a:uFillTx/>
                <a:latin typeface="Arial"/>
              </a:rPr>
              <a:t>استراتيجيات تطوير اللغة في رياض الاطف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cc33"/>
              </a:buClr>
              <a:buFont typeface="Wingdings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cc33"/>
                </a:solidFill>
                <a:latin typeface="Arial"/>
              </a:rPr>
              <a:t>التخطيط للخبرات اللغ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علمة تخطط للخبرات التي تنمي مكونات اللغة المختلفة بمعنى ان الانشطة لا تحدث بشكل عشوائ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ثال: عندما تريد المعلمة ان تنمي التمييز السمعي للأصوات لدى الطفل فهي تخطط نشاط محدد لذلك مثل ترديد انشودة وتطلب من الاطفال تحديد الكلمات التي لها نفس الوز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</a:rPr>
              <a:t>تابع... اللغة الكاملة في رياض الاطفال كمنحى للتعلم</a:t>
            </a:r>
            <a:br>
              <a:rPr sz="36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ole Languag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2184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Arial"/>
              </a:rPr>
              <a:t>اللغة الكاملة: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 يتعلم الطفل اللغة بمهاراتها المختلفة (استماع-تحدث-قراءة-كتابة) بشكل متوازي ومتكامل ومن خلال الانشطة اليومية سواء في البيت او الروض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تداخل نشاطات تعلم القراءة والكتابة لغاية ما في تعلم موضوعات مثل الفن والعلوم والرياضيات واللعب والمهارات الاجتماعية من خلال ربط محتوى التعلم بخبرات القراءة والكتا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63l04eo"/>
          <p:cNvPicPr/>
          <p:nvPr/>
        </p:nvPicPr>
        <p:blipFill>
          <a:blip r:embed="rId1"/>
          <a:stretch/>
        </p:blipFill>
        <p:spPr>
          <a:xfrm flipH="1" rot="10800000">
            <a:off x="971640" y="1483560"/>
            <a:ext cx="691344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66"/>
                </a:solidFill>
                <a:latin typeface="Arial"/>
              </a:rPr>
              <a:t>استراتيجيات تطوير اللغة في رياض الاطف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cc33"/>
              </a:buClr>
              <a:buFont typeface="Wingdings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cc33"/>
                </a:solidFill>
                <a:latin typeface="Arial"/>
              </a:rPr>
              <a:t>تقييم نمو الاطفال اللغوي بشكل مستم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سجل المعلمة ملاحظات حول مهارات الطفل اللغوية   المختلفة مثل ملاحظة لغة الاطفال الشفهية او الكتا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ملاحظات المعلمة يجب ان تصف السلوك بدقة وبدون حكم مثل (يشيرالى حرف ب ويذكر صوته - يشكل حرف ج بالعجين ...) وتذكر المعلمة تاريخ الملاحظة ومكانها مثلا (ركن الف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همية الملاحظات تكمن في تقييم نمو الاطفال اللغوي في الجوانب المختلفة، ومن ثم التركيز على المهارات التي تحتاج الى تن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يجب ان يكون تقييم المعلمة مستمرا وليس في بداية السنة الدراسية او نهايتها فق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660066"/>
                </a:solidFill>
                <a:uFillTx/>
                <a:latin typeface="Arial"/>
              </a:rPr>
              <a:t>استراتيجيات تطوير اللغة في رياض الاطف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33cc33"/>
              </a:buClr>
              <a:buFont typeface="Wingdings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Arial"/>
              </a:rPr>
              <a:t>إشراك الاهل في تعليم اللغ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جب استغلال اي فرصة لإشراك الاهل في الخبرات اللغوية المقدمة للأطفا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هدف من ذلك : تحقيق التكامل بين الروضة والمدرسة - إحاطة الطف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الأنشطة اللغوية طوال اليو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مثلة ذلك : ارسال كتاب يحبه الطفل ليقرأه مع احد والديه ثم يعيده الى الروض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جب تزويد الاهل بالأنشطة والأفكار المطبقة في الروضة ليستفيدوا منها في المنز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66"/>
                </a:solidFill>
                <a:latin typeface="Arial"/>
              </a:rPr>
              <a:t>استراتيجيات تطوير اللغة في رياض الاطف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cc33"/>
              </a:buClr>
              <a:buFont typeface="Wingdings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cc33"/>
                </a:solidFill>
                <a:latin typeface="Arial"/>
              </a:rPr>
              <a:t>تنمية اللغة من خلال الوحدات التعلي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كل وحدة تعليمية يجب ان تصاحبها خبرات لغوية متجددة في الاركان المختلف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 مثال وحدة الماء : في ركن المكتبة كتب جديدة عن الاسماك- قصة السمكة سلمونة/ في ركن الاكتشاف : حوض ماء ويصنف الطفل الاشياء التي تطفو وتغوص / في ركن اللعب الايهامي يمكن تحويل المنطقة الى منطقة نشاط درامي مرتبط بالماء مثل الصيد يهدف الى تشجيع المحادثة...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كل وحدة تعليمية تثري حصيلة الطفل بالكلمات الجديدة المرتبطة بهذه الوحدة مثال : وحدة الماء: يطفو – يغوص- سائل- جامد – نهر....، يمكن ان تعلق الكلمات الجديدة في لوحة وبجانبها الصورة وتتجدد باستمر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كل وحدة تعليمية تصاحبها قصص وأناشيد خاصة بها تثري حصيلة الطف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كل وحدة تعليمية تثير لدى الطفل تجارب وأفكار للحديث عنها يجب ان تستغلها المعل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1600200"/>
            <a:ext cx="82184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Arial"/>
              </a:rPr>
              <a:t>تعلم أكثر من تعلي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Arial"/>
              </a:rPr>
              <a:t>عملية اجتماعية متداخلة ونشط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Arial"/>
              </a:rPr>
              <a:t>تدمج القراءة والكتابة عمدا وقصدا في جميع الانشطة المقدمة للطفل في الروض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Arial"/>
              </a:rPr>
              <a:t>تكون الانشطة مقسمة على جميع فترات البرنامج اليومي...وفي مجموعات كبيرة وصغيرة وبشكل فردي ايض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رتبط منحى اللغة الكاملة بالتقييم المستمر ” البورتفوليو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</a:rPr>
              <a:t>تابع... اللغة الكاملة في رياض الاطفال كمنحى للتعلم</a:t>
            </a:r>
            <a:br>
              <a:rPr sz="36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ole Languag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Arial"/>
              </a:rPr>
              <a:t>هل التطبيق لمنحى اللغة الكاملة يعني ألا نقوم بتعليم القراءة والكتابة بشكل مباشر؟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63l04eo"/>
          <p:cNvPicPr/>
          <p:nvPr/>
        </p:nvPicPr>
        <p:blipFill>
          <a:blip r:embed="rId1"/>
          <a:stretch/>
        </p:blipFill>
        <p:spPr>
          <a:xfrm flipH="1" rot="10800000">
            <a:off x="971640" y="1483560"/>
            <a:ext cx="691344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</a:rPr>
              <a:t>تابع... اللغة الكاملة في رياض الاطفال كمنحى للتعلم</a:t>
            </a:r>
            <a:br>
              <a:rPr sz="36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ole Languag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63l04eo"/>
          <p:cNvPicPr/>
          <p:nvPr/>
        </p:nvPicPr>
        <p:blipFill>
          <a:blip r:embed="rId1"/>
          <a:stretch/>
        </p:blipFill>
        <p:spPr>
          <a:xfrm flipH="1" rot="10800000">
            <a:off x="971640" y="1483560"/>
            <a:ext cx="6913440" cy="144360"/>
          </a:xfrm>
          <a:prstGeom prst="rect">
            <a:avLst/>
          </a:prstGeom>
          <a:ln w="0">
            <a:noFill/>
          </a:ln>
        </p:spPr>
      </p:pic>
      <p:sp>
        <p:nvSpPr>
          <p:cNvPr id="54" name="Oval 5"/>
          <p:cNvSpPr/>
          <p:nvPr/>
        </p:nvSpPr>
        <p:spPr>
          <a:xfrm>
            <a:off x="5940360" y="4292640"/>
            <a:ext cx="2521080" cy="1727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نصار اللغة الكام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هم..غاية..ومعن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395280" y="4365720"/>
            <a:ext cx="2521080" cy="1727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أنصار علم الأصو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عليم أصوات الحرو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(الادراك الفونيم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 flipH="1">
            <a:off x="1547640" y="3284640"/>
            <a:ext cx="5032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12566198"/>
          <p:cNvPicPr/>
          <p:nvPr/>
        </p:nvPicPr>
        <p:blipFill>
          <a:blip r:embed="rId2"/>
          <a:stretch/>
        </p:blipFill>
        <p:spPr>
          <a:xfrm>
            <a:off x="1979640" y="2060640"/>
            <a:ext cx="4968720" cy="1904760"/>
          </a:xfrm>
          <a:prstGeom prst="rect">
            <a:avLst/>
          </a:prstGeom>
          <a:ln w="0">
            <a:noFill/>
          </a:ln>
        </p:spPr>
      </p:pic>
      <p:sp>
        <p:nvSpPr>
          <p:cNvPr id="58" name="Line 10"/>
          <p:cNvSpPr/>
          <p:nvPr/>
        </p:nvSpPr>
        <p:spPr>
          <a:xfrm>
            <a:off x="6877080" y="306864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2124000" y="6093000"/>
            <a:ext cx="4680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قديم انشطة ذات معنى لا تغفل تعليمات علم الاصو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وتسير (كل ...جزء...ك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</a:rPr>
              <a:t>تابع... اللغة الكاملة في رياض الاطفال كمنحى للتعلم</a:t>
            </a:r>
            <a:br>
              <a:rPr sz="36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ole Languag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c3399"/>
                </a:solidFill>
                <a:uFillTx/>
                <a:latin typeface="Arial"/>
              </a:rPr>
              <a:t>المبادئ التي يقوم عليها منحى اللغة الكامل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ن يتعلم الاطفال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بشكل طبيع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لقائي: ( عرض...مشاركة...لعب ادوار...اداء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عرف الاطفال الكثير عن القراءة والكتابة قبل التحاقهم بالروضة: الاستعداد للقراء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استطاعة جميع الاطفال تعلم القراءة والكتا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63l04eo"/>
          <p:cNvPicPr/>
          <p:nvPr/>
        </p:nvPicPr>
        <p:blipFill>
          <a:blip r:embed="rId1"/>
          <a:stretch/>
        </p:blipFill>
        <p:spPr>
          <a:xfrm flipH="1" rot="10800000">
            <a:off x="971640" y="1483560"/>
            <a:ext cx="691344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</a:rPr>
              <a:t>تابع... اللغة الكاملة في رياض الاطفال كمنحى للتعلم</a:t>
            </a:r>
            <a:br>
              <a:rPr sz="36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ole Languag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علم الاطفال بطريقة افضل عندما تتاح لهم فرصة الاختيار“ فترة العمل الحر في الاركان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علم الاطفال بشكل افضل كمجموعة متحابة لا  متنافس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علم الاطفال عندما يتحدثون ويمارسون انشطتهم في اطار اجتماع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63l04eo"/>
          <p:cNvPicPr/>
          <p:nvPr/>
        </p:nvPicPr>
        <p:blipFill>
          <a:blip r:embed="rId1"/>
          <a:stretch/>
        </p:blipFill>
        <p:spPr>
          <a:xfrm flipH="1" rot="10800000">
            <a:off x="971640" y="1483560"/>
            <a:ext cx="691344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9900ff"/>
                </a:solidFill>
                <a:uFillTx/>
                <a:latin typeface="Arial"/>
              </a:rPr>
              <a:t>ثالثا...البرنامج اللغوي المتوازن وعناص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ا بد من تنويع طرق التدريس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ابد من معرفة خصائص الاطفال ورغباتهم وميولهم والفروق الفردية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نظور المتوازن ليس خليط من استراتيجيات عشوائية بل (استراتيجيات متنوعة ومتوازنة من مختلف النظريات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برنامج المتوازن هو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الذي يركز على احتياجات الطفل نفسه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كثر من تركيزه على آخر المستجدات في تعليم القراءة والكتا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900000" y="1773360"/>
            <a:ext cx="7344000" cy="93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يس هناك طريقة واحدة فقط ناجحة في تعليم القراءة والكتا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99"/>
                </a:solidFill>
                <a:uFillTx/>
                <a:latin typeface="Arial"/>
              </a:rPr>
              <a:t>رابعا..الممارسات المناسبة في تعليم القراءة والكتاب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42920" y="1773360"/>
            <a:ext cx="60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رد في الوثيقة الخاصة بالممارسات المناسبة في تعليم القراءة والكتابة في الاتحاد الدولي للقراء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الاتحاد القومي لتربية الطفولة المبكر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EYC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تنمو قدرات الاطفال في مجال القراءة والكتابة </a:t>
            </a:r>
            <a:r>
              <a:rPr b="1" lang="ar-SA" sz="2400" spc="-1" strike="noStrike" u="sng">
                <a:solidFill>
                  <a:srgbClr val="ff3300"/>
                </a:solidFill>
                <a:uFillTx/>
                <a:latin typeface="Arial"/>
              </a:rPr>
              <a:t>في سلسلة متصلة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وفي </a:t>
            </a:r>
            <a:r>
              <a:rPr b="1" lang="ar-SA" sz="2400" spc="-1" strike="noStrike" u="sng">
                <a:solidFill>
                  <a:srgbClr val="ff3300"/>
                </a:solidFill>
                <a:uFillTx/>
                <a:latin typeface="Arial"/>
              </a:rPr>
              <a:t>مراحل متعاقبة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ولكل مرحلة ما يناسبها من </a:t>
            </a:r>
            <a:r>
              <a:rPr b="1" lang="ar-SA" sz="2400" spc="-1" strike="noStrike" u="sng">
                <a:solidFill>
                  <a:srgbClr val="ff3300"/>
                </a:solidFill>
                <a:uFillTx/>
                <a:latin typeface="Arial"/>
              </a:rPr>
              <a:t>العمليات والأنشطة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التي تجعل من عملية التعلم ممت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1779851"/>
          <p:cNvPicPr/>
          <p:nvPr/>
        </p:nvPicPr>
        <p:blipFill>
          <a:blip r:embed="rId1"/>
          <a:stretch/>
        </p:blipFill>
        <p:spPr>
          <a:xfrm>
            <a:off x="0" y="3213000"/>
            <a:ext cx="2771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0:05:45Z</dcterms:created>
  <dc:creator>user</dc:creator>
  <dc:description/>
  <dc:language>en-US</dc:language>
  <cp:lastModifiedBy>Mahmoud Alsaleh</cp:lastModifiedBy>
  <dcterms:modified xsi:type="dcterms:W3CDTF">2016-09-26T13:34:34Z</dcterms:modified>
  <cp:revision>146</cp:revision>
  <dc:subject/>
  <dc:title>الشريحة 1</dc:title>
</cp:coreProperties>
</file>