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3.gif" ContentType="image/gif"/>
  <Override PartName="/ppt/media/image4.gif" ContentType="image/gif"/>
  <Override PartName="/ppt/media/image5.gif" ContentType="image/gif"/>
  <Override PartName="/ppt/media/image10.gif" ContentType="image/gif"/>
  <Override PartName="/ppt/media/image6.gif" ContentType="image/gif"/>
  <Override PartName="/ppt/media/image11.gif" ContentType="image/gif"/>
  <Override PartName="/ppt/media/image7.gif" ContentType="image/gif"/>
  <Override PartName="/ppt/media/image8.gif" ContentType="image/gif"/>
  <Override PartName="/ppt/media/image9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7357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5427A-1741-4C36-A4FD-7236AF363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27BDC-95D4-4FEA-AA11-205B0C9A2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4CDE3-78B2-4308-9FE2-15C5C4D93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10F96-04E3-466D-915D-3B9553634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3DA67-1F60-4B4F-8B7C-B642ACAA6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483C5-9B8C-46EB-B7DE-E832C0B8F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35193-A1DE-46CE-B759-ACA9A31FE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BC808-A8B7-406A-94B8-A857B6F16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5FEEB-8D7C-4CCF-8FC4-6F4A1A78E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9A27D-533F-44DC-BE2E-56F7AC8F0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246FC-CA45-4AB9-94ED-0DCF0B6BA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E35F4-EEA0-4E2A-8517-4C3D4120E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CCD08-E042-49A5-BC5E-EE9945BF33A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7.gif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7.gif"/><Relationship Id="rId3" Type="http://schemas.openxmlformats.org/officeDocument/2006/relationships/image" Target="../media/image7.gif"/><Relationship Id="rId4" Type="http://schemas.openxmlformats.org/officeDocument/2006/relationships/image" Target="../media/image7.gif"/><Relationship Id="rId5" Type="http://schemas.openxmlformats.org/officeDocument/2006/relationships/image" Target="../media/image7.gif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8.gif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9.gif"/><Relationship Id="rId3" Type="http://schemas.openxmlformats.org/officeDocument/2006/relationships/image" Target="../media/image9.gif"/><Relationship Id="rId4" Type="http://schemas.openxmlformats.org/officeDocument/2006/relationships/image" Target="../media/image9.gif"/><Relationship Id="rId5" Type="http://schemas.openxmlformats.org/officeDocument/2006/relationships/image" Target="../media/image9.gif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9.gif"/><Relationship Id="rId3" Type="http://schemas.openxmlformats.org/officeDocument/2006/relationships/image" Target="../media/image9.gi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1.gif"/><Relationship Id="rId3" Type="http://schemas.openxmlformats.org/officeDocument/2006/relationships/image" Target="../media/image11.gif"/><Relationship Id="rId4" Type="http://schemas.openxmlformats.org/officeDocument/2006/relationships/image" Target="../media/image11.gif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33cc33"/>
                </a:solidFill>
                <a:latin typeface="Arial"/>
              </a:rPr>
              <a:t>ثانياً... اللغة الكاملة في رياض الاطفال كمنحى للتعلم</a:t>
            </a:r>
            <a:br>
              <a:rPr sz="3600"/>
            </a:br>
            <a:r>
              <a:rPr b="1" lang="ar-SA" sz="36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Whole Language Theory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ماذا نعني باللغة الكاملة؟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63l04eo"/>
          <p:cNvPicPr/>
          <p:nvPr/>
        </p:nvPicPr>
        <p:blipFill>
          <a:blip r:embed="rId1"/>
          <a:stretch/>
        </p:blipFill>
        <p:spPr>
          <a:xfrm flipH="1" rot="10800000">
            <a:off x="900000" y="1772640"/>
            <a:ext cx="6913800" cy="14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000099"/>
                </a:solidFill>
                <a:uFillTx/>
                <a:latin typeface="Arial"/>
              </a:rPr>
              <a:t>تابع..الممارسات المناسبة في تعليم القراءة والكتاب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842920" y="1773360"/>
            <a:ext cx="604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3300"/>
                </a:solidFill>
                <a:latin typeface="Arial"/>
              </a:rPr>
              <a:t>المرحلة الاولى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000099"/>
                </a:solidFill>
                <a:uFillTx/>
                <a:latin typeface="Arial"/>
              </a:rPr>
              <a:t>الوعي بعملية القراءة والكتابة واكتشافه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 algn="r" rtl="1">
              <a:spcBef>
                <a:spcPts val="601"/>
              </a:spcBef>
              <a:buClr>
                <a:srgbClr val="ff33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الاستمتاع بسماع القصص ومناقشتها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 algn="r" rtl="1">
              <a:spcBef>
                <a:spcPts val="601"/>
              </a:spcBef>
              <a:buClr>
                <a:srgbClr val="ff33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إدراك ان الكلمة المطبوعة تحمل رسال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 algn="r" rtl="1">
              <a:spcBef>
                <a:spcPts val="601"/>
              </a:spcBef>
              <a:buClr>
                <a:srgbClr val="ff33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محاولة ممارسة القراءة والكتابة من تلقاء انفسه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 algn="r" rtl="1">
              <a:spcBef>
                <a:spcPts val="601"/>
              </a:spcBef>
              <a:buClr>
                <a:srgbClr val="ff33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التعرف على بعض الكتابات الموجودة في بيئته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 algn="r" rtl="1">
              <a:spcBef>
                <a:spcPts val="601"/>
              </a:spcBef>
              <a:buClr>
                <a:srgbClr val="ff33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التعرف على اصوات الحرو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 algn="r" rtl="1">
              <a:spcBef>
                <a:spcPts val="601"/>
              </a:spcBef>
              <a:buClr>
                <a:srgbClr val="ff33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استخدام بعض الحروف لتكوين كلمات معروفة لديهم         ( مثل...)؟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11779851"/>
          <p:cNvPicPr/>
          <p:nvPr/>
        </p:nvPicPr>
        <p:blipFill>
          <a:blip r:embed="rId1"/>
          <a:stretch/>
        </p:blipFill>
        <p:spPr>
          <a:xfrm>
            <a:off x="0" y="3213000"/>
            <a:ext cx="277164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000099"/>
                </a:solidFill>
                <a:uFillTx/>
                <a:latin typeface="Arial"/>
              </a:rPr>
              <a:t>تابع..الممارسات المناسبة في تعليم القراءة والكتاب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842920" y="1773360"/>
            <a:ext cx="604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3300"/>
                </a:solidFill>
                <a:latin typeface="Arial"/>
              </a:rPr>
              <a:t>المرحلة الثانية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000099"/>
                </a:solidFill>
                <a:uFillTx/>
                <a:latin typeface="Arial"/>
              </a:rPr>
              <a:t>تجارب في القراءة والكتاب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r" rtl="1">
              <a:spcBef>
                <a:spcPts val="601"/>
              </a:spcBef>
              <a:buClr>
                <a:srgbClr val="ff33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يستمتعوا بما يقرأ عليهم ويسردوا بأنفسهم القص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r" rtl="1">
              <a:spcBef>
                <a:spcPts val="601"/>
              </a:spcBef>
              <a:buClr>
                <a:srgbClr val="ff33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يستخدموا لغة وصفي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r" rtl="1">
              <a:spcBef>
                <a:spcPts val="601"/>
              </a:spcBef>
              <a:buClr>
                <a:srgbClr val="ff33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يميزوا بين الاحرف المتشابهة والمختلف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r" rtl="1">
              <a:spcBef>
                <a:spcPts val="601"/>
              </a:spcBef>
              <a:buClr>
                <a:srgbClr val="ff33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يعرفون مخارج الاحر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r" rtl="1">
              <a:spcBef>
                <a:spcPts val="601"/>
              </a:spcBef>
              <a:buClr>
                <a:srgbClr val="ff33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يطابقوا الكلمة المسموعة بالمكتوب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r" rtl="1">
              <a:spcBef>
                <a:spcPts val="601"/>
              </a:spcBef>
              <a:buClr>
                <a:srgbClr val="ff33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يبدؤوا بكتابة بعض الاحرف وبعض الكلمات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11779851"/>
          <p:cNvPicPr/>
          <p:nvPr/>
        </p:nvPicPr>
        <p:blipFill>
          <a:blip r:embed="rId1"/>
          <a:stretch/>
        </p:blipFill>
        <p:spPr>
          <a:xfrm>
            <a:off x="0" y="3213000"/>
            <a:ext cx="277164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660066"/>
                </a:solidFill>
                <a:uFillTx/>
                <a:latin typeface="Arial"/>
              </a:rPr>
              <a:t>خامسا..استراتيجيات تطوير اللغة في رياض الاطفا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33cc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cc33"/>
                </a:solidFill>
                <a:latin typeface="Arial"/>
              </a:rPr>
              <a:t>دور المعلمة في تحقيق البرنامج اللغوي في الروضة من خلال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معرفة مكونات النشاط اللغوي في الروض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تجهيز بيئة غنية باللغ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دمج اللغة من خلال فترات البرنامج اليوم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التخطيط للخبرات اللغوي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تقييم نمو الاطفال اللغو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إشراك الاهل في تعليم اللغ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تنمية اللغة من خلال الوحدات التعليمي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11740702"/>
          <p:cNvPicPr/>
          <p:nvPr/>
        </p:nvPicPr>
        <p:blipFill>
          <a:blip r:embed="rId1"/>
          <a:stretch/>
        </p:blipFill>
        <p:spPr>
          <a:xfrm>
            <a:off x="179280" y="2349360"/>
            <a:ext cx="3527640" cy="35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 u="sng">
                <a:solidFill>
                  <a:srgbClr val="660066"/>
                </a:solidFill>
                <a:uFillTx/>
                <a:latin typeface="Arial"/>
              </a:rPr>
              <a:t>استراتيجيات تطوير اللغة في رياض الاطفا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33cc33"/>
              </a:buClr>
              <a:buFont typeface="Wingdings" charset="2"/>
              <a:buChar char="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cc33"/>
                </a:solidFill>
                <a:latin typeface="Arial"/>
              </a:rPr>
              <a:t>معرفة مكونات النشاط اللغوي في الروضة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601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توفير الفرصة للأطفال لربط اللغة بالمتعة والترفيه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إثراء لغة الطفل وتزويده بالكلمات الجديدة بشكل دوري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تنمية مهارات التمييز السمعي(اعطاءهم فرصة للتعرف على الاصوات وتصنيفها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تنمية معرفة الطفل بالطباعة“ شكل الكلمة المكتوبة“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تعريف الطفل بالأحرف و الكلمات بشكل متدرج ومناسب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تنمية الاستيعاب والفهم ( الفهم القرائي- الفهم السماعي..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التعامل مع الكتب والمطبوعات الأخرى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جميع تلك الانشطة يمارسها الاطفال من خلال الحديث- الاناشيد- اللعب- سرد القصص- الكتاب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 u="sng">
                <a:solidFill>
                  <a:srgbClr val="660066"/>
                </a:solidFill>
                <a:uFillTx/>
                <a:latin typeface="Arial"/>
              </a:rPr>
              <a:t>استراتيجيات تطوير اللغة في رياض الاطفا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33cc33"/>
              </a:buClr>
              <a:buFont typeface="Wingdings" charset="2"/>
              <a:buChar char="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cc33"/>
                </a:solidFill>
                <a:latin typeface="Arial"/>
              </a:rPr>
              <a:t>تجهيز بيئة غنية باللغة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r" rtl="1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تجهيز الاركان ومناطق اللعب بشكل يدعم محادثة الاطفال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r" rtl="1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استخدام المطبوعات بشكل وظيفي،يدعم الانشطة واللعب  (مثال : وصفات الطهي- خطوات تجربة ،،،،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r" rtl="1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إثراء الاركان المختلفة بأدوات اللغة ( اقلام- اوراق –  كتب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 u="sng">
                <a:solidFill>
                  <a:srgbClr val="660066"/>
                </a:solidFill>
                <a:uFillTx/>
                <a:latin typeface="Arial"/>
              </a:rPr>
              <a:t>استراتيجيات تطوير اللغة في رياض الاطفا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6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r" rtl="1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Font typeface="Wingdings" charset="2"/>
              <a:buChar char="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cc33"/>
                </a:solidFill>
                <a:latin typeface="Arial"/>
              </a:rPr>
              <a:t>دمج اللغة من خلال فترات الجدول اليومي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r" rtl="1">
              <a:lnSpc>
                <a:spcPct val="90000"/>
              </a:lnSpc>
              <a:spcBef>
                <a:spcPts val="499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يستخدم الاطفال الانشطة اللغوية طوال فترات الجدول اليومي في الروض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r" rtl="1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  ابتداء من تسجيل الحضور الصباح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r" rtl="1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  المحادثات بين الاطفال انفسهم وبين الاطفال والمعلمة طوال اليو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r" rtl="1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  تصفح الكت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r" rtl="1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  الاناشي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 u="sng">
                <a:solidFill>
                  <a:srgbClr val="660066"/>
                </a:solidFill>
                <a:uFillTx/>
                <a:latin typeface="Arial"/>
              </a:rPr>
              <a:t>استراتيجيات تطوير اللغة في رياض الاطفا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2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 algn="r" rtl="1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يمكن ان تشجع المعلمة الاطفال على استخدام ادوات اللغة مثل الاقلام والأوراق من خلال اللعب في الاركان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r" rtl="1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 يمكن استخدام الاناشيد في الفترات الانتقالية مثل توزيع الاطفال على   الاركان او الذهاب لغسيل اليدين قبل الوجب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r" rtl="1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 اثناء فترة الوجبة تكون هناك محادثات بين الاطفال والمعلم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4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 algn="r" rtl="1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يمكن استخدام الانشطة اللغوية في الملعب الخارجي ( قراءة تعليمات لعبة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قراءة القوانين- الكتابة بالطباشير على الارض- التخطيط على الرمل....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 algn="r" rtl="1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 فترة اللقاء الأخير غالبا ما تكون فترة استمتاع بالأناشيد والقص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 u="sng">
                <a:solidFill>
                  <a:srgbClr val="660066"/>
                </a:solidFill>
                <a:uFillTx/>
                <a:latin typeface="Arial"/>
              </a:rPr>
              <a:t>استراتيجيات تطوير اللغة في رياض الاطفا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33cc33"/>
              </a:buClr>
              <a:buFont typeface="Wingdings" charset="2"/>
              <a:buChar char="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cc33"/>
                </a:solidFill>
                <a:latin typeface="Arial"/>
              </a:rPr>
              <a:t>التخطيط للخبرات اللغو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المعلمة تخطط للخبرات التي تنمي مكونات اللغة المختلفة بمعنى ان الانشطة لا تحدث بشكل عشوائي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مثال: عندما تريد المعلمة ان تنمي التمييز السمعي للأصوات لدى الطفل فهي تخطط نشاط محدد لذلك مثل ترديد انشودة وتطلب من الاطفال تحديد الكلمات التي لها نفس الوزن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33cc33"/>
                </a:solidFill>
                <a:latin typeface="Arial"/>
              </a:rPr>
              <a:t>تابع... اللغة الكاملة في رياض الاطفال كمنحى للتعلم</a:t>
            </a:r>
            <a:br>
              <a:rPr sz="3600"/>
            </a:b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Whole Language The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6840" y="2133360"/>
            <a:ext cx="8218440" cy="43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0000ff"/>
                </a:solidFill>
                <a:uFillTx/>
                <a:latin typeface="Arial"/>
              </a:rPr>
              <a:t>اللغة الكاملة: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أن يتعلم الطفل اللغة بمهاراتها المختلفة (استماع-تحدث-قراءة-كتابة) بشكل متوازي ومتكامل ومن خلال الانشطة اليومية سواء في البيت او الروض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تداخل نشاطات تعلم القراءة والكتابة لغاية ما في تعلم موضوعات مثل الفن والعلوم والرياضيات واللعب والمهارات الاجتماعية من خلال ربط محتوى التعلم بخبرات القراءة والكتاب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63l04eo"/>
          <p:cNvPicPr/>
          <p:nvPr/>
        </p:nvPicPr>
        <p:blipFill>
          <a:blip r:embed="rId1"/>
          <a:stretch/>
        </p:blipFill>
        <p:spPr>
          <a:xfrm flipH="1" rot="10800000">
            <a:off x="971640" y="1483560"/>
            <a:ext cx="6913440" cy="14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660066"/>
                </a:solidFill>
                <a:latin typeface="Arial"/>
              </a:rPr>
              <a:t>استراتيجيات تطوير اللغة في رياض الاطفا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33cc33"/>
              </a:buClr>
              <a:buFont typeface="Wingdings" charset="2"/>
              <a:buChar char="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cc33"/>
                </a:solidFill>
                <a:latin typeface="Arial"/>
              </a:rPr>
              <a:t>تقييم نمو الاطفال اللغوي بشكل مستم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601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تسجل المعلمة ملاحظات حول مهارات الطفل اللغوية   المختلفة مثل ملاحظة لغة الاطفال الشفهية او الكتاب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ملاحظات المعلمة يجب ان تصف السلوك بدقة وبدون حكم مثل (يشيرالى حرف ب ويذكر صوته - يشكل حرف ج بالعجين ...) وتذكر المعلمة تاريخ الملاحظة ومكانها مثلا (ركن الفن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اهمية الملاحظات تكمن في تقييم نمو الاطفال اللغوي في الجوانب المختلفة، ومن ثم التركيز على المهارات التي تحتاج الى تنمية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يجب ان يكون تقييم المعلمة مستمرا وليس في بداية السنة الدراسية او نهايتها فقط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 u="sng">
                <a:solidFill>
                  <a:srgbClr val="660066"/>
                </a:solidFill>
                <a:uFillTx/>
                <a:latin typeface="Arial"/>
              </a:rPr>
              <a:t>استراتيجيات تطوير اللغة في رياض الاطفا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 algn="r" rtl="1">
              <a:spcBef>
                <a:spcPts val="700"/>
              </a:spcBef>
              <a:buClr>
                <a:srgbClr val="33cc33"/>
              </a:buClr>
              <a:buFont typeface="Wingdings" charset="2"/>
              <a:buChar char="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cc33"/>
                </a:solidFill>
                <a:latin typeface="Arial"/>
              </a:rPr>
              <a:t>إشراك الاهل في تعليم اللغ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r" rtl="1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يجب استغلال اي فرصة لإشراك الاهل في الخبرات اللغوية المقدمة للأطفال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r" rtl="1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الهدف من ذلك : تحقيق التكامل بين الروضة والمدرسة - إحاطة الطفل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بالأنشطة اللغوية طوال اليو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r" rtl="1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من أمثلة ذلك : ارسال كتاب يحبه الطفل ليقرأه مع احد والديه ثم يعيده الى الروض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r" rtl="1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يجب تزويد الاهل بالأنشطة والأفكار المطبقة في الروضة ليستفيدوا منها في المنزل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660066"/>
                </a:solidFill>
                <a:latin typeface="Arial"/>
              </a:rPr>
              <a:t>استراتيجيات تطوير اللغة في رياض الاطفا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33cc33"/>
              </a:buClr>
              <a:buFont typeface="Wingdings" charset="2"/>
              <a:buChar char="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cc33"/>
                </a:solidFill>
                <a:latin typeface="Arial"/>
              </a:rPr>
              <a:t>تنمية اللغة من خلال الوحدات التعليم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كل وحدة تعليمية يجب ان تصاحبها خبرات لغوية متجددة في الاركان المختلفة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( مثال وحدة الماء : في ركن المكتبة كتب جديدة عن الاسماك- قصة السمكة سلمونة/ في ركن الاكتشاف : حوض ماء ويصنف الطفل الاشياء التي تطفو وتغوص / في ركن اللعب الايهامي يمكن تحويل المنطقة الى منطقة نشاط درامي مرتبط بالماء مثل الصيد يهدف الى تشجيع المحادثة......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كل وحدة تعليمية تثري حصيلة الطفل بالكلمات الجديدة المرتبطة بهذه الوحدة مثال : وحدة الماء: يطفو – يغوص- سائل- جامد – نهر....، يمكن ان تعلق الكلمات الجديدة في لوحة وبجانبها الصورة وتتجدد باستمرا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كل وحدة تعليمية تصاحبها قصص وأناشيد خاصة بها تثري حصيلة الطفل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كل وحدة تعليمية تثير لدى الطفل تجارب وأفكار للحديث عنها يجب ان تستغلها المعلم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68000" y="1600200"/>
            <a:ext cx="8218440" cy="384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 algn="r" rtl="1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cc33"/>
                </a:solidFill>
                <a:latin typeface="Arial"/>
              </a:rPr>
              <a:t>تعلم أكثر من تعلي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 algn="r" rtl="1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cc33"/>
                </a:solidFill>
                <a:latin typeface="Arial"/>
              </a:rPr>
              <a:t>عملية اجتماعية متداخلة ونشطة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 algn="r" rtl="1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cc33"/>
                </a:solidFill>
                <a:latin typeface="Arial"/>
              </a:rPr>
              <a:t>تدمج القراءة والكتابة عمدا وقصدا في جميع الانشطة المقدمة للطفل في الروضة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 algn="r" rtl="1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cc33"/>
                </a:solidFill>
                <a:latin typeface="Arial"/>
              </a:rPr>
              <a:t>تكون الانشطة مقسمة على جميع فترات البرنامج اليومي...وفي مجموعات كبيرة وصغيرة وبشكل فردي ايضا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يرتبط منحى اللغة الكاملة بالتقييم المستمر ” البورتفوليو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33cc33"/>
                </a:solidFill>
                <a:latin typeface="Arial"/>
              </a:rPr>
              <a:t>تابع... اللغة الكاملة في رياض الاطفال كمنحى للتعلم</a:t>
            </a:r>
            <a:br>
              <a:rPr sz="3600"/>
            </a:b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Whole Language The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0066"/>
                </a:solidFill>
                <a:latin typeface="Arial"/>
              </a:rPr>
              <a:t>هل التطبيق لمنحى اللغة الكاملة يعني ألا نقوم بتعليم القراءة والكتابة بشكل مباشر؟؟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63l04eo"/>
          <p:cNvPicPr/>
          <p:nvPr/>
        </p:nvPicPr>
        <p:blipFill>
          <a:blip r:embed="rId1"/>
          <a:stretch/>
        </p:blipFill>
        <p:spPr>
          <a:xfrm flipH="1" rot="10800000">
            <a:off x="971640" y="1483560"/>
            <a:ext cx="6913440" cy="14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33cc33"/>
                </a:solidFill>
                <a:latin typeface="Arial"/>
              </a:rPr>
              <a:t>تابع... اللغة الكاملة في رياض الاطفال كمنحى للتعلم</a:t>
            </a:r>
            <a:br>
              <a:rPr sz="3600"/>
            </a:b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Whole Language The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63l04eo"/>
          <p:cNvPicPr/>
          <p:nvPr/>
        </p:nvPicPr>
        <p:blipFill>
          <a:blip r:embed="rId1"/>
          <a:stretch/>
        </p:blipFill>
        <p:spPr>
          <a:xfrm flipH="1" rot="10800000">
            <a:off x="971640" y="1483560"/>
            <a:ext cx="6913440" cy="144360"/>
          </a:xfrm>
          <a:prstGeom prst="rect">
            <a:avLst/>
          </a:prstGeom>
          <a:ln w="0">
            <a:noFill/>
          </a:ln>
        </p:spPr>
      </p:pic>
      <p:sp>
        <p:nvSpPr>
          <p:cNvPr id="54" name="Oval 5"/>
          <p:cNvSpPr/>
          <p:nvPr/>
        </p:nvSpPr>
        <p:spPr>
          <a:xfrm>
            <a:off x="5940360" y="4292640"/>
            <a:ext cx="2521080" cy="1727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انصار اللغة الكامل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فهم..غاية..ومعن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Oval 6"/>
          <p:cNvSpPr/>
          <p:nvPr/>
        </p:nvSpPr>
        <p:spPr>
          <a:xfrm>
            <a:off x="395280" y="4365720"/>
            <a:ext cx="2521080" cy="1727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أنصار علم الأصو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تعليم أصوات الحرو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(الادراك الفونيمي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8"/>
          <p:cNvSpPr/>
          <p:nvPr/>
        </p:nvSpPr>
        <p:spPr>
          <a:xfrm flipH="1">
            <a:off x="1547640" y="3284640"/>
            <a:ext cx="50328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7" descr="12566198"/>
          <p:cNvPicPr/>
          <p:nvPr/>
        </p:nvPicPr>
        <p:blipFill>
          <a:blip r:embed="rId2"/>
          <a:stretch/>
        </p:blipFill>
        <p:spPr>
          <a:xfrm>
            <a:off x="1979640" y="2060640"/>
            <a:ext cx="4968720" cy="1904760"/>
          </a:xfrm>
          <a:prstGeom prst="rect">
            <a:avLst/>
          </a:prstGeom>
          <a:ln w="0">
            <a:noFill/>
          </a:ln>
        </p:spPr>
      </p:pic>
      <p:sp>
        <p:nvSpPr>
          <p:cNvPr id="58" name="Line 10"/>
          <p:cNvSpPr/>
          <p:nvPr/>
        </p:nvSpPr>
        <p:spPr>
          <a:xfrm>
            <a:off x="6877080" y="3068640"/>
            <a:ext cx="43164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1"/>
          <p:cNvSpPr/>
          <p:nvPr/>
        </p:nvSpPr>
        <p:spPr>
          <a:xfrm>
            <a:off x="2124000" y="6093000"/>
            <a:ext cx="4680000" cy="64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تقديم انشطة ذات معنى لا تغفل تعليمات علم الاصوا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 وتسير (كل ...جزء...كل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33cc33"/>
                </a:solidFill>
                <a:latin typeface="Arial"/>
              </a:rPr>
              <a:t>تابع... اللغة الكاملة في رياض الاطفال كمنحى للتعلم</a:t>
            </a:r>
            <a:br>
              <a:rPr sz="3600"/>
            </a:b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Whole Language The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cc3399"/>
                </a:solidFill>
                <a:uFillTx/>
                <a:latin typeface="Arial"/>
              </a:rPr>
              <a:t>المبادئ التي يقوم عليها منحى اللغة الكاملة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ان يتعلم الاطفال </a:t>
            </a:r>
            <a:r>
              <a:rPr b="1" lang="ar-SA" sz="2400" spc="-1" strike="noStrike" u="sng">
                <a:solidFill>
                  <a:srgbClr val="000000"/>
                </a:solidFill>
                <a:uFillTx/>
                <a:latin typeface="Arial"/>
              </a:rPr>
              <a:t>بشكل طبيعي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وتلقائي: ( عرض...مشاركة...لعب ادوار...اداء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يعرف الاطفال الكثير عن القراءة والكتابة قبل التحاقهم بالروضة: الاستعداد للقراء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باستطاعة جميع الاطفال تعلم القراءة والكتاب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63l04eo"/>
          <p:cNvPicPr/>
          <p:nvPr/>
        </p:nvPicPr>
        <p:blipFill>
          <a:blip r:embed="rId1"/>
          <a:stretch/>
        </p:blipFill>
        <p:spPr>
          <a:xfrm flipH="1" rot="10800000">
            <a:off x="971640" y="1483560"/>
            <a:ext cx="6913440" cy="14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33cc33"/>
                </a:solidFill>
                <a:latin typeface="Arial"/>
              </a:rPr>
              <a:t>تابع... اللغة الكاملة في رياض الاطفال كمنحى للتعلم</a:t>
            </a:r>
            <a:br>
              <a:rPr sz="3600"/>
            </a:b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Whole Language The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r" rtl="1">
              <a:spcBef>
                <a:spcPts val="601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يتعلم الاطفال بطريقة افضل عندما تتاح لهم فرصة الاختيار“ فترة العمل الحر في الاركان“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r" rtl="1">
              <a:spcBef>
                <a:spcPts val="601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يتعلم الاطفال بشكل افضل كمجموعة متحابة لا  متنافس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r" rtl="1">
              <a:spcBef>
                <a:spcPts val="799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يتعلم الاطفال عندما يتحدثون ويمارسون انشطتهم في اطار اجتماعي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63l04eo"/>
          <p:cNvPicPr/>
          <p:nvPr/>
        </p:nvPicPr>
        <p:blipFill>
          <a:blip r:embed="rId1"/>
          <a:stretch/>
        </p:blipFill>
        <p:spPr>
          <a:xfrm flipH="1" rot="10800000">
            <a:off x="971640" y="1483560"/>
            <a:ext cx="6913440" cy="14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0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 u="sng">
                <a:solidFill>
                  <a:srgbClr val="9900ff"/>
                </a:solidFill>
                <a:uFillTx/>
                <a:latin typeface="Arial"/>
              </a:rPr>
              <a:t>ثالثا...البرنامج اللغوي المتوازن وعناصر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2852280"/>
            <a:ext cx="8229600" cy="32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 algn="r" rtl="1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لا بد من تنويع طرق التدريس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r" rtl="1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لابد من معرفة خصائص الاطفال ورغباتهم وميولهم والفروق الفردية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r" rtl="1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المنظور المتوازن ليس خليط من استراتيجيات عشوائية بل (استراتيجيات متنوعة ومتوازنة من مختلف النظريات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r" rtl="1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البرنامج المتوازن هو </a:t>
            </a:r>
            <a:r>
              <a:rPr b="1" lang="ar-SA" sz="2400" spc="-1" strike="noStrike" u="sng">
                <a:solidFill>
                  <a:srgbClr val="000000"/>
                </a:solidFill>
                <a:uFillTx/>
                <a:latin typeface="Arial"/>
              </a:rPr>
              <a:t>الذي يركز على احتياجات الطفل نفسه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أكثر من تركيزه على آخر المستجدات في تعليم القراءة والكتاب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4"/>
          <p:cNvSpPr/>
          <p:nvPr/>
        </p:nvSpPr>
        <p:spPr>
          <a:xfrm>
            <a:off x="900000" y="1773360"/>
            <a:ext cx="7344000" cy="936360"/>
          </a:xfrm>
          <a:prstGeom prst="rect">
            <a:avLst/>
          </a:prstGeom>
          <a:solidFill>
            <a:srgbClr val="ffffff"/>
          </a:solidFill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R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ليس هناك طريقة واحدة فقط ناجحة في تعليم القراءة والكتاب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000099"/>
                </a:solidFill>
                <a:uFillTx/>
                <a:latin typeface="Arial"/>
              </a:rPr>
              <a:t>رابعا..الممارسات المناسبة في تعليم القراءة والكتابة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842920" y="1773360"/>
            <a:ext cx="604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ورد في الوثيقة الخاصة بالممارسات المناسبة في تعليم القراءة والكتابة في الاتحاد الدولي للقراء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RA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والاتحاد القومي لتربية الطفولة المبكرة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EYC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ar-SA" sz="2400" spc="-1" strike="noStrike">
                <a:solidFill>
                  <a:srgbClr val="ff3300"/>
                </a:solidFill>
                <a:latin typeface="Arial"/>
              </a:rPr>
              <a:t>تنمو قدرات الاطفال في مجال القراءة والكتابة </a:t>
            </a:r>
            <a:r>
              <a:rPr b="1" lang="ar-SA" sz="2400" spc="-1" strike="noStrike" u="sng">
                <a:solidFill>
                  <a:srgbClr val="ff3300"/>
                </a:solidFill>
                <a:uFillTx/>
                <a:latin typeface="Arial"/>
              </a:rPr>
              <a:t>في سلسلة متصلة</a:t>
            </a:r>
            <a:r>
              <a:rPr b="1" lang="ar-SA" sz="2400" spc="-1" strike="noStrike">
                <a:solidFill>
                  <a:srgbClr val="ff3300"/>
                </a:solidFill>
                <a:latin typeface="Arial"/>
              </a:rPr>
              <a:t> وفي </a:t>
            </a:r>
            <a:r>
              <a:rPr b="1" lang="ar-SA" sz="2400" spc="-1" strike="noStrike" u="sng">
                <a:solidFill>
                  <a:srgbClr val="ff3300"/>
                </a:solidFill>
                <a:uFillTx/>
                <a:latin typeface="Arial"/>
              </a:rPr>
              <a:t>مراحل متعاقبة</a:t>
            </a:r>
            <a:r>
              <a:rPr b="1" lang="ar-SA" sz="2400" spc="-1" strike="noStrike">
                <a:solidFill>
                  <a:srgbClr val="ff3300"/>
                </a:solidFill>
                <a:latin typeface="Arial"/>
              </a:rPr>
              <a:t> ولكل مرحلة ما يناسبها من </a:t>
            </a:r>
            <a:r>
              <a:rPr b="1" lang="ar-SA" sz="2400" spc="-1" strike="noStrike" u="sng">
                <a:solidFill>
                  <a:srgbClr val="ff3300"/>
                </a:solidFill>
                <a:uFillTx/>
                <a:latin typeface="Arial"/>
              </a:rPr>
              <a:t>العمليات والأنشطة</a:t>
            </a:r>
            <a:r>
              <a:rPr b="1" lang="ar-SA" sz="2400" spc="-1" strike="noStrike">
                <a:solidFill>
                  <a:srgbClr val="ff3300"/>
                </a:solidFill>
                <a:latin typeface="Arial"/>
              </a:rPr>
              <a:t> التي تجعل من عملية التعلم ممتع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11779851"/>
          <p:cNvPicPr/>
          <p:nvPr/>
        </p:nvPicPr>
        <p:blipFill>
          <a:blip r:embed="rId1"/>
          <a:stretch/>
        </p:blipFill>
        <p:spPr>
          <a:xfrm>
            <a:off x="0" y="3213000"/>
            <a:ext cx="277164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6T10:05:45Z</dcterms:created>
  <dc:creator>user</dc:creator>
  <dc:description/>
  <dc:language>en-US</dc:language>
  <cp:lastModifiedBy>Mahmoud Alsaleh</cp:lastModifiedBy>
  <dcterms:modified xsi:type="dcterms:W3CDTF">2016-09-26T13:34:34Z</dcterms:modified>
  <cp:revision>146</cp:revision>
  <dc:subject/>
  <dc:title>الشريحة 1</dc:title>
</cp:coreProperties>
</file>