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8EA-1BC4-4E6F-91C3-A7B5A543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9AE-87B7-4F7B-A3AE-FA57650E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990-440E-4FF5-A4E9-F2DB36AC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ECE-4856-416B-92E1-8196C0DD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8D5-EDC3-4DC8-BDA8-A18D41CC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83B-5F22-4C1C-B838-F0F0887D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513-8C6C-43F1-9582-E869FDF1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63C-63BA-4DB1-87C7-E6C1C6C5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12B-0876-4997-AE9D-DD597AFA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D9D-F9C6-4D57-96D8-8529565A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D0B-A532-4F3C-8261-A1D1B90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50E-D971-425D-8A6F-5CD9ADEA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69DF-BE2D-44BE-B9DD-9DFDEE8A075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oha-intel.blogspot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مستطيل 1" descr=""/>
          <p:cNvPicPr/>
          <p:nvPr/>
        </p:nvPicPr>
        <p:blipFill>
          <a:blip r:embed="rId1"/>
          <a:stretch/>
        </p:blipFill>
        <p:spPr>
          <a:xfrm>
            <a:off x="2206800" y="1511280"/>
            <a:ext cx="495612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مستطيل 1"/>
          <p:cNvSpPr/>
          <p:nvPr/>
        </p:nvSpPr>
        <p:spPr>
          <a:xfrm>
            <a:off x="2708640" y="3141720"/>
            <a:ext cx="387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اجع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مج التكنولوجيا بالعملية التعليم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2"/>
          <p:cNvSpPr/>
          <p:nvPr/>
        </p:nvSpPr>
        <p:spPr>
          <a:xfrm>
            <a:off x="3220560" y="364500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doha-intel.blogspot.com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مربع نص 1" descr=""/>
          <p:cNvPicPr/>
          <p:nvPr/>
        </p:nvPicPr>
        <p:blipFill>
          <a:blip r:embed="rId1"/>
          <a:stretch/>
        </p:blipFill>
        <p:spPr>
          <a:xfrm>
            <a:off x="2462040" y="1316160"/>
            <a:ext cx="4475160" cy="1109520"/>
          </a:xfrm>
          <a:prstGeom prst="rect">
            <a:avLst/>
          </a:prstGeom>
          <a:ln w="0">
            <a:noFill/>
          </a:ln>
        </p:spPr>
      </p:pic>
      <p:sp>
        <p:nvSpPr>
          <p:cNvPr id="43" name="مربع نص 2"/>
          <p:cNvSpPr/>
          <p:nvPr/>
        </p:nvSpPr>
        <p:spPr>
          <a:xfrm>
            <a:off x="900000" y="3141720"/>
            <a:ext cx="7488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أن + الفعل المضارع  + الطالبة  +  مصطلح من المادة العلمية  +ا لظرف  + المعيار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ربع نص 1"/>
          <p:cNvSpPr/>
          <p:nvPr/>
        </p:nvSpPr>
        <p:spPr>
          <a:xfrm>
            <a:off x="4140360" y="981000"/>
            <a:ext cx="26636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أهداف المعرف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1.bp.blogspot.com/_h6jZdUWktd0/SPKxzK1k2KI/AAAAAAAAABw/DCJihkOqekA/s400/%D8%A8%D9%84%D9%88%D9%85.jpg"/>
          <p:cNvPicPr/>
          <p:nvPr/>
        </p:nvPicPr>
        <p:blipFill>
          <a:blip r:embed="rId1"/>
          <a:stretch/>
        </p:blipFill>
        <p:spPr>
          <a:xfrm>
            <a:off x="4788000" y="1844640"/>
            <a:ext cx="3809880" cy="4105440"/>
          </a:xfrm>
          <a:prstGeom prst="rect">
            <a:avLst/>
          </a:prstGeom>
          <a:ln w="0">
            <a:noFill/>
          </a:ln>
        </p:spPr>
      </p:pic>
      <p:sp>
        <p:nvSpPr>
          <p:cNvPr id="46" name="مربع نص 4"/>
          <p:cNvSpPr/>
          <p:nvPr/>
        </p:nvSpPr>
        <p:spPr>
          <a:xfrm>
            <a:off x="5003640" y="5373720"/>
            <a:ext cx="3168720" cy="45972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الحفظ والتذك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1.bp.blogspot.com/_h6jZdUWktd0/SPKxzK1k2KI/AAAAAAAAABw/DCJihkOqekA/s400/%D8%A8%D9%84%D9%88%D9%85.jpg"/>
          <p:cNvPicPr/>
          <p:nvPr/>
        </p:nvPicPr>
        <p:blipFill>
          <a:blip r:embed="rId2"/>
          <a:stretch/>
        </p:blipFill>
        <p:spPr>
          <a:xfrm>
            <a:off x="324000" y="1773360"/>
            <a:ext cx="3809880" cy="4103640"/>
          </a:xfrm>
          <a:prstGeom prst="rect">
            <a:avLst/>
          </a:prstGeom>
          <a:ln w="0">
            <a:noFill/>
          </a:ln>
        </p:spPr>
      </p:pic>
      <p:sp>
        <p:nvSpPr>
          <p:cNvPr id="48" name="مربع نص 7"/>
          <p:cNvSpPr/>
          <p:nvPr/>
        </p:nvSpPr>
        <p:spPr>
          <a:xfrm>
            <a:off x="611280" y="5300640"/>
            <a:ext cx="3168720" cy="4597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الاسترجا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8"/>
          <p:cNvSpPr/>
          <p:nvPr/>
        </p:nvSpPr>
        <p:spPr>
          <a:xfrm>
            <a:off x="971640" y="4653000"/>
            <a:ext cx="2592360" cy="4597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لماذ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9"/>
          <p:cNvSpPr/>
          <p:nvPr/>
        </p:nvSpPr>
        <p:spPr>
          <a:xfrm>
            <a:off x="1258920" y="4005360"/>
            <a:ext cx="194472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يطبق بناء على معلو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10"/>
          <p:cNvSpPr/>
          <p:nvPr/>
        </p:nvSpPr>
        <p:spPr>
          <a:xfrm>
            <a:off x="1187280" y="3284640"/>
            <a:ext cx="2089440" cy="8240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التعرف على المكونات والعلاقات بينها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ربع نص 11"/>
          <p:cNvSpPr/>
          <p:nvPr/>
        </p:nvSpPr>
        <p:spPr>
          <a:xfrm>
            <a:off x="1619280" y="2637000"/>
            <a:ext cx="122400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جديد“مبتك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12"/>
          <p:cNvSpPr/>
          <p:nvPr/>
        </p:nvSpPr>
        <p:spPr>
          <a:xfrm>
            <a:off x="1835280" y="1916280"/>
            <a:ext cx="86508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إصدار حك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"/>
          <p:cNvSpPr/>
          <p:nvPr/>
        </p:nvSpPr>
        <p:spPr>
          <a:xfrm>
            <a:off x="2340000" y="1268280"/>
            <a:ext cx="4572000" cy="47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ـ </a:t>
            </a: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مستوى المعرفة – التذكر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nowledge – Recal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مث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ستخدم في صياغة أهداف هذا المستوى أفعال مثل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 يذكر، يسمي , يعد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-مستوى الفهم – الاستيعاب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rehens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ستخدم في صياغة أهداف هذا المستوى أفعال مثل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 يُعبّر بلغته الخاصة عن، يفسّر، يناق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ـ </a:t>
            </a: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مستوى التطبي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ستخدم في صياغة أهداف هذا المستوى أفعال مثل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 يطبق، يحسب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مستطيل 1"/>
          <p:cNvSpPr/>
          <p:nvPr/>
        </p:nvSpPr>
        <p:spPr>
          <a:xfrm>
            <a:off x="1042920" y="333360"/>
            <a:ext cx="7201080" cy="47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 – مستوى التحليل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Analysis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ستخدم في صياغة أهداف هذا المستوى أفعال مثل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 يقارن، يميز أو يحدد (العوامل الأساسية في ظاهرة أو موضوع)، يحلل موضوعاً إلى عناصره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– مستوى التركيب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ynthesis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ستخدم في صياغة أهداف هذا المستوى أفعال مثل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 يصمم (تجربة مثلاً)، يركب، يخطط، يقترح (أسلوباً أو طريقة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Calibri"/>
              </a:rPr>
              <a:t>6</a:t>
            </a:r>
            <a:r>
              <a:rPr b="0" lang="ar-SA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c00000"/>
                </a:solidFill>
                <a:latin typeface="Calibri"/>
              </a:rPr>
              <a:t>– مستوى التقويم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valuation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مثال انشاء هدف لقياس هذا المستو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ن ينقد المتعلم الطريقة التقليدية في التعليم نقدا موضوعي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ستخدم في صياغة أهداف هذا المستوى أفعال مثل: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 يصدر حكماً على، ينقد ، يبر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مربع نص 1"/>
          <p:cNvSpPr/>
          <p:nvPr/>
        </p:nvSpPr>
        <p:spPr>
          <a:xfrm>
            <a:off x="4140360" y="1268280"/>
            <a:ext cx="26636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أهداف المهار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3"/>
          <p:cNvSpPr/>
          <p:nvPr/>
        </p:nvSpPr>
        <p:spPr>
          <a:xfrm>
            <a:off x="3276720" y="2133720"/>
            <a:ext cx="26636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أهداف الوجداني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ربع نص 4"/>
          <p:cNvSpPr/>
          <p:nvPr/>
        </p:nvSpPr>
        <p:spPr>
          <a:xfrm>
            <a:off x="2411280" y="2997360"/>
            <a:ext cx="26654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عدد + التسلس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مستطيل 4" descr=""/>
          <p:cNvPicPr/>
          <p:nvPr/>
        </p:nvPicPr>
        <p:blipFill>
          <a:blip r:embed="rId1"/>
          <a:stretch/>
        </p:blipFill>
        <p:spPr>
          <a:xfrm>
            <a:off x="3316320" y="2073240"/>
            <a:ext cx="28465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can0001"/>
          <p:cNvPicPr/>
          <p:nvPr/>
        </p:nvPicPr>
        <p:blipFill>
          <a:blip r:embed="rId1"/>
          <a:stretch/>
        </p:blipFill>
        <p:spPr>
          <a:xfrm>
            <a:off x="1143000" y="214200"/>
            <a:ext cx="75722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مستطيل 1" descr=""/>
          <p:cNvPicPr/>
          <p:nvPr/>
        </p:nvPicPr>
        <p:blipFill>
          <a:blip r:embed="rId1"/>
          <a:stretch/>
        </p:blipFill>
        <p:spPr>
          <a:xfrm>
            <a:off x="1536840" y="1305000"/>
            <a:ext cx="62229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5:47:02Z</dcterms:created>
  <dc:creator>User</dc:creator>
  <dc:description/>
  <dc:language>en-US</dc:language>
  <cp:lastModifiedBy>DELL</cp:lastModifiedBy>
  <dcterms:modified xsi:type="dcterms:W3CDTF">2017-10-10T05:30:34Z</dcterms:modified>
  <cp:revision>46</cp:revision>
  <dc:subject/>
  <dc:title>الشريحة 1</dc:title>
</cp:coreProperties>
</file>