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CEB32A-0DB2-4A49-A642-929C7B337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8EA52-9E32-4E1E-9BE2-F0ECD77C7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2C6FA-4A92-46D3-BDDF-9C091CBE3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93A13-9353-496D-9FB6-86B4212FA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84E147-23F3-4553-86A4-02B0D4F7F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F5848-92E5-423A-B961-86517ACCB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31E7F-F53B-49B9-9949-D3AB57F4D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0B0DF-0A1D-451D-9396-9F4F7C5B9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12792-EA74-475A-A779-EEDE9E9DF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7E314-E75B-490E-AC67-0CE096B26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A9E3-DCAD-46E6-9304-EFAA03DB5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7021C-7616-4A84-BD8D-29377A7ED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00CAE-1BBA-4814-BAA0-5812EC2A3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D566D-5A97-45E4-B0A1-D3B39D616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82342-F084-4034-A6B3-8F1838F38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77639-96FD-45AB-84ED-E39B0BF12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99028-F4C0-4532-B1EA-31ECF1C10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87101C-F042-4073-B670-8A9E370432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7A6FD-E9E7-4342-97F5-8EFD8CECD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2940A-DD45-4587-88D7-0286FCB6C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108AF-3E6F-4993-875E-C8E5261788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1F7599-321C-47FF-9EE6-BA37C5C5C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D3AB5-64B4-4D75-9C3D-AC4A379EE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A5E47-73B6-4268-B2F0-F2EC30CA3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6195B-0D98-4FDC-AC47-DADB35ED2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33960-D0AE-4B55-A454-04F52FF45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B7341-E61E-456C-9382-1FE9DEB48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98DB5-D1D6-4075-8895-CA0E54894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EDF05A-8B2D-46DA-8B27-0989476C49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0518E-8086-4B45-AD53-9FA58371D8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E7D0E0-7048-429C-8D1E-FF4CCF3A2D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6ABE0E-F913-44D7-B0AF-D430E2BA2B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F21AFF-59E9-4432-8DF3-9F5B8A3A52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A8DF8-DA5A-49C3-B037-C77FC6CD5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07BBD0-D12B-411A-A1DF-94DA44B8A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41203F-3AD0-437F-ACE0-2BBACBBD32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585FF-E295-4AF2-8F82-9BFDC9725C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3B214-543B-4016-9083-77EC2AEC9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01D2FA-454D-492E-8FF3-BEF01ED0F7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4397C9-EFB3-4358-9C14-EC6B80A00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2D91A-5244-4454-9128-17C8625399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042D27-2E4A-45A5-9C79-6BBDCC791A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8389FF-86EA-4E84-AA07-BE1B28ABA6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C5B00-357E-40D2-8363-9E3EC4A46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740E-F36A-4742-93D0-075DDEB39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2601-139B-4DAE-9AB3-74ADF88B2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C9E1-72EF-414F-9BD6-2ECACF325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1f497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8D5B5-40EB-4210-9789-0C29962030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1d4577"/>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790C-186C-42F1-BF7C-8081BA3E6D29}" type="slidenum">
              <a:rPr b="0" lang="ar-SA" sz="1200" spc="-1" strike="noStrike">
                <a:solidFill>
                  <a:srgbClr val="1d4577"/>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91F2-717D-42E3-8F14-15F312B3D84C}" type="slidenum">
              <a:rPr b="0" lang="ar-SA" sz="1200" spc="-1" strike="noStrike">
                <a:solidFill>
                  <a:srgbClr val="e3e1d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eece1"/>
                </a:solidFill>
                <a:latin typeface="Calibri"/>
              </a:rPr>
              <a:t>Click to edit the title text format</a:t>
            </a:r>
            <a:endParaRPr b="0" lang="en-US" sz="5000" spc="-1" strike="noStrike">
              <a:solidFill>
                <a:srgbClr val="eeece1"/>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3e1d7"/>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3e1d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891F-82AF-45F7-9808-275718E80BAF}" type="slidenum">
              <a:rPr b="0" lang="ar-SA" sz="1200" spc="-1" strike="noStrike">
                <a:solidFill>
                  <a:srgbClr val="e3e1d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95302e">
                  <a:alpha val="45098"/>
                </a:srgbClr>
              </a:gs>
              <a:gs pos="100000">
                <a:srgbClr val="95c237">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49434">
                  <a:alpha val="45098"/>
                </a:srgbClr>
              </a:gs>
              <a:gs pos="100000">
                <a:srgbClr val="bd322e">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1f497d"/>
                </a:solidFill>
                <a:latin typeface="Calibri"/>
              </a:rPr>
              <a:t>Click to edit the title text format</a:t>
            </a:r>
            <a:endParaRPr b="0" lang="en-US" sz="5000" spc="-1" strike="noStrike">
              <a:solidFill>
                <a:srgbClr val="1f497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c0504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9bbb5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8064a2"/>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1d4577"/>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1d4577"/>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479E-4B37-416C-9AF8-E2010C586767}" type="slidenum">
              <a:rPr b="0" lang="ar-SA" sz="1200" spc="-1" strike="noStrike">
                <a:solidFill>
                  <a:srgbClr val="1d4577"/>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676440" y="4572000"/>
            <a:ext cx="7864200" cy="1200240"/>
          </a:xfrm>
          <a:prstGeom prst="rect">
            <a:avLst/>
          </a:prstGeom>
          <a:ln w="0">
            <a:noFill/>
          </a:ln>
        </p:spPr>
      </p:pic>
      <p:sp>
        <p:nvSpPr>
          <p:cNvPr id="196" name="PlaceHolder 1"/>
          <p:cNvSpPr>
            <a:spLocks noGrp="1"/>
          </p:cNvSpPr>
          <p:nvPr>
            <p:ph type="subTitle"/>
          </p:nvPr>
        </p:nvSpPr>
        <p:spPr>
          <a:xfrm>
            <a:off x="826920" y="1484280"/>
            <a:ext cx="7855200" cy="1752480"/>
          </a:xfrm>
          <a:prstGeom prst="rect">
            <a:avLst/>
          </a:prstGeom>
          <a:noFill/>
          <a:ln w="0">
            <a:noFill/>
          </a:ln>
        </p:spPr>
        <p:txBody>
          <a:bodyPr lIns="0" rIns="18360" anchor="t">
            <a:noAutofit/>
          </a:bodyPr>
          <a:p>
            <a:pPr algn="ctr" rtl="1">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Constantia"/>
            </a:endParaRPr>
          </a:p>
          <a:p>
            <a:pPr algn="ctr" rtl="1">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Constantia"/>
              </a:rPr>
              <a:t>مراحل عملية البحث التربوي</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0"/>
            <a:ext cx="8229600" cy="836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rPr>
              <a:t>أولاً: تحديد المشكلة البحثية</a:t>
            </a:r>
            <a:endParaRPr b="0" lang="en-US" sz="3600" spc="-1" strike="noStrike">
              <a:solidFill>
                <a:srgbClr val="1f497d"/>
              </a:solidFill>
              <a:latin typeface="Calibri"/>
            </a:endParaRPr>
          </a:p>
        </p:txBody>
      </p:sp>
      <p:sp>
        <p:nvSpPr>
          <p:cNvPr id="198" name=""/>
          <p:cNvSpPr txBox="1"/>
          <p:nvPr/>
        </p:nvSpPr>
        <p:spPr>
          <a:xfrm>
            <a:off x="179280" y="692280"/>
            <a:ext cx="8785440" cy="5905440"/>
          </a:xfrm>
          <a:prstGeom prst="rect">
            <a:avLst/>
          </a:prstGeom>
          <a:noFill/>
          <a:ln w="0">
            <a:noFill/>
          </a:ln>
        </p:spPr>
        <p:txBody>
          <a:bodyPr anchor="t">
            <a:normAutofit fontScale="93000"/>
          </a:bodyPr>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onstantia"/>
              </a:rPr>
              <a:t>مفهوم المشكل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د تكون نقص معلومات/ سؤال محير/ الرغبة في حل الغموض!!</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جود الباحث أمام تساؤلات أو غموض مع ووجود رغبة لديه في الوصول إلى الحقيقة يسمى هذا الموقف (مشكل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onstantia"/>
              </a:rPr>
              <a:t>اختيار مشكلة البحث وتحديدها:</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عادة ما يدفع الباحث إلى اختيار مشكلة ما هو الإحساس بوجود موقف محير أو غامض, يحتاج إلى معرفة أو إجابة أو حل، وفي هذه الحالة يمكن للباحث أن يسترشد بآراء الخبراء، أو قد يلجأ إلى مصادر المعلومات التي يمكن أن تزوده بالمعرفة حول هذه المشكلة. وثمة بعض المعايير التي يمكن أن يحتكم إليها الباحث عند اختيار المشكلة البحثية، ومنها:</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هناك ما يبرر البحث ويتوقع منه الوصول إلى نتائج تقود لمعرفة جديد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يمكن دراسة المشكلة وفق المنهج العلمي؟</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الباحث مؤهل لدراسة المشكل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دراسة هذه المشكلة يمكن أن يولّد معرفة جديد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ل يمكن أن تسهم نتيجة الدراسة بتقدم المعرفة الإنسانية؟</a:t>
            </a: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179280" y="836280"/>
            <a:ext cx="8785440" cy="5761080"/>
          </a:xfrm>
          <a:prstGeom prst="rect">
            <a:avLst/>
          </a:prstGeom>
          <a:noFill/>
          <a:ln w="0">
            <a:noFill/>
          </a:ln>
        </p:spPr>
        <p:txBody>
          <a:bodyPr anchor="t">
            <a:normAutofit fontScale="94000"/>
          </a:bodyPr>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4f6228"/>
                </a:solidFill>
                <a:latin typeface="Constantia"/>
              </a:rPr>
              <a:t>    </a:t>
            </a:r>
            <a:r>
              <a:rPr b="1" lang="ar-SA" sz="2200" spc="-1" strike="noStrike" u="sng">
                <a:solidFill>
                  <a:srgbClr val="4f6228"/>
                </a:solidFill>
                <a:uFillTx/>
                <a:latin typeface="Constantia"/>
              </a:rPr>
              <a:t>مصادر اختيار المشكلة البحثية:</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1</a:t>
            </a:r>
            <a:r>
              <a:rPr b="0" lang="ar-SA" sz="2200" spc="-1" strike="noStrike">
                <a:solidFill>
                  <a:srgbClr val="000000"/>
                </a:solidFill>
                <a:latin typeface="Constantia"/>
              </a:rPr>
              <a:t>- الخبرة: تمثل الخبرة الشخصية مصدراً خصباً لكثير من الباحثين الذين يعملون في المجال التربوي؛ إذ من خلال عملهم في هذا المجال يمكن أن يتحسسوا الكثير من المشكلات التي تعترض سير عملهم، مثل: الدراسات المنبثقة من تجارب العاملين في الغرفة الصفية تساهم على نحو متميز في تحسين الممارسات التربوية في المجال التربوي.</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2</a:t>
            </a:r>
            <a:r>
              <a:rPr b="0" lang="ar-SA" sz="2200" spc="-1" strike="noStrike">
                <a:solidFill>
                  <a:srgbClr val="000000"/>
                </a:solidFill>
                <a:latin typeface="Constantia"/>
              </a:rPr>
              <a:t>- الاستنتاجات المنبثقة من النظريات: اطلاع الباحث على النظريات التربوية والنفسية أمر مهم جداً في عملية البحث التربوي، حيث تعتبر النظريات مبادئ عامة تتحقق مصداقيتها من خلال التجريب والاختبار العملي، مثل نظرية التعلم الاجتماعي (إلبرت باندورا) تم التحقق منها تجريبياً في المواقف التربوية.</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مراجعة البحوث السابقة: تشكل المجلات العلمية ورسائل الماجستير والدكتوراه مصدراً رئيساً في هذا المجال بما تتضمنه من أبحاث يمكن الرجوع إليها واشتقاق الكثير من الدراسات البحثية.</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القضايا الاجتماعية: التي تمر بها الأمة مثل الكوارث التي تمثلت بالحروب و ماخلفته من آثار، وقد دفعت هذه الآثار إلى إجراء دراسات مسحية واستطلاع رأي بهدف تقصي آراء الناس حولها.</a:t>
            </a:r>
            <a:endParaRPr b="0" lang="en-US" sz="2200" spc="-1" strike="noStrike">
              <a:solidFill>
                <a:srgbClr val="000000"/>
              </a:solidFill>
              <a:latin typeface="Constantia"/>
            </a:endParaRPr>
          </a:p>
          <a:p>
            <a:pPr marL="256320" indent="-256320" algn="just" rtl="1">
              <a:lnSpc>
                <a:spcPct val="90000"/>
              </a:lnSpc>
              <a:spcBef>
                <a:spcPts val="550"/>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5</a:t>
            </a:r>
            <a:r>
              <a:rPr b="0" lang="ar-SA" sz="2200" spc="-1" strike="noStrike">
                <a:solidFill>
                  <a:srgbClr val="000000"/>
                </a:solidFill>
                <a:latin typeface="Constantia"/>
              </a:rPr>
              <a:t>- المواقف العملية: يحتاج متخذو القرار إلى إجراء دراسة معينة في موقع ما لمشكلة تواجههم.</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00" name="عنوان 1"/>
          <p:cNvSpPr/>
          <p:nvPr/>
        </p:nvSpPr>
        <p:spPr>
          <a:xfrm>
            <a:off x="539640" y="0"/>
            <a:ext cx="8229600" cy="836640"/>
          </a:xfrm>
          <a:prstGeom prst="rect">
            <a:avLst/>
          </a:prstGeom>
          <a:noFill/>
          <a:ln w="0">
            <a:noFill/>
          </a:ln>
        </p:spPr>
        <p:style>
          <a:lnRef idx="0"/>
          <a:fillRef idx="0"/>
          <a:effectRef idx="0"/>
          <a:fontRef idx="minor"/>
        </p:style>
        <p:txBody>
          <a:bodyPr lIns="0" rIns="0" tIns="46800" bIns="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cs typeface="Traditional Arabic"/>
              </a:rPr>
              <a:t>أولاً: تحديد المشكلة البحث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79280" y="1052280"/>
            <a:ext cx="8640720" cy="5545080"/>
          </a:xfrm>
          <a:prstGeom prst="rect">
            <a:avLst/>
          </a:prstGeom>
          <a:noFill/>
          <a:ln w="0">
            <a:noFill/>
          </a:ln>
        </p:spPr>
        <p:txBody>
          <a:bodyPr anchor="t">
            <a:normAutofit fontScale="93000"/>
          </a:bodyPr>
          <a:p>
            <a:pPr marL="253440" indent="-253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6228"/>
                </a:solidFill>
                <a:latin typeface="Constantia"/>
              </a:rPr>
              <a:t>   </a:t>
            </a:r>
            <a:r>
              <a:rPr b="1" lang="ar-SA" sz="2600" spc="-1" strike="noStrike" u="sng">
                <a:solidFill>
                  <a:srgbClr val="4f6228"/>
                </a:solidFill>
                <a:uFillTx/>
                <a:latin typeface="Constantia"/>
              </a:rPr>
              <a:t>معايير صياغة مشكلة البحث:</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ضمينها تساؤلاً يعبر عن علاقة بين متغيرين أو أكثر.</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وضوح وسلامة المفردات والتراكيب اللغوية، وهناك ثلاث صيغ متعارف عليها في عملية صوغ المشكلة البحثية وهي: الصيغة التصريحية (التقريرية) بحيث تصاغ بعبارة واحدة أو عدد من الفقرات، والصيغة الاستفهامية بحيث تبدأ بأداة استفهام (ما الفرق، ما العلاقة، هل هناك) وتنتهي بعلامةاستفهام؟، وصيغة الهدف أو الغرض من الدراسة.</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أن تكون قابله للبحث.</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أن يتجنب الباحث في طرحها إصدار أحكام تنبئ عن قيم مفاضلة أخلاقية (إطلاق أحكام مسبقة).</a:t>
            </a:r>
            <a:endParaRPr b="0" lang="en-US" sz="2600" spc="-1" strike="noStrike">
              <a:solidFill>
                <a:srgbClr val="000000"/>
              </a:solidFill>
              <a:latin typeface="Constantia"/>
            </a:endParaRPr>
          </a:p>
          <a:p>
            <a:pPr marL="253440" indent="-253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f6228"/>
                </a:solidFill>
                <a:latin typeface="Constantia"/>
              </a:rPr>
              <a:t>   </a:t>
            </a:r>
            <a:r>
              <a:rPr b="1" lang="ar-SA" sz="2600" spc="-1" strike="noStrike" u="sng">
                <a:solidFill>
                  <a:srgbClr val="4f6228"/>
                </a:solidFill>
                <a:uFillTx/>
                <a:latin typeface="Constantia"/>
              </a:rPr>
              <a:t>أسئلة/ فرضيات الدراسة:</a:t>
            </a:r>
            <a:endParaRPr b="0" lang="en-US" sz="2600" spc="-1" strike="noStrike">
              <a:solidFill>
                <a:srgbClr val="000000"/>
              </a:solidFill>
              <a:latin typeface="Constantia"/>
            </a:endParaRPr>
          </a:p>
          <a:p>
            <a:pPr marL="253440" indent="-253440" algn="just" rtl="1">
              <a:lnSpc>
                <a:spcPct val="90000"/>
              </a:lnSpc>
              <a:spcBef>
                <a:spcPts val="649"/>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d0d0d"/>
                </a:solidFill>
                <a:latin typeface="Constantia"/>
              </a:rPr>
              <a:t>عند الشروع في دراسة مشكلة بحثية يبدأ الباحث بطرح تساؤل في نوع من العمومية، وينبثق عن هذا التساؤل في بعض الدراسات أسئلة أكثر تحديداً.</a:t>
            </a:r>
            <a:endParaRPr b="0" lang="en-US" sz="2600" spc="-1" strike="noStrike">
              <a:solidFill>
                <a:srgbClr val="000000"/>
              </a:solidFill>
              <a:latin typeface="Constantia"/>
            </a:endParaRPr>
          </a:p>
        </p:txBody>
      </p:sp>
      <p:sp>
        <p:nvSpPr>
          <p:cNvPr id="202" name="عنوان 1"/>
          <p:cNvSpPr/>
          <p:nvPr/>
        </p:nvSpPr>
        <p:spPr>
          <a:xfrm>
            <a:off x="539640" y="0"/>
            <a:ext cx="8229600" cy="836640"/>
          </a:xfrm>
          <a:prstGeom prst="rect">
            <a:avLst/>
          </a:prstGeom>
          <a:noFill/>
          <a:ln w="0">
            <a:noFill/>
          </a:ln>
        </p:spPr>
        <p:style>
          <a:lnRef idx="0"/>
          <a:fillRef idx="0"/>
          <a:effectRef idx="0"/>
          <a:fontRef idx="minor"/>
        </p:style>
        <p:txBody>
          <a:bodyPr lIns="0" rIns="0" tIns="46800" bIns="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cs typeface="Traditional Arabic"/>
              </a:rPr>
              <a:t>أولاً: تحديد المشكلة البحثية</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178920" y="907560"/>
            <a:ext cx="8713800" cy="5689800"/>
          </a:xfrm>
          <a:prstGeom prst="rect">
            <a:avLst/>
          </a:prstGeom>
          <a:noFill/>
          <a:ln w="0">
            <a:noFill/>
          </a:ln>
        </p:spPr>
        <p:txBody>
          <a:bodyPr anchor="t">
            <a:normAutofit fontScale="92000"/>
          </a:bodyPr>
          <a:p>
            <a:pPr marL="250920" indent="-2509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4f6228"/>
                </a:solidFill>
                <a:uFillTx/>
                <a:latin typeface="Constantia"/>
              </a:rPr>
              <a:t> الفرضية هي: </a:t>
            </a:r>
            <a:endParaRPr b="0" lang="en-US" sz="2300" spc="-1" strike="noStrike">
              <a:solidFill>
                <a:srgbClr val="000000"/>
              </a:solidFill>
              <a:latin typeface="Constantia"/>
            </a:endParaRPr>
          </a:p>
          <a:p>
            <a:pPr marL="250920" indent="-2509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Constantia"/>
              </a:rPr>
              <a:t>   </a:t>
            </a:r>
            <a:r>
              <a:rPr b="0" lang="ar-SA" sz="2300" spc="-1" strike="noStrike">
                <a:solidFill>
                  <a:srgbClr val="000000"/>
                </a:solidFill>
                <a:latin typeface="Constantia"/>
              </a:rPr>
              <a:t>حل مؤقت لمشكلة ما, أو تخمين ذكي من قبل الباحث لحل مشكلة, أو تنبؤات الباحث عن نتائج بحثه.</a:t>
            </a:r>
            <a:endParaRPr b="0" lang="en-US" sz="2300" spc="-1" strike="noStrike">
              <a:solidFill>
                <a:srgbClr val="000000"/>
              </a:solidFill>
              <a:latin typeface="Constantia"/>
            </a:endParaRPr>
          </a:p>
          <a:p>
            <a:pPr marL="250920" indent="-2509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4f6228"/>
                </a:solidFill>
                <a:uFillTx/>
                <a:latin typeface="Constantia"/>
              </a:rPr>
              <a:t> معايير صياغة فروض البحث:</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1</a:t>
            </a:r>
            <a:r>
              <a:rPr b="0" lang="ar-SA" sz="2300" spc="-1" strike="noStrike">
                <a:solidFill>
                  <a:srgbClr val="000000"/>
                </a:solidFill>
                <a:latin typeface="Constantia"/>
              </a:rPr>
              <a:t>- أن تعبر الفرضيات البحثية عن علاقة بين متغيرين أو أكثر.</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2</a:t>
            </a:r>
            <a:r>
              <a:rPr b="0" lang="ar-SA" sz="2300" spc="-1" strike="noStrike">
                <a:solidFill>
                  <a:srgbClr val="000000"/>
                </a:solidFill>
                <a:latin typeface="Constantia"/>
              </a:rPr>
              <a:t>- أن تكون الفرضية قابلة للاختبار</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3</a:t>
            </a:r>
            <a:r>
              <a:rPr b="0" lang="ar-SA" sz="2300" spc="-1" strike="noStrike">
                <a:solidFill>
                  <a:srgbClr val="000000"/>
                </a:solidFill>
                <a:latin typeface="Constantia"/>
              </a:rPr>
              <a:t>- أن تنسجم الفرضية مع الحقائق المعروفة نسبياً.</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4</a:t>
            </a:r>
            <a:r>
              <a:rPr b="0" lang="ar-SA" sz="2300" spc="-1" strike="noStrike">
                <a:solidFill>
                  <a:srgbClr val="000000"/>
                </a:solidFill>
                <a:latin typeface="Constantia"/>
              </a:rPr>
              <a:t>- أن يكون التعبير عن الفرضية بلغة واضحة ومختصرة.</a:t>
            </a:r>
            <a:endParaRPr b="0" lang="en-US" sz="2300" spc="-1" strike="noStrike">
              <a:solidFill>
                <a:srgbClr val="000000"/>
              </a:solidFill>
              <a:latin typeface="Constantia"/>
            </a:endParaRPr>
          </a:p>
          <a:p>
            <a:pPr marL="250920" indent="-250920" algn="just"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u="sng">
                <a:solidFill>
                  <a:srgbClr val="4f6228"/>
                </a:solidFill>
                <a:uFillTx/>
                <a:latin typeface="Constantia"/>
              </a:rPr>
              <a:t> أهمية فرضيات البحث:</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1</a:t>
            </a:r>
            <a:r>
              <a:rPr b="0" lang="ar-SA" sz="2300" spc="-1" strike="noStrike">
                <a:solidFill>
                  <a:srgbClr val="000000"/>
                </a:solidFill>
                <a:latin typeface="Constantia"/>
              </a:rPr>
              <a:t>- تزويد الباحث بتفسير مؤقت للظاهرة.</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2</a:t>
            </a:r>
            <a:r>
              <a:rPr b="0" lang="ar-SA" sz="2300" spc="-1" strike="noStrike">
                <a:solidFill>
                  <a:srgbClr val="000000"/>
                </a:solidFill>
                <a:latin typeface="Constantia"/>
              </a:rPr>
              <a:t>- تتضمن علاقة بين متغيرين ومن خلال اختبارها تتضح مستوى العلاقة بين المتغيرات.</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3</a:t>
            </a:r>
            <a:r>
              <a:rPr b="0" lang="ar-SA" sz="2300" spc="-1" strike="noStrike">
                <a:solidFill>
                  <a:srgbClr val="000000"/>
                </a:solidFill>
                <a:latin typeface="Constantia"/>
              </a:rPr>
              <a:t>- توجه الباحث من حيث حدود الدراسة، إضافة إلى تحديد أدوات جمع البيانات التي يحتاجها، ونوع التحليل الإحصائي اللازم لاختبار الفرضية.</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Constantia"/>
              </a:rPr>
              <a:t>4</a:t>
            </a:r>
            <a:r>
              <a:rPr b="0" lang="ar-SA" sz="2300" spc="-1" strike="noStrike">
                <a:solidFill>
                  <a:srgbClr val="000000"/>
                </a:solidFill>
                <a:latin typeface="Constantia"/>
              </a:rPr>
              <a:t>- تزويد الباحث بإطار لعرض نتائج البحث وخلاصته.</a:t>
            </a:r>
            <a:endParaRPr b="0" lang="en-US" sz="2300" spc="-1" strike="noStrike">
              <a:solidFill>
                <a:srgbClr val="000000"/>
              </a:solidFill>
              <a:latin typeface="Constantia"/>
            </a:endParaRPr>
          </a:p>
          <a:p>
            <a:pPr marL="250920" indent="-250920" algn="just" rtl="1">
              <a:spcBef>
                <a:spcPts val="575"/>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p:txBody>
      </p:sp>
      <p:sp>
        <p:nvSpPr>
          <p:cNvPr id="204" name="PlaceHolder 1"/>
          <p:cNvSpPr>
            <a:spLocks noGrp="1"/>
          </p:cNvSpPr>
          <p:nvPr>
            <p:ph type="title"/>
          </p:nvPr>
        </p:nvSpPr>
        <p:spPr>
          <a:xfrm>
            <a:off x="539640" y="333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rPr>
              <a:t>ثانياً: فرضيات البحث</a:t>
            </a:r>
            <a:endParaRPr b="0" lang="en-US" sz="36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2602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6228"/>
                </a:solidFill>
                <a:latin typeface="Calibri"/>
              </a:rPr>
              <a:t>ثانياً: فرضيات البحث</a:t>
            </a:r>
            <a:endParaRPr b="0" lang="en-US" sz="3600" spc="-1" strike="noStrike">
              <a:solidFill>
                <a:srgbClr val="1f497d"/>
              </a:solidFill>
              <a:latin typeface="Calibri"/>
            </a:endParaRPr>
          </a:p>
        </p:txBody>
      </p:sp>
      <p:sp>
        <p:nvSpPr>
          <p:cNvPr id="206" name=""/>
          <p:cNvSpPr txBox="1"/>
          <p:nvPr/>
        </p:nvSpPr>
        <p:spPr>
          <a:xfrm>
            <a:off x="250560" y="980640"/>
            <a:ext cx="8713800" cy="5543640"/>
          </a:xfrm>
          <a:prstGeom prst="rect">
            <a:avLst/>
          </a:prstGeom>
          <a:noFill/>
          <a:ln w="0">
            <a:noFill/>
          </a:ln>
        </p:spPr>
        <p:txBody>
          <a:bodyPr anchor="t">
            <a:normAutofit fontScale="90000"/>
          </a:bodyPr>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onstantia"/>
              </a:rPr>
              <a:t> أنواع فرضيات البحث:</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1</a:t>
            </a:r>
            <a:r>
              <a:rPr b="0" lang="ar-SA" sz="2400" spc="-1" strike="noStrike">
                <a:solidFill>
                  <a:srgbClr val="000000"/>
                </a:solidFill>
                <a:latin typeface="Constantia"/>
              </a:rPr>
              <a:t>- الفرضية الصفرية: تشير إلى عدم وجود فرق في السمة المقاسة.</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مثل: لا توجد فروق ذات دلالة إحصائية عند مستوى (</a:t>
            </a:r>
            <a:r>
              <a:rPr b="0" lang="ar-SA" sz="2400" spc="-1" strike="noStrike">
                <a:solidFill>
                  <a:srgbClr val="000000"/>
                </a:solidFill>
                <a:latin typeface="Constantia"/>
              </a:rPr>
              <a:t>0.05</a:t>
            </a:r>
            <a:r>
              <a:rPr b="0" lang="ar-SA" sz="2400" spc="-1" strike="noStrike">
                <a:solidFill>
                  <a:srgbClr val="000000"/>
                </a:solidFill>
                <a:latin typeface="Constantia"/>
              </a:rPr>
              <a:t>) في مستوى القلق بين مجموعات الطلبة تعزى إلى درجات الذكاء.</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2</a:t>
            </a:r>
            <a:r>
              <a:rPr b="0" lang="ar-SA" sz="2400" spc="-1" strike="noStrike">
                <a:solidFill>
                  <a:srgbClr val="000000"/>
                </a:solidFill>
                <a:latin typeface="Constantia"/>
              </a:rPr>
              <a:t>- الفرضية البديلة وتشمل على نوعين من الفرضيات هما:</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أ- المتجهه: عندما يملك الباحث أسبابا محددة تقوده إلى استنتاج.</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1" lang="ar-SA" sz="2400" spc="-1" strike="noStrike">
                <a:solidFill>
                  <a:srgbClr val="4f6228"/>
                </a:solidFill>
                <a:latin typeface="Constantia"/>
              </a:rPr>
              <a:t>مثل</a:t>
            </a:r>
            <a:r>
              <a:rPr b="0" lang="ar-SA" sz="2400" spc="-1" strike="noStrike">
                <a:solidFill>
                  <a:srgbClr val="000000"/>
                </a:solidFill>
                <a:latin typeface="Constantia"/>
              </a:rPr>
              <a:t>: يكون مستوى القلق عند الطلبة الذين يملكون درجات ذكاء مرتفعة أعلى منه عند الطلبة الذين يملكون درجات ذكاء منخفضه.</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ب- غير المتجهه: في حالات معينة تقع بين يدي الباحث بيانات تجعله يتوقع وجود اختلاف في سمة ما مثلاً، وفي الوقت نفسه لم يستطع أن يتوقع اتجاه هذا الاختلاف.</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6228"/>
                </a:solidFill>
                <a:latin typeface="Constantia"/>
              </a:rPr>
              <a:t>     مثل: </a:t>
            </a:r>
            <a:r>
              <a:rPr b="0" lang="ar-SA" sz="2400" spc="-1" strike="noStrike">
                <a:solidFill>
                  <a:srgbClr val="000000"/>
                </a:solidFill>
                <a:latin typeface="Constantia"/>
              </a:rPr>
              <a:t>يوجد فرق في مستوى القلق لدى الطلبة من ذوي الذكاء المرتفع والطلبة من ذوي الذكاء المنخفض.</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f6228"/>
                </a:solidFill>
                <a:uFillTx/>
                <a:latin typeface="Constantia"/>
              </a:rPr>
              <a:t> تعريف متغيرات البحث إجرائياً:</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f6228"/>
                </a:solidFill>
                <a:latin typeface="Constantia"/>
              </a:rPr>
              <a:t>أ</a:t>
            </a:r>
            <a:r>
              <a:rPr b="0" lang="ar-SA" sz="2400" spc="-1" strike="noStrike">
                <a:solidFill>
                  <a:srgbClr val="000000"/>
                </a:solidFill>
                <a:latin typeface="Constantia"/>
              </a:rPr>
              <a:t>ي يحدد بوضوح التفاصيل والإجراءات والمعالجات التي يقوم بها الباحث لمتغير ما.</a:t>
            </a:r>
            <a:endParaRPr b="0" lang="en-US" sz="2400" spc="-1" strike="noStrike">
              <a:solidFill>
                <a:srgbClr val="000000"/>
              </a:solidFill>
              <a:latin typeface="Constantia"/>
            </a:endParaRPr>
          </a:p>
          <a:p>
            <a:pPr marL="245520" indent="-245520" algn="just" rtl="1">
              <a:lnSpc>
                <a:spcPct val="90000"/>
              </a:lnSpc>
              <a:spcBef>
                <a:spcPts val="601"/>
              </a:spcBef>
              <a:buClr>
                <a:srgbClr val="9bbb5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2T18:31:53Z</dcterms:created>
  <dc:creator>hp</dc:creator>
  <dc:description/>
  <dc:language>en-US</dc:language>
  <cp:lastModifiedBy>shr</cp:lastModifiedBy>
  <dcterms:modified xsi:type="dcterms:W3CDTF">2016-05-09T21:35:21Z</dcterms:modified>
  <cp:revision>28</cp:revision>
  <dc:subject/>
  <dc:title>المحاضرة الثالثة</dc:title>
</cp:coreProperties>
</file>