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35121-6810-454D-8142-11281D8AF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0A31B-5E1F-420D-961D-8509BCC0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62C58-C589-43F3-B39E-2BC6B66CD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39B45-8732-46F1-B4F3-EF34D7378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5A930-7E04-4282-B1BC-06C506B15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AD1AF-F487-42DE-9F93-613F49CEE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74E35-CFB7-42AA-AAE2-834C8485D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9D810-A141-4858-9543-ACE7A621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10B28-C896-4F60-8146-D2D306588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C0543-4239-4C04-85D4-01CB5420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9BF70-F7A3-4403-9A42-B81FBC5A8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38E2-3944-4F0C-9BDE-552FD3F4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175B4-72F6-4C83-B6F1-9DBBE6515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2191B-BE67-45C9-96C3-E7C4B5C56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CDCA2-FD8A-4BE6-BEB1-C2AB636D6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A133C-DA0D-4918-AF2F-646359039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97296-A543-46D9-B65B-F25EB3994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471FD2-EF89-4E11-A813-EF759037B7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8F66C-9ADF-4C2B-998A-FFF610100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9C94F-14F5-4BE3-B543-7CACD3CFD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E5EDD-F53C-440D-B8CB-B628F4E6D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6998A-1162-411B-BBF7-0248386E3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62550-5EA0-4AF6-B918-2838B7889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32A15-C4A0-47BC-BA1E-E454F6E0D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88910-6D4D-4E95-81D2-FD948060C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06BF5-8B7E-4F25-A031-93B5ADA6B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70CCA-8A04-4964-93E6-054F265EE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EE37D0-5B42-4961-9A51-2FF588678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61A912-A73E-4069-B778-2CD3BEC486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369EA3-0B25-4F89-92CD-7530E8CF6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242DEE-CB16-4483-B2F2-79853CFC6A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925ED-CBB0-4B2F-989C-5133ABEB7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2EF37-5E7C-4C3D-BCF4-33AA25E1A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9ADB-385D-483F-AD87-6E8F9ED21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F2EE0-CDFE-4650-962B-1FF035E57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F1D05-5324-44B1-BEE1-B4721DEB5B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5DEED-80DE-4104-9F88-FFA92F24F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F390F-FB73-46ED-908F-CF0B71E4B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038E8-8C30-42B5-9380-09EEC1FB8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6ABAA-4983-4DFB-9C3D-CD9446E1D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60B9C-D016-4763-B917-1F5DA2A931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4E8FB-3B49-4149-8643-13F82C432F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77467-B424-4ABD-B698-B8EC77FEBF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BE574-2CD5-4BD4-A22E-B4F7F545B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A778-2D2F-487B-89AE-8A6FB343E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4919-B4E5-4424-9AAB-08F680A9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B54AC-38A3-4B93-A7A6-A863197BA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97FC-BCCA-4794-9127-C344BFF43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B34B-C08A-4505-92A0-52B83FFCA148}"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9FC4-862B-48D1-ADD0-791EE9951B07}"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D275-6A8D-427F-ADD4-1E5F95EFE6E2}"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EE16-ACB4-4A8D-96EA-57C1F60CBEDC}"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10920" y="1196640"/>
            <a:ext cx="7854840" cy="4319640"/>
          </a:xfrm>
          <a:prstGeom prst="rect">
            <a:avLst/>
          </a:prstGeom>
          <a:noFill/>
          <a:ln w="0">
            <a:noFill/>
          </a:ln>
        </p:spPr>
        <p:txBody>
          <a:bodyPr lIns="0" rIns="18360" anchor="t">
            <a:noAutofit/>
          </a:bodyPr>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100" spc="-1" strike="noStrike">
                <a:solidFill>
                  <a:srgbClr val="c87d0e"/>
                </a:solidFill>
                <a:latin typeface="Constantia"/>
              </a:rPr>
              <a:t>أبعاد الشخصية</a:t>
            </a: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Constantia"/>
              </a:rPr>
              <a:t>المحاضرة الثانية</a:t>
            </a: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منبسط والمنطوي</a:t>
            </a:r>
            <a:endParaRPr b="0" lang="en-US" sz="3200" spc="-1" strike="noStrike">
              <a:solidFill>
                <a:srgbClr val="4e3b30"/>
              </a:solidFill>
              <a:latin typeface="Calibri"/>
            </a:endParaRPr>
          </a:p>
        </p:txBody>
      </p:sp>
      <p:sp>
        <p:nvSpPr>
          <p:cNvPr id="211" name=""/>
          <p:cNvSpPr txBox="1"/>
          <p:nvPr/>
        </p:nvSpPr>
        <p:spPr>
          <a:xfrm>
            <a:off x="250920" y="765000"/>
            <a:ext cx="8642160" cy="5832720"/>
          </a:xfrm>
          <a:prstGeom prst="rect">
            <a:avLst/>
          </a:prstGeom>
          <a:noFill/>
          <a:ln w="0">
            <a:noFill/>
          </a:ln>
        </p:spPr>
        <p:txBody>
          <a:bodyPr anchor="t">
            <a:normAutofit fontScale="89000"/>
          </a:bodyPr>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بسط: </a:t>
            </a:r>
            <a:r>
              <a:rPr b="0" lang="ar-SA" sz="2600" spc="-1" strike="noStrike">
                <a:solidFill>
                  <a:srgbClr val="000000"/>
                </a:solidFill>
                <a:latin typeface="Arial"/>
                <a:cs typeface="Arial"/>
              </a:rPr>
              <a:t>شخص اجتماعي, يحب الحفلات, له العديد من الأصدقاء, يحتاج إلى أناس حوله يتحدث معهم, لا يحب القراءة أو الدراسة بمفرده , يسعى وراء الإثارة, يتصرف بسرعة بدون ترو, شخص مندفع على وجع العموم, مغرم بالمقالب (دون قصد شرير), إجاباته دائماً حاضرة, يحي التغيير عادة، يأخذ الأمور هوناً (ببساطة), متفائل, محب للضحك والمرح, دائم الحركة والنشاط, يميل إلى العدوان, ينفعل بسرعة, وبصفه عامه لا يسيطر على انفعالاته بدقه، ولا يعتمد عليه أحياناً.</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طوي: </a:t>
            </a:r>
            <a:r>
              <a:rPr b="0" lang="ar-SA" sz="2600" spc="-1" strike="noStrike">
                <a:solidFill>
                  <a:srgbClr val="000000"/>
                </a:solidFill>
                <a:latin typeface="Arial"/>
                <a:cs typeface="Arial"/>
              </a:rPr>
              <a:t>شخص هادئ, متأمل, خجول , متأمل , مغرم بالكتب أكثر من غيره من الناس, متحفظ و متباعد في علاقاته مع الآخرين فيما عدا الأصدقاء المقربين، يميل إلى التخطيط للمستقبل مسبقاً, يشكك في التصرف المندفع السريع, لا يحب الإثارة, يأخذ أمور الحياة اليومية بالجدية المناسبة، يحب أسلوب الحياة الذي تم تنظيمة بطريقة جيدة, يخضع مشاعره للضبط الدقيق,  يندر أن يسلك بأسلوب عدواني، لا ينفعل بسهولة, ويعتمد عليه، ويميل إلى التشاؤم يعطي أهمية كبيرة للمعايير الأخلاقية .</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9280" y="907920"/>
            <a:ext cx="8640720" cy="57168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كونات الاولية للانبساط:</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رى (أيزنك) أن الانبساط له سمات كبرى أساسية هما: الاجتماعية والاندفاعية، وسمات أولية صغرى وهي: الميل إلى المرح والحيوية والنشاط، والاستثارة، وسرعة البديهة، والتفاؤل.</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أساس البيولوجي والاجتماعي  للانبس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c782"/>
                </a:solidFill>
                <a:latin typeface="Constantia"/>
              </a:rPr>
              <a:t>عوامل التنشئة الاجتماعية وأساسها البيولوجي:</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تحدد التنشئة الاجتماعية بدرجة كبيرة بالقابلية للاشر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سهولة وسرعة يميل إلى أن يصبح زائد التنشئة شخص (منطوي)</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بطء وصعوبة فيميل إلى أن يصبح ناقص التنشئة شخص (منبسط).</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14" name=""/>
          <p:cNvSpPr txBox="1"/>
          <p:nvPr/>
        </p:nvSpPr>
        <p:spPr>
          <a:xfrm>
            <a:off x="250560" y="1447920"/>
            <a:ext cx="8713800" cy="5052960"/>
          </a:xfrm>
          <a:prstGeom prst="rect">
            <a:avLst/>
          </a:prstGeom>
          <a:noFill/>
          <a:ln w="0">
            <a:noFill/>
          </a:ln>
        </p:spPr>
        <p:txBody>
          <a:bodyPr anchor="t">
            <a:normAutofit fontScale="91000"/>
          </a:bodyPr>
          <a:p>
            <a:pPr marL="248040" indent="-24804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c87d0e"/>
                </a:solidFill>
                <a:uFillTx/>
                <a:latin typeface="Constantia"/>
              </a:rPr>
              <a:t>2</a:t>
            </a:r>
            <a:r>
              <a:rPr b="1" lang="ar-SA" sz="3000" spc="-1" strike="noStrike" u="sng">
                <a:solidFill>
                  <a:srgbClr val="c87d0e"/>
                </a:solidFill>
                <a:uFillTx/>
                <a:latin typeface="Constantia"/>
              </a:rPr>
              <a:t>- بعد العصابية مقابل الاتزان الانفعالي:</a:t>
            </a:r>
            <a:endParaRPr b="0" lang="en-US" sz="30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يشير إلى الاستعداد للإصابة بالاضطراب النفسي أي العصاب, وحتى يظهر العصاب الحقيقي فلا بد أن يتوافر درجة مرتفعة من العصابية و قدر مرتفع من الضغوط البيئي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عصابية / والاتزان الانفعالي بعد ثنائي القطب على شكل متصل، يقع في أحد طرفيه الشخص المنفعل الذي يشعر بقدر أكبر من الانفعال السلبي بالمقارنة مع معظم الناس, و يظهر القليل من الرضا عن الحياة, وعلى الطرف الأخر من بعد العصابية يوجد الأشخاص المرنين الذين يميلون إلى معايشة الحياة وفق مستوى أكثر عقلانية مقارنة مع معظم الناس, بينما يحوي العامل بين طرفيه مدى واسعاً من الناس، يمثلون خليطاً من السمات الانفعالية والمرونة ولديهم القدرة على تغيير سلوكهم حسب متطلبات الموقف.</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تلعب الوراثة دور كبير في العصابية، كما انه أيضا سلوك متعلم من البيئ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الاستجابة العصابية استجابة راجعة إلى الجهاز العصبي اللاإرادي.</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50560" y="1844640"/>
            <a:ext cx="8713800" cy="4479840"/>
          </a:xfrm>
          <a:prstGeom prst="rect">
            <a:avLst/>
          </a:prstGeom>
          <a:noFill/>
          <a:ln w="0">
            <a:noFill/>
          </a:ln>
        </p:spPr>
        <p:txBody>
          <a:bodyPr anchor="t">
            <a:normAutofit fontScale="91000"/>
          </a:bodyPr>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عصابي:</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م الثبات الانفعالي والتقلب، استجاباتهم الانفعالية مبالغاً فيها، صعوبة في العودة إلى الحالة السوية بعد المرور بالخبرات الانفعالية، اضطرابات بدنية مثل الصداع والارق، لديهم الكثير من الهموم والقلق, تقلب المزاج، الاكتئاب, التوتر، الخجل، الانفعالية.</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متزن انفعالياً:</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ستجاباته الانفعالية تتصف بالبطء والضعف بوجه عام, إذا تعرض لأي تنبيه انفعالي فمن السهل العودة إلى حالته الطبيعية, يتميز بالهدوء, قادر على ضبط انفعالاته, يتسم بعدم القلق, غير مهموم.</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6" name="PlaceHolder 1"/>
          <p:cNvSpPr>
            <a:spLocks noGrp="1"/>
          </p:cNvSpPr>
          <p:nvPr>
            <p:ph type="title"/>
          </p:nvPr>
        </p:nvSpPr>
        <p:spPr>
          <a:xfrm>
            <a:off x="900000" y="62064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درجة المرتفعة على بعد العصابية، وللشخص المتزن انفعالياً</a:t>
            </a:r>
            <a:endParaRPr b="0" lang="en-US" sz="32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87d0e"/>
                </a:solidFill>
                <a:latin typeface="Calibri"/>
              </a:rPr>
              <a:t>أبعاد الشخصية وفقاً لتقسيم آيزنك</a:t>
            </a:r>
            <a:endParaRPr b="0" lang="en-US" sz="4400" spc="-1" strike="noStrike">
              <a:solidFill>
                <a:srgbClr val="4e3b30"/>
              </a:solidFill>
              <a:latin typeface="Calibri"/>
            </a:endParaRPr>
          </a:p>
        </p:txBody>
      </p:sp>
      <p:sp>
        <p:nvSpPr>
          <p:cNvPr id="218" name=""/>
          <p:cNvSpPr txBox="1"/>
          <p:nvPr/>
        </p:nvSpPr>
        <p:spPr>
          <a:xfrm>
            <a:off x="0" y="1483920"/>
            <a:ext cx="8964720" cy="5373720"/>
          </a:xfrm>
          <a:prstGeom prst="rect">
            <a:avLst/>
          </a:prstGeom>
          <a:noFill/>
          <a:ln w="0">
            <a:noFill/>
          </a:ln>
        </p:spPr>
        <p:txBody>
          <a:bodyPr anchor="t">
            <a:normAutofit/>
          </a:bodyPr>
          <a:p>
            <a:pPr marL="272880" indent="-272880" algn="r" rtl="1">
              <a:spcBef>
                <a:spcPts val="601"/>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nstantia"/>
              </a:rPr>
              <a:t>تصنيف السلوك العصابي: </a:t>
            </a:r>
            <a:r>
              <a:rPr b="0" lang="ar-SA" sz="2400" spc="-1" strike="noStrike">
                <a:solidFill>
                  <a:srgbClr val="000000"/>
                </a:solidFill>
                <a:latin typeface="Constantia"/>
              </a:rPr>
              <a:t>يصنف (أيزنك) الاضطراب العصابي تبعاً لعملية الإشراط إلى ثلاثة أنواع:</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9" name="رسم تخطيطي 3" descr=""/>
          <p:cNvPicPr/>
          <p:nvPr/>
        </p:nvPicPr>
        <p:blipFill>
          <a:blip r:embed="rId1"/>
          <a:stretch/>
        </p:blipFill>
        <p:spPr>
          <a:xfrm>
            <a:off x="1122480" y="2487600"/>
            <a:ext cx="6132240" cy="408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836640"/>
            <a:ext cx="8229600" cy="5487840"/>
          </a:xfrm>
          <a:prstGeom prst="rect">
            <a:avLst/>
          </a:prstGeom>
          <a:noFill/>
          <a:ln w="0">
            <a:noFill/>
          </a:ln>
        </p:spPr>
        <p:txBody>
          <a:bodyPr anchor="t">
            <a:normAutofit fontScale="94000"/>
          </a:bodyPr>
          <a:p>
            <a:pPr marL="256320" indent="-256320"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Arial"/>
                <a:cs typeface="Arial"/>
              </a:rPr>
              <a:t>العلاقة بين العصابية و الانبساط</a:t>
            </a:r>
            <a:endParaRPr b="0" lang="en-US" sz="3600" spc="-1" strike="noStrike">
              <a:solidFill>
                <a:srgbClr val="000000"/>
              </a:solidFill>
              <a:latin typeface="Constantia"/>
            </a:endParaRPr>
          </a:p>
          <a:p>
            <a:pPr marL="256320" indent="-25632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انبساط والعصابية بعدان أساسيان في الشخصية الإنساني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بينت دراسات عديدة أن الانطواء والعصابية لا يعدون اضطراباً أو مرضاً ويمكن اعتبارها أبعاد متصلة مستمر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رتبطت العصابية / الاتزان الانفعالي، و الانبساط / الانطواء  بالنظريات الشخصية المبكرة التي وضعها "أبو قراط" و هي التي اعتمد عليها "أيزنك " في نظريته في الانبساط و العصابية .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4500" spc="-1" strike="noStrike">
                <a:solidFill>
                  <a:srgbClr val="c87d0e"/>
                </a:solidFill>
                <a:latin typeface="Arial"/>
                <a:cs typeface="Arial"/>
              </a:rPr>
              <a:t>توضيح العلاقة بين العصابية والانبساطية</a:t>
            </a:r>
            <a:endParaRPr b="0" lang="en-US" sz="4500" spc="-1" strike="noStrike">
              <a:solidFill>
                <a:srgbClr val="4e3b30"/>
              </a:solidFill>
              <a:latin typeface="Calibri"/>
            </a:endParaRPr>
          </a:p>
        </p:txBody>
      </p:sp>
      <p:pic>
        <p:nvPicPr>
          <p:cNvPr id="222" name="Picture 5" descr=""/>
          <p:cNvPicPr/>
          <p:nvPr/>
        </p:nvPicPr>
        <p:blipFill>
          <a:blip r:embed="rId1"/>
          <a:stretch/>
        </p:blipFill>
        <p:spPr>
          <a:xfrm>
            <a:off x="835200" y="1554120"/>
            <a:ext cx="7729200" cy="476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1000"/>
                                        <p:tgtEl>
                                          <p:spTgt spid="222"/>
                                        </p:tgtEl>
                                      </p:cBhvr>
                                    </p:animEffect>
                                    <p:anim calcmode="lin" valueType="num">
                                      <p:cBhvr additive="repl">
                                        <p:cTn id="8" dur="1000" fill="hold"/>
                                        <p:tgtEl>
                                          <p:spTgt spid="222"/>
                                        </p:tgtEl>
                                        <p:attrNameLst>
                                          <p:attrName>ppt_x</p:attrName>
                                        </p:attrNameLst>
                                      </p:cBhvr>
                                      <p:tavLst>
                                        <p:tav tm="0">
                                          <p:val>
                                            <p:strVal val="#ppt_x"/>
                                          </p:val>
                                        </p:tav>
                                        <p:tav tm="100000">
                                          <p:val>
                                            <p:strVal val="#ppt_x"/>
                                          </p:val>
                                        </p:tav>
                                      </p:tavLst>
                                    </p:anim>
                                    <p:anim calcmode="lin" valueType="num">
                                      <p:cBhvr additive="repl">
                                        <p:cTn id="9"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9280" y="1484280"/>
            <a:ext cx="8785440" cy="5113440"/>
          </a:xfrm>
          <a:prstGeom prst="rect">
            <a:avLst/>
          </a:prstGeom>
          <a:noFill/>
          <a:ln w="0">
            <a:noFill/>
          </a:ln>
        </p:spPr>
        <p:txBody>
          <a:bodyPr anchor="t">
            <a:normAutofit fontScale="93000"/>
          </a:bodyPr>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3</a:t>
            </a:r>
            <a:r>
              <a:rPr b="1" lang="ar-SA" sz="2800" spc="-1" strike="noStrike" u="sng">
                <a:solidFill>
                  <a:srgbClr val="c87d0e"/>
                </a:solidFill>
                <a:uFillTx/>
                <a:latin typeface="Constantia"/>
              </a:rPr>
              <a:t>- بعد الذهانية:</a:t>
            </a:r>
            <a:endParaRPr b="0" lang="en-US" sz="28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ذهانية بعد أساسي أو نمط في الشخصية، يوجد بدرجات مختلفة لدى جميع البشر، والملاحظ أن درجات الذكور أعلى من الإناث على هذا البعد.</a:t>
            </a:r>
            <a:endParaRPr b="0" lang="en-US" sz="28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Arial"/>
                <a:ea typeface="Arial"/>
              </a:rPr>
              <a:t>   </a:t>
            </a:r>
            <a:r>
              <a:rPr b="0" lang="ar-SA" sz="2400" spc="-1" strike="noStrike" u="sng">
                <a:solidFill>
                  <a:srgbClr val="c87d0e"/>
                </a:solidFill>
                <a:uFillTx/>
                <a:latin typeface="Arial"/>
                <a:cs typeface="Arial"/>
              </a:rPr>
              <a:t>المظاهر السلوكية للشخص الذهاني:</a:t>
            </a:r>
            <a:endParaRPr b="0" lang="en-US" sz="24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واني، بارد، مضاد للمجتمع، متمركز حول ذاته، مندفع، متبلد، متصلب، نقص الاهتمام بالآخرين، عدم اكتراث بالأخطار، انخفاض الطلاقة اللفظية، قلة الحرك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cs typeface="Arial"/>
              </a:rPr>
              <a:t>الذهانية ليست المرض العقلي الذهان</a:t>
            </a:r>
            <a:r>
              <a:rPr b="0" lang="ar-SA" sz="2800" spc="-1" strike="noStrike">
                <a:solidFill>
                  <a:srgbClr val="000000"/>
                </a:solidFill>
                <a:latin typeface="Arial"/>
                <a:cs typeface="Arial"/>
              </a:rPr>
              <a:t>، ولكن يكشف الذهانيون (حالات الفصام والهوس والاكتئاب) والمجرمون والسيكوباتيون عن درجة مرتفعة على هذا البعد.</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فترض ( أيزنك) أن لبعد الذهانية أساساً وراثياً قوياً (كبعدي الانبساط والعصابي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4" name="عنوان 1"/>
          <p:cNvSpPr/>
          <p:nvPr/>
        </p:nvSpPr>
        <p:spPr>
          <a:xfrm>
            <a:off x="395280" y="549360"/>
            <a:ext cx="8229600" cy="79380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549000"/>
            <a:ext cx="8229600" cy="9349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
        <p:nvSpPr>
          <p:cNvPr id="227" name=""/>
          <p:cNvSpPr txBox="1"/>
          <p:nvPr/>
        </p:nvSpPr>
        <p:spPr>
          <a:xfrm>
            <a:off x="0" y="1125360"/>
            <a:ext cx="8964720" cy="5732640"/>
          </a:xfrm>
          <a:prstGeom prst="rect">
            <a:avLst/>
          </a:prstGeom>
          <a:noFill/>
          <a:ln w="0">
            <a:noFill/>
          </a:ln>
        </p:spPr>
        <p:txBody>
          <a:bodyPr anchor="t">
            <a:normAutofit/>
          </a:bodyPr>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علاقة بين العصابية والذهان تأخذ عدة أشكا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أ – المنحنى الاعتدالي:</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توزع الأشخاص على هذين البعدين على شكل منحنى "جاوس" الذي يشبه الجرس, بحيث يقع الأسوياء وهم الغالبية حول المركز, فى حين يقع العصابيون والذهانيون في الطرفين المتقابلين، ولا يتفق إيزنك مع فكرة هذا التخطيط، كما في الشك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28" name="Picture 6" descr=""/>
          <p:cNvPicPr/>
          <p:nvPr/>
        </p:nvPicPr>
        <p:blipFill>
          <a:blip r:embed="rId1"/>
          <a:stretch/>
        </p:blipFill>
        <p:spPr>
          <a:xfrm>
            <a:off x="1547640" y="4292640"/>
            <a:ext cx="6264360" cy="2376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1">
                                  <p:stCondLst>
                                    <p:cond delay="0"/>
                                  </p:stCondLst>
                                  <p:childTnLst>
                                    <p:set>
                                      <p:cBhvr>
                                        <p:cTn id="15" dur="1" fill="hold">
                                          <p:stCondLst>
                                            <p:cond delay="0"/>
                                          </p:stCondLst>
                                        </p:cTn>
                                        <p:tgtEl>
                                          <p:spTgt spid="228"/>
                                        </p:tgtEl>
                                        <p:attrNameLst>
                                          <p:attrName>style.visibility</p:attrName>
                                        </p:attrNameLst>
                                      </p:cBhvr>
                                      <p:to>
                                        <p:strVal val="visible"/>
                                      </p:to>
                                    </p:set>
                                    <p:animEffect filter="fade" transition="in">
                                      <p:cBhvr additive="repl">
                                        <p:cTn id="16" dur="770"/>
                                        <p:tgtEl>
                                          <p:spTgt spid="228"/>
                                        </p:tgtEl>
                                      </p:cBhvr>
                                    </p:animEffect>
                                    <p:animScale>
                                      <p:cBhvr>
                                        <p:cTn id="17" dur="770" fill="hold"/>
                                        <p:tgtEl>
                                          <p:spTgt spid="228"/>
                                        </p:tgtEl>
                                      </p:cBhvr>
                                      <p:from x="10000" y="10000"/>
                                      <p:to x="200000" y="450000"/>
                                    </p:animScale>
                                    <p:animScale>
                                      <p:cBhvr>
                                        <p:cTn id="18" dur="1230" fill="hold">
                                          <p:stCondLst>
                                            <p:cond delay="770"/>
                                          </p:stCondLst>
                                        </p:cTn>
                                        <p:tgtEl>
                                          <p:spTgt spid="228"/>
                                        </p:tgtEl>
                                      </p:cBhvr>
                                      <p:from x="200000" y="450000"/>
                                      <p:to x="100000" y="100000"/>
                                    </p:animScale>
                                    <p:set>
                                      <p:cBhvr>
                                        <p:cTn id="19" dur="770" fill="hold"/>
                                        <p:tgtEl>
                                          <p:spTgt spid="228"/>
                                        </p:tgtEl>
                                        <p:attrNameLst>
                                          <p:attrName>ppt_x</p:attrName>
                                        </p:attrNameLst>
                                      </p:cBhvr>
                                      <p:to>
                                        <p:strVal val="(0.5)"/>
                                      </p:to>
                                    </p:set>
                                    <p:anim calcmode="lin" valueType="num" from="(0.5)" to="(#ppt_x)">
                                      <p:cBhvr additive="repl">
                                        <p:cTn id="20" dur="1230" fill="hold">
                                          <p:stCondLst>
                                            <p:cond delay="770"/>
                                          </p:stCondLst>
                                        </p:cTn>
                                        <p:tgtEl>
                                          <p:spTgt spid="228"/>
                                        </p:tgtEl>
                                        <p:attrNameLst>
                                          <p:attrName>ppt_x</p:attrName>
                                        </p:attrNameLst>
                                      </p:cBhvr>
                                    </p:anim>
                                    <p:set>
                                      <p:cBhvr>
                                        <p:cTn id="21" dur="770" fill="hold"/>
                                        <p:tgtEl>
                                          <p:spTgt spid="228"/>
                                        </p:tgtEl>
                                        <p:attrNameLst>
                                          <p:attrName>ppt_y</p:attrName>
                                        </p:attrNameLst>
                                      </p:cBhvr>
                                      <p:to>
                                        <p:strVal val="(#ppt_y+0.4)"/>
                                      </p:to>
                                    </p:set>
                                    <p:anim calcmode="lin" valueType="num" from="(#ppt_y+0.4)" to="(#ppt_y)">
                                      <p:cBhvr additive="repl">
                                        <p:cTn id="22" dur="1230" fill="hold">
                                          <p:stCondLst>
                                            <p:cond delay="770"/>
                                          </p:stCondLst>
                                        </p:cTn>
                                        <p:tgtEl>
                                          <p:spTgt spid="22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79280" y="980640"/>
            <a:ext cx="8785440" cy="5666040"/>
          </a:xfrm>
          <a:prstGeom prst="rect">
            <a:avLst/>
          </a:prstGeom>
          <a:noFill/>
          <a:ln w="0">
            <a:noFill/>
          </a:ln>
        </p:spPr>
        <p:txBody>
          <a:bodyPr anchor="t">
            <a:normAutofit/>
          </a:bodyPr>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ب – البعد الواحد:</a:t>
            </a: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قع الأسوياء والعصابيون والذهانيون على بعد واحد متصل دون ثغرات أو تقطع, يبدأ الفرد بحالة من السواء, و إذا زادت عليه الضغوط أصبح عصابياً, ثم إذا باتت هذه الضغوط شديدة على العصابي أصبح ذهانياً, وتفترض هذه النظرية وجود عامل نكوصي, و هذه هي نظرية التحليل النفسي التي نقدها كثير من العلماء منهم (أيزنك).</a:t>
            </a:r>
            <a:endParaRPr b="0" lang="en-US" sz="2800" spc="-1" strike="noStrike">
              <a:solidFill>
                <a:srgbClr val="000000"/>
              </a:solidFill>
              <a:latin typeface="Constantia"/>
            </a:endParaRPr>
          </a:p>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0" name="صورة 36" descr="صورة1.png"/>
          <p:cNvPicPr/>
          <p:nvPr/>
        </p:nvPicPr>
        <p:blipFill>
          <a:blip r:embed="rId1"/>
          <a:stretch/>
        </p:blipFill>
        <p:spPr>
          <a:xfrm>
            <a:off x="611280" y="4076640"/>
            <a:ext cx="8004240" cy="2373480"/>
          </a:xfrm>
          <a:prstGeom prst="rect">
            <a:avLst/>
          </a:prstGeom>
          <a:ln cap="sq" w="38160">
            <a:solidFill>
              <a:srgbClr val="000000"/>
            </a:solidFill>
            <a:miter/>
          </a:ln>
          <a:effectLst>
            <a:outerShdw dist="38183" dir="2700000" blurRad="0" rotWithShape="0">
              <a:srgbClr val="000000">
                <a:alpha val="43000"/>
              </a:srgbClr>
            </a:outerShdw>
          </a:effectLst>
        </p:spPr>
      </p:pic>
      <p:sp>
        <p:nvSpPr>
          <p:cNvPr id="231" name="PlaceHolder 1"/>
          <p:cNvSpPr>
            <a:spLocks noGrp="1"/>
          </p:cNvSpPr>
          <p:nvPr>
            <p:ph type="title"/>
          </p:nvPr>
        </p:nvSpPr>
        <p:spPr>
          <a:xfrm>
            <a:off x="539640" y="-360"/>
            <a:ext cx="8229600" cy="1197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Arial"/>
                <a:cs typeface="Arial"/>
              </a:rPr>
              <a:t>العلاقة بين العصابية والذهانية</a:t>
            </a:r>
            <a:br>
              <a:rPr sz="2800"/>
            </a:br>
            <a:endParaRPr b="0" lang="en-US" sz="28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شخصية</a:t>
            </a:r>
            <a:endParaRPr b="0" lang="en-US" sz="4500" spc="-1" strike="noStrike">
              <a:solidFill>
                <a:srgbClr val="4e3b30"/>
              </a:solidFill>
              <a:latin typeface="Calibri"/>
            </a:endParaRPr>
          </a:p>
        </p:txBody>
      </p:sp>
      <p:sp>
        <p:nvSpPr>
          <p:cNvPr id="197" name=""/>
          <p:cNvSpPr txBox="1"/>
          <p:nvPr/>
        </p:nvSpPr>
        <p:spPr>
          <a:xfrm>
            <a:off x="250560" y="1447920"/>
            <a:ext cx="8435880" cy="5076720"/>
          </a:xfrm>
          <a:prstGeom prst="rect">
            <a:avLst/>
          </a:prstGeom>
          <a:noFill/>
          <a:ln w="0">
            <a:noFill/>
          </a:ln>
        </p:spPr>
        <p:txBody>
          <a:bodyPr anchor="t">
            <a:normAutofit fontScale="87000"/>
          </a:bodyPr>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شتقت كلمة ”شخصية“ </a:t>
            </a:r>
            <a:r>
              <a:rPr b="0" lang="ar-SA" sz="2800" spc="-1" strike="noStrike">
                <a:solidFill>
                  <a:srgbClr val="000000"/>
                </a:solidFill>
                <a:latin typeface="Constantia"/>
              </a:rPr>
              <a:t>في اللغة العربية من (شخص): جماعة شخص الإنسان وغيره، وهو كذلك (سواد الإنسان تراه من بعيد، وكل شئ رأيت جسمانه فقد رأيت شخصه). </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عجم الوسيط (الشخصية): </a:t>
            </a:r>
            <a:r>
              <a:rPr b="0" lang="ar-SA" sz="2800" spc="-1" strike="noStrike">
                <a:solidFill>
                  <a:srgbClr val="000000"/>
                </a:solidFill>
                <a:latin typeface="Constantia"/>
              </a:rPr>
              <a:t>صفات تميز الشخص عن غيره.</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مصطلح شخصية يرجع إلى الكلمة اللاتينية </a:t>
            </a:r>
            <a:r>
              <a:rPr b="0" lang="en-US" sz="2800" spc="-1" strike="noStrike">
                <a:solidFill>
                  <a:srgbClr val="000000"/>
                </a:solidFill>
                <a:latin typeface="Constantia"/>
              </a:rPr>
              <a:t>persona</a:t>
            </a:r>
            <a:r>
              <a:rPr b="0" lang="en-US" sz="2800" spc="-1" strike="noStrike">
                <a:solidFill>
                  <a:srgbClr val="000000"/>
                </a:solidFill>
                <a:latin typeface="Constantia"/>
              </a:rPr>
              <a:t> </a:t>
            </a:r>
            <a:r>
              <a:rPr b="0" lang="ar-SA" sz="2800" spc="-1" strike="noStrike">
                <a:solidFill>
                  <a:srgbClr val="000000"/>
                </a:solidFill>
                <a:latin typeface="Constantia"/>
              </a:rPr>
              <a:t> والتي كانت تستخدم لتشير إلى القناع الذي كان يلبسه الممثلون على المسرح.</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تعريف الشامل</a:t>
            </a:r>
            <a:r>
              <a:rPr b="1" lang="ar-SA" sz="2800" spc="-1" strike="noStrike" u="sng">
                <a:solidFill>
                  <a:srgbClr val="c87d0e"/>
                </a:solidFill>
                <a:uFillTx/>
                <a:latin typeface="Constantia"/>
              </a:rPr>
              <a:t> للشخصية</a:t>
            </a:r>
            <a:r>
              <a:rPr b="1" lang="ar-SA" sz="2800" spc="-1" strike="noStrike">
                <a:solidFill>
                  <a:srgbClr val="c87d0e"/>
                </a:solidFill>
                <a:latin typeface="Constantia"/>
              </a:rPr>
              <a:t>: </a:t>
            </a:r>
            <a:r>
              <a:rPr b="0" lang="ar-SA" sz="2800" spc="-1" strike="noStrike">
                <a:solidFill>
                  <a:srgbClr val="000000"/>
                </a:solidFill>
                <a:latin typeface="Constantia"/>
              </a:rPr>
              <a:t>(نمط سلوكي مركب، ثابت ودائم إلى حد كبير، يميز الفرد عن غيره من الناس، ويتكون من تنظيم فريد لمجموعة من الوظائف والسمات والأجهزة المتفاعلة معاً، والتي تضم القدرات العقلية، والوجدان و الارادة، وتركيب الجسم، والوظائف الفيزيولوجية والتي تحدد طريقة الفرد الخاصة في الاستجابة، وأسلوبه الفريد في التوافق للبيئة).</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78920" y="1341360"/>
            <a:ext cx="8713800" cy="498312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جـ - البعدان المسقلان:</a:t>
            </a:r>
            <a:r>
              <a:rPr b="1" lang="ar-SA" sz="2800" spc="-1" strike="noStrike" u="sng">
                <a:solidFill>
                  <a:srgbClr val="c87d0e"/>
                </a:solidFill>
                <a:uFillTx/>
                <a:latin typeface="Arial"/>
                <a:ea typeface="Arial"/>
              </a:rPr>
              <a:t>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هنا يفترض تفرع الأسوياء إما إلى ذهانيين أو إلى عصابيين, وهذا أيضا لم يأخذ به أيزنك.</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3" name="صورة 3" descr="صورة2.png"/>
          <p:cNvPicPr/>
          <p:nvPr/>
        </p:nvPicPr>
        <p:blipFill>
          <a:blip r:embed="rId1"/>
          <a:stretch/>
        </p:blipFill>
        <p:spPr>
          <a:xfrm>
            <a:off x="971640" y="3141720"/>
            <a:ext cx="7632720" cy="2892240"/>
          </a:xfrm>
          <a:prstGeom prst="rect">
            <a:avLst/>
          </a:prstGeom>
          <a:ln w="0">
            <a:noFill/>
          </a:ln>
        </p:spPr>
      </p:pic>
      <p:sp>
        <p:nvSpPr>
          <p:cNvPr id="234"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8920" y="1052280"/>
            <a:ext cx="8713800" cy="554508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د – الأقسام الأربعة</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أقترح "أيزنك " تخطيطاً يقسم المجال إلى أربعة أقسام, يمكن انتقال الشخص من ربع إلى آخر و بذلك يمكن استيعاب جميع الاحتمالات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عصاب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سو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عصاب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عصاب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6" name="Picture 6" descr=""/>
          <p:cNvPicPr/>
          <p:nvPr/>
        </p:nvPicPr>
        <p:blipFill>
          <a:blip r:embed="rId1"/>
          <a:stretch/>
        </p:blipFill>
        <p:spPr>
          <a:xfrm>
            <a:off x="549360" y="2835360"/>
            <a:ext cx="5102280" cy="3462120"/>
          </a:xfrm>
          <a:prstGeom prst="rect">
            <a:avLst/>
          </a:prstGeom>
          <a:ln w="0">
            <a:noFill/>
          </a:ln>
        </p:spPr>
      </p:pic>
      <p:sp>
        <p:nvSpPr>
          <p:cNvPr id="237"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236"/>
                                        </p:tgtEl>
                                        <p:attrNameLst>
                                          <p:attrName>style.visibility</p:attrName>
                                        </p:attrNameLst>
                                      </p:cBhvr>
                                      <p:to>
                                        <p:strVal val="visible"/>
                                      </p:to>
                                    </p:set>
                                    <p:animEffect filter="fade" transition="in">
                                      <p:cBhvr additive="repl">
                                        <p:cTn id="29" dur="770"/>
                                        <p:tgtEl>
                                          <p:spTgt spid="236"/>
                                        </p:tgtEl>
                                      </p:cBhvr>
                                    </p:animEffect>
                                    <p:animScale>
                                      <p:cBhvr>
                                        <p:cTn id="30" dur="770" fill="hold"/>
                                        <p:tgtEl>
                                          <p:spTgt spid="236"/>
                                        </p:tgtEl>
                                      </p:cBhvr>
                                      <p:from x="10000" y="10000"/>
                                      <p:to x="200000" y="450000"/>
                                    </p:animScale>
                                    <p:animScale>
                                      <p:cBhvr>
                                        <p:cTn id="31" dur="1230" fill="hold">
                                          <p:stCondLst>
                                            <p:cond delay="770"/>
                                          </p:stCondLst>
                                        </p:cTn>
                                        <p:tgtEl>
                                          <p:spTgt spid="236"/>
                                        </p:tgtEl>
                                      </p:cBhvr>
                                      <p:from x="200000" y="450000"/>
                                      <p:to x="100000" y="100000"/>
                                    </p:animScale>
                                    <p:set>
                                      <p:cBhvr>
                                        <p:cTn id="32" dur="770" fill="hold"/>
                                        <p:tgtEl>
                                          <p:spTgt spid="236"/>
                                        </p:tgtEl>
                                        <p:attrNameLst>
                                          <p:attrName>ppt_x</p:attrName>
                                        </p:attrNameLst>
                                      </p:cBhvr>
                                      <p:to>
                                        <p:strVal val="(0.5)"/>
                                      </p:to>
                                    </p:set>
                                    <p:anim calcmode="lin" valueType="num" from="(0.5)" to="(#ppt_x)">
                                      <p:cBhvr additive="repl">
                                        <p:cTn id="33" dur="1230" fill="hold">
                                          <p:stCondLst>
                                            <p:cond delay="770"/>
                                          </p:stCondLst>
                                        </p:cTn>
                                        <p:tgtEl>
                                          <p:spTgt spid="236"/>
                                        </p:tgtEl>
                                        <p:attrNameLst>
                                          <p:attrName>ppt_x</p:attrName>
                                        </p:attrNameLst>
                                      </p:cBhvr>
                                    </p:anim>
                                    <p:set>
                                      <p:cBhvr>
                                        <p:cTn id="34" dur="770" fill="hold"/>
                                        <p:tgtEl>
                                          <p:spTgt spid="236"/>
                                        </p:tgtEl>
                                        <p:attrNameLst>
                                          <p:attrName>ppt_y</p:attrName>
                                        </p:attrNameLst>
                                      </p:cBhvr>
                                      <p:to>
                                        <p:strVal val="(#ppt_y+0.4)"/>
                                      </p:to>
                                    </p:set>
                                    <p:anim calcmode="lin" valueType="num" from="(#ppt_y+0.4)" to="(#ppt_y)">
                                      <p:cBhvr additive="repl">
                                        <p:cTn id="35"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762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39" name=""/>
          <p:cNvSpPr txBox="1"/>
          <p:nvPr/>
        </p:nvSpPr>
        <p:spPr>
          <a:xfrm>
            <a:off x="0" y="1268280"/>
            <a:ext cx="8964720" cy="5329440"/>
          </a:xfrm>
          <a:prstGeom prst="rect">
            <a:avLst/>
          </a:prstGeom>
          <a:noFill/>
          <a:ln w="0">
            <a:noFill/>
          </a:ln>
        </p:spPr>
        <p:txBody>
          <a:bodyPr anchor="t">
            <a:normAutofit fontScale="92000"/>
          </a:bodyPr>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4</a:t>
            </a:r>
            <a:r>
              <a:rPr b="1" lang="ar-SA" sz="2600" spc="-1" strike="noStrike" u="sng">
                <a:solidFill>
                  <a:srgbClr val="c87d0e"/>
                </a:solidFill>
                <a:uFillTx/>
                <a:latin typeface="Constantia"/>
              </a:rPr>
              <a:t>- بعد الذكاء:</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ثل هذا البعد القدرة العامة أو العامل العام في نظرية سبيرمان.</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لعب الوراثة بنسبة كبيرة في درجة الذكاء والفروق بين الأشخاص.</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 قسم آيزنك درجات اختبارات الذكاء إلى ثلاثة جوانب أو مكونات هي:</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1</a:t>
            </a:r>
            <a:r>
              <a:rPr b="0" lang="ar-SA" sz="2600" spc="-1" strike="noStrike">
                <a:solidFill>
                  <a:srgbClr val="695008"/>
                </a:solidFill>
                <a:latin typeface="Constantia"/>
              </a:rPr>
              <a:t>-السرعة في الأداء العقلي: </a:t>
            </a:r>
            <a:r>
              <a:rPr b="0" lang="ar-SA" sz="2600" spc="-1" strike="noStrike">
                <a:solidFill>
                  <a:srgbClr val="000000"/>
                </a:solidFill>
                <a:latin typeface="Constantia"/>
              </a:rPr>
              <a:t>لها علاقة موجبة بمستوى الصعوبة.</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2</a:t>
            </a:r>
            <a:r>
              <a:rPr b="0" lang="ar-SA" sz="2600" spc="-1" strike="noStrike">
                <a:solidFill>
                  <a:srgbClr val="695008"/>
                </a:solidFill>
                <a:latin typeface="Constantia"/>
              </a:rPr>
              <a:t>-الدقة في الأداء: </a:t>
            </a:r>
            <a:r>
              <a:rPr b="0" lang="ar-SA" sz="2600" spc="-1" strike="noStrike">
                <a:solidFill>
                  <a:srgbClr val="000000"/>
                </a:solidFill>
                <a:latin typeface="Constantia"/>
              </a:rPr>
              <a:t>وتدل على عملية مراجعة الأخطاء واختبار مدى صلاحية الحلول.</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3</a:t>
            </a:r>
            <a:r>
              <a:rPr b="0" lang="ar-SA" sz="2600" spc="-1" strike="noStrike">
                <a:solidFill>
                  <a:srgbClr val="695008"/>
                </a:solidFill>
                <a:latin typeface="Constantia"/>
              </a:rPr>
              <a:t>- المثابرة : </a:t>
            </a:r>
            <a:r>
              <a:rPr b="0" lang="ar-SA" sz="2600" spc="-1" strike="noStrike">
                <a:solidFill>
                  <a:srgbClr val="000000"/>
                </a:solidFill>
                <a:latin typeface="Constantia"/>
              </a:rPr>
              <a:t>جانب مهم يدفع الشخص إلى المداومة لوضع حلول للمشكلة والاستمرار في ذلك.</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قد كشفت البحوث عن ارتباط بين هذه المكونات الثلاثة وبقية أبعاد الشخصية، فظهر ارتفاع الذكاء اللفظي عن العملي عند المنطوين بالمقارنة إلى المنبسطين، مع ارتفاع كل من الدقة والمثابرة وانخفاض السرعة لدى المنطوين بالمقارنة إلى المنبسطين.</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87d0e"/>
                </a:solidFill>
                <a:latin typeface="Calibri"/>
              </a:rPr>
              <a:t>العلاقة بين نظرية الشخصية وقياسها</a:t>
            </a:r>
            <a:endParaRPr b="0" lang="en-US" sz="5000" spc="-1" strike="noStrike">
              <a:solidFill>
                <a:srgbClr val="4e3b30"/>
              </a:solidFill>
              <a:latin typeface="Calibri"/>
            </a:endParaRPr>
          </a:p>
        </p:txBody>
      </p:sp>
      <p:sp>
        <p:nvSpPr>
          <p:cNvPr id="241" name=""/>
          <p:cNvSpPr txBox="1"/>
          <p:nvPr/>
        </p:nvSpPr>
        <p:spPr>
          <a:xfrm>
            <a:off x="250560" y="1557000"/>
            <a:ext cx="8713800" cy="5040360"/>
          </a:xfrm>
          <a:prstGeom prst="rect">
            <a:avLst/>
          </a:prstGeom>
          <a:noFill/>
          <a:ln w="0">
            <a:noFill/>
          </a:ln>
        </p:spPr>
        <p:txBody>
          <a:bodyPr anchor="t">
            <a:normAutofit fontScale="89000"/>
          </a:bodyPr>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وثيقة بين النظرية ومناهج البحث، أي في مجالنا هذا بين نظرية الشخصية وطرق قياسها، إذ تعد النظرية نقطة البدء في تطوير طرق قياس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تطوير طرق القياس يمكن في الوقت نفسه أن يساعد على تطوير النظرية ونمو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بينهما متبادلة وليست من جانب واحد.</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بمعنى النظرية ليس لها فائدة إن لم تفعل في الجانب التطبيقي كالقياس.. وعلى الجانب الآخر لا يمكن إعداد مقاييس دون الارتكاز على النظريات.</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70c0"/>
                </a:solidFill>
                <a:latin typeface="Constantia"/>
              </a:rPr>
              <a:t>” التجربة بلا نظرية؛ عمياء. والنظرية بلا تجربة؛ عرجاء“</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c87d0e"/>
                </a:solidFill>
                <a:latin typeface="Constantia"/>
              </a:rPr>
              <a:t>القياس يتم عامة في علم النفس لجانبين هما:</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1</a:t>
            </a:r>
            <a:r>
              <a:rPr b="0" lang="ar-SA" sz="2700" spc="-1" strike="noStrike">
                <a:solidFill>
                  <a:srgbClr val="000000"/>
                </a:solidFill>
                <a:latin typeface="Constantia"/>
              </a:rPr>
              <a:t>- الاستجابات (السلوك): القياس هنا مباشر على مستوى المشاهدة.</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2</a:t>
            </a:r>
            <a:r>
              <a:rPr b="0" lang="ar-SA" sz="2700" spc="-1" strike="noStrike">
                <a:solidFill>
                  <a:srgbClr val="000000"/>
                </a:solidFill>
                <a:latin typeface="Constantia"/>
              </a:rPr>
              <a:t>- السمات: وهو قياس غير مباشر على مستوى الاستنتاج.</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24000" y="714240"/>
            <a:ext cx="8362800" cy="5305680"/>
          </a:xfrm>
          <a:prstGeom prst="rect">
            <a:avLst/>
          </a:prstGeom>
          <a:noFill/>
          <a:ln w="0">
            <a:noFill/>
          </a:ln>
        </p:spPr>
        <p:txBody>
          <a:bodyPr anchor="t">
            <a:normAutofit/>
          </a:bodyPr>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87d0e"/>
                </a:solidFill>
                <a:uFillTx/>
                <a:latin typeface="Constantia"/>
              </a:rPr>
              <a:t>نشاط : </a:t>
            </a:r>
            <a:r>
              <a:rPr b="0" lang="ar-SA" sz="3600" spc="-1" strike="noStrike">
                <a:solidFill>
                  <a:srgbClr val="000000"/>
                </a:solidFill>
                <a:latin typeface="Constantia"/>
              </a:rPr>
              <a:t>اخرجي ورقة وقلم واكتبي وصف لإحدى صديقاتك // أو الوالدة // أو الوالد //أختك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50560" y="1447920"/>
            <a:ext cx="8435880" cy="4572000"/>
          </a:xfrm>
          <a:prstGeom prst="rect">
            <a:avLst/>
          </a:prstGeom>
          <a:noFill/>
          <a:ln w="0">
            <a:noFill/>
          </a:ln>
        </p:spPr>
        <p:txBody>
          <a:bodyPr anchor="t">
            <a:normAutofit/>
          </a:bodyPr>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إذا ما طلبنا من أحد العوام أن يقارن بين شخصين يعرفهما تمام المعرفة, فإنه غالباً ما يصفهما بصورة عامة جداً أو باستخدام صفة واحدة فقط, فقد يقول: إن أحدهما  رجل طيب, والأخر رجل شرير مثلاً. كما يطلق على الأفراد أحياناً بقولنا هذا الشخص اجتماعي أو هذا شخص عصبي. </a:t>
            </a:r>
            <a:endParaRPr b="0" lang="en-US" sz="2800" spc="-1" strike="noStrike">
              <a:solidFill>
                <a:srgbClr val="000000"/>
              </a:solidFill>
              <a:latin typeface="Constantia"/>
            </a:endParaRPr>
          </a:p>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 إن صفات مثل عصبي و اجتماعي و غيرها من الصفات التي يمكن ان نصف بها بعضنا البعض ما هي إلا السمات التي نتكلم عنها هنا</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بعد</a:t>
            </a:r>
            <a:endParaRPr b="0" lang="en-US" sz="4500" spc="-1" strike="noStrike">
              <a:solidFill>
                <a:srgbClr val="4e3b30"/>
              </a:solidFill>
              <a:latin typeface="Calibri"/>
            </a:endParaRPr>
          </a:p>
        </p:txBody>
      </p:sp>
      <p:sp>
        <p:nvSpPr>
          <p:cNvPr id="201" name=""/>
          <p:cNvSpPr txBox="1"/>
          <p:nvPr/>
        </p:nvSpPr>
        <p:spPr>
          <a:xfrm>
            <a:off x="394920" y="1447920"/>
            <a:ext cx="8497800" cy="4789440"/>
          </a:xfrm>
          <a:prstGeom prst="rect">
            <a:avLst/>
          </a:prstGeom>
          <a:noFill/>
          <a:ln w="0">
            <a:noFill/>
          </a:ln>
        </p:spPr>
        <p:txBody>
          <a:bodyPr anchor="t">
            <a:normAutofit fontScale="88000"/>
          </a:bodyPr>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بعد: </a:t>
            </a:r>
            <a:r>
              <a:rPr b="0" lang="ar-SA" sz="3300" spc="-1" strike="noStrike">
                <a:solidFill>
                  <a:srgbClr val="000000"/>
                </a:solidFill>
                <a:latin typeface="Constantia"/>
              </a:rPr>
              <a:t>مفهوم رياضي يعني الامتداد الذي يمكن قياسه. </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ويشير مصطلح البعد إلى الطول والعرض والارتفاع (الأبعاد الفيزيائية) ولكن اتسع ليشمل أبعاداً سيكولوجية.</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كثير من سمات الشخصية تكون ثنائية البعد.</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مثل: (السيطرة/ الخضوع), (الاندفاع/ التروي)،  (الهدوء / القلق)</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لكل فرد درجة وموقع على البعد الواحد، ولا يوجد شخص خارج امتداد البعد، وتقاس الأبعاد عن طريق أدوات قياس متعددة، وبعد الشخصية مفهوم مجرد (غير محسوس)</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Calibri"/>
                <a:cs typeface="Majalla UI"/>
              </a:rPr>
              <a:t>التنظيم الهرمي للشخصية (التنظيم السلوكي)</a:t>
            </a:r>
            <a:endParaRPr b="0" lang="en-US" sz="3600" spc="-1" strike="noStrike">
              <a:solidFill>
                <a:srgbClr val="4e3b30"/>
              </a:solidFill>
              <a:latin typeface="Calibri"/>
            </a:endParaRPr>
          </a:p>
        </p:txBody>
      </p:sp>
      <p:pic>
        <p:nvPicPr>
          <p:cNvPr id="203" name="عنصر نائب للمحتوى 3" descr=""/>
          <p:cNvPicPr/>
          <p:nvPr/>
        </p:nvPicPr>
        <p:blipFill>
          <a:blip r:embed="rId1"/>
          <a:stretch/>
        </p:blipFill>
        <p:spPr>
          <a:xfrm>
            <a:off x="384120" y="1895400"/>
            <a:ext cx="836928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50920" y="765000"/>
            <a:ext cx="8642160" cy="5904000"/>
          </a:xfrm>
          <a:prstGeom prst="rect">
            <a:avLst/>
          </a:prstGeom>
          <a:noFill/>
          <a:ln w="0">
            <a:noFill/>
          </a:ln>
        </p:spPr>
        <p:txBody>
          <a:bodyPr anchor="t">
            <a:normAutofit fontScale="86000"/>
          </a:bodyPr>
          <a:p>
            <a:pPr marL="442080" indent="-442080"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c87d0e"/>
                </a:solidFill>
                <a:latin typeface="Constantia"/>
              </a:rPr>
              <a:t>التنظيم الهرمي للشخصية  (التنظيم السلوكي)</a:t>
            </a:r>
            <a:endParaRPr b="0" lang="en-US" sz="3300" spc="-1" strike="noStrike">
              <a:solidFill>
                <a:srgbClr val="000000"/>
              </a:solidFill>
              <a:latin typeface="Constantia"/>
            </a:endParaRPr>
          </a:p>
          <a:p>
            <a:pPr marL="442080" indent="-4420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تشتمل الشخصية من وجهة نظر أيزنك على أربعة مستويات من التنظيم السلوكي المتدرج على شكل هرمي تبعاً لمستوى عموميتها ”من أقلها عمومية إلى أكثرها“ وهي: </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استجابة النوعية: </a:t>
            </a:r>
            <a:r>
              <a:rPr b="0" lang="ar-SA" sz="3300" spc="-1" strike="noStrike">
                <a:solidFill>
                  <a:srgbClr val="000000"/>
                </a:solidFill>
                <a:latin typeface="Constantia"/>
              </a:rPr>
              <a:t>هي أفعال نوعية كالاستجابة لاختبار أو خبرة أو موقف جديد بالحيا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 الاستجابات التعودية: </a:t>
            </a:r>
            <a:r>
              <a:rPr b="0" lang="ar-SA" sz="3300" spc="-1" strike="noStrike">
                <a:solidFill>
                  <a:srgbClr val="000000"/>
                </a:solidFill>
                <a:latin typeface="Constantia"/>
              </a:rPr>
              <a:t>هي استجابات نوعية تميل إلى أن تتواتر وتتكرر في ظل الظروف نفسها.</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سمات: </a:t>
            </a:r>
            <a:r>
              <a:rPr b="0" lang="ar-SA" sz="3300" spc="-1" strike="noStrike">
                <a:solidFill>
                  <a:srgbClr val="000000"/>
                </a:solidFill>
                <a:latin typeface="Constantia"/>
              </a:rPr>
              <a:t>انتظام الاستجابات التعودية في سمات مثل: الخجل. والسمات هي مفاهيم بنائية نظرية تعتمد على الارتباطات الملاحظة بين عدد من الاستجابات التعودي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أنماط (الأبعاد): </a:t>
            </a:r>
            <a:r>
              <a:rPr b="0" lang="ar-SA" sz="3300" spc="-1" strike="noStrike">
                <a:solidFill>
                  <a:srgbClr val="000000"/>
                </a:solidFill>
                <a:latin typeface="Constantia"/>
              </a:rPr>
              <a:t>انتظام مجموعة من السمات ليتكون نمط عام مثل الانطواء. والنمط ارتباطات بين سمات متنوعة.</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6" name=""/>
          <p:cNvSpPr txBox="1"/>
          <p:nvPr/>
        </p:nvSpPr>
        <p:spPr>
          <a:xfrm>
            <a:off x="250920" y="1916280"/>
            <a:ext cx="8642160" cy="4681440"/>
          </a:xfrm>
          <a:prstGeom prst="rect">
            <a:avLst/>
          </a:prstGeom>
          <a:noFill/>
          <a:ln w="0">
            <a:noFill/>
          </a:ln>
        </p:spPr>
        <p:txBody>
          <a:bodyPr anchor="t">
            <a:normAutofit fontScale="92000"/>
          </a:bodyPr>
          <a:p>
            <a:pPr marL="250920" indent="-250920" algn="r" rtl="1">
              <a:spcBef>
                <a:spcPts val="79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يفترض ( أيزنك) عند مستوى النمط وجود أبعاد للشخصية وهي:</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1</a:t>
            </a:r>
            <a:r>
              <a:rPr b="0" lang="ar-SA" sz="3200" spc="-1" strike="noStrike">
                <a:solidFill>
                  <a:srgbClr val="c87d0e"/>
                </a:solidFill>
                <a:latin typeface="Constantia"/>
              </a:rPr>
              <a:t>- الانبساط.</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2</a:t>
            </a:r>
            <a:r>
              <a:rPr b="0" lang="ar-SA" sz="3200" spc="-1" strike="noStrike">
                <a:solidFill>
                  <a:srgbClr val="c87d0e"/>
                </a:solidFill>
                <a:latin typeface="Constantia"/>
              </a:rPr>
              <a:t>- العصاب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3</a:t>
            </a:r>
            <a:r>
              <a:rPr b="0" lang="ar-SA" sz="3200" spc="-1" strike="noStrike">
                <a:solidFill>
                  <a:srgbClr val="c87d0e"/>
                </a:solidFill>
                <a:latin typeface="Constantia"/>
              </a:rPr>
              <a:t>- الذهان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4</a:t>
            </a:r>
            <a:r>
              <a:rPr b="0" lang="ar-SA" sz="3200" spc="-1" strike="noStrike">
                <a:solidFill>
                  <a:srgbClr val="c87d0e"/>
                </a:solidFill>
                <a:latin typeface="Constantia"/>
              </a:rPr>
              <a:t>- الذكاء.</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5</a:t>
            </a:r>
            <a:r>
              <a:rPr b="0" lang="ar-SA" sz="3200" spc="-1" strike="noStrike">
                <a:solidFill>
                  <a:srgbClr val="c87d0e"/>
                </a:solidFill>
                <a:latin typeface="Constantia"/>
              </a:rPr>
              <a:t>- التقدمية.</a:t>
            </a:r>
            <a:endParaRPr b="0" lang="en-US" sz="32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نعرض بإيجاز للأربعة الأولى منها فيما يلي:</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71640" y="333360"/>
            <a:ext cx="77724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8" name=""/>
          <p:cNvSpPr txBox="1"/>
          <p:nvPr/>
        </p:nvSpPr>
        <p:spPr>
          <a:xfrm>
            <a:off x="395280" y="1447560"/>
            <a:ext cx="8569440" cy="514980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1</a:t>
            </a:r>
            <a:r>
              <a:rPr b="1" lang="ar-SA" sz="2800" spc="-1" strike="noStrike" u="sng">
                <a:solidFill>
                  <a:srgbClr val="c87d0e"/>
                </a:solidFill>
                <a:uFillTx/>
                <a:latin typeface="Constantia"/>
              </a:rPr>
              <a:t>- بعد الانبساط مقابل الانطواء: </a:t>
            </a:r>
            <a:endParaRPr b="0" lang="en-US" sz="28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0" lang="ar-SA" sz="2400" spc="-1" strike="noStrike">
                <a:solidFill>
                  <a:srgbClr val="000000"/>
                </a:solidFill>
                <a:latin typeface="Constantia"/>
              </a:rPr>
              <a:t>الانبساط/ الانطواء عامل ثنائي القطب أو بعد له قطبان, و هو بعد متصل  يقع في طرفيه المنبسط الشديد و المنطوي الشديد, مع درجات بينيه بينهما (والدرجات المتوسطة هي الأكثر شيوعاً و تكراراً) يشغلها مختلف الأفراد. </a:t>
            </a:r>
            <a:endParaRPr b="0" lang="en-US" sz="24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graphicFrame>
        <p:nvGraphicFramePr>
          <p:cNvPr id="209" name=""/>
          <p:cNvGraphicFramePr/>
          <p:nvPr/>
        </p:nvGraphicFramePr>
        <p:xfrm>
          <a:off x="1042920" y="3645000"/>
          <a:ext cx="7143840" cy="2496960"/>
        </p:xfrm>
        <a:graphic>
          <a:graphicData uri="http://schemas.openxmlformats.org/drawingml/2006/table">
            <a:tbl>
              <a:tblPr/>
              <a:tblGrid>
                <a:gridCol w="3571920"/>
                <a:gridCol w="3571920"/>
              </a:tblGrid>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طوا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بسا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عزل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جتماع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روي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مندف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روت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تغيير المستم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شائ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فائ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7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ادراً أن يكون عدوان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ميل إلى العدو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8:42:05Z</dcterms:created>
  <dc:creator>مرحبا</dc:creator>
  <dc:description/>
  <dc:language>en-US</dc:language>
  <cp:lastModifiedBy>shr</cp:lastModifiedBy>
  <dcterms:modified xsi:type="dcterms:W3CDTF">2016-02-28T10:46:19Z</dcterms:modified>
  <cp:revision>89</cp:revision>
  <dc:subject/>
  <dc:title>مقاييس الشخصية</dc:title>
</cp:coreProperties>
</file>