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0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C1E1-2C72-4A7F-95C3-4E00B3F4D6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011E-D179-41C4-9FF1-48298B97824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A7EA-40FC-4A78-A3D2-66F365A2010D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899-1B54-496B-A688-70D58A3E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FFF-3700-4A97-B752-F5E1F25B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B2E-8F63-41BA-99E6-0456D953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6BC-9B6B-43BA-B32D-ACA71A58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E72E-E9AC-429C-8693-085C3FC1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E2B7-DACA-4704-A0CE-397E23E4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3438-91A2-4FD7-AD43-CCB7E383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AAD5-F249-43A6-B24E-499270E7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24C9-6AC9-4822-84ED-DFF8C522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D5CE-0268-4830-9570-C16C8180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659F-31A5-4535-873F-66F23F20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671-9795-4823-A89B-EC546278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50F5-279F-464E-AE26-7CB6F0F1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AAA6-5468-4DE8-BDF2-36179791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2818-7E47-4864-B317-5CC9B540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06BF-7B1C-4EC1-AD03-600B9857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6993-5C09-4C9E-9D78-7FEA0BE6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159-14F8-44EF-8364-DC502754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585-B973-4D33-B808-B35B8331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98F-8F73-45F1-AD4F-76B78123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CFF-C796-4EC8-9A46-55768B01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CFC-7FDB-4927-9214-5582B661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1A5-66B2-40A8-B2EB-F64FB238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31E-AEE7-4354-832E-D35F25CD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719F-5ABB-46C8-A086-A8CC2152F37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0FF6-2CB5-491A-BFD1-4AFFC2CD4D5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VSXBB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0" name="الفاتحة.wav" descr=""/>
          <p:cNvPicPr/>
          <p:nvPr/>
        </p:nvPicPr>
        <p:blipFill>
          <a:blip r:embed="rId2"/>
          <a:stretch/>
        </p:blipFill>
        <p:spPr>
          <a:xfrm>
            <a:off x="1522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20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هو تحسين ما أثبت تقويم المنهج حاجته إلى التحسين من عناصر المنهج أو من المؤثرات عليه ورفع كفاية المنهج على وجه العموم في تحقيق الأهداف المرجو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116000" y="4508640"/>
            <a:ext cx="2448000" cy="17128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2"/>
          <p:cNvSpPr/>
          <p:nvPr/>
        </p:nvSpPr>
        <p:spPr>
          <a:xfrm>
            <a:off x="179280" y="260280"/>
            <a:ext cx="8496360" cy="1224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تطوير المنهج الدراس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378080" y="677880"/>
            <a:ext cx="7226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12460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042920" y="1052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"/>
          <p:cNvSpPr/>
          <p:nvPr/>
        </p:nvSpPr>
        <p:spPr>
          <a:xfrm>
            <a:off x="0" y="260280"/>
            <a:ext cx="9144000" cy="1224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 دواعي تطوير المناهج الدراسية بالعالم الإسلامي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مربع نص 6"/>
          <p:cNvSpPr/>
          <p:nvPr/>
        </p:nvSpPr>
        <p:spPr>
          <a:xfrm>
            <a:off x="179280" y="1700280"/>
            <a:ext cx="8785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دم توجيه المناهج الحالية في الأقطار الإسلامية توجيها إسلامي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قصور التربوي عامة . وفي المناهج الدراسية خاص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دم قدرة المناهج الحالية على الإسهام الفعال في توجيه التغير الاجتماع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جز المناهج الحالية عن الإسهام الفعال في حل مشكلت المجتمع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جز المناهج الحالية عن ملاحقة التطور في الفكر التربوي والنفسي وتطبيقات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378080" y="677880"/>
            <a:ext cx="7226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12460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042920" y="1052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"/>
          <p:cNvSpPr/>
          <p:nvPr/>
        </p:nvSpPr>
        <p:spPr>
          <a:xfrm>
            <a:off x="0" y="260280"/>
            <a:ext cx="9144000" cy="1224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أهم أسس تطوير المناهج الدراس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مربع نص 6"/>
          <p:cNvSpPr/>
          <p:nvPr/>
        </p:nvSpPr>
        <p:spPr>
          <a:xfrm>
            <a:off x="179280" y="1700280"/>
            <a:ext cx="8785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يبنى تطوير المنهج علة نتائج تقويم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يكون التطوير هادفا ومرنا ومستمر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يراعي التطوير خصائص المتعلم وخبرا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يراعي حاجات كل من المجتمع والبيئة المحلية ويستثمر امكاناتهم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يفي التطوير بمتطلبات التربية الإسلام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يستثمر التطوير كلا من التقدم العلمي والتقن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5562720"/>
            <a:ext cx="1979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 أهم الأساليب القديمة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          -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حذف والإضافة والتعديل والاستبدال </a:t>
            </a: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أهم الأساليب الحديثة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تحليل والاستنباط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     - المقارنة بمناهج أخرى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    - البحث العلمي والتجريب التربوي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    - استشراف المستقبل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0" y="5516640"/>
            <a:ext cx="2124000" cy="134136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2"/>
          <p:cNvSpPr/>
          <p:nvPr/>
        </p:nvSpPr>
        <p:spPr>
          <a:xfrm>
            <a:off x="468360" y="260280"/>
            <a:ext cx="8207280" cy="1224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أهم الأساليب العامة لتطوير المناهج الدراس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حديد أهداف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كوين فريق العمل في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خطيط لعملية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دريب فريق العمل المسؤول عن تنفيذ عملية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عداد المواد اللازمة لعملية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جريب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عمي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قويم والمتابع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468360" y="0"/>
            <a:ext cx="8207280" cy="1052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أهم خطوات تطوير المناهج الدراس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Users\dell\Pictures\imagesCAB727ZL.jpg"/>
          <p:cNvPicPr/>
          <p:nvPr/>
        </p:nvPicPr>
        <p:blipFill>
          <a:blip r:embed="rId1"/>
          <a:stretch/>
        </p:blipFill>
        <p:spPr>
          <a:xfrm>
            <a:off x="0" y="4797360"/>
            <a:ext cx="345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معوقات خاصة بطبيعة التطوير التربو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قصور في الجوانب الفنية لعملية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قصور في خبرات القائمين بعملية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عوقات إدار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عوقات خاصة بالمجتمع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عوقات خاصة بالظروف الطارئ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استفادة من  الاعتمادات المالية .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468360" y="260280"/>
            <a:ext cx="8207280" cy="1224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أهم معوقات تطوير المناهج الدراس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Users\dell\Pictures\نممن.jpg"/>
          <p:cNvPicPr/>
          <p:nvPr/>
        </p:nvPicPr>
        <p:blipFill>
          <a:blip r:embed="rId1"/>
          <a:stretch/>
        </p:blipFill>
        <p:spPr>
          <a:xfrm>
            <a:off x="324000" y="45086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Calibri"/>
              </a:rPr>
              <a:t>المرجع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تطوير المناهج الدراس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الدكتور /  محمود شو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95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م وتعلي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2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ثاني 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ثان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100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صورة 2" descr="ش.jpg"/>
          <p:cNvPicPr/>
          <p:nvPr/>
        </p:nvPicPr>
        <p:blipFill>
          <a:blip r:embed="rId3"/>
          <a:stretch/>
        </p:blipFill>
        <p:spPr>
          <a:xfrm>
            <a:off x="3527280" y="1916280"/>
            <a:ext cx="536580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287360" y="2890800"/>
            <a:ext cx="674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تطوير المناهج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4"/>
          <a:stretch/>
        </p:blipFill>
        <p:spPr>
          <a:xfrm>
            <a:off x="0" y="4724280"/>
            <a:ext cx="36021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08" name="Object 1028"/>
          <p:cNvGraphicFramePr/>
          <p:nvPr/>
        </p:nvGraphicFramePr>
        <p:xfrm>
          <a:off x="0" y="6033960"/>
          <a:ext cx="283068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33960"/>
                    <a:ext cx="283068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6"/>
          <p:cNvSpPr/>
          <p:nvPr/>
        </p:nvSpPr>
        <p:spPr>
          <a:xfrm>
            <a:off x="900000" y="395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66"/>
                </a:solidFill>
                <a:latin typeface="Arial"/>
              </a:rPr>
              <a:t>الأهداف المتوقع تحققها من المحاضر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68360" y="1197000"/>
            <a:ext cx="835164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ن تتعرف الطالبة على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فهوم التطوير , مفهوم المنهج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فهوم تطوير المنهج الدراسي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 دواعي تطوير المناهج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أهم أسس تطوير المناهج الدراسي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 الأساليب العامة لتطوير المناهج الدراسي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 خطوات تطوير المناهج الدراسي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 معوقات تطوير المناهج الدراسي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C74A-99B7-405B-9B06-57F2D89723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"/>
          <p:cNvSpPr/>
          <p:nvPr/>
        </p:nvSpPr>
        <p:spPr>
          <a:xfrm>
            <a:off x="468360" y="1989000"/>
            <a:ext cx="8207280" cy="417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755640" y="349200"/>
            <a:ext cx="7848360" cy="5163120"/>
            <a:chOff x="755640" y="349200"/>
            <a:chExt cx="7848360" cy="5163120"/>
          </a:xfrm>
        </p:grpSpPr>
        <p:sp>
          <p:nvSpPr>
            <p:cNvPr id="116" name="AutoShape 4"/>
            <p:cNvSpPr/>
            <p:nvPr/>
          </p:nvSpPr>
          <p:spPr>
            <a:xfrm>
              <a:off x="898200" y="349200"/>
              <a:ext cx="7705800" cy="1943280"/>
            </a:xfrm>
            <a:prstGeom prst="flowChartMultidocument">
              <a:avLst/>
            </a:prstGeom>
            <a:solidFill>
              <a:srgbClr val="ffff00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00000"/>
                  </a:solidFill>
                  <a:latin typeface="Times New Roman"/>
                  <a:cs typeface="PT Bold Heading"/>
                </a:rPr>
                <a:t>نشاط تمهيد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5"/>
            <p:cNvSpPr/>
            <p:nvPr/>
          </p:nvSpPr>
          <p:spPr>
            <a:xfrm>
              <a:off x="755640" y="2076480"/>
              <a:ext cx="6622920" cy="34358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cs typeface="PT Bold Heading"/>
                </a:rPr>
                <a:t>بالتعاون مع أفراد مجموعتك , اكتبي مفهوما مناسبا لمصطلح  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  <a:ea typeface="PT Bold Heading"/>
                </a:rPr>
                <a:t>  </a:t>
              </a: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cs typeface="PT Bold Heading"/>
                </a:rPr>
                <a:t>التطوير   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  <a:ea typeface="PT Bold Heading"/>
                </a:rPr>
                <a:t>“</a:t>
              </a: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ea typeface="PT Bold Heading"/>
                </a:rPr>
                <a:t>«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007640" y="426672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119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2930040" y="4833720"/>
            <a:ext cx="1032120" cy="92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484280"/>
            <a:ext cx="84358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التطوير في اللغة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طوير لغة يعني : التغيير أو التحويل من طور إلى طو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التطوير اصطلاحا فيعني على وجه العموم  :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حسين وصولا إلى تحقيق الأهداف المرجوة بصورة أكثر كفاءة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476360" y="0"/>
            <a:ext cx="6624720" cy="12682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فهوم التطوي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30" descr="PE01561_"/>
          <p:cNvPicPr/>
          <p:nvPr/>
        </p:nvPicPr>
        <p:blipFill>
          <a:blip r:embed="rId1"/>
          <a:stretch/>
        </p:blipFill>
        <p:spPr>
          <a:xfrm>
            <a:off x="0" y="4869000"/>
            <a:ext cx="1332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000" y="404280"/>
            <a:ext cx="7941600" cy="864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مفهوم المنهج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مربع نص 6"/>
          <p:cNvSpPr/>
          <p:nvPr/>
        </p:nvSpPr>
        <p:spPr>
          <a:xfrm>
            <a:off x="250920" y="2276640"/>
            <a:ext cx="8443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جميع الخبرات التي تقدمها المدرسة لتلاميذها في داخلها أو خارجها ليكتسبها التلاميذ تحت إشرافها بغية تحقيق أهداف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اصر نظام المنهج الدراسي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الأهداف , المحتوى ، طرائق التدر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أنشطة , تقنية التعليم , تقويم مخرجات االمنهج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شكل بيضاوي 3"/>
          <p:cNvSpPr/>
          <p:nvPr/>
        </p:nvSpPr>
        <p:spPr>
          <a:xfrm>
            <a:off x="5724360" y="1773360"/>
            <a:ext cx="1584360" cy="47512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حتوى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شكل بيضاوي 6"/>
          <p:cNvSpPr/>
          <p:nvPr/>
        </p:nvSpPr>
        <p:spPr>
          <a:xfrm>
            <a:off x="4500720" y="1628640"/>
            <a:ext cx="1150920" cy="4753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طرائق التعل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شكل بيضاوي 7"/>
          <p:cNvSpPr/>
          <p:nvPr/>
        </p:nvSpPr>
        <p:spPr>
          <a:xfrm>
            <a:off x="2987640" y="1628640"/>
            <a:ext cx="1368360" cy="4753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أنشط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شكل بيضاوي 8"/>
          <p:cNvSpPr/>
          <p:nvPr/>
        </p:nvSpPr>
        <p:spPr>
          <a:xfrm>
            <a:off x="1692360" y="1700280"/>
            <a:ext cx="1150920" cy="4753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قنية التعل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شكل بيضاوي 9"/>
          <p:cNvSpPr/>
          <p:nvPr/>
        </p:nvSpPr>
        <p:spPr>
          <a:xfrm>
            <a:off x="0" y="1628640"/>
            <a:ext cx="1476360" cy="4753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00"/>
                </a:solidFill>
                <a:latin typeface="Calibri"/>
              </a:rPr>
              <a:t>تقويم مخرجات المنه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عنوان 10"/>
          <p:cNvGrpSpPr/>
          <p:nvPr/>
        </p:nvGrpSpPr>
        <p:grpSpPr>
          <a:xfrm>
            <a:off x="665280" y="244440"/>
            <a:ext cx="8265960" cy="1114560"/>
            <a:chOff x="665280" y="244440"/>
            <a:chExt cx="8265960" cy="1114560"/>
          </a:xfrm>
        </p:grpSpPr>
        <p:pic>
          <p:nvPicPr>
            <p:cNvPr id="133" name="عنوان 10" descr=""/>
            <p:cNvPicPr/>
            <p:nvPr/>
          </p:nvPicPr>
          <p:blipFill>
            <a:blip r:embed="rId1"/>
            <a:stretch/>
          </p:blipFill>
          <p:spPr>
            <a:xfrm>
              <a:off x="665280" y="244440"/>
              <a:ext cx="8265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889280" y="419040"/>
              <a:ext cx="58179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Calibri"/>
                </a:rPr>
                <a:t>عناصر نظام المنهج الدراسي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شكل بيضاوي 11"/>
          <p:cNvSpPr/>
          <p:nvPr/>
        </p:nvSpPr>
        <p:spPr>
          <a:xfrm>
            <a:off x="7524720" y="1628640"/>
            <a:ext cx="1403280" cy="4753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أ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6-02-07T06:06:08Z</dcterms:modified>
  <cp:revision>66</cp:revision>
  <dc:subject/>
  <dc:title>الانكيت</dc:title>
</cp:coreProperties>
</file>