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17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9FC-E962-48E9-A61E-439E54821B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924-B1B5-4156-849A-4814FD6E0F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2FD6-2F72-421C-89C8-34894253FEC5}" type="slidenum"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104-452E-4270-97E4-AF52960A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5AB-7AB4-4158-9005-B7FF8496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5FB-D1B5-405A-B232-F6DBAE79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526-607D-4E34-BE81-23062265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E87-6CAF-4568-873F-5E7BDC63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4A3A-AB95-44C0-882A-805A6491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6BE-D12F-4ABD-8248-642525F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A2DE-5F53-47CC-B227-906F0E3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A28-4515-481F-84BA-C06EABAF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BC51-C197-4636-87DE-C9ABDD48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8433-3D95-47A6-B0B9-AEEEE845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DE8-A066-4342-9F6F-7296FFF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34C6-30CB-4675-B5EC-8CDA534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8C4E-9916-40B0-A68E-3F7034B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CBEB-8C86-4E0E-A242-DD83C1E1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131-2C29-4773-8CF6-99841EA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B8AB-5B62-4B2E-AC7E-619916FF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614-97AA-4DD9-9ACA-B352EA0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AA3-DA53-4C9F-93C8-8947F26B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B60-42D0-494E-9D8B-5F7B2654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C52-8849-4E44-836D-0E5895B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405-B8EA-4E57-AB43-08EC241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B52-0E80-493D-AA9D-65FB4E2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1D9-9F4B-4635-9CDD-5968591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1C0-F990-4385-B6C5-52A14685547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B8E-C42E-4DD7-8179-AAC77FCE4DF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VSXBB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0" name="الفاتحة.wav" descr=""/>
          <p:cNvPicPr/>
          <p:nvPr/>
        </p:nvPicPr>
        <p:blipFill>
          <a:blip r:embed="rId2"/>
          <a:stretch/>
        </p:blipFill>
        <p:spPr>
          <a:xfrm>
            <a:off x="1522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0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هو تحسين ما أثبت تقويم المنهج حاجته إلى التحسين من عناصر المنهج أو من المؤثرات عليه ورفع كفاية المنهج على وجه العموم في تحقيق الأهداف المرجو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1116000" y="4508640"/>
            <a:ext cx="2448000" cy="17128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"/>
          <p:cNvSpPr/>
          <p:nvPr/>
        </p:nvSpPr>
        <p:spPr>
          <a:xfrm>
            <a:off x="179280" y="260280"/>
            <a:ext cx="849636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تطوير المنهج الدراس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042920" y="10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دواعي تطوير المناهج الدراسية بالعالم الإسلام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ربع نص 6"/>
          <p:cNvSpPr/>
          <p:nvPr/>
        </p:nvSpPr>
        <p:spPr>
          <a:xfrm>
            <a:off x="179280" y="170028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دم توجيه المناهج الحالية في الأقطار الإسلامية توجيها إسلامي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قصور التربوي عامة . وفي المناهج الدراسية خاص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دم قدرة المناهج الحالية على الإسهام الفعال في توجيه التغير ال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جز المناهج الحالية عن الإسهام الفعال في حل مشكلت المجتمع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جز المناهج الحالية عن ملاحقة التطور في الفكر التربوي والنفسي وتطبيقا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378080" y="677880"/>
            <a:ext cx="72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12460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42920" y="1052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أسس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مربع نص 6"/>
          <p:cNvSpPr/>
          <p:nvPr/>
        </p:nvSpPr>
        <p:spPr>
          <a:xfrm>
            <a:off x="179280" y="1700280"/>
            <a:ext cx="878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بنى تطوير المنهج علة نتائج تقويم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كون التطوير هادفا ومرنا ومستمر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راعي التطوير خصائص المتعلم وخبرات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راعي حاجات كل من المجتمع والبيئة المحلية ويستثمر امكاناتهم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في التطوير بمتطلبات التربية الإسلام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يستثمر التطوير كلا من التقدم العلمي والتق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ANd9GcT6rmB08Q0cHlYox5pPbTw0T_RprNVNaMKRoFhFIbIJQukKASUR"/>
          <p:cNvPicPr/>
          <p:nvPr/>
        </p:nvPicPr>
        <p:blipFill>
          <a:blip r:embed="rId1"/>
          <a:stretch/>
        </p:blipFill>
        <p:spPr>
          <a:xfrm>
            <a:off x="0" y="5562720"/>
            <a:ext cx="1979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أهم الأساليب القديم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 -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حذف والإضافة والتعديل والاستبدال </a:t>
            </a: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أهم الأساليب الحديث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التحليل والاستنباط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 - المقارنة بمناهج أخرى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- البحث العلمي والتجريب التربوي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            - استشراف المستقب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9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0" y="5516640"/>
            <a:ext cx="2124000" cy="134136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468360" y="260280"/>
            <a:ext cx="820728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الأساليب العامة ل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حديد أهداف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كوين فريق العمل في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خطيط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دريب فريق العمل المسؤول عن تنفيذ 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عداد المواد اللازمة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جريب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عمي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قويم والمتابع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468360" y="0"/>
            <a:ext cx="8207280" cy="1052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خطوات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Users\dell\Pictures\imagesCAB727ZL.jpg"/>
          <p:cNvPicPr/>
          <p:nvPr/>
        </p:nvPicPr>
        <p:blipFill>
          <a:blip r:embed="rId1"/>
          <a:stretch/>
        </p:blipFill>
        <p:spPr>
          <a:xfrm>
            <a:off x="0" y="4797360"/>
            <a:ext cx="345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معوقات خاصة بطبيعة التطوير التربوي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قصور في الجوانب الفنية ل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قصور في خبرات القائمين بعملية التطوي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إداري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خاصة بالمجتمع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عوقات خاصة بالظروف الطارئ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استفادة من  الاعتمادات المالية .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468360" y="260280"/>
            <a:ext cx="8207280" cy="12240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أهم معوقات تطوير المناهج الدراس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Users\dell\Pictures\نممن.jpg"/>
          <p:cNvPicPr/>
          <p:nvPr/>
        </p:nvPicPr>
        <p:blipFill>
          <a:blip r:embed="rId1"/>
          <a:stretch/>
        </p:blipFill>
        <p:spPr>
          <a:xfrm>
            <a:off x="324000" y="4508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لمرج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تطوير المناهج الدراس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دكتور /  محمود شو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Public\Pictures\Stage\004.jpg"/>
          <p:cNvPicPr/>
          <p:nvPr/>
        </p:nvPicPr>
        <p:blipFill>
          <a:blip r:embed="rId1"/>
          <a:stretch/>
        </p:blipFill>
        <p:spPr>
          <a:xfrm>
            <a:off x="611280" y="404640"/>
            <a:ext cx="7632720" cy="6143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1020600" y="858960"/>
            <a:ext cx="681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شكرا لحسن استماعك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9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م وتعليم العلوم الشرعية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ثاني 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ثان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مستطيل 4"/>
          <p:cNvGrpSpPr/>
          <p:nvPr/>
        </p:nvGrpSpPr>
        <p:grpSpPr>
          <a:xfrm>
            <a:off x="49320" y="274680"/>
            <a:ext cx="2481120" cy="3479760"/>
            <a:chOff x="49320" y="274680"/>
            <a:chExt cx="2481120" cy="3479760"/>
          </a:xfrm>
        </p:grpSpPr>
        <p:pic>
          <p:nvPicPr>
            <p:cNvPr id="100" name="مستطيل 4" descr=""/>
            <p:cNvPicPr/>
            <p:nvPr/>
          </p:nvPicPr>
          <p:blipFill>
            <a:blip r:embed="rId1"/>
            <a:stretch/>
          </p:blipFill>
          <p:spPr>
            <a:xfrm>
              <a:off x="49320" y="274680"/>
              <a:ext cx="2481120" cy="34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9280" y="404640"/>
              <a:ext cx="221472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صورة 3" descr="ش.jpg"/>
          <p:cNvPicPr/>
          <p:nvPr/>
        </p:nvPicPr>
        <p:blipFill>
          <a:blip r:embed="rId2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صورة 2" descr="ش.jpg"/>
          <p:cNvPicPr/>
          <p:nvPr/>
        </p:nvPicPr>
        <p:blipFill>
          <a:blip r:embed="rId3"/>
          <a:stretch/>
        </p:blipFill>
        <p:spPr>
          <a:xfrm>
            <a:off x="3527280" y="1916280"/>
            <a:ext cx="536580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87360" y="2890800"/>
            <a:ext cx="674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تطوير المناهج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G:\2UDNCA131I5ACAANPNRDCA92NRXXCAA4UK7GCA855N2PCA27TRP1CANH925SCAOUQX7KCA8OLLABCAJ1WCNXCARXM0YICAVJM7LCCA7U8829CA250F38CAN3G74NCARSTEGLCAZPM8IUCABDH9SKCA0HL8IU.jpg"/>
          <p:cNvPicPr/>
          <p:nvPr/>
        </p:nvPicPr>
        <p:blipFill>
          <a:blip r:embed="rId4"/>
          <a:stretch/>
        </p:blipFill>
        <p:spPr>
          <a:xfrm>
            <a:off x="0" y="4724280"/>
            <a:ext cx="3602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026"/>
          <p:cNvSpPr txBox="1"/>
          <p:nvPr/>
        </p:nvSpPr>
        <p:spPr>
          <a:xfrm rot="19378800">
            <a:off x="834840" y="2855520"/>
            <a:ext cx="659124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08" name="Object 1028"/>
          <p:cNvGraphicFramePr/>
          <p:nvPr/>
        </p:nvGraphicFramePr>
        <p:xfrm>
          <a:off x="0" y="6033960"/>
          <a:ext cx="283068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33960"/>
                    <a:ext cx="283068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6"/>
          <p:cNvSpPr/>
          <p:nvPr/>
        </p:nvSpPr>
        <p:spPr>
          <a:xfrm>
            <a:off x="900000" y="395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أهداف المتوقع تحققها من المحاض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68360" y="1197000"/>
            <a:ext cx="835164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ن تتعرف الطالبة على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فهوم التطوير , مفهوم المنهج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فهوم تطوير المنهج الدراس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دواعي تطوير المناهج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هم أسس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الأساليب العامة ل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خطوات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 معوقات تطوير المناهج الدراسي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لتذييل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5D1-CC37-44AD-90AF-F83B921C13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468360" y="1989000"/>
            <a:ext cx="8207280" cy="4176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755640" y="349200"/>
            <a:ext cx="7848360" cy="5163120"/>
            <a:chOff x="755640" y="349200"/>
            <a:chExt cx="7848360" cy="5163120"/>
          </a:xfrm>
        </p:grpSpPr>
        <p:sp>
          <p:nvSpPr>
            <p:cNvPr id="116" name="AutoShape 4"/>
            <p:cNvSpPr/>
            <p:nvPr/>
          </p:nvSpPr>
          <p:spPr>
            <a:xfrm>
              <a:off x="898200" y="349200"/>
              <a:ext cx="7705800" cy="1943280"/>
            </a:xfrm>
            <a:prstGeom prst="flowChartMultidocument">
              <a:avLst/>
            </a:prstGeom>
            <a:solidFill>
              <a:srgbClr val="ffff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00000"/>
                  </a:solidFill>
                  <a:latin typeface="Times New Roman"/>
                  <a:cs typeface="PT Bold Heading"/>
                </a:rPr>
                <a:t>نشاط تمهيد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755640" y="2076480"/>
              <a:ext cx="6622920" cy="34358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بالتعاون مع أفراد مجموعتك , اكتبي مفهوما مناسبا لمصطلح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  </a:t>
              </a: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cs typeface="PT Bold Heading"/>
                </a:rPr>
                <a:t>التطوير 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“</a:t>
              </a:r>
              <a:r>
                <a:rPr b="1" lang="ar-SA" sz="2800" spc="-1" strike="noStrike">
                  <a:solidFill>
                    <a:srgbClr val="003366"/>
                  </a:solidFill>
                  <a:latin typeface="Times New Roman"/>
                  <a:ea typeface="PT Bold Heading"/>
                </a:rPr>
                <a:t>«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صورة 735" descr="get-5-2007-pouh4z2v.gif"/>
          <p:cNvPicPr/>
          <p:nvPr/>
        </p:nvPicPr>
        <p:blipFill>
          <a:blip r:embed="rId1"/>
          <a:stretch/>
        </p:blipFill>
        <p:spPr>
          <a:xfrm rot="325200">
            <a:off x="1007640" y="4266720"/>
            <a:ext cx="1031760" cy="928800"/>
          </a:xfrm>
          <a:prstGeom prst="rect">
            <a:avLst/>
          </a:prstGeom>
          <a:ln w="0">
            <a:noFill/>
          </a:ln>
        </p:spPr>
      </p:pic>
      <p:pic>
        <p:nvPicPr>
          <p:cNvPr id="119" name="صورة 735" descr="get-5-2007-pouh4z2v.gif"/>
          <p:cNvPicPr/>
          <p:nvPr/>
        </p:nvPicPr>
        <p:blipFill>
          <a:blip r:embed="rId2"/>
          <a:stretch/>
        </p:blipFill>
        <p:spPr>
          <a:xfrm rot="325200">
            <a:off x="2930040" y="4833720"/>
            <a:ext cx="1032120" cy="92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8435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التطوير في اللغة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طوير لغة يعني : التغيير أو التحويل من طور إلى طور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Calibri"/>
              </a:rPr>
              <a:t>التطوير اصطلاحا فيعني على وجه العموم  :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سين وصولا إلى تحقيق الأهداف المرجوة بصورة أكثر كفاء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  </a:t>
            </a:r>
            <a:r>
              <a:rPr b="1" lang="ar-SA" sz="4400" spc="-1" strike="noStrike">
                <a:solidFill>
                  <a:srgbClr val="ff0066"/>
                </a:solidFill>
                <a:latin typeface="Calibri"/>
              </a:rPr>
              <a:t>أولا : المحاضر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76360" y="0"/>
            <a:ext cx="6624720" cy="1268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فهوم التطوي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30" descr="PE01561_"/>
          <p:cNvPicPr/>
          <p:nvPr/>
        </p:nvPicPr>
        <p:blipFill>
          <a:blip r:embed="rId1"/>
          <a:stretch/>
        </p:blipFill>
        <p:spPr>
          <a:xfrm>
            <a:off x="0" y="4869000"/>
            <a:ext cx="13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404280"/>
            <a:ext cx="7941600" cy="864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مفهوم المنهج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مربع نص 6"/>
          <p:cNvSpPr/>
          <p:nvPr/>
        </p:nvSpPr>
        <p:spPr>
          <a:xfrm>
            <a:off x="250920" y="2276640"/>
            <a:ext cx="844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جميع الخبرات التي تقدمها المدرسة لتلاميذها في داخلها أو خارجها ليكتسبها التلاميذ تحت إشرافها بغية تحقيق أهداف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اصر نظام المنهج الدراس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الأهداف , المحتوى ، طرائق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نشطة , تقنية التعليم , تقويم مخرجات االمنهج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شكل بيضاوي 3"/>
          <p:cNvSpPr/>
          <p:nvPr/>
        </p:nvSpPr>
        <p:spPr>
          <a:xfrm>
            <a:off x="5724360" y="1773360"/>
            <a:ext cx="1584360" cy="47512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حتوى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شكل بيضاوي 6"/>
          <p:cNvSpPr/>
          <p:nvPr/>
        </p:nvSpPr>
        <p:spPr>
          <a:xfrm>
            <a:off x="4500720" y="1628640"/>
            <a:ext cx="115092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رائق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شكل بيضاوي 7"/>
          <p:cNvSpPr/>
          <p:nvPr/>
        </p:nvSpPr>
        <p:spPr>
          <a:xfrm>
            <a:off x="2987640" y="1628640"/>
            <a:ext cx="136836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نشط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شكل بيضاوي 8"/>
          <p:cNvSpPr/>
          <p:nvPr/>
        </p:nvSpPr>
        <p:spPr>
          <a:xfrm>
            <a:off x="1692360" y="1700280"/>
            <a:ext cx="115092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نية التعل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شكل بيضاوي 9"/>
          <p:cNvSpPr/>
          <p:nvPr/>
        </p:nvSpPr>
        <p:spPr>
          <a:xfrm>
            <a:off x="0" y="1628640"/>
            <a:ext cx="147636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Calibri"/>
              </a:rPr>
              <a:t>تقويم مخرجات المنه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عنوان 10"/>
          <p:cNvGrpSpPr/>
          <p:nvPr/>
        </p:nvGrpSpPr>
        <p:grpSpPr>
          <a:xfrm>
            <a:off x="665280" y="244440"/>
            <a:ext cx="8265960" cy="1114560"/>
            <a:chOff x="665280" y="244440"/>
            <a:chExt cx="8265960" cy="1114560"/>
          </a:xfrm>
        </p:grpSpPr>
        <p:pic>
          <p:nvPicPr>
            <p:cNvPr id="133" name="عنوان 10" descr=""/>
            <p:cNvPicPr/>
            <p:nvPr/>
          </p:nvPicPr>
          <p:blipFill>
            <a:blip r:embed="rId1"/>
            <a:stretch/>
          </p:blipFill>
          <p:spPr>
            <a:xfrm>
              <a:off x="665280" y="244440"/>
              <a:ext cx="82659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889280" y="419040"/>
              <a:ext cx="58179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Calibri"/>
                </a:rPr>
                <a:t>عناصر نظام المنهج الدراسي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شكل بيضاوي 11"/>
          <p:cNvSpPr/>
          <p:nvPr/>
        </p:nvSpPr>
        <p:spPr>
          <a:xfrm>
            <a:off x="7524720" y="1628640"/>
            <a:ext cx="1403280" cy="4753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6-02-07T06:06:08Z</dcterms:modified>
  <cp:revision>66</cp:revision>
  <dc:subject/>
  <dc:title>الانكيت</dc:title>
</cp:coreProperties>
</file>