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AD860-1F4F-41EA-9951-EC0486F43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B421F-06F9-4FE2-BDA8-B774EED8D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1777E-BE50-42D4-BF53-91A67B8A2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95E1F-7E8B-4668-825A-432EF7701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F0F565-F535-418B-92A4-0DA42880BF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3A4D9-8865-42CC-91C9-87A9972EF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CA133-7594-4BAC-971D-B3E0A5067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752EF-4725-4EB9-8A68-74907BACC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41216-4A05-4B86-90D2-E3623A13F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B5BCC-1B43-4A3C-A12B-A6381C33A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3D05A-3CF9-4B99-9AC2-4B28B5F5F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7FBF9-5302-4F59-AAD4-D3E69EADA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62CB0-31B1-4DB9-9E82-D0370189D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8F889-5F88-442E-A712-5C9518619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1873D-ADC4-41FB-B7F5-4D0B1F1F0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5B6A3-1FCF-4C87-A274-C3391DF32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EB937-0B04-458B-BE3B-77F4B50DF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BC6AB-49A0-4D89-BD94-14448CA3A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C9A26-5E91-4DA4-8D61-BAEB5AC3D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7FDDD-5698-46EA-9D21-2B3BDD461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EFEDE-6CD6-43DA-9AC6-9CDB9047D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067A9-1FB4-4E2C-9EF9-F9254CE44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DB421-5E6B-4D21-99DD-B376F5053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47D93-1508-470C-B678-961519F97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DECA-AACE-47A2-AC0D-983E5A9EA71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119B-A721-4FC5-9338-AEAF32C61391}"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ar.wikipedia.org/wiki/&#1583;&#1608;&#1575;&#1601;&#1593;" TargetMode="External"/><Relationship Id="rId2" Type="http://schemas.openxmlformats.org/officeDocument/2006/relationships/hyperlink" Target="http://ar.wikipedia.org/w/index.php?title=&#1575;&#1604;&#1575;&#1581;&#1578;&#1608;&#1575;&#1569;&amp;action=edit&amp;redlink=1"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ar.wikipedia.org/w/index.php?title=&#1575;&#1604;&#1578;&#1602;&#1583;&#1610;&#1585;_&#1575;&#1604;&#1605;&#1579;&#1575;&#1604;&#1610;&amp;action=edit&amp;redlink=1" TargetMode="External"/><Relationship Id="rId2" Type="http://schemas.openxmlformats.org/officeDocument/2006/relationships/hyperlink" Target="http://ar.wikipedia.org/wiki/&#1578;&#1579;&#1576;&#1610;&#1591;"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ar.wikipedia.org/w/index.php?title=&#1575;&#1604;&#1593;&#1583;&#1608;&#1575;&#1606;&amp;action=edit&amp;redlink=1" TargetMode="External"/><Relationship Id="rId2" Type="http://schemas.openxmlformats.org/officeDocument/2006/relationships/hyperlink" Target="http://ar.wikipedia.org/wiki/&#1575;&#1604;&#1603;&#1576;&#1578;" TargetMode="External"/><Relationship Id="rId3" Type="http://schemas.openxmlformats.org/officeDocument/2006/relationships/hyperlink" Target="http://ar.wikipedia.org/wiki/&#1575;&#1604;&#1606;&#1587;&#1610;&#1575;&#1606;" TargetMode="External"/><Relationship Id="rId4" Type="http://schemas.openxmlformats.org/officeDocument/2006/relationships/hyperlink" Target="http://ar.wikipedia.org/wiki/&#1575;&#1604;&#1573;&#1586;&#1575;&#1581;&#1577;" TargetMode="External"/><Relationship Id="rId5" Type="http://schemas.openxmlformats.org/officeDocument/2006/relationships/hyperlink" Target="http://ar.wikipedia.org/wiki/&#1578;&#1593;&#1604;&#1610;&#1577;" TargetMode="External"/><Relationship Id="rId6" Type="http://schemas.openxmlformats.org/officeDocument/2006/relationships/hyperlink" Target="http://ar.wikipedia.org/w/index.php?title=&#1578;&#1593;&#1605;&#1610;&#1605;&amp;action=edit&amp;redlink=1" TargetMode="External"/><Relationship Id="rId7" Type="http://schemas.openxmlformats.org/officeDocument/2006/relationships/hyperlink" Target="http://ar.wikipedia.org/wiki/&#1575;&#1604;&#1578;&#1603;&#1608;&#1610;&#1606;_&#1575;&#1604;&#1593;&#1603;&#1587;&#1610;" TargetMode="External"/><Relationship Id="rId8" Type="http://schemas.openxmlformats.org/officeDocument/2006/relationships/hyperlink" Target="http://ar.wikipedia.org/wiki/&#1585;&#1605;&#1586;&#1610;&#1577;" TargetMode="Externa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ar.wikipedia.org/w/index.php?title=&#1575;&#1604;&#1593;&#1583;&#1608;&#1575;&#1606;&amp;action=edit&amp;redlink=1" TargetMode="External"/><Relationship Id="rId2" Type="http://schemas.openxmlformats.org/officeDocument/2006/relationships/hyperlink" Target="http://ar.wikipedia.org/w/index.php?title=&#1575;&#1604;&#1575;&#1606;&#1587;&#1581;&#1575;&#1576;&amp;action=edit&amp;redlink=1" TargetMode="External"/><Relationship Id="rId3" Type="http://schemas.openxmlformats.org/officeDocument/2006/relationships/hyperlink" Target="http://ar.wikipedia.org/wiki/&#1571;&#1581;&#1604;&#1575;&#1605;_&#1575;&#1604;&#1610;&#1602;&#1592;&#1577;" TargetMode="External"/><Relationship Id="rId4" Type="http://schemas.openxmlformats.org/officeDocument/2006/relationships/hyperlink" Target="http://ar.wikipedia.org/wiki/&#1575;&#1604;&#1571;&#1581;&#1604;&#1575;&#1605;" TargetMode="External"/><Relationship Id="rId5" Type="http://schemas.openxmlformats.org/officeDocument/2006/relationships/hyperlink" Target="http://ar.wikipedia.org/w/index.php?title=&#1575;&#1604;&#1578;&#1581;&#1608;&#1610;&#1604;&amp;action=edit&amp;redlink=1" TargetMode="External"/><Relationship Id="rId6" Type="http://schemas.openxmlformats.org/officeDocument/2006/relationships/hyperlink" Target="http://ar.wikipedia.org/wiki/&#1575;&#1604;&#1578;&#1576;&#1585;&#1610;&#1585;" TargetMode="External"/><Relationship Id="rId7" Type="http://schemas.openxmlformats.org/officeDocument/2006/relationships/hyperlink" Target="http://ar.wikipedia.org/w/index.php?title=&#1575;&#1604;&#1573;&#1606;&#1603;&#1575;&#1585;&amp;action=edit&amp;redlink=1" TargetMode="External"/><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ar.wikipedia.org/wiki/&#1575;&#1604;&#1573;&#1587;&#1602;&#1575;&#1591;" TargetMode="External"/><Relationship Id="rId2" Type="http://schemas.openxmlformats.org/officeDocument/2006/relationships/hyperlink" Target="http://ar.wikipedia.org/wiki/&#1575;&#1604;&#1606;&#1603;&#1608;&#1589;" TargetMode="External"/><Relationship Id="rId3" Type="http://schemas.openxmlformats.org/officeDocument/2006/relationships/hyperlink" Target="http://ar.wikipedia.org/w/index.php?title=&#1575;&#1604;&#1578;&#1579;&#1576;&#1610;&#1578;&amp;action=edit&amp;redlink=1" TargetMode="External"/><Relationship Id="rId4" Type="http://schemas.openxmlformats.org/officeDocument/2006/relationships/hyperlink" Target="http://ar.wikipedia.org/wiki/&#1575;&#1604;&#1578;&#1601;&#1603;&#1610;&#1603;" TargetMode="External"/><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42600" y="1071360"/>
            <a:ext cx="7815240" cy="2493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ar-SA" sz="5400" spc="-1" strike="noStrike">
                <a:solidFill>
                  <a:srgbClr val="feec94"/>
                </a:solidFill>
                <a:latin typeface="Times New Roman"/>
              </a:rPr>
              <a:t>المحاضرة الثانية </a:t>
            </a:r>
            <a:br>
              <a:rPr sz="5400"/>
            </a:br>
            <a:r>
              <a:rPr b="0" lang="ar-SA" sz="5400" spc="-1" strike="noStrike">
                <a:solidFill>
                  <a:srgbClr val="feec94"/>
                </a:solidFill>
                <a:latin typeface="Times New Roman"/>
              </a:rPr>
              <a:t>أهمية الاسلمة</a:t>
            </a:r>
            <a:br>
              <a:rPr sz="5400"/>
            </a:br>
            <a:endParaRPr b="1" lang="en-US" sz="5400" spc="-1" strike="noStrike">
              <a:solidFill>
                <a:srgbClr val="feec94"/>
              </a:solidFill>
              <a:latin typeface="Times New Roman"/>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جب على أساتذتنا أن يوضحوا لطلابهم أن فرويد و روجرز و واطسون وغيرهم من أصحاب المنهاج والمدارس النفسية لم يدخلوا مختبرات تجريبية قاموا فيها بشتى التجارب العلمية ليخرجوا لنا باكتشافات محددة عن طبيعة الإنسان فيما يقدمونه لنا في هذا الموضوع لا يعدو أن يكون من بنات أفكارهم ومن تأثير حضارتهم وحتى من تأثير حياتهم الشخصية وتربية آبائهم لهم ومن مشاكلهم النفسية مثلاً.</a:t>
            </a:r>
            <a:endParaRPr b="0" lang="en-US" sz="3200" spc="-1" strike="noStrike">
              <a:solidFill>
                <a:srgbClr val="ffffff"/>
              </a:solidFill>
              <a:latin typeface="Times New Roman"/>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476280"/>
            <a:ext cx="8229600" cy="5649840"/>
          </a:xfrm>
          <a:prstGeom prst="rect">
            <a:avLst/>
          </a:prstGeom>
          <a:noFill/>
          <a:ln w="0">
            <a:noFill/>
          </a:ln>
        </p:spPr>
        <p:txBody>
          <a:bodyPr anchor="t">
            <a:normAutofit fontScale="93000"/>
          </a:bodyPr>
          <a:p>
            <a:pPr marL="318960" indent="-3189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كما أن الأخصائيون في ميدان الإرشاد النفسي والتوجيه يركزون على نظريات وفكر </a:t>
            </a:r>
            <a:r>
              <a:rPr b="1" lang="en-US" sz="3200" spc="-1" strike="noStrike">
                <a:solidFill>
                  <a:srgbClr val="ffffff"/>
                </a:solidFill>
                <a:latin typeface="Times New Roman"/>
              </a:rPr>
              <a:t>(</a:t>
            </a:r>
            <a:r>
              <a:rPr b="1" lang="en-US" sz="3200" spc="-1" strike="noStrike">
                <a:solidFill>
                  <a:srgbClr val="ffffff"/>
                </a:solidFill>
                <a:latin typeface="Times New Roman"/>
              </a:rPr>
              <a:t>Carl Rogers</a:t>
            </a:r>
            <a:r>
              <a:rPr b="1" lang="en-US" sz="3200" spc="-1" strike="noStrike">
                <a:solidFill>
                  <a:srgbClr val="ffffff"/>
                </a:solidFill>
                <a:latin typeface="Times New Roman"/>
              </a:rPr>
              <a:t>)</a:t>
            </a:r>
            <a:r>
              <a:rPr b="1" lang="ar-SA" sz="3200" spc="-1" strike="noStrike">
                <a:solidFill>
                  <a:srgbClr val="ffffff"/>
                </a:solidFill>
                <a:latin typeface="Times New Roman"/>
              </a:rPr>
              <a:t> العلماني ومن شايعه في تشجيع عملائهم على تحقيق تطلعاتهم (تحقيق الذات) دون ذكر الجوانب الروحية والدينية أو الأخلاقية والاستفادة منها, هذا لأن مؤسس هذه المدرسة العلاجية قد بناها على هدي الفلسفة الوجودية والإنسانية العلمانية وكلا الفلسفتين تدعوان إلى حرية الفرد المطلقة ولتشجيع جهده للوصول إلى معنى لحياته أو لتحقيق ذاته بدون قيود أخلاقية موروثة أو وازع ديني.</a:t>
            </a:r>
            <a:r>
              <a:rPr b="0" lang="ar-SA"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بل أنهم قد حرموا على المعالج النفسي الحديث عن الدين والتدين مع عملائه فتبعهم في ذلك أساتذة المرشدين النفسيين المسلمين. فكنا نسمع من أساتذتنا تأكيدهم المتكرر لنا بأن الإرشاد النفسي أسلوب حيادي.</a:t>
            </a:r>
            <a:endParaRPr b="0" lang="en-US" sz="3200" spc="-1" strike="noStrike">
              <a:solidFill>
                <a:srgbClr val="ffffff"/>
              </a:solidFill>
              <a:latin typeface="Times New Roman"/>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836640"/>
            <a:ext cx="8229600" cy="5294160"/>
          </a:xfrm>
          <a:prstGeom prst="rect">
            <a:avLst/>
          </a:prstGeom>
          <a:noFill/>
          <a:ln w="0">
            <a:noFill/>
          </a:ln>
        </p:spPr>
        <p:txBody>
          <a:bodyPr anchor="t">
            <a:normAutofit fontScale="93000"/>
          </a:bodyPr>
          <a:p>
            <a:pPr marL="318960" indent="-3189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كذلك يجب على واضعي المقررات الجامعية أن ينبهوا الطلاب على الخلفية الفلسفية للمدرسة السلوكية التي بنت فكرها على فلسفة البريطانيين الإمبيريقيين التي ترجع جذورها إلى الفيلسوف الإغريقي أرسطو. هذه الفلسفة التي ازدهرت في القرن السابع عشر والثامن عشر والتي كان الفيلسوف </a:t>
            </a:r>
            <a:r>
              <a:rPr b="1" lang="en-US" sz="3200" spc="-1" strike="noStrike">
                <a:solidFill>
                  <a:srgbClr val="ffffff"/>
                </a:solidFill>
                <a:latin typeface="Times New Roman"/>
              </a:rPr>
              <a:t>(</a:t>
            </a:r>
            <a:r>
              <a:rPr b="1" lang="en-US" sz="3200" spc="-1" strike="noStrike">
                <a:solidFill>
                  <a:srgbClr val="ffffff"/>
                </a:solidFill>
                <a:latin typeface="Times New Roman"/>
              </a:rPr>
              <a:t>John Locke</a:t>
            </a:r>
            <a:r>
              <a:rPr b="1" lang="en-US" sz="3200" spc="-1" strike="noStrike">
                <a:solidFill>
                  <a:srgbClr val="ffffff"/>
                </a:solidFill>
                <a:latin typeface="Times New Roman"/>
              </a:rPr>
              <a:t>)</a:t>
            </a:r>
            <a:r>
              <a:rPr b="1" lang="ar-SA" sz="3200" spc="-1" strike="noStrike">
                <a:solidFill>
                  <a:srgbClr val="ffffff"/>
                </a:solidFill>
                <a:latin typeface="Times New Roman"/>
              </a:rPr>
              <a:t> من أهم مؤسسيها تؤمن بأنه ليس للإنسان طبيعة موروثة فهو يولد مثل اللوح الأبيض والبيئة هي التي تسطر ما يحلوا لها من خبرات.</a:t>
            </a:r>
            <a:endParaRPr b="0" lang="en-US" sz="3200" spc="-1" strike="noStrike">
              <a:solidFill>
                <a:srgbClr val="ffffff"/>
              </a:solidFill>
              <a:latin typeface="Times New Roman"/>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692280"/>
            <a:ext cx="8229600" cy="5433840"/>
          </a:xfrm>
          <a:prstGeom prst="rect">
            <a:avLst/>
          </a:prstGeom>
          <a:noFill/>
          <a:ln w="0">
            <a:noFill/>
          </a:ln>
        </p:spPr>
        <p:txBody>
          <a:bodyPr anchor="t">
            <a:normAutofit fontScale="95000"/>
          </a:bodyPr>
          <a:p>
            <a:pPr marL="325800" indent="-32580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فبعد أن كان المرضى يقضون السني الطوال في علاج خوفهم المرضي من الحشرات أو ركوب الطائرات أو عجزهم الجنسي بالتحليل النفسي الذي ظل يوهمهم بأن الأسباب الحقيقة لأمراضهم تقبع في ظلمات لا شعورهم وأنه لا سبيل لعلاجهم إلا باستخراج عقدهم بمساعدة المحلل من اللاشعور إلى الوعي, تمكن هؤلاء من التخلص من أعراضهم بعد أسابيع قليلة من العلاج السلوكي الذي يعتمد على التعلم الشرطي البافلوفي والإسكنيري.</a:t>
            </a:r>
            <a:endParaRPr b="0" lang="en-US" sz="3200" spc="-1" strike="noStrike">
              <a:solidFill>
                <a:srgbClr val="ffffff"/>
              </a:solidFill>
              <a:latin typeface="Times New Roman"/>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eec94"/>
                </a:solidFill>
                <a:uFillTx/>
                <a:latin typeface="Times New Roman"/>
              </a:rPr>
              <a:t>العنصر الثاني:</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fontScale="81000"/>
          </a:bodyPr>
          <a:p>
            <a:pPr marL="277560" indent="-2775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أسلمة علم النفس لإظهار الإعجاز في خلق الله تعالى للإنسان من النواحي الجسمية والنفسية والروحية ويكون ذلك دعوة الطلاب ليتفكروا في خلق الله فيزدادوا إيماناً.</a:t>
            </a:r>
            <a:endParaRPr b="0" lang="en-US" sz="3200" spc="-1" strike="noStrike">
              <a:solidFill>
                <a:srgbClr val="ffffff"/>
              </a:solidFill>
              <a:latin typeface="Times New Roman"/>
            </a:endParaRPr>
          </a:p>
          <a:p>
            <a:pPr marL="277560" indent="-2775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هذا الجانب من الأسلمة هو أبركها لأنه يهدف إلى تقوية إيمان الطلبة بالله تعالى وإبراز الحكمة الإلهية في شرع العبادة وإتباع تعاليم الدين الحنيف, ولعل أوضح الأمور هو تحريم لجميع أشكال الممارسات التي يشكوا منها الغرب والشرق والتي فشلت كل المحاولات للقضاء عليها, فالإسلام قد حرم  تناول المسكرات والمخدرات والزنا واللواط والربا</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قول الأمريكيين بأن الأضرار التي تحدثها الخمر فاقت تلك التي تأتي من جميع المخدرات مجتمعة وأما الزنا واللواط فيكفي ما سببه من وباء الإيدز الذي حصد الملايين من البشر, وأما الربا فيكفي ما أحدثه الآن من انهيار البنوك والإفلاس الجماعي للشركات والانكماش الاقتصادي لدول الغرب.</a:t>
            </a:r>
            <a:endParaRPr b="0" lang="en-US" sz="3200" spc="-1" strike="noStrike">
              <a:solidFill>
                <a:srgbClr val="ffffff"/>
              </a:solidFill>
              <a:latin typeface="Times New Roman"/>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549000"/>
            <a:ext cx="8229600" cy="5576760"/>
          </a:xfrm>
          <a:prstGeom prst="rect">
            <a:avLst/>
          </a:prstGeom>
          <a:noFill/>
          <a:ln w="0">
            <a:noFill/>
          </a:ln>
        </p:spPr>
        <p:txBody>
          <a:bodyPr anchor="t">
            <a:normAutofit fontScale="92000"/>
          </a:bodyPr>
          <a:p>
            <a:pPr marL="315360" indent="-3153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فيجب على أستاذ علم النفس أن يحاضر طلابه عن هذه التصورات الإيجابية في علم النفس ولا يكتفي بالمقررات الكلاسيكية, بل يجب عليه ألا يفوت أي فرشة لشحذ همم الطلاب للتفكر في خلق الله فيزدادوا إيماناً مع أيمانهم. ولا تقتصر هذه الأسلمة على فروع علم النفس الاجتماعية فحسب بل حتى على تلك التي تدعمهاٍ البحوث العلمية التجريبية أنقل للقاريْ فيما يلي نبذة من بحث لم أكمله بعد عن هذا الأسلوب في أسلمة علم النفس الفسيولوجي والعصبي وبشكل خاص عن دماغ الإنسان.</a:t>
            </a:r>
            <a:endParaRPr b="0" lang="en-US" sz="3200" spc="-1" strike="noStrike">
              <a:solidFill>
                <a:srgbClr val="ffffff"/>
              </a:solidFill>
              <a:latin typeface="Times New Roman"/>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692280"/>
            <a:ext cx="8229600" cy="5433840"/>
          </a:xfrm>
          <a:prstGeom prst="rect">
            <a:avLst/>
          </a:prstGeom>
          <a:noFill/>
          <a:ln w="0">
            <a:noFill/>
          </a:ln>
        </p:spPr>
        <p:txBody>
          <a:bodyPr anchor="t">
            <a:normAutofit fontScale="92000"/>
          </a:bodyPr>
          <a:p>
            <a:pPr marL="315360" indent="-3153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ما يدعوا إلى التفكير حقاً هذا الإعجاز المحير في خلق الله لدماغ الإنسان إذ يقول علماء تشريح الجهاز العصبي ووظائفه أن أكثر الأشياء غموضاً في كون الله الواسع ليس هو بكوكب أو نجم يبعد عنا بآلاف السنين الضوئية ولا تلك الفيروسات التي فشل العلم في شفاء المرضى منها ولكن أكثر المخلوقات غموضاً وتعقيداً في الكون هو هذا الكائن الصغير الذي لا يزيد وزنه على الثلاثة أرطال والذي يحمله كل منا في مكان حصين داخل جمجمته ورغم صغر حجمه</a:t>
            </a:r>
            <a:r>
              <a:rPr b="0" lang="ar-SA"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549000"/>
            <a:ext cx="8229600" cy="5576760"/>
          </a:xfrm>
          <a:prstGeom prst="rect">
            <a:avLst/>
          </a:prstGeom>
          <a:noFill/>
          <a:ln w="0">
            <a:noFill/>
          </a:ln>
        </p:spPr>
        <p:txBody>
          <a:bodyPr anchor="t">
            <a:normAutofit fontScale="90000"/>
          </a:bodyPr>
          <a:p>
            <a:pPr marL="308520" indent="-30852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فإنه يقوم بالإشراف والتنفيذ لكل نشاطات الإنسان العضوية والنفسية والاجتماعية والروحية ومن تنظيم لحركة الجسم وإدراك بالسمع والبصر.</a:t>
            </a:r>
            <a:endParaRPr b="0" lang="en-US" sz="3200" spc="-1" strike="noStrike">
              <a:solidFill>
                <a:srgbClr val="ffffff"/>
              </a:solidFill>
              <a:latin typeface="Times New Roman"/>
            </a:endParaRPr>
          </a:p>
          <a:p>
            <a:pPr marL="308520" indent="-30852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هذه الملايين بل البلايين من الإشارات والنبضات العصبية التي يتلقاها الدماغ من مختلف أعضاء الجسم ومن الحواس ومن البيئة المحيطة بالإنسان ومن داخل مخيلته ومن ذاكرته يقوم الدماغ المعجز بفهم مقصودها وينظمها ويصدر أمره النافذ بالتعليمات التي تحفظ للجسم صحته وتوازنه البيوكميائي بالتحكم علة أجهزته المختلفة.</a:t>
            </a:r>
            <a:endParaRPr b="0" lang="en-US" sz="3200" spc="-1" strike="noStrike">
              <a:solidFill>
                <a:srgbClr val="ffffff"/>
              </a:solidFill>
              <a:latin typeface="Times New Roman"/>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ما هي أهمية الأسلمة؟</a:t>
            </a:r>
            <a:endParaRPr b="0" lang="en-US" sz="3200" spc="-1" strike="noStrike">
              <a:solidFill>
                <a:srgbClr val="ffffff"/>
              </a:solidFill>
              <a:latin typeface="Times New Roman"/>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أولاً:</a:t>
            </a:r>
            <a:r>
              <a:rPr b="1" lang="ar-SA" sz="3200" spc="-1" strike="noStrike">
                <a:solidFill>
                  <a:srgbClr val="ffffff"/>
                </a:solidFill>
                <a:latin typeface="Times New Roman"/>
              </a:rPr>
              <a:t> الأسلمة لكشف الجوانب العلمانية في علم النفس الغربي وتصوراتها "الكفرية" لطبيعة الإنسان التي لا يسندها العلم التجريبي الحديث.</a:t>
            </a:r>
            <a:endParaRPr b="0" lang="en-US" sz="3200" spc="-1" strike="noStrike">
              <a:solidFill>
                <a:srgbClr val="ffffff"/>
              </a:solidFill>
              <a:latin typeface="Times New Roman"/>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ثانياً:</a:t>
            </a:r>
            <a:r>
              <a:rPr b="1" lang="ar-SA" sz="3200" spc="-1" strike="noStrike">
                <a:solidFill>
                  <a:srgbClr val="ffffff"/>
                </a:solidFill>
                <a:latin typeface="Times New Roman"/>
              </a:rPr>
              <a:t> أسلمة علم النفس لإظهار الإعجاز في خلق الله تعالى للإنسان من النواحي الجسمية والنفسية والروحية. ويكون ذلك دعوة للطلاب ليتفكروا في خلق الله فيزدادوا إيماناً.</a:t>
            </a:r>
            <a:endParaRPr b="0" lang="en-US" sz="3200" spc="-1" strike="noStrike">
              <a:solidFill>
                <a:srgbClr val="ffffff"/>
              </a:solidFill>
              <a:latin typeface="Times New Roman"/>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eec94"/>
                </a:solidFill>
                <a:uFillTx/>
                <a:latin typeface="Times New Roman"/>
              </a:rPr>
              <a:t>العنصر الثالث:</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أسلمة لإثبات حقيقة أنه من دون تأصيل إسلامي قد تصبح أغلب ممارسات علم النفس الغربي التطبيقي قليلة الفائدة, بل وفي بعض الأحيان عديمة الفائدة, أو حتى قد تحدث بعض الأضرار على العلماء المسلمين اللاجئين للمتخصصين النفسانيين للعلاج أو الاستشارات.</a:t>
            </a:r>
            <a:endParaRPr b="0" lang="en-US" sz="3200" spc="-1" strike="noStrike">
              <a:solidFill>
                <a:srgbClr val="ffffff"/>
              </a:solidFill>
              <a:latin typeface="Times New Roman"/>
            </a:endParaRPr>
          </a:p>
          <a:p>
            <a:pPr marL="305280" indent="-3052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قد لا نحتاج إلى كثير حديث عن هذا العنصر فلي في ذلك خبرات امتدت لأكثر من أربعين سنة تحتاج إلى عدة كتب إن أردت أن أدونها.</a:t>
            </a:r>
            <a:endParaRPr b="0" lang="en-US" sz="3200" spc="-1" strike="noStrike">
              <a:solidFill>
                <a:srgbClr val="ffffff"/>
              </a:solidFill>
              <a:latin typeface="Times New Roman"/>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620280"/>
            <a:ext cx="8229600" cy="5505480"/>
          </a:xfrm>
          <a:prstGeom prst="rect">
            <a:avLst/>
          </a:prstGeom>
          <a:noFill/>
          <a:ln w="0">
            <a:noFill/>
          </a:ln>
        </p:spPr>
        <p:txBody>
          <a:bodyPr anchor="t">
            <a:normAutofit fontScale="91000"/>
          </a:bodyPr>
          <a:p>
            <a:pPr marL="312120" indent="-31212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من الأدلة على ضرر التحليل النفسي حتى في الغرب الأوربي ما سجلته الطبيبة النفسية البريطانية </a:t>
            </a:r>
            <a:r>
              <a:rPr b="1" lang="en-US" sz="3200" spc="-1" strike="noStrike">
                <a:solidFill>
                  <a:srgbClr val="ffffff"/>
                </a:solidFill>
                <a:latin typeface="Times New Roman"/>
              </a:rPr>
              <a:t>(</a:t>
            </a:r>
            <a:r>
              <a:rPr b="1" lang="en-US" sz="3200" spc="-1" strike="noStrike">
                <a:solidFill>
                  <a:srgbClr val="ffffff"/>
                </a:solidFill>
                <a:latin typeface="Times New Roman"/>
              </a:rPr>
              <a:t>Melitta Schmiderberg</a:t>
            </a:r>
            <a:r>
              <a:rPr b="1" lang="en-US" sz="3200" spc="-1" strike="noStrike">
                <a:solidFill>
                  <a:srgbClr val="ffffff"/>
                </a:solidFill>
                <a:latin typeface="Times New Roman"/>
              </a:rPr>
              <a:t>)</a:t>
            </a:r>
            <a:r>
              <a:rPr b="1" lang="ar-SA" sz="3200" spc="-1" strike="noStrike">
                <a:solidFill>
                  <a:srgbClr val="ffffff"/>
                </a:solidFill>
                <a:latin typeface="Times New Roman"/>
              </a:rPr>
              <a:t> في بحثها المنشور في دورية الطب النفسي البريطانية بعنوان (العلاج النفسي للمرضى للذين تضرروا من التحليل النفسي) (</a:t>
            </a:r>
            <a:r>
              <a:rPr b="1" lang="ar-SA" sz="3200" spc="-1" strike="noStrike">
                <a:solidFill>
                  <a:srgbClr val="ffffff"/>
                </a:solidFill>
                <a:latin typeface="Times New Roman"/>
              </a:rPr>
              <a:t>1970</a:t>
            </a:r>
            <a:r>
              <a:rPr b="1" lang="ar-SA" sz="3200" spc="-1" strike="noStrike">
                <a:solidFill>
                  <a:srgbClr val="ffffff"/>
                </a:solidFill>
                <a:latin typeface="Times New Roman"/>
              </a:rPr>
              <a:t>) وقد نشرت هذا البحث بعد أن اقتنعت بعد سنوات طوال تمارس التحليل النفسي في بريطانيا أن مرضى كثيرين قد ساءت أحوالهم بعد تلقيهم العلاج التحليلي فقامت بعلاجهم من العلاج التحليلي واستقالت من جمعية المحللين النفسيين البريطانية.</a:t>
            </a:r>
            <a:endParaRPr b="0" lang="en-US" sz="3200" spc="-1" strike="noStrike">
              <a:solidFill>
                <a:srgbClr val="ffffff"/>
              </a:solidFill>
              <a:latin typeface="Times New Roman"/>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ذكرت في بحثها أن المرضى قد تتحسن أحوالهم بعد الجلسات الأولية ولكن ما أن يقوم المحلل النفسي بتفسيراته الجنسية عن عقيدتهم الأوديبية أو كراهيتهم لآبائهم حتى تبدأ صحتهم النفسية في الانحدار الشديد.</a:t>
            </a:r>
            <a:endParaRPr b="0" lang="en-US" sz="3200" spc="-1" strike="noStrike">
              <a:solidFill>
                <a:srgbClr val="ffffff"/>
              </a:solidFill>
              <a:latin typeface="Times New Roman"/>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في المقابل كان بعض التحليلين في بلادنا يحلل لبعض مرضاه ما كان حراماً في الدين بقصد علاجهم من شعورهم بالذنب .</a:t>
            </a:r>
            <a:endParaRPr b="0" lang="en-US" sz="3200" spc="-1" strike="noStrike">
              <a:solidFill>
                <a:srgbClr val="ffffff"/>
              </a:solidFill>
              <a:latin typeface="Times New Roman"/>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هناك أساليب في العلاج النفسي أقل ضرراً على العملاء المسلمين لكنها قليلة الفائدة بل في بعض الأحيان قد تكون معدومة الفائدة. مثلاً الإرشاد النفسي غير المباشر الذي يركز على نشاط العميل بقصد اكتشافه لتحقيق ذاته دون المساس بعقيدته وفكره وأخلاقه حتى لو اعترف بعمل أشياء لا يقرها دين ولا حضارة أخلاقية.</a:t>
            </a:r>
            <a:endParaRPr b="0" lang="en-US" sz="3200" spc="-1" strike="noStrike">
              <a:solidFill>
                <a:srgbClr val="ffffff"/>
              </a:solidFill>
              <a:latin typeface="Times New Roman"/>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eec94"/>
                </a:solidFill>
                <a:uFillTx/>
                <a:latin typeface="Times New Roman"/>
              </a:rPr>
              <a:t>العنصر الرابع:</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fontScale="82000"/>
          </a:bodyPr>
          <a:p>
            <a:pPr marL="281160" indent="-2811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أسلمة بإعادة كتابة تاريخ علم النفس من منظور إسلامي:</a:t>
            </a:r>
            <a:endParaRPr b="0" lang="en-US" sz="3200" spc="-1" strike="noStrike">
              <a:solidFill>
                <a:srgbClr val="ffffff"/>
              </a:solidFill>
              <a:latin typeface="Times New Roman"/>
            </a:endParaRPr>
          </a:p>
          <a:p>
            <a:pPr marL="281160" indent="-2811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كثيراً ما يتهكم بعض متخصصينا النفسانيين على الباحثين في إسهامات الأطباء والعلماء الأقدمين في ميدان علم النفس ووصولهم إلى ذات الممارسات المعرفية التي وصل إليها علم النفس الحديث بعد تيه زاد على السبعين أو الثمانين عاماً قضاها في تحليل الشعور ودراسته بالاستبطان ثم في التحليل النفسي الفرويدي وما شابهه من مناهج ثم السلوكية المتطرفة حتى رسى أخيراً على شاطئ علم النفس المعرفي.</a:t>
            </a:r>
            <a:endParaRPr b="0" lang="en-US" sz="3200" spc="-1" strike="noStrike">
              <a:solidFill>
                <a:srgbClr val="ffffff"/>
              </a:solidFill>
              <a:latin typeface="Times New Roman"/>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ar-SA" sz="3200" spc="-1" strike="noStrike">
                <a:solidFill>
                  <a:srgbClr val="ffffff"/>
                </a:solidFill>
                <a:latin typeface="Times New Roman"/>
              </a:rPr>
              <a:t>إن مؤرخي علم النفس الغربي عن قصد أو دون قصد تتجاهل كل إسهامات علمائنا وأطبائنا المسلمين من أمثال الغزالي وأبن سينا والرازي والبلخي والمحاسبي وغيرهم من العباقرة. فتاريخ علم النفس والعلوم التجريبية الأخرى في كتبهم يبدأ بفلاسفة الإغريق القدامى وأطبائهم ثم يقفزون عدة قرون إلى حضارتهم المعاصرة وكأن الحضارة الإسلامية في القرون الوسطى كانت في كوكب القمر.</a:t>
            </a:r>
            <a:endParaRPr b="0" lang="en-US" sz="3200" spc="-1" strike="noStrike">
              <a:solidFill>
                <a:srgbClr val="ffffff"/>
              </a:solidFill>
              <a:latin typeface="Times New Roman"/>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لذلك أهملت إسهامات علمائنا القدامى وادعوا لأنفسهم ما سرقوه من هذه الإسهامات ثم جاء طلابنا في هذا العصر ليدرسوا تاريخ علمهم ممن اجتثوا صلتهم بآبائهم.</a:t>
            </a:r>
            <a:r>
              <a:rPr b="0" lang="ar-SA"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eec94"/>
                </a:solidFill>
                <a:latin typeface="Times New Roman"/>
              </a:rPr>
              <a:t>إضافة </a:t>
            </a:r>
            <a:endParaRPr b="1" lang="en-US" sz="4400" spc="-1" strike="noStrike">
              <a:solidFill>
                <a:srgbClr val="feec94"/>
              </a:solidFill>
              <a:latin typeface="Times New Roman"/>
            </a:endParaRPr>
          </a:p>
        </p:txBody>
      </p:sp>
      <p:sp>
        <p:nvSpPr>
          <p:cNvPr id="150" name=""/>
          <p:cNvSpPr txBox="1"/>
          <p:nvPr/>
        </p:nvSpPr>
        <p:spPr>
          <a:xfrm>
            <a:off x="457200" y="1599840"/>
            <a:ext cx="8229600" cy="4530600"/>
          </a:xfrm>
          <a:prstGeom prst="rect">
            <a:avLst/>
          </a:prstGeom>
          <a:noFill/>
          <a:ln w="0">
            <a:noFill/>
          </a:ln>
        </p:spPr>
        <p:txBody>
          <a:bodyPr anchor="t">
            <a:normAutofit fontScale="80000"/>
          </a:bodyPr>
          <a:p>
            <a:pPr marL="274320" indent="-2743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من ويكيبيديا، الموسوعة الحرة</a:t>
            </a:r>
            <a:endParaRPr b="0" lang="en-US" sz="3200" spc="-1" strike="noStrike">
              <a:solidFill>
                <a:srgbClr val="ffffff"/>
              </a:solidFill>
              <a:latin typeface="Times New Roman"/>
            </a:endParaRPr>
          </a:p>
          <a:p>
            <a:pPr marL="274320" indent="-2743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endParaRPr b="0" lang="en-US" sz="3200" spc="-1" strike="noStrike">
              <a:solidFill>
                <a:srgbClr val="ffffff"/>
              </a:solidFill>
              <a:latin typeface="Times New Roman"/>
            </a:endParaRPr>
          </a:p>
          <a:p>
            <a:pPr marL="274320" indent="-2743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حيل النفسية أو الدفاعات النفسية يلجأ الأنسان اليها إذا لم يوفق في حل مشاكله أو للتقليل من الصراعات في داخله وأيضا لحماية ذاته من التهديدأو لعدم إرضاء دوافعة بطريقة سوية واقعية لاسباب كثيرة كأن تكون المشكلة فوق احتمالة أو تكون نتيجة </a:t>
            </a:r>
            <a:r>
              <a:rPr b="0" lang="ar-SA" sz="3200" spc="-1" strike="noStrike" u="sng">
                <a:solidFill>
                  <a:srgbClr val="ffffcc"/>
                </a:solidFill>
                <a:uFillTx/>
                <a:latin typeface="Times New Roman"/>
                <a:hlinkClick r:id="rId1"/>
              </a:rPr>
              <a:t>دوافع</a:t>
            </a:r>
            <a:r>
              <a:rPr b="0" lang="ar-SA" sz="3200" spc="-1" strike="noStrike">
                <a:solidFill>
                  <a:srgbClr val="ffffff"/>
                </a:solidFill>
                <a:latin typeface="Times New Roman"/>
              </a:rPr>
              <a:t> لاشعورية لا يعرف مصدرها, أو تكون ناتجة عن ضعف أو قصور في تكوينة النفسى</a:t>
            </a:r>
            <a:endParaRPr b="0" lang="en-US" sz="3200" spc="-1" strike="noStrike">
              <a:solidFill>
                <a:srgbClr val="ffffff"/>
              </a:solidFill>
              <a:latin typeface="Times New Roman"/>
            </a:endParaRPr>
          </a:p>
          <a:p>
            <a:pPr marL="274320" indent="-2743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2"/>
              </a:rPr>
              <a:t>الاحتواء</a:t>
            </a:r>
            <a:r>
              <a:rPr b="0" lang="ar-SA" sz="3200" spc="-1" strike="noStrike">
                <a:solidFill>
                  <a:srgbClr val="ffffff"/>
                </a:solidFill>
                <a:latin typeface="Times New Roman"/>
              </a:rPr>
              <a:t> (الاستدماج): هو امتصاص الفرد في داخله قيم الآخرين.</a:t>
            </a:r>
            <a:endParaRPr b="0" lang="en-US" sz="3200" spc="-1" strike="noStrike">
              <a:solidFill>
                <a:srgbClr val="ffffff"/>
              </a:solidFill>
              <a:latin typeface="Times New Roman"/>
            </a:endParaRPr>
          </a:p>
          <a:p>
            <a:pPr marL="274320" indent="-2743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2" name=""/>
          <p:cNvSpPr txBox="1"/>
          <p:nvPr/>
        </p:nvSpPr>
        <p:spPr>
          <a:xfrm>
            <a:off x="457200" y="1599840"/>
            <a:ext cx="8229600" cy="4530600"/>
          </a:xfrm>
          <a:prstGeom prst="rect">
            <a:avLst/>
          </a:prstGeom>
          <a:noFill/>
          <a:ln w="0">
            <a:noFill/>
          </a:ln>
        </p:spPr>
        <p:txBody>
          <a:bodyPr anchor="t">
            <a:normAutofit fontScale="69000"/>
          </a:bodyPr>
          <a:p>
            <a:pPr marL="236520" indent="-236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1"/>
              </a:rPr>
              <a:t>التقدير المثالي</a:t>
            </a:r>
            <a:r>
              <a:rPr b="0" lang="ar-SA" sz="3200" spc="-1" strike="noStrike">
                <a:solidFill>
                  <a:srgbClr val="ffffff"/>
                </a:solidFill>
                <a:latin typeface="Times New Roman"/>
              </a:rPr>
              <a:t>: المبالغة في التقدير ورفع الشأن بما يعمي الفرد عن حقيقة الشيء ويحرمه من الموضوعية.</a:t>
            </a:r>
            <a:endParaRPr b="0" lang="en-US" sz="3200" spc="-1" strike="noStrike">
              <a:solidFill>
                <a:srgbClr val="ffffff"/>
              </a:solidFill>
              <a:latin typeface="Times New Roman"/>
            </a:endParaRPr>
          </a:p>
          <a:p>
            <a:pPr marL="236520" indent="-236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2"/>
              </a:rPr>
              <a:t>التثبيط</a:t>
            </a:r>
            <a:endParaRPr b="0" lang="en-US" sz="3200" spc="-1" strike="noStrike">
              <a:solidFill>
                <a:srgbClr val="ffffff"/>
              </a:solidFill>
              <a:latin typeface="Times New Roman"/>
            </a:endParaRPr>
          </a:p>
          <a:p>
            <a:pPr marL="236520" indent="-236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تخيل: اللجوء إلى عالم الخيال.</a:t>
            </a:r>
            <a:endParaRPr b="0" lang="en-US" sz="3200" spc="-1" strike="noStrike">
              <a:solidFill>
                <a:srgbClr val="ffffff"/>
              </a:solidFill>
              <a:latin typeface="Times New Roman"/>
            </a:endParaRPr>
          </a:p>
          <a:p>
            <a:pPr marL="236520" indent="-236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استبطان: عملية أشبه ما تكون بعملية التحليل النفسي إلا أنه يجريها الفرد على نفسه بنفسه.</a:t>
            </a:r>
            <a:endParaRPr b="0" lang="en-US" sz="3200" spc="-1" strike="noStrike">
              <a:solidFill>
                <a:srgbClr val="ffffff"/>
              </a:solidFill>
              <a:latin typeface="Times New Roman"/>
            </a:endParaRPr>
          </a:p>
          <a:p>
            <a:pPr marL="236520" indent="-236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إلغاء (الإبطال/ المحو): قيام الفرد بسلوك معاكس لما ارتكبه مسبقا.</a:t>
            </a:r>
            <a:endParaRPr b="0" lang="en-US" sz="3200" spc="-1" strike="noStrike">
              <a:solidFill>
                <a:srgbClr val="ffffff"/>
              </a:solidFill>
              <a:latin typeface="Times New Roman"/>
            </a:endParaRPr>
          </a:p>
          <a:p>
            <a:pPr marL="236520" indent="-236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قمع: عملية إشباع الدافع أو التعبير عنه إلى أن تتهيأ الظروف المناسبة لهذا الإشباع.</a:t>
            </a:r>
            <a:endParaRPr b="0" lang="en-US" sz="3200" spc="-1" strike="noStrike">
              <a:solidFill>
                <a:srgbClr val="ffffff"/>
              </a:solidFill>
              <a:latin typeface="Times New Roman"/>
            </a:endParaRPr>
          </a:p>
          <a:p>
            <a:pPr marL="236520" indent="-236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تعويض المتطرف: التعويض عن نواحي الضعف أو النقائص مع تجاوز حدود الملاءمة والجنوح إلى ناحيى الشذوذ الملحوظ</a:t>
            </a:r>
            <a:endParaRPr b="0" lang="en-US" sz="3200" spc="-1" strike="noStrike">
              <a:solidFill>
                <a:srgbClr val="ffffff"/>
              </a:solidFill>
              <a:latin typeface="Times New Roman"/>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4" name=""/>
          <p:cNvSpPr txBox="1"/>
          <p:nvPr/>
        </p:nvSpPr>
        <p:spPr>
          <a:xfrm>
            <a:off x="457200" y="1599840"/>
            <a:ext cx="8229600" cy="4530600"/>
          </a:xfrm>
          <a:prstGeom prst="rect">
            <a:avLst/>
          </a:prstGeom>
          <a:noFill/>
          <a:ln w="0">
            <a:noFill/>
          </a:ln>
        </p:spPr>
        <p:txBody>
          <a:bodyPr anchor="t">
            <a:normAutofit fontScale="73000"/>
          </a:bodyPr>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1"/>
              </a:rPr>
              <a:t>ا</a:t>
            </a:r>
            <a:r>
              <a:rPr b="0" lang="ar-SA" sz="3200" spc="-1" strike="noStrike">
                <a:solidFill>
                  <a:srgbClr val="ffffff"/>
                </a:solidFill>
                <a:latin typeface="Times New Roman"/>
              </a:rPr>
              <a:t> (الإبطال): قيام الفرد بسلوك معاكس لما ارتكبه مسبقا</a:t>
            </a:r>
            <a:endParaRPr b="0" lang="en-US" sz="3200" spc="-1" strike="noStrike">
              <a:solidFill>
                <a:srgbClr val="ffffff"/>
              </a:solidFill>
              <a:latin typeface="Times New Roman"/>
            </a:endParaRPr>
          </a:p>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2"/>
              </a:rPr>
              <a:t>الكبت</a:t>
            </a:r>
            <a:r>
              <a:rPr b="0" lang="ar-SA" sz="3200" spc="-1" strike="noStrike">
                <a:solidFill>
                  <a:srgbClr val="ffffff"/>
                </a:solidFill>
                <a:latin typeface="Times New Roman"/>
              </a:rPr>
              <a:t>: إبعاد الأفكار المؤلمة إلى حيز اللاشعور</a:t>
            </a:r>
            <a:endParaRPr b="0" lang="en-US" sz="3200" spc="-1" strike="noStrike">
              <a:solidFill>
                <a:srgbClr val="ffffff"/>
              </a:solidFill>
              <a:latin typeface="Times New Roman"/>
            </a:endParaRPr>
          </a:p>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3"/>
              </a:rPr>
              <a:t>النسيان</a:t>
            </a:r>
            <a:r>
              <a:rPr b="0" lang="ar-SA" sz="3200" spc="-1" strike="noStrike">
                <a:solidFill>
                  <a:srgbClr val="ffffff"/>
                </a:solidFill>
                <a:latin typeface="Times New Roman"/>
              </a:rPr>
              <a:t>: إخفاء المواقف غير المقبولة</a:t>
            </a:r>
            <a:endParaRPr b="0" lang="en-US" sz="3200" spc="-1" strike="noStrike">
              <a:solidFill>
                <a:srgbClr val="ffffff"/>
              </a:solidFill>
              <a:latin typeface="Times New Roman"/>
            </a:endParaRPr>
          </a:p>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4"/>
              </a:rPr>
              <a:t>الإزاحة</a:t>
            </a:r>
            <a:r>
              <a:rPr b="0" lang="ar-SA" sz="3200" spc="-1" strike="noStrike">
                <a:solidFill>
                  <a:srgbClr val="ffffff"/>
                </a:solidFill>
                <a:latin typeface="Times New Roman"/>
              </a:rPr>
              <a:t>: إعادة توجيه الانفعالات المحبوسة نحو أشخاص غير الأشخاص الأصلية</a:t>
            </a:r>
            <a:endParaRPr b="0" lang="en-US" sz="3200" spc="-1" strike="noStrike">
              <a:solidFill>
                <a:srgbClr val="ffffff"/>
              </a:solidFill>
              <a:latin typeface="Times New Roman"/>
            </a:endParaRPr>
          </a:p>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5"/>
              </a:rPr>
              <a:t>التعلية</a:t>
            </a:r>
            <a:r>
              <a:rPr b="0" lang="ar-SA" sz="3200" spc="-1" strike="noStrike">
                <a:solidFill>
                  <a:srgbClr val="ffffff"/>
                </a:solidFill>
                <a:latin typeface="Times New Roman"/>
              </a:rPr>
              <a:t>: اتخاذ بديل لتحقيق هدف أو سلوك غير مقبول اجتماعيا.</a:t>
            </a:r>
            <a:endParaRPr b="0" lang="en-US" sz="3200" spc="-1" strike="noStrike">
              <a:solidFill>
                <a:srgbClr val="ffffff"/>
              </a:solidFill>
              <a:latin typeface="Times New Roman"/>
            </a:endParaRPr>
          </a:p>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6"/>
              </a:rPr>
              <a:t>التعميم</a:t>
            </a:r>
            <a:r>
              <a:rPr b="0" lang="ar-SA" sz="3200" spc="-1" strike="noStrike">
                <a:solidFill>
                  <a:srgbClr val="ffffff"/>
                </a:solidFill>
                <a:latin typeface="Times New Roman"/>
              </a:rPr>
              <a:t>: تعميم خبرة معينة على سائر التجارب.</a:t>
            </a:r>
            <a:endParaRPr b="0" lang="en-US" sz="3200" spc="-1" strike="noStrike">
              <a:solidFill>
                <a:srgbClr val="ffffff"/>
              </a:solidFill>
              <a:latin typeface="Times New Roman"/>
            </a:endParaRPr>
          </a:p>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7"/>
              </a:rPr>
              <a:t>التكوين العكسي</a:t>
            </a:r>
            <a:r>
              <a:rPr b="0" lang="ar-SA" sz="3200" spc="-1" strike="noStrike">
                <a:solidFill>
                  <a:srgbClr val="ffffff"/>
                </a:solidFill>
                <a:latin typeface="Times New Roman"/>
              </a:rPr>
              <a:t>: التعبير عن الدوافع المستنكرة في شكل معاكس.</a:t>
            </a:r>
            <a:endParaRPr b="0" lang="en-US" sz="3200" spc="-1" strike="noStrike">
              <a:solidFill>
                <a:srgbClr val="ffffff"/>
              </a:solidFill>
              <a:latin typeface="Times New Roman"/>
            </a:endParaRPr>
          </a:p>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8"/>
              </a:rPr>
              <a:t>الرمزية</a:t>
            </a:r>
            <a:r>
              <a:rPr b="0" lang="ar-SA" sz="3200" spc="-1" strike="noStrike">
                <a:solidFill>
                  <a:srgbClr val="ffffff"/>
                </a:solidFill>
                <a:latin typeface="Times New Roman"/>
              </a:rPr>
              <a:t>: اعتبار مثير لا يحمل أي معنى انفعالي رمزا لفكرة أو اتجاه مشحون انفعاليا.</a:t>
            </a:r>
            <a:endParaRPr b="0" lang="en-US" sz="3200" spc="-1" strike="noStrike">
              <a:solidFill>
                <a:srgbClr val="ffffff"/>
              </a:solidFill>
              <a:latin typeface="Times New Roman"/>
            </a:endParaRPr>
          </a:p>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ثالثاً:</a:t>
            </a:r>
            <a:r>
              <a:rPr b="1" lang="ar-SA" sz="3200" spc="-1" strike="noStrike">
                <a:solidFill>
                  <a:srgbClr val="ffffff"/>
                </a:solidFill>
                <a:latin typeface="Times New Roman"/>
              </a:rPr>
              <a:t> الأسلمة لإثبات حقيقة أنه من دون تأصيل إسلامي قد تصبح أغلب ممارسات علم النفس الغربي التطبيقي قليلة الفائدة, بل وفي بعض الأحيان عديمة الفائدة, أو حتى قد تحدث بعض الأضرار على العلماء المسلمين اللاجئين للمتخصصين النفسانيين للعلاج أو الاستشارات.</a:t>
            </a:r>
            <a:endParaRPr b="0" lang="en-US" sz="3200" spc="-1" strike="noStrike">
              <a:solidFill>
                <a:srgbClr val="ffffff"/>
              </a:solidFill>
              <a:latin typeface="Times New Roman"/>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6" name=""/>
          <p:cNvSpPr txBox="1"/>
          <p:nvPr/>
        </p:nvSpPr>
        <p:spPr>
          <a:xfrm>
            <a:off x="457200" y="1599840"/>
            <a:ext cx="8229600" cy="4530600"/>
          </a:xfrm>
          <a:prstGeom prst="rect">
            <a:avLst/>
          </a:prstGeom>
          <a:noFill/>
          <a:ln w="0">
            <a:noFill/>
          </a:ln>
        </p:spPr>
        <p:txBody>
          <a:bodyPr anchor="t">
            <a:normAutofit fontScale="86000"/>
          </a:bodyPr>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1"/>
              </a:rPr>
              <a:t>لعدوان</a:t>
            </a:r>
            <a:r>
              <a:rPr b="0" lang="ar-SA" sz="3200" spc="-1" strike="noStrike">
                <a:solidFill>
                  <a:srgbClr val="ffffff"/>
                </a:solidFill>
                <a:latin typeface="Times New Roman"/>
              </a:rPr>
              <a:t>: هجوم نحو شخص آخر.</a:t>
            </a: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2"/>
              </a:rPr>
              <a:t>الانسحاب</a:t>
            </a:r>
            <a:r>
              <a:rPr b="0" lang="ar-SA" sz="3200" spc="-1" strike="noStrike">
                <a:solidFill>
                  <a:srgbClr val="ffffff"/>
                </a:solidFill>
                <a:latin typeface="Times New Roman"/>
              </a:rPr>
              <a:t>: الهروب عن عوائق إشباع الدوافع والحاجات.</a:t>
            </a: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3"/>
              </a:rPr>
              <a:t>أحلام اليقظة</a:t>
            </a:r>
            <a:r>
              <a:rPr b="0" lang="ar-SA" sz="3200" spc="-1" strike="noStrike">
                <a:solidFill>
                  <a:srgbClr val="ffffff"/>
                </a:solidFill>
                <a:latin typeface="Times New Roman"/>
              </a:rPr>
              <a:t>: اللجوء إلى عالم الحلم والخيال بعيدا عن الواقع</a:t>
            </a: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4"/>
              </a:rPr>
              <a:t>الأحلام</a:t>
            </a:r>
            <a:r>
              <a:rPr b="0" lang="ar-SA" sz="3200" spc="-1" strike="noStrike">
                <a:solidFill>
                  <a:srgbClr val="ffffff"/>
                </a:solidFill>
                <a:latin typeface="Times New Roman"/>
              </a:rPr>
              <a:t>: خيالات وصور لا إرادية يراها النائم.</a:t>
            </a: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5"/>
              </a:rPr>
              <a:t>التحويل</a:t>
            </a:r>
            <a:r>
              <a:rPr b="0" lang="ar-SA" sz="3200" spc="-1" strike="noStrike">
                <a:solidFill>
                  <a:srgbClr val="ffffff"/>
                </a:solidFill>
                <a:latin typeface="Times New Roman"/>
              </a:rPr>
              <a:t>: تحويل الصراعات الانفعالية المكبوتة من خلال العمليات الحسية والحركية.</a:t>
            </a: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6"/>
              </a:rPr>
              <a:t>التبرير</a:t>
            </a:r>
            <a:r>
              <a:rPr b="0" lang="ar-SA" sz="3200" spc="-1" strike="noStrike">
                <a:solidFill>
                  <a:srgbClr val="ffffff"/>
                </a:solidFill>
                <a:latin typeface="Times New Roman"/>
              </a:rPr>
              <a:t>: تفسير السلوك الخاطئ بأسباب منطقية.</a:t>
            </a: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7"/>
              </a:rPr>
              <a:t>الإنكار</a:t>
            </a:r>
            <a:r>
              <a:rPr b="0" lang="ar-SA" sz="3200" spc="-1" strike="noStrike">
                <a:solidFill>
                  <a:srgbClr val="ffffff"/>
                </a:solidFill>
                <a:latin typeface="Times New Roman"/>
              </a:rPr>
              <a:t>: إنكار لاشعوري للواقع المؤلم.</a:t>
            </a: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8" name=""/>
          <p:cNvSpPr txBox="1"/>
          <p:nvPr/>
        </p:nvSpPr>
        <p:spPr>
          <a:xfrm>
            <a:off x="457200" y="1599840"/>
            <a:ext cx="8229600" cy="4530600"/>
          </a:xfrm>
          <a:prstGeom prst="rect">
            <a:avLst/>
          </a:prstGeom>
          <a:noFill/>
          <a:ln w="0">
            <a:noFill/>
          </a:ln>
        </p:spPr>
        <p:txBody>
          <a:bodyPr anchor="t">
            <a:normAutofit fontScale="87000"/>
          </a:bodyPr>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1"/>
              </a:rPr>
              <a:t>الإسقاط</a:t>
            </a:r>
            <a:r>
              <a:rPr b="0" lang="ar-SA" sz="3200" spc="-1" strike="noStrike">
                <a:solidFill>
                  <a:srgbClr val="ffffff"/>
                </a:solidFill>
                <a:latin typeface="Times New Roman"/>
              </a:rPr>
              <a:t>: هو أن ينسب الفرد ما في نفسه من عيوب إلى الآخرين.</a:t>
            </a:r>
            <a:endParaRPr b="0" lang="en-US" sz="3200" spc="-1" strike="noStrike">
              <a:solidFill>
                <a:srgbClr val="ffffff"/>
              </a:solidFill>
              <a:latin typeface="Times New Roman"/>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2"/>
              </a:rPr>
              <a:t>النكوص</a:t>
            </a:r>
            <a:r>
              <a:rPr b="0" lang="ar-SA" sz="3200" spc="-1" strike="noStrike">
                <a:solidFill>
                  <a:srgbClr val="ffffff"/>
                </a:solidFill>
                <a:latin typeface="Times New Roman"/>
              </a:rPr>
              <a:t>: هو العودة والتقهقر إلى مستوى غير ناضج من السلوك.</a:t>
            </a:r>
            <a:endParaRPr b="0" lang="en-US" sz="3200" spc="-1" strike="noStrike">
              <a:solidFill>
                <a:srgbClr val="ffffff"/>
              </a:solidFill>
              <a:latin typeface="Times New Roman"/>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3"/>
              </a:rPr>
              <a:t>التثبيت</a:t>
            </a:r>
            <a:r>
              <a:rPr b="0" lang="ar-SA" sz="3200" spc="-1" strike="noStrike">
                <a:solidFill>
                  <a:srgbClr val="ffffff"/>
                </a:solidFill>
                <a:latin typeface="Times New Roman"/>
              </a:rPr>
              <a:t>: هو توقف نمو الشخصية عند مرحلة من النمو.</a:t>
            </a:r>
            <a:endParaRPr b="0" lang="en-US" sz="3200" spc="-1" strike="noStrike">
              <a:solidFill>
                <a:srgbClr val="ffffff"/>
              </a:solidFill>
              <a:latin typeface="Times New Roman"/>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4"/>
              </a:rPr>
              <a:t>التفكيك</a:t>
            </a:r>
            <a:r>
              <a:rPr b="0" lang="ar-SA" sz="3200" spc="-1" strike="noStrike">
                <a:solidFill>
                  <a:srgbClr val="ffffff"/>
                </a:solidFill>
                <a:latin typeface="Times New Roman"/>
              </a:rPr>
              <a:t> (العزل): هو فك الرابطة بين الانفعال والأفعال.</a:t>
            </a:r>
            <a:endParaRPr b="0" lang="en-US" sz="3200" spc="-1" strike="noStrike">
              <a:solidFill>
                <a:srgbClr val="ffffff"/>
              </a:solidFill>
              <a:latin typeface="Times New Roman"/>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سلبية: هي مقاومة المسئوليات والضغوط.</a:t>
            </a:r>
            <a:endParaRPr b="0" lang="en-US" sz="3200" spc="-1" strike="noStrike">
              <a:solidFill>
                <a:srgbClr val="ffffff"/>
              </a:solidFill>
              <a:latin typeface="Times New Roman"/>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نعزال</a:t>
            </a:r>
            <a:endParaRPr b="0" lang="en-US" sz="3200" spc="-1" strike="noStrike">
              <a:solidFill>
                <a:srgbClr val="ffffff"/>
              </a:solidFill>
              <a:latin typeface="Times New Roman"/>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60" name=""/>
          <p:cNvSpPr txBox="1"/>
          <p:nvPr/>
        </p:nvSpPr>
        <p:spPr>
          <a:xfrm>
            <a:off x="457200" y="1599840"/>
            <a:ext cx="8229600" cy="4530600"/>
          </a:xfrm>
          <a:prstGeom prst="rect">
            <a:avLst/>
          </a:prstGeom>
          <a:noFill/>
          <a:ln w="0">
            <a:noFill/>
          </a:ln>
        </p:spPr>
        <p:txBody>
          <a:bodyPr anchor="t">
            <a:normAutofit fontScale="94000"/>
          </a:bodyPr>
          <a:p>
            <a:pPr marL="322200" indent="-32220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 هذه الحيل تحقق للفرد التخلص من القلق والتوتر الناتج من عدم حل هذه المشكلة, ولكنها تصبح ضارة وخطرة عندما تعمى الفرد عن رؤية عيوبة ومشاكلة الحقيقية ولا تعينة على مواجهة المشكلة بصورة واقعية و من أهم هذه الحيل النفسية</a:t>
            </a:r>
            <a:endParaRPr b="0" lang="en-US" sz="2400" spc="-1" strike="noStrike">
              <a:solidFill>
                <a:srgbClr val="ffffff"/>
              </a:solidFill>
              <a:latin typeface="Times New Roman"/>
            </a:endParaRPr>
          </a:p>
          <a:p>
            <a:pPr marL="322200" indent="-32220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ائمة كاملة بحيل الدفاع النفسي كما وضعها الدكتور حامد زهران</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322200" indent="-32220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علية (التسامي): هو الارتفاع بالدوافع التي لا يقبلها المجتمع وتصعيدها إلى مستوى أعلى.</a:t>
            </a:r>
            <a:endParaRPr b="0" lang="en-US" sz="2400" spc="-1" strike="noStrike">
              <a:solidFill>
                <a:srgbClr val="ffffff"/>
              </a:solidFill>
              <a:latin typeface="Times New Roman"/>
            </a:endParaRPr>
          </a:p>
          <a:p>
            <a:pPr marL="322200" indent="-32220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عويض: هو محاولة الفرد النجاح في ميدان لتعويض عجزه في ميدان آخر.</a:t>
            </a:r>
            <a:endParaRPr b="0" lang="en-US" sz="2400" spc="-1" strike="noStrike">
              <a:solidFill>
                <a:srgbClr val="ffffff"/>
              </a:solidFill>
              <a:latin typeface="Times New Roman"/>
            </a:endParaRPr>
          </a:p>
          <a:p>
            <a:pPr marL="322200" indent="-32220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قمص (التوحد): هو أن يجمع الفرد ويستعير إلى نفسه ما في غيره من صفات مرغوبة.</a:t>
            </a:r>
            <a:endParaRPr b="0" lang="en-US" sz="2400" spc="-1" strike="noStrike">
              <a:solidFill>
                <a:srgbClr val="ffffff"/>
              </a:solidFill>
              <a:latin typeface="Times New Roman"/>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62" name=""/>
          <p:cNvSpPr txBox="1"/>
          <p:nvPr/>
        </p:nvSpPr>
        <p:spPr>
          <a:xfrm>
            <a:off x="457200" y="1599840"/>
            <a:ext cx="8229600" cy="4530600"/>
          </a:xfrm>
          <a:prstGeom prst="rect">
            <a:avLst/>
          </a:prstGeom>
          <a:noFill/>
          <a:ln w="0">
            <a:noFill/>
          </a:ln>
        </p:spPr>
        <p:txBody>
          <a:bodyPr anchor="t">
            <a:normAutofit fontScale="79000"/>
          </a:bodyPr>
          <a:p>
            <a:pPr marL="270720" indent="-2707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استعواض (الاستبدال النفسي): عملية صد يقوم بها العقل لهجمات الحصر بالاستعاضة الآلية اللاشعورية عن دوافع أو ميول أو انفعالات أو موضوعات ينفر منها الضمير أو يستهجنها المجتمع بغيرها من الدوافع أو الانفعالات أو الموضوعات التي يقرها الضمير.</a:t>
            </a:r>
            <a:endParaRPr b="0" lang="en-US" sz="3200" spc="-1" strike="noStrike">
              <a:solidFill>
                <a:srgbClr val="ffffff"/>
              </a:solidFill>
              <a:latin typeface="Times New Roman"/>
            </a:endParaRPr>
          </a:p>
          <a:p>
            <a:pPr marL="270720" indent="-2707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عكس (القلب): عملية معالجة الحصر الناجم عن تنازع دوافعي أو عن تهديد بإحباط الدوافع بواسطة إيجاد شعور أو انفعال هو الطرف النقيض تماما للشعور أو الانفعال الذي نشأ أصلا تجاه مثيره.</a:t>
            </a:r>
            <a:endParaRPr b="0" lang="en-US" sz="3200" spc="-1" strike="noStrike">
              <a:solidFill>
                <a:srgbClr val="ffffff"/>
              </a:solidFill>
              <a:latin typeface="Times New Roman"/>
            </a:endParaRPr>
          </a:p>
          <a:p>
            <a:pPr marL="270720" indent="-2707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إبدال: اتخاذ بديل لتحقيق هدف أو سلوك غير مقبول اجتماعيا.</a:t>
            </a:r>
            <a:endParaRPr b="0" lang="en-US" sz="3200" spc="-1" strike="noStrike">
              <a:solidFill>
                <a:srgbClr val="ffffff"/>
              </a:solidFill>
              <a:latin typeface="Times New Roman"/>
            </a:endParaRPr>
          </a:p>
          <a:p>
            <a:pPr marL="270720" indent="-2707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eec94"/>
                </a:solidFill>
                <a:latin typeface="Times New Roman"/>
              </a:rPr>
              <a:t>خاتمة</a:t>
            </a:r>
            <a:endParaRPr b="1" lang="en-US" sz="4400" spc="-1" strike="noStrike">
              <a:solidFill>
                <a:srgbClr val="feec94"/>
              </a:solidFill>
              <a:latin typeface="Times New Roman"/>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lgn="r" rtl="1">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rPr>
              <a:t>والحمد لله الذي بنعمته تتم الصالحات .</a:t>
            </a:r>
            <a:endParaRPr b="0" lang="en-US" sz="4400" spc="-1" strike="noStrike">
              <a:solidFill>
                <a:srgbClr val="ffffff"/>
              </a:solidFill>
              <a:latin typeface="Times New Roman"/>
            </a:endParaRPr>
          </a:p>
          <a:p>
            <a:pPr marL="343080" indent="-343080" algn="r" rtl="1">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lgn="r" rtl="1">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rPr>
              <a:t>وصل اللهم على سيدنا محمد وعلى آله وصحبه وسلم .</a:t>
            </a:r>
            <a:endParaRPr b="0" lang="en-US" sz="4400" spc="-1" strike="noStrike">
              <a:solidFill>
                <a:srgbClr val="ffffff"/>
              </a:solidFill>
              <a:latin typeface="Times New Roman"/>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رابعاً:</a:t>
            </a:r>
            <a:r>
              <a:rPr b="1" lang="ar-SA" sz="3200" spc="-1" strike="noStrike">
                <a:solidFill>
                  <a:srgbClr val="ffffff"/>
                </a:solidFill>
                <a:latin typeface="Times New Roman"/>
              </a:rPr>
              <a:t> الأسلمة بإعادة كتابة تاريخ علم النفس من منظور إسلامي حتى يتعرف الطلاب على إسهامات علمائنا وأطبائنا القدامى ويكتشفوا تزوير الكتاب الغربيين الذي أهملوا إسهامات علماء المسلمين عن قصد وتعصب أو عن جهل فاضح, ولنبدأ فيما يلي بتفصيل أكبر عن العنصر الأول:</a:t>
            </a:r>
            <a:endParaRPr b="0" lang="en-US" sz="3200" spc="-1" strike="noStrike">
              <a:solidFill>
                <a:srgbClr val="ffffff"/>
              </a:solidFill>
              <a:latin typeface="Times New Roman"/>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العنصر الأول:</a:t>
            </a:r>
            <a:r>
              <a:rPr b="1" lang="ar-SA" sz="3200" spc="-1" strike="noStrike">
                <a:solidFill>
                  <a:srgbClr val="ffffff"/>
                </a:solidFill>
                <a:latin typeface="Times New Roman"/>
              </a:rPr>
              <a:t> كشف الجوانب العلمانية في نظريات علم النفس الغربي وتطبيقاته وفكره المنحرف لطبيعة الإنسان.</a:t>
            </a:r>
            <a:endParaRPr b="0" lang="en-US" sz="3200" spc="-1" strike="noStrike">
              <a:solidFill>
                <a:srgbClr val="ffffff"/>
              </a:solidFill>
              <a:latin typeface="Times New Roman"/>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نرى الكثير من أساتذة علم النفس رغم قراءتهم للقرآن الكريم وفهمهم لمعانيه, ورغم إلمامهم بالحديث الشريف يقولون لطلابهم أن الإنسان تتشكل طبيعته فقط بما يتعرض له في بيئته, </a:t>
            </a:r>
            <a:endParaRPr b="0" lang="en-US" sz="3200" spc="-1" strike="noStrike">
              <a:solidFill>
                <a:srgbClr val="ffffff"/>
              </a:solidFill>
              <a:latin typeface="Times New Roman"/>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أو أنه من المهد إلى القبر عبد لدوافع لذاته الدنيا الجنسية والعدوانية, فإما أن يستجيب لها بطبيعته الفطرية أو يخدع نفسه بنفسه ويستجيب لها بطريقة غير مباشرة بميكانيزمات الدفاع * أو بالرمزية في أفعاله اللاشعورية وفي أحلامه المنامية.</a:t>
            </a:r>
            <a:r>
              <a:rPr b="0" lang="ar-SA"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كما أن عدم الأسلمة قد يشوش على عقيدة الطالب وفهمه لدينه, فعندما يهاجم الكتاب المسلمون حداثة الغرب وحضارته المعاصرة فإنهم يركزون على التفسخ الأخلاقي والفوضى الجنسية واللواط والربا وغيره من السلوك الذي يأباه الإسلام ولكن هذه المسائل رغم بشاعتها ما هي إلا نتيجة طبيعية للعلمانية اللادينية.</a:t>
            </a:r>
            <a:endParaRPr b="0" lang="en-US" sz="3200" spc="-1" strike="noStrike">
              <a:solidFill>
                <a:srgbClr val="ffffff"/>
              </a:solidFill>
              <a:latin typeface="Times New Roman"/>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كما أن الطالب في مادة علم النفس الفسيولوجي أو علم النفس الوراثي الذي يقرأ المراجع الغربية التي تقول زوراً وبهتاناً بأن هناك أدلة علمية على أنه للشذوذ الجنسي واللواط أسس وراثية في الجينات والهرمونات قد يؤدي به ذلك  للشك في العدل الإلهي, كيف يخلق الله تعالى في إنسان جينات وموروثات واختلال في هورموناته تؤدي به حتماً إلى الشذوذ الجنسي؟ ثم يعاقبه أشد العقاب على سلوكه الجنسي؟</a:t>
            </a:r>
            <a:endParaRPr b="0" lang="en-US" sz="3200" spc="-1" strike="noStrike">
              <a:solidFill>
                <a:srgbClr val="ffffff"/>
              </a:solidFill>
              <a:latin typeface="Times New Roman"/>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لعل هذا التفريق بين شقي علم النفس: ذلك الذي تسنده الأبحاث التجريبية غير المنحازة والمنحازة.</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لذلك كان لزاماً على واضعي مقررات علم النفس وأساتذته أن يوضحوا الفروق بين ما و علمي وما هو إدعاء للعلمية وبين ما يستند به إلى إثبات تجريبي حقيقي وبين ما يقوم على الفلسفة الوضعية وأهواء الرجال.</a:t>
            </a:r>
            <a:endParaRPr b="0" lang="en-US" sz="3200" spc="-1" strike="noStrike">
              <a:solidFill>
                <a:srgbClr val="ffffff"/>
              </a:solidFill>
              <a:latin typeface="Times New Roman"/>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21:07:19Z</dcterms:created>
  <dc:creator>ahmed</dc:creator>
  <dc:description/>
  <dc:language>en-US</dc:language>
  <cp:lastModifiedBy>FG</cp:lastModifiedBy>
  <dcterms:modified xsi:type="dcterms:W3CDTF">2015-10-29T06:56:08Z</dcterms:modified>
  <cp:revision>16</cp:revision>
  <dc:subject/>
  <dc:title>أهمية الاسلمة ________________</dc:title>
</cp:coreProperties>
</file>