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3ECB9-2B2B-487C-BEE6-2D2C76DBB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F2C7-35CA-4AD6-9068-DB0691734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C73EA-D7E4-46BD-8A71-4A9A05B56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7E5B-E9DF-492D-9552-D732CABF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2C66F-6A44-4036-B508-FC0EF3145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B96E1-A3B5-45DC-BB0F-12062728A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AA918-EDFA-4AA7-BC34-9FD14F3B1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D5B15-CDEA-438B-9D1A-C687ACD27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F7C38-4F61-4A4B-B04E-A412EC32B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85FE3-50BA-41BD-B753-5D8A37C7C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EA90-EFD1-47DC-B32E-A782F40D0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41E5-CE10-4820-9DFA-E1D4B203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E0861-A67B-460C-8A90-3DCD8C62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E442-E089-4716-8FA0-719BE20A1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51F21-2CAF-4E0A-A3A5-65D54E76E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162DB-B496-4D88-B10A-D7D478570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2E488-97ED-466F-8499-3AB6A1CB3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CC8C3-3785-4989-AE11-24484AFE60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32A70-78E4-4F30-8015-F2A867899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A6BC0-3003-47CA-AB9F-C974191EB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B21E8-8168-43FE-AA1A-8AA8E1C45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38EE8-DF79-469F-9E0D-A4D305B83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8A0D7-A4B2-4A43-9EB8-777D677C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C07C5-EE41-4C5C-A932-5D709C9EE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D2DA4-8F84-444A-A4C6-4F66C0C53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CCC0B-99E5-4C70-A272-67AC2990C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87050-6513-4937-B532-B0EC6A1F3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5E681-F3BA-4110-A05D-B16241FBB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9662FF-794A-4EA1-9F35-7AF325B29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E5FE90-229B-4D7B-A505-329FF83536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7C826F-8FAE-4D29-8A31-629F66F8F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DCC55-5FE2-42AC-8C50-2DFF2AAD2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C311C-CBB8-4E4B-AD2D-C43E525A1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D7E6-15CF-4860-9CC8-7ECF6281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B0F20-3DCA-4FD0-8D74-C4EFD53E3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012D7-58F5-49D0-826A-FD53F6016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3A0AF-F991-4A1F-B4FD-AFBD78B43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FE8CC-CA9E-4C91-831D-598987828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9F56C-DA25-4216-8051-020501480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44166-F958-4A2D-A432-EB5A63CDF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720D6-A415-4C2F-979D-C625E0E02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361D9-9ADE-4AFF-BE47-18D886D98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BB8DB6-7334-4FEB-A7FD-EC62C8AE7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8577F-6E67-4D7A-A389-4A2F6F54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BB2D-3D08-45DA-82FE-54CC21F13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B3CF-C0EF-4A57-A28C-AEEB60CB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EC6C-329B-4265-9688-0C044494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1E1C-B3DC-4B5A-A593-507FEBD82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8FF2-4340-4A45-985A-1E77025EE29F}" type="slidenum">
              <a:rPr b="0" lang="ar-SA" sz="1200" spc="-1" strike="noStrike">
                <a:solidFill>
                  <a:srgbClr val="4a382d"/>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C005-13BB-4449-A9F3-32F1C33B0B2E}" type="slidenum">
              <a:rPr b="0" lang="ar-SA" sz="1200" spc="-1" strike="noStrike">
                <a:solidFill>
                  <a:srgbClr val="f0e3c0"/>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DE3A-7850-4561-AA44-DF353F4687EE}" type="slidenum">
              <a:rPr b="0" lang="ar-SA" sz="1200" spc="-1" strike="noStrike">
                <a:solidFill>
                  <a:srgbClr val="f0e3c0"/>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1FD2-9B9F-4239-9CF7-18AD505D85B2}" type="slidenum">
              <a:rPr b="0" lang="ar-SA" sz="1200" spc="-1" strike="noStrike">
                <a:solidFill>
                  <a:srgbClr val="4a382d"/>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moodgadget.com/wp-content/uploads/2007/10/rorschach_finalcover450.jpg&amp;imgrefurl=http://www.moodgadget.com/2007/11/01/artist-spotlight-mux-mool/&amp;h=450&amp;w=450&amp;sz=272&amp;hl=ar&amp;start=3&amp;sig2=QKxEa3_LKx7c2W3Ia2wH4w&amp;tbnid=gA2gHynj6OvgGM:&amp;tbnh=127&amp;tbnw=127&amp;eid=&amp;eid=taZZR8TUGY3OwQG3hMz5CA&amp;prev=/images?q=The+Rorschach&amp;gbv=2&amp;svnum=10&amp;hl=ar&amp;sa=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sec-begen-al"/>
          <p:cNvPicPr/>
          <p:nvPr/>
        </p:nvPicPr>
        <p:blipFill>
          <a:blip r:embed="rId1"/>
          <a:stretch/>
        </p:blipFill>
        <p:spPr>
          <a:xfrm>
            <a:off x="4071960" y="428760"/>
            <a:ext cx="4786200" cy="2928960"/>
          </a:xfrm>
          <a:prstGeom prst="rect">
            <a:avLst/>
          </a:prstGeom>
          <a:ln w="0">
            <a:noFill/>
          </a:ln>
        </p:spPr>
      </p:pic>
      <p:pic>
        <p:nvPicPr>
          <p:cNvPr id="215" name="صورة 1" descr="http://tbn0.google.com/images?q=tbn:Gq2oI4yhkumtxM:http://rtx.jeeran.com/rorschach.jpg"/>
          <p:cNvPicPr/>
          <p:nvPr/>
        </p:nvPicPr>
        <p:blipFill>
          <a:blip r:embed="rId2"/>
          <a:stretch/>
        </p:blipFill>
        <p:spPr>
          <a:xfrm>
            <a:off x="285840" y="3257640"/>
            <a:ext cx="5286240" cy="32702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214"/>
                                        </p:tgtEl>
                                        <p:attrNameLst>
                                          <p:attrName>style.visibility</p:attrName>
                                        </p:attrNameLst>
                                      </p:cBhvr>
                                      <p:to>
                                        <p:strVal val="visible"/>
                                      </p:to>
                                    </p:set>
                                    <p:animEffect filter="circle(in)" transition="in">
                                      <p:cBhvr additive="repl">
                                        <p:cTn id="26" dur="2000"/>
                                        <p:tgtEl>
                                          <p:spTgt spid="21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15"/>
                                        </p:tgtEl>
                                        <p:attrNameLst>
                                          <p:attrName>style.visibility</p:attrName>
                                        </p:attrNameLst>
                                      </p:cBhvr>
                                      <p:to>
                                        <p:strVal val="visible"/>
                                      </p:to>
                                    </p:set>
                                    <p:animEffect filter="circle(in)" transition="in">
                                      <p:cBhvr additive="repl">
                                        <p:cTn id="3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13" descr="http://tbn0.google.com/images?q=tbn:i5t94H8dPeK1hM:http://www.success.co.il/knowledge/images/Body-and-Mind-Psychology-Rorshach.gif"/>
          <p:cNvPicPr/>
          <p:nvPr/>
        </p:nvPicPr>
        <p:blipFill>
          <a:blip r:embed="rId1"/>
          <a:stretch/>
        </p:blipFill>
        <p:spPr>
          <a:xfrm>
            <a:off x="4429080" y="428760"/>
            <a:ext cx="4505400" cy="3286080"/>
          </a:xfrm>
          <a:prstGeom prst="rect">
            <a:avLst/>
          </a:prstGeom>
          <a:ln w="0">
            <a:noFill/>
          </a:ln>
        </p:spPr>
      </p:pic>
      <p:pic>
        <p:nvPicPr>
          <p:cNvPr id="217" name="صورة 7" descr="http://tbn0.google.com/images?q=tbn:mYsluFifJVDA_M:http://scrapbook.citizen-citizen.com/subjectivity/images/felt1mr.jpg"/>
          <p:cNvPicPr/>
          <p:nvPr/>
        </p:nvPicPr>
        <p:blipFill>
          <a:blip r:embed="rId2"/>
          <a:stretch/>
        </p:blipFill>
        <p:spPr>
          <a:xfrm>
            <a:off x="500040" y="3643200"/>
            <a:ext cx="4714920" cy="283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16"/>
                                        </p:tgtEl>
                                        <p:attrNameLst>
                                          <p:attrName>style.visibility</p:attrName>
                                        </p:attrNameLst>
                                      </p:cBhvr>
                                      <p:to>
                                        <p:strVal val="visible"/>
                                      </p:to>
                                    </p:set>
                                    <p:animEffect filter="circle(in)" transition="in">
                                      <p:cBhvr additive="repl">
                                        <p:cTn id="38" dur="2000"/>
                                        <p:tgtEl>
                                          <p:spTgt spid="21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217"/>
                                        </p:tgtEl>
                                        <p:attrNameLst>
                                          <p:attrName>style.visibility</p:attrName>
                                        </p:attrNameLst>
                                      </p:cBhvr>
                                      <p:to>
                                        <p:strVal val="visible"/>
                                      </p:to>
                                    </p:set>
                                    <p:animEffect filter="circle(in)" transition="in">
                                      <p:cBhvr additive="repl">
                                        <p:cTn id="4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c00000"/>
                </a:solidFill>
                <a:latin typeface="Calibri"/>
              </a:rPr>
              <a:t>تقدير استجابات الرورشاخ</a:t>
            </a:r>
            <a:endParaRPr b="0" lang="en-US" sz="4500" spc="-1" strike="noStrike">
              <a:solidFill>
                <a:srgbClr val="4e3b30"/>
              </a:solidFill>
              <a:latin typeface="Calibri"/>
            </a:endParaRPr>
          </a:p>
        </p:txBody>
      </p:sp>
      <p:sp>
        <p:nvSpPr>
          <p:cNvPr id="219" name=""/>
          <p:cNvSpPr txBox="1"/>
          <p:nvPr/>
        </p:nvSpPr>
        <p:spPr>
          <a:xfrm>
            <a:off x="179280" y="1934640"/>
            <a:ext cx="8856720" cy="4389480"/>
          </a:xfrm>
          <a:prstGeom prst="rect">
            <a:avLst/>
          </a:prstGeom>
          <a:noFill/>
          <a:ln w="0">
            <a:noFill/>
          </a:ln>
        </p:spPr>
        <p:txBody>
          <a:bodyPr anchor="t">
            <a:normAutofit fontScale="93000"/>
          </a:bodyPr>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يعتمد تقدير الدرجات على نظام تصنيف الاستجابات وهي على أربعة عناصر هي:</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كان: </a:t>
            </a:r>
            <a:r>
              <a:rPr b="0" lang="ar-SA" sz="2400" spc="-1" strike="noStrike">
                <a:solidFill>
                  <a:srgbClr val="000000"/>
                </a:solidFill>
                <a:latin typeface="Constantia"/>
              </a:rPr>
              <a:t>ويتم تصنيف الاستجابة تبعاً لمساحة البقعة التي استخدمها المفحوص وتشتمل على أربعة جوانب: البطاقة كلها, وجزء كبير  وجزء صغير, والأرضية أو المساحات البضاء.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حددات: </a:t>
            </a:r>
            <a:r>
              <a:rPr b="0" lang="ar-SA" sz="2400" spc="-1" strike="noStrike">
                <a:solidFill>
                  <a:srgbClr val="000000"/>
                </a:solidFill>
                <a:latin typeface="Constantia"/>
              </a:rPr>
              <a:t>وتشير إلى العوامل المحددة للاستجابة, وتشتمل على الجوانب الآتية: الشكل, اللون, الظلال, الحركة أو أي منها مجتمعة.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ج- المحتوى: </a:t>
            </a:r>
            <a:r>
              <a:rPr b="0" lang="ar-SA" sz="2400" spc="-1" strike="noStrike">
                <a:solidFill>
                  <a:srgbClr val="000000"/>
                </a:solidFill>
                <a:latin typeface="Constantia"/>
              </a:rPr>
              <a:t>ويقصد به المضمون أو الملامح الأساسية التي أثارتها البطاقة في ذهن المفحوص. أهمها شكل إنساني، وحيوان، وجماد، ونبات، وعمار، وفن، وسحب، ودم.</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د- الاستجابات الشائعة أو المبتكرة: </a:t>
            </a:r>
            <a:r>
              <a:rPr b="0" lang="ar-SA" sz="2400" spc="-1" strike="noStrike">
                <a:solidFill>
                  <a:srgbClr val="000000"/>
                </a:solidFill>
                <a:latin typeface="Constantia"/>
              </a:rPr>
              <a:t>ويحدد هذا الجانب على أساس إحصائي, فإذا كانت الاستجابة واردة مرة واحدة في كل ثلاثة تقارير عادية عدت مألوفة, أما المبتكرة فهي التي لا يذكرها أكثر من </a:t>
            </a:r>
            <a:r>
              <a:rPr b="0" lang="ar-SA" sz="2400" spc="-1" strike="noStrike">
                <a:solidFill>
                  <a:srgbClr val="000000"/>
                </a:solidFill>
                <a:latin typeface="Constantia"/>
              </a:rPr>
              <a:t>1</a:t>
            </a:r>
            <a:r>
              <a:rPr b="0" lang="ar-SA" sz="2400" spc="-1" strike="noStrike">
                <a:solidFill>
                  <a:srgbClr val="000000"/>
                </a:solidFill>
                <a:latin typeface="Constantia"/>
              </a:rPr>
              <a:t>% من الأفراد.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c00000"/>
                </a:solidFill>
                <a:latin typeface="Calibri"/>
              </a:rPr>
              <a:t>دلالة العناصر الأربعة</a:t>
            </a:r>
            <a:endParaRPr b="0" lang="en-US" sz="4500" spc="-1" strike="noStrike">
              <a:solidFill>
                <a:srgbClr val="4e3b30"/>
              </a:solidFill>
              <a:latin typeface="Calibri"/>
            </a:endParaRPr>
          </a:p>
        </p:txBody>
      </p:sp>
      <p:sp>
        <p:nvSpPr>
          <p:cNvPr id="221" name=""/>
          <p:cNvSpPr txBox="1"/>
          <p:nvPr/>
        </p:nvSpPr>
        <p:spPr>
          <a:xfrm>
            <a:off x="179280" y="1428840"/>
            <a:ext cx="8785440" cy="469728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1</a:t>
            </a:r>
            <a:r>
              <a:rPr b="0" lang="ar-SA" sz="2600" spc="-1" strike="noStrike">
                <a:solidFill>
                  <a:srgbClr val="00b0f0"/>
                </a:solidFill>
                <a:latin typeface="Constantia"/>
              </a:rPr>
              <a:t>-دلالة المكان: </a:t>
            </a:r>
            <a:r>
              <a:rPr b="0" lang="ar-SA" sz="2600" spc="-1" strike="noStrike">
                <a:solidFill>
                  <a:srgbClr val="000000"/>
                </a:solidFill>
                <a:latin typeface="Constantia"/>
              </a:rPr>
              <a:t>تشير كثرة الاستجابات الكلية إلى القدرة على إدراك العلاقات الكبيرة و التأليف بين العناصر, وترتبط بالذكاء النظري والمنهجي.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2</a:t>
            </a:r>
            <a:r>
              <a:rPr b="0" lang="ar-SA" sz="2600" spc="-1" strike="noStrike">
                <a:solidFill>
                  <a:srgbClr val="00b0f0"/>
                </a:solidFill>
                <a:latin typeface="Constantia"/>
              </a:rPr>
              <a:t>-دلالة المحددات: </a:t>
            </a:r>
            <a:r>
              <a:rPr b="0" lang="ar-SA" sz="2600" spc="-1" strike="noStrike">
                <a:solidFill>
                  <a:srgbClr val="000000"/>
                </a:solidFill>
                <a:latin typeface="Constantia"/>
              </a:rPr>
              <a:t>يرتبط الشكل الجيد بقوة الانا وتماسك الشخصية, أما تقديرات الحركة فتشير إلى ثراء الحياة الداخلية وزيادة القوى الإبداعية, كما تعني غلبة اللون على الشكل سيطرة الانفعالات.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3</a:t>
            </a:r>
            <a:r>
              <a:rPr b="0" lang="ar-SA" sz="2600" spc="-1" strike="noStrike">
                <a:solidFill>
                  <a:srgbClr val="00b0f0"/>
                </a:solidFill>
                <a:latin typeface="Constantia"/>
              </a:rPr>
              <a:t>-دلالة المحتوى: </a:t>
            </a:r>
            <a:r>
              <a:rPr b="0" lang="ar-SA" sz="2600" spc="-1" strike="noStrike">
                <a:solidFill>
                  <a:srgbClr val="000000"/>
                </a:solidFill>
                <a:latin typeface="Constantia"/>
              </a:rPr>
              <a:t>وتعكسها طبيعة استجابة المفحوص, فكلما كانت الاستجابة خرجتا عن المألوف بشكل واضح كلما كانت مؤشرا لعدم السواء.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4</a:t>
            </a:r>
            <a:r>
              <a:rPr b="0" lang="ar-SA" sz="2600" spc="-1" strike="noStrike">
                <a:solidFill>
                  <a:srgbClr val="00b0f0"/>
                </a:solidFill>
                <a:latin typeface="Constantia"/>
              </a:rPr>
              <a:t>-دلالة الاستجابات الشائعة و المبتكرة: </a:t>
            </a:r>
            <a:r>
              <a:rPr b="0" lang="ar-SA" sz="2600" spc="-1" strike="noStrike">
                <a:solidFill>
                  <a:srgbClr val="000000"/>
                </a:solidFill>
                <a:latin typeface="Constantia"/>
              </a:rPr>
              <a:t>تدل كثرة الاستجابات الشائعة الى الخوف من الانحراف عن المألوف, على حين تشير قلتها إلى عدم اكتراث بالمألوف.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c00000"/>
                </a:solidFill>
                <a:latin typeface="Calibri"/>
              </a:rPr>
              <a:t>الاستجابات المميزة لبعض الفئات الاكلينيكية في اختبار الرورشاخ  </a:t>
            </a:r>
            <a:endParaRPr b="0" lang="en-US" sz="3500" spc="-1" strike="noStrike">
              <a:solidFill>
                <a:srgbClr val="4e3b30"/>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عصاب:</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0" lang="ar-SA" sz="2600" spc="-1" strike="noStrike">
                <a:solidFill>
                  <a:srgbClr val="000000"/>
                </a:solidFill>
                <a:latin typeface="Constantia"/>
              </a:rPr>
              <a:t>- العدد الكلي للاستجابات أقل من الأسوياء.</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كبت الاستجابات الحرك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نسبة مرتفعة من التفاصيل الصغيرة ( حالات الوساوس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استجابات الحركية الحيوانية أكثر من الإنسانية.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فصام: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اقص عدد استجابات الحركة البشر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a:t>
            </a:r>
            <a:r>
              <a:rPr b="0" lang="ar-SA" sz="2600" spc="-1" strike="noStrike">
                <a:solidFill>
                  <a:srgbClr val="000000"/>
                </a:solidFill>
                <a:latin typeface="Constantia"/>
              </a:rPr>
              <a:t> نسبة اقل من الاستجابات الشائعة أو المألوفة .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كثرة حالات رفض المفحوص للبطاقة وعدم الاستجابة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استجابات المميزة لبعض الفئات الاكلينيكية في اختبار الرورشاخ  </a:t>
            </a:r>
            <a:endParaRPr b="0" lang="en-US" sz="3600" spc="-1" strike="noStrike">
              <a:solidFill>
                <a:srgbClr val="4e3b30"/>
              </a:solidFill>
              <a:latin typeface="Calibri"/>
            </a:endParaRPr>
          </a:p>
        </p:txBody>
      </p:sp>
      <p:sp>
        <p:nvSpPr>
          <p:cNvPr id="225" name=""/>
          <p:cNvSpPr txBox="1"/>
          <p:nvPr/>
        </p:nvSpPr>
        <p:spPr>
          <a:xfrm>
            <a:off x="457200" y="1484280"/>
            <a:ext cx="8229600" cy="5184720"/>
          </a:xfrm>
          <a:prstGeom prst="rect">
            <a:avLst/>
          </a:prstGeom>
          <a:noFill/>
          <a:ln w="0">
            <a:noFill/>
          </a:ln>
        </p:spPr>
        <p:txBody>
          <a:bodyPr anchor="t">
            <a:normAutofit/>
          </a:bodyPr>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اكتئاب: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قلة عدد الاستجابات.</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نمط الإدراك ضعيف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طول 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ختفاء الاستجابات ألونية تمام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تلف المخ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نقص عدد الاستجابات.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الطول الشديد ل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عدم التناسب بين وصف التفاصيل لفظيا وتحديد موقعها بصرياص.</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ترديد العبارات بصورة آلية وتكراره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ضعف العقلي:</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كلية غامض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كثرة الاستجابات اللوني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حيوانية كثير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b0f0"/>
                </a:solidFill>
                <a:latin typeface="Calibri"/>
              </a:rPr>
              <a:t>اختبار تداعي الكلمات </a:t>
            </a:r>
            <a:endParaRPr b="0" lang="en-US" sz="5000" spc="-1" strike="noStrike">
              <a:solidFill>
                <a:srgbClr val="4e3b30"/>
              </a:solidFill>
              <a:latin typeface="Calibri"/>
            </a:endParaRPr>
          </a:p>
        </p:txBody>
      </p:sp>
      <p:sp>
        <p:nvSpPr>
          <p:cNvPr id="227" name=""/>
          <p:cNvSpPr txBox="1"/>
          <p:nvPr/>
        </p:nvSpPr>
        <p:spPr>
          <a:xfrm>
            <a:off x="178920" y="1268280"/>
            <a:ext cx="8713800" cy="5416560"/>
          </a:xfrm>
          <a:prstGeom prst="rect">
            <a:avLst/>
          </a:prstGeom>
          <a:noFill/>
          <a:ln w="0">
            <a:noFill/>
          </a:ln>
        </p:spPr>
        <p:txBody>
          <a:bodyPr anchor="t">
            <a:normAutofit fontScale="84000"/>
          </a:bodyPr>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ضع هذا الاختبار ”ربابورت، جيل، شيفر“, ويتكون الاختبار من </a:t>
            </a:r>
            <a:r>
              <a:rPr b="0" lang="ar-SA" sz="2700" spc="-1" strike="noStrike">
                <a:solidFill>
                  <a:srgbClr val="000000"/>
                </a:solidFill>
                <a:latin typeface="Constantia"/>
              </a:rPr>
              <a:t>60</a:t>
            </a:r>
            <a:r>
              <a:rPr b="0" lang="ar-SA" sz="2700" spc="-1" strike="noStrike">
                <a:solidFill>
                  <a:srgbClr val="000000"/>
                </a:solidFill>
                <a:latin typeface="Constantia"/>
              </a:rPr>
              <a:t> كلمة تتصل بمجالات متعددة كالأسرة والنواحي الفمية, والشرجية, والعدوان, والدلالات الجنسية المتنوعة. كما تمس في نظرهم مجالات فكرية وألوانا من الصراع التي تظهر في أنماط مختلفة من سوء التوافق.</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اختبار التداعي عند تطبيقه من الناحية الإكلنيكية يزودنا بالكثير من المعلومات. فالاستجابات الخاصة جداً أو البعيدة عن المألوف قد تصبح في ذاتها دليلاً على أن الكلمة المثيرة قد مست نقطة حساسة في فكر المفحوص.</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مثال ذالك " أب – طاغية ", وقد تحدث الكلمة المثيرة اضطراباً في التداعي يكشف عن أن الكلمة قد مست منطقة صراع عند الفرد, كما تكشف في الوقت نفسه عن طبيعة هذا الصراع القائم في النفس  "فعند الاستجابة لكلمة (زوجة) بكلمة (شك) فان هذه الاستجابة كشفت ليس عن وجود صراع لدى الفرد, بل تكشف أيضا عن طبيعة هذا الصراع ونوعه. </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توصل كل من ربابورت وجيل وشافر إلى وضع الدلالات الاكلنيكية التي يمكن على أساسها تشخيص الحالات المرضية الكبرى من ذالك:</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فصام</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كثرة ما يعطونه استجابات بعيدة عن الكلمة المثير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ميل واضح نحو إعطاء التداعي القائم على التشابه في "اوزان الكلمات ”.</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ند إعادة الإنتاج تنحرف استجابات الفصاميين بشكل ظاهر وخط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اكتئاب</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يز الاكتئابيون ببطء الاستجابة و تجميع كل أنواع الاستجابات القريبة خصوصا التعريفات.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عصابيون</a:t>
            </a:r>
            <a:r>
              <a:rPr b="0" lang="ar-SA" sz="2600" spc="-1" strike="noStrike">
                <a:solidFill>
                  <a:srgbClr val="000000"/>
                </a:solidFill>
                <a:latin typeface="Constantia"/>
              </a:rPr>
              <a:t> تتميز استجاباتهم بالخصائص الآتية: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يز حالات الهستيريا بكثرة التوقف خصوصا للكلمات ذات الدلالة الجنس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ما حالات الوسواس القهري  فتتميز بكثرة ما يعطونه من صور بصرية للاستجابات.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اختبار تكملة الجمل الناقصة</a:t>
            </a:r>
            <a:endParaRPr b="0" lang="en-US" sz="5000" spc="-1" strike="noStrike">
              <a:solidFill>
                <a:srgbClr val="4e3b30"/>
              </a:solidFill>
              <a:latin typeface="Calibri"/>
            </a:endParaRPr>
          </a:p>
        </p:txBody>
      </p:sp>
      <p:sp>
        <p:nvSpPr>
          <p:cNvPr id="233" name=""/>
          <p:cNvSpPr txBox="1"/>
          <p:nvPr/>
        </p:nvSpPr>
        <p:spPr>
          <a:xfrm>
            <a:off x="178920" y="1557360"/>
            <a:ext cx="8713800" cy="476712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رفض بعض الإكلنيكيين اعتبار اختبار تكملة الجمل اختبار اسقاطياً, ومع ذالك ففيه جميع مقومات الاختبار الإسقاطي فطبيعة الاختبار مبهمة وغامضة وناقصة التكوين الى حد ما, كما ان المفحوص لا يستطيع أن يدرك بوضوح المغزى الذي يكمن وراء الاجابات.</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ذلك فقد قدم "جوزيف ساكس, و ليفي " الدليل على ان اختبار تكملة الجمل الناقصة اختباراً إسقاطياً, وذالك بتجربة بسيطة فقد طلب من عشرة أشخاص تكملة العبارة الآتية بسرعة و بدون تفكير في محتواها وه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 الطريقة التي عامل بها والدي والدتي تجعلني احس "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هذا فقد حصل الباحثان على عشرة إجابات فريدة من نوع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00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عريف الإسقاط</a:t>
            </a:r>
            <a:endParaRPr b="0" lang="en-US" sz="5000" spc="-1" strike="noStrike">
              <a:solidFill>
                <a:srgbClr val="4e3b30"/>
              </a:solidFill>
              <a:latin typeface="Calibri"/>
            </a:endParaRPr>
          </a:p>
        </p:txBody>
      </p:sp>
      <p:sp>
        <p:nvSpPr>
          <p:cNvPr id="198" name=""/>
          <p:cNvSpPr txBox="1"/>
          <p:nvPr/>
        </p:nvSpPr>
        <p:spPr>
          <a:xfrm>
            <a:off x="108000" y="1268280"/>
            <a:ext cx="8856720" cy="540072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هر لأول مرة لفظ  "إسقاط" في علم النفس عند (فرويد) وذلك في مقالة له عن عصاب القلق, سنة </a:t>
            </a:r>
            <a:r>
              <a:rPr b="0" lang="ar-SA" sz="2600" spc="-1" strike="noStrike">
                <a:solidFill>
                  <a:srgbClr val="000000"/>
                </a:solidFill>
                <a:latin typeface="Constantia"/>
              </a:rPr>
              <a:t>1894</a:t>
            </a:r>
            <a:r>
              <a:rPr b="0" lang="ar-SA" sz="2600" spc="-1" strike="noStrike">
                <a:solidFill>
                  <a:srgbClr val="000000"/>
                </a:solidFill>
                <a:latin typeface="Constantia"/>
              </a:rPr>
              <a:t> حيث أوضح أن عصاب القلق يظهر عندما تشعر الذات بعجزها عن السيطرة على المثيرات الجنسية, وفي هذه الحالة تسلك النفس وكأنها تسقط هذه المثيرات على العام الخارجي.</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طرق الإسقاطية وسائل غير مباشرة لقياس الشخصية في جوانبها السوية وغير السوية، وتعتمد هذه الطرق على مفهوم الإسقاط.</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والإسقاط هو </a:t>
            </a:r>
            <a:r>
              <a:rPr b="0" lang="ar-SA" sz="2600" spc="-1" strike="noStrike">
                <a:solidFill>
                  <a:srgbClr val="000000"/>
                </a:solidFill>
                <a:latin typeface="Constantia"/>
              </a:rPr>
              <a:t>عملية دفاعية لاشعورية يعزو بها الفرد دوافعه ومشاعره إلى الآخرين أو إلى العالم الخارجي، والهدف منها الدفاع ضد القلق والدوافع اللاشعورية ويترتب عليها خفض التوتر.</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أما الإسقاط في الاختبارات والطرق الاسقاطية، </a:t>
            </a:r>
            <a:r>
              <a:rPr b="0" lang="ar-SA" sz="2600" spc="-1" strike="noStrike">
                <a:solidFill>
                  <a:srgbClr val="000000"/>
                </a:solidFill>
                <a:latin typeface="Constantia"/>
              </a:rPr>
              <a:t>فيشير إلى منبه غامض غير محدد يقدم إلى الفرد، ويطلب منه تأويلاً أو معنى له، وتعكس إجابات المفحوص دوافعه وحاجاته الخاصة و رغباته ونزعاته وتفسيراته الذات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محتوى الاختبار </a:t>
            </a:r>
            <a:endParaRPr b="0" lang="en-US" sz="5000" spc="-1" strike="noStrike">
              <a:solidFill>
                <a:srgbClr val="4e3b30"/>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هدف اختبار "</a:t>
            </a:r>
            <a:r>
              <a:rPr b="0" lang="ar-SA" sz="2600" spc="-1" strike="noStrike">
                <a:solidFill>
                  <a:srgbClr val="ff0000"/>
                </a:solidFill>
                <a:latin typeface="Constantia"/>
              </a:rPr>
              <a:t>ساكس</a:t>
            </a:r>
            <a:r>
              <a:rPr b="0" lang="ar-SA" sz="2600" spc="-1" strike="noStrike">
                <a:solidFill>
                  <a:srgbClr val="000000"/>
                </a:solidFill>
                <a:latin typeface="Constantia"/>
              </a:rPr>
              <a:t>” المكون من </a:t>
            </a:r>
            <a:r>
              <a:rPr b="0" lang="ar-SA" sz="2600" spc="-1" strike="noStrike">
                <a:solidFill>
                  <a:srgbClr val="000000"/>
                </a:solidFill>
                <a:latin typeface="Constantia"/>
              </a:rPr>
              <a:t>60</a:t>
            </a:r>
            <a:r>
              <a:rPr b="0" lang="ar-SA" sz="2600" spc="-1" strike="noStrike">
                <a:solidFill>
                  <a:srgbClr val="000000"/>
                </a:solidFill>
                <a:latin typeface="Constantia"/>
              </a:rPr>
              <a:t> جملة ناقصة إلى دراسة خمسة عشر مجالاً في الشخص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م – الاتجاه نحو الأب</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سرة – الاتجاه نحو النس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علاقات الجنسية – الاتجاه نحو الأصدق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اتجاه نحو الرؤساء في العمل أو المدرسة – المخاوف</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شاعر الذنب – اتجاه الشخص نحو قدراته الخاص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ماضي – الاتجاه نحو المستقبل</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هدا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تحليل الاستجابات</a:t>
            </a:r>
            <a:endParaRPr b="0" lang="en-US" sz="5000" spc="-1" strike="noStrike">
              <a:solidFill>
                <a:srgbClr val="4e3b30"/>
              </a:solidFill>
              <a:latin typeface="Calibri"/>
            </a:endParaRPr>
          </a:p>
        </p:txBody>
      </p:sp>
      <p:sp>
        <p:nvSpPr>
          <p:cNvPr id="237" name=""/>
          <p:cNvSpPr txBox="1"/>
          <p:nvPr/>
        </p:nvSpPr>
        <p:spPr>
          <a:xfrm>
            <a:off x="250560" y="1934640"/>
            <a:ext cx="8713800" cy="4389480"/>
          </a:xfrm>
          <a:prstGeom prst="rect">
            <a:avLst/>
          </a:prstGeom>
          <a:noFill/>
          <a:ln w="0">
            <a:noFill/>
          </a:ln>
        </p:spPr>
        <p:txBody>
          <a:bodyPr anchor="t">
            <a:normAutofit/>
          </a:bodyPr>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ول الجملة: </a:t>
            </a:r>
            <a:r>
              <a:rPr b="0" lang="ar-SA" sz="2600" spc="-1" strike="noStrike">
                <a:solidFill>
                  <a:srgbClr val="000000"/>
                </a:solidFill>
                <a:latin typeface="Constantia"/>
              </a:rPr>
              <a:t>تدل الجملة الطويلة على محاولة لتغطية المشاعر الحقيق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محو أو ترك الجملة دون تكملة</a:t>
            </a:r>
            <a:r>
              <a:rPr b="0" lang="ar-SA" sz="2600" spc="-1" strike="noStrike">
                <a:solidFill>
                  <a:srgbClr val="000000"/>
                </a:solidFill>
                <a:latin typeface="Constantia"/>
              </a:rPr>
              <a:t>، ويشير إلى ميادين الصراع، أو يرى أنها ستكشف أمره .</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عنف لهجة التعبير </a:t>
            </a:r>
            <a:r>
              <a:rPr b="0" lang="ar-SA" sz="2600" spc="-1" strike="noStrike">
                <a:solidFill>
                  <a:srgbClr val="000000"/>
                </a:solidFill>
                <a:latin typeface="Constantia"/>
              </a:rPr>
              <a:t>وتكشف عن مشاعر قو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ستجابات </a:t>
            </a:r>
            <a:r>
              <a:rPr b="0" lang="ar-SA" sz="2600" spc="-1" strike="noStrike">
                <a:solidFill>
                  <a:srgbClr val="0070c0"/>
                </a:solidFill>
                <a:latin typeface="Constantia"/>
              </a:rPr>
              <a:t>الفريدة</a:t>
            </a:r>
            <a:r>
              <a:rPr b="0" lang="ar-SA" sz="2600" spc="-1" strike="noStrike">
                <a:solidFill>
                  <a:srgbClr val="000000"/>
                </a:solidFill>
                <a:latin typeface="Constantia"/>
              </a:rPr>
              <a:t> غير المألوف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عليقات </a:t>
            </a:r>
            <a:r>
              <a:rPr b="0" lang="ar-SA" sz="2600" spc="-1" strike="noStrike">
                <a:solidFill>
                  <a:srgbClr val="000000"/>
                </a:solidFill>
                <a:latin typeface="Constantia"/>
              </a:rPr>
              <a:t>على العبارات في أثناء الإجاب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تكرار</a:t>
            </a:r>
            <a:r>
              <a:rPr b="0" lang="ar-SA" sz="2600" spc="-1" strike="noStrike">
                <a:solidFill>
                  <a:srgbClr val="000000"/>
                </a:solidFill>
                <a:latin typeface="Constantia"/>
              </a:rPr>
              <a:t> الفكا</a:t>
            </a:r>
            <a:r>
              <a:rPr b="0" lang="ar-SA" sz="2600" spc="-1" strike="noStrike">
                <a:solidFill>
                  <a:srgbClr val="0070c0"/>
                </a:solidFill>
                <a:latin typeface="Constantia"/>
              </a:rPr>
              <a:t>لتناقض</a:t>
            </a:r>
            <a:r>
              <a:rPr b="0" lang="ar-SA" sz="2600" spc="-1" strike="noStrike">
                <a:solidFill>
                  <a:srgbClr val="000000"/>
                </a:solidFill>
                <a:latin typeface="Constantia"/>
              </a:rPr>
              <a:t> الظاهر بين الإجابات.</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رة ذا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
        <p:nvSpPr>
          <p:cNvPr id="239" name=""/>
          <p:cNvSpPr txBox="1"/>
          <p:nvPr/>
        </p:nvSpPr>
        <p:spPr>
          <a:xfrm>
            <a:off x="324000" y="1934640"/>
            <a:ext cx="8640720" cy="438948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وضع هذا الاختبار هنري موراي وزميلته موجان </a:t>
            </a:r>
            <a:r>
              <a:rPr b="0" lang="ar-SA" sz="2600" spc="-1" strike="noStrike">
                <a:solidFill>
                  <a:srgbClr val="000000"/>
                </a:solidFill>
                <a:latin typeface="Constantia"/>
              </a:rPr>
              <a:t>1935</a:t>
            </a:r>
            <a:r>
              <a:rPr b="0" lang="ar-SA" sz="2600" spc="-1" strike="noStrike">
                <a:solidFill>
                  <a:srgbClr val="000000"/>
                </a:solidFill>
                <a:latin typeface="Constantia"/>
              </a:rPr>
              <a:t>, ونشر موراي نتائج البحوث التي أجريت عليه بالعيادة النفسية في جامعة هارفرد وذلك في كتابة "استكشافات في الشخصية", ومن ذلك الوقت والاختبار يستخدم على نطاق واسع في أعمال العيادات النفسية في أمريكا وأوربا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بر اختبار تفهم الموضوع وسيلة توضح للسيكولوجي الخبير بعض مشاعر الفرد وانفعالاته وأحاسيسه, واختبار تفهم الموضوع مفيد في أي دراسة شاملة عن الشخصية وفي تفسير الاضطرابات السلوكية والأمراض العصابية والذهانية والسيكوسوماتية , كما انه مفيد في تفسير ما يدور في نفس المفحوص من مشاعر وانفعالات ودوافع ونزاعات مكبوتة وألوان الصراع ال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8920" y="1484280"/>
            <a:ext cx="8713800" cy="5113440"/>
          </a:xfrm>
          <a:prstGeom prst="rect">
            <a:avLst/>
          </a:prstGeom>
          <a:noFill/>
          <a:ln w="0">
            <a:noFill/>
          </a:ln>
        </p:spPr>
        <p:txBody>
          <a:bodyPr anchor="t">
            <a:normAutofit fontScale="93000"/>
          </a:bodyPr>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الأساس النظر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جراء المتبع في اختبار تفهم الموضوع هو تقديم مجموعة من الصور إلى المفحوص, وحثه على أن يؤلف عنها قصصا ارتجالية, والقصص التي تجمع بهذه الطريقة غالباً ما توضح متضمنات ذات دلالة عن الشخصية. ويتألف الاختبار من ثلاثين لوحة تشتمل كل واحدة على منظر به شخص أو جملة أشخاص في مواقف غير محدده المعالم بحيث تسمح بإدراكها على أنحاء مختلفة.    </a:t>
            </a:r>
            <a:endParaRPr b="0" lang="en-US" sz="2600" spc="-1" strike="noStrike">
              <a:solidFill>
                <a:srgbClr val="000000"/>
              </a:solidFill>
              <a:latin typeface="Constantia"/>
            </a:endParaRPr>
          </a:p>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وتعتمد هذه الحقيقة على اتجاهين سيكولوجيين سائدين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ول: هو ميل الناس لتفسير المواقف الإنسانية الغامضة بما يتفق مع خبراتهم الماضية ورغباتهم الحاضرة و آمالهم المستقبلية.</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ثاني: هو نزعة المفحوصين إلى أن يعترفوا بطريقة شعورية أو لاشعورية عن  تجاربهم وخبراتهم الشخصية.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700280"/>
            <a:ext cx="878544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طريقة التفسير: </a:t>
            </a:r>
            <a:r>
              <a:rPr b="0" lang="ar-SA" sz="2600" spc="-1" strike="noStrike">
                <a:solidFill>
                  <a:srgbClr val="ff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ناك طريقة تفسير قدمها </a:t>
            </a:r>
            <a:r>
              <a:rPr b="0" lang="ar-SA" sz="2600" spc="-1" strike="noStrike">
                <a:solidFill>
                  <a:srgbClr val="ffc000"/>
                </a:solidFill>
                <a:latin typeface="Constantia"/>
              </a:rPr>
              <a:t>موري</a:t>
            </a:r>
            <a:r>
              <a:rPr b="0" lang="ar-SA" sz="2600" spc="-1" strike="noStrike">
                <a:solidFill>
                  <a:srgbClr val="000000"/>
                </a:solidFill>
                <a:latin typeface="Constantia"/>
              </a:rPr>
              <a:t> تقوم على تحليل محتوى القصة بالمكونات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أ-البطل الرئيسي: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الشخصية الذي يتقمص الفرد شخصيته والتي تحظى بمعظم الحديث في القصة والتي يصف المفحوص إحساساته ومشاعره, أو الشخصية التي يرى الفرد نفسه فيها ويتقمصها.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لاحظ" أن المفحوص يتقمص أبطالا من جنسه وسنه وأحيانا نجد المفحوص يتقمص أبطالاً من الجنس الآخر. ويهتم المفسر بخصائص البطل (القيادة-العزلة- التسلط- الإجرا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8920" y="1844640"/>
            <a:ext cx="8713800" cy="468000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ب- الحاجات الرئيسية للبطل: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يشرع الباحث في الوقوف على الدوافع المحركة للبطل, ومعرفة مشاعره وأفكاره ونزاعاته وحاجاته, كالحاجة للسيطرة و الحاجة للجنس و الحاجة للانجاز و الحاجة إلى تلقي العون.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ج- الضغوط البيئية التي يتعرض لها البطل:</a:t>
            </a:r>
            <a:endParaRPr b="0" lang="en-US" sz="2600" spc="-1" strike="noStrike">
              <a:solidFill>
                <a:srgbClr val="000000"/>
              </a:solidFill>
              <a:latin typeface="Constantia"/>
            </a:endParaRPr>
          </a:p>
          <a:p>
            <a:pPr marL="256320" indent="-2563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درس المواقف التي يوجد فيها البطل والضغوط البيئية ويتضح فيما يقوم به البطل من أفعال ضد الآخرين والتي تكشف عن الميول العدوانية , أو تتمثل في حالات الشك والحيرة أو الارتباك إزاء سلوكيات معينه والتي تعبر في الغالب عن الصراعات , أو الإحساس العميق بالذنب نتيجة ارتكاب الأخطاء و الميل إلى اللوم اللاذع للذات ونقدها واستصغارها وهنا تكشف عن قوة الأنا العليا.</a:t>
            </a:r>
            <a:endParaRPr b="0" lang="en-US" sz="2600" spc="-1" strike="noStrike">
              <a:solidFill>
                <a:srgbClr val="000000"/>
              </a:solidFill>
              <a:latin typeface="Constantia"/>
            </a:endParaRPr>
          </a:p>
        </p:txBody>
      </p:sp>
      <p:sp>
        <p:nvSpPr>
          <p:cNvPr id="245"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1700280"/>
            <a:ext cx="871380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وجد اختبار تفهم الموضوع خاص بالأطفال ويرمز له بالرمز </a:t>
            </a:r>
            <a:r>
              <a:rPr b="0" lang="ar-SA" sz="2600" spc="-1" strike="noStrike">
                <a:solidFill>
                  <a:srgbClr val="0070c0"/>
                </a:solidFill>
                <a:latin typeface="Constantia"/>
              </a:rPr>
              <a:t>"</a:t>
            </a:r>
            <a:r>
              <a:rPr b="0" lang="en-US" sz="2600" spc="-1" strike="noStrike">
                <a:solidFill>
                  <a:srgbClr val="0070c0"/>
                </a:solidFill>
                <a:latin typeface="Constantia"/>
              </a:rPr>
              <a:t>CAT</a:t>
            </a:r>
            <a:r>
              <a:rPr b="0" lang="ar-SA" sz="2600" spc="-1" strike="noStrike">
                <a:solidFill>
                  <a:srgbClr val="0070c0"/>
                </a:solidFill>
                <a:latin typeface="Constantia"/>
              </a:rPr>
              <a:t>" </a:t>
            </a:r>
            <a:r>
              <a:rPr b="0" lang="ar-SA" sz="2600" spc="-1" strike="noStrike">
                <a:solidFill>
                  <a:srgbClr val="000000"/>
                </a:solidFill>
                <a:latin typeface="Constantia"/>
              </a:rPr>
              <a:t>, "</a:t>
            </a:r>
            <a:r>
              <a:rPr b="0" lang="en-US" sz="2600" spc="-1" strike="noStrike">
                <a:solidFill>
                  <a:srgbClr val="000000"/>
                </a:solidFill>
                <a:latin typeface="Constantia"/>
              </a:rPr>
              <a:t>Children Appercetion Test</a:t>
            </a:r>
            <a:r>
              <a:rPr b="0" lang="ar-SA" sz="2600" spc="-1" strike="noStrike">
                <a:solidFill>
                  <a:srgbClr val="000000"/>
                </a:solidFill>
                <a:latin typeface="Constantia"/>
              </a:rPr>
              <a:t> "  ولهذا الاختبار الأساس النظري والإطار المرجعي ذاته لاختبار </a:t>
            </a:r>
            <a:r>
              <a:rPr b="0" lang="en-US" sz="2600" spc="-1" strike="noStrike">
                <a:solidFill>
                  <a:srgbClr val="000000"/>
                </a:solidFill>
                <a:latin typeface="Constantia"/>
              </a:rPr>
              <a:t>"</a:t>
            </a:r>
            <a:r>
              <a:rPr b="0" lang="en-US" sz="2600" spc="-1" strike="noStrike">
                <a:solidFill>
                  <a:srgbClr val="000000"/>
                </a:solidFill>
                <a:latin typeface="Constantia"/>
              </a:rPr>
              <a:t>TAT</a:t>
            </a:r>
            <a:r>
              <a:rPr b="0" lang="en-US" sz="2600" spc="-1" strike="noStrike">
                <a:solidFill>
                  <a:srgbClr val="000000"/>
                </a:solidFill>
                <a:latin typeface="Constantia"/>
              </a:rPr>
              <a:t>" </a:t>
            </a:r>
            <a:r>
              <a:rPr b="0" lang="ar-SA" sz="2600" spc="-1" strike="noStrike">
                <a:solidFill>
                  <a:srgbClr val="000000"/>
                </a:solidFill>
                <a:latin typeface="Constantia"/>
              </a:rPr>
              <a:t> ولكن بدلا من استخدام الصور الإنسانية تستخدم صور للحيوانات بوصفها منبهاً, فمن المعتقد - تبعاً لنظرية التحليل النفسي – أن من السهل على الطفل أن يتقمص الحيوان ويتوحد به أكثر من أية كائنات أخرى.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b050"/>
                </a:solidFill>
                <a:latin typeface="Calibri"/>
              </a:rPr>
              <a:t>نموذج لاستجابة احد المفحوصين لاختبار "</a:t>
            </a:r>
            <a:r>
              <a:rPr b="0" lang="en-US" sz="5000" spc="-1" strike="noStrike">
                <a:solidFill>
                  <a:srgbClr val="00b050"/>
                </a:solidFill>
                <a:latin typeface="Calibri"/>
              </a:rPr>
              <a:t>TAT</a:t>
            </a:r>
            <a:r>
              <a:rPr b="0" lang="ar-SA" sz="5000" spc="-1" strike="noStrike">
                <a:solidFill>
                  <a:srgbClr val="00b050"/>
                </a:solidFill>
                <a:latin typeface="Calibri"/>
              </a:rPr>
              <a:t>"</a:t>
            </a:r>
            <a:endParaRPr b="0" lang="en-US" sz="5000" spc="-1" strike="noStrike">
              <a:solidFill>
                <a:srgbClr val="4e3b30"/>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البطاقة (</a:t>
            </a:r>
            <a:r>
              <a:rPr b="0" lang="ar-SA" sz="2400" spc="-1" strike="noStrike">
                <a:solidFill>
                  <a:srgbClr val="00b050"/>
                </a:solidFill>
                <a:latin typeface="Constantia"/>
              </a:rPr>
              <a:t>2</a:t>
            </a:r>
            <a:r>
              <a:rPr b="0" lang="ar-SA" sz="2400" spc="-1" strike="noStrike">
                <a:solidFill>
                  <a:srgbClr val="00b050"/>
                </a:solidFill>
                <a:latin typeface="Constantia"/>
              </a:rPr>
              <a:t>)</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ينما الجميع في نوم عميق والمكان يخيم عليه الهدوء, فجأة اشتعلت النيران في منزل الرجل الطيب الذي يعيش بمفرده  والتهمت النيران كل المنزل فقد شاء القدر أن يحدث له ذلك, ولكن الجيران هبو في محاولة لإطفاء النار التي قضت على المنزل, ولكن الرجل كان مؤمن بالله وبقدره, وهو الان جالس يفكر فيما وصل إليه حاله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التفسير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Constantia"/>
              </a:rPr>
              <a:t>تكشف الاستجابة عن قلق وخوف من المجهول في صورة كارثة تحدث لبطل القصة, ويحاول المفحوص من ناحية ثانية إعلاء مشاعر مشاعر الحزن واليأس على الأحداث غير السارة بالصبر وتفويض الأمر لله, مع كبت العدوان بعدم رؤية المسدس الموجود بجانب البطل الذي يظهر في البطاق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ff3399"/>
                </a:solidFill>
                <a:latin typeface="Calibri"/>
              </a:rPr>
              <a:t>مزايا الأساليب الإسقاطية</a:t>
            </a:r>
            <a:endParaRPr b="0" lang="en-US" sz="4500" spc="-1" strike="noStrike">
              <a:solidFill>
                <a:srgbClr val="4e3b30"/>
              </a:solidFill>
              <a:latin typeface="Calibri"/>
            </a:endParaRPr>
          </a:p>
        </p:txBody>
      </p:sp>
      <p:sp>
        <p:nvSpPr>
          <p:cNvPr id="251" name=""/>
          <p:cNvSpPr txBox="1"/>
          <p:nvPr/>
        </p:nvSpPr>
        <p:spPr>
          <a:xfrm>
            <a:off x="178920" y="1934640"/>
            <a:ext cx="8713800" cy="4389480"/>
          </a:xfrm>
          <a:prstGeom prst="rect">
            <a:avLst/>
          </a:prstGeom>
          <a:noFill/>
          <a:ln w="0">
            <a:noFill/>
          </a:ln>
        </p:spPr>
        <p:txBody>
          <a:bodyPr anchor="t">
            <a:normAutofit fontScale="95000"/>
          </a:bodyPr>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ثيراتها وتعليماتها غير محددة البنية أو غامضة مما يسمح بحرية الاستجابة وتنوعه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عظمها لا يحتاج إلى مهارة في القراء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أن تطبق على الأميين والصغار.</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دم وجود استجابة صحيحة  وأخرى خاطئة، أو استجابات محددة مسبق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يد في الدراسات المقارنة حيث يستطيع الباحث إجراء نفس الاختبارات على أفراد من مجتمعات مختلف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خلو من الصعوبات اللغوية التي تواجه الباحث في صياغة الأسئلة وتحديد المصطلحات عند إعداد الاستبيانات أو إجراء المقابلات.</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030a0"/>
                </a:solidFill>
                <a:latin typeface="Calibri"/>
              </a:rPr>
              <a:t>عيوب الأساليب الإسقاطية</a:t>
            </a:r>
            <a:endParaRPr b="0" lang="en-US" sz="5000" spc="-1" strike="noStrike">
              <a:solidFill>
                <a:srgbClr val="4e3b30"/>
              </a:solidFill>
              <a:latin typeface="Calibri"/>
            </a:endParaRPr>
          </a:p>
        </p:txBody>
      </p:sp>
      <p:sp>
        <p:nvSpPr>
          <p:cNvPr id="253" name=""/>
          <p:cNvSpPr txBox="1"/>
          <p:nvPr/>
        </p:nvSpPr>
        <p:spPr>
          <a:xfrm>
            <a:off x="250920" y="1700280"/>
            <a:ext cx="8642160" cy="4897440"/>
          </a:xfrm>
          <a:prstGeom prst="rect">
            <a:avLst/>
          </a:prstGeom>
          <a:noFill/>
          <a:ln w="0">
            <a:noFill/>
          </a:ln>
        </p:spPr>
        <p:txBody>
          <a:bodyPr anchor="t">
            <a:normAutofit fontScale="96000"/>
          </a:bodyPr>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فتقارها للتقنين بوجود معايير مستندة إلى جماعات مرجعية، ومن ثم فمعاملات ثبات وصدق هذه المقاييس منخفض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فاحص أو المختبر جزءاً لا يتجزأ من الأسلوب الإسقاطي والمواد المستخدم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طلب تطبيق فردي وما في ذلك من كلف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فسير البيانات واحتمال التحيز في استخلاص الدلالات من استجابات الأفراد.</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عوبات العملية التي يواجهها الباحث في التطبيق، ومنها صعوبة وجود أفراد غير متعاونين يعبرون عن آرائهم ومشاعرهم بصدق وأمانة. والأهم من ذلك، هو صعوبة وجود أخصائيين مدربين يستطيعون إجراء الاختبارات المختلفة، وملاحظة انفعالات الأفراد وتسجيل استجابتهم بشكل دقيق، وكذلك تحليها واستخلاص الدلالات الصحيحة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اسقاطية</a:t>
            </a:r>
            <a:endParaRPr b="0" lang="en-US" sz="5000" spc="-1" strike="noStrike">
              <a:solidFill>
                <a:srgbClr val="4e3b30"/>
              </a:solidFill>
              <a:latin typeface="Calibri"/>
            </a:endParaRPr>
          </a:p>
        </p:txBody>
      </p:sp>
      <p:sp>
        <p:nvSpPr>
          <p:cNvPr id="200" name=""/>
          <p:cNvSpPr txBox="1"/>
          <p:nvPr/>
        </p:nvSpPr>
        <p:spPr>
          <a:xfrm>
            <a:off x="179280" y="1773000"/>
            <a:ext cx="8785440" cy="4895640"/>
          </a:xfrm>
          <a:prstGeom prst="rect">
            <a:avLst/>
          </a:prstGeom>
          <a:noFill/>
          <a:ln w="0">
            <a:noFill/>
          </a:ln>
        </p:spPr>
        <p:txBody>
          <a:bodyPr anchor="t">
            <a:normAutofit fontScale="90000"/>
          </a:bodyPr>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800" spc="-1" strike="noStrike">
                <a:solidFill>
                  <a:srgbClr val="000000"/>
                </a:solidFill>
                <a:latin typeface="Constantia"/>
              </a:rPr>
              <a:t>ينبع الإطار النظري للطرق الإسقاطية من التحليل النفسي والممارسة الاكلينيكية التي تؤكد العمليات اللاشعوري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مثل نظرية الجشتطلت أحد الأسس النظرية للطرق الإسقاطية، وذلك في تركيزها على إدراك الكل الذي يسبق إدراك الجزء.</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طريقة الفرد في إدراك المنبهات الغامضة وتفسيرها تعكس مختلف الجوانب الأساسية لشخصيته ووظائفه النفسية وحاجاته وقلقه وصراعاته.</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ذات منبهات غامضة وغير محددة البناء وغير متشكلة وتسمح بأكبر قدر من التنوع في الإجاب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قلل غموض المنبهات في الطرق الإسقاطية من تحكم الفرد في استجاباته مما يسهل الكشف عن شخصيته.</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0920" y="1844640"/>
            <a:ext cx="8642160" cy="46800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مكن الحكم على الإجابة بأنها صواب أو خطأ بل يحكم على دلالتها على الشخصي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عي المفحوص الهدف من الاختبار وكيف تقدر الإجابات وتفسر.</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طي غالباً صورة كلية عن الشخصية أكثر من قياسها لسمات محددة منفصل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تقيس الجوانب السطحية من الشخصية بل الطبقات العميق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د طريقة فعالة للكشف عن الجوانب الضمنية واللاشعورية للشخصية.</a:t>
            </a:r>
            <a:endParaRPr b="0" lang="en-US" sz="2800" spc="-1" strike="noStrike">
              <a:solidFill>
                <a:srgbClr val="000000"/>
              </a:solidFill>
              <a:latin typeface="Constantia"/>
            </a:endParaRPr>
          </a:p>
        </p:txBody>
      </p:sp>
      <p:sp>
        <p:nvSpPr>
          <p:cNvPr id="20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إسقاطية</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نواع الطرق الإسقاطية</a:t>
            </a:r>
            <a:endParaRPr b="0" lang="en-US" sz="5000" spc="-1" strike="noStrike">
              <a:solidFill>
                <a:srgbClr val="4e3b30"/>
              </a:solidFill>
              <a:latin typeface="Calibri"/>
            </a:endParaRPr>
          </a:p>
        </p:txBody>
      </p:sp>
      <p:pic>
        <p:nvPicPr>
          <p:cNvPr id="204" name="عنصر نائب للمحتوى 6" descr=""/>
          <p:cNvPicPr/>
          <p:nvPr/>
        </p:nvPicPr>
        <p:blipFill>
          <a:blip r:embed="rId1"/>
          <a:stretch/>
        </p:blipFill>
        <p:spPr>
          <a:xfrm>
            <a:off x="426960" y="1895400"/>
            <a:ext cx="8320320" cy="45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76500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6" name=""/>
          <p:cNvSpPr txBox="1"/>
          <p:nvPr/>
        </p:nvSpPr>
        <p:spPr>
          <a:xfrm>
            <a:off x="179280" y="1483920"/>
            <a:ext cx="8640720" cy="4840200"/>
          </a:xfrm>
          <a:prstGeom prst="rect">
            <a:avLst/>
          </a:prstGeom>
          <a:noFill/>
          <a:ln w="0">
            <a:noFill/>
          </a:ln>
        </p:spPr>
        <p:txBody>
          <a:bodyPr anchor="t">
            <a:normAutofit fontScale="91000"/>
          </a:bodyPr>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Constantia"/>
              </a:rPr>
              <a:t> </a:t>
            </a:r>
            <a:r>
              <a:rPr b="0" lang="ar-SA" sz="2600" spc="-1" strike="noStrike">
                <a:solidFill>
                  <a:srgbClr val="ff0000"/>
                </a:solidFill>
                <a:latin typeface="Constantia"/>
              </a:rPr>
              <a:t>يرى "لندزي" تصنيف الطرق الإسقاطية تبعا لنمط الاستجابة المطلوبة من المفحوص  إلى خمسة أنواع  هي: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داعي: </a:t>
            </a:r>
            <a:r>
              <a:rPr b="0" lang="ar-SA" sz="2600" spc="-1" strike="noStrike">
                <a:solidFill>
                  <a:srgbClr val="000000"/>
                </a:solidFill>
                <a:latin typeface="Constantia"/>
              </a:rPr>
              <a:t>والمنبه فيها كلمة أو جملة أو بقعة حبر, يستجيب لها المفحوص بكلمة أو عبارة أو مدرك, من امثلتها اختبار </a:t>
            </a:r>
            <a:r>
              <a:rPr b="0" lang="ar-SA" sz="2600" spc="-1" strike="noStrike">
                <a:solidFill>
                  <a:srgbClr val="00b050"/>
                </a:solidFill>
                <a:latin typeface="Constantia"/>
              </a:rPr>
              <a:t>تداعي الكلمات </a:t>
            </a:r>
            <a:r>
              <a:rPr b="0" lang="ar-SA" sz="2600" spc="-1" strike="noStrike">
                <a:solidFill>
                  <a:srgbClr val="000000"/>
                </a:solidFill>
                <a:latin typeface="Constantia"/>
              </a:rPr>
              <a:t>واختبار</a:t>
            </a:r>
            <a:r>
              <a:rPr b="0" lang="ar-SA" sz="2600" spc="-1" strike="noStrike">
                <a:solidFill>
                  <a:srgbClr val="00b050"/>
                </a:solidFill>
                <a:latin typeface="Constantia"/>
              </a:rPr>
              <a:t> الرورشاخ</a:t>
            </a:r>
            <a:r>
              <a:rPr b="0" lang="ar-SA" sz="2600" spc="-1" strike="noStrike">
                <a:solidFill>
                  <a:srgbClr val="000000"/>
                </a:solidFill>
                <a:latin typeface="Constantia"/>
              </a:rPr>
              <a:t>.</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وين: </a:t>
            </a:r>
            <a:r>
              <a:rPr b="0" lang="ar-SA" sz="2600" spc="-1" strike="noStrike">
                <a:solidFill>
                  <a:srgbClr val="000000"/>
                </a:solidFill>
                <a:latin typeface="Constantia"/>
              </a:rPr>
              <a:t>وتنتج الاستجابة في هذا النوع من نشاط معرفي بنائي إنشائي معقد كأن يكون المفحوص قصة اعتماداً على صورة </a:t>
            </a:r>
            <a:r>
              <a:rPr b="0" lang="ar-SA" sz="2600" spc="-1" strike="noStrike">
                <a:solidFill>
                  <a:srgbClr val="00b050"/>
                </a:solidFill>
                <a:latin typeface="Constantia"/>
              </a:rPr>
              <a:t>" اختبار تفهم الموضوع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Constantia"/>
              </a:rPr>
              <a:t>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ملة: </a:t>
            </a:r>
            <a:r>
              <a:rPr b="0" lang="ar-SA" sz="2600" spc="-1" strike="noStrike">
                <a:solidFill>
                  <a:srgbClr val="000000"/>
                </a:solidFill>
                <a:latin typeface="Constantia"/>
              </a:rPr>
              <a:t>يعطى المفحوص منبها ناقصاً غير مكتمل (جملة – قصة) ويطلب منه تكملته كاختبار </a:t>
            </a:r>
            <a:r>
              <a:rPr b="0" lang="ar-SA" sz="2600" spc="-1" strike="noStrike">
                <a:solidFill>
                  <a:srgbClr val="00b050"/>
                </a:solidFill>
                <a:latin typeface="Constantia"/>
              </a:rPr>
              <a:t>"ساكس" </a:t>
            </a:r>
            <a:r>
              <a:rPr b="0" lang="ar-SA" sz="2600" spc="-1" strike="noStrike">
                <a:solidFill>
                  <a:srgbClr val="000000"/>
                </a:solidFill>
                <a:latin typeface="Constantia"/>
              </a:rPr>
              <a:t>لتكملة الجمل .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8" name=""/>
          <p:cNvSpPr txBox="1"/>
          <p:nvPr/>
        </p:nvSpPr>
        <p:spPr>
          <a:xfrm>
            <a:off x="178920" y="1934640"/>
            <a:ext cx="87138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اختيار أو الترتيب: </a:t>
            </a:r>
            <a:r>
              <a:rPr b="0" lang="ar-SA" sz="2600" spc="-1" strike="noStrike">
                <a:solidFill>
                  <a:srgbClr val="000000"/>
                </a:solidFill>
                <a:latin typeface="Constantia"/>
              </a:rPr>
              <a:t>يقدم للمفحوص عدد من المنبهات كالصور أو الجمل ويطلب منه إعادة ترتيبها أو يحدد تفضيلاته لها ومن أمثلتها </a:t>
            </a:r>
            <a:r>
              <a:rPr b="0" lang="ar-SA" sz="2600" spc="-1" strike="noStrike">
                <a:solidFill>
                  <a:srgbClr val="00b050"/>
                </a:solidFill>
                <a:latin typeface="Constantia"/>
              </a:rPr>
              <a:t>اختبار تنظيم الصور واختبار "سوند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طرق التعبيرية: </a:t>
            </a:r>
            <a:r>
              <a:rPr b="0" lang="ar-SA" sz="2600" spc="-1" strike="noStrike">
                <a:solidFill>
                  <a:srgbClr val="000000"/>
                </a:solidFill>
                <a:latin typeface="Constantia"/>
              </a:rPr>
              <a:t>مثل اختبارات الرسم بالخطوط أو بالألوان وطرق اللعب و(السيكودراما ), ويمكن ان تستخدم هذه الاختبارات في كل من التشخيص والعلاج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692280"/>
            <a:ext cx="82296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70c0"/>
                </a:solidFill>
                <a:latin typeface="Calibri"/>
              </a:rPr>
              <a:t>نماذج من الاختبارات الإسقاطية</a:t>
            </a:r>
            <a:endParaRPr b="0" lang="en-US" sz="4500" spc="-1" strike="noStrike">
              <a:solidFill>
                <a:srgbClr val="4e3b30"/>
              </a:solidFill>
              <a:latin typeface="Calibri"/>
            </a:endParaRPr>
          </a:p>
        </p:txBody>
      </p:sp>
      <p:sp>
        <p:nvSpPr>
          <p:cNvPr id="210" name=""/>
          <p:cNvSpPr txBox="1"/>
          <p:nvPr/>
        </p:nvSpPr>
        <p:spPr>
          <a:xfrm>
            <a:off x="179280" y="1557360"/>
            <a:ext cx="8856720" cy="4767120"/>
          </a:xfrm>
          <a:prstGeom prst="rect">
            <a:avLst/>
          </a:prstGeom>
          <a:noFill/>
          <a:ln w="0">
            <a:noFill/>
          </a:ln>
        </p:spPr>
        <p:txBody>
          <a:bodyPr anchor="t">
            <a:normAutofit/>
          </a:bodyPr>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ختبار الرورشاخ: </a:t>
            </a:r>
            <a:r>
              <a:rPr b="0" lang="ar-SA" sz="2800" spc="-1" strike="noStrike">
                <a:solidFill>
                  <a:srgbClr val="000000"/>
                </a:solidFill>
                <a:latin typeface="Constantia"/>
              </a:rPr>
              <a:t>يعتبر اختبار الرورشاخ من أشهر الاختبارات الإسقاطية, حيث وضع هذه الطريقة الطبيب السويسري "هرمان رورشاخ" ونشره في كتابه التشخيص النفسي, والاختبار يتكون من عشر بطاقات عليها بقع من الحبر, يطبق فردياً وجماعياً، كما يقوم مبدأ هذا الاختبار على وجود علاقة بين الإدراك والشخصية.</a:t>
            </a:r>
            <a:endParaRPr b="0" lang="en-US" sz="2800" spc="-1" strike="noStrike">
              <a:solidFill>
                <a:srgbClr val="000000"/>
              </a:solidFill>
              <a:latin typeface="Constantia"/>
            </a:endParaRPr>
          </a:p>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1" name="صورة 10" descr="http://tbn0.google.com/images?q=tbn:o5fTgCKSfrotPM:http://cache.eb.com/eb/image%3Fid%3D94957%26rendTypeId%3D4"/>
          <p:cNvPicPr/>
          <p:nvPr/>
        </p:nvPicPr>
        <p:blipFill>
          <a:blip r:embed="rId1"/>
          <a:stretch/>
        </p:blipFill>
        <p:spPr>
          <a:xfrm>
            <a:off x="1643040" y="3863880"/>
            <a:ext cx="5786640" cy="28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11"/>
                                        </p:tgtEl>
                                        <p:attrNameLst>
                                          <p:attrName>style.visibility</p:attrName>
                                        </p:attrNameLst>
                                      </p:cBhvr>
                                      <p:to>
                                        <p:strVal val="visible"/>
                                      </p:to>
                                    </p:set>
                                    <p:animEffect filter="circle(in)" transition="in">
                                      <p:cBhvr additive="repl">
                                        <p:cTn id="7"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rorschach_finalcover450">
            <a:hlinkClick r:id="rId1"/>
          </p:cNvPr>
          <p:cNvPicPr/>
          <p:nvPr/>
        </p:nvPicPr>
        <p:blipFill>
          <a:blip r:embed="rId2"/>
          <a:stretch/>
        </p:blipFill>
        <p:spPr>
          <a:xfrm>
            <a:off x="4286160" y="428760"/>
            <a:ext cx="4232520" cy="3071520"/>
          </a:xfrm>
          <a:prstGeom prst="rect">
            <a:avLst/>
          </a:prstGeom>
          <a:ln w="0">
            <a:noFill/>
          </a:ln>
        </p:spPr>
      </p:pic>
      <p:pic>
        <p:nvPicPr>
          <p:cNvPr id="213" name="Picture 5" descr="Rorschach"/>
          <p:cNvPicPr/>
          <p:nvPr/>
        </p:nvPicPr>
        <p:blipFill>
          <a:blip r:embed="rId3"/>
          <a:stretch/>
        </p:blipFill>
        <p:spPr>
          <a:xfrm>
            <a:off x="428760" y="3587760"/>
            <a:ext cx="5000400" cy="2865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12"/>
                                        </p:tgtEl>
                                        <p:attrNameLst>
                                          <p:attrName>style.visibility</p:attrName>
                                        </p:attrNameLst>
                                      </p:cBhvr>
                                      <p:to>
                                        <p:strVal val="visible"/>
                                      </p:to>
                                    </p:set>
                                    <p:animEffect filter="circle(in)" transition="in">
                                      <p:cBhvr additive="repl">
                                        <p:cTn id="14" dur="2000"/>
                                        <p:tgtEl>
                                          <p:spTgt spid="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13"/>
                                        </p:tgtEl>
                                        <p:attrNameLst>
                                          <p:attrName>style.visibility</p:attrName>
                                        </p:attrNameLst>
                                      </p:cBhvr>
                                      <p:to>
                                        <p:strVal val="visible"/>
                                      </p:to>
                                    </p:set>
                                    <p:animEffect filter="circle(in)" transition="in">
                                      <p:cBhvr additive="repl">
                                        <p:cTn id="1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5T11:14:13Z</dcterms:created>
  <dc:creator>مرحبا</dc:creator>
  <dc:description/>
  <dc:language>en-US</dc:language>
  <cp:lastModifiedBy>shr</cp:lastModifiedBy>
  <dcterms:modified xsi:type="dcterms:W3CDTF">2016-04-17T21:27:15Z</dcterms:modified>
  <cp:revision>44</cp:revision>
  <dc:subject/>
  <dc:title>الشريحة 1</dc:title>
</cp:coreProperties>
</file>