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8.wmf" ContentType="image/x-wmf"/>
  <Override PartName="/ppt/media/image17.jpeg" ContentType="image/jpeg"/>
  <Override PartName="/ppt/media/image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DFF-095E-468D-8C78-601126FA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01D-1F9D-46D8-B50C-80FC1B71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E35-052A-4678-8A4F-796D9CD9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9F4-470A-4B64-9EA7-AD1D570A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A38E-5D60-4A09-9F36-6BA58DAA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4147-0DBA-45CF-8F42-772E036F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05CE-90F2-498E-9DC4-04DB52EA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4BEB-0368-43C7-9874-BC4DFDE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C8B4-AE0D-4525-9886-A939F425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065D-6080-4728-B9D6-6C927AAA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BB86-CBCC-4C48-89DC-7BF5CFA3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6B2-67E5-40AF-A453-40986ADB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CA0C-F73E-4B44-B180-43EBEB7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59F-4D5B-4B8A-B13A-BE4BA08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AD9C-73F3-48BF-A751-458042FA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4793-C629-4C60-9499-ACEF3AB5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ED3D-6410-4E75-B3FE-DB7865A4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6B4-2D4F-4093-AEEA-12B0EDF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DF6-C150-41E1-BE59-B9F4235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F63-87A4-47E5-B5AB-7509C8CD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04D-2AA8-4492-8FC7-8DC9F264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B3B-70D4-4B3F-A1B5-D142C0C2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B84-DA7C-4310-80D9-550D3E27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A87-5668-40F7-97FF-E4F182CE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CB6-A849-477B-BC53-ED9246A5D97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2463-34EA-4E05-8072-4D23A8BB53D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أول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Users\dell\Pictures\ksulogo.png"/>
          <p:cNvPicPr/>
          <p:nvPr/>
        </p:nvPicPr>
        <p:blipFill>
          <a:blip r:embed="rId3"/>
          <a:stretch/>
        </p:blipFill>
        <p:spPr>
          <a:xfrm>
            <a:off x="5580000" y="189000"/>
            <a:ext cx="3095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261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الفرد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تعرفه على حقيقة نفسه , وأصله , حياته , مصي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خالقه ومعبود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الكون المحيط به , وكيف يسخره ويستفيد من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ما ينفعه ويضره ,فتأمره بالإفادة مما ينفعه وتنهاه عما يض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حياته ومصيره , وعلى دنياه وأخر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179280" y="4005360"/>
            <a:ext cx="3456000" cy="2852640"/>
            <a:chOff x="179280" y="4005360"/>
            <a:chExt cx="3456000" cy="2852640"/>
          </a:xfrm>
        </p:grpSpPr>
        <p:pic>
          <p:nvPicPr>
            <p:cNvPr id="176" name="Picture 10" descr="bd07154_"/>
            <p:cNvPicPr/>
            <p:nvPr/>
          </p:nvPicPr>
          <p:blipFill>
            <a:blip r:embed="rId1"/>
            <a:stretch/>
          </p:blipFill>
          <p:spPr>
            <a:xfrm>
              <a:off x="179280" y="4005360"/>
              <a:ext cx="345600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Oval 13"/>
            <p:cNvSpPr/>
            <p:nvPr/>
          </p:nvSpPr>
          <p:spPr>
            <a:xfrm>
              <a:off x="1734120" y="4716720"/>
              <a:ext cx="345600" cy="50616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ج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قوي أواصر المحبة والألفة والترابط بين أفراد المجتمع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حفظ له نقاءه , فحرم الإسلام الزنى والربا والقتل والسرق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بقي عليه قوي مهاب الجانب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كفل له استقرار معاملاتها الاقتصادي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ربطه بربه وخالقه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27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بشر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لحواجز بين البشر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نمي الرغبة في الدعوة إلى الإسلام 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bs01197_"/>
          <p:cNvPicPr/>
          <p:nvPr/>
        </p:nvPicPr>
        <p:blipFill>
          <a:blip r:embed="rId1"/>
          <a:stretch/>
        </p:blipFill>
        <p:spPr>
          <a:xfrm>
            <a:off x="395280" y="476280"/>
            <a:ext cx="28195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البش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لحواجز بين بني البش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ها 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مي الرغبة في الدعوة إلى الإسلام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d:\Documents and Settings\farhma0b\Desktop\La Digue I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مستطيل 4"/>
          <p:cNvSpPr/>
          <p:nvPr/>
        </p:nvSpPr>
        <p:spPr>
          <a:xfrm>
            <a:off x="755640" y="260280"/>
            <a:ext cx="784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البيئ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جاءت لتحفظ هذه البيئة من العبث والتلف , فهي تربي الأفراد والجماعات على صون هذه البيئة وحمايتها لتبقى كما خلقها الله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تطور التعليم الإسلا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هد الرسول صلى الله عليه وسلم والخلفاء الراشد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أمو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عباسية وما بعدها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عصر الحديث ”  المدارس النظامية  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bd04972_"/>
          <p:cNvPicPr/>
          <p:nvPr/>
        </p:nvPicPr>
        <p:blipFill>
          <a:blip r:embed="rId1"/>
          <a:stretch/>
        </p:blipFill>
        <p:spPr>
          <a:xfrm>
            <a:off x="0" y="4797360"/>
            <a:ext cx="329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تطلبات التربية الإسلامية خلال المراحل العم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77336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رحلة ما قبل التمييز والتكليف (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ما بعد التكليف (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1166952978"/>
          <p:cNvPicPr/>
          <p:nvPr/>
        </p:nvPicPr>
        <p:blipFill>
          <a:blip r:embed="rId1"/>
          <a:stretch/>
        </p:blipFill>
        <p:spPr>
          <a:xfrm>
            <a:off x="250920" y="4365720"/>
            <a:ext cx="230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دريس التربية الإسلامية،الأسس النظرية والأساليب العملية"          / ماجد زكي جلاد ,,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ص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 -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dell\Pictures\8.png"/>
          <p:cNvPicPr/>
          <p:nvPr/>
        </p:nvPicPr>
        <p:blipFill>
          <a:blip r:embed="rId1"/>
          <a:stretch/>
        </p:blipFill>
        <p:spPr>
          <a:xfrm>
            <a:off x="0" y="0"/>
            <a:ext cx="4932360" cy="328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Image result for ‫حدائق ملوثه‬‎"/>
          <p:cNvPicPr/>
          <p:nvPr/>
        </p:nvPicPr>
        <p:blipFill>
          <a:blip r:embed="rId2"/>
          <a:stretch/>
        </p:blipFill>
        <p:spPr>
          <a:xfrm>
            <a:off x="0" y="3284640"/>
            <a:ext cx="4859280" cy="357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Image result for ‫بحار ملوثه‬‎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84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Image result for ‫كتابة على الجدران‬‎"/>
          <p:cNvPicPr/>
          <p:nvPr/>
        </p:nvPicPr>
        <p:blipFill>
          <a:blip r:embed="rId4"/>
          <a:stretch/>
        </p:blipFill>
        <p:spPr>
          <a:xfrm>
            <a:off x="4859280" y="3284640"/>
            <a:ext cx="42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6300720" y="260280"/>
            <a:ext cx="158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1f497d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1f497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3" name="Picture 3" descr="Fl148"/>
          <p:cNvPicPr/>
          <p:nvPr/>
        </p:nvPicPr>
        <p:blipFill>
          <a:blip r:embed="rId3"/>
          <a:stretch/>
        </p:blipFill>
        <p:spPr>
          <a:xfrm>
            <a:off x="324000" y="2276640"/>
            <a:ext cx="8640720" cy="3889080"/>
          </a:xfrm>
          <a:prstGeom prst="rect">
            <a:avLst/>
          </a:prstGeom>
          <a:ln w="0">
            <a:noFill/>
          </a:ln>
        </p:spPr>
      </p:pic>
      <p:sp>
        <p:nvSpPr>
          <p:cNvPr id="204" name="مربع نص 3"/>
          <p:cNvSpPr/>
          <p:nvPr/>
        </p:nvSpPr>
        <p:spPr>
          <a:xfrm>
            <a:off x="1150920" y="83664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وجه ضاحك 5"/>
          <p:cNvSpPr/>
          <p:nvPr/>
        </p:nvSpPr>
        <p:spPr>
          <a:xfrm>
            <a:off x="611280" y="620640"/>
            <a:ext cx="1368360" cy="914400"/>
          </a:xfrm>
          <a:prstGeom prst="smileyFace">
            <a:avLst>
              <a:gd name="adj" fmla="val 9282"/>
            </a:avLst>
          </a:prstGeom>
          <a:solidFill>
            <a:srgbClr val="ff0000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مستطيل 13" descr=""/>
          <p:cNvPicPr/>
          <p:nvPr/>
        </p:nvPicPr>
        <p:blipFill>
          <a:blip r:embed="rId1"/>
          <a:stretch/>
        </p:blipFill>
        <p:spPr>
          <a:xfrm>
            <a:off x="4011480" y="5638680"/>
            <a:ext cx="1133640" cy="1152720"/>
          </a:xfrm>
          <a:prstGeom prst="rect">
            <a:avLst/>
          </a:prstGeom>
          <a:ln w="0">
            <a:noFill/>
          </a:ln>
        </p:spPr>
      </p:pic>
      <p:sp>
        <p:nvSpPr>
          <p:cNvPr id="88" name="مستطيل مستدير الزوايا 5"/>
          <p:cNvSpPr/>
          <p:nvPr/>
        </p:nvSpPr>
        <p:spPr>
          <a:xfrm>
            <a:off x="539640" y="765000"/>
            <a:ext cx="792000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ربية الإسلام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مي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وظائف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راحل تطور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ربع نص 1"/>
          <p:cNvSpPr/>
          <p:nvPr/>
        </p:nvSpPr>
        <p:spPr>
          <a:xfrm>
            <a:off x="539640" y="404640"/>
            <a:ext cx="8353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داف المحاض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التعرف على ما يلي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مفهوم التربية الأسلامية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أهمية التربية الإسلامية للفرد والمجتم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 تطور التعليم الإسلامي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"/>
          <p:cNvGrpSpPr/>
          <p:nvPr/>
        </p:nvGrpSpPr>
        <p:grpSpPr>
          <a:xfrm>
            <a:off x="0" y="4464000"/>
            <a:ext cx="4678200" cy="2393640"/>
            <a:chOff x="0" y="4464000"/>
            <a:chExt cx="4678200" cy="2393640"/>
          </a:xfrm>
        </p:grpSpPr>
        <p:grpSp>
          <p:nvGrpSpPr>
            <p:cNvPr id="91" name="Group 3"/>
            <p:cNvGrpSpPr/>
            <p:nvPr/>
          </p:nvGrpSpPr>
          <p:grpSpPr>
            <a:xfrm>
              <a:off x="241200" y="4464000"/>
              <a:ext cx="4437000" cy="2337120"/>
              <a:chOff x="241200" y="4464000"/>
              <a:chExt cx="4437000" cy="2337120"/>
            </a:xfrm>
          </p:grpSpPr>
          <p:sp>
            <p:nvSpPr>
              <p:cNvPr id="92" name="AutoShape 4"/>
              <p:cNvSpPr/>
              <p:nvPr/>
            </p:nvSpPr>
            <p:spPr>
              <a:xfrm>
                <a:off x="241200" y="5705280"/>
                <a:ext cx="1210680" cy="92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Group 5"/>
              <p:cNvGrpSpPr/>
              <p:nvPr/>
            </p:nvGrpSpPr>
            <p:grpSpPr>
              <a:xfrm>
                <a:off x="2471760" y="4464000"/>
                <a:ext cx="2206440" cy="2337120"/>
                <a:chOff x="2471760" y="4464000"/>
                <a:chExt cx="2206440" cy="2337120"/>
              </a:xfrm>
            </p:grpSpPr>
            <p:grpSp>
              <p:nvGrpSpPr>
                <p:cNvPr id="94" name="Group 6"/>
                <p:cNvGrpSpPr/>
                <p:nvPr/>
              </p:nvGrpSpPr>
              <p:grpSpPr>
                <a:xfrm>
                  <a:off x="2765160" y="4938480"/>
                  <a:ext cx="1913040" cy="1862640"/>
                  <a:chOff x="2765160" y="4938480"/>
                  <a:chExt cx="1913040" cy="1862640"/>
                </a:xfrm>
              </p:grpSpPr>
              <p:sp>
                <p:nvSpPr>
                  <p:cNvPr id="95" name="Freeform 7"/>
                  <p:cNvSpPr/>
                  <p:nvPr/>
                </p:nvSpPr>
                <p:spPr>
                  <a:xfrm>
                    <a:off x="4280760" y="5869440"/>
                    <a:ext cx="383760" cy="877680"/>
                  </a:xfrm>
                  <a:custGeom>
                    <a:avLst/>
                    <a:gdLst>
                      <a:gd name="textAreaLeft" fmla="*/ 0 w 383760"/>
                      <a:gd name="textAreaRight" fmla="*/ 384120 w 383760"/>
                      <a:gd name="textAreaTop" fmla="*/ 0 h 877680"/>
                      <a:gd name="textAreaBottom" fmla="*/ 878040 h 877680"/>
                    </a:gdLst>
                    <a:ahLst/>
                    <a:rect l="textAreaLeft" t="textAreaTop" r="textAreaRight" b="textAreaBottom"/>
                    <a:pathLst>
                      <a:path w="229" h="829">
                        <a:moveTo>
                          <a:pt x="56" y="0"/>
                        </a:moveTo>
                        <a:lnTo>
                          <a:pt x="79" y="124"/>
                        </a:lnTo>
                        <a:lnTo>
                          <a:pt x="103" y="246"/>
                        </a:lnTo>
                        <a:lnTo>
                          <a:pt x="129" y="392"/>
                        </a:lnTo>
                        <a:lnTo>
                          <a:pt x="153" y="498"/>
                        </a:lnTo>
                        <a:lnTo>
                          <a:pt x="229" y="792"/>
                        </a:lnTo>
                        <a:lnTo>
                          <a:pt x="212" y="817"/>
                        </a:lnTo>
                        <a:lnTo>
                          <a:pt x="193" y="829"/>
                        </a:lnTo>
                        <a:lnTo>
                          <a:pt x="172" y="829"/>
                        </a:lnTo>
                        <a:lnTo>
                          <a:pt x="145" y="804"/>
                        </a:lnTo>
                        <a:lnTo>
                          <a:pt x="135" y="774"/>
                        </a:lnTo>
                        <a:lnTo>
                          <a:pt x="72" y="455"/>
                        </a:lnTo>
                        <a:lnTo>
                          <a:pt x="23" y="219"/>
                        </a:lnTo>
                        <a:lnTo>
                          <a:pt x="0" y="122"/>
                        </a:lnTo>
                        <a:lnTo>
                          <a:pt x="2" y="128"/>
                        </a:lnTo>
                        <a:lnTo>
                          <a:pt x="33" y="55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8"/>
                  <p:cNvSpPr/>
                  <p:nvPr/>
                </p:nvSpPr>
                <p:spPr>
                  <a:xfrm>
                    <a:off x="2773440" y="6197760"/>
                    <a:ext cx="1337760" cy="590760"/>
                  </a:xfrm>
                  <a:custGeom>
                    <a:avLst/>
                    <a:gdLst>
                      <a:gd name="textAreaLeft" fmla="*/ 0 w 1337760"/>
                      <a:gd name="textAreaRight" fmla="*/ 1338120 w 1337760"/>
                      <a:gd name="textAreaTop" fmla="*/ 0 h 590760"/>
                      <a:gd name="textAreaBottom" fmla="*/ 591120 h 590760"/>
                    </a:gdLst>
                    <a:ahLst/>
                    <a:rect l="textAreaLeft" t="textAreaTop" r="textAreaRight" b="textAreaBottom"/>
                    <a:pathLst>
                      <a:path w="798" h="558">
                        <a:moveTo>
                          <a:pt x="194" y="32"/>
                        </a:moveTo>
                        <a:lnTo>
                          <a:pt x="60" y="0"/>
                        </a:lnTo>
                        <a:lnTo>
                          <a:pt x="56" y="4"/>
                        </a:lnTo>
                        <a:lnTo>
                          <a:pt x="50" y="27"/>
                        </a:lnTo>
                        <a:lnTo>
                          <a:pt x="47" y="32"/>
                        </a:lnTo>
                        <a:lnTo>
                          <a:pt x="47" y="78"/>
                        </a:lnTo>
                        <a:lnTo>
                          <a:pt x="116" y="97"/>
                        </a:lnTo>
                        <a:lnTo>
                          <a:pt x="16" y="362"/>
                        </a:lnTo>
                        <a:lnTo>
                          <a:pt x="0" y="401"/>
                        </a:lnTo>
                        <a:lnTo>
                          <a:pt x="11" y="420"/>
                        </a:lnTo>
                        <a:lnTo>
                          <a:pt x="6" y="420"/>
                        </a:lnTo>
                        <a:lnTo>
                          <a:pt x="56" y="431"/>
                        </a:lnTo>
                        <a:lnTo>
                          <a:pt x="62" y="420"/>
                        </a:lnTo>
                        <a:lnTo>
                          <a:pt x="94" y="307"/>
                        </a:lnTo>
                        <a:lnTo>
                          <a:pt x="128" y="192"/>
                        </a:lnTo>
                        <a:lnTo>
                          <a:pt x="165" y="105"/>
                        </a:lnTo>
                        <a:lnTo>
                          <a:pt x="303" y="129"/>
                        </a:lnTo>
                        <a:lnTo>
                          <a:pt x="420" y="156"/>
                        </a:lnTo>
                        <a:lnTo>
                          <a:pt x="535" y="189"/>
                        </a:lnTo>
                        <a:lnTo>
                          <a:pt x="619" y="217"/>
                        </a:lnTo>
                        <a:lnTo>
                          <a:pt x="627" y="338"/>
                        </a:lnTo>
                        <a:lnTo>
                          <a:pt x="633" y="526"/>
                        </a:lnTo>
                        <a:lnTo>
                          <a:pt x="636" y="551"/>
                        </a:lnTo>
                        <a:lnTo>
                          <a:pt x="647" y="555"/>
                        </a:lnTo>
                        <a:lnTo>
                          <a:pt x="694" y="558"/>
                        </a:lnTo>
                        <a:lnTo>
                          <a:pt x="703" y="541"/>
                        </a:lnTo>
                        <a:lnTo>
                          <a:pt x="703" y="427"/>
                        </a:lnTo>
                        <a:lnTo>
                          <a:pt x="691" y="307"/>
                        </a:lnTo>
                        <a:lnTo>
                          <a:pt x="683" y="235"/>
                        </a:lnTo>
                        <a:lnTo>
                          <a:pt x="772" y="268"/>
                        </a:lnTo>
                        <a:lnTo>
                          <a:pt x="782" y="258"/>
                        </a:lnTo>
                        <a:lnTo>
                          <a:pt x="798" y="197"/>
                        </a:lnTo>
                        <a:lnTo>
                          <a:pt x="787" y="181"/>
                        </a:lnTo>
                        <a:lnTo>
                          <a:pt x="635" y="138"/>
                        </a:lnTo>
                        <a:lnTo>
                          <a:pt x="194" y="32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"/>
                  <p:cNvSpPr/>
                  <p:nvPr/>
                </p:nvSpPr>
                <p:spPr>
                  <a:xfrm>
                    <a:off x="2924280" y="4950720"/>
                    <a:ext cx="1560600" cy="1388880"/>
                  </a:xfrm>
                  <a:custGeom>
                    <a:avLst/>
                    <a:gdLst>
                      <a:gd name="textAreaLeft" fmla="*/ 0 w 1560600"/>
                      <a:gd name="textAreaRight" fmla="*/ 1560960 w 1560600"/>
                      <a:gd name="textAreaTop" fmla="*/ 0 h 1388880"/>
                      <a:gd name="textAreaBottom" fmla="*/ 1389240 h 1388880"/>
                    </a:gdLst>
                    <a:ahLst/>
                    <a:rect l="textAreaLeft" t="textAreaTop" r="textAreaRight" b="textAreaBottom"/>
                    <a:pathLst>
                      <a:path w="931" h="1311">
                        <a:moveTo>
                          <a:pt x="13" y="546"/>
                        </a:moveTo>
                        <a:lnTo>
                          <a:pt x="50" y="401"/>
                        </a:lnTo>
                        <a:lnTo>
                          <a:pt x="95" y="297"/>
                        </a:lnTo>
                        <a:lnTo>
                          <a:pt x="145" y="208"/>
                        </a:lnTo>
                        <a:lnTo>
                          <a:pt x="200" y="124"/>
                        </a:lnTo>
                        <a:lnTo>
                          <a:pt x="246" y="78"/>
                        </a:lnTo>
                        <a:lnTo>
                          <a:pt x="310" y="38"/>
                        </a:lnTo>
                        <a:lnTo>
                          <a:pt x="375" y="6"/>
                        </a:lnTo>
                        <a:lnTo>
                          <a:pt x="453" y="0"/>
                        </a:lnTo>
                        <a:lnTo>
                          <a:pt x="548" y="4"/>
                        </a:lnTo>
                        <a:lnTo>
                          <a:pt x="629" y="23"/>
                        </a:lnTo>
                        <a:lnTo>
                          <a:pt x="691" y="57"/>
                        </a:lnTo>
                        <a:lnTo>
                          <a:pt x="760" y="98"/>
                        </a:lnTo>
                        <a:lnTo>
                          <a:pt x="828" y="161"/>
                        </a:lnTo>
                        <a:lnTo>
                          <a:pt x="875" y="224"/>
                        </a:lnTo>
                        <a:lnTo>
                          <a:pt x="903" y="283"/>
                        </a:lnTo>
                        <a:lnTo>
                          <a:pt x="921" y="376"/>
                        </a:lnTo>
                        <a:lnTo>
                          <a:pt x="931" y="448"/>
                        </a:lnTo>
                        <a:lnTo>
                          <a:pt x="926" y="549"/>
                        </a:lnTo>
                        <a:lnTo>
                          <a:pt x="918" y="644"/>
                        </a:lnTo>
                        <a:lnTo>
                          <a:pt x="906" y="723"/>
                        </a:lnTo>
                        <a:lnTo>
                          <a:pt x="878" y="825"/>
                        </a:lnTo>
                        <a:lnTo>
                          <a:pt x="845" y="914"/>
                        </a:lnTo>
                        <a:lnTo>
                          <a:pt x="800" y="1023"/>
                        </a:lnTo>
                        <a:lnTo>
                          <a:pt x="763" y="1091"/>
                        </a:lnTo>
                        <a:lnTo>
                          <a:pt x="716" y="1160"/>
                        </a:lnTo>
                        <a:lnTo>
                          <a:pt x="663" y="1225"/>
                        </a:lnTo>
                        <a:lnTo>
                          <a:pt x="599" y="1284"/>
                        </a:lnTo>
                        <a:lnTo>
                          <a:pt x="514" y="1307"/>
                        </a:lnTo>
                        <a:lnTo>
                          <a:pt x="424" y="1311"/>
                        </a:lnTo>
                        <a:lnTo>
                          <a:pt x="353" y="1302"/>
                        </a:lnTo>
                        <a:lnTo>
                          <a:pt x="284" y="1286"/>
                        </a:lnTo>
                        <a:lnTo>
                          <a:pt x="225" y="1270"/>
                        </a:lnTo>
                        <a:lnTo>
                          <a:pt x="163" y="1236"/>
                        </a:lnTo>
                        <a:lnTo>
                          <a:pt x="109" y="1189"/>
                        </a:lnTo>
                        <a:lnTo>
                          <a:pt x="75" y="1133"/>
                        </a:lnTo>
                        <a:lnTo>
                          <a:pt x="47" y="1048"/>
                        </a:lnTo>
                        <a:lnTo>
                          <a:pt x="25" y="953"/>
                        </a:lnTo>
                        <a:lnTo>
                          <a:pt x="13" y="829"/>
                        </a:lnTo>
                        <a:lnTo>
                          <a:pt x="1" y="729"/>
                        </a:lnTo>
                        <a:lnTo>
                          <a:pt x="0" y="647"/>
                        </a:lnTo>
                        <a:lnTo>
                          <a:pt x="7" y="585"/>
                        </a:lnTo>
                        <a:lnTo>
                          <a:pt x="13" y="546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"/>
                  <p:cNvSpPr/>
                  <p:nvPr/>
                </p:nvSpPr>
                <p:spPr>
                  <a:xfrm>
                    <a:off x="3071880" y="5229360"/>
                    <a:ext cx="1208520" cy="867600"/>
                  </a:xfrm>
                  <a:custGeom>
                    <a:avLst/>
                    <a:gdLst>
                      <a:gd name="textAreaLeft" fmla="*/ 0 w 1208520"/>
                      <a:gd name="textAreaRight" fmla="*/ 1208880 w 1208520"/>
                      <a:gd name="textAreaTop" fmla="*/ 0 h 867600"/>
                      <a:gd name="textAreaBottom" fmla="*/ 867960 h 867600"/>
                    </a:gdLst>
                    <a:ahLst/>
                    <a:rect l="textAreaLeft" t="textAreaTop" r="textAreaRight" b="textAreaBottom"/>
                    <a:pathLst>
                      <a:path w="721" h="819">
                        <a:moveTo>
                          <a:pt x="165" y="0"/>
                        </a:moveTo>
                        <a:lnTo>
                          <a:pt x="220" y="11"/>
                        </a:lnTo>
                        <a:lnTo>
                          <a:pt x="289" y="24"/>
                        </a:lnTo>
                        <a:lnTo>
                          <a:pt x="395" y="38"/>
                        </a:lnTo>
                        <a:lnTo>
                          <a:pt x="489" y="43"/>
                        </a:lnTo>
                        <a:lnTo>
                          <a:pt x="607" y="46"/>
                        </a:lnTo>
                        <a:lnTo>
                          <a:pt x="718" y="55"/>
                        </a:lnTo>
                        <a:lnTo>
                          <a:pt x="721" y="73"/>
                        </a:lnTo>
                        <a:lnTo>
                          <a:pt x="684" y="278"/>
                        </a:lnTo>
                        <a:lnTo>
                          <a:pt x="644" y="495"/>
                        </a:lnTo>
                        <a:lnTo>
                          <a:pt x="619" y="629"/>
                        </a:lnTo>
                        <a:lnTo>
                          <a:pt x="572" y="819"/>
                        </a:lnTo>
                        <a:lnTo>
                          <a:pt x="320" y="772"/>
                        </a:lnTo>
                        <a:lnTo>
                          <a:pt x="180" y="752"/>
                        </a:lnTo>
                        <a:lnTo>
                          <a:pt x="38" y="745"/>
                        </a:lnTo>
                        <a:lnTo>
                          <a:pt x="12" y="745"/>
                        </a:lnTo>
                        <a:lnTo>
                          <a:pt x="0" y="738"/>
                        </a:lnTo>
                        <a:lnTo>
                          <a:pt x="65" y="358"/>
                        </a:lnTo>
                        <a:lnTo>
                          <a:pt x="112" y="128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" name="Group 11"/>
                  <p:cNvGrpSpPr/>
                  <p:nvPr/>
                </p:nvGrpSpPr>
                <p:grpSpPr>
                  <a:xfrm>
                    <a:off x="2765160" y="6185880"/>
                    <a:ext cx="1364400" cy="615240"/>
                    <a:chOff x="2765160" y="6185880"/>
                    <a:chExt cx="1364400" cy="615240"/>
                  </a:xfrm>
                </p:grpSpPr>
                <p:sp>
                  <p:nvSpPr>
                    <p:cNvPr id="100" name="Freeform 12"/>
                    <p:cNvSpPr/>
                    <p:nvPr/>
                  </p:nvSpPr>
                  <p:spPr>
                    <a:xfrm>
                      <a:off x="2831760" y="6185880"/>
                      <a:ext cx="1297800" cy="303840"/>
                    </a:xfrm>
                    <a:custGeom>
                      <a:avLst/>
                      <a:gdLst>
                        <a:gd name="textAreaLeft" fmla="*/ 0 w 1297800"/>
                        <a:gd name="textAreaRight" fmla="*/ 1298160 w 1297800"/>
                        <a:gd name="textAreaTop" fmla="*/ 0 h 303840"/>
                        <a:gd name="textAreaBottom" fmla="*/ 304200 h 303840"/>
                      </a:gdLst>
                      <a:ahLst/>
                      <a:rect l="textAreaLeft" t="textAreaTop" r="textAreaRight" b="textAreaBottom"/>
                      <a:pathLst>
                        <a:path w="774" h="287">
                          <a:moveTo>
                            <a:pt x="155" y="26"/>
                          </a:moveTo>
                          <a:lnTo>
                            <a:pt x="90" y="10"/>
                          </a:lnTo>
                          <a:lnTo>
                            <a:pt x="28" y="0"/>
                          </a:lnTo>
                          <a:lnTo>
                            <a:pt x="12" y="4"/>
                          </a:lnTo>
                          <a:lnTo>
                            <a:pt x="3" y="39"/>
                          </a:lnTo>
                          <a:lnTo>
                            <a:pt x="0" y="89"/>
                          </a:lnTo>
                          <a:lnTo>
                            <a:pt x="9" y="104"/>
                          </a:lnTo>
                          <a:lnTo>
                            <a:pt x="35" y="110"/>
                          </a:lnTo>
                          <a:lnTo>
                            <a:pt x="136" y="124"/>
                          </a:lnTo>
                          <a:lnTo>
                            <a:pt x="267" y="149"/>
                          </a:lnTo>
                          <a:lnTo>
                            <a:pt x="404" y="180"/>
                          </a:lnTo>
                          <a:lnTo>
                            <a:pt x="547" y="220"/>
                          </a:lnTo>
                          <a:lnTo>
                            <a:pt x="654" y="254"/>
                          </a:lnTo>
                          <a:lnTo>
                            <a:pt x="724" y="281"/>
                          </a:lnTo>
                          <a:lnTo>
                            <a:pt x="741" y="287"/>
                          </a:lnTo>
                          <a:lnTo>
                            <a:pt x="746" y="285"/>
                          </a:lnTo>
                          <a:lnTo>
                            <a:pt x="753" y="277"/>
                          </a:lnTo>
                          <a:lnTo>
                            <a:pt x="774" y="212"/>
                          </a:lnTo>
                          <a:lnTo>
                            <a:pt x="774" y="191"/>
                          </a:lnTo>
                          <a:lnTo>
                            <a:pt x="753" y="180"/>
                          </a:lnTo>
                          <a:lnTo>
                            <a:pt x="623" y="141"/>
                          </a:lnTo>
                          <a:lnTo>
                            <a:pt x="581" y="153"/>
                          </a:lnTo>
                          <a:lnTo>
                            <a:pt x="750" y="207"/>
                          </a:lnTo>
                          <a:lnTo>
                            <a:pt x="752" y="214"/>
                          </a:lnTo>
                          <a:lnTo>
                            <a:pt x="737" y="262"/>
                          </a:lnTo>
                          <a:lnTo>
                            <a:pt x="729" y="263"/>
                          </a:lnTo>
                          <a:lnTo>
                            <a:pt x="592" y="214"/>
                          </a:lnTo>
                          <a:lnTo>
                            <a:pt x="463" y="179"/>
                          </a:lnTo>
                          <a:lnTo>
                            <a:pt x="345" y="148"/>
                          </a:lnTo>
                          <a:lnTo>
                            <a:pt x="234" y="121"/>
                          </a:lnTo>
                          <a:lnTo>
                            <a:pt x="125" y="101"/>
                          </a:lnTo>
                          <a:lnTo>
                            <a:pt x="121" y="102"/>
                          </a:lnTo>
                          <a:lnTo>
                            <a:pt x="35" y="85"/>
                          </a:lnTo>
                          <a:lnTo>
                            <a:pt x="18" y="78"/>
                          </a:lnTo>
                          <a:lnTo>
                            <a:pt x="21" y="57"/>
                          </a:lnTo>
                          <a:lnTo>
                            <a:pt x="27" y="26"/>
                          </a:lnTo>
                          <a:lnTo>
                            <a:pt x="47" y="22"/>
                          </a:lnTo>
                          <a:lnTo>
                            <a:pt x="214" y="69"/>
                          </a:lnTo>
                          <a:lnTo>
                            <a:pt x="209" y="70"/>
                          </a:lnTo>
                          <a:lnTo>
                            <a:pt x="155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Freeform 13"/>
                    <p:cNvSpPr/>
                    <p:nvPr/>
                  </p:nvSpPr>
                  <p:spPr>
                    <a:xfrm>
                      <a:off x="2765160" y="6302160"/>
                      <a:ext cx="299880" cy="36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346">
                          <a:moveTo>
                            <a:pt x="112" y="0"/>
                          </a:moveTo>
                          <a:lnTo>
                            <a:pt x="27" y="216"/>
                          </a:lnTo>
                          <a:lnTo>
                            <a:pt x="2" y="294"/>
                          </a:lnTo>
                          <a:lnTo>
                            <a:pt x="0" y="325"/>
                          </a:lnTo>
                          <a:lnTo>
                            <a:pt x="8" y="330"/>
                          </a:lnTo>
                          <a:lnTo>
                            <a:pt x="28" y="338"/>
                          </a:lnTo>
                          <a:lnTo>
                            <a:pt x="68" y="346"/>
                          </a:lnTo>
                          <a:lnTo>
                            <a:pt x="81" y="334"/>
                          </a:lnTo>
                          <a:lnTo>
                            <a:pt x="83" y="306"/>
                          </a:lnTo>
                          <a:lnTo>
                            <a:pt x="109" y="200"/>
                          </a:lnTo>
                          <a:lnTo>
                            <a:pt x="142" y="94"/>
                          </a:lnTo>
                          <a:lnTo>
                            <a:pt x="179" y="10"/>
                          </a:lnTo>
                          <a:lnTo>
                            <a:pt x="161" y="8"/>
                          </a:lnTo>
                          <a:lnTo>
                            <a:pt x="117" y="118"/>
                          </a:lnTo>
                          <a:lnTo>
                            <a:pt x="89" y="199"/>
                          </a:lnTo>
                          <a:lnTo>
                            <a:pt x="72" y="273"/>
                          </a:lnTo>
                          <a:lnTo>
                            <a:pt x="61" y="313"/>
                          </a:lnTo>
                          <a:lnTo>
                            <a:pt x="55" y="318"/>
                          </a:lnTo>
                          <a:lnTo>
                            <a:pt x="21" y="310"/>
                          </a:lnTo>
                          <a:lnTo>
                            <a:pt x="18" y="297"/>
                          </a:lnTo>
                          <a:lnTo>
                            <a:pt x="44" y="220"/>
                          </a:lnTo>
                          <a:lnTo>
                            <a:pt x="75" y="140"/>
                          </a:lnTo>
                          <a:lnTo>
                            <a:pt x="114" y="47"/>
                          </a:lnTo>
                          <a:lnTo>
                            <a:pt x="130" y="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14"/>
                    <p:cNvSpPr/>
                    <p:nvPr/>
                  </p:nvSpPr>
                  <p:spPr>
                    <a:xfrm>
                      <a:off x="3795840" y="6418800"/>
                      <a:ext cx="172440" cy="382320"/>
                    </a:xfrm>
                    <a:custGeom>
                      <a:avLst/>
                      <a:gdLst>
                        <a:gd name="textAreaLeft" fmla="*/ 0 w 172440"/>
                        <a:gd name="textAreaRight" fmla="*/ 172440 w 172440"/>
                        <a:gd name="textAreaTop" fmla="*/ 0 h 382320"/>
                        <a:gd name="textAreaBottom" fmla="*/ 382680 h 382320"/>
                      </a:gdLst>
                      <a:ahLst/>
                      <a:rect l="textAreaLeft" t="textAreaTop" r="textAreaRight" b="textAreaBottom"/>
                      <a:pathLst>
                        <a:path w="103" h="361">
                          <a:moveTo>
                            <a:pt x="82" y="30"/>
                          </a:moveTo>
                          <a:lnTo>
                            <a:pt x="97" y="156"/>
                          </a:lnTo>
                          <a:lnTo>
                            <a:pt x="103" y="254"/>
                          </a:lnTo>
                          <a:lnTo>
                            <a:pt x="103" y="322"/>
                          </a:lnTo>
                          <a:lnTo>
                            <a:pt x="100" y="352"/>
                          </a:lnTo>
                          <a:lnTo>
                            <a:pt x="90" y="361"/>
                          </a:lnTo>
                          <a:lnTo>
                            <a:pt x="32" y="361"/>
                          </a:lnTo>
                          <a:lnTo>
                            <a:pt x="22" y="353"/>
                          </a:lnTo>
                          <a:lnTo>
                            <a:pt x="14" y="336"/>
                          </a:lnTo>
                          <a:lnTo>
                            <a:pt x="9" y="228"/>
                          </a:lnTo>
                          <a:lnTo>
                            <a:pt x="9" y="118"/>
                          </a:lnTo>
                          <a:lnTo>
                            <a:pt x="0" y="0"/>
                          </a:lnTo>
                          <a:lnTo>
                            <a:pt x="16" y="8"/>
                          </a:lnTo>
                          <a:lnTo>
                            <a:pt x="23" y="86"/>
                          </a:lnTo>
                          <a:lnTo>
                            <a:pt x="29" y="212"/>
                          </a:lnTo>
                          <a:lnTo>
                            <a:pt x="35" y="318"/>
                          </a:lnTo>
                          <a:lnTo>
                            <a:pt x="37" y="334"/>
                          </a:lnTo>
                          <a:lnTo>
                            <a:pt x="47" y="338"/>
                          </a:lnTo>
                          <a:lnTo>
                            <a:pt x="78" y="336"/>
                          </a:lnTo>
                          <a:lnTo>
                            <a:pt x="82" y="329"/>
                          </a:lnTo>
                          <a:lnTo>
                            <a:pt x="85" y="251"/>
                          </a:lnTo>
                          <a:lnTo>
                            <a:pt x="79" y="156"/>
                          </a:lnTo>
                          <a:lnTo>
                            <a:pt x="69" y="65"/>
                          </a:lnTo>
                          <a:lnTo>
                            <a:pt x="62" y="23"/>
                          </a:lnTo>
                          <a:lnTo>
                            <a:pt x="82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Group 15"/>
                  <p:cNvGrpSpPr/>
                  <p:nvPr/>
                </p:nvGrpSpPr>
                <p:grpSpPr>
                  <a:xfrm>
                    <a:off x="2909160" y="4938480"/>
                    <a:ext cx="1592640" cy="1413720"/>
                    <a:chOff x="2909160" y="4938480"/>
                    <a:chExt cx="1592640" cy="1413720"/>
                  </a:xfrm>
                </p:grpSpPr>
                <p:sp>
                  <p:nvSpPr>
                    <p:cNvPr id="104" name="Freeform 16"/>
                    <p:cNvSpPr/>
                    <p:nvPr/>
                  </p:nvSpPr>
                  <p:spPr>
                    <a:xfrm>
                      <a:off x="2931120" y="5698800"/>
                      <a:ext cx="1501920" cy="653400"/>
                    </a:xfrm>
                    <a:custGeom>
                      <a:avLst/>
                      <a:gdLst>
                        <a:gd name="textAreaLeft" fmla="*/ 0 w 1501920"/>
                        <a:gd name="textAreaRight" fmla="*/ 1502280 w 1501920"/>
                        <a:gd name="textAreaTop" fmla="*/ 0 h 653400"/>
                        <a:gd name="textAreaBottom" fmla="*/ 653760 h 653400"/>
                      </a:gdLst>
                      <a:ahLst/>
                      <a:rect l="textAreaLeft" t="textAreaTop" r="textAreaRight" b="textAreaBottom"/>
                      <a:pathLst>
                        <a:path w="896" h="617">
                          <a:moveTo>
                            <a:pt x="0" y="150"/>
                          </a:moveTo>
                          <a:lnTo>
                            <a:pt x="15" y="266"/>
                          </a:lnTo>
                          <a:lnTo>
                            <a:pt x="31" y="338"/>
                          </a:lnTo>
                          <a:lnTo>
                            <a:pt x="44" y="389"/>
                          </a:lnTo>
                          <a:lnTo>
                            <a:pt x="62" y="428"/>
                          </a:lnTo>
                          <a:lnTo>
                            <a:pt x="84" y="471"/>
                          </a:lnTo>
                          <a:lnTo>
                            <a:pt x="105" y="499"/>
                          </a:lnTo>
                          <a:lnTo>
                            <a:pt x="136" y="525"/>
                          </a:lnTo>
                          <a:lnTo>
                            <a:pt x="171" y="549"/>
                          </a:lnTo>
                          <a:lnTo>
                            <a:pt x="202" y="566"/>
                          </a:lnTo>
                          <a:lnTo>
                            <a:pt x="242" y="580"/>
                          </a:lnTo>
                          <a:lnTo>
                            <a:pt x="287" y="592"/>
                          </a:lnTo>
                          <a:lnTo>
                            <a:pt x="345" y="604"/>
                          </a:lnTo>
                          <a:lnTo>
                            <a:pt x="404" y="612"/>
                          </a:lnTo>
                          <a:lnTo>
                            <a:pt x="457" y="617"/>
                          </a:lnTo>
                          <a:lnTo>
                            <a:pt x="510" y="616"/>
                          </a:lnTo>
                          <a:lnTo>
                            <a:pt x="544" y="612"/>
                          </a:lnTo>
                          <a:lnTo>
                            <a:pt x="582" y="600"/>
                          </a:lnTo>
                          <a:lnTo>
                            <a:pt x="616" y="578"/>
                          </a:lnTo>
                          <a:lnTo>
                            <a:pt x="656" y="542"/>
                          </a:lnTo>
                          <a:lnTo>
                            <a:pt x="700" y="494"/>
                          </a:lnTo>
                          <a:lnTo>
                            <a:pt x="746" y="428"/>
                          </a:lnTo>
                          <a:lnTo>
                            <a:pt x="785" y="357"/>
                          </a:lnTo>
                          <a:lnTo>
                            <a:pt x="822" y="283"/>
                          </a:lnTo>
                          <a:lnTo>
                            <a:pt x="868" y="169"/>
                          </a:lnTo>
                          <a:lnTo>
                            <a:pt x="891" y="82"/>
                          </a:lnTo>
                          <a:lnTo>
                            <a:pt x="896" y="0"/>
                          </a:lnTo>
                          <a:lnTo>
                            <a:pt x="872" y="88"/>
                          </a:lnTo>
                          <a:lnTo>
                            <a:pt x="837" y="196"/>
                          </a:lnTo>
                          <a:lnTo>
                            <a:pt x="794" y="289"/>
                          </a:lnTo>
                          <a:lnTo>
                            <a:pt x="749" y="381"/>
                          </a:lnTo>
                          <a:lnTo>
                            <a:pt x="697" y="460"/>
                          </a:lnTo>
                          <a:lnTo>
                            <a:pt x="644" y="521"/>
                          </a:lnTo>
                          <a:lnTo>
                            <a:pt x="597" y="558"/>
                          </a:lnTo>
                          <a:lnTo>
                            <a:pt x="564" y="578"/>
                          </a:lnTo>
                          <a:lnTo>
                            <a:pt x="517" y="588"/>
                          </a:lnTo>
                          <a:lnTo>
                            <a:pt x="445" y="593"/>
                          </a:lnTo>
                          <a:lnTo>
                            <a:pt x="368" y="585"/>
                          </a:lnTo>
                          <a:lnTo>
                            <a:pt x="295" y="574"/>
                          </a:lnTo>
                          <a:lnTo>
                            <a:pt x="221" y="550"/>
                          </a:lnTo>
                          <a:lnTo>
                            <a:pt x="158" y="515"/>
                          </a:lnTo>
                          <a:lnTo>
                            <a:pt x="113" y="475"/>
                          </a:lnTo>
                          <a:lnTo>
                            <a:pt x="80" y="423"/>
                          </a:lnTo>
                          <a:lnTo>
                            <a:pt x="59" y="352"/>
                          </a:lnTo>
                          <a:lnTo>
                            <a:pt x="38" y="274"/>
                          </a:lnTo>
                          <a:lnTo>
                            <a:pt x="22" y="199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7"/>
                    <p:cNvSpPr/>
                    <p:nvPr/>
                  </p:nvSpPr>
                  <p:spPr>
                    <a:xfrm>
                      <a:off x="2909160" y="4938480"/>
                      <a:ext cx="1592640" cy="1091880"/>
                    </a:xfrm>
                    <a:custGeom>
                      <a:avLst/>
                      <a:gdLst>
                        <a:gd name="textAreaLeft" fmla="*/ 0 w 1592640"/>
                        <a:gd name="textAreaRight" fmla="*/ 1593000 w 1592640"/>
                        <a:gd name="textAreaTop" fmla="*/ 0 h 1091880"/>
                        <a:gd name="textAreaBottom" fmla="*/ 1092240 h 1091880"/>
                      </a:gdLst>
                      <a:ahLst/>
                      <a:rect l="textAreaLeft" t="textAreaTop" r="textAreaRight" b="textAreaBottom"/>
                      <a:pathLst>
                        <a:path w="950" h="1031">
                          <a:moveTo>
                            <a:pt x="869" y="895"/>
                          </a:moveTo>
                          <a:lnTo>
                            <a:pt x="893" y="845"/>
                          </a:lnTo>
                          <a:lnTo>
                            <a:pt x="915" y="769"/>
                          </a:lnTo>
                          <a:lnTo>
                            <a:pt x="937" y="667"/>
                          </a:lnTo>
                          <a:lnTo>
                            <a:pt x="949" y="562"/>
                          </a:lnTo>
                          <a:lnTo>
                            <a:pt x="950" y="448"/>
                          </a:lnTo>
                          <a:lnTo>
                            <a:pt x="938" y="360"/>
                          </a:lnTo>
                          <a:lnTo>
                            <a:pt x="922" y="293"/>
                          </a:lnTo>
                          <a:lnTo>
                            <a:pt x="896" y="234"/>
                          </a:lnTo>
                          <a:lnTo>
                            <a:pt x="856" y="177"/>
                          </a:lnTo>
                          <a:lnTo>
                            <a:pt x="815" y="138"/>
                          </a:lnTo>
                          <a:lnTo>
                            <a:pt x="772" y="97"/>
                          </a:lnTo>
                          <a:lnTo>
                            <a:pt x="725" y="65"/>
                          </a:lnTo>
                          <a:lnTo>
                            <a:pt x="679" y="39"/>
                          </a:lnTo>
                          <a:lnTo>
                            <a:pt x="623" y="20"/>
                          </a:lnTo>
                          <a:lnTo>
                            <a:pt x="570" y="8"/>
                          </a:lnTo>
                          <a:lnTo>
                            <a:pt x="498" y="0"/>
                          </a:lnTo>
                          <a:lnTo>
                            <a:pt x="411" y="3"/>
                          </a:lnTo>
                          <a:lnTo>
                            <a:pt x="350" y="16"/>
                          </a:lnTo>
                          <a:lnTo>
                            <a:pt x="296" y="46"/>
                          </a:lnTo>
                          <a:lnTo>
                            <a:pt x="243" y="79"/>
                          </a:lnTo>
                          <a:lnTo>
                            <a:pt x="203" y="122"/>
                          </a:lnTo>
                          <a:lnTo>
                            <a:pt x="163" y="177"/>
                          </a:lnTo>
                          <a:lnTo>
                            <a:pt x="121" y="246"/>
                          </a:lnTo>
                          <a:lnTo>
                            <a:pt x="85" y="321"/>
                          </a:lnTo>
                          <a:lnTo>
                            <a:pt x="56" y="396"/>
                          </a:lnTo>
                          <a:lnTo>
                            <a:pt x="31" y="478"/>
                          </a:lnTo>
                          <a:lnTo>
                            <a:pt x="13" y="565"/>
                          </a:lnTo>
                          <a:lnTo>
                            <a:pt x="3" y="643"/>
                          </a:lnTo>
                          <a:lnTo>
                            <a:pt x="0" y="722"/>
                          </a:lnTo>
                          <a:lnTo>
                            <a:pt x="4" y="806"/>
                          </a:lnTo>
                          <a:lnTo>
                            <a:pt x="16" y="891"/>
                          </a:lnTo>
                          <a:lnTo>
                            <a:pt x="51" y="1031"/>
                          </a:lnTo>
                          <a:lnTo>
                            <a:pt x="32" y="855"/>
                          </a:lnTo>
                          <a:lnTo>
                            <a:pt x="22" y="738"/>
                          </a:lnTo>
                          <a:lnTo>
                            <a:pt x="20" y="656"/>
                          </a:lnTo>
                          <a:lnTo>
                            <a:pt x="31" y="570"/>
                          </a:lnTo>
                          <a:lnTo>
                            <a:pt x="53" y="479"/>
                          </a:lnTo>
                          <a:lnTo>
                            <a:pt x="81" y="385"/>
                          </a:lnTo>
                          <a:lnTo>
                            <a:pt x="109" y="318"/>
                          </a:lnTo>
                          <a:lnTo>
                            <a:pt x="156" y="236"/>
                          </a:lnTo>
                          <a:lnTo>
                            <a:pt x="202" y="161"/>
                          </a:lnTo>
                          <a:lnTo>
                            <a:pt x="243" y="114"/>
                          </a:lnTo>
                          <a:lnTo>
                            <a:pt x="286" y="81"/>
                          </a:lnTo>
                          <a:lnTo>
                            <a:pt x="333" y="54"/>
                          </a:lnTo>
                          <a:lnTo>
                            <a:pt x="380" y="34"/>
                          </a:lnTo>
                          <a:lnTo>
                            <a:pt x="442" y="28"/>
                          </a:lnTo>
                          <a:lnTo>
                            <a:pt x="514" y="30"/>
                          </a:lnTo>
                          <a:lnTo>
                            <a:pt x="579" y="38"/>
                          </a:lnTo>
                          <a:lnTo>
                            <a:pt x="644" y="54"/>
                          </a:lnTo>
                          <a:lnTo>
                            <a:pt x="710" y="86"/>
                          </a:lnTo>
                          <a:lnTo>
                            <a:pt x="763" y="122"/>
                          </a:lnTo>
                          <a:lnTo>
                            <a:pt x="818" y="173"/>
                          </a:lnTo>
                          <a:lnTo>
                            <a:pt x="862" y="227"/>
                          </a:lnTo>
                          <a:lnTo>
                            <a:pt x="893" y="282"/>
                          </a:lnTo>
                          <a:lnTo>
                            <a:pt x="912" y="350"/>
                          </a:lnTo>
                          <a:lnTo>
                            <a:pt x="925" y="428"/>
                          </a:lnTo>
                          <a:lnTo>
                            <a:pt x="927" y="511"/>
                          </a:lnTo>
                          <a:lnTo>
                            <a:pt x="922" y="596"/>
                          </a:lnTo>
                          <a:lnTo>
                            <a:pt x="913" y="668"/>
                          </a:lnTo>
                          <a:lnTo>
                            <a:pt x="900" y="765"/>
                          </a:lnTo>
                          <a:lnTo>
                            <a:pt x="882" y="841"/>
                          </a:lnTo>
                          <a:lnTo>
                            <a:pt x="869" y="89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Group 18"/>
                  <p:cNvGrpSpPr/>
                  <p:nvPr/>
                </p:nvGrpSpPr>
                <p:grpSpPr>
                  <a:xfrm>
                    <a:off x="3061800" y="5215680"/>
                    <a:ext cx="1254960" cy="894960"/>
                    <a:chOff x="3061800" y="5215680"/>
                    <a:chExt cx="1254960" cy="894960"/>
                  </a:xfrm>
                </p:grpSpPr>
                <p:sp>
                  <p:nvSpPr>
                    <p:cNvPr id="107" name="Freeform 19"/>
                    <p:cNvSpPr/>
                    <p:nvPr/>
                  </p:nvSpPr>
                  <p:spPr>
                    <a:xfrm>
                      <a:off x="3061800" y="5215680"/>
                      <a:ext cx="1225080" cy="894960"/>
                    </a:xfrm>
                    <a:custGeom>
                      <a:avLst/>
                      <a:gdLst>
                        <a:gd name="textAreaLeft" fmla="*/ 0 w 1225080"/>
                        <a:gd name="textAreaRight" fmla="*/ 1225440 w 1225080"/>
                        <a:gd name="textAreaTop" fmla="*/ 0 h 894960"/>
                        <a:gd name="textAreaBottom" fmla="*/ 895320 h 894960"/>
                      </a:gdLst>
                      <a:ahLst/>
                      <a:rect l="textAreaLeft" t="textAreaTop" r="textAreaRight" b="textAreaBottom"/>
                      <a:pathLst>
                        <a:path w="731" h="845">
                          <a:moveTo>
                            <a:pt x="690" y="338"/>
                          </a:moveTo>
                          <a:lnTo>
                            <a:pt x="647" y="583"/>
                          </a:lnTo>
                          <a:lnTo>
                            <a:pt x="595" y="824"/>
                          </a:lnTo>
                          <a:lnTo>
                            <a:pt x="588" y="841"/>
                          </a:lnTo>
                          <a:lnTo>
                            <a:pt x="578" y="845"/>
                          </a:lnTo>
                          <a:lnTo>
                            <a:pt x="519" y="828"/>
                          </a:lnTo>
                          <a:lnTo>
                            <a:pt x="398" y="804"/>
                          </a:lnTo>
                          <a:lnTo>
                            <a:pt x="392" y="804"/>
                          </a:lnTo>
                          <a:lnTo>
                            <a:pt x="221" y="777"/>
                          </a:lnTo>
                          <a:lnTo>
                            <a:pt x="99" y="765"/>
                          </a:lnTo>
                          <a:lnTo>
                            <a:pt x="19" y="769"/>
                          </a:lnTo>
                          <a:lnTo>
                            <a:pt x="3" y="761"/>
                          </a:lnTo>
                          <a:lnTo>
                            <a:pt x="0" y="749"/>
                          </a:lnTo>
                          <a:lnTo>
                            <a:pt x="40" y="489"/>
                          </a:lnTo>
                          <a:lnTo>
                            <a:pt x="94" y="202"/>
                          </a:lnTo>
                          <a:lnTo>
                            <a:pt x="131" y="68"/>
                          </a:lnTo>
                          <a:lnTo>
                            <a:pt x="155" y="12"/>
                          </a:lnTo>
                          <a:lnTo>
                            <a:pt x="167" y="0"/>
                          </a:lnTo>
                          <a:lnTo>
                            <a:pt x="183" y="0"/>
                          </a:lnTo>
                          <a:lnTo>
                            <a:pt x="224" y="13"/>
                          </a:lnTo>
                          <a:lnTo>
                            <a:pt x="258" y="24"/>
                          </a:lnTo>
                          <a:lnTo>
                            <a:pt x="389" y="41"/>
                          </a:lnTo>
                          <a:lnTo>
                            <a:pt x="457" y="45"/>
                          </a:lnTo>
                          <a:lnTo>
                            <a:pt x="423" y="64"/>
                          </a:lnTo>
                          <a:lnTo>
                            <a:pt x="363" y="59"/>
                          </a:lnTo>
                          <a:lnTo>
                            <a:pt x="301" y="51"/>
                          </a:lnTo>
                          <a:lnTo>
                            <a:pt x="245" y="41"/>
                          </a:lnTo>
                          <a:lnTo>
                            <a:pt x="183" y="25"/>
                          </a:lnTo>
                          <a:lnTo>
                            <a:pt x="170" y="25"/>
                          </a:lnTo>
                          <a:lnTo>
                            <a:pt x="150" y="80"/>
                          </a:lnTo>
                          <a:lnTo>
                            <a:pt x="115" y="185"/>
                          </a:lnTo>
                          <a:lnTo>
                            <a:pt x="99" y="279"/>
                          </a:lnTo>
                          <a:lnTo>
                            <a:pt x="72" y="417"/>
                          </a:lnTo>
                          <a:lnTo>
                            <a:pt x="50" y="534"/>
                          </a:lnTo>
                          <a:lnTo>
                            <a:pt x="35" y="638"/>
                          </a:lnTo>
                          <a:lnTo>
                            <a:pt x="22" y="734"/>
                          </a:lnTo>
                          <a:lnTo>
                            <a:pt x="22" y="747"/>
                          </a:lnTo>
                          <a:lnTo>
                            <a:pt x="115" y="747"/>
                          </a:lnTo>
                          <a:lnTo>
                            <a:pt x="217" y="755"/>
                          </a:lnTo>
                          <a:lnTo>
                            <a:pt x="321" y="773"/>
                          </a:lnTo>
                          <a:lnTo>
                            <a:pt x="429" y="793"/>
                          </a:lnTo>
                          <a:lnTo>
                            <a:pt x="575" y="816"/>
                          </a:lnTo>
                          <a:lnTo>
                            <a:pt x="607" y="688"/>
                          </a:lnTo>
                          <a:lnTo>
                            <a:pt x="647" y="483"/>
                          </a:lnTo>
                          <a:lnTo>
                            <a:pt x="666" y="381"/>
                          </a:lnTo>
                          <a:lnTo>
                            <a:pt x="693" y="261"/>
                          </a:lnTo>
                          <a:lnTo>
                            <a:pt x="731" y="130"/>
                          </a:lnTo>
                          <a:lnTo>
                            <a:pt x="707" y="245"/>
                          </a:lnTo>
                          <a:lnTo>
                            <a:pt x="690" y="3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" name="Group 20"/>
                    <p:cNvGrpSpPr/>
                    <p:nvPr/>
                  </p:nvGrpSpPr>
                  <p:grpSpPr>
                    <a:xfrm>
                      <a:off x="3227400" y="5263200"/>
                      <a:ext cx="1089360" cy="708480"/>
                      <a:chOff x="3227400" y="5263200"/>
                      <a:chExt cx="1089360" cy="708480"/>
                    </a:xfrm>
                  </p:grpSpPr>
                  <p:sp>
                    <p:nvSpPr>
                      <p:cNvPr id="109" name="Freeform 21"/>
                      <p:cNvSpPr/>
                      <p:nvPr/>
                    </p:nvSpPr>
                    <p:spPr>
                      <a:xfrm>
                        <a:off x="3227400" y="5263200"/>
                        <a:ext cx="1089360" cy="708480"/>
                      </a:xfrm>
                      <a:custGeom>
                        <a:avLst/>
                        <a:gdLst>
                          <a:gd name="textAreaLeft" fmla="*/ 0 w 1089360"/>
                          <a:gd name="textAreaRight" fmla="*/ 1089720 w 1089360"/>
                          <a:gd name="textAreaTop" fmla="*/ 0 h 708480"/>
                          <a:gd name="textAreaBottom" fmla="*/ 708840 h 708480"/>
                        </a:gdLst>
                        <a:ahLst/>
                        <a:rect l="textAreaLeft" t="textAreaTop" r="textAreaRight" b="textAreaBottom"/>
                        <a:pathLst>
                          <a:path w="650" h="669">
                            <a:moveTo>
                              <a:pt x="305" y="0"/>
                            </a:moveTo>
                            <a:lnTo>
                              <a:pt x="364" y="0"/>
                            </a:lnTo>
                            <a:lnTo>
                              <a:pt x="449" y="0"/>
                            </a:lnTo>
                            <a:lnTo>
                              <a:pt x="563" y="6"/>
                            </a:lnTo>
                            <a:lnTo>
                              <a:pt x="626" y="10"/>
                            </a:lnTo>
                            <a:lnTo>
                              <a:pt x="641" y="15"/>
                            </a:lnTo>
                            <a:lnTo>
                              <a:pt x="650" y="23"/>
                            </a:lnTo>
                            <a:lnTo>
                              <a:pt x="644" y="45"/>
                            </a:lnTo>
                            <a:lnTo>
                              <a:pt x="623" y="113"/>
                            </a:lnTo>
                            <a:lnTo>
                              <a:pt x="588" y="269"/>
                            </a:lnTo>
                            <a:lnTo>
                              <a:pt x="566" y="368"/>
                            </a:lnTo>
                            <a:lnTo>
                              <a:pt x="582" y="239"/>
                            </a:lnTo>
                            <a:lnTo>
                              <a:pt x="600" y="132"/>
                            </a:lnTo>
                            <a:lnTo>
                              <a:pt x="614" y="61"/>
                            </a:lnTo>
                            <a:lnTo>
                              <a:pt x="619" y="39"/>
                            </a:lnTo>
                            <a:lnTo>
                              <a:pt x="611" y="31"/>
                            </a:lnTo>
                            <a:lnTo>
                              <a:pt x="541" y="30"/>
                            </a:lnTo>
                            <a:lnTo>
                              <a:pt x="442" y="27"/>
                            </a:lnTo>
                            <a:lnTo>
                              <a:pt x="358" y="27"/>
                            </a:lnTo>
                            <a:lnTo>
                              <a:pt x="402" y="43"/>
                            </a:lnTo>
                            <a:lnTo>
                              <a:pt x="446" y="66"/>
                            </a:lnTo>
                            <a:lnTo>
                              <a:pt x="480" y="93"/>
                            </a:lnTo>
                            <a:lnTo>
                              <a:pt x="504" y="116"/>
                            </a:lnTo>
                            <a:lnTo>
                              <a:pt x="526" y="141"/>
                            </a:lnTo>
                            <a:lnTo>
                              <a:pt x="539" y="179"/>
                            </a:lnTo>
                            <a:lnTo>
                              <a:pt x="552" y="208"/>
                            </a:lnTo>
                            <a:lnTo>
                              <a:pt x="560" y="247"/>
                            </a:lnTo>
                            <a:lnTo>
                              <a:pt x="563" y="285"/>
                            </a:lnTo>
                            <a:lnTo>
                              <a:pt x="564" y="318"/>
                            </a:lnTo>
                            <a:lnTo>
                              <a:pt x="566" y="356"/>
                            </a:lnTo>
                            <a:lnTo>
                              <a:pt x="558" y="408"/>
                            </a:lnTo>
                            <a:lnTo>
                              <a:pt x="544" y="467"/>
                            </a:lnTo>
                            <a:lnTo>
                              <a:pt x="524" y="506"/>
                            </a:lnTo>
                            <a:lnTo>
                              <a:pt x="489" y="554"/>
                            </a:lnTo>
                            <a:lnTo>
                              <a:pt x="455" y="589"/>
                            </a:lnTo>
                            <a:lnTo>
                              <a:pt x="417" y="627"/>
                            </a:lnTo>
                            <a:lnTo>
                              <a:pt x="376" y="645"/>
                            </a:lnTo>
                            <a:lnTo>
                              <a:pt x="328" y="662"/>
                            </a:lnTo>
                            <a:lnTo>
                              <a:pt x="284" y="669"/>
                            </a:lnTo>
                            <a:lnTo>
                              <a:pt x="234" y="669"/>
                            </a:lnTo>
                            <a:lnTo>
                              <a:pt x="188" y="661"/>
                            </a:lnTo>
                            <a:lnTo>
                              <a:pt x="140" y="645"/>
                            </a:lnTo>
                            <a:lnTo>
                              <a:pt x="109" y="627"/>
                            </a:lnTo>
                            <a:lnTo>
                              <a:pt x="71" y="593"/>
                            </a:lnTo>
                            <a:lnTo>
                              <a:pt x="48" y="550"/>
                            </a:lnTo>
                            <a:lnTo>
                              <a:pt x="28" y="510"/>
                            </a:lnTo>
                            <a:lnTo>
                              <a:pt x="13" y="463"/>
                            </a:lnTo>
                            <a:lnTo>
                              <a:pt x="3" y="407"/>
                            </a:lnTo>
                            <a:lnTo>
                              <a:pt x="0" y="357"/>
                            </a:lnTo>
                            <a:lnTo>
                              <a:pt x="3" y="309"/>
                            </a:lnTo>
                            <a:lnTo>
                              <a:pt x="9" y="262"/>
                            </a:lnTo>
                            <a:lnTo>
                              <a:pt x="25" y="224"/>
                            </a:lnTo>
                            <a:lnTo>
                              <a:pt x="41" y="191"/>
                            </a:lnTo>
                            <a:lnTo>
                              <a:pt x="68" y="149"/>
                            </a:lnTo>
                            <a:lnTo>
                              <a:pt x="104" y="117"/>
                            </a:lnTo>
                            <a:lnTo>
                              <a:pt x="141" y="85"/>
                            </a:lnTo>
                            <a:lnTo>
                              <a:pt x="196" y="51"/>
                            </a:lnTo>
                            <a:lnTo>
                              <a:pt x="239" y="27"/>
                            </a:lnTo>
                            <a:lnTo>
                              <a:pt x="281" y="11"/>
                            </a:lnTo>
                            <a:lnTo>
                              <a:pt x="315" y="14"/>
                            </a:lnTo>
                            <a:lnTo>
                              <a:pt x="255" y="47"/>
                            </a:lnTo>
                            <a:lnTo>
                              <a:pt x="180" y="85"/>
                            </a:lnTo>
                            <a:lnTo>
                              <a:pt x="127" y="125"/>
                            </a:lnTo>
                            <a:lnTo>
                              <a:pt x="84" y="165"/>
                            </a:lnTo>
                            <a:lnTo>
                              <a:pt x="51" y="218"/>
                            </a:lnTo>
                            <a:lnTo>
                              <a:pt x="34" y="263"/>
                            </a:lnTo>
                            <a:lnTo>
                              <a:pt x="23" y="330"/>
                            </a:lnTo>
                            <a:lnTo>
                              <a:pt x="23" y="391"/>
                            </a:lnTo>
                            <a:lnTo>
                              <a:pt x="34" y="442"/>
                            </a:lnTo>
                            <a:lnTo>
                              <a:pt x="50" y="497"/>
                            </a:lnTo>
                            <a:lnTo>
                              <a:pt x="75" y="550"/>
                            </a:lnTo>
                            <a:lnTo>
                              <a:pt x="106" y="588"/>
                            </a:lnTo>
                            <a:lnTo>
                              <a:pt x="135" y="610"/>
                            </a:lnTo>
                            <a:lnTo>
                              <a:pt x="172" y="627"/>
                            </a:lnTo>
                            <a:lnTo>
                              <a:pt x="215" y="639"/>
                            </a:lnTo>
                            <a:lnTo>
                              <a:pt x="258" y="643"/>
                            </a:lnTo>
                            <a:lnTo>
                              <a:pt x="311" y="635"/>
                            </a:lnTo>
                            <a:lnTo>
                              <a:pt x="364" y="619"/>
                            </a:lnTo>
                            <a:lnTo>
                              <a:pt x="411" y="597"/>
                            </a:lnTo>
                            <a:lnTo>
                              <a:pt x="458" y="558"/>
                            </a:lnTo>
                            <a:lnTo>
                              <a:pt x="488" y="518"/>
                            </a:lnTo>
                            <a:lnTo>
                              <a:pt x="523" y="467"/>
                            </a:lnTo>
                            <a:lnTo>
                              <a:pt x="541" y="408"/>
                            </a:lnTo>
                            <a:lnTo>
                              <a:pt x="548" y="357"/>
                            </a:lnTo>
                            <a:lnTo>
                              <a:pt x="542" y="297"/>
                            </a:lnTo>
                            <a:lnTo>
                              <a:pt x="533" y="235"/>
                            </a:lnTo>
                            <a:lnTo>
                              <a:pt x="523" y="195"/>
                            </a:lnTo>
                            <a:lnTo>
                              <a:pt x="505" y="157"/>
                            </a:lnTo>
                            <a:lnTo>
                              <a:pt x="479" y="125"/>
                            </a:lnTo>
                            <a:lnTo>
                              <a:pt x="446" y="100"/>
                            </a:lnTo>
                            <a:lnTo>
                              <a:pt x="409" y="74"/>
                            </a:lnTo>
                            <a:lnTo>
                              <a:pt x="371" y="58"/>
                            </a:lnTo>
                            <a:lnTo>
                              <a:pt x="330" y="49"/>
                            </a:lnTo>
                            <a:lnTo>
                              <a:pt x="292" y="49"/>
                            </a:lnTo>
                            <a:lnTo>
                              <a:pt x="258" y="49"/>
                            </a:lnTo>
                            <a:lnTo>
                              <a:pt x="318" y="14"/>
                            </a:lnTo>
                            <a:lnTo>
                              <a:pt x="30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Freeform 22"/>
                      <p:cNvSpPr/>
                      <p:nvPr/>
                    </p:nvSpPr>
                    <p:spPr>
                      <a:xfrm>
                        <a:off x="3592800" y="5265360"/>
                        <a:ext cx="178920" cy="62280"/>
                      </a:xfrm>
                      <a:custGeom>
                        <a:avLst/>
                        <a:gdLst>
                          <a:gd name="textAreaLeft" fmla="*/ 0 w 178920"/>
                          <a:gd name="textAreaRight" fmla="*/ 179280 w 178920"/>
                          <a:gd name="textAreaTop" fmla="*/ 0 h 62280"/>
                          <a:gd name="textAreaBottom" fmla="*/ 62640 h 62280"/>
                        </a:gdLst>
                        <a:ahLst/>
                        <a:rect l="textAreaLeft" t="textAreaTop" r="textAreaRight" b="textAreaBottom"/>
                        <a:pathLst>
                          <a:path w="107" h="59">
                            <a:moveTo>
                              <a:pt x="65" y="4"/>
                            </a:moveTo>
                            <a:lnTo>
                              <a:pt x="0" y="59"/>
                            </a:lnTo>
                            <a:lnTo>
                              <a:pt x="71" y="41"/>
                            </a:lnTo>
                            <a:lnTo>
                              <a:pt x="107" y="43"/>
                            </a:lnTo>
                            <a:lnTo>
                              <a:pt x="102" y="37"/>
                            </a:lnTo>
                            <a:lnTo>
                              <a:pt x="99" y="0"/>
                            </a:lnTo>
                            <a:lnTo>
                              <a:pt x="65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1" name="Freeform 23"/>
                  <p:cNvSpPr/>
                  <p:nvPr/>
                </p:nvSpPr>
                <p:spPr>
                  <a:xfrm>
                    <a:off x="3247920" y="5296320"/>
                    <a:ext cx="913680" cy="667080"/>
                  </a:xfrm>
                  <a:custGeom>
                    <a:avLst/>
                    <a:gdLst>
                      <a:gd name="textAreaLeft" fmla="*/ 0 w 913680"/>
                      <a:gd name="textAreaRight" fmla="*/ 914040 w 913680"/>
                      <a:gd name="textAreaTop" fmla="*/ 0 h 667080"/>
                      <a:gd name="textAreaBottom" fmla="*/ 667440 h 667080"/>
                    </a:gdLst>
                    <a:ahLst/>
                    <a:rect l="textAreaLeft" t="textAreaTop" r="textAreaRight" b="textAreaBottom"/>
                    <a:pathLst>
                      <a:path w="545" h="630">
                        <a:moveTo>
                          <a:pt x="113" y="85"/>
                        </a:moveTo>
                        <a:lnTo>
                          <a:pt x="165" y="47"/>
                        </a:lnTo>
                        <a:lnTo>
                          <a:pt x="240" y="8"/>
                        </a:lnTo>
                        <a:lnTo>
                          <a:pt x="302" y="0"/>
                        </a:lnTo>
                        <a:lnTo>
                          <a:pt x="364" y="12"/>
                        </a:lnTo>
                        <a:lnTo>
                          <a:pt x="417" y="42"/>
                        </a:lnTo>
                        <a:lnTo>
                          <a:pt x="473" y="81"/>
                        </a:lnTo>
                        <a:lnTo>
                          <a:pt x="511" y="128"/>
                        </a:lnTo>
                        <a:lnTo>
                          <a:pt x="530" y="195"/>
                        </a:lnTo>
                        <a:lnTo>
                          <a:pt x="543" y="263"/>
                        </a:lnTo>
                        <a:lnTo>
                          <a:pt x="545" y="338"/>
                        </a:lnTo>
                        <a:lnTo>
                          <a:pt x="526" y="423"/>
                        </a:lnTo>
                        <a:lnTo>
                          <a:pt x="486" y="494"/>
                        </a:lnTo>
                        <a:lnTo>
                          <a:pt x="433" y="553"/>
                        </a:lnTo>
                        <a:lnTo>
                          <a:pt x="380" y="596"/>
                        </a:lnTo>
                        <a:lnTo>
                          <a:pt x="287" y="630"/>
                        </a:lnTo>
                        <a:lnTo>
                          <a:pt x="199" y="624"/>
                        </a:lnTo>
                        <a:lnTo>
                          <a:pt x="132" y="600"/>
                        </a:lnTo>
                        <a:lnTo>
                          <a:pt x="85" y="568"/>
                        </a:lnTo>
                        <a:lnTo>
                          <a:pt x="53" y="519"/>
                        </a:lnTo>
                        <a:lnTo>
                          <a:pt x="23" y="451"/>
                        </a:lnTo>
                        <a:lnTo>
                          <a:pt x="4" y="385"/>
                        </a:lnTo>
                        <a:lnTo>
                          <a:pt x="0" y="306"/>
                        </a:lnTo>
                        <a:lnTo>
                          <a:pt x="10" y="232"/>
                        </a:lnTo>
                        <a:lnTo>
                          <a:pt x="38" y="169"/>
                        </a:lnTo>
                        <a:lnTo>
                          <a:pt x="87" y="106"/>
                        </a:lnTo>
                        <a:lnTo>
                          <a:pt x="113" y="8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24"/>
                  <p:cNvSpPr/>
                  <p:nvPr/>
                </p:nvSpPr>
                <p:spPr>
                  <a:xfrm>
                    <a:off x="3435840" y="5425560"/>
                    <a:ext cx="501120" cy="385200"/>
                  </a:xfrm>
                  <a:custGeom>
                    <a:avLst/>
                    <a:gdLst>
                      <a:gd name="textAreaLeft" fmla="*/ 0 w 501120"/>
                      <a:gd name="textAreaRight" fmla="*/ 501480 w 501120"/>
                      <a:gd name="textAreaTop" fmla="*/ 0 h 385200"/>
                      <a:gd name="textAreaBottom" fmla="*/ 385560 h 385200"/>
                    </a:gdLst>
                    <a:ahLst/>
                    <a:rect l="textAreaLeft" t="textAreaTop" r="textAreaRight" b="textAreaBottom"/>
                    <a:pathLst>
                      <a:path w="299" h="364">
                        <a:moveTo>
                          <a:pt x="31" y="77"/>
                        </a:moveTo>
                        <a:lnTo>
                          <a:pt x="66" y="35"/>
                        </a:lnTo>
                        <a:lnTo>
                          <a:pt x="104" y="10"/>
                        </a:lnTo>
                        <a:lnTo>
                          <a:pt x="159" y="0"/>
                        </a:lnTo>
                        <a:lnTo>
                          <a:pt x="221" y="4"/>
                        </a:lnTo>
                        <a:lnTo>
                          <a:pt x="268" y="35"/>
                        </a:lnTo>
                        <a:lnTo>
                          <a:pt x="287" y="69"/>
                        </a:lnTo>
                        <a:lnTo>
                          <a:pt x="299" y="171"/>
                        </a:lnTo>
                        <a:lnTo>
                          <a:pt x="291" y="247"/>
                        </a:lnTo>
                        <a:lnTo>
                          <a:pt x="262" y="306"/>
                        </a:lnTo>
                        <a:lnTo>
                          <a:pt x="221" y="340"/>
                        </a:lnTo>
                        <a:lnTo>
                          <a:pt x="166" y="364"/>
                        </a:lnTo>
                        <a:lnTo>
                          <a:pt x="106" y="364"/>
                        </a:lnTo>
                        <a:lnTo>
                          <a:pt x="53" y="342"/>
                        </a:lnTo>
                        <a:lnTo>
                          <a:pt x="22" y="305"/>
                        </a:lnTo>
                        <a:lnTo>
                          <a:pt x="7" y="246"/>
                        </a:lnTo>
                        <a:lnTo>
                          <a:pt x="0" y="177"/>
                        </a:lnTo>
                        <a:lnTo>
                          <a:pt x="13" y="112"/>
                        </a:lnTo>
                        <a:lnTo>
                          <a:pt x="31" y="77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" name="Group 25"/>
                  <p:cNvGrpSpPr/>
                  <p:nvPr/>
                </p:nvGrpSpPr>
                <p:grpSpPr>
                  <a:xfrm>
                    <a:off x="3422520" y="5412600"/>
                    <a:ext cx="536040" cy="407880"/>
                    <a:chOff x="3422520" y="5412600"/>
                    <a:chExt cx="536040" cy="407880"/>
                  </a:xfrm>
                </p:grpSpPr>
                <p:sp>
                  <p:nvSpPr>
                    <p:cNvPr id="114" name="Freeform 26"/>
                    <p:cNvSpPr/>
                    <p:nvPr/>
                  </p:nvSpPr>
                  <p:spPr>
                    <a:xfrm>
                      <a:off x="3467520" y="5412600"/>
                      <a:ext cx="491040" cy="407880"/>
                    </a:xfrm>
                    <a:custGeom>
                      <a:avLst/>
                      <a:gdLst>
                        <a:gd name="textAreaLeft" fmla="*/ 0 w 491040"/>
                        <a:gd name="textAreaRight" fmla="*/ 491400 w 491040"/>
                        <a:gd name="textAreaTop" fmla="*/ 0 h 407880"/>
                        <a:gd name="textAreaBottom" fmla="*/ 408240 h 407880"/>
                      </a:gdLst>
                      <a:ahLst/>
                      <a:rect l="textAreaLeft" t="textAreaTop" r="textAreaRight" b="textAreaBottom"/>
                      <a:pathLst>
                        <a:path w="293" h="385">
                          <a:moveTo>
                            <a:pt x="68" y="22"/>
                          </a:moveTo>
                          <a:lnTo>
                            <a:pt x="103" y="7"/>
                          </a:lnTo>
                          <a:lnTo>
                            <a:pt x="146" y="0"/>
                          </a:lnTo>
                          <a:lnTo>
                            <a:pt x="188" y="3"/>
                          </a:lnTo>
                          <a:lnTo>
                            <a:pt x="227" y="12"/>
                          </a:lnTo>
                          <a:lnTo>
                            <a:pt x="253" y="34"/>
                          </a:lnTo>
                          <a:lnTo>
                            <a:pt x="272" y="62"/>
                          </a:lnTo>
                          <a:lnTo>
                            <a:pt x="283" y="102"/>
                          </a:lnTo>
                          <a:lnTo>
                            <a:pt x="290" y="145"/>
                          </a:lnTo>
                          <a:lnTo>
                            <a:pt x="293" y="195"/>
                          </a:lnTo>
                          <a:lnTo>
                            <a:pt x="289" y="231"/>
                          </a:lnTo>
                          <a:lnTo>
                            <a:pt x="280" y="270"/>
                          </a:lnTo>
                          <a:lnTo>
                            <a:pt x="262" y="303"/>
                          </a:lnTo>
                          <a:lnTo>
                            <a:pt x="244" y="333"/>
                          </a:lnTo>
                          <a:lnTo>
                            <a:pt x="221" y="356"/>
                          </a:lnTo>
                          <a:lnTo>
                            <a:pt x="190" y="373"/>
                          </a:lnTo>
                          <a:lnTo>
                            <a:pt x="156" y="384"/>
                          </a:lnTo>
                          <a:lnTo>
                            <a:pt x="112" y="385"/>
                          </a:lnTo>
                          <a:lnTo>
                            <a:pt x="75" y="381"/>
                          </a:lnTo>
                          <a:lnTo>
                            <a:pt x="47" y="365"/>
                          </a:lnTo>
                          <a:lnTo>
                            <a:pt x="16" y="342"/>
                          </a:lnTo>
                          <a:lnTo>
                            <a:pt x="0" y="314"/>
                          </a:lnTo>
                          <a:lnTo>
                            <a:pt x="50" y="348"/>
                          </a:lnTo>
                          <a:lnTo>
                            <a:pt x="103" y="365"/>
                          </a:lnTo>
                          <a:lnTo>
                            <a:pt x="144" y="362"/>
                          </a:lnTo>
                          <a:lnTo>
                            <a:pt x="184" y="348"/>
                          </a:lnTo>
                          <a:lnTo>
                            <a:pt x="215" y="330"/>
                          </a:lnTo>
                          <a:lnTo>
                            <a:pt x="241" y="299"/>
                          </a:lnTo>
                          <a:lnTo>
                            <a:pt x="261" y="262"/>
                          </a:lnTo>
                          <a:lnTo>
                            <a:pt x="269" y="216"/>
                          </a:lnTo>
                          <a:lnTo>
                            <a:pt x="271" y="165"/>
                          </a:lnTo>
                          <a:lnTo>
                            <a:pt x="265" y="114"/>
                          </a:lnTo>
                          <a:lnTo>
                            <a:pt x="253" y="71"/>
                          </a:lnTo>
                          <a:lnTo>
                            <a:pt x="227" y="42"/>
                          </a:lnTo>
                          <a:lnTo>
                            <a:pt x="187" y="24"/>
                          </a:lnTo>
                          <a:lnTo>
                            <a:pt x="146" y="22"/>
                          </a:lnTo>
                          <a:lnTo>
                            <a:pt x="96" y="28"/>
                          </a:lnTo>
                          <a:lnTo>
                            <a:pt x="50" y="46"/>
                          </a:lnTo>
                          <a:lnTo>
                            <a:pt x="68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27"/>
                    <p:cNvSpPr/>
                    <p:nvPr/>
                  </p:nvSpPr>
                  <p:spPr>
                    <a:xfrm>
                      <a:off x="3422520" y="5425200"/>
                      <a:ext cx="227520" cy="370440"/>
                    </a:xfrm>
                    <a:custGeom>
                      <a:avLst/>
                      <a:gdLst>
                        <a:gd name="textAreaLeft" fmla="*/ 0 w 227520"/>
                        <a:gd name="textAreaRight" fmla="*/ 227880 w 22752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136" h="350">
                          <a:moveTo>
                            <a:pt x="136" y="0"/>
                          </a:moveTo>
                          <a:lnTo>
                            <a:pt x="92" y="10"/>
                          </a:lnTo>
                          <a:lnTo>
                            <a:pt x="59" y="34"/>
                          </a:lnTo>
                          <a:lnTo>
                            <a:pt x="31" y="65"/>
                          </a:lnTo>
                          <a:lnTo>
                            <a:pt x="15" y="102"/>
                          </a:lnTo>
                          <a:lnTo>
                            <a:pt x="6" y="145"/>
                          </a:lnTo>
                          <a:lnTo>
                            <a:pt x="0" y="184"/>
                          </a:lnTo>
                          <a:lnTo>
                            <a:pt x="2" y="222"/>
                          </a:lnTo>
                          <a:lnTo>
                            <a:pt x="8" y="259"/>
                          </a:lnTo>
                          <a:lnTo>
                            <a:pt x="15" y="287"/>
                          </a:lnTo>
                          <a:lnTo>
                            <a:pt x="28" y="317"/>
                          </a:lnTo>
                          <a:lnTo>
                            <a:pt x="52" y="338"/>
                          </a:lnTo>
                          <a:lnTo>
                            <a:pt x="84" y="350"/>
                          </a:lnTo>
                          <a:lnTo>
                            <a:pt x="80" y="350"/>
                          </a:lnTo>
                          <a:lnTo>
                            <a:pt x="49" y="313"/>
                          </a:lnTo>
                          <a:lnTo>
                            <a:pt x="30" y="275"/>
                          </a:lnTo>
                          <a:lnTo>
                            <a:pt x="22" y="230"/>
                          </a:lnTo>
                          <a:lnTo>
                            <a:pt x="22" y="175"/>
                          </a:lnTo>
                          <a:lnTo>
                            <a:pt x="28" y="128"/>
                          </a:lnTo>
                          <a:lnTo>
                            <a:pt x="39" y="93"/>
                          </a:lnTo>
                          <a:lnTo>
                            <a:pt x="56" y="63"/>
                          </a:lnTo>
                          <a:lnTo>
                            <a:pt x="80" y="42"/>
                          </a:lnTo>
                          <a:lnTo>
                            <a:pt x="130" y="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" name="Freeform 28"/>
                  <p:cNvSpPr/>
                  <p:nvPr/>
                </p:nvSpPr>
                <p:spPr>
                  <a:xfrm>
                    <a:off x="3588120" y="5548320"/>
                    <a:ext cx="192600" cy="142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115" h="135">
                        <a:moveTo>
                          <a:pt x="18" y="16"/>
                        </a:moveTo>
                        <a:lnTo>
                          <a:pt x="35" y="2"/>
                        </a:lnTo>
                        <a:lnTo>
                          <a:pt x="65" y="0"/>
                        </a:lnTo>
                        <a:lnTo>
                          <a:pt x="91" y="10"/>
                        </a:lnTo>
                        <a:lnTo>
                          <a:pt x="112" y="33"/>
                        </a:lnTo>
                        <a:lnTo>
                          <a:pt x="115" y="71"/>
                        </a:lnTo>
                        <a:lnTo>
                          <a:pt x="109" y="104"/>
                        </a:lnTo>
                        <a:lnTo>
                          <a:pt x="93" y="126"/>
                        </a:lnTo>
                        <a:lnTo>
                          <a:pt x="65" y="135"/>
                        </a:lnTo>
                        <a:lnTo>
                          <a:pt x="40" y="135"/>
                        </a:lnTo>
                        <a:lnTo>
                          <a:pt x="18" y="124"/>
                        </a:lnTo>
                        <a:lnTo>
                          <a:pt x="4" y="104"/>
                        </a:lnTo>
                        <a:lnTo>
                          <a:pt x="0" y="79"/>
                        </a:lnTo>
                        <a:lnTo>
                          <a:pt x="7" y="49"/>
                        </a:lnTo>
                        <a:lnTo>
                          <a:pt x="13" y="28"/>
                        </a:lnTo>
                        <a:lnTo>
                          <a:pt x="18" y="1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" name="Group 29"/>
                  <p:cNvGrpSpPr/>
                  <p:nvPr/>
                </p:nvGrpSpPr>
                <p:grpSpPr>
                  <a:xfrm>
                    <a:off x="3573360" y="5537520"/>
                    <a:ext cx="222120" cy="166320"/>
                    <a:chOff x="3573360" y="5537520"/>
                    <a:chExt cx="222120" cy="166320"/>
                  </a:xfrm>
                </p:grpSpPr>
                <p:sp>
                  <p:nvSpPr>
                    <p:cNvPr id="118" name="Freeform 30"/>
                    <p:cNvSpPr/>
                    <p:nvPr/>
                  </p:nvSpPr>
                  <p:spPr>
                    <a:xfrm>
                      <a:off x="3589920" y="5541840"/>
                      <a:ext cx="205560" cy="162000"/>
                    </a:xfrm>
                    <a:custGeom>
                      <a:avLst/>
                      <a:gdLst>
                        <a:gd name="textAreaLeft" fmla="*/ 0 w 205560"/>
                        <a:gd name="textAreaRight" fmla="*/ 205920 w 205560"/>
                        <a:gd name="textAreaTop" fmla="*/ 0 h 162000"/>
                        <a:gd name="textAreaBottom" fmla="*/ 162360 h 162000"/>
                      </a:gdLst>
                      <a:ahLst/>
                      <a:rect l="textAreaLeft" t="textAreaTop" r="textAreaRight" b="textAreaBottom"/>
                      <a:pathLst>
                        <a:path w="123" h="153">
                          <a:moveTo>
                            <a:pt x="59" y="0"/>
                          </a:moveTo>
                          <a:lnTo>
                            <a:pt x="87" y="2"/>
                          </a:lnTo>
                          <a:lnTo>
                            <a:pt x="109" y="16"/>
                          </a:lnTo>
                          <a:lnTo>
                            <a:pt x="118" y="35"/>
                          </a:lnTo>
                          <a:lnTo>
                            <a:pt x="123" y="65"/>
                          </a:lnTo>
                          <a:lnTo>
                            <a:pt x="120" y="94"/>
                          </a:lnTo>
                          <a:lnTo>
                            <a:pt x="114" y="118"/>
                          </a:lnTo>
                          <a:lnTo>
                            <a:pt x="101" y="137"/>
                          </a:lnTo>
                          <a:lnTo>
                            <a:pt x="81" y="149"/>
                          </a:lnTo>
                          <a:lnTo>
                            <a:pt x="52" y="153"/>
                          </a:lnTo>
                          <a:lnTo>
                            <a:pt x="30" y="148"/>
                          </a:lnTo>
                          <a:lnTo>
                            <a:pt x="11" y="137"/>
                          </a:lnTo>
                          <a:lnTo>
                            <a:pt x="0" y="122"/>
                          </a:lnTo>
                          <a:lnTo>
                            <a:pt x="2" y="81"/>
                          </a:lnTo>
                          <a:lnTo>
                            <a:pt x="14" y="110"/>
                          </a:lnTo>
                          <a:lnTo>
                            <a:pt x="37" y="128"/>
                          </a:lnTo>
                          <a:lnTo>
                            <a:pt x="61" y="132"/>
                          </a:lnTo>
                          <a:lnTo>
                            <a:pt x="80" y="126"/>
                          </a:lnTo>
                          <a:lnTo>
                            <a:pt x="98" y="112"/>
                          </a:lnTo>
                          <a:lnTo>
                            <a:pt x="105" y="89"/>
                          </a:lnTo>
                          <a:lnTo>
                            <a:pt x="105" y="61"/>
                          </a:lnTo>
                          <a:lnTo>
                            <a:pt x="96" y="38"/>
                          </a:lnTo>
                          <a:lnTo>
                            <a:pt x="80" y="19"/>
                          </a:lnTo>
                          <a:lnTo>
                            <a:pt x="64" y="14"/>
                          </a:lnTo>
                          <a:lnTo>
                            <a:pt x="42" y="4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31"/>
                    <p:cNvSpPr/>
                    <p:nvPr/>
                  </p:nvSpPr>
                  <p:spPr>
                    <a:xfrm>
                      <a:off x="3573360" y="5537520"/>
                      <a:ext cx="190440" cy="15228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114" h="144">
                          <a:moveTo>
                            <a:pt x="96" y="10"/>
                          </a:moveTo>
                          <a:lnTo>
                            <a:pt x="80" y="0"/>
                          </a:lnTo>
                          <a:lnTo>
                            <a:pt x="55" y="0"/>
                          </a:lnTo>
                          <a:lnTo>
                            <a:pt x="40" y="4"/>
                          </a:lnTo>
                          <a:lnTo>
                            <a:pt x="21" y="20"/>
                          </a:lnTo>
                          <a:lnTo>
                            <a:pt x="12" y="39"/>
                          </a:lnTo>
                          <a:lnTo>
                            <a:pt x="3" y="65"/>
                          </a:lnTo>
                          <a:lnTo>
                            <a:pt x="0" y="89"/>
                          </a:lnTo>
                          <a:lnTo>
                            <a:pt x="3" y="114"/>
                          </a:lnTo>
                          <a:lnTo>
                            <a:pt x="15" y="128"/>
                          </a:lnTo>
                          <a:lnTo>
                            <a:pt x="41" y="144"/>
                          </a:lnTo>
                          <a:lnTo>
                            <a:pt x="25" y="114"/>
                          </a:lnTo>
                          <a:lnTo>
                            <a:pt x="21" y="81"/>
                          </a:lnTo>
                          <a:lnTo>
                            <a:pt x="25" y="54"/>
                          </a:lnTo>
                          <a:lnTo>
                            <a:pt x="33" y="35"/>
                          </a:lnTo>
                          <a:lnTo>
                            <a:pt x="49" y="22"/>
                          </a:lnTo>
                          <a:lnTo>
                            <a:pt x="63" y="18"/>
                          </a:lnTo>
                          <a:lnTo>
                            <a:pt x="87" y="23"/>
                          </a:lnTo>
                          <a:lnTo>
                            <a:pt x="114" y="39"/>
                          </a:lnTo>
                          <a:lnTo>
                            <a:pt x="96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Freeform 32"/>
                  <p:cNvSpPr/>
                  <p:nvPr/>
                </p:nvSpPr>
                <p:spPr>
                  <a:xfrm>
                    <a:off x="4277520" y="5852160"/>
                    <a:ext cx="400680" cy="906480"/>
                  </a:xfrm>
                  <a:custGeom>
                    <a:avLst/>
                    <a:gdLst>
                      <a:gd name="textAreaLeft" fmla="*/ 0 w 400680"/>
                      <a:gd name="textAreaRight" fmla="*/ 401040 w 400680"/>
                      <a:gd name="textAreaTop" fmla="*/ 0 h 906480"/>
                      <a:gd name="textAreaBottom" fmla="*/ 906840 h 906480"/>
                    </a:gdLst>
                    <a:ahLst/>
                    <a:rect l="textAreaLeft" t="textAreaTop" r="textAreaRight" b="textAreaBottom"/>
                    <a:pathLst>
                      <a:path w="239" h="856">
                        <a:moveTo>
                          <a:pt x="65" y="0"/>
                        </a:moveTo>
                        <a:lnTo>
                          <a:pt x="93" y="148"/>
                        </a:lnTo>
                        <a:lnTo>
                          <a:pt x="116" y="278"/>
                        </a:lnTo>
                        <a:lnTo>
                          <a:pt x="142" y="417"/>
                        </a:lnTo>
                        <a:lnTo>
                          <a:pt x="178" y="562"/>
                        </a:lnTo>
                        <a:lnTo>
                          <a:pt x="215" y="710"/>
                        </a:lnTo>
                        <a:lnTo>
                          <a:pt x="239" y="802"/>
                        </a:lnTo>
                        <a:lnTo>
                          <a:pt x="239" y="822"/>
                        </a:lnTo>
                        <a:lnTo>
                          <a:pt x="224" y="844"/>
                        </a:lnTo>
                        <a:lnTo>
                          <a:pt x="200" y="856"/>
                        </a:lnTo>
                        <a:lnTo>
                          <a:pt x="165" y="856"/>
                        </a:lnTo>
                        <a:lnTo>
                          <a:pt x="146" y="837"/>
                        </a:lnTo>
                        <a:lnTo>
                          <a:pt x="133" y="802"/>
                        </a:lnTo>
                        <a:lnTo>
                          <a:pt x="93" y="600"/>
                        </a:lnTo>
                        <a:lnTo>
                          <a:pt x="62" y="460"/>
                        </a:lnTo>
                        <a:lnTo>
                          <a:pt x="34" y="315"/>
                        </a:lnTo>
                        <a:lnTo>
                          <a:pt x="0" y="157"/>
                        </a:lnTo>
                        <a:lnTo>
                          <a:pt x="16" y="126"/>
                        </a:lnTo>
                        <a:lnTo>
                          <a:pt x="46" y="287"/>
                        </a:lnTo>
                        <a:lnTo>
                          <a:pt x="71" y="412"/>
                        </a:lnTo>
                        <a:lnTo>
                          <a:pt x="103" y="570"/>
                        </a:lnTo>
                        <a:lnTo>
                          <a:pt x="128" y="692"/>
                        </a:lnTo>
                        <a:lnTo>
                          <a:pt x="153" y="808"/>
                        </a:lnTo>
                        <a:lnTo>
                          <a:pt x="168" y="826"/>
                        </a:lnTo>
                        <a:lnTo>
                          <a:pt x="189" y="836"/>
                        </a:lnTo>
                        <a:lnTo>
                          <a:pt x="206" y="828"/>
                        </a:lnTo>
                        <a:lnTo>
                          <a:pt x="221" y="806"/>
                        </a:lnTo>
                        <a:lnTo>
                          <a:pt x="195" y="710"/>
                        </a:lnTo>
                        <a:lnTo>
                          <a:pt x="165" y="594"/>
                        </a:lnTo>
                        <a:lnTo>
                          <a:pt x="136" y="468"/>
                        </a:lnTo>
                        <a:lnTo>
                          <a:pt x="106" y="325"/>
                        </a:lnTo>
                        <a:lnTo>
                          <a:pt x="81" y="177"/>
                        </a:lnTo>
                        <a:lnTo>
                          <a:pt x="50" y="28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3"/>
                <p:cNvGrpSpPr/>
                <p:nvPr/>
              </p:nvGrpSpPr>
              <p:grpSpPr>
                <a:xfrm>
                  <a:off x="2471760" y="5160960"/>
                  <a:ext cx="1213200" cy="498960"/>
                  <a:chOff x="2471760" y="5160960"/>
                  <a:chExt cx="1213200" cy="498960"/>
                </a:xfrm>
              </p:grpSpPr>
              <p:sp>
                <p:nvSpPr>
                  <p:cNvPr id="122" name="Freeform 34"/>
                  <p:cNvSpPr/>
                  <p:nvPr/>
                </p:nvSpPr>
                <p:spPr>
                  <a:xfrm>
                    <a:off x="2511720" y="5171400"/>
                    <a:ext cx="301680" cy="20124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201240"/>
                      <a:gd name="textAreaBottom" fmla="*/ 201600 h 201240"/>
                    </a:gdLst>
                    <a:ahLst/>
                    <a:rect l="textAreaLeft" t="textAreaTop" r="textAreaRight" b="textAreaBottom"/>
                    <a:pathLst>
                      <a:path w="180" h="190">
                        <a:moveTo>
                          <a:pt x="175" y="149"/>
                        </a:moveTo>
                        <a:lnTo>
                          <a:pt x="180" y="79"/>
                        </a:lnTo>
                        <a:lnTo>
                          <a:pt x="31" y="0"/>
                        </a:lnTo>
                        <a:lnTo>
                          <a:pt x="29" y="71"/>
                        </a:lnTo>
                        <a:lnTo>
                          <a:pt x="24" y="71"/>
                        </a:lnTo>
                        <a:lnTo>
                          <a:pt x="0" y="131"/>
                        </a:lnTo>
                        <a:lnTo>
                          <a:pt x="116" y="190"/>
                        </a:lnTo>
                        <a:lnTo>
                          <a:pt x="175" y="14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35"/>
                  <p:cNvSpPr/>
                  <p:nvPr/>
                </p:nvSpPr>
                <p:spPr>
                  <a:xfrm>
                    <a:off x="2471760" y="5167080"/>
                    <a:ext cx="109080" cy="1472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65" h="139">
                        <a:moveTo>
                          <a:pt x="53" y="0"/>
                        </a:moveTo>
                        <a:lnTo>
                          <a:pt x="45" y="64"/>
                        </a:lnTo>
                        <a:lnTo>
                          <a:pt x="6" y="41"/>
                        </a:lnTo>
                        <a:lnTo>
                          <a:pt x="0" y="53"/>
                        </a:lnTo>
                        <a:lnTo>
                          <a:pt x="37" y="83"/>
                        </a:lnTo>
                        <a:lnTo>
                          <a:pt x="15" y="139"/>
                        </a:lnTo>
                        <a:lnTo>
                          <a:pt x="34" y="138"/>
                        </a:lnTo>
                        <a:lnTo>
                          <a:pt x="58" y="75"/>
                        </a:lnTo>
                        <a:lnTo>
                          <a:pt x="65" y="12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36"/>
                  <p:cNvSpPr/>
                  <p:nvPr/>
                </p:nvSpPr>
                <p:spPr>
                  <a:xfrm>
                    <a:off x="2491560" y="5160960"/>
                    <a:ext cx="1193400" cy="498960"/>
                  </a:xfrm>
                  <a:custGeom>
                    <a:avLst/>
                    <a:gdLst>
                      <a:gd name="textAreaLeft" fmla="*/ 0 w 1193400"/>
                      <a:gd name="textAreaRight" fmla="*/ 1193760 w 1193400"/>
                      <a:gd name="textAreaTop" fmla="*/ 0 h 498960"/>
                      <a:gd name="textAreaBottom" fmla="*/ 499320 h 498960"/>
                    </a:gdLst>
                    <a:ahLst/>
                    <a:rect l="textAreaLeft" t="textAreaTop" r="textAreaRight" b="textAreaBottom"/>
                    <a:pathLst>
                      <a:path w="712" h="471">
                        <a:moveTo>
                          <a:pt x="255" y="183"/>
                        </a:moveTo>
                        <a:lnTo>
                          <a:pt x="700" y="432"/>
                        </a:lnTo>
                        <a:lnTo>
                          <a:pt x="712" y="434"/>
                        </a:lnTo>
                        <a:lnTo>
                          <a:pt x="709" y="454"/>
                        </a:lnTo>
                        <a:lnTo>
                          <a:pt x="696" y="471"/>
                        </a:lnTo>
                        <a:lnTo>
                          <a:pt x="682" y="471"/>
                        </a:lnTo>
                        <a:lnTo>
                          <a:pt x="677" y="462"/>
                        </a:lnTo>
                        <a:lnTo>
                          <a:pt x="178" y="175"/>
                        </a:lnTo>
                        <a:lnTo>
                          <a:pt x="134" y="212"/>
                        </a:lnTo>
                        <a:lnTo>
                          <a:pt x="0" y="144"/>
                        </a:lnTo>
                        <a:lnTo>
                          <a:pt x="16" y="132"/>
                        </a:lnTo>
                        <a:lnTo>
                          <a:pt x="128" y="191"/>
                        </a:lnTo>
                        <a:lnTo>
                          <a:pt x="173" y="157"/>
                        </a:lnTo>
                        <a:lnTo>
                          <a:pt x="50" y="86"/>
                        </a:lnTo>
                        <a:lnTo>
                          <a:pt x="181" y="145"/>
                        </a:lnTo>
                        <a:lnTo>
                          <a:pt x="183" y="94"/>
                        </a:lnTo>
                        <a:lnTo>
                          <a:pt x="50" y="23"/>
                        </a:lnTo>
                        <a:lnTo>
                          <a:pt x="41" y="0"/>
                        </a:lnTo>
                        <a:lnTo>
                          <a:pt x="199" y="85"/>
                        </a:lnTo>
                        <a:lnTo>
                          <a:pt x="198" y="148"/>
                        </a:lnTo>
                        <a:lnTo>
                          <a:pt x="255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37"/>
                <p:cNvGrpSpPr/>
                <p:nvPr/>
              </p:nvGrpSpPr>
              <p:grpSpPr>
                <a:xfrm>
                  <a:off x="2989800" y="4464000"/>
                  <a:ext cx="854640" cy="722160"/>
                  <a:chOff x="2989800" y="4464000"/>
                  <a:chExt cx="854640" cy="722160"/>
                </a:xfrm>
              </p:grpSpPr>
              <p:sp>
                <p:nvSpPr>
                  <p:cNvPr id="126" name="Freeform 38"/>
                  <p:cNvSpPr/>
                  <p:nvPr/>
                </p:nvSpPr>
                <p:spPr>
                  <a:xfrm>
                    <a:off x="3008160" y="4474440"/>
                    <a:ext cx="306360" cy="230760"/>
                  </a:xfrm>
                  <a:custGeom>
                    <a:avLst/>
                    <a:gdLst>
                      <a:gd name="textAreaLeft" fmla="*/ 0 w 306360"/>
                      <a:gd name="textAreaRight" fmla="*/ 306720 w 30636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183" h="218">
                        <a:moveTo>
                          <a:pt x="156" y="209"/>
                        </a:moveTo>
                        <a:lnTo>
                          <a:pt x="183" y="147"/>
                        </a:lnTo>
                        <a:lnTo>
                          <a:pt x="70" y="0"/>
                        </a:lnTo>
                        <a:lnTo>
                          <a:pt x="46" y="65"/>
                        </a:lnTo>
                        <a:lnTo>
                          <a:pt x="42" y="62"/>
                        </a:lnTo>
                        <a:lnTo>
                          <a:pt x="0" y="105"/>
                        </a:lnTo>
                        <a:lnTo>
                          <a:pt x="89" y="218"/>
                        </a:lnTo>
                        <a:lnTo>
                          <a:pt x="156" y="20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39"/>
                  <p:cNvSpPr/>
                  <p:nvPr/>
                </p:nvSpPr>
                <p:spPr>
                  <a:xfrm>
                    <a:off x="2994480" y="4469040"/>
                    <a:ext cx="142560" cy="124560"/>
                  </a:xfrm>
                  <a:custGeom>
                    <a:avLst/>
                    <a:gdLst>
                      <a:gd name="textAreaLeft" fmla="*/ 0 w 142560"/>
                      <a:gd name="textAreaRight" fmla="*/ 142920 w 142560"/>
                      <a:gd name="textAreaTop" fmla="*/ 0 h 124560"/>
                      <a:gd name="textAreaBottom" fmla="*/ 124920 h 124560"/>
                    </a:gdLst>
                    <a:ahLst/>
                    <a:rect l="textAreaLeft" t="textAreaTop" r="textAreaRight" b="textAreaBottom"/>
                    <a:pathLst>
                      <a:path w="85" h="118">
                        <a:moveTo>
                          <a:pt x="77" y="0"/>
                        </a:moveTo>
                        <a:lnTo>
                          <a:pt x="50" y="57"/>
                        </a:lnTo>
                        <a:lnTo>
                          <a:pt x="22" y="15"/>
                        </a:lnTo>
                        <a:lnTo>
                          <a:pt x="11" y="23"/>
                        </a:lnTo>
                        <a:lnTo>
                          <a:pt x="37" y="70"/>
                        </a:lnTo>
                        <a:lnTo>
                          <a:pt x="0" y="110"/>
                        </a:lnTo>
                        <a:lnTo>
                          <a:pt x="16" y="118"/>
                        </a:lnTo>
                        <a:lnTo>
                          <a:pt x="58" y="72"/>
                        </a:lnTo>
                        <a:lnTo>
                          <a:pt x="85" y="17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40"/>
                  <p:cNvSpPr/>
                  <p:nvPr/>
                </p:nvSpPr>
                <p:spPr>
                  <a:xfrm>
                    <a:off x="2989800" y="4464000"/>
                    <a:ext cx="854640" cy="722160"/>
                  </a:xfrm>
                  <a:custGeom>
                    <a:avLst/>
                    <a:gdLst>
                      <a:gd name="textAreaLeft" fmla="*/ 0 w 854640"/>
                      <a:gd name="textAreaRight" fmla="*/ 855000 w 854640"/>
                      <a:gd name="textAreaTop" fmla="*/ 0 h 722160"/>
                      <a:gd name="textAreaBottom" fmla="*/ 722520 h 722160"/>
                    </a:gdLst>
                    <a:ahLst/>
                    <a:rect l="textAreaLeft" t="textAreaTop" r="textAreaRight" b="textAreaBottom"/>
                    <a:pathLst>
                      <a:path w="510" h="682">
                        <a:moveTo>
                          <a:pt x="223" y="275"/>
                        </a:moveTo>
                        <a:lnTo>
                          <a:pt x="505" y="651"/>
                        </a:lnTo>
                        <a:lnTo>
                          <a:pt x="510" y="663"/>
                        </a:lnTo>
                        <a:lnTo>
                          <a:pt x="510" y="673"/>
                        </a:lnTo>
                        <a:lnTo>
                          <a:pt x="502" y="682"/>
                        </a:lnTo>
                        <a:lnTo>
                          <a:pt x="489" y="681"/>
                        </a:lnTo>
                        <a:lnTo>
                          <a:pt x="477" y="673"/>
                        </a:lnTo>
                        <a:lnTo>
                          <a:pt x="153" y="229"/>
                        </a:lnTo>
                        <a:lnTo>
                          <a:pt x="102" y="241"/>
                        </a:lnTo>
                        <a:lnTo>
                          <a:pt x="0" y="113"/>
                        </a:lnTo>
                        <a:lnTo>
                          <a:pt x="17" y="109"/>
                        </a:lnTo>
                        <a:lnTo>
                          <a:pt x="102" y="219"/>
                        </a:lnTo>
                        <a:lnTo>
                          <a:pt x="155" y="210"/>
                        </a:lnTo>
                        <a:lnTo>
                          <a:pt x="64" y="84"/>
                        </a:lnTo>
                        <a:lnTo>
                          <a:pt x="166" y="203"/>
                        </a:lnTo>
                        <a:lnTo>
                          <a:pt x="183" y="157"/>
                        </a:lnTo>
                        <a:lnTo>
                          <a:pt x="83" y="26"/>
                        </a:lnTo>
                        <a:lnTo>
                          <a:pt x="82" y="0"/>
                        </a:lnTo>
                        <a:lnTo>
                          <a:pt x="201" y="156"/>
                        </a:lnTo>
                        <a:lnTo>
                          <a:pt x="181" y="214"/>
                        </a:lnTo>
                        <a:lnTo>
                          <a:pt x="223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9" name="Group 41"/>
            <p:cNvGrpSpPr/>
            <p:nvPr/>
          </p:nvGrpSpPr>
          <p:grpSpPr>
            <a:xfrm>
              <a:off x="0" y="4514760"/>
              <a:ext cx="1870920" cy="2342880"/>
              <a:chOff x="0" y="4514760"/>
              <a:chExt cx="1870920" cy="2342880"/>
            </a:xfrm>
          </p:grpSpPr>
          <p:sp>
            <p:nvSpPr>
              <p:cNvPr id="130" name="Freeform 42"/>
              <p:cNvSpPr/>
              <p:nvPr/>
            </p:nvSpPr>
            <p:spPr>
              <a:xfrm>
                <a:off x="375480" y="5108760"/>
                <a:ext cx="637200" cy="367560"/>
              </a:xfrm>
              <a:custGeom>
                <a:avLst/>
                <a:gdLst>
                  <a:gd name="textAreaLeft" fmla="*/ 0 w 637200"/>
                  <a:gd name="textAreaRight" fmla="*/ 637560 w 63720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380" h="347">
                    <a:moveTo>
                      <a:pt x="248" y="151"/>
                    </a:moveTo>
                    <a:lnTo>
                      <a:pt x="225" y="110"/>
                    </a:lnTo>
                    <a:lnTo>
                      <a:pt x="201" y="76"/>
                    </a:lnTo>
                    <a:lnTo>
                      <a:pt x="172" y="43"/>
                    </a:lnTo>
                    <a:lnTo>
                      <a:pt x="144" y="25"/>
                    </a:lnTo>
                    <a:lnTo>
                      <a:pt x="117" y="8"/>
                    </a:lnTo>
                    <a:lnTo>
                      <a:pt x="90" y="0"/>
                    </a:lnTo>
                    <a:lnTo>
                      <a:pt x="64" y="0"/>
                    </a:lnTo>
                    <a:lnTo>
                      <a:pt x="41" y="11"/>
                    </a:lnTo>
                    <a:lnTo>
                      <a:pt x="23" y="33"/>
                    </a:lnTo>
                    <a:lnTo>
                      <a:pt x="9" y="62"/>
                    </a:lnTo>
                    <a:lnTo>
                      <a:pt x="0" y="101"/>
                    </a:lnTo>
                    <a:lnTo>
                      <a:pt x="0" y="153"/>
                    </a:lnTo>
                    <a:lnTo>
                      <a:pt x="3" y="199"/>
                    </a:lnTo>
                    <a:lnTo>
                      <a:pt x="15" y="237"/>
                    </a:lnTo>
                    <a:lnTo>
                      <a:pt x="34" y="275"/>
                    </a:lnTo>
                    <a:lnTo>
                      <a:pt x="61" y="309"/>
                    </a:lnTo>
                    <a:lnTo>
                      <a:pt x="86" y="325"/>
                    </a:lnTo>
                    <a:lnTo>
                      <a:pt x="115" y="339"/>
                    </a:lnTo>
                    <a:lnTo>
                      <a:pt x="153" y="347"/>
                    </a:lnTo>
                    <a:lnTo>
                      <a:pt x="183" y="345"/>
                    </a:lnTo>
                    <a:lnTo>
                      <a:pt x="203" y="334"/>
                    </a:lnTo>
                    <a:lnTo>
                      <a:pt x="222" y="320"/>
                    </a:lnTo>
                    <a:lnTo>
                      <a:pt x="240" y="299"/>
                    </a:lnTo>
                    <a:lnTo>
                      <a:pt x="251" y="265"/>
                    </a:lnTo>
                    <a:lnTo>
                      <a:pt x="255" y="228"/>
                    </a:lnTo>
                    <a:lnTo>
                      <a:pt x="259" y="199"/>
                    </a:lnTo>
                    <a:lnTo>
                      <a:pt x="305" y="208"/>
                    </a:lnTo>
                    <a:lnTo>
                      <a:pt x="344" y="228"/>
                    </a:lnTo>
                    <a:lnTo>
                      <a:pt x="368" y="236"/>
                    </a:lnTo>
                    <a:lnTo>
                      <a:pt x="380" y="222"/>
                    </a:lnTo>
                    <a:lnTo>
                      <a:pt x="380" y="203"/>
                    </a:lnTo>
                    <a:lnTo>
                      <a:pt x="370" y="187"/>
                    </a:lnTo>
                    <a:lnTo>
                      <a:pt x="353" y="178"/>
                    </a:lnTo>
                    <a:lnTo>
                      <a:pt x="348" y="180"/>
                    </a:lnTo>
                    <a:lnTo>
                      <a:pt x="314" y="180"/>
                    </a:lnTo>
                    <a:lnTo>
                      <a:pt x="268" y="170"/>
                    </a:lnTo>
                    <a:lnTo>
                      <a:pt x="24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606960" y="5520960"/>
                <a:ext cx="455760" cy="626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272" h="592">
                    <a:moveTo>
                      <a:pt x="23" y="17"/>
                    </a:moveTo>
                    <a:lnTo>
                      <a:pt x="46" y="11"/>
                    </a:lnTo>
                    <a:lnTo>
                      <a:pt x="73" y="0"/>
                    </a:lnTo>
                    <a:lnTo>
                      <a:pt x="103" y="0"/>
                    </a:lnTo>
                    <a:lnTo>
                      <a:pt x="127" y="3"/>
                    </a:lnTo>
                    <a:lnTo>
                      <a:pt x="150" y="17"/>
                    </a:lnTo>
                    <a:lnTo>
                      <a:pt x="172" y="40"/>
                    </a:lnTo>
                    <a:lnTo>
                      <a:pt x="196" y="70"/>
                    </a:lnTo>
                    <a:lnTo>
                      <a:pt x="214" y="102"/>
                    </a:lnTo>
                    <a:lnTo>
                      <a:pt x="234" y="142"/>
                    </a:lnTo>
                    <a:lnTo>
                      <a:pt x="250" y="186"/>
                    </a:lnTo>
                    <a:lnTo>
                      <a:pt x="260" y="228"/>
                    </a:lnTo>
                    <a:lnTo>
                      <a:pt x="270" y="277"/>
                    </a:lnTo>
                    <a:lnTo>
                      <a:pt x="272" y="322"/>
                    </a:lnTo>
                    <a:lnTo>
                      <a:pt x="270" y="374"/>
                    </a:lnTo>
                    <a:lnTo>
                      <a:pt x="265" y="419"/>
                    </a:lnTo>
                    <a:lnTo>
                      <a:pt x="250" y="469"/>
                    </a:lnTo>
                    <a:lnTo>
                      <a:pt x="227" y="507"/>
                    </a:lnTo>
                    <a:lnTo>
                      <a:pt x="202" y="541"/>
                    </a:lnTo>
                    <a:lnTo>
                      <a:pt x="180" y="567"/>
                    </a:lnTo>
                    <a:lnTo>
                      <a:pt x="157" y="582"/>
                    </a:lnTo>
                    <a:lnTo>
                      <a:pt x="150" y="586"/>
                    </a:lnTo>
                    <a:lnTo>
                      <a:pt x="126" y="592"/>
                    </a:lnTo>
                    <a:lnTo>
                      <a:pt x="119" y="592"/>
                    </a:lnTo>
                    <a:lnTo>
                      <a:pt x="94" y="587"/>
                    </a:lnTo>
                    <a:lnTo>
                      <a:pt x="65" y="581"/>
                    </a:lnTo>
                    <a:lnTo>
                      <a:pt x="41" y="561"/>
                    </a:lnTo>
                    <a:lnTo>
                      <a:pt x="22" y="532"/>
                    </a:lnTo>
                    <a:lnTo>
                      <a:pt x="10" y="493"/>
                    </a:lnTo>
                    <a:lnTo>
                      <a:pt x="0" y="434"/>
                    </a:lnTo>
                    <a:lnTo>
                      <a:pt x="4" y="393"/>
                    </a:lnTo>
                    <a:lnTo>
                      <a:pt x="16" y="354"/>
                    </a:lnTo>
                    <a:lnTo>
                      <a:pt x="34" y="325"/>
                    </a:lnTo>
                    <a:lnTo>
                      <a:pt x="46" y="301"/>
                    </a:lnTo>
                    <a:lnTo>
                      <a:pt x="54" y="269"/>
                    </a:lnTo>
                    <a:lnTo>
                      <a:pt x="50" y="240"/>
                    </a:lnTo>
                    <a:lnTo>
                      <a:pt x="38" y="220"/>
                    </a:lnTo>
                    <a:lnTo>
                      <a:pt x="16" y="185"/>
                    </a:lnTo>
                    <a:lnTo>
                      <a:pt x="4" y="151"/>
                    </a:lnTo>
                    <a:lnTo>
                      <a:pt x="0" y="117"/>
                    </a:lnTo>
                    <a:lnTo>
                      <a:pt x="0" y="75"/>
                    </a:lnTo>
                    <a:lnTo>
                      <a:pt x="10" y="49"/>
                    </a:lnTo>
                    <a:lnTo>
                      <a:pt x="16" y="3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0" y="5497560"/>
                <a:ext cx="735840" cy="253800"/>
              </a:xfrm>
              <a:custGeom>
                <a:avLst/>
                <a:gdLst>
                  <a:gd name="textAreaLeft" fmla="*/ 0 w 735840"/>
                  <a:gd name="textAreaRight" fmla="*/ 736200 w 7358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9" h="240">
                    <a:moveTo>
                      <a:pt x="367" y="37"/>
                    </a:moveTo>
                    <a:lnTo>
                      <a:pt x="395" y="39"/>
                    </a:lnTo>
                    <a:lnTo>
                      <a:pt x="425" y="46"/>
                    </a:lnTo>
                    <a:lnTo>
                      <a:pt x="439" y="64"/>
                    </a:lnTo>
                    <a:lnTo>
                      <a:pt x="428" y="92"/>
                    </a:lnTo>
                    <a:lnTo>
                      <a:pt x="398" y="126"/>
                    </a:lnTo>
                    <a:lnTo>
                      <a:pt x="371" y="141"/>
                    </a:lnTo>
                    <a:lnTo>
                      <a:pt x="350" y="134"/>
                    </a:lnTo>
                    <a:lnTo>
                      <a:pt x="303" y="105"/>
                    </a:lnTo>
                    <a:lnTo>
                      <a:pt x="248" y="77"/>
                    </a:lnTo>
                    <a:lnTo>
                      <a:pt x="180" y="56"/>
                    </a:lnTo>
                    <a:lnTo>
                      <a:pt x="123" y="47"/>
                    </a:lnTo>
                    <a:lnTo>
                      <a:pt x="115" y="46"/>
                    </a:lnTo>
                    <a:lnTo>
                      <a:pt x="77" y="46"/>
                    </a:lnTo>
                    <a:lnTo>
                      <a:pt x="73" y="44"/>
                    </a:lnTo>
                    <a:lnTo>
                      <a:pt x="55" y="56"/>
                    </a:lnTo>
                    <a:lnTo>
                      <a:pt x="54" y="73"/>
                    </a:lnTo>
                    <a:lnTo>
                      <a:pt x="71" y="90"/>
                    </a:lnTo>
                    <a:lnTo>
                      <a:pt x="110" y="102"/>
                    </a:lnTo>
                    <a:lnTo>
                      <a:pt x="164" y="115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3" y="113"/>
                    </a:lnTo>
                    <a:lnTo>
                      <a:pt x="219" y="111"/>
                    </a:lnTo>
                    <a:lnTo>
                      <a:pt x="224" y="111"/>
                    </a:lnTo>
                    <a:lnTo>
                      <a:pt x="231" y="107"/>
                    </a:lnTo>
                    <a:lnTo>
                      <a:pt x="235" y="99"/>
                    </a:lnTo>
                    <a:lnTo>
                      <a:pt x="242" y="96"/>
                    </a:lnTo>
                    <a:lnTo>
                      <a:pt x="248" y="96"/>
                    </a:lnTo>
                    <a:lnTo>
                      <a:pt x="255" y="93"/>
                    </a:lnTo>
                    <a:lnTo>
                      <a:pt x="262" y="90"/>
                    </a:lnTo>
                    <a:lnTo>
                      <a:pt x="270" y="84"/>
                    </a:lnTo>
                    <a:lnTo>
                      <a:pt x="275" y="84"/>
                    </a:lnTo>
                    <a:lnTo>
                      <a:pt x="283" y="85"/>
                    </a:lnTo>
                    <a:lnTo>
                      <a:pt x="289" y="86"/>
                    </a:lnTo>
                    <a:lnTo>
                      <a:pt x="296" y="90"/>
                    </a:lnTo>
                    <a:lnTo>
                      <a:pt x="301" y="96"/>
                    </a:lnTo>
                    <a:lnTo>
                      <a:pt x="300" y="105"/>
                    </a:lnTo>
                    <a:lnTo>
                      <a:pt x="298" y="111"/>
                    </a:lnTo>
                    <a:lnTo>
                      <a:pt x="300" y="119"/>
                    </a:lnTo>
                    <a:lnTo>
                      <a:pt x="294" y="122"/>
                    </a:lnTo>
                    <a:lnTo>
                      <a:pt x="286" y="122"/>
                    </a:lnTo>
                    <a:lnTo>
                      <a:pt x="281" y="120"/>
                    </a:lnTo>
                    <a:lnTo>
                      <a:pt x="275" y="123"/>
                    </a:lnTo>
                    <a:lnTo>
                      <a:pt x="280" y="128"/>
                    </a:lnTo>
                    <a:lnTo>
                      <a:pt x="286" y="130"/>
                    </a:lnTo>
                    <a:lnTo>
                      <a:pt x="290" y="132"/>
                    </a:lnTo>
                    <a:lnTo>
                      <a:pt x="298" y="139"/>
                    </a:lnTo>
                    <a:lnTo>
                      <a:pt x="301" y="147"/>
                    </a:lnTo>
                    <a:lnTo>
                      <a:pt x="306" y="155"/>
                    </a:lnTo>
                    <a:lnTo>
                      <a:pt x="305" y="161"/>
                    </a:lnTo>
                    <a:lnTo>
                      <a:pt x="303" y="169"/>
                    </a:lnTo>
                    <a:lnTo>
                      <a:pt x="300" y="175"/>
                    </a:lnTo>
                    <a:lnTo>
                      <a:pt x="291" y="182"/>
                    </a:lnTo>
                    <a:lnTo>
                      <a:pt x="284" y="181"/>
                    </a:lnTo>
                    <a:lnTo>
                      <a:pt x="279" y="181"/>
                    </a:lnTo>
                    <a:lnTo>
                      <a:pt x="283" y="183"/>
                    </a:lnTo>
                    <a:lnTo>
                      <a:pt x="288" y="191"/>
                    </a:lnTo>
                    <a:lnTo>
                      <a:pt x="291" y="202"/>
                    </a:lnTo>
                    <a:lnTo>
                      <a:pt x="291" y="208"/>
                    </a:lnTo>
                    <a:lnTo>
                      <a:pt x="290" y="216"/>
                    </a:lnTo>
                    <a:lnTo>
                      <a:pt x="289" y="223"/>
                    </a:lnTo>
                    <a:lnTo>
                      <a:pt x="286" y="229"/>
                    </a:lnTo>
                    <a:lnTo>
                      <a:pt x="281" y="236"/>
                    </a:lnTo>
                    <a:lnTo>
                      <a:pt x="275" y="238"/>
                    </a:lnTo>
                    <a:lnTo>
                      <a:pt x="269" y="240"/>
                    </a:lnTo>
                    <a:lnTo>
                      <a:pt x="262" y="238"/>
                    </a:lnTo>
                    <a:lnTo>
                      <a:pt x="258" y="237"/>
                    </a:lnTo>
                    <a:lnTo>
                      <a:pt x="252" y="236"/>
                    </a:lnTo>
                    <a:lnTo>
                      <a:pt x="247" y="232"/>
                    </a:lnTo>
                    <a:lnTo>
                      <a:pt x="241" y="229"/>
                    </a:lnTo>
                    <a:lnTo>
                      <a:pt x="236" y="224"/>
                    </a:lnTo>
                    <a:lnTo>
                      <a:pt x="230" y="221"/>
                    </a:lnTo>
                    <a:lnTo>
                      <a:pt x="226" y="211"/>
                    </a:lnTo>
                    <a:lnTo>
                      <a:pt x="224" y="204"/>
                    </a:lnTo>
                    <a:lnTo>
                      <a:pt x="219" y="198"/>
                    </a:lnTo>
                    <a:lnTo>
                      <a:pt x="215" y="189"/>
                    </a:lnTo>
                    <a:lnTo>
                      <a:pt x="213" y="182"/>
                    </a:lnTo>
                    <a:lnTo>
                      <a:pt x="208" y="177"/>
                    </a:lnTo>
                    <a:lnTo>
                      <a:pt x="203" y="170"/>
                    </a:lnTo>
                    <a:lnTo>
                      <a:pt x="182" y="155"/>
                    </a:lnTo>
                    <a:lnTo>
                      <a:pt x="114" y="143"/>
                    </a:lnTo>
                    <a:lnTo>
                      <a:pt x="109" y="143"/>
                    </a:lnTo>
                    <a:lnTo>
                      <a:pt x="59" y="128"/>
                    </a:lnTo>
                    <a:lnTo>
                      <a:pt x="23" y="111"/>
                    </a:lnTo>
                    <a:lnTo>
                      <a:pt x="8" y="88"/>
                    </a:lnTo>
                    <a:lnTo>
                      <a:pt x="0" y="65"/>
                    </a:lnTo>
                    <a:lnTo>
                      <a:pt x="8" y="44"/>
                    </a:lnTo>
                    <a:lnTo>
                      <a:pt x="17" y="25"/>
                    </a:lnTo>
                    <a:lnTo>
                      <a:pt x="44" y="9"/>
                    </a:lnTo>
                    <a:lnTo>
                      <a:pt x="96" y="0"/>
                    </a:lnTo>
                    <a:lnTo>
                      <a:pt x="155" y="4"/>
                    </a:lnTo>
                    <a:lnTo>
                      <a:pt x="220" y="12"/>
                    </a:lnTo>
                    <a:lnTo>
                      <a:pt x="269" y="22"/>
                    </a:lnTo>
                    <a:lnTo>
                      <a:pt x="307" y="29"/>
                    </a:lnTo>
                    <a:lnTo>
                      <a:pt x="341" y="31"/>
                    </a:lnTo>
                    <a:lnTo>
                      <a:pt x="36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754560" y="5449680"/>
                <a:ext cx="932040" cy="254160"/>
              </a:xfrm>
              <a:custGeom>
                <a:avLst/>
                <a:gdLst>
                  <a:gd name="textAreaLeft" fmla="*/ 0 w 932040"/>
                  <a:gd name="textAreaRight" fmla="*/ 932400 w 9320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556" h="240">
                    <a:moveTo>
                      <a:pt x="18" y="86"/>
                    </a:moveTo>
                    <a:lnTo>
                      <a:pt x="54" y="91"/>
                    </a:lnTo>
                    <a:lnTo>
                      <a:pt x="92" y="103"/>
                    </a:lnTo>
                    <a:lnTo>
                      <a:pt x="154" y="127"/>
                    </a:lnTo>
                    <a:lnTo>
                      <a:pt x="219" y="143"/>
                    </a:lnTo>
                    <a:lnTo>
                      <a:pt x="261" y="158"/>
                    </a:lnTo>
                    <a:lnTo>
                      <a:pt x="311" y="158"/>
                    </a:lnTo>
                    <a:lnTo>
                      <a:pt x="365" y="147"/>
                    </a:lnTo>
                    <a:lnTo>
                      <a:pt x="410" y="129"/>
                    </a:lnTo>
                    <a:lnTo>
                      <a:pt x="465" y="108"/>
                    </a:lnTo>
                    <a:lnTo>
                      <a:pt x="489" y="100"/>
                    </a:lnTo>
                    <a:lnTo>
                      <a:pt x="495" y="99"/>
                    </a:lnTo>
                    <a:lnTo>
                      <a:pt x="498" y="91"/>
                    </a:lnTo>
                    <a:lnTo>
                      <a:pt x="500" y="84"/>
                    </a:lnTo>
                    <a:lnTo>
                      <a:pt x="500" y="75"/>
                    </a:lnTo>
                    <a:lnTo>
                      <a:pt x="498" y="69"/>
                    </a:lnTo>
                    <a:lnTo>
                      <a:pt x="492" y="61"/>
                    </a:lnTo>
                    <a:lnTo>
                      <a:pt x="491" y="54"/>
                    </a:lnTo>
                    <a:lnTo>
                      <a:pt x="485" y="50"/>
                    </a:lnTo>
                    <a:lnTo>
                      <a:pt x="485" y="41"/>
                    </a:lnTo>
                    <a:lnTo>
                      <a:pt x="485" y="34"/>
                    </a:lnTo>
                    <a:lnTo>
                      <a:pt x="485" y="27"/>
                    </a:lnTo>
                    <a:lnTo>
                      <a:pt x="485" y="20"/>
                    </a:lnTo>
                    <a:lnTo>
                      <a:pt x="489" y="12"/>
                    </a:lnTo>
                    <a:lnTo>
                      <a:pt x="495" y="7"/>
                    </a:lnTo>
                    <a:lnTo>
                      <a:pt x="500" y="3"/>
                    </a:lnTo>
                    <a:lnTo>
                      <a:pt x="506" y="3"/>
                    </a:lnTo>
                    <a:lnTo>
                      <a:pt x="512" y="0"/>
                    </a:lnTo>
                    <a:lnTo>
                      <a:pt x="518" y="3"/>
                    </a:lnTo>
                    <a:lnTo>
                      <a:pt x="523" y="6"/>
                    </a:lnTo>
                    <a:lnTo>
                      <a:pt x="527" y="12"/>
                    </a:lnTo>
                    <a:lnTo>
                      <a:pt x="533" y="16"/>
                    </a:lnTo>
                    <a:lnTo>
                      <a:pt x="534" y="23"/>
                    </a:lnTo>
                    <a:lnTo>
                      <a:pt x="534" y="31"/>
                    </a:lnTo>
                    <a:lnTo>
                      <a:pt x="536" y="37"/>
                    </a:lnTo>
                    <a:lnTo>
                      <a:pt x="541" y="45"/>
                    </a:lnTo>
                    <a:lnTo>
                      <a:pt x="541" y="51"/>
                    </a:lnTo>
                    <a:lnTo>
                      <a:pt x="541" y="59"/>
                    </a:lnTo>
                    <a:lnTo>
                      <a:pt x="541" y="66"/>
                    </a:lnTo>
                    <a:lnTo>
                      <a:pt x="539" y="74"/>
                    </a:lnTo>
                    <a:lnTo>
                      <a:pt x="534" y="80"/>
                    </a:lnTo>
                    <a:lnTo>
                      <a:pt x="530" y="88"/>
                    </a:lnTo>
                    <a:lnTo>
                      <a:pt x="533" y="95"/>
                    </a:lnTo>
                    <a:lnTo>
                      <a:pt x="534" y="103"/>
                    </a:lnTo>
                    <a:lnTo>
                      <a:pt x="539" y="109"/>
                    </a:lnTo>
                    <a:lnTo>
                      <a:pt x="545" y="118"/>
                    </a:lnTo>
                    <a:lnTo>
                      <a:pt x="550" y="122"/>
                    </a:lnTo>
                    <a:lnTo>
                      <a:pt x="552" y="129"/>
                    </a:lnTo>
                    <a:lnTo>
                      <a:pt x="556" y="137"/>
                    </a:lnTo>
                    <a:lnTo>
                      <a:pt x="556" y="143"/>
                    </a:lnTo>
                    <a:lnTo>
                      <a:pt x="554" y="151"/>
                    </a:lnTo>
                    <a:lnTo>
                      <a:pt x="554" y="158"/>
                    </a:lnTo>
                    <a:lnTo>
                      <a:pt x="552" y="167"/>
                    </a:lnTo>
                    <a:lnTo>
                      <a:pt x="550" y="173"/>
                    </a:lnTo>
                    <a:lnTo>
                      <a:pt x="546" y="181"/>
                    </a:lnTo>
                    <a:lnTo>
                      <a:pt x="545" y="188"/>
                    </a:lnTo>
                    <a:lnTo>
                      <a:pt x="542" y="196"/>
                    </a:lnTo>
                    <a:lnTo>
                      <a:pt x="536" y="197"/>
                    </a:lnTo>
                    <a:lnTo>
                      <a:pt x="534" y="205"/>
                    </a:lnTo>
                    <a:lnTo>
                      <a:pt x="527" y="215"/>
                    </a:lnTo>
                    <a:lnTo>
                      <a:pt x="519" y="224"/>
                    </a:lnTo>
                    <a:lnTo>
                      <a:pt x="512" y="230"/>
                    </a:lnTo>
                    <a:lnTo>
                      <a:pt x="506" y="235"/>
                    </a:lnTo>
                    <a:lnTo>
                      <a:pt x="500" y="239"/>
                    </a:lnTo>
                    <a:lnTo>
                      <a:pt x="492" y="240"/>
                    </a:lnTo>
                    <a:lnTo>
                      <a:pt x="487" y="240"/>
                    </a:lnTo>
                    <a:lnTo>
                      <a:pt x="480" y="240"/>
                    </a:lnTo>
                    <a:lnTo>
                      <a:pt x="473" y="236"/>
                    </a:lnTo>
                    <a:lnTo>
                      <a:pt x="468" y="231"/>
                    </a:lnTo>
                    <a:lnTo>
                      <a:pt x="468" y="224"/>
                    </a:lnTo>
                    <a:lnTo>
                      <a:pt x="468" y="217"/>
                    </a:lnTo>
                    <a:lnTo>
                      <a:pt x="471" y="207"/>
                    </a:lnTo>
                    <a:lnTo>
                      <a:pt x="476" y="205"/>
                    </a:lnTo>
                    <a:lnTo>
                      <a:pt x="484" y="201"/>
                    </a:lnTo>
                    <a:lnTo>
                      <a:pt x="487" y="192"/>
                    </a:lnTo>
                    <a:lnTo>
                      <a:pt x="480" y="188"/>
                    </a:lnTo>
                    <a:lnTo>
                      <a:pt x="476" y="181"/>
                    </a:lnTo>
                    <a:lnTo>
                      <a:pt x="476" y="173"/>
                    </a:lnTo>
                    <a:lnTo>
                      <a:pt x="476" y="167"/>
                    </a:lnTo>
                    <a:lnTo>
                      <a:pt x="480" y="158"/>
                    </a:lnTo>
                    <a:lnTo>
                      <a:pt x="484" y="151"/>
                    </a:lnTo>
                    <a:lnTo>
                      <a:pt x="442" y="163"/>
                    </a:lnTo>
                    <a:lnTo>
                      <a:pt x="372" y="192"/>
                    </a:lnTo>
                    <a:lnTo>
                      <a:pt x="331" y="205"/>
                    </a:lnTo>
                    <a:lnTo>
                      <a:pt x="289" y="207"/>
                    </a:lnTo>
                    <a:lnTo>
                      <a:pt x="250" y="205"/>
                    </a:lnTo>
                    <a:lnTo>
                      <a:pt x="203" y="190"/>
                    </a:lnTo>
                    <a:lnTo>
                      <a:pt x="158" y="177"/>
                    </a:lnTo>
                    <a:lnTo>
                      <a:pt x="110" y="173"/>
                    </a:lnTo>
                    <a:lnTo>
                      <a:pt x="54" y="171"/>
                    </a:lnTo>
                    <a:lnTo>
                      <a:pt x="29" y="163"/>
                    </a:lnTo>
                    <a:lnTo>
                      <a:pt x="11" y="143"/>
                    </a:lnTo>
                    <a:lnTo>
                      <a:pt x="0" y="122"/>
                    </a:lnTo>
                    <a:lnTo>
                      <a:pt x="6" y="103"/>
                    </a:lnTo>
                    <a:lnTo>
                      <a:pt x="1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820080" y="6016680"/>
                <a:ext cx="507960" cy="8409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303" h="794">
                    <a:moveTo>
                      <a:pt x="38" y="5"/>
                    </a:moveTo>
                    <a:lnTo>
                      <a:pt x="58" y="22"/>
                    </a:lnTo>
                    <a:lnTo>
                      <a:pt x="80" y="54"/>
                    </a:lnTo>
                    <a:lnTo>
                      <a:pt x="106" y="94"/>
                    </a:lnTo>
                    <a:lnTo>
                      <a:pt x="142" y="147"/>
                    </a:lnTo>
                    <a:lnTo>
                      <a:pt x="173" y="195"/>
                    </a:lnTo>
                    <a:lnTo>
                      <a:pt x="192" y="225"/>
                    </a:lnTo>
                    <a:lnTo>
                      <a:pt x="204" y="250"/>
                    </a:lnTo>
                    <a:lnTo>
                      <a:pt x="207" y="268"/>
                    </a:lnTo>
                    <a:lnTo>
                      <a:pt x="207" y="296"/>
                    </a:lnTo>
                    <a:lnTo>
                      <a:pt x="200" y="316"/>
                    </a:lnTo>
                    <a:lnTo>
                      <a:pt x="184" y="347"/>
                    </a:lnTo>
                    <a:lnTo>
                      <a:pt x="157" y="394"/>
                    </a:lnTo>
                    <a:lnTo>
                      <a:pt x="129" y="444"/>
                    </a:lnTo>
                    <a:lnTo>
                      <a:pt x="109" y="492"/>
                    </a:lnTo>
                    <a:lnTo>
                      <a:pt x="98" y="534"/>
                    </a:lnTo>
                    <a:lnTo>
                      <a:pt x="92" y="575"/>
                    </a:lnTo>
                    <a:lnTo>
                      <a:pt x="92" y="613"/>
                    </a:lnTo>
                    <a:lnTo>
                      <a:pt x="96" y="640"/>
                    </a:lnTo>
                    <a:lnTo>
                      <a:pt x="115" y="656"/>
                    </a:lnTo>
                    <a:lnTo>
                      <a:pt x="139" y="660"/>
                    </a:lnTo>
                    <a:lnTo>
                      <a:pt x="177" y="661"/>
                    </a:lnTo>
                    <a:lnTo>
                      <a:pt x="223" y="671"/>
                    </a:lnTo>
                    <a:lnTo>
                      <a:pt x="258" y="686"/>
                    </a:lnTo>
                    <a:lnTo>
                      <a:pt x="287" y="709"/>
                    </a:lnTo>
                    <a:lnTo>
                      <a:pt x="302" y="730"/>
                    </a:lnTo>
                    <a:lnTo>
                      <a:pt x="303" y="749"/>
                    </a:lnTo>
                    <a:lnTo>
                      <a:pt x="292" y="774"/>
                    </a:lnTo>
                    <a:lnTo>
                      <a:pt x="269" y="794"/>
                    </a:lnTo>
                    <a:lnTo>
                      <a:pt x="254" y="791"/>
                    </a:lnTo>
                    <a:lnTo>
                      <a:pt x="245" y="771"/>
                    </a:lnTo>
                    <a:lnTo>
                      <a:pt x="233" y="744"/>
                    </a:lnTo>
                    <a:lnTo>
                      <a:pt x="204" y="723"/>
                    </a:lnTo>
                    <a:lnTo>
                      <a:pt x="168" y="706"/>
                    </a:lnTo>
                    <a:lnTo>
                      <a:pt x="130" y="705"/>
                    </a:lnTo>
                    <a:lnTo>
                      <a:pt x="96" y="715"/>
                    </a:lnTo>
                    <a:lnTo>
                      <a:pt x="80" y="719"/>
                    </a:lnTo>
                    <a:lnTo>
                      <a:pt x="60" y="715"/>
                    </a:lnTo>
                    <a:lnTo>
                      <a:pt x="48" y="699"/>
                    </a:lnTo>
                    <a:lnTo>
                      <a:pt x="42" y="680"/>
                    </a:lnTo>
                    <a:lnTo>
                      <a:pt x="46" y="657"/>
                    </a:lnTo>
                    <a:lnTo>
                      <a:pt x="57" y="609"/>
                    </a:lnTo>
                    <a:lnTo>
                      <a:pt x="64" y="546"/>
                    </a:lnTo>
                    <a:lnTo>
                      <a:pt x="76" y="471"/>
                    </a:lnTo>
                    <a:lnTo>
                      <a:pt x="88" y="412"/>
                    </a:lnTo>
                    <a:lnTo>
                      <a:pt x="103" y="367"/>
                    </a:lnTo>
                    <a:lnTo>
                      <a:pt x="125" y="326"/>
                    </a:lnTo>
                    <a:lnTo>
                      <a:pt x="141" y="293"/>
                    </a:lnTo>
                    <a:lnTo>
                      <a:pt x="150" y="274"/>
                    </a:lnTo>
                    <a:lnTo>
                      <a:pt x="146" y="258"/>
                    </a:lnTo>
                    <a:lnTo>
                      <a:pt x="119" y="225"/>
                    </a:lnTo>
                    <a:lnTo>
                      <a:pt x="80" y="190"/>
                    </a:lnTo>
                    <a:lnTo>
                      <a:pt x="53" y="157"/>
                    </a:lnTo>
                    <a:lnTo>
                      <a:pt x="31" y="128"/>
                    </a:lnTo>
                    <a:lnTo>
                      <a:pt x="11" y="89"/>
                    </a:lnTo>
                    <a:lnTo>
                      <a:pt x="0" y="44"/>
                    </a:lnTo>
                    <a:lnTo>
                      <a:pt x="10" y="12"/>
                    </a:lnTo>
                    <a:lnTo>
                      <a:pt x="19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7"/>
              <p:cNvSpPr/>
              <p:nvPr/>
            </p:nvSpPr>
            <p:spPr>
              <a:xfrm>
                <a:off x="309960" y="5982840"/>
                <a:ext cx="456120" cy="83232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832320"/>
                  <a:gd name="textAreaBottom" fmla="*/ 832680 h 832320"/>
                </a:gdLst>
                <a:ahLst/>
                <a:rect l="textAreaLeft" t="textAreaTop" r="textAreaRight" b="textAreaBottom"/>
                <a:pathLst>
                  <a:path w="272" h="786">
                    <a:moveTo>
                      <a:pt x="203" y="31"/>
                    </a:moveTo>
                    <a:lnTo>
                      <a:pt x="224" y="10"/>
                    </a:lnTo>
                    <a:lnTo>
                      <a:pt x="245" y="0"/>
                    </a:lnTo>
                    <a:lnTo>
                      <a:pt x="266" y="16"/>
                    </a:lnTo>
                    <a:lnTo>
                      <a:pt x="272" y="44"/>
                    </a:lnTo>
                    <a:lnTo>
                      <a:pt x="270" y="79"/>
                    </a:lnTo>
                    <a:lnTo>
                      <a:pt x="257" y="103"/>
                    </a:lnTo>
                    <a:lnTo>
                      <a:pt x="223" y="137"/>
                    </a:lnTo>
                    <a:lnTo>
                      <a:pt x="196" y="169"/>
                    </a:lnTo>
                    <a:lnTo>
                      <a:pt x="173" y="205"/>
                    </a:lnTo>
                    <a:lnTo>
                      <a:pt x="155" y="247"/>
                    </a:lnTo>
                    <a:lnTo>
                      <a:pt x="147" y="285"/>
                    </a:lnTo>
                    <a:lnTo>
                      <a:pt x="151" y="321"/>
                    </a:lnTo>
                    <a:lnTo>
                      <a:pt x="167" y="353"/>
                    </a:lnTo>
                    <a:lnTo>
                      <a:pt x="196" y="393"/>
                    </a:lnTo>
                    <a:lnTo>
                      <a:pt x="223" y="435"/>
                    </a:lnTo>
                    <a:lnTo>
                      <a:pt x="235" y="465"/>
                    </a:lnTo>
                    <a:lnTo>
                      <a:pt x="243" y="518"/>
                    </a:lnTo>
                    <a:lnTo>
                      <a:pt x="250" y="581"/>
                    </a:lnTo>
                    <a:lnTo>
                      <a:pt x="246" y="636"/>
                    </a:lnTo>
                    <a:lnTo>
                      <a:pt x="243" y="679"/>
                    </a:lnTo>
                    <a:lnTo>
                      <a:pt x="239" y="708"/>
                    </a:lnTo>
                    <a:lnTo>
                      <a:pt x="228" y="722"/>
                    </a:lnTo>
                    <a:lnTo>
                      <a:pt x="223" y="722"/>
                    </a:lnTo>
                    <a:lnTo>
                      <a:pt x="211" y="727"/>
                    </a:lnTo>
                    <a:lnTo>
                      <a:pt x="180" y="722"/>
                    </a:lnTo>
                    <a:lnTo>
                      <a:pt x="151" y="722"/>
                    </a:lnTo>
                    <a:lnTo>
                      <a:pt x="146" y="726"/>
                    </a:lnTo>
                    <a:lnTo>
                      <a:pt x="109" y="735"/>
                    </a:lnTo>
                    <a:lnTo>
                      <a:pt x="76" y="760"/>
                    </a:lnTo>
                    <a:lnTo>
                      <a:pt x="55" y="786"/>
                    </a:lnTo>
                    <a:lnTo>
                      <a:pt x="39" y="784"/>
                    </a:lnTo>
                    <a:lnTo>
                      <a:pt x="15" y="760"/>
                    </a:lnTo>
                    <a:lnTo>
                      <a:pt x="0" y="718"/>
                    </a:lnTo>
                    <a:lnTo>
                      <a:pt x="8" y="704"/>
                    </a:lnTo>
                    <a:lnTo>
                      <a:pt x="51" y="683"/>
                    </a:lnTo>
                    <a:lnTo>
                      <a:pt x="124" y="670"/>
                    </a:lnTo>
                    <a:lnTo>
                      <a:pt x="181" y="668"/>
                    </a:lnTo>
                    <a:lnTo>
                      <a:pt x="201" y="658"/>
                    </a:lnTo>
                    <a:lnTo>
                      <a:pt x="212" y="636"/>
                    </a:lnTo>
                    <a:lnTo>
                      <a:pt x="218" y="602"/>
                    </a:lnTo>
                    <a:lnTo>
                      <a:pt x="218" y="556"/>
                    </a:lnTo>
                    <a:lnTo>
                      <a:pt x="207" y="510"/>
                    </a:lnTo>
                    <a:lnTo>
                      <a:pt x="181" y="464"/>
                    </a:lnTo>
                    <a:lnTo>
                      <a:pt x="157" y="427"/>
                    </a:lnTo>
                    <a:lnTo>
                      <a:pt x="136" y="396"/>
                    </a:lnTo>
                    <a:lnTo>
                      <a:pt x="116" y="363"/>
                    </a:lnTo>
                    <a:lnTo>
                      <a:pt x="104" y="325"/>
                    </a:lnTo>
                    <a:lnTo>
                      <a:pt x="103" y="295"/>
                    </a:lnTo>
                    <a:lnTo>
                      <a:pt x="104" y="252"/>
                    </a:lnTo>
                    <a:lnTo>
                      <a:pt x="115" y="213"/>
                    </a:lnTo>
                    <a:lnTo>
                      <a:pt x="128" y="176"/>
                    </a:lnTo>
                    <a:lnTo>
                      <a:pt x="143" y="135"/>
                    </a:lnTo>
                    <a:lnTo>
                      <a:pt x="162" y="96"/>
                    </a:lnTo>
                    <a:lnTo>
                      <a:pt x="184" y="62"/>
                    </a:lnTo>
                    <a:lnTo>
                      <a:pt x="2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8"/>
              <p:cNvSpPr/>
              <p:nvPr/>
            </p:nvSpPr>
            <p:spPr>
              <a:xfrm>
                <a:off x="417240" y="4646880"/>
                <a:ext cx="501480" cy="1717920"/>
              </a:xfrm>
              <a:custGeom>
                <a:avLst/>
                <a:gdLst>
                  <a:gd name="textAreaLeft" fmla="*/ 0 w 501480"/>
                  <a:gd name="textAreaRight" fmla="*/ 501840 w 501480"/>
                  <a:gd name="textAreaTop" fmla="*/ 0 h 1717920"/>
                  <a:gd name="textAreaBottom" fmla="*/ 1718280 h 1717920"/>
                </a:gdLst>
                <a:ahLst/>
                <a:rect l="textAreaLeft" t="textAreaTop" r="textAreaRight" b="textAreaBottom"/>
                <a:pathLst>
                  <a:path w="299" h="1622">
                    <a:moveTo>
                      <a:pt x="23" y="985"/>
                    </a:moveTo>
                    <a:lnTo>
                      <a:pt x="299" y="1599"/>
                    </a:lnTo>
                    <a:lnTo>
                      <a:pt x="284" y="1622"/>
                    </a:lnTo>
                    <a:lnTo>
                      <a:pt x="0" y="982"/>
                    </a:lnTo>
                    <a:lnTo>
                      <a:pt x="203" y="0"/>
                    </a:lnTo>
                    <a:lnTo>
                      <a:pt x="221" y="17"/>
                    </a:lnTo>
                    <a:lnTo>
                      <a:pt x="23" y="98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49"/>
              <p:cNvSpPr/>
              <p:nvPr/>
            </p:nvSpPr>
            <p:spPr>
              <a:xfrm>
                <a:off x="687240" y="4514760"/>
                <a:ext cx="955800" cy="1971000"/>
              </a:xfrm>
              <a:custGeom>
                <a:avLst/>
                <a:gdLst>
                  <a:gd name="textAreaLeft" fmla="*/ 0 w 955800"/>
                  <a:gd name="textAreaRight" fmla="*/ 956160 w 955800"/>
                  <a:gd name="textAreaTop" fmla="*/ 0 h 1971000"/>
                  <a:gd name="textAreaBottom" fmla="*/ 1971360 h 1971000"/>
                </a:gdLst>
                <a:ahLst/>
                <a:rect l="textAreaLeft" t="textAreaTop" r="textAreaRight" b="textAreaBottom"/>
                <a:pathLst>
                  <a:path w="570" h="1861">
                    <a:moveTo>
                      <a:pt x="31" y="137"/>
                    </a:moveTo>
                    <a:lnTo>
                      <a:pt x="10" y="111"/>
                    </a:lnTo>
                    <a:lnTo>
                      <a:pt x="0" y="87"/>
                    </a:lnTo>
                    <a:lnTo>
                      <a:pt x="0" y="59"/>
                    </a:lnTo>
                    <a:lnTo>
                      <a:pt x="11" y="38"/>
                    </a:lnTo>
                    <a:lnTo>
                      <a:pt x="42" y="19"/>
                    </a:lnTo>
                    <a:lnTo>
                      <a:pt x="69" y="0"/>
                    </a:lnTo>
                    <a:lnTo>
                      <a:pt x="76" y="6"/>
                    </a:lnTo>
                    <a:lnTo>
                      <a:pt x="69" y="24"/>
                    </a:lnTo>
                    <a:lnTo>
                      <a:pt x="53" y="44"/>
                    </a:lnTo>
                    <a:lnTo>
                      <a:pt x="38" y="69"/>
                    </a:lnTo>
                    <a:lnTo>
                      <a:pt x="42" y="88"/>
                    </a:lnTo>
                    <a:lnTo>
                      <a:pt x="50" y="108"/>
                    </a:lnTo>
                    <a:lnTo>
                      <a:pt x="79" y="130"/>
                    </a:lnTo>
                    <a:lnTo>
                      <a:pt x="126" y="164"/>
                    </a:lnTo>
                    <a:lnTo>
                      <a:pt x="179" y="200"/>
                    </a:lnTo>
                    <a:lnTo>
                      <a:pt x="226" y="238"/>
                    </a:lnTo>
                    <a:lnTo>
                      <a:pt x="270" y="281"/>
                    </a:lnTo>
                    <a:lnTo>
                      <a:pt x="314" y="349"/>
                    </a:lnTo>
                    <a:lnTo>
                      <a:pt x="360" y="428"/>
                    </a:lnTo>
                    <a:lnTo>
                      <a:pt x="399" y="494"/>
                    </a:lnTo>
                    <a:lnTo>
                      <a:pt x="437" y="564"/>
                    </a:lnTo>
                    <a:lnTo>
                      <a:pt x="466" y="627"/>
                    </a:lnTo>
                    <a:lnTo>
                      <a:pt x="499" y="708"/>
                    </a:lnTo>
                    <a:lnTo>
                      <a:pt x="532" y="801"/>
                    </a:lnTo>
                    <a:lnTo>
                      <a:pt x="563" y="898"/>
                    </a:lnTo>
                    <a:lnTo>
                      <a:pt x="570" y="952"/>
                    </a:lnTo>
                    <a:lnTo>
                      <a:pt x="568" y="1014"/>
                    </a:lnTo>
                    <a:lnTo>
                      <a:pt x="553" y="1088"/>
                    </a:lnTo>
                    <a:lnTo>
                      <a:pt x="514" y="1174"/>
                    </a:lnTo>
                    <a:lnTo>
                      <a:pt x="471" y="1280"/>
                    </a:lnTo>
                    <a:lnTo>
                      <a:pt x="422" y="1373"/>
                    </a:lnTo>
                    <a:lnTo>
                      <a:pt x="374" y="1464"/>
                    </a:lnTo>
                    <a:lnTo>
                      <a:pt x="321" y="1541"/>
                    </a:lnTo>
                    <a:lnTo>
                      <a:pt x="264" y="1608"/>
                    </a:lnTo>
                    <a:lnTo>
                      <a:pt x="202" y="1676"/>
                    </a:lnTo>
                    <a:lnTo>
                      <a:pt x="152" y="1731"/>
                    </a:lnTo>
                    <a:lnTo>
                      <a:pt x="122" y="1773"/>
                    </a:lnTo>
                    <a:lnTo>
                      <a:pt x="115" y="1794"/>
                    </a:lnTo>
                    <a:lnTo>
                      <a:pt x="114" y="1802"/>
                    </a:lnTo>
                    <a:lnTo>
                      <a:pt x="117" y="1816"/>
                    </a:lnTo>
                    <a:lnTo>
                      <a:pt x="130" y="1830"/>
                    </a:lnTo>
                    <a:lnTo>
                      <a:pt x="148" y="1836"/>
                    </a:lnTo>
                    <a:lnTo>
                      <a:pt x="152" y="1855"/>
                    </a:lnTo>
                    <a:lnTo>
                      <a:pt x="132" y="1861"/>
                    </a:lnTo>
                    <a:lnTo>
                      <a:pt x="111" y="1857"/>
                    </a:lnTo>
                    <a:lnTo>
                      <a:pt x="92" y="1833"/>
                    </a:lnTo>
                    <a:lnTo>
                      <a:pt x="91" y="1807"/>
                    </a:lnTo>
                    <a:lnTo>
                      <a:pt x="92" y="1769"/>
                    </a:lnTo>
                    <a:lnTo>
                      <a:pt x="108" y="1731"/>
                    </a:lnTo>
                    <a:lnTo>
                      <a:pt x="142" y="1686"/>
                    </a:lnTo>
                    <a:lnTo>
                      <a:pt x="206" y="1620"/>
                    </a:lnTo>
                    <a:lnTo>
                      <a:pt x="261" y="1557"/>
                    </a:lnTo>
                    <a:lnTo>
                      <a:pt x="302" y="1498"/>
                    </a:lnTo>
                    <a:lnTo>
                      <a:pt x="357" y="1406"/>
                    </a:lnTo>
                    <a:lnTo>
                      <a:pt x="401" y="1313"/>
                    </a:lnTo>
                    <a:lnTo>
                      <a:pt x="426" y="1241"/>
                    </a:lnTo>
                    <a:lnTo>
                      <a:pt x="464" y="1139"/>
                    </a:lnTo>
                    <a:lnTo>
                      <a:pt x="482" y="1077"/>
                    </a:lnTo>
                    <a:lnTo>
                      <a:pt x="498" y="1022"/>
                    </a:lnTo>
                    <a:lnTo>
                      <a:pt x="503" y="961"/>
                    </a:lnTo>
                    <a:lnTo>
                      <a:pt x="503" y="903"/>
                    </a:lnTo>
                    <a:lnTo>
                      <a:pt x="487" y="835"/>
                    </a:lnTo>
                    <a:lnTo>
                      <a:pt x="464" y="767"/>
                    </a:lnTo>
                    <a:lnTo>
                      <a:pt x="440" y="690"/>
                    </a:lnTo>
                    <a:lnTo>
                      <a:pt x="402" y="607"/>
                    </a:lnTo>
                    <a:lnTo>
                      <a:pt x="357" y="505"/>
                    </a:lnTo>
                    <a:lnTo>
                      <a:pt x="307" y="412"/>
                    </a:lnTo>
                    <a:lnTo>
                      <a:pt x="246" y="310"/>
                    </a:lnTo>
                    <a:lnTo>
                      <a:pt x="182" y="247"/>
                    </a:lnTo>
                    <a:lnTo>
                      <a:pt x="121" y="200"/>
                    </a:lnTo>
                    <a:lnTo>
                      <a:pt x="64" y="166"/>
                    </a:lnTo>
                    <a:lnTo>
                      <a:pt x="31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50"/>
              <p:cNvGrpSpPr/>
              <p:nvPr/>
            </p:nvGrpSpPr>
            <p:grpSpPr>
              <a:xfrm>
                <a:off x="259920" y="5541840"/>
                <a:ext cx="1611000" cy="128880"/>
                <a:chOff x="259920" y="5541840"/>
                <a:chExt cx="1611000" cy="128880"/>
              </a:xfrm>
            </p:grpSpPr>
            <p:sp>
              <p:nvSpPr>
                <p:cNvPr id="139" name="Freeform 51"/>
                <p:cNvSpPr/>
                <p:nvPr/>
              </p:nvSpPr>
              <p:spPr>
                <a:xfrm>
                  <a:off x="259920" y="5541840"/>
                  <a:ext cx="1611000" cy="12888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961" h="122">
                      <a:moveTo>
                        <a:pt x="143" y="48"/>
                      </a:moveTo>
                      <a:lnTo>
                        <a:pt x="115" y="20"/>
                      </a:lnTo>
                      <a:lnTo>
                        <a:pt x="0" y="20"/>
                      </a:lnTo>
                      <a:lnTo>
                        <a:pt x="31" y="72"/>
                      </a:lnTo>
                      <a:lnTo>
                        <a:pt x="0" y="115"/>
                      </a:lnTo>
                      <a:lnTo>
                        <a:pt x="126" y="110"/>
                      </a:lnTo>
                      <a:lnTo>
                        <a:pt x="146" y="72"/>
                      </a:lnTo>
                      <a:lnTo>
                        <a:pt x="856" y="72"/>
                      </a:lnTo>
                      <a:lnTo>
                        <a:pt x="841" y="122"/>
                      </a:lnTo>
                      <a:lnTo>
                        <a:pt x="869" y="98"/>
                      </a:lnTo>
                      <a:lnTo>
                        <a:pt x="907" y="81"/>
                      </a:lnTo>
                      <a:lnTo>
                        <a:pt x="961" y="67"/>
                      </a:lnTo>
                      <a:lnTo>
                        <a:pt x="960" y="54"/>
                      </a:lnTo>
                      <a:lnTo>
                        <a:pt x="940" y="48"/>
                      </a:lnTo>
                      <a:lnTo>
                        <a:pt x="879" y="25"/>
                      </a:lnTo>
                      <a:lnTo>
                        <a:pt x="837" y="0"/>
                      </a:lnTo>
                      <a:lnTo>
                        <a:pt x="837" y="5"/>
                      </a:lnTo>
                      <a:lnTo>
                        <a:pt x="856" y="47"/>
                      </a:lnTo>
                      <a:lnTo>
                        <a:pt x="143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2"/>
                <p:cNvSpPr/>
                <p:nvPr/>
              </p:nvSpPr>
              <p:spPr>
                <a:xfrm>
                  <a:off x="299880" y="5573160"/>
                  <a:ext cx="179280" cy="73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7" h="69">
                      <a:moveTo>
                        <a:pt x="107" y="25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88" y="31"/>
                      </a:lnTo>
                      <a:lnTo>
                        <a:pt x="23" y="41"/>
                      </a:lnTo>
                      <a:lnTo>
                        <a:pt x="3" y="69"/>
                      </a:lnTo>
                      <a:lnTo>
                        <a:pt x="94" y="69"/>
                      </a:lnTo>
                      <a:lnTo>
                        <a:pt x="107" y="25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Freeform 53"/>
              <p:cNvSpPr/>
              <p:nvPr/>
            </p:nvSpPr>
            <p:spPr>
              <a:xfrm>
                <a:off x="357120" y="5595120"/>
                <a:ext cx="153720" cy="1490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2" h="141">
                    <a:moveTo>
                      <a:pt x="35" y="10"/>
                    </a:move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1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6"/>
                    </a:lnTo>
                    <a:lnTo>
                      <a:pt x="89" y="14"/>
                    </a:lnTo>
                    <a:lnTo>
                      <a:pt x="89" y="21"/>
                    </a:lnTo>
                    <a:lnTo>
                      <a:pt x="81" y="25"/>
                    </a:lnTo>
                    <a:lnTo>
                      <a:pt x="73" y="30"/>
                    </a:lnTo>
                    <a:lnTo>
                      <a:pt x="68" y="30"/>
                    </a:lnTo>
                    <a:lnTo>
                      <a:pt x="62" y="28"/>
                    </a:lnTo>
                    <a:lnTo>
                      <a:pt x="57" y="25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6" y="35"/>
                    </a:lnTo>
                    <a:lnTo>
                      <a:pt x="53" y="38"/>
                    </a:lnTo>
                    <a:lnTo>
                      <a:pt x="58" y="40"/>
                    </a:lnTo>
                    <a:lnTo>
                      <a:pt x="64" y="40"/>
                    </a:lnTo>
                    <a:lnTo>
                      <a:pt x="69" y="43"/>
                    </a:lnTo>
                    <a:lnTo>
                      <a:pt x="75" y="44"/>
                    </a:lnTo>
                    <a:lnTo>
                      <a:pt x="81" y="49"/>
                    </a:lnTo>
                    <a:lnTo>
                      <a:pt x="85" y="57"/>
                    </a:lnTo>
                    <a:lnTo>
                      <a:pt x="89" y="64"/>
                    </a:lnTo>
                    <a:lnTo>
                      <a:pt x="92" y="72"/>
                    </a:lnTo>
                    <a:lnTo>
                      <a:pt x="92" y="78"/>
                    </a:lnTo>
                    <a:lnTo>
                      <a:pt x="88" y="83"/>
                    </a:lnTo>
                    <a:lnTo>
                      <a:pt x="81" y="87"/>
                    </a:lnTo>
                    <a:lnTo>
                      <a:pt x="75" y="89"/>
                    </a:lnTo>
                    <a:lnTo>
                      <a:pt x="69" y="87"/>
                    </a:lnTo>
                    <a:lnTo>
                      <a:pt x="64" y="87"/>
                    </a:lnTo>
                    <a:lnTo>
                      <a:pt x="58" y="87"/>
                    </a:lnTo>
                    <a:lnTo>
                      <a:pt x="53" y="82"/>
                    </a:lnTo>
                    <a:lnTo>
                      <a:pt x="46" y="82"/>
                    </a:lnTo>
                    <a:lnTo>
                      <a:pt x="41" y="77"/>
                    </a:lnTo>
                    <a:lnTo>
                      <a:pt x="35" y="74"/>
                    </a:lnTo>
                    <a:lnTo>
                      <a:pt x="39" y="82"/>
                    </a:lnTo>
                    <a:lnTo>
                      <a:pt x="45" y="82"/>
                    </a:lnTo>
                    <a:lnTo>
                      <a:pt x="50" y="83"/>
                    </a:lnTo>
                    <a:lnTo>
                      <a:pt x="57" y="87"/>
                    </a:lnTo>
                    <a:lnTo>
                      <a:pt x="62" y="89"/>
                    </a:lnTo>
                    <a:lnTo>
                      <a:pt x="68" y="94"/>
                    </a:lnTo>
                    <a:lnTo>
                      <a:pt x="73" y="98"/>
                    </a:lnTo>
                    <a:lnTo>
                      <a:pt x="80" y="103"/>
                    </a:lnTo>
                    <a:lnTo>
                      <a:pt x="81" y="111"/>
                    </a:lnTo>
                    <a:lnTo>
                      <a:pt x="81" y="118"/>
                    </a:lnTo>
                    <a:lnTo>
                      <a:pt x="80" y="125"/>
                    </a:lnTo>
                    <a:lnTo>
                      <a:pt x="75" y="132"/>
                    </a:lnTo>
                    <a:lnTo>
                      <a:pt x="69" y="136"/>
                    </a:lnTo>
                    <a:lnTo>
                      <a:pt x="64" y="141"/>
                    </a:lnTo>
                    <a:lnTo>
                      <a:pt x="58" y="141"/>
                    </a:lnTo>
                    <a:lnTo>
                      <a:pt x="48" y="141"/>
                    </a:lnTo>
                    <a:lnTo>
                      <a:pt x="42" y="137"/>
                    </a:lnTo>
                    <a:lnTo>
                      <a:pt x="35" y="136"/>
                    </a:lnTo>
                    <a:lnTo>
                      <a:pt x="31" y="128"/>
                    </a:lnTo>
                    <a:lnTo>
                      <a:pt x="26" y="121"/>
                    </a:lnTo>
                    <a:lnTo>
                      <a:pt x="23" y="114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8" y="94"/>
                    </a:lnTo>
                    <a:lnTo>
                      <a:pt x="4" y="87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4"/>
              <p:cNvSpPr/>
              <p:nvPr/>
            </p:nvSpPr>
            <p:spPr>
              <a:xfrm>
                <a:off x="1548000" y="5578920"/>
                <a:ext cx="102240" cy="1418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61" h="134">
                    <a:moveTo>
                      <a:pt x="57" y="0"/>
                    </a:moveTo>
                    <a:lnTo>
                      <a:pt x="61" y="9"/>
                    </a:lnTo>
                    <a:lnTo>
                      <a:pt x="58" y="16"/>
                    </a:lnTo>
                    <a:lnTo>
                      <a:pt x="54" y="25"/>
                    </a:lnTo>
                    <a:lnTo>
                      <a:pt x="51" y="32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35" y="41"/>
                    </a:lnTo>
                    <a:lnTo>
                      <a:pt x="28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8" y="45"/>
                    </a:lnTo>
                    <a:lnTo>
                      <a:pt x="1" y="51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3" y="74"/>
                    </a:lnTo>
                    <a:lnTo>
                      <a:pt x="8" y="75"/>
                    </a:lnTo>
                    <a:lnTo>
                      <a:pt x="15" y="79"/>
                    </a:lnTo>
                    <a:lnTo>
                      <a:pt x="20" y="80"/>
                    </a:lnTo>
                    <a:lnTo>
                      <a:pt x="13" y="85"/>
                    </a:lnTo>
                    <a:lnTo>
                      <a:pt x="8" y="93"/>
                    </a:lnTo>
                    <a:lnTo>
                      <a:pt x="3" y="100"/>
                    </a:lnTo>
                    <a:lnTo>
                      <a:pt x="1" y="108"/>
                    </a:lnTo>
                    <a:lnTo>
                      <a:pt x="0" y="114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8" y="134"/>
                    </a:lnTo>
                    <a:lnTo>
                      <a:pt x="15" y="133"/>
                    </a:lnTo>
                    <a:lnTo>
                      <a:pt x="20" y="127"/>
                    </a:lnTo>
                    <a:lnTo>
                      <a:pt x="26" y="122"/>
                    </a:lnTo>
                    <a:lnTo>
                      <a:pt x="31" y="114"/>
                    </a:lnTo>
                    <a:lnTo>
                      <a:pt x="35" y="108"/>
                    </a:lnTo>
                    <a:lnTo>
                      <a:pt x="40" y="100"/>
                    </a:lnTo>
                    <a:lnTo>
                      <a:pt x="43" y="93"/>
                    </a:lnTo>
                    <a:lnTo>
                      <a:pt x="47" y="85"/>
                    </a:lnTo>
                    <a:lnTo>
                      <a:pt x="51" y="79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57" y="55"/>
                    </a:lnTo>
                    <a:lnTo>
                      <a:pt x="58" y="46"/>
                    </a:lnTo>
                    <a:lnTo>
                      <a:pt x="57" y="36"/>
                    </a:lnTo>
                    <a:lnTo>
                      <a:pt x="54" y="2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ولاً : مفهوم التربية الإسلا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3640" y="1557000"/>
            <a:ext cx="8569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</a:t>
            </a:r>
            <a:r>
              <a:rPr b="0" lang="ar-SA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لغة :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ل الكلمة من ربٌ يربي , بمعنى أن المربي يتعهد المربى بما يغذية وينميه ويؤدبه 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اصطلاحاً :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هد الفرد ورعايته بالزيادة والتنمية والتقوية , والأخذ به في طريق النضج والكمال الذي يؤهله إلى أداء دوره في الحياة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364680" y="955440"/>
            <a:ext cx="1032120" cy="928440"/>
          </a:xfrm>
          <a:prstGeom prst="rect">
            <a:avLst/>
          </a:prstGeom>
          <a:ln w="0">
            <a:noFill/>
          </a:ln>
        </p:spPr>
      </p:pic>
      <p:pic>
        <p:nvPicPr>
          <p:cNvPr id="146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517400" y="1315800"/>
            <a:ext cx="103176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الإسلامية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ملية مقصودة تستضيئ بنور الشريعة , تهدف إلى تنشئة جوانب الشخصية الإنسانية جميعها لتحقيق العبودية لله سبحان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303"/>
          <p:cNvPicPr/>
          <p:nvPr/>
        </p:nvPicPr>
        <p:blipFill>
          <a:blip r:embed="rId2"/>
          <a:srcRect l="43759" t="3816" r="3130" b="45834"/>
          <a:stretch/>
        </p:blipFill>
        <p:spPr>
          <a:xfrm>
            <a:off x="6227640" y="479736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نشـــــــــــــــــــــــــــاط جماعي     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5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 دقائ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  <a:cs typeface="Times New Roman"/>
              </a:rPr>
              <a:t>يتضمن مفهوم التربية الإسلامية (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) عناصر أساسية , استنتجي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1752120"/>
            <a:ext cx="85075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ملية مقصودة يقوم بها أفراد مؤهلو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تضيئ بنور الشريعة الإسلامي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نمية جميع جوانب الشخصية ( جسميا , عقليا , روحيا , انفعاليا , اجتماعيا 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حقيق العبودية لله سبحانه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050"/>
          <p:cNvSpPr/>
          <p:nvPr/>
        </p:nvSpPr>
        <p:spPr>
          <a:xfrm>
            <a:off x="2779560" y="218592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4f81b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051"/>
          <p:cNvSpPr/>
          <p:nvPr/>
        </p:nvSpPr>
        <p:spPr>
          <a:xfrm>
            <a:off x="2779560" y="361620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3"/>
                </a:lnTo>
                <a:lnTo>
                  <a:pt x="2863" y="682"/>
                </a:lnTo>
                <a:lnTo>
                  <a:pt x="2863" y="590"/>
                </a:lnTo>
                <a:lnTo>
                  <a:pt x="0" y="590"/>
                </a:lnTo>
                <a:lnTo>
                  <a:pt x="0" y="81"/>
                </a:lnTo>
                <a:close/>
              </a:path>
            </a:pathLst>
          </a:custGeom>
          <a:solidFill>
            <a:srgbClr val="80008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052"/>
          <p:cNvSpPr/>
          <p:nvPr/>
        </p:nvSpPr>
        <p:spPr>
          <a:xfrm>
            <a:off x="2779560" y="50576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053"/>
          <p:cNvSpPr/>
          <p:nvPr/>
        </p:nvSpPr>
        <p:spPr>
          <a:xfrm>
            <a:off x="2779560" y="7412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5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c0504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054"/>
          <p:cNvGrpSpPr/>
          <p:nvPr/>
        </p:nvGrpSpPr>
        <p:grpSpPr>
          <a:xfrm>
            <a:off x="0" y="692280"/>
            <a:ext cx="4557600" cy="5467320"/>
            <a:chOff x="0" y="692280"/>
            <a:chExt cx="4557600" cy="5467320"/>
          </a:xfrm>
        </p:grpSpPr>
        <p:sp>
          <p:nvSpPr>
            <p:cNvPr id="160" name="Oval 2055"/>
            <p:cNvSpPr/>
            <p:nvPr/>
          </p:nvSpPr>
          <p:spPr>
            <a:xfrm>
              <a:off x="0" y="692280"/>
              <a:ext cx="4557600" cy="54673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56"/>
            <p:cNvSpPr/>
            <p:nvPr/>
          </p:nvSpPr>
          <p:spPr>
            <a:xfrm>
              <a:off x="78840" y="806400"/>
              <a:ext cx="4397040" cy="52405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057"/>
          <p:cNvSpPr/>
          <p:nvPr/>
        </p:nvSpPr>
        <p:spPr>
          <a:xfrm>
            <a:off x="5724360" y="990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58"/>
          <p:cNvSpPr/>
          <p:nvPr/>
        </p:nvSpPr>
        <p:spPr>
          <a:xfrm>
            <a:off x="5435640" y="251784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مجتم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59"/>
          <p:cNvSpPr/>
          <p:nvPr/>
        </p:nvSpPr>
        <p:spPr>
          <a:xfrm>
            <a:off x="5796000" y="38498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شر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60"/>
          <p:cNvSpPr/>
          <p:nvPr/>
        </p:nvSpPr>
        <p:spPr>
          <a:xfrm>
            <a:off x="6247080" y="5297400"/>
            <a:ext cx="13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يئ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61"/>
          <p:cNvSpPr/>
          <p:nvPr/>
        </p:nvSpPr>
        <p:spPr>
          <a:xfrm>
            <a:off x="8350200" y="2890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62"/>
          <p:cNvSpPr/>
          <p:nvPr/>
        </p:nvSpPr>
        <p:spPr>
          <a:xfrm>
            <a:off x="8381880" y="165096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63"/>
          <p:cNvSpPr/>
          <p:nvPr/>
        </p:nvSpPr>
        <p:spPr>
          <a:xfrm>
            <a:off x="8381880" y="304812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64"/>
          <p:cNvSpPr/>
          <p:nvPr/>
        </p:nvSpPr>
        <p:spPr>
          <a:xfrm>
            <a:off x="8426520" y="44956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16"/>
          <p:cNvSpPr/>
          <p:nvPr/>
        </p:nvSpPr>
        <p:spPr>
          <a:xfrm>
            <a:off x="755640" y="1268280"/>
            <a:ext cx="26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rial"/>
              </a:rPr>
              <a:t>أهمية التربية الإسلامية ووظيفته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همية التربية الإسلامية ووظيفت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6282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لاف الله سبحانه للإنسان في الإرض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تضي أن يعلم المستخلف , كيف يؤدي هذه الخلافة ؟ وبماذا ؟, لذلك كان من المهم أن نتعرف على المنهج الرباني لتربية الإنسا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09-26T06:43:28Z</dcterms:modified>
  <cp:revision>37</cp:revision>
  <dc:subject/>
  <dc:title>الانكيت</dc:title>
</cp:coreProperties>
</file>