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0ED6-CBC3-44CE-8BD5-4EE86AC9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E2C3-5FBE-469C-9273-BB2A73D6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11EB-4346-46F8-BFEF-A2247D370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EE54-72BC-4C2C-8938-88F7B507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6708-5A44-4FD1-A8A7-4930211F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B619-CB35-4546-A122-7408E8DB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A42A-BF7E-46E3-A56B-4AD14652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A554-B027-42F9-98A3-A45B3F63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9D89-C925-4A07-ABDC-FA192BB3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DEB8-2D65-44BD-A58D-B654DA1A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FD11-3874-429B-ABE9-58984DBE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1C84-2558-44FD-A61E-3BA9D43E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5D3A-647B-4460-ADC5-9FDD5464A5AC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ACDD-7A09-4D04-A9B5-247222C5795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lorobanews.com/vb/forumdisplay.php?s=9e692d55936a33bfa1aa13fa449eb77a&amp;f=15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مربع نص 1"/>
          <p:cNvSpPr/>
          <p:nvPr/>
        </p:nvSpPr>
        <p:spPr>
          <a:xfrm>
            <a:off x="2857680" y="2071800"/>
            <a:ext cx="40003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محاضرة الأول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عنصر نائب للتذييل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مستطيل 2"/>
          <p:cNvSpPr/>
          <p:nvPr/>
        </p:nvSpPr>
        <p:spPr>
          <a:xfrm>
            <a:off x="2811240" y="3244680"/>
            <a:ext cx="35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مـنـتدى اللغة العربية (نفائس الضاد)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عنصر نائب للتذييل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4"/>
          <p:cNvSpPr/>
          <p:nvPr/>
        </p:nvSpPr>
        <p:spPr>
          <a:xfrm>
            <a:off x="2268360" y="1887480"/>
            <a:ext cx="45720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تواص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وتر 2"/>
          <p:cNvSpPr/>
          <p:nvPr/>
        </p:nvSpPr>
        <p:spPr>
          <a:xfrm rot="6645000">
            <a:off x="3350160" y="464040"/>
            <a:ext cx="2946600" cy="2802240"/>
          </a:xfrm>
          <a:custGeom>
            <a:avLst/>
            <a:gdLst/>
            <a:ahLst/>
            <a:rect l="l" t="t" r="r" b="b"/>
            <a:pathLst>
              <a:path w="2947243" h="2801786">
                <a:moveTo>
                  <a:pt x="2488940" y="2416212"/>
                </a:moveTo>
                <a:cubicBezTo>
                  <a:pt x="2024103" y="2836298"/>
                  <a:pt x="1326833" y="2922331"/>
                  <a:pt x="764590" y="2628971"/>
                </a:cubicBezTo>
                <a:cubicBezTo>
                  <a:pt x="163248" y="2315210"/>
                  <a:pt x="-130831" y="1648498"/>
                  <a:pt x="55263" y="1020846"/>
                </a:cubicBezTo>
                <a:cubicBezTo>
                  <a:pt x="234285" y="417048"/>
                  <a:pt x="813728" y="1"/>
                  <a:pt x="1473621" y="1"/>
                </a:cubicBezTo>
                <a:lnTo>
                  <a:pt x="2488940" y="2416212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ربع نص 3"/>
          <p:cNvSpPr/>
          <p:nvPr/>
        </p:nvSpPr>
        <p:spPr>
          <a:xfrm>
            <a:off x="4376880" y="122724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ظلة التواص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وتر 4"/>
          <p:cNvSpPr/>
          <p:nvPr/>
        </p:nvSpPr>
        <p:spPr>
          <a:xfrm rot="6645000">
            <a:off x="3770640" y="2704320"/>
            <a:ext cx="2104920" cy="1722240"/>
          </a:xfrm>
          <a:custGeom>
            <a:avLst/>
            <a:gdLst/>
            <a:ahLst/>
            <a:rect l="l" t="t" r="r" b="b"/>
            <a:pathLst>
              <a:path w="2104079" h="1722451">
                <a:moveTo>
                  <a:pt x="1718447" y="1527633"/>
                </a:moveTo>
                <a:cubicBezTo>
                  <a:pt x="1404125" y="1738275"/>
                  <a:pt x="969750" y="1781960"/>
                  <a:pt x="602492" y="1639864"/>
                </a:cubicBezTo>
                <a:cubicBezTo>
                  <a:pt x="123105" y="1454385"/>
                  <a:pt x="-112747" y="1005844"/>
                  <a:pt x="52196" y="593318"/>
                </a:cubicBezTo>
                <a:cubicBezTo>
                  <a:pt x="193715" y="239377"/>
                  <a:pt x="597107" y="-1"/>
                  <a:pt x="1052039" y="-1"/>
                </a:cubicBezTo>
                <a:lnTo>
                  <a:pt x="1718447" y="1527633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مربع نص 5"/>
          <p:cNvSpPr/>
          <p:nvPr/>
        </p:nvSpPr>
        <p:spPr>
          <a:xfrm>
            <a:off x="4376880" y="3068640"/>
            <a:ext cx="62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لغ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قوس كبير أيسر 6"/>
          <p:cNvSpPr/>
          <p:nvPr/>
        </p:nvSpPr>
        <p:spPr>
          <a:xfrm rot="5400000">
            <a:off x="4714560" y="4157640"/>
            <a:ext cx="1382760" cy="760320"/>
          </a:xfrm>
          <a:custGeom>
            <a:avLst/>
            <a:gdLst>
              <a:gd name="textAreaLeft" fmla="*/ 883440 w 1382760"/>
              <a:gd name="textAreaRight" fmla="*/ 1383120 w 1382760"/>
              <a:gd name="textAreaTop" fmla="*/ 19800 h 760320"/>
              <a:gd name="textAreaBottom" fmla="*/ 740520 h 76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مربع نص 7"/>
          <p:cNvSpPr/>
          <p:nvPr/>
        </p:nvSpPr>
        <p:spPr>
          <a:xfrm>
            <a:off x="5786280" y="5445000"/>
            <a:ext cx="8701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منطوق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مربع نص 8"/>
          <p:cNvSpPr/>
          <p:nvPr/>
        </p:nvSpPr>
        <p:spPr>
          <a:xfrm>
            <a:off x="4321080" y="5419800"/>
            <a:ext cx="10461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غير منطوق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ستطيل 2"/>
          <p:cNvSpPr/>
          <p:nvPr/>
        </p:nvSpPr>
        <p:spPr>
          <a:xfrm>
            <a:off x="2340000" y="1700280"/>
            <a:ext cx="457200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للغ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عبارة عن نظام من الرموز متفق عليه في ثقافة معينة  ,يتسم يالضبط والتنظيم وفقا لقواعد معين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DELL\Desktop\678.jpg"/>
          <p:cNvPicPr/>
          <p:nvPr/>
        </p:nvPicPr>
        <p:blipFill>
          <a:blip r:embed="rId1"/>
          <a:stretch/>
        </p:blipFill>
        <p:spPr>
          <a:xfrm>
            <a:off x="914400" y="1003320"/>
            <a:ext cx="731520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مستطيل 2"/>
          <p:cNvSpPr/>
          <p:nvPr/>
        </p:nvSpPr>
        <p:spPr>
          <a:xfrm>
            <a:off x="2411280" y="1125360"/>
            <a:ext cx="4572000" cy="241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لكل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pe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سياق من الرموز الصوتية يخضع لنظام معين متفق علي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في ثقافة معين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مراحل عملية الكلام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مستطيل 2"/>
          <p:cNvSpPr/>
          <p:nvPr/>
        </p:nvSpPr>
        <p:spPr>
          <a:xfrm>
            <a:off x="2411280" y="765000"/>
            <a:ext cx="4572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لنط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مستطيل 3"/>
          <p:cNvSpPr/>
          <p:nvPr/>
        </p:nvSpPr>
        <p:spPr>
          <a:xfrm>
            <a:off x="2286000" y="29671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صار "و"سار " فيكون صوت الصاد متمايزا عن صوت السين لأن اختلاف الكلمتين في المعنى يرجع إلى هذا الاختلاف بين صوتي الحرف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مستطيل 4"/>
          <p:cNvSpPr/>
          <p:nvPr/>
        </p:nvSpPr>
        <p:spPr>
          <a:xfrm>
            <a:off x="2195640" y="177336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تسمى العناصر أو الأصوات المشكلة للكلمة فونيمات :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honeme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،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فالراء ، الجيم واللام في كلمـة "رجل " كل منها فونيم أو صوت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مستطيل 2"/>
          <p:cNvSpPr/>
          <p:nvPr/>
        </p:nvSpPr>
        <p:spPr>
          <a:xfrm>
            <a:off x="2340000" y="2124000"/>
            <a:ext cx="45720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مكونات عملية التواص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9016920" y="-588960"/>
            <a:ext cx="1971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9016920" y="-588960"/>
            <a:ext cx="1971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C:\Users\DELL\Desktop\FACEBO~1.JPG"/>
          <p:cNvPicPr/>
          <p:nvPr/>
        </p:nvPicPr>
        <p:blipFill>
          <a:blip r:embed="rId1"/>
          <a:stretch/>
        </p:blipFill>
        <p:spPr>
          <a:xfrm>
            <a:off x="1835280" y="907920"/>
            <a:ext cx="5400720" cy="1297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C:\Users\DELL\Desktop\images.jpg"/>
          <p:cNvPicPr/>
          <p:nvPr/>
        </p:nvPicPr>
        <p:blipFill>
          <a:blip r:embed="rId2"/>
          <a:stretch/>
        </p:blipFill>
        <p:spPr>
          <a:xfrm>
            <a:off x="2627280" y="3081240"/>
            <a:ext cx="453708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10:18:13Z</dcterms:created>
  <dc:creator>COMPULAND</dc:creator>
  <dc:description/>
  <dc:language>en-US</dc:language>
  <cp:lastModifiedBy>Maha Alhajri</cp:lastModifiedBy>
  <dcterms:modified xsi:type="dcterms:W3CDTF">2016-10-05T06:43:35Z</dcterms:modified>
  <cp:revision>37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2C0D32EB4C16B6409DA411DF93638C72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