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523-BF6E-48E7-896C-615699CF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DD5-B3FA-417A-A5C9-51BEDFA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1C5-00E0-4136-AAEB-8F26775B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6F4-57B3-4C4A-901D-86FCAD1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48C-FE79-4B55-9B8B-1FF7E26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9EC-F52A-442D-B30F-DFF89B1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6A2-E834-4DBD-A618-AEC004B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EC3-3324-4AE8-8298-8A56661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766-C674-42F1-8C21-2DF9D79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4AA-6AC6-4BC5-81EE-E823949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57A-C326-419B-82A5-6582D56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E2A-6255-4EF3-8308-0A1E4DB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29B-541B-447C-8F3F-F767457E18B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C3F-E39F-4DED-9412-0C13AD5E3B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lorobanews.com/vb/forumdisplay.php?s=9e692d55936a33bfa1aa13fa449eb77a&amp;f=15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2"/>
          <p:cNvSpPr/>
          <p:nvPr/>
        </p:nvSpPr>
        <p:spPr>
          <a:xfrm>
            <a:off x="2811240" y="3244680"/>
            <a:ext cx="35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مـنـتدى اللغة العربية (نفائس الضاد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4"/>
          <p:cNvSpPr/>
          <p:nvPr/>
        </p:nvSpPr>
        <p:spPr>
          <a:xfrm>
            <a:off x="2268360" y="188748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وا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وتر 2"/>
          <p:cNvSpPr/>
          <p:nvPr/>
        </p:nvSpPr>
        <p:spPr>
          <a:xfrm rot="6645000">
            <a:off x="3350160" y="464040"/>
            <a:ext cx="2946600" cy="2802240"/>
          </a:xfrm>
          <a:custGeom>
            <a:avLst/>
            <a:gdLst/>
            <a:ahLst/>
            <a:rect l="l" t="t" r="r" b="b"/>
            <a:pathLst>
              <a:path w="2947243" h="2801786">
                <a:moveTo>
                  <a:pt x="2488940" y="2416212"/>
                </a:moveTo>
                <a:cubicBezTo>
                  <a:pt x="2024103" y="2836298"/>
                  <a:pt x="1326833" y="2922331"/>
                  <a:pt x="764590" y="2628971"/>
                </a:cubicBezTo>
                <a:cubicBezTo>
                  <a:pt x="163248" y="2315210"/>
                  <a:pt x="-130831" y="1648498"/>
                  <a:pt x="55263" y="1020846"/>
                </a:cubicBezTo>
                <a:cubicBezTo>
                  <a:pt x="234285" y="417048"/>
                  <a:pt x="813728" y="1"/>
                  <a:pt x="1473621" y="1"/>
                </a:cubicBezTo>
                <a:lnTo>
                  <a:pt x="2488940" y="241621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3"/>
          <p:cNvSpPr/>
          <p:nvPr/>
        </p:nvSpPr>
        <p:spPr>
          <a:xfrm>
            <a:off x="4376880" y="12272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لة التواص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وتر 4"/>
          <p:cNvSpPr/>
          <p:nvPr/>
        </p:nvSpPr>
        <p:spPr>
          <a:xfrm rot="6645000">
            <a:off x="3770640" y="2704320"/>
            <a:ext cx="2104920" cy="1722240"/>
          </a:xfrm>
          <a:custGeom>
            <a:avLst/>
            <a:gdLst/>
            <a:ahLst/>
            <a:rect l="l" t="t" r="r" b="b"/>
            <a:pathLst>
              <a:path w="2104079" h="1722451">
                <a:moveTo>
                  <a:pt x="1718447" y="1527633"/>
                </a:moveTo>
                <a:cubicBezTo>
                  <a:pt x="1404125" y="1738275"/>
                  <a:pt x="969750" y="1781960"/>
                  <a:pt x="602492" y="1639864"/>
                </a:cubicBezTo>
                <a:cubicBezTo>
                  <a:pt x="123105" y="1454385"/>
                  <a:pt x="-112747" y="1005844"/>
                  <a:pt x="52196" y="593318"/>
                </a:cubicBezTo>
                <a:cubicBezTo>
                  <a:pt x="193715" y="239377"/>
                  <a:pt x="597107" y="-1"/>
                  <a:pt x="1052039" y="-1"/>
                </a:cubicBezTo>
                <a:lnTo>
                  <a:pt x="1718447" y="152763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5"/>
          <p:cNvSpPr/>
          <p:nvPr/>
        </p:nvSpPr>
        <p:spPr>
          <a:xfrm>
            <a:off x="4376880" y="3068640"/>
            <a:ext cx="6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لغ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قوس كبير أيسر 6"/>
          <p:cNvSpPr/>
          <p:nvPr/>
        </p:nvSpPr>
        <p:spPr>
          <a:xfrm rot="5400000">
            <a:off x="4714560" y="4157640"/>
            <a:ext cx="1382760" cy="760320"/>
          </a:xfrm>
          <a:custGeom>
            <a:avLst/>
            <a:gdLst>
              <a:gd name="textAreaLeft" fmla="*/ 883440 w 1382760"/>
              <a:gd name="textAreaRight" fmla="*/ 1383120 w 138276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7"/>
          <p:cNvSpPr/>
          <p:nvPr/>
        </p:nvSpPr>
        <p:spPr>
          <a:xfrm>
            <a:off x="5786280" y="5445000"/>
            <a:ext cx="870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نطوق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8"/>
          <p:cNvSpPr/>
          <p:nvPr/>
        </p:nvSpPr>
        <p:spPr>
          <a:xfrm>
            <a:off x="4321080" y="5419800"/>
            <a:ext cx="1046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 منطو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2"/>
          <p:cNvSpPr/>
          <p:nvPr/>
        </p:nvSpPr>
        <p:spPr>
          <a:xfrm>
            <a:off x="2340000" y="1700280"/>
            <a:ext cx="457200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عبارة عن نظام من الرموز متفق عليه في ثقافة معينة  ,يتسم يالضبط والتنظيم وفقا لقواعد معي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DELL\Desktop\678.jpg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"/>
          <p:cNvSpPr/>
          <p:nvPr/>
        </p:nvSpPr>
        <p:spPr>
          <a:xfrm>
            <a:off x="2411280" y="1125360"/>
            <a:ext cx="4572000" cy="241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سياق من الرموز الصوتية يخضع لنظام معين متفق عل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في ثقافة معي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راحل عملية الكلا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2"/>
          <p:cNvSpPr/>
          <p:nvPr/>
        </p:nvSpPr>
        <p:spPr>
          <a:xfrm>
            <a:off x="2411280" y="765000"/>
            <a:ext cx="4572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3"/>
          <p:cNvSpPr/>
          <p:nvPr/>
        </p:nvSpPr>
        <p:spPr>
          <a:xfrm>
            <a:off x="2286000" y="29671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ار "و"سار " فيكون صوت الصاد متمايزا عن صوت السين لأن اختلاف الكلمتين في المعنى يرجع إلى هذا الاختلاف بين صوتي الحرف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"/>
          <p:cNvSpPr/>
          <p:nvPr/>
        </p:nvSpPr>
        <p:spPr>
          <a:xfrm>
            <a:off x="2195640" y="177336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تسمى العناصر أو الأصوات المشكلة للكلمة فونيمات 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فالراء ، الجيم واللام في كلمـة "رجل " كل منها فونيم أو صوت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2"/>
          <p:cNvSpPr/>
          <p:nvPr/>
        </p:nvSpPr>
        <p:spPr>
          <a:xfrm>
            <a:off x="2340000" y="2124000"/>
            <a:ext cx="4572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كونات عملية التواص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016920" y="-588960"/>
            <a:ext cx="1971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016920" y="-588960"/>
            <a:ext cx="1971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:\Users\DELL\Desktop\FACEBO~1.JPG"/>
          <p:cNvPicPr/>
          <p:nvPr/>
        </p:nvPicPr>
        <p:blipFill>
          <a:blip r:embed="rId1"/>
          <a:stretch/>
        </p:blipFill>
        <p:spPr>
          <a:xfrm>
            <a:off x="1835280" y="907920"/>
            <a:ext cx="540072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DELL\Desktop\images.jpg"/>
          <p:cNvPicPr/>
          <p:nvPr/>
        </p:nvPicPr>
        <p:blipFill>
          <a:blip r:embed="rId2"/>
          <a:stretch/>
        </p:blipFill>
        <p:spPr>
          <a:xfrm>
            <a:off x="2627280" y="3081240"/>
            <a:ext cx="45370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COMPULAND</dc:creator>
  <dc:description/>
  <dc:language>en-US</dc:language>
  <cp:lastModifiedBy>Maha Alhajri</cp:lastModifiedBy>
  <dcterms:modified xsi:type="dcterms:W3CDTF">2016-10-05T06:43:35Z</dcterms:modified>
  <cp:revision>3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