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jpeg" ContentType="image/jpeg"/>
  <Override PartName="/ppt/media/image3.png" ContentType="image/png"/>
  <Override PartName="/ppt/media/image2.png" ContentType="image/png"/>
  <Override PartName="/ppt/media/image4.jpeg" ContentType="image/jpeg"/>
  <Override PartName="/ppt/media/image13.gif" ContentType="image/gif"/>
  <Override PartName="/ppt/media/image6.png" ContentType="image/png"/>
  <Override PartName="/ppt/media/image7.jpeg" ContentType="image/jpeg"/>
  <Override PartName="/ppt/media/image12.jpeg" ContentType="image/jpeg"/>
  <Override PartName="/ppt/media/image14.jpeg" ContentType="image/jpeg"/>
  <Override PartName="/ppt/media/image8.png" ContentType="image/png"/>
  <Override PartName="/ppt/media/image9.jpeg" ContentType="image/jpeg"/>
  <Override PartName="/ppt/media/image1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0B6D5-E6F8-4C1B-96C2-FE5CEB71C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C33EF-4DFA-4E22-AD16-30D41C1E1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F84E3-32BA-454A-99C3-0B71CAA36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2D613-555B-4D7F-8A31-1A06045A2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C230C9-72B6-45E0-A044-C430CCC7C4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A1F0D-46B4-4DC7-B8B9-8189AA736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9F814-D585-409C-B294-260251CE4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2469F-9DF5-4BD5-A745-9062C27EB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42E58-F3CB-4EB0-A6EA-B40BB5D34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5C054-334F-4B49-98F4-7A6D8D5E4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60FC6-2B2F-428F-9D4F-1DCDA27CE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E4D8C-4EFD-4B49-B040-FCB5C54AA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D4262-7F90-4508-8AED-D49E9C6C0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BC953-9395-4F28-B325-BB09E79E6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C8704-27B0-4850-961D-DBD4A7F76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8F1F0A-5180-4561-A644-9B7B898724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F77ED9-D3B9-4867-94E6-BC311A6B37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930664-F7E6-4E36-AF0E-137EC75C9D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ABAA06-E699-4BF0-AAED-F6BFAA82E8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FF77DA-3A1D-4A28-A405-E8A9FED5FA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12CC79-0435-4CA9-9D05-EBCBB79C1B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64C5E6-B169-4510-AA8D-D0E785033D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45AD6-2F75-4314-85B2-472404399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C2C818-9B89-4339-9C9E-B8A36602D9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1488DB-C0C9-4495-882A-9E6AC99EF5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2D1480-6636-4E62-9F53-19C00B39E1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F117C1-182D-45A5-97D9-9E72CAA42D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51F156-48D1-4B31-9196-0E773615B7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BEB070-422D-42E4-97D1-BA77F32C73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9FC11B-DB2A-4509-8EF3-F6851A8A4F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C0945A-77A1-40E3-BF0B-99C438AB10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36CC4D-E91B-41AE-A4EC-D401D53D12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6BADDC-00A1-40D9-9DB3-587A083539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F22B2-61B3-4027-9CF9-8A68725BE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028D39-A3CB-43D8-AE60-29229E8F96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C289F0-876B-4E4D-9BFB-F3846CA21D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F8C65B-2988-44B2-9688-7954E5F6EC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2E5A85-C92F-4DF2-A6BE-7AF3EBDC2B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A35664-FE9D-4C8C-B051-D5E8AE4C21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EE023B-240F-4F94-9EB8-2F102AF00B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7DEB46-9B09-4B03-9CF9-2EB8946BFC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AD0FEB-0D72-4B5B-8B1D-2A2C56ABC7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7E6B38A-8ECD-49FA-8564-3C63983136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6AEE5-002E-40D3-9C7D-C49B00054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05AEB-E74A-4111-97E0-3A9AA05DA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78086-567A-4384-89EA-6D7C1F4BD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28045-1A41-4DD8-AF9A-FE4AAC559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50AE1-EFDF-49FD-8FFC-8E264EA96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C0A07-8553-42DC-8DEF-05FD0F3BCBD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مجموعة 1"/>
          <p:cNvGrpSpPr/>
          <p:nvPr/>
        </p:nvGrpSpPr>
        <p:grpSpPr>
          <a:xfrm>
            <a:off x="-19080" y="203040"/>
            <a:ext cx="9181080" cy="648000"/>
            <a:chOff x="-19080" y="203040"/>
            <a:chExt cx="9181080" cy="648000"/>
          </a:xfrm>
        </p:grpSpPr>
        <p:grpSp>
          <p:nvGrpSpPr>
            <p:cNvPr id="8" name="شكل حر 11"/>
            <p:cNvGrpSpPr/>
            <p:nvPr/>
          </p:nvGrpSpPr>
          <p:grpSpPr>
            <a:xfrm>
              <a:off x="-19080" y="203040"/>
              <a:ext cx="9156600" cy="648000"/>
              <a:chOff x="-19080" y="203040"/>
              <a:chExt cx="9156600" cy="648000"/>
            </a:xfrm>
          </p:grpSpPr>
          <p:pic>
            <p:nvPicPr>
              <p:cNvPr id="9" name="شكل حر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1" name="شكل حر 12"/>
            <p:cNvGrpSpPr/>
            <p:nvPr/>
          </p:nvGrpSpPr>
          <p:grpSpPr>
            <a:xfrm>
              <a:off x="-19080" y="248040"/>
              <a:ext cx="9181080" cy="561600"/>
              <a:chOff x="-19080" y="248040"/>
              <a:chExt cx="9181080" cy="561600"/>
            </a:xfrm>
          </p:grpSpPr>
          <p:pic>
            <p:nvPicPr>
              <p:cNvPr id="12" name="شكل حر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52" name="مجموعة 1"/>
          <p:cNvGrpSpPr/>
          <p:nvPr/>
        </p:nvGrpSpPr>
        <p:grpSpPr>
          <a:xfrm>
            <a:off x="-19080" y="203040"/>
            <a:ext cx="9181080" cy="648000"/>
            <a:chOff x="-19080" y="203040"/>
            <a:chExt cx="9181080" cy="648000"/>
          </a:xfrm>
        </p:grpSpPr>
        <p:grpSp>
          <p:nvGrpSpPr>
            <p:cNvPr id="53" name="شكل حر 11"/>
            <p:cNvGrpSpPr/>
            <p:nvPr/>
          </p:nvGrpSpPr>
          <p:grpSpPr>
            <a:xfrm>
              <a:off x="-19080" y="203040"/>
              <a:ext cx="9156600" cy="648000"/>
              <a:chOff x="-19080" y="203040"/>
              <a:chExt cx="9156600" cy="648000"/>
            </a:xfrm>
          </p:grpSpPr>
          <p:pic>
            <p:nvPicPr>
              <p:cNvPr id="54" name="شكل حر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56" name="شكل حر 12"/>
            <p:cNvGrpSpPr/>
            <p:nvPr/>
          </p:nvGrpSpPr>
          <p:grpSpPr>
            <a:xfrm>
              <a:off x="-19080" y="248040"/>
              <a:ext cx="9181080" cy="561600"/>
              <a:chOff x="-19080" y="248040"/>
              <a:chExt cx="9181080" cy="561600"/>
            </a:xfrm>
          </p:grpSpPr>
          <p:pic>
            <p:nvPicPr>
              <p:cNvPr id="57" name="شكل حر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FD854-014D-421E-962D-84926578D9D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شكل حر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1" name="شكل حر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102" name="مجموعة 1"/>
          <p:cNvGrpSpPr/>
          <p:nvPr/>
        </p:nvGrpSpPr>
        <p:grpSpPr>
          <a:xfrm>
            <a:off x="-19080" y="203040"/>
            <a:ext cx="9181080" cy="648000"/>
            <a:chOff x="-19080" y="203040"/>
            <a:chExt cx="9181080" cy="648000"/>
          </a:xfrm>
        </p:grpSpPr>
        <p:grpSp>
          <p:nvGrpSpPr>
            <p:cNvPr id="103" name="شكل حر 11"/>
            <p:cNvGrpSpPr/>
            <p:nvPr/>
          </p:nvGrpSpPr>
          <p:grpSpPr>
            <a:xfrm>
              <a:off x="-19080" y="203040"/>
              <a:ext cx="9156600" cy="648000"/>
              <a:chOff x="-19080" y="203040"/>
              <a:chExt cx="9156600" cy="648000"/>
            </a:xfrm>
          </p:grpSpPr>
          <p:pic>
            <p:nvPicPr>
              <p:cNvPr id="104" name="شكل حر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06" name="شكل حر 12"/>
            <p:cNvGrpSpPr/>
            <p:nvPr/>
          </p:nvGrpSpPr>
          <p:grpSpPr>
            <a:xfrm>
              <a:off x="-19080" y="248040"/>
              <a:ext cx="9181080" cy="561600"/>
              <a:chOff x="-19080" y="248040"/>
              <a:chExt cx="9181080" cy="561600"/>
            </a:xfrm>
          </p:grpSpPr>
          <p:pic>
            <p:nvPicPr>
              <p:cNvPr id="107" name="شكل حر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2CF47-EDEF-4717-8DA0-192254978C6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مستطيل ذو زاوية واحدة مخدوشة ودائرية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151" name="مثلث قائم الزاوية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شكل حر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3" name="شكل حر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CEBA7-C803-427E-B9BB-D3310FB55562}"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images.google.jo/imgres?imgurl=http://www.al-arabeya.net/images/112(687).jpg&amp;imgrefurl=http://www.tara3a.com/vb/tara3a4573/&amp;usg=__2xK4zWlbAjWTzF1DqDox1qNMuvA=&amp;h=358&amp;w=365&amp;sz=8&amp;hl=ar&amp;start=5&amp;um=1&amp;tbnid=JGar7Fo_VmiC3M:&amp;tbnh=119&amp;tbnw=121&amp;prev=/images%3Fq%3D%25D9%2585%25D8%25AF%25D8%25B1%25D8%25B3%26hl%3Dar%26rlz%3D1R2ADRA_enJO334%26sa%3DG%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images.google.jo/imgres?imgurl=http://www.moheet.com/image/52/225-300/527502.jpg&amp;imgrefurl=http://forum.stop55.com/93580.html&amp;usg=__HSUetTbqZ3ZYTEcAojo5DFf2Gdw=&amp;h=300&amp;w=300&amp;sz=16&amp;hl=ar&amp;start=39&amp;um=1&amp;tbnid=3WL846qrehfwPM:&amp;tbnh=116&amp;tbnw=116&amp;prev=/images%3Fq%3D%25D9%2585%25D8%25AF%25D8%25B1%25D8%25B3%26ndsp%3D20%26hl%3Dar%26rlz%3D1R2ADRA_enJO334%26sa%3DN%26start%3D20%26um%3D1"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عنوان 1" descr=""/>
          <p:cNvPicPr/>
          <p:nvPr/>
        </p:nvPicPr>
        <p:blipFill>
          <a:blip r:embed="rId1"/>
          <a:stretch/>
        </p:blipFill>
        <p:spPr>
          <a:xfrm>
            <a:off x="-195120" y="858960"/>
            <a:ext cx="8418240" cy="3054240"/>
          </a:xfrm>
          <a:prstGeom prst="rect">
            <a:avLst/>
          </a:prstGeom>
          <a:ln w="0">
            <a:noFill/>
          </a:ln>
        </p:spPr>
      </p:pic>
      <p:sp>
        <p:nvSpPr>
          <p:cNvPr id="196" name="PlaceHolder 1"/>
          <p:cNvSpPr>
            <a:spLocks noGrp="1"/>
          </p:cNvSpPr>
          <p:nvPr>
            <p:ph type="subTitle"/>
          </p:nvPr>
        </p:nvSpPr>
        <p:spPr>
          <a:xfrm>
            <a:off x="499680" y="4000320"/>
            <a:ext cx="7854840" cy="1409400"/>
          </a:xfrm>
          <a:prstGeom prst="rect">
            <a:avLst/>
          </a:prstGeom>
          <a:noFill/>
          <a:ln w="0">
            <a:noFill/>
          </a:ln>
        </p:spPr>
        <p:txBody>
          <a:bodyPr lIns="0" rIns="18360" anchor="t">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لمحاضرة الأولى</a:t>
            </a:r>
            <a:endParaRPr b="0" lang="en-US" sz="3600" spc="-1" strike="noStrike">
              <a:solidFill>
                <a:srgbClr val="ffffff"/>
              </a:solidFill>
              <a:latin typeface="Arial"/>
            </a:endParaRPr>
          </a:p>
        </p:txBody>
      </p:sp>
      <p:pic>
        <p:nvPicPr>
          <p:cNvPr id="197" name="Picture 4" descr="مفتاح"/>
          <p:cNvPicPr/>
          <p:nvPr/>
        </p:nvPicPr>
        <p:blipFill>
          <a:blip r:embed="rId2"/>
          <a:stretch/>
        </p:blipFill>
        <p:spPr>
          <a:xfrm>
            <a:off x="6500880" y="2714760"/>
            <a:ext cx="2071800" cy="227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a:t>
            </a:r>
            <a:r>
              <a:rPr b="1" lang="ar-SA" sz="3200" spc="-1" strike="noStrike">
                <a:solidFill>
                  <a:srgbClr val="000000"/>
                </a:solidFill>
                <a:latin typeface="Arial"/>
              </a:rPr>
              <a:t>ما الغرب، إبان العصور الوسطى، فقد اقتصر ما يتعلق بالذكاء على دراسة طبيعة وإدراك العالم، وهنا لا يتجاوز الأمر جهودًا متفرقة من بعض الفلاسفة الذين اهتموا بطبيعة العلاقة بين العقل والدين، وكيفية استخدام العقل في معرفة الله، وهي جهود كانت في مجملها متأثرة بالفكر الأرسطي مثل أفكار توما الأكويني (</a:t>
            </a:r>
            <a:r>
              <a:rPr b="1" lang="ar-SA" sz="3200" spc="-1" strike="noStrike">
                <a:solidFill>
                  <a:srgbClr val="000000"/>
                </a:solidFill>
                <a:latin typeface="Arial"/>
              </a:rPr>
              <a:t>1225</a:t>
            </a:r>
            <a:r>
              <a:rPr b="1" lang="ar-SA" sz="3200" spc="-1" strike="noStrike">
                <a:solidFill>
                  <a:srgbClr val="000000"/>
                </a:solidFill>
                <a:latin typeface="Arial"/>
              </a:rPr>
              <a:t> ـ </a:t>
            </a:r>
            <a:r>
              <a:rPr b="1" lang="ar-SA" sz="3200" spc="-1" strike="noStrike">
                <a:solidFill>
                  <a:srgbClr val="000000"/>
                </a:solidFill>
                <a:latin typeface="Arial"/>
              </a:rPr>
              <a:t>1274</a:t>
            </a:r>
            <a:r>
              <a:rPr b="1" lang="ar-SA" sz="3200" spc="-1" strike="noStrike">
                <a:solidFill>
                  <a:srgbClr val="000000"/>
                </a:solidFill>
                <a:latin typeface="Arial"/>
              </a:rPr>
              <a:t>).</a:t>
            </a:r>
            <a:br>
              <a:rPr sz="3200"/>
            </a:br>
            <a:r>
              <a:rPr b="1" lang="ar-SA" sz="3200" spc="-1" strike="noStrike">
                <a:solidFill>
                  <a:srgbClr val="000000"/>
                </a:solidFill>
                <a:latin typeface="Arial"/>
              </a:rPr>
              <a:t> </a:t>
            </a:r>
            <a:endParaRPr b="0" lang="en-US" sz="3200" spc="-1" strike="noStrike">
              <a:solidFill>
                <a:srgbClr val="000000"/>
              </a:solidFill>
              <a:latin typeface="Arial"/>
            </a:endParaRPr>
          </a:p>
        </p:txBody>
      </p:sp>
      <p:sp>
        <p:nvSpPr>
          <p:cNvPr id="21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5F9B3-E19D-4FF2-A096-861D359AA26A}"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77000"/>
            <a:ext cx="8229600" cy="80892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18" name=""/>
          <p:cNvSpPr txBox="1"/>
          <p:nvPr/>
        </p:nvSpPr>
        <p:spPr>
          <a:xfrm>
            <a:off x="457200" y="1499760"/>
            <a:ext cx="8229600" cy="4824360"/>
          </a:xfrm>
          <a:prstGeom prst="rect">
            <a:avLst/>
          </a:prstGeom>
          <a:noFill/>
          <a:ln w="0">
            <a:noFill/>
          </a:ln>
        </p:spPr>
        <p:txBody>
          <a:bodyPr anchor="t">
            <a:normAutofit fontScale="82000"/>
          </a:bodyPr>
          <a:p>
            <a:pPr marL="223560" indent="-2235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لم تبدأ دراسة طبيعة الذكاء في الغرب إلا على يد اثنين من الأطباء  النفسيين الفرنسيين في أواخر القرن الثامن عشر وأوائل القرن التاسع عشر وهما جان ايتان إسكوريل </a:t>
            </a:r>
            <a:r>
              <a:rPr b="1" lang="ar-SA" sz="3200" spc="-1" strike="noStrike">
                <a:solidFill>
                  <a:srgbClr val="000000"/>
                </a:solidFill>
                <a:latin typeface="Arial"/>
              </a:rPr>
              <a:t>1772</a:t>
            </a:r>
            <a:r>
              <a:rPr b="1" lang="ar-SA" sz="3200" spc="-1" strike="noStrike">
                <a:solidFill>
                  <a:srgbClr val="000000"/>
                </a:solidFill>
                <a:latin typeface="Arial"/>
              </a:rPr>
              <a:t> ـ </a:t>
            </a:r>
            <a:r>
              <a:rPr b="1" lang="ar-SA" sz="3200" spc="-1" strike="noStrike">
                <a:solidFill>
                  <a:srgbClr val="000000"/>
                </a:solidFill>
                <a:latin typeface="Arial"/>
              </a:rPr>
              <a:t>1840</a:t>
            </a:r>
            <a:r>
              <a:rPr b="1" lang="ar-SA" sz="3200" spc="-1" strike="noStrike">
                <a:solidFill>
                  <a:srgbClr val="000000"/>
                </a:solidFill>
                <a:latin typeface="Arial"/>
              </a:rPr>
              <a:t>، وجان مارك إيتارد </a:t>
            </a:r>
            <a:r>
              <a:rPr b="1" lang="ar-SA" sz="3200" spc="-1" strike="noStrike">
                <a:solidFill>
                  <a:srgbClr val="000000"/>
                </a:solidFill>
                <a:latin typeface="Arial"/>
              </a:rPr>
              <a:t>1775</a:t>
            </a:r>
            <a:r>
              <a:rPr b="1" lang="ar-SA" sz="3200" spc="-1" strike="noStrike">
                <a:solidFill>
                  <a:srgbClr val="000000"/>
                </a:solidFill>
                <a:latin typeface="Arial"/>
              </a:rPr>
              <a:t> ـ </a:t>
            </a:r>
            <a:r>
              <a:rPr b="1" lang="ar-SA" sz="3200" spc="-1" strike="noStrike">
                <a:solidFill>
                  <a:srgbClr val="000000"/>
                </a:solidFill>
                <a:latin typeface="Arial"/>
              </a:rPr>
              <a:t>1838</a:t>
            </a:r>
            <a:r>
              <a:rPr b="1" lang="ar-SA" sz="3200" spc="-1" strike="noStrike">
                <a:solidFill>
                  <a:srgbClr val="000000"/>
                </a:solidFill>
                <a:latin typeface="Arial"/>
              </a:rPr>
              <a:t> ، فقد كان إسكوريل أول من ميز بين المرض النفسي والتخلف العقلي، وحاول أن يضع تصنيفًا لفئات التخلف العقلي بدلاً من اعتباره ظاهرة كلية متجانسة ، كما تنبه مبكرًا إلى أهمية الجوانب اللغوية في الذكاء فاعتبر أن القصور اللغوي، وليس المشاكل الحسية أو الجسدية أهم مؤشرات الضعف العقلي.</a:t>
            </a:r>
            <a:endParaRPr b="0" lang="en-US" sz="3200" spc="-1" strike="noStrike">
              <a:solidFill>
                <a:srgbClr val="000000"/>
              </a:solidFill>
              <a:latin typeface="Arial"/>
            </a:endParaRPr>
          </a:p>
          <a:p>
            <a:pPr marL="223560" indent="-22356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F11DD-E95B-46EA-A7B8-415A4657D76C}"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ثم ظهرت بعد ذلك عدة مناحي في دراسة الذكاء مثل المنحى البيولوجي، والعصبي والفسيولوجي وغيرها،  حيث أن المنحى البيولوجي يحاول تحديد علاقة الذكاء بالجوانب البنيوية للمخ مثل حجم المخ وعلاقة الذكاء بالأجزاء التشريحية المختلفة في المخ، ولعل أحد أقدم الاكتشافات في هذا الصدد يدور حول دور الفص الجبهي في الذكاء وهو اكتشاف يرجع كما يقول غراي وتومسون إلى أكثر من </a:t>
            </a:r>
            <a:r>
              <a:rPr b="1" lang="ar-SA" sz="2800" spc="-1" strike="noStrike">
                <a:solidFill>
                  <a:srgbClr val="000000"/>
                </a:solidFill>
                <a:latin typeface="Arial"/>
              </a:rPr>
              <a:t>125</a:t>
            </a:r>
            <a:r>
              <a:rPr b="1" lang="ar-SA" sz="2800" spc="-1" strike="noStrike">
                <a:solidFill>
                  <a:srgbClr val="000000"/>
                </a:solidFill>
                <a:latin typeface="Arial"/>
              </a:rPr>
              <a:t> عامًا مضت ومازالت تدعمه الدراسات الحديثة. ويقدم المرضى الذين يتعرضون لعطب في هذا الجزء المهم من المخ فرصة مهمة لدراسة أثره في الذكاء .</a:t>
            </a:r>
            <a:endParaRPr b="0" lang="en-US" sz="2800" spc="-1" strike="noStrike">
              <a:solidFill>
                <a:srgbClr val="000000"/>
              </a:solidFill>
              <a:latin typeface="Arial"/>
            </a:endParaRPr>
          </a:p>
          <a:p>
            <a:pPr marL="240120" indent="-24012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01719-E8E4-4A1B-ACFE-F569146D5876}"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934640"/>
            <a:ext cx="8229600" cy="4389480"/>
          </a:xfrm>
          <a:prstGeom prst="rect">
            <a:avLst/>
          </a:prstGeom>
          <a:noFill/>
          <a:ln w="0">
            <a:noFill/>
          </a:ln>
        </p:spPr>
        <p:txBody>
          <a:bodyPr anchor="t">
            <a:normAutofit fontScale="91000"/>
          </a:bodyPr>
          <a:p>
            <a:pPr marL="248040" indent="-2480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من ناحية أخرى أعادت بعض الدراسات التأكيد على علاقة الذكاء بحجم المخ. فمثلاً وجد ويلرمان وزملاؤه معامل ارتباط بين الذكاء وحجم المخ يبلغ </a:t>
            </a:r>
            <a:r>
              <a:rPr b="1" lang="ar-SA" sz="2800" spc="-1" strike="noStrike">
                <a:solidFill>
                  <a:srgbClr val="000000"/>
                </a:solidFill>
                <a:latin typeface="Arial"/>
              </a:rPr>
              <a:t>0,65</a:t>
            </a:r>
            <a:r>
              <a:rPr b="1" lang="ar-SA" sz="2800" spc="-1" strike="noStrike">
                <a:solidFill>
                  <a:srgbClr val="000000"/>
                </a:solidFill>
                <a:latin typeface="Arial"/>
              </a:rPr>
              <a:t> بالنسبة إلى الذكور و</a:t>
            </a:r>
            <a:r>
              <a:rPr b="1" lang="ar-SA" sz="2800" spc="-1" strike="noStrike">
                <a:solidFill>
                  <a:srgbClr val="000000"/>
                </a:solidFill>
                <a:latin typeface="Arial"/>
              </a:rPr>
              <a:t>0,35</a:t>
            </a:r>
            <a:r>
              <a:rPr b="1" lang="ar-SA" sz="2800" spc="-1" strike="noStrike">
                <a:solidFill>
                  <a:srgbClr val="000000"/>
                </a:solidFill>
                <a:latin typeface="Arial"/>
              </a:rPr>
              <a:t> بالنسبة إلى الإناث، و</a:t>
            </a:r>
            <a:r>
              <a:rPr b="1" lang="ar-SA" sz="2800" spc="-1" strike="noStrike">
                <a:solidFill>
                  <a:srgbClr val="000000"/>
                </a:solidFill>
                <a:latin typeface="Arial"/>
              </a:rPr>
              <a:t>0,51</a:t>
            </a:r>
            <a:r>
              <a:rPr b="1" lang="ar-SA" sz="2800" spc="-1" strike="noStrike">
                <a:solidFill>
                  <a:srgbClr val="000000"/>
                </a:solidFill>
                <a:latin typeface="Arial"/>
              </a:rPr>
              <a:t> للجنسين معًا ، وذلك بعد تثبيت أثر حجم الجسم.</a:t>
            </a:r>
            <a:br>
              <a:rPr sz="2800"/>
            </a:br>
            <a:r>
              <a:rPr b="1" lang="ar-SA" sz="2800" spc="-1" strike="noStrike">
                <a:solidFill>
                  <a:srgbClr val="000000"/>
                </a:solidFill>
                <a:latin typeface="Arial"/>
              </a:rPr>
              <a:t>كما أظهرت نتائج هذا الفريق البحثي أن حجم النصف الأيسر من المخ لدى الرجال يشير إلى ارتفاع المهارات اللفظية كما يقيسها مقياس وكسلر ، بينما يشير كبر حجم هذا النصف لدى النساء إلى ارتفاع المهارات المكانية غير اللفظية.</a:t>
            </a:r>
            <a:endParaRPr b="0" lang="en-US" sz="2800" spc="-1" strike="noStrike">
              <a:solidFill>
                <a:srgbClr val="000000"/>
              </a:solidFill>
              <a:latin typeface="Arial"/>
            </a:endParaRPr>
          </a:p>
          <a:p>
            <a:pPr marL="248040" indent="-24804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6EAF8-3764-4728-9216-6CAFA0A8DDDB}"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1934640"/>
            <a:ext cx="8229600" cy="4389480"/>
          </a:xfrm>
          <a:prstGeom prst="rect">
            <a:avLst/>
          </a:prstGeom>
          <a:noFill/>
          <a:ln w="0">
            <a:noFill/>
          </a:ln>
        </p:spPr>
        <p:txBody>
          <a:bodyPr anchor="t">
            <a:normAutofit fontScale="81000"/>
          </a:bodyPr>
          <a:p>
            <a:pPr marL="220680" indent="-2206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قد أكد بينية في العديد من بحوثه التي نشرت في أوائل هذا القرن أهمية  المفهوم البيولوجي للذكاء الذي قسمة إلي نوعين :</a:t>
            </a:r>
            <a:endParaRPr b="0" lang="en-US" sz="3200" spc="-1" strike="noStrike">
              <a:solidFill>
                <a:srgbClr val="000000"/>
              </a:solidFill>
              <a:latin typeface="Arial"/>
            </a:endParaRPr>
          </a:p>
          <a:p>
            <a:pPr marL="220680" indent="-2206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نشاط الذكاء الذي يبدو في قدرة الفرد على التكيف. </a:t>
            </a:r>
            <a:endParaRPr b="0" lang="en-US" sz="3200" spc="-1" strike="noStrike">
              <a:solidFill>
                <a:srgbClr val="000000"/>
              </a:solidFill>
              <a:latin typeface="Arial"/>
            </a:endParaRPr>
          </a:p>
          <a:p>
            <a:pPr marL="220680" indent="-2206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ستوى الذكاء الذي يبدو في القدرة التكيفية.</a:t>
            </a:r>
            <a:endParaRPr b="0" lang="en-US" sz="3200" spc="-1" strike="noStrike">
              <a:solidFill>
                <a:srgbClr val="000000"/>
              </a:solidFill>
              <a:latin typeface="Arial"/>
            </a:endParaRPr>
          </a:p>
          <a:p>
            <a:pPr marL="220680" indent="-2206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النشاط الذكاء التكيفي صفة عن صفات نلمسها عندما نتعامل مع الإفراد فنلاحظ كثرة معلوماته وخصوبة حديثة وبراعة في فرض الفروض واستخلاص النتائج.</a:t>
            </a:r>
            <a:endParaRPr b="0" lang="en-US" sz="3200" spc="-1" strike="noStrike">
              <a:solidFill>
                <a:srgbClr val="000000"/>
              </a:solidFill>
              <a:latin typeface="Arial"/>
            </a:endParaRPr>
          </a:p>
          <a:p>
            <a:pPr marL="220680" indent="-2206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0680" indent="-2206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7DAF-6AC4-4387-BE3B-B0408C72E00D}"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7200" y="1934640"/>
            <a:ext cx="8229600" cy="4389480"/>
          </a:xfrm>
          <a:prstGeom prst="rect">
            <a:avLst/>
          </a:prstGeom>
          <a:noFill/>
          <a:ln w="0">
            <a:noFill/>
          </a:ln>
        </p:spPr>
        <p:txBody>
          <a:bodyPr anchor="t">
            <a:normAutofit fontScale="86000"/>
          </a:bodyPr>
          <a:p>
            <a:pPr marL="234360" indent="-2343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قد نخطي عندما نتسرع ونحكم على هذا الشخصية بأنه ذكي أو متفوق في الذكاء .</a:t>
            </a:r>
            <a:endParaRPr b="0" lang="en-US" sz="3200" spc="-1" strike="noStrike">
              <a:solidFill>
                <a:srgbClr val="000000"/>
              </a:solidFill>
              <a:latin typeface="Arial"/>
            </a:endParaRPr>
          </a:p>
          <a:p>
            <a:pPr marL="234360" indent="-2343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لكن يكون حكمنا على ذكائه صادق عندما ندرك مستوى ذكائي بين الجماعة التي ينتمي إليها وعلى العموم  فان المفهوم البيولوجي للذكاء قد تأثر إلى حد كبير بالمفاهيم الفلسفية السابقة وبالاتجاه البيولوجي وبحوث علم الحياة واثر بدورة بمفاهيم الاتجاهات الحديثة التي تعرضت لدراسة الذكاء بطرق علمية وتجريبية.</a:t>
            </a:r>
            <a:endParaRPr b="0" lang="en-US" sz="3200" spc="-1" strike="noStrike">
              <a:solidFill>
                <a:srgbClr val="000000"/>
              </a:solidFill>
              <a:latin typeface="Arial"/>
            </a:endParaRPr>
          </a:p>
          <a:p>
            <a:pPr marL="234360" indent="-23436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145AC-6DA2-45CE-9F0C-4169FAEC7083}"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عنوان 1" descr=""/>
          <p:cNvPicPr/>
          <p:nvPr/>
        </p:nvPicPr>
        <p:blipFill>
          <a:blip r:embed="rId1"/>
          <a:stretch/>
        </p:blipFill>
        <p:spPr>
          <a:xfrm>
            <a:off x="536400" y="1152360"/>
            <a:ext cx="7851960" cy="2048040"/>
          </a:xfrm>
          <a:prstGeom prst="rect">
            <a:avLst/>
          </a:prstGeom>
          <a:ln w="0">
            <a:noFill/>
          </a:ln>
        </p:spPr>
      </p:pic>
      <p:sp>
        <p:nvSpPr>
          <p:cNvPr id="22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a:rPr>
              <a:t>القدرة العقلية العامة</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معنى الذكاء </a:t>
            </a:r>
            <a:endParaRPr b="0" lang="en-US" sz="5000" spc="-1" strike="noStrike">
              <a:solidFill>
                <a:srgbClr val="04617b"/>
              </a:solidFill>
              <a:latin typeface="Arial"/>
            </a:endParaRPr>
          </a:p>
        </p:txBody>
      </p:sp>
      <p:sp>
        <p:nvSpPr>
          <p:cNvPr id="231" name=""/>
          <p:cNvSpPr txBox="1"/>
          <p:nvPr/>
        </p:nvSpPr>
        <p:spPr>
          <a:xfrm>
            <a:off x="457200" y="1934640"/>
            <a:ext cx="8229600" cy="4389480"/>
          </a:xfrm>
          <a:prstGeom prst="rect">
            <a:avLst/>
          </a:prstGeom>
          <a:noFill/>
          <a:ln w="0">
            <a:noFill/>
          </a:ln>
        </p:spPr>
        <p:txBody>
          <a:bodyPr anchor="t">
            <a:normAutofit fontScale="83000"/>
          </a:bodyPr>
          <a:p>
            <a:pPr marL="226440" indent="-226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مقدمة:</a:t>
            </a:r>
            <a:endParaRPr b="0" lang="en-US" sz="2600" spc="-1" strike="noStrike">
              <a:solidFill>
                <a:srgbClr val="000000"/>
              </a:solidFill>
              <a:latin typeface="Arial"/>
            </a:endParaRPr>
          </a:p>
          <a:p>
            <a:pPr marL="226440" indent="-226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لم يحظ موضوع بالدراسة في ميدان القدرات العقلية مثل موضوع الذكاء . إذ كانت الدراسات الأولى في سيكلوجية الفروق الفردية تدور حول الفروق في الذكاء ، كما أن نشأة القياس النفسي وتطوره كانت، في ميدان الذكاء . </a:t>
            </a:r>
            <a:endParaRPr b="0" lang="en-US" sz="2800" spc="-1" strike="noStrike">
              <a:solidFill>
                <a:srgbClr val="000000"/>
              </a:solidFill>
              <a:latin typeface="Arial"/>
            </a:endParaRPr>
          </a:p>
          <a:p>
            <a:pPr marL="226440" indent="-226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حتى أن علماء النفس ظلوا لفترة من الوقت يسلكون في بحوثهم، كما لو كانت الفروق في الذكاء، هي الفروق الوحيدة الموجودة بين الناس، ولما ثبت خطأ هذا الافتراض، نقلت الطرق التي اتبعت في إعداد اختبارات الذكاء إلى إعداد اختبارات القدرات الأخرى وسمات الشخصية. </a:t>
            </a:r>
            <a:endParaRPr b="0" lang="en-US" sz="2800" spc="-1" strike="noStrike">
              <a:solidFill>
                <a:srgbClr val="000000"/>
              </a:solidFill>
              <a:latin typeface="Arial"/>
            </a:endParaRPr>
          </a:p>
          <a:p>
            <a:pPr marL="226440" indent="-2264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4479F-D653-4798-AB3B-ED7457E95B1D}"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457200" y="1934640"/>
            <a:ext cx="8229600" cy="4389480"/>
          </a:xfrm>
          <a:prstGeom prst="rect">
            <a:avLst/>
          </a:prstGeom>
          <a:noFill/>
          <a:ln w="0">
            <a:noFill/>
          </a:ln>
        </p:spPr>
        <p:txBody>
          <a:bodyPr anchor="t">
            <a:normAutofit fontScale="96000"/>
          </a:bodyPr>
          <a:p>
            <a:pPr marL="261720" indent="-2617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على الرغم مما تجمع لدينا من  معلومات  نتيجة لتقدم حركة القياس العقلي، وعلى من أن طبيعة الذكاء كانت موضوع تأمل ومناقشة لسنوات طويلة من رجال التربية وعلماء النفس والوراثة والاجتماع ، فإنه لا يوجد اتفاق تام على طبيعة الذكاء، أو على تحديد واحد متفق عليه، لمفهومه ومعناه ، فالوضع بالنسبة لتعريف الذكاء مازال كما كان عليه منذ خمسين عاما تقريبا. </a:t>
            </a:r>
            <a:endParaRPr b="0" lang="en-US" sz="3200" spc="-1" strike="noStrike">
              <a:solidFill>
                <a:srgbClr val="000000"/>
              </a:solidFill>
              <a:latin typeface="Arial"/>
            </a:endParaRPr>
          </a:p>
        </p:txBody>
      </p:sp>
      <p:sp>
        <p:nvSpPr>
          <p:cNvPr id="234"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BE121-29DD-492B-BA52-B53802C72125}"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تلك مشكلة منهجية خطيرة ، ذلك أن التنوع والاختلاف في فهم طبيعة الذكاء، يؤدي بالضرورة إلى الاختلاف في كيفية دراسته وقياسه، ولا يقلل من خطورتها ما يقال، من أن التعريف الواضح الدقيق لأي سمة من السمات، إنما يأتي بعد قياسها ودراستها. </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8FDAE-3C75-4E40-9120-5580529520C1}"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0" spc="-1" strike="noStrike">
                <a:solidFill>
                  <a:srgbClr val="04617b"/>
                </a:solidFill>
                <a:latin typeface="Arial"/>
              </a:rPr>
              <a:t>توطئة</a:t>
            </a:r>
            <a:endParaRPr b="0" lang="en-US" sz="5000" spc="-1" strike="noStrike">
              <a:solidFill>
                <a:srgbClr val="04617b"/>
              </a:solidFill>
              <a:latin typeface="Arial"/>
            </a:endParaRPr>
          </a:p>
        </p:txBody>
      </p:sp>
      <p:sp>
        <p:nvSpPr>
          <p:cNvPr id="199" name=""/>
          <p:cNvSpPr txBox="1"/>
          <p:nvPr/>
        </p:nvSpPr>
        <p:spPr>
          <a:xfrm>
            <a:off x="457200" y="1934640"/>
            <a:ext cx="8229600" cy="4389480"/>
          </a:xfrm>
          <a:prstGeom prst="rect">
            <a:avLst/>
          </a:prstGeom>
          <a:noFill/>
          <a:ln w="0">
            <a:noFill/>
          </a:ln>
        </p:spPr>
        <p:txBody>
          <a:bodyPr anchor="t">
            <a:normAutofit fontScale="85000"/>
          </a:bodyPr>
          <a:p>
            <a:pPr marL="231840" indent="-2318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الاهتمام بالقدرات العقلية قد ظهر في وقت مبكر, ولكن لم يكن قائما على الأسس العلمية أو المنهجية لدراسة طبيعة هذه الظاهرة. </a:t>
            </a:r>
            <a:endParaRPr b="0" lang="en-US" sz="3200" spc="-1" strike="noStrike">
              <a:solidFill>
                <a:srgbClr val="000000"/>
              </a:solidFill>
              <a:latin typeface="Arial"/>
            </a:endParaRPr>
          </a:p>
          <a:p>
            <a:pPr marL="231840" indent="-2318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من خلال الاطلاع على المراحل التاريخية السابقة, نلاحظ تبدلاً وتطوراً في الاهتمام والمفاهيم ونوعية القدرات والمجالات والحقول التي برزت واتضح الاهتمام بها والتي هي نابعة من الظروف الثقافية والاجتماعية والاقتصادية السائدة في ذلك الوقت, فلكل مجتمع أو حقبة زمنية اهتمامات خاصة.</a:t>
            </a:r>
            <a:endParaRPr b="0" lang="en-US" sz="3200" spc="-1" strike="noStrike">
              <a:solidFill>
                <a:srgbClr val="000000"/>
              </a:solidFill>
              <a:latin typeface="Arial"/>
            </a:endParaRPr>
          </a:p>
        </p:txBody>
      </p:sp>
      <p:sp>
        <p:nvSpPr>
          <p:cNvPr id="20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580A3-BE35-4278-BF36-78D0C689C284}"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1934640"/>
            <a:ext cx="8229600" cy="4389480"/>
          </a:xfrm>
          <a:prstGeom prst="rect">
            <a:avLst/>
          </a:prstGeom>
          <a:noFill/>
          <a:ln w="0">
            <a:noFill/>
          </a:ln>
        </p:spPr>
        <p:txBody>
          <a:bodyPr anchor="t">
            <a:normAutofit fontScale="97000"/>
          </a:bodyPr>
          <a:p>
            <a:pPr marL="264600" indent="-2646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قد يرجع هذا الاختلاف في تعريف الذكاء، إلى أن الذكاء ليس شيئا ماديا محسوسا، كما أنه لا يقاس قياسا مباشراً، وقد يرجع إلى أن العلماء تناولوه من زوايا ومنطلقات مختلفة ، وسنحاول أن نعرض فيما يلي أهم الاتجاهات التي ظهرت منذ نشأة مفهوم الذكاء وخلال تطوره ، والتي حاولت أن تقدم تحديداً ، أو تفسيراً لطبيعته. </a:t>
            </a:r>
            <a:endParaRPr b="0" lang="en-US" sz="3200" spc="-1" strike="noStrike">
              <a:solidFill>
                <a:srgbClr val="000000"/>
              </a:solidFill>
              <a:latin typeface="Arial"/>
            </a:endParaRPr>
          </a:p>
        </p:txBody>
      </p:sp>
      <p:sp>
        <p:nvSpPr>
          <p:cNvPr id="23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82731-42F1-4661-8FA3-AD5DF337BD7D}"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214280"/>
            <a:ext cx="8229600" cy="6336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br>
              <a:rPr sz="5000"/>
            </a:br>
            <a:br>
              <a:rPr sz="5000"/>
            </a:br>
            <a:r>
              <a:rPr b="1" lang="ar-SA" sz="5000" spc="-1" strike="noStrike">
                <a:solidFill>
                  <a:srgbClr val="04617b"/>
                </a:solidFill>
                <a:latin typeface="Arial"/>
              </a:rPr>
              <a:t>المفهوم الفلسفي للذكاء : </a:t>
            </a:r>
            <a:endParaRPr b="0" lang="en-US" sz="5000" spc="-1" strike="noStrike">
              <a:solidFill>
                <a:srgbClr val="04617b"/>
              </a:solidFill>
              <a:latin typeface="Arial"/>
            </a:endParaRPr>
          </a:p>
        </p:txBody>
      </p:sp>
      <p:sp>
        <p:nvSpPr>
          <p:cNvPr id="240" name=""/>
          <p:cNvSpPr txBox="1"/>
          <p:nvPr/>
        </p:nvSpPr>
        <p:spPr>
          <a:xfrm>
            <a:off x="457200" y="1934640"/>
            <a:ext cx="8229600" cy="4389480"/>
          </a:xfrm>
          <a:prstGeom prst="rect">
            <a:avLst/>
          </a:prstGeom>
          <a:noFill/>
          <a:ln w="0">
            <a:noFill/>
          </a:ln>
        </p:spPr>
        <p:txBody>
          <a:bodyPr anchor="t">
            <a:normAutofit fontScale="82000"/>
          </a:bodyPr>
          <a:p>
            <a:pPr marL="223560" indent="-22356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  مصطلح  الذكاء أقدم  في نشأته من علم النفس  ودراساته  التجريبية. فقد أشار بيرت </a:t>
            </a:r>
            <a:r>
              <a:rPr b="1" lang="en-US" sz="2800" spc="-1" strike="noStrike">
                <a:solidFill>
                  <a:srgbClr val="000000"/>
                </a:solidFill>
                <a:latin typeface="Arial"/>
              </a:rPr>
              <a:t>Burt</a:t>
            </a:r>
            <a:r>
              <a:rPr b="1" lang="en-US" sz="2800" spc="-1" strike="noStrike">
                <a:solidFill>
                  <a:srgbClr val="000000"/>
                </a:solidFill>
                <a:latin typeface="Arial"/>
              </a:rPr>
              <a:t> </a:t>
            </a:r>
            <a:r>
              <a:rPr b="1" lang="ar-SA" sz="2800" spc="-1" strike="noStrike">
                <a:solidFill>
                  <a:srgbClr val="000000"/>
                </a:solidFill>
                <a:latin typeface="Arial"/>
              </a:rPr>
              <a:t>إلى أن مصطلح الذكاء </a:t>
            </a:r>
            <a:r>
              <a:rPr b="1" lang="en-US" sz="2800" spc="-1" strike="noStrike">
                <a:solidFill>
                  <a:srgbClr val="000000"/>
                </a:solidFill>
                <a:latin typeface="Arial"/>
              </a:rPr>
              <a:t>Intelligence</a:t>
            </a:r>
            <a:r>
              <a:rPr b="1" lang="ar-SA" sz="2800" spc="-1" strike="noStrike">
                <a:solidFill>
                  <a:srgbClr val="000000"/>
                </a:solidFill>
                <a:latin typeface="Arial"/>
              </a:rPr>
              <a:t>  يرجع إلى الكلمة اللاتينية </a:t>
            </a:r>
            <a:r>
              <a:rPr b="1" lang="en-US" sz="2800" spc="-1" strike="noStrike">
                <a:solidFill>
                  <a:srgbClr val="000000"/>
                </a:solidFill>
                <a:latin typeface="Arial"/>
              </a:rPr>
              <a:t>Intelligentia</a:t>
            </a:r>
            <a:r>
              <a:rPr b="1" lang="ar-SA" sz="2800" spc="-1" strike="noStrike">
                <a:solidFill>
                  <a:srgbClr val="000000"/>
                </a:solidFill>
                <a:latin typeface="Arial"/>
              </a:rPr>
              <a:t>، والتي ابتكرها الفيلسوف الروماني شيشرون.</a:t>
            </a:r>
            <a:endParaRPr b="0" lang="en-US" sz="2800" spc="-1" strike="noStrike">
              <a:solidFill>
                <a:srgbClr val="000000"/>
              </a:solidFill>
              <a:latin typeface="Arial"/>
            </a:endParaRPr>
          </a:p>
          <a:p>
            <a:pPr marL="223560" indent="-22356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لهذا فإن تناول النشاط العقلي لم يكن قاصرا على علماء النفس، وإنما تناوله الفلاسفة قبلهم، وكان منهجهم في ذلك، هو منهج التأمل العقلي أو الاستبطان، وهو المنهج الذي اتبعه علم النفس قبل أن يصبح علما تجريبيا. ويعتمد هذا المنهج على ملاحظة الفيلسوف لنفسه أثناء قيامه بالتفكير أو أي نشاط عقلي، ثم يدون ملاحظاته الذاتية بعد ذلك .</a:t>
            </a:r>
            <a:endParaRPr b="0" lang="en-US" sz="2800" spc="-1" strike="noStrike">
              <a:solidFill>
                <a:srgbClr val="000000"/>
              </a:solidFill>
              <a:latin typeface="Arial"/>
            </a:endParaRPr>
          </a:p>
          <a:p>
            <a:pPr marL="223560" indent="-22356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000C9-7918-489F-8A9B-57A4EE9F6013}"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457200" y="1934640"/>
            <a:ext cx="8229600" cy="4389480"/>
          </a:xfrm>
          <a:prstGeom prst="rect">
            <a:avLst/>
          </a:prstGeom>
          <a:noFill/>
          <a:ln w="0">
            <a:noFill/>
          </a:ln>
        </p:spPr>
        <p:txBody>
          <a:bodyPr anchor="t">
            <a:normAutofit fontScale="90000"/>
          </a:bodyPr>
          <a:p>
            <a:pPr marL="245520" indent="-24552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لعل أول ملاحظة لتناول النشاط العقلي بالتحليل، ترجع إلى الفيلسوف اليوناني أفلاطون، فقد توصل أفلاطون نتيجة تأملاته إلى تقسيم النفس الإنسانية إلى ثلاثة مكونات أو ثلاثة مظاهر رئيسية: العقل والشهوة والغضب، وتقابل هذه المظاهر في علم النفس الحديث الإدراك، وهو الذي يؤكد الناحية المعرفية لنشاط الإنسان، والانفعال أو الوجدان وهو الذي يؤكد الناحية العاطفية، والنزوع وهو الذي يؤكد الفعل، وقد شبه أفلاطون في إحدى محاوراته قوى العقل بعربة يقودها سائق ماهر هو العقل، ويجرها جوادان هما الإرادة والرغبة.</a:t>
            </a:r>
            <a:endParaRPr b="0" lang="en-US" sz="2800" spc="-1" strike="noStrike">
              <a:solidFill>
                <a:srgbClr val="000000"/>
              </a:solidFill>
              <a:latin typeface="Arial"/>
            </a:endParaRPr>
          </a:p>
          <a:p>
            <a:pPr marL="245520" indent="-24552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4C6EC-9358-4353-98BC-C341C978DABA}"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457200" y="1934640"/>
            <a:ext cx="8229600" cy="4389480"/>
          </a:xfrm>
          <a:prstGeom prst="rect">
            <a:avLst/>
          </a:prstGeom>
          <a:noFill/>
          <a:ln w="0">
            <a:noFill/>
          </a:ln>
        </p:spPr>
        <p:txBody>
          <a:bodyPr anchor="t">
            <a:normAutofit fontScale="87000"/>
          </a:bodyPr>
          <a:p>
            <a:pPr marL="237240" indent="-2372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ما أرسطو، فقد أضاف إسهاماً آخر، فكما يشير بيرت، قابل أرسطو بين النشاط الفعلي أو الملموس ( وهو ما يعرف في الفلسفة بالوجود بالفعل)، وبين الإمكانات المحتملة (وهو الوجود بالقوة ) التي تعتمد عليها النشاط الفعلي، وهي تحمل معنى مصطلح القدرة في علم النفس الحديث. أما التقسيم الثلاثي لقوى العقل الذي قدمه أفلاطون، فقد اختزله  أرسطو إلى مظهرين رئيسيين فقط : الأول عقلي معرفي ، والثاني خلقي انفعالي .</a:t>
            </a:r>
            <a:endParaRPr b="0" lang="en-US" sz="3200" spc="-1" strike="noStrike">
              <a:solidFill>
                <a:srgbClr val="000000"/>
              </a:solidFill>
              <a:latin typeface="Arial"/>
            </a:endParaRPr>
          </a:p>
          <a:p>
            <a:pPr marL="237240" indent="-23724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D663E-7460-404B-A67C-55510161F42C}"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457200" y="1934640"/>
            <a:ext cx="8229600" cy="4389480"/>
          </a:xfrm>
          <a:prstGeom prst="rect">
            <a:avLst/>
          </a:prstGeom>
          <a:noFill/>
          <a:ln w="0">
            <a:noFill/>
          </a:ln>
        </p:spPr>
        <p:txBody>
          <a:bodyPr anchor="t">
            <a:normAutofit fontScale="84000"/>
          </a:bodyPr>
          <a:p>
            <a:pPr marL="228960" indent="-22896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كذا نجد أن الفلسفة اليونانية القديمة ، قد أكدت على أهمية الناحية الإدراكية في النشاط العقلي للفرد . كما ترجم أيضاً مصطلح الاستعداد أو القدرة إلى اللغة اللاتينية ، ثم انتقلت هذه المصطلحات إلى اللغات الأوروبية في أوروبا ، واعتبر العقل أو الذهن الخاصية المشتركة في الإنسان ، والتي تميزه عن الحيوان . </a:t>
            </a:r>
            <a:endParaRPr b="0" lang="en-US" sz="2800" spc="-1" strike="noStrike">
              <a:solidFill>
                <a:srgbClr val="000000"/>
              </a:solidFill>
              <a:latin typeface="Arial"/>
            </a:endParaRPr>
          </a:p>
          <a:p>
            <a:pPr marL="228960" indent="-22896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على الرغم من أن هذه التصورات الفلسفية قد أكدت أهمية الناحية الإدراكية في النشاط العقلي ، إلا أن الأفكار التي ظهرت فيها لا يمكن الأخذ بها دون إخضاعها للدراسة العلمية ، التي تعتمد على التجربة والقياس. </a:t>
            </a:r>
            <a:endParaRPr b="0" lang="en-US" sz="2800" spc="-1" strike="noStrike">
              <a:solidFill>
                <a:srgbClr val="000000"/>
              </a:solidFill>
              <a:latin typeface="Arial"/>
            </a:endParaRPr>
          </a:p>
          <a:p>
            <a:pPr marL="228960" indent="-22896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7A100-1924-449B-AE07-E53DDCDD99A4}"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071720"/>
            <a:ext cx="8229600" cy="77616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ar-SA" sz="5000" spc="-1" strike="noStrike">
                <a:solidFill>
                  <a:srgbClr val="04617b"/>
                </a:solidFill>
                <a:latin typeface="Arial"/>
              </a:rPr>
              <a:t>المفهوم البيولوجي للذكاء </a:t>
            </a:r>
            <a:endParaRPr b="0" lang="en-US" sz="5000" spc="-1" strike="noStrike">
              <a:solidFill>
                <a:srgbClr val="04617b"/>
              </a:solidFill>
              <a:latin typeface="Arial"/>
            </a:endParaRPr>
          </a:p>
        </p:txBody>
      </p:sp>
      <p:sp>
        <p:nvSpPr>
          <p:cNvPr id="249" name=""/>
          <p:cNvSpPr txBox="1"/>
          <p:nvPr/>
        </p:nvSpPr>
        <p:spPr>
          <a:xfrm>
            <a:off x="457200" y="1934640"/>
            <a:ext cx="8229600" cy="4389480"/>
          </a:xfrm>
          <a:prstGeom prst="rect">
            <a:avLst/>
          </a:prstGeom>
          <a:noFill/>
          <a:ln w="0">
            <a:noFill/>
          </a:ln>
        </p:spPr>
        <p:txBody>
          <a:bodyPr anchor="t">
            <a:normAutofit fontScale="82000"/>
          </a:bodyPr>
          <a:p>
            <a:pPr marL="223560" indent="-2235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شار سبيرمان إلى أن الفضل في إدخال مصطلح الذكاء "الذكاء" في علم النفس الحديث يرجع إلى  هربرت سبنسر </a:t>
            </a:r>
            <a:r>
              <a:rPr b="1" lang="en-US" sz="3200" spc="-1" strike="noStrike">
                <a:solidFill>
                  <a:srgbClr val="000000"/>
                </a:solidFill>
                <a:latin typeface="Arial"/>
              </a:rPr>
              <a:t>Spencer</a:t>
            </a:r>
            <a:r>
              <a:rPr b="1" lang="ar-SA" sz="3200" spc="-1" strike="noStrike">
                <a:solidFill>
                  <a:srgbClr val="000000"/>
                </a:solidFill>
                <a:latin typeface="Arial"/>
              </a:rPr>
              <a:t> في أواخر القرن التاسع عشر. فقد حدد سبنسر الحياة بأنها "التكيف المستمر للعلاقات الداخلية مع العلاقات الخارجية، ويتم الكشف لدى الحيوانات الدنيا بفضل الغرائز، أما لدى الإنسان فانه يتحقق بواسطة الذكاء. وبهذا يرى سبنسر أن الوظيفة الرئيسية للذكاء هي تمكين الإنسان من التكيف الصحيح مع بيئته المعقدة، والدائمة  للتغير.</a:t>
            </a:r>
            <a:endParaRPr b="0" lang="en-US" sz="3200" spc="-1" strike="noStrike">
              <a:solidFill>
                <a:srgbClr val="000000"/>
              </a:solidFill>
              <a:latin typeface="Arial"/>
            </a:endParaRPr>
          </a:p>
          <a:p>
            <a:pPr marL="223560" indent="-22356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0F6F5-3444-47F8-A095-32474E1C666C}"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pic>
        <p:nvPicPr>
          <p:cNvPr id="251" name="Picture 6" descr="112(687)">
            <a:hlinkClick r:id="rId1"/>
          </p:cNvPr>
          <p:cNvPicPr/>
          <p:nvPr/>
        </p:nvPicPr>
        <p:blipFill>
          <a:blip r:embed="rId2"/>
          <a:stretch/>
        </p:blipFill>
        <p:spPr>
          <a:xfrm>
            <a:off x="642960" y="214200"/>
            <a:ext cx="2087640" cy="1785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499760"/>
            <a:ext cx="8229600" cy="4824360"/>
          </a:xfrm>
          <a:prstGeom prst="rect">
            <a:avLst/>
          </a:prstGeom>
          <a:noFill/>
          <a:ln w="0">
            <a:noFill/>
          </a:ln>
        </p:spPr>
        <p:txBody>
          <a:bodyPr anchor="t">
            <a:normAutofit fontScale="83000"/>
          </a:bodyPr>
          <a:p>
            <a:pPr marL="226440" indent="-2264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نظرا لأن سبنسر كان متأثرا إلى حد بعيد بنظرية التطور، فقد قرر أنه خلال تطور المملكة الحيوانية، وأثناء نمو الطفل، يحدث تمايز في القدرة المعرفية الأساسية، فتتحول إلى تنظيم هرمي من القدرات الأكثر تخصصا: الحسية والإدراكية والترابطية وغيرها، شأنها في ذلك شأن جذع الشجرة، الذي يتفرع إلى أغصان عديدة. ويتفق سبنسر مع الاتجاهات الفلسفية القديمة من حيث تمييزه بين مظهرين رئيسين للحياة العقلية : الجانب المعرفي والجانب الوجداني أو الانفعالي ، ويتضمن الجانب المعرفي عمليتين رئيسيتين : التحليل أو التمييز الذي يتمثل في القدرة على التمييز بين الأشياء وإدراك أوجه الاختلاف بينها ، وعملية التركيب أو التكامل ، وهي إعادة تكوين الأشياء في مركب جديد. </a:t>
            </a:r>
            <a:endParaRPr b="0" lang="en-US" sz="2800" spc="-1" strike="noStrike">
              <a:solidFill>
                <a:srgbClr val="000000"/>
              </a:solidFill>
              <a:latin typeface="Arial"/>
            </a:endParaRPr>
          </a:p>
          <a:p>
            <a:pPr marL="226440" indent="-22644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8665D-3FC2-4EA2-9A63-31D56534165F}"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1934640"/>
            <a:ext cx="8229600" cy="4389480"/>
          </a:xfrm>
          <a:prstGeom prst="rect">
            <a:avLst/>
          </a:prstGeom>
          <a:noFill/>
          <a:ln w="0">
            <a:noFill/>
          </a:ln>
        </p:spPr>
        <p:txBody>
          <a:bodyPr anchor="t">
            <a:normAutofit fontScale="82000"/>
          </a:bodyPr>
          <a:p>
            <a:pPr marL="223560" indent="-22356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قد أكدت البحوث  الإكلينيكية، ودراسات علم النفس المقارن، والدراسات التجريبية الفيسولوجية أهمية التنظيم الهرمي التكاملي لوظائف الجهاز العصبي، وهي تلك الوظائف التي تنبع من النشاط العقلي العام، ثم تتشعب أثناء نموها إلى نواحيها المتخصصة المتنوعة. </a:t>
            </a:r>
            <a:endParaRPr b="0" lang="en-US" sz="2800" spc="-1" strike="noStrike">
              <a:solidFill>
                <a:srgbClr val="000000"/>
              </a:solidFill>
              <a:latin typeface="Arial"/>
            </a:endParaRPr>
          </a:p>
          <a:p>
            <a:pPr marL="223560" indent="-22356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قد حاول العلماء الذين ساروا في ذات الاتجاه، تفسير الذكاء تفسيرا فسيولوجيا، برده إلى نشاط الجهاز العصبي، ومن هؤلاء على سبيل المثال ثورندايك الذي حاول أن يفسر الذكاء في عبارات الوصلات أو الروابط العصبية التي تصل بين خلايا المخ  فتؤلف منها شبكة متصلة، وبقدر عدد هذه الروابط بقدر ما يكون ذكاء الإنسان.</a:t>
            </a:r>
            <a:endParaRPr b="0" lang="en-US" sz="2800" spc="-1" strike="noStrike">
              <a:solidFill>
                <a:srgbClr val="000000"/>
              </a:solidFill>
              <a:latin typeface="Arial"/>
            </a:endParaRPr>
          </a:p>
          <a:p>
            <a:pPr marL="223560" indent="-22356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D317-BAE4-4BE4-BE29-8B132D68DCF8}"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57200" y="1643040"/>
            <a:ext cx="8229600" cy="4681440"/>
          </a:xfrm>
          <a:prstGeom prst="rect">
            <a:avLst/>
          </a:prstGeom>
          <a:noFill/>
          <a:ln w="0">
            <a:noFill/>
          </a:ln>
        </p:spPr>
        <p:txBody>
          <a:bodyPr anchor="t">
            <a:normAutofit fontScale="81000"/>
          </a:bodyPr>
          <a:p>
            <a:pPr marL="220680" indent="-22068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هكذا نجد أن هؤلاء العلماء يحاولون الربط بين الذكاء وبين التكوين العضوي للكائن الحي، فالكائنات الحية تختلف في  إمكانياتها  السلوكية باختلاف موضعها في سلم الترقي للسلسة الحيوانية، وكلما زاد تعقد الكائن الحي، وبوجه خاص، تعقد جهازه العصبي، كلما زادت قدرته على التكيف مع البيئة وتعلم أعمال جديدة. </a:t>
            </a:r>
            <a:endParaRPr b="0" lang="en-US" sz="2800" spc="-1" strike="noStrike">
              <a:solidFill>
                <a:srgbClr val="000000"/>
              </a:solidFill>
              <a:latin typeface="Arial"/>
            </a:endParaRPr>
          </a:p>
          <a:p>
            <a:pPr marL="220680" indent="-22068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معنى هذا أن الذكاء ، كإمكانية نمط معين من السلوك الكامن في التكوين الجسمي للكائن الحي ، موروث وليس مكتسبا ، إذ أنه يتحدد أساسا بخصائص النوع الذي ينتمي إليه الكائن ، ويمكن أن يتخذ من ظهور الجهاز العصبي ودرجة تعقده معيارا لذكاء الكائن الحي ، ولما كان الإنسان يتميز بجهازه العصبي الأكثر تعقيدا فهو بذلك أذكى الكائنات الحية.</a:t>
            </a:r>
            <a:endParaRPr b="0" lang="en-US" sz="2800" spc="-1" strike="noStrike">
              <a:solidFill>
                <a:srgbClr val="000000"/>
              </a:solidFill>
              <a:latin typeface="Arial"/>
            </a:endParaRPr>
          </a:p>
          <a:p>
            <a:pPr marL="220680" indent="-2206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231C8-BE77-4F53-B31C-7B17028FE4D5}"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المفهوم الفسيولوجي والعصبي للذكاء </a:t>
            </a:r>
            <a:endParaRPr b="0" lang="en-US" sz="5000" spc="-1" strike="noStrike">
              <a:solidFill>
                <a:srgbClr val="04617b"/>
              </a:solidFill>
              <a:latin typeface="Arial"/>
            </a:endParaRPr>
          </a:p>
        </p:txBody>
      </p:sp>
      <p:sp>
        <p:nvSpPr>
          <p:cNvPr id="259" name=""/>
          <p:cNvSpPr txBox="1"/>
          <p:nvPr/>
        </p:nvSpPr>
        <p:spPr>
          <a:xfrm>
            <a:off x="457200" y="1934640"/>
            <a:ext cx="8229600" cy="4389480"/>
          </a:xfrm>
          <a:prstGeom prst="rect">
            <a:avLst/>
          </a:prstGeom>
          <a:noFill/>
          <a:ln w="0">
            <a:noFill/>
          </a:ln>
        </p:spPr>
        <p:txBody>
          <a:bodyPr anchor="t">
            <a:normAutofit fontScale="82000"/>
          </a:bodyPr>
          <a:p>
            <a:pPr marL="223560" indent="-2235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تبر المفهوم الفسيولوجي للذكاء في بعض جوانبه امتدادا لا فكار سبنسر السابقة عن دراسة المفهوم البيولوجي ويقوم هذا المفهوم على تحديد معنى الذكاء في إطار التكوين الفسيولوجي التشريحي للجهاز العصبي المركزي بوجه عام والقشرة المخية بوجه خاص وقد دلت الدراسة المقارنة التي قام بها  (( بولتون – </a:t>
            </a:r>
            <a:r>
              <a:rPr b="1" lang="en-US" sz="3200" spc="-1" strike="noStrike">
                <a:solidFill>
                  <a:srgbClr val="000000"/>
                </a:solidFill>
                <a:latin typeface="Arial"/>
              </a:rPr>
              <a:t>J.S,BOLTON</a:t>
            </a:r>
            <a:r>
              <a:rPr b="1" lang="ar-SA" sz="3200" spc="-1" strike="noStrike">
                <a:solidFill>
                  <a:srgbClr val="000000"/>
                </a:solidFill>
                <a:latin typeface="Arial"/>
              </a:rPr>
              <a:t> )) على ضعاف العقول والعاديين إن الخلايا القشرة المخية تنقص عددها وانقسامها وتناسقها عند ضعاف العقول بالمقارنة بالعاديين.</a:t>
            </a:r>
            <a:endParaRPr b="0" lang="en-US" sz="3200" spc="-1" strike="noStrike">
              <a:solidFill>
                <a:srgbClr val="000000"/>
              </a:solidFill>
              <a:latin typeface="Arial"/>
            </a:endParaRPr>
          </a:p>
          <a:p>
            <a:pPr marL="223560" indent="-22356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80970-1DFF-40DA-918A-6AE42A057B4C}"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1934640"/>
            <a:ext cx="8229600" cy="4389480"/>
          </a:xfrm>
          <a:prstGeom prst="rect">
            <a:avLst/>
          </a:prstGeom>
          <a:noFill/>
          <a:ln w="0">
            <a:noFill/>
          </a:ln>
        </p:spPr>
        <p:txBody>
          <a:bodyPr anchor="t">
            <a:normAutofit fontScale="89000"/>
          </a:bodyPr>
          <a:p>
            <a:pPr marL="242640" indent="-2426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حاول الفصل الحالي  أن يرصد تاريخ الاهتمام بالذكاء الإنساني، حيث أن أول محاولة لقياس الذكاء والقدرات تمت في القرن الثاني قبل الميلاد على أيدي الصينيين، وهو تاريخ يعود إلى حوالي </a:t>
            </a:r>
            <a:r>
              <a:rPr b="1" lang="ar-SA" sz="3200" spc="-1" strike="noStrike">
                <a:solidFill>
                  <a:srgbClr val="000000"/>
                </a:solidFill>
                <a:latin typeface="Arial"/>
              </a:rPr>
              <a:t>2000</a:t>
            </a:r>
            <a:r>
              <a:rPr b="1" lang="ar-SA" sz="3200" spc="-1" strike="noStrike">
                <a:solidFill>
                  <a:srgbClr val="000000"/>
                </a:solidFill>
                <a:latin typeface="Arial"/>
              </a:rPr>
              <a:t> عام قبل بزوغ المحاولات الغربية في هذا المجال على يد العالم التربوي الفرنسي ألفرد بنيه ،كما كان للعرب والمسلمين دور في بارز في تحديد بعض جوانب مفهوم الذكاء.</a:t>
            </a:r>
            <a:endParaRPr b="0" lang="en-US" sz="3200" spc="-1" strike="noStrike">
              <a:solidFill>
                <a:srgbClr val="000000"/>
              </a:solidFill>
              <a:latin typeface="Arial"/>
            </a:endParaRPr>
          </a:p>
          <a:p>
            <a:pPr marL="242640" indent="-24264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798E0-5376-4369-A266-5C8D4B744C62}"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57200" y="1934640"/>
            <a:ext cx="8229600" cy="4389480"/>
          </a:xfrm>
          <a:prstGeom prst="rect">
            <a:avLst/>
          </a:prstGeom>
          <a:noFill/>
          <a:ln w="0">
            <a:noFill/>
          </a:ln>
        </p:spPr>
        <p:txBody>
          <a:bodyPr anchor="t">
            <a:normAutofit fontScale="85000"/>
          </a:bodyPr>
          <a:p>
            <a:pPr marL="231840" indent="-2318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تؤكد الدراسات التجريبية للمخ إن المخ يعمل ككل فأجزاء المخ لا تعمل منفصلة كما رأى أنصار نظرية الملكات فالنشاط العصبي كما يقول شرنجتون يتميز بخاصية التنميط التي تتميز بدورها بخاصة التكامل. </a:t>
            </a:r>
            <a:endParaRPr b="0" lang="en-US" sz="3200" spc="-1" strike="noStrike">
              <a:solidFill>
                <a:srgbClr val="000000"/>
              </a:solidFill>
              <a:latin typeface="Arial"/>
            </a:endParaRPr>
          </a:p>
          <a:p>
            <a:pPr marL="231840" indent="-2318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ما ثور نديك فكان مفهوم الذكاء عنده مفهوم فسيولوجي عصبي فقد فسر الذكاء في إطار (( الوصلات العصبية – </a:t>
            </a:r>
            <a:r>
              <a:rPr b="1" lang="en-US" sz="3200" spc="-1" strike="noStrike">
                <a:solidFill>
                  <a:srgbClr val="000000"/>
                </a:solidFill>
                <a:latin typeface="Arial"/>
              </a:rPr>
              <a:t>NEURL BONDS</a:t>
            </a:r>
            <a:r>
              <a:rPr b="1" lang="ar-SA" sz="3200" spc="-1" strike="noStrike">
                <a:solidFill>
                  <a:srgbClr val="000000"/>
                </a:solidFill>
                <a:latin typeface="Arial"/>
              </a:rPr>
              <a:t>)) التي تصل بين خلايا المخ وهو يفرق بين المستويات العقلية على أساس هذه الوصلات وعددها .</a:t>
            </a:r>
            <a:endParaRPr b="0" lang="en-US" sz="3200" spc="-1" strike="noStrike">
              <a:solidFill>
                <a:srgbClr val="000000"/>
              </a:solidFill>
              <a:latin typeface="Arial"/>
            </a:endParaRPr>
          </a:p>
          <a:p>
            <a:pPr marL="231840" indent="-23184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F7EB5-0FCB-4330-A397-2D317F73EC99}"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57200" y="1934640"/>
            <a:ext cx="8229600" cy="4389480"/>
          </a:xfrm>
          <a:prstGeom prst="rect">
            <a:avLst/>
          </a:prstGeom>
          <a:noFill/>
          <a:ln w="0">
            <a:noFill/>
          </a:ln>
        </p:spPr>
        <p:txBody>
          <a:bodyPr anchor="t">
            <a:normAutofit fontScale="85000"/>
          </a:bodyPr>
          <a:p>
            <a:pPr marL="231840" indent="-2318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في الحقيقة فان نظرية ثور نديك ومفهومه هذا للذكاء لم يكن يعتمد على حقائق علمية ونتائج ودراسات تشريحية ولكنها تعتمد على فروض وتصورات وفق مفهوم الذكاء وتعد هذه الفروض جزاً أساسيا في النظرية الارتباطيه في التعلم لثور نديك.</a:t>
            </a:r>
            <a:endParaRPr b="0" lang="en-US" sz="3200" spc="-1" strike="noStrike">
              <a:solidFill>
                <a:srgbClr val="000000"/>
              </a:solidFill>
              <a:latin typeface="Arial"/>
            </a:endParaRPr>
          </a:p>
          <a:p>
            <a:pPr marL="231840" indent="-2318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كل عملية تعلم تحث الكائن الحي في تفسير عصبي فسيولوجي للروابط بين الوصلات تنسق وتنظم الخلايا العصبية في ألياف لها مسالكها التعليمية المختلفة. </a:t>
            </a:r>
            <a:endParaRPr b="0" lang="en-US" sz="3200" spc="-1" strike="noStrike">
              <a:solidFill>
                <a:srgbClr val="000000"/>
              </a:solidFill>
              <a:latin typeface="Arial"/>
            </a:endParaRPr>
          </a:p>
          <a:p>
            <a:pPr marL="231840" indent="-23184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50194-9787-4B90-8C7B-0FF06866644C}"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ما تجارب (( لاشلى – </a:t>
            </a:r>
            <a:r>
              <a:rPr b="1" lang="en-US" sz="3200" spc="-1" strike="noStrike">
                <a:solidFill>
                  <a:srgbClr val="000000"/>
                </a:solidFill>
                <a:latin typeface="Arial"/>
              </a:rPr>
              <a:t>K.S.LASHLEY</a:t>
            </a:r>
            <a:r>
              <a:rPr b="1" lang="en-US" sz="3200" spc="-1" strike="noStrike">
                <a:solidFill>
                  <a:srgbClr val="000000"/>
                </a:solidFill>
                <a:latin typeface="Arial"/>
              </a:rPr>
              <a:t> </a:t>
            </a:r>
            <a:r>
              <a:rPr b="1" lang="ar-SA" sz="3200" spc="-1" strike="noStrike">
                <a:solidFill>
                  <a:srgbClr val="000000"/>
                </a:solidFill>
                <a:latin typeface="Arial"/>
              </a:rPr>
              <a:t> )) التشريحية التي أجراها على الفئران بعد تدريبها على اجتياز المتاهات ونزع جزء من أجزاء المخ فوجد أن بتر أجزاء المخ التي لا توثر في الأداء والمهارات أي إن الذكاء نشاط عقلي يعتمد على التكامل الكلى للجهاز العصبي وان أجزاء المخ لا تعمل كل منها على انفراد بل تعمل في تناسق وتنظيم من الخلال الإطار المركزي هو الذي يحدد مستوى الذكاء ولا يحدده عدد الخلايا ولا مدى تعقدها.</a:t>
            </a:r>
            <a:endParaRPr b="0" lang="en-US" sz="3200" spc="-1" strike="noStrike">
              <a:solidFill>
                <a:srgbClr val="000000"/>
              </a:solidFill>
              <a:latin typeface="Arial"/>
            </a:endParaRPr>
          </a:p>
          <a:p>
            <a:pPr marL="240120" indent="-24012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4E230-3F58-4A68-A3E1-E709848EE983}"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قد اجري (( هب – </a:t>
            </a:r>
            <a:r>
              <a:rPr b="1" lang="en-US" sz="3200" spc="-1" strike="noStrike">
                <a:solidFill>
                  <a:srgbClr val="000000"/>
                </a:solidFill>
                <a:latin typeface="Arial"/>
              </a:rPr>
              <a:t>HEPP</a:t>
            </a:r>
            <a:r>
              <a:rPr b="1" lang="ar-SA" sz="3200" spc="-1" strike="noStrike">
                <a:solidFill>
                  <a:srgbClr val="000000"/>
                </a:solidFill>
                <a:latin typeface="Arial"/>
              </a:rPr>
              <a:t> )) تجارب على الإنسان بإزالة  بعض أجزاء الفص  الجبهي الدماغي فوجد إن هذا يؤدي إلي انخفاض النشاط العقلي العام للفرد ولكنة لا يؤثر على مستوى الذكاء وقد برهن هب على ذلك بحالة شاب عمرة </a:t>
            </a:r>
            <a:r>
              <a:rPr b="1" lang="ar-SA" sz="3200" spc="-1" strike="noStrike">
                <a:solidFill>
                  <a:srgbClr val="000000"/>
                </a:solidFill>
                <a:latin typeface="Arial"/>
              </a:rPr>
              <a:t>16</a:t>
            </a:r>
            <a:r>
              <a:rPr b="1" lang="ar-SA" sz="3200" spc="-1" strike="noStrike">
                <a:solidFill>
                  <a:srgbClr val="000000"/>
                </a:solidFill>
                <a:latin typeface="Arial"/>
              </a:rPr>
              <a:t> سنة نسبة ذكائه </a:t>
            </a:r>
            <a:r>
              <a:rPr b="1" lang="ar-SA" sz="3200" spc="-1" strike="noStrike">
                <a:solidFill>
                  <a:srgbClr val="000000"/>
                </a:solidFill>
                <a:latin typeface="Arial"/>
              </a:rPr>
              <a:t>110</a:t>
            </a:r>
            <a:r>
              <a:rPr b="1" lang="ar-SA" sz="3200" spc="-1" strike="noStrike">
                <a:solidFill>
                  <a:srgbClr val="000000"/>
                </a:solidFill>
                <a:latin typeface="Arial"/>
              </a:rPr>
              <a:t> أجريت له عملية جراحية بتر فيها جزء كبير من الجانب الأيسر للفص الجبهي الدماغي ورغم ذالك فقد ظلت نسبة ذكائه كما هي لم تتغير بعد إجراء العملية الجراحية.</a:t>
            </a:r>
            <a:endParaRPr b="0" lang="en-US" sz="3200" spc="-1" strike="noStrike">
              <a:solidFill>
                <a:srgbClr val="000000"/>
              </a:solidFill>
              <a:latin typeface="Arial"/>
            </a:endParaRPr>
          </a:p>
          <a:p>
            <a:pPr marL="240120" indent="-24012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0560-FF35-48C9-B906-07670A967094}"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على هذا النهج  كان  يتلخص مفهوم بينة للذكاء على إنا هناك فرق بين النشاط العقلي ومستوى النشاط العقلي. فعدد الخلايا وتعقدها قد يوثر على النشاط العقلي ولكنها لا تؤثر على مستوى النشاط العقلي  أي لا يؤثر على نسبة الذكاء .</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D241-2921-4986-8039-A242C276C232}"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المفهوم الاجتماعي للذكاء </a:t>
            </a:r>
            <a:endParaRPr b="0" lang="en-US" sz="5000" spc="-1" strike="noStrike">
              <a:solidFill>
                <a:srgbClr val="04617b"/>
              </a:solidFill>
              <a:latin typeface="Arial"/>
            </a:endParaRPr>
          </a:p>
        </p:txBody>
      </p:sp>
      <p:sp>
        <p:nvSpPr>
          <p:cNvPr id="272" name=""/>
          <p:cNvSpPr txBox="1"/>
          <p:nvPr/>
        </p:nvSpPr>
        <p:spPr>
          <a:xfrm>
            <a:off x="457200" y="1714320"/>
            <a:ext cx="8229600" cy="4609800"/>
          </a:xfrm>
          <a:prstGeom prst="rect">
            <a:avLst/>
          </a:prstGeom>
          <a:noFill/>
          <a:ln w="0">
            <a:noFill/>
          </a:ln>
        </p:spPr>
        <p:txBody>
          <a:bodyPr anchor="t">
            <a:normAutofit fontScale="84000"/>
          </a:bodyPr>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يش الإنسان في المجتمع ويتفاعل معه ويؤثر فيه ويتأثر به فتنشى علاقات اجتماعية بينة وبين الأخيرين ومما لا شك فيه إن الذكاء وثيق الصلة بعد نجاح الفرد وتكيفه في الحياة الاجتماعية.</a:t>
            </a:r>
            <a:endParaRPr b="0" lang="en-US" sz="3200" spc="-1" strike="noStrike">
              <a:solidFill>
                <a:srgbClr val="000000"/>
              </a:solidFill>
              <a:latin typeface="Arial"/>
            </a:endParaRPr>
          </a:p>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رى (( دول – </a:t>
            </a:r>
            <a:r>
              <a:rPr b="1" lang="en-US" sz="3200" spc="-1" strike="noStrike">
                <a:solidFill>
                  <a:srgbClr val="000000"/>
                </a:solidFill>
                <a:latin typeface="Arial"/>
              </a:rPr>
              <a:t>E.A.DOLL</a:t>
            </a:r>
            <a:r>
              <a:rPr b="1" lang="ar-SA" sz="3200" spc="-1" strike="noStrike">
                <a:solidFill>
                  <a:srgbClr val="000000"/>
                </a:solidFill>
                <a:latin typeface="Arial"/>
              </a:rPr>
              <a:t> )) أهمية الذكاء في الكفاح الاجتماعي للفرد فلكي يكون الفرد ناجحا َ فان هذا يتطلب مستوى عالي من الذكاء وقد اعد دول اختبار لقياس الكفاح الاجتماعي وقد أكد ثورندايك المفهوم الاجتماعي للذكاء إذ قسمه إلي الأنواع الثلاثة الآتية :</a:t>
            </a:r>
            <a:endParaRPr b="0" lang="en-US" sz="3200" spc="-1" strike="noStrike">
              <a:solidFill>
                <a:srgbClr val="000000"/>
              </a:solidFill>
              <a:latin typeface="Arial"/>
            </a:endParaRPr>
          </a:p>
          <a:p>
            <a:pPr marL="228960" indent="-22896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0DED5-82A7-4B3A-9D25-1188C7146EA6}"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457200" y="1934640"/>
            <a:ext cx="8229600" cy="4389480"/>
          </a:xfrm>
          <a:prstGeom prst="rect">
            <a:avLst/>
          </a:prstGeom>
          <a:noFill/>
          <a:ln w="0">
            <a:noFill/>
          </a:ln>
        </p:spPr>
        <p:txBody>
          <a:bodyPr anchor="t">
            <a:normAutofit fontScale="92000"/>
          </a:bodyPr>
          <a:p>
            <a:pPr marL="250920" indent="-2509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a:solidFill>
                  <a:srgbClr val="000000"/>
                </a:solidFill>
                <a:latin typeface="Arial"/>
              </a:rPr>
              <a:t>- الذكاء المجرد: ويتألف من القدرات التي يصنعها الفرد في معالجة المعاني والرموز من ألفاظ وأرقام.</a:t>
            </a:r>
            <a:endParaRPr b="0" lang="en-US" sz="3200" spc="-1" strike="noStrike">
              <a:solidFill>
                <a:srgbClr val="000000"/>
              </a:solidFill>
              <a:latin typeface="Arial"/>
            </a:endParaRPr>
          </a:p>
          <a:p>
            <a:pPr marL="250920" indent="-2509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 الذكاء العملي : ويتألف من القدرات التي تعالج بها الإفراد الأشياء المحسوسة وذالك كما يبدو في المهارات العملية والميكانيكية .</a:t>
            </a:r>
            <a:endParaRPr b="0" lang="en-US" sz="3200" spc="-1" strike="noStrike">
              <a:solidFill>
                <a:srgbClr val="000000"/>
              </a:solidFill>
              <a:latin typeface="Arial"/>
            </a:endParaRPr>
          </a:p>
          <a:p>
            <a:pPr marL="250920" indent="-2509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3</a:t>
            </a:r>
            <a:r>
              <a:rPr b="1" lang="ar-SA" sz="3200" spc="-1" strike="noStrike">
                <a:solidFill>
                  <a:srgbClr val="000000"/>
                </a:solidFill>
                <a:latin typeface="Arial"/>
              </a:rPr>
              <a:t>- الذكاء الاجتماعي : ويتألف من تلك القدرات التي تبدو في التعامل مع الناس وفهمهم والتفاعل والتوافق معهم .</a:t>
            </a:r>
            <a:endParaRPr b="0" lang="en-US" sz="3200" spc="-1" strike="noStrike">
              <a:solidFill>
                <a:srgbClr val="000000"/>
              </a:solidFill>
              <a:latin typeface="Arial"/>
            </a:endParaRPr>
          </a:p>
          <a:p>
            <a:pPr marL="250920" indent="-25092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6F279-8A68-4EF0-AE98-95934BAE4365}"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Arial"/>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من الملاحظات من هذه الأنواع الثلاثة متميزة ومستقلة عن بعضها إلي حدا ما فقد يكون الفرد مستوى عاليا في مستوى الذكاء العملي ولكن متوسط  أو اقل من المتوسط في الذكاء المجرد أو الذكاء الاجتماعي  والعكس قد يكون صحيح.</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1C19-7A65-4C86-B672-09A1B2EC27BB}"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المفهوم الإجرائي للذكاء </a:t>
            </a:r>
            <a:endParaRPr b="0" lang="en-US" sz="5000" spc="-1" strike="noStrike">
              <a:solidFill>
                <a:srgbClr val="04617b"/>
              </a:solidFill>
              <a:latin typeface="Arial"/>
            </a:endParaRPr>
          </a:p>
        </p:txBody>
      </p:sp>
      <p:sp>
        <p:nvSpPr>
          <p:cNvPr id="280" name=""/>
          <p:cNvSpPr txBox="1"/>
          <p:nvPr/>
        </p:nvSpPr>
        <p:spPr>
          <a:xfrm>
            <a:off x="457200" y="1934640"/>
            <a:ext cx="8400960" cy="4389480"/>
          </a:xfrm>
          <a:prstGeom prst="rect">
            <a:avLst/>
          </a:prstGeom>
          <a:noFill/>
          <a:ln w="0">
            <a:noFill/>
          </a:ln>
        </p:spPr>
        <p:txBody>
          <a:bodyPr anchor="t">
            <a:normAutofit fontScale="85000"/>
          </a:bodyPr>
          <a:p>
            <a:pPr marL="231840" indent="-2318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مفهوم الإجرائي لأي ظاهر علمية يستخدم الطرق والخطوات التجريبية التي تكشف عن الظاهرة وتوضح أبعادها بموضوعية. وبذلك يبعدان الذاتية الوصفية عن الظاهرة.</a:t>
            </a:r>
            <a:endParaRPr b="0" lang="en-US" sz="3200" spc="-1" strike="noStrike">
              <a:solidFill>
                <a:srgbClr val="000000"/>
              </a:solidFill>
              <a:latin typeface="Arial"/>
            </a:endParaRPr>
          </a:p>
          <a:p>
            <a:pPr marL="231840" indent="-2318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للمفهوم الإجرائي مزايا وعيوب فمن المزايا انه استخدم التجربة في القياس وهذا حدد المسار العملي موضوعياَ ويبعد الظاهر عن الوصف  والألفاظ ومن عيوبه المغالاة والتركيز على الجانب التجريبي فالجانب التجريبي وسيلة للوصول إلي الحقيقة وليس غاية في حد ذاته .</a:t>
            </a:r>
            <a:endParaRPr b="0" lang="en-US" sz="3200" spc="-1" strike="noStrike">
              <a:solidFill>
                <a:srgbClr val="000000"/>
              </a:solidFill>
              <a:latin typeface="Arial"/>
            </a:endParaRPr>
          </a:p>
          <a:p>
            <a:pPr marL="231840" indent="-23184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159EE-190F-4F6F-B3D5-47003209DC8A}"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57200" y="1934640"/>
            <a:ext cx="8229600" cy="4389480"/>
          </a:xfrm>
          <a:prstGeom prst="rect">
            <a:avLst/>
          </a:prstGeom>
          <a:noFill/>
          <a:ln w="0">
            <a:noFill/>
          </a:ln>
        </p:spPr>
        <p:txBody>
          <a:bodyPr anchor="t">
            <a:normAutofit fontScale="86000"/>
          </a:bodyPr>
          <a:p>
            <a:pPr marL="234360" indent="-2343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العلم لا يعني جمع الحقائق العلمية المتصلة بالظاهر فحسب بل الأهم من ذلك هو تنظيم الحقائق وتصنيفها في نسق عقليا متكامل يسفر عن الأفكار الرئيسية والقوانين العلمية التي توضح الظاهر المدروسة وإبعادها وتحقيق التنبؤ بالظواهر المقبلة والتي تتصل بالظاهر المدروسة وقوانينها.</a:t>
            </a:r>
            <a:endParaRPr b="0" lang="en-US" sz="3200" spc="-1" strike="noStrike">
              <a:solidFill>
                <a:srgbClr val="000000"/>
              </a:solidFill>
              <a:latin typeface="Arial"/>
            </a:endParaRPr>
          </a:p>
          <a:p>
            <a:pPr marL="234360" indent="-2343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المفهوم الإجرائي لذكاء : يدل على أهمية الوسائل التجريبية في التحديد الموضوعي لمعنى الذكاء. </a:t>
            </a:r>
            <a:endParaRPr b="0" lang="en-US" sz="3200" spc="-1" strike="noStrike">
              <a:solidFill>
                <a:srgbClr val="000000"/>
              </a:solidFill>
              <a:latin typeface="Arial"/>
            </a:endParaRPr>
          </a:p>
        </p:txBody>
      </p:sp>
      <p:sp>
        <p:nvSpPr>
          <p:cNvPr id="28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E7FFE-FCE9-4FAA-BCE5-2FEF9DC66754}"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في الحضارة الإغريقية قدم أفلاطون على لسان أستاذه سقراط، في محاورة "الجمهورية"، نظرية حول القدرات العقلية، وتفترض هذه النظرية أنه يمكن تقسيم البشر إلى ثلاث فئات : الحكام ـ الفلاسفة وهم في أعلى سلم القدرات العقلية، يليهم القادة العسكريون، ويأتي العمال والفلاحون في أدنى السلم.</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2D673-B01B-4CFB-B5C9-2226BE751D33}"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1934640"/>
            <a:ext cx="8400960" cy="4389480"/>
          </a:xfrm>
          <a:prstGeom prst="rect">
            <a:avLst/>
          </a:prstGeom>
          <a:noFill/>
          <a:ln w="0">
            <a:noFill/>
          </a:ln>
        </p:spPr>
        <p:txBody>
          <a:bodyPr anchor="t">
            <a:normAutofit fontScale="92000"/>
          </a:bodyPr>
          <a:p>
            <a:pPr marL="250920" indent="-25092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الذكاء في ضوء هذا المفهوم الإجرائي هو ما تقيسه اختبارات الذكاء وعندما نقيس اختبار الذكاء يتطلب الأمر تحديد الاختبار الذي نطبقه وتحديد الطريقة التي يطبق بها هذا الاختبار وإجراء العمليات الحسابية استخراج نسبة الذكاء .</a:t>
            </a:r>
            <a:endParaRPr b="0" lang="en-US" sz="2800" spc="-1" strike="noStrike">
              <a:solidFill>
                <a:srgbClr val="000000"/>
              </a:solidFill>
              <a:latin typeface="Arial"/>
            </a:endParaRPr>
          </a:p>
          <a:p>
            <a:pPr marL="250920" indent="-25092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قد كان ((  ثيروستون – </a:t>
            </a:r>
            <a:r>
              <a:rPr b="1" lang="en-US" sz="2800" spc="-1" strike="noStrike">
                <a:solidFill>
                  <a:srgbClr val="000000"/>
                </a:solidFill>
                <a:latin typeface="Arial"/>
              </a:rPr>
              <a:t>L.L.THURSTONE</a:t>
            </a:r>
            <a:r>
              <a:rPr b="1" lang="ar-SA" sz="2800" spc="-1" strike="noStrike">
                <a:solidFill>
                  <a:srgbClr val="000000"/>
                </a:solidFill>
                <a:latin typeface="Arial"/>
              </a:rPr>
              <a:t> )) قريب في تفكيره إلي المفهوم الإجرائي لذكاء بتحليله جوانب النشاط العقلي المعرفي إلي عوامل رئيسية سمها قدرات أولية طائفية وبذالك يصبح الذكاء بهذا المعنى محصلة اختبارات التي تقيس تلك القدرات .</a:t>
            </a:r>
            <a:endParaRPr b="0" lang="en-US" sz="2800" spc="-1" strike="noStrike">
              <a:solidFill>
                <a:srgbClr val="000000"/>
              </a:solidFill>
              <a:latin typeface="Arial"/>
            </a:endParaRPr>
          </a:p>
          <a:p>
            <a:pPr marL="250920" indent="-25092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EADAE-E199-4F3C-865E-EC86291B7614}"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تلخيص</a:t>
            </a:r>
            <a:endParaRPr b="0" lang="en-US" sz="5000" spc="-1" strike="noStrike">
              <a:solidFill>
                <a:srgbClr val="04617b"/>
              </a:solidFill>
              <a:latin typeface="Arial"/>
            </a:endParaRPr>
          </a:p>
        </p:txBody>
      </p:sp>
      <p:sp>
        <p:nvSpPr>
          <p:cNvPr id="287" name=""/>
          <p:cNvSpPr txBox="1"/>
          <p:nvPr/>
        </p:nvSpPr>
        <p:spPr>
          <a:xfrm>
            <a:off x="457200" y="1934640"/>
            <a:ext cx="8229600" cy="4389480"/>
          </a:xfrm>
          <a:prstGeom prst="rect">
            <a:avLst/>
          </a:prstGeom>
          <a:noFill/>
          <a:ln w="0">
            <a:noFill/>
          </a:ln>
        </p:spPr>
        <p:txBody>
          <a:bodyPr anchor="t">
            <a:normAutofit fontScale="85000"/>
          </a:bodyPr>
          <a:p>
            <a:pPr marL="231840" indent="-2318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مما سبق عرضة نجد إن هذه المفاهيم المتنوعة تتعدد بتعدد وظائف الذكاء واتساع مجاله فنرى إن المفهوم الفلسفي يشمل جوانب النشاط العقلي المعرفي وان المفهوم البيولوجي يركز عن أهمية الذكاء بالنسبة للتكيف وان المفهوم الفسيولوجي يهتم بالتكامل الوظيفي للجهاز العصبي وان المفهوم الاجتماعي يستخدم الذكاء على أساس نجاح الفرد الاجتماعي وان المفهوم الإجرائي يعطي أهمية للطريق والوسائل التجريبية في تحديد معنى الذكاء الموضوعي.</a:t>
            </a:r>
            <a:endParaRPr b="0" lang="en-US" sz="3200" spc="-1" strike="noStrike">
              <a:solidFill>
                <a:srgbClr val="000000"/>
              </a:solidFill>
              <a:latin typeface="Arial"/>
            </a:endParaRPr>
          </a:p>
          <a:p>
            <a:pPr marL="231840" indent="-23184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22691-8F7C-4888-8A25-1CC894DE2031}"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ar-SA" sz="5000" spc="-1" strike="noStrike">
                <a:solidFill>
                  <a:srgbClr val="04617b"/>
                </a:solidFill>
                <a:latin typeface="Arial"/>
              </a:rPr>
              <a:t>تعريفات الذكاء </a:t>
            </a:r>
            <a:endParaRPr b="0" lang="en-US" sz="5000" spc="-1" strike="noStrike">
              <a:solidFill>
                <a:srgbClr val="04617b"/>
              </a:solidFill>
              <a:latin typeface="Arial"/>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التعريف اللغوي للذكاء </a:t>
            </a:r>
            <a:endParaRPr b="0" lang="en-US" sz="2600" spc="-1" strike="noStrike">
              <a:solidFill>
                <a:srgbClr val="000000"/>
              </a:solidFill>
              <a:latin typeface="Arial"/>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رف الذكاء في المعاجم اللغوية العربية  بأنه هو:" حدة القلب والقلب هنا يعني العقل الذي هو أداة الفكر و يقال ذكا النار أي رفعها ورجل ذكي أي سريع الفهم". </a:t>
            </a:r>
            <a:endParaRPr b="0" lang="en-US" sz="3200" spc="-1" strike="noStrike">
              <a:solidFill>
                <a:srgbClr val="000000"/>
              </a:solidFill>
              <a:latin typeface="Arial"/>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84B82-D001-4C04-96BA-86ECB65786DB}"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457200" y="1934640"/>
            <a:ext cx="8229600" cy="4389480"/>
          </a:xfrm>
          <a:prstGeom prst="rect">
            <a:avLst/>
          </a:prstGeom>
          <a:noFill/>
          <a:ln w="0">
            <a:noFill/>
          </a:ln>
        </p:spPr>
        <p:txBody>
          <a:bodyPr anchor="t">
            <a:normAutofit fontScale="84000"/>
          </a:bodyPr>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ينما اختلف علماء النفس في نظرتهم للذكاء وتعدد مفاهيمهم  له حتى أصبح تعريف المصطلح مشكلة لعدم وجود اتفاق موحد للتعريف وينظر إليه بعض العلماء على انه إدراك العلاقات بين الأشياء أو الأفكار في حين البعض الأخير ينظر إلية على انه القدرة ما قد تعلم الإنسان أو قد يفهمه في ظروف أو حالات جديدة. </a:t>
            </a:r>
            <a:endParaRPr b="0" lang="en-US" sz="3200" spc="-1" strike="noStrike">
              <a:solidFill>
                <a:srgbClr val="000000"/>
              </a:solidFill>
              <a:latin typeface="Arial"/>
            </a:endParaRPr>
          </a:p>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معظم هذه التعارف كانت تدور حول وصف الذكاء وتأكيد عملية التعلم وبعضها كان يدور حول عملية التفكير أو التكيف. </a:t>
            </a:r>
            <a:endParaRPr b="0" lang="en-US" sz="3200" spc="-1" strike="noStrike">
              <a:solidFill>
                <a:srgbClr val="000000"/>
              </a:solidFill>
              <a:latin typeface="Arial"/>
            </a:endParaRPr>
          </a:p>
          <a:p>
            <a:pPr marL="228960" indent="-22896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DE94B-3D50-4B47-8A72-C26539E850EA}"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7200" y="1934640"/>
            <a:ext cx="8229600" cy="4389480"/>
          </a:xfrm>
          <a:prstGeom prst="rect">
            <a:avLst/>
          </a:prstGeom>
          <a:noFill/>
          <a:ln w="0">
            <a:noFill/>
          </a:ln>
        </p:spPr>
        <p:txBody>
          <a:bodyPr anchor="t">
            <a:normAutofit fontScale="85000"/>
          </a:bodyPr>
          <a:p>
            <a:pPr marL="231840" indent="-2318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فالعالم شترن الألماني   يرى في إن  الذكاء هو القدرة على التكيف المقصود حيال الظروف الجديدة.</a:t>
            </a:r>
            <a:endParaRPr b="0" lang="en-US" sz="2800" spc="-1" strike="noStrike">
              <a:solidFill>
                <a:srgbClr val="000000"/>
              </a:solidFill>
              <a:latin typeface="Arial"/>
            </a:endParaRPr>
          </a:p>
          <a:p>
            <a:pPr marL="231840" indent="-2318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رى (( كلفين - </a:t>
            </a:r>
            <a:r>
              <a:rPr b="1" lang="en-US" sz="2800" spc="-1" strike="noStrike">
                <a:solidFill>
                  <a:srgbClr val="000000"/>
                </a:solidFill>
                <a:latin typeface="Arial"/>
              </a:rPr>
              <a:t>COLVIN</a:t>
            </a:r>
            <a:r>
              <a:rPr b="1" lang="ar-SA" sz="2800" spc="-1" strike="noStrike">
                <a:solidFill>
                  <a:srgbClr val="000000"/>
                </a:solidFill>
                <a:latin typeface="Arial"/>
              </a:rPr>
              <a:t> )) انه القدرة على التعلم التكيف للبيئة.</a:t>
            </a:r>
            <a:endParaRPr b="0" lang="en-US" sz="2800" spc="-1" strike="noStrike">
              <a:solidFill>
                <a:srgbClr val="000000"/>
              </a:solidFill>
              <a:latin typeface="Arial"/>
            </a:endParaRPr>
          </a:p>
          <a:p>
            <a:pPr marL="231840" indent="-2318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رى (( وودرو – </a:t>
            </a:r>
            <a:r>
              <a:rPr b="1" lang="en-US" sz="2800" spc="-1" strike="noStrike">
                <a:solidFill>
                  <a:srgbClr val="000000"/>
                </a:solidFill>
                <a:latin typeface="Arial"/>
              </a:rPr>
              <a:t>WOODRAW</a:t>
            </a:r>
            <a:r>
              <a:rPr b="1" lang="ar-SA" sz="2800" spc="-1" strike="noStrike">
                <a:solidFill>
                  <a:srgbClr val="000000"/>
                </a:solidFill>
                <a:latin typeface="Arial"/>
              </a:rPr>
              <a:t> )) هو القدرة على كسب الخبرات </a:t>
            </a:r>
            <a:endParaRPr b="0" lang="en-US" sz="2800" spc="-1" strike="noStrike">
              <a:solidFill>
                <a:srgbClr val="000000"/>
              </a:solidFill>
              <a:latin typeface="Arial"/>
            </a:endParaRPr>
          </a:p>
          <a:p>
            <a:pPr marL="231840" indent="-2318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عريف (( ادورادرز – </a:t>
            </a:r>
            <a:r>
              <a:rPr b="1" lang="en-US" sz="2800" spc="-1" strike="noStrike">
                <a:solidFill>
                  <a:srgbClr val="000000"/>
                </a:solidFill>
                <a:latin typeface="Arial"/>
              </a:rPr>
              <a:t>EDWARDS</a:t>
            </a:r>
            <a:r>
              <a:rPr b="1" lang="ar-SA" sz="2800" spc="-1" strike="noStrike">
                <a:solidFill>
                  <a:srgbClr val="000000"/>
                </a:solidFill>
                <a:latin typeface="Arial"/>
              </a:rPr>
              <a:t> )) على الذكاء هو القدرة على تغيير الأداء .</a:t>
            </a:r>
            <a:endParaRPr b="0" lang="en-US" sz="2800" spc="-1" strike="noStrike">
              <a:solidFill>
                <a:srgbClr val="000000"/>
              </a:solidFill>
              <a:latin typeface="Arial"/>
            </a:endParaRPr>
          </a:p>
          <a:p>
            <a:pPr marL="231840" indent="-2318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في نفس مفهوم كافين يرى كرالك إن الغرض الأساسي للعقل هو تمكين الفرد إن يكيف نفسه مع بيئته . </a:t>
            </a:r>
            <a:endParaRPr b="0" lang="en-US" sz="2800" spc="-1" strike="noStrike">
              <a:solidFill>
                <a:srgbClr val="000000"/>
              </a:solidFill>
              <a:latin typeface="Arial"/>
            </a:endParaRPr>
          </a:p>
          <a:p>
            <a:pPr marL="231840" indent="-23184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9EA2-88D3-4451-B154-BC76A567A336}"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57200" y="1934640"/>
            <a:ext cx="8229600" cy="4389480"/>
          </a:xfrm>
          <a:prstGeom prst="rect">
            <a:avLst/>
          </a:prstGeom>
          <a:noFill/>
          <a:ln w="0">
            <a:noFill/>
          </a:ln>
        </p:spPr>
        <p:txBody>
          <a:bodyPr anchor="t">
            <a:normAutofit fontScale="77000"/>
          </a:bodyPr>
          <a:p>
            <a:pPr marL="209880" indent="-209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ما التعريفات التي تدور حول التفكير قد بين هرنجرانم بعض مناهج الذكاء  تؤكد عملية التفكير وما ينطوي علية من استدلال استقرائي أو استنباطي.</a:t>
            </a:r>
            <a:endParaRPr b="0" lang="en-US" sz="3200" spc="-1" strike="noStrike">
              <a:solidFill>
                <a:srgbClr val="000000"/>
              </a:solidFill>
              <a:latin typeface="Arial"/>
            </a:endParaRPr>
          </a:p>
          <a:p>
            <a:pPr marL="209880" indent="-209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ما تريمان فيرى إن الذكاء هو القدرة على التفكير المجرد.</a:t>
            </a:r>
            <a:endParaRPr b="0" lang="en-US" sz="3200" spc="-1" strike="noStrike">
              <a:solidFill>
                <a:srgbClr val="000000"/>
              </a:solidFill>
              <a:latin typeface="Arial"/>
            </a:endParaRPr>
          </a:p>
          <a:p>
            <a:pPr marL="209880" indent="-209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رى سبيرمان  إن الذكاء هو القدرة على تجريد العلاقات والمتعلقات بعني أخرى الاستقراء والاستنباط. </a:t>
            </a:r>
            <a:endParaRPr b="0" lang="en-US" sz="3200" spc="-1" strike="noStrike">
              <a:solidFill>
                <a:srgbClr val="000000"/>
              </a:solidFill>
              <a:latin typeface="Arial"/>
            </a:endParaRPr>
          </a:p>
          <a:p>
            <a:pPr marL="209880" indent="-209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عرفه بينية  على انه القدرة على الفهم والابتكار والتوجيه الهادف للسلوك والنقد الذاتي.</a:t>
            </a:r>
            <a:endParaRPr b="0" lang="en-US" sz="3200" spc="-1" strike="noStrike">
              <a:solidFill>
                <a:srgbClr val="000000"/>
              </a:solidFill>
              <a:latin typeface="Arial"/>
            </a:endParaRPr>
          </a:p>
        </p:txBody>
      </p:sp>
      <p:sp>
        <p:nvSpPr>
          <p:cNvPr id="29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D6AFA-B98B-432D-B84E-1AC06A18EC94}"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عريف ميومان للذكاء انه الاستعداد العالم للتفكير الاستقلالي ألابتكاري الإنتاجي. </a:t>
            </a:r>
            <a:endParaRPr b="0" lang="en-US" sz="2800" spc="-1" strike="noStrike">
              <a:solidFill>
                <a:srgbClr val="000000"/>
              </a:solidFill>
              <a:latin typeface="Arial"/>
            </a:endParaRPr>
          </a:p>
          <a:p>
            <a:pPr marL="240120" indent="-24012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ما ركس نايت  فيعرف الذكاء بأنه القدرة على استدعاء الأفكار المناسبة المتجهة نحو غاية فالذكاء في نظره هو العامل الذي يدخل في جميع أنواع تفكيرنا وهو عبارة عن القدرة على اكتشاف العلاقات الملائمة والقدرة على استنتاج القدرات الملائمة.</a:t>
            </a:r>
            <a:endParaRPr b="0" lang="en-US" sz="2800" spc="-1" strike="noStrike">
              <a:solidFill>
                <a:srgbClr val="000000"/>
              </a:solidFill>
              <a:latin typeface="Arial"/>
            </a:endParaRPr>
          </a:p>
          <a:p>
            <a:pPr marL="240120" indent="-24012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عرف وكسلر الذكاء بأنه القدرة الكلية لدى الفرد على التعرف الهادف والتفكير المنطقي والتعامل المجد مع البيئة .</a:t>
            </a:r>
            <a:endParaRPr b="0" lang="en-US" sz="2800" spc="-1" strike="noStrike">
              <a:solidFill>
                <a:srgbClr val="000000"/>
              </a:solidFill>
              <a:latin typeface="Arial"/>
            </a:endParaRPr>
          </a:p>
          <a:p>
            <a:pPr marL="240120" indent="-24012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483F6-34A3-4EC0-93EB-33007947C0E7}"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00040" y="785880"/>
            <a:ext cx="8229600" cy="71424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خاتمة </a:t>
            </a:r>
            <a:endParaRPr b="0" lang="en-US" sz="5000" spc="-1" strike="noStrike">
              <a:solidFill>
                <a:srgbClr val="04617b"/>
              </a:solidFill>
              <a:latin typeface="Arial"/>
            </a:endParaRPr>
          </a:p>
        </p:txBody>
      </p:sp>
      <p:sp>
        <p:nvSpPr>
          <p:cNvPr id="301" name=""/>
          <p:cNvSpPr txBox="1"/>
          <p:nvPr/>
        </p:nvSpPr>
        <p:spPr>
          <a:xfrm>
            <a:off x="457200" y="1499760"/>
            <a:ext cx="8229600" cy="4824360"/>
          </a:xfrm>
          <a:prstGeom prst="rect">
            <a:avLst/>
          </a:prstGeom>
          <a:noFill/>
          <a:ln w="0">
            <a:noFill/>
          </a:ln>
        </p:spPr>
        <p:txBody>
          <a:bodyPr anchor="t">
            <a:normAutofit fontScale="84000"/>
          </a:bodyPr>
          <a:p>
            <a:pPr marL="228960" indent="-22896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ن هذه التعريفات تؤكد على توافق الفرد مع بيئته وقدرته على التعلم والتفكير المجرد واستعمال المفاهيم والرموز . واضح إنا هذه التعريفات متداخلة ولا يوجد منها تعريف جامع مانع فيمكن اعتبار القدرة على التوافق مع البيئة أو المواقف الجديدة والقدرة على التعلم والقدرة على التفكير المجرد مظاهر لشيء واحد هو الذكاء .</a:t>
            </a:r>
            <a:endParaRPr b="0" lang="en-US" sz="2800" spc="-1" strike="noStrike">
              <a:solidFill>
                <a:srgbClr val="000000"/>
              </a:solidFill>
              <a:latin typeface="Arial"/>
            </a:endParaRPr>
          </a:p>
          <a:p>
            <a:pPr marL="228960" indent="-22896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إما المفهوم الإجرائي للذكاء كما أوضحنا فيدل على الوسائل التجريبية  في التحديد للموضوعية لمعنى الذكاء فالمفهوم النفسي التجريبي للذكاء يوضح خلاصة ما وصلت إلية دراسات العلماء ويحدد أهمية الصفات الأصلية لهذه القدرة العامة المتصلة اتصال مباشرا َ ووثيقا بجميع ميادين الفرد وكيانه الإنساني.</a:t>
            </a:r>
            <a:endParaRPr b="0" lang="en-US" sz="2800" spc="-1" strike="noStrike">
              <a:solidFill>
                <a:srgbClr val="000000"/>
              </a:solidFill>
              <a:latin typeface="Arial"/>
            </a:endParaRPr>
          </a:p>
          <a:p>
            <a:pPr marL="228960" indent="-22896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F930C-0110-40BE-A3BA-A512EFCB7530}"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خلاصة تعريف الذكاء </a:t>
            </a:r>
            <a:endParaRPr b="0" lang="en-US" sz="5000" spc="-1" strike="noStrike">
              <a:solidFill>
                <a:srgbClr val="04617b"/>
              </a:solidFill>
              <a:latin typeface="Arial"/>
            </a:endParaRPr>
          </a:p>
        </p:txBody>
      </p:sp>
      <p:sp>
        <p:nvSpPr>
          <p:cNvPr id="304" name=""/>
          <p:cNvSpPr txBox="1"/>
          <p:nvPr/>
        </p:nvSpPr>
        <p:spPr>
          <a:xfrm>
            <a:off x="457200" y="1934640"/>
            <a:ext cx="8229600" cy="4389480"/>
          </a:xfrm>
          <a:prstGeom prst="rect">
            <a:avLst/>
          </a:prstGeom>
          <a:noFill/>
          <a:ln w="0">
            <a:noFill/>
          </a:ln>
        </p:spPr>
        <p:txBody>
          <a:bodyPr anchor="t">
            <a:normAutofit fontScale="93000"/>
          </a:bodyPr>
          <a:p>
            <a:pPr marL="253440" indent="-2534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ختلف علماء النفس في تعريف الذكاء ،ويمكن تصنيف التعريفات التي وضعوها إلى خمسة أنواع :</a:t>
            </a:r>
            <a:endParaRPr b="0" lang="en-US" sz="2800" spc="-1" strike="noStrike">
              <a:solidFill>
                <a:srgbClr val="000000"/>
              </a:solidFill>
              <a:latin typeface="Arial"/>
            </a:endParaRPr>
          </a:p>
          <a:p>
            <a:pPr marL="253440" indent="-253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1</a:t>
            </a:r>
            <a:r>
              <a:rPr b="1" lang="ar-SA" sz="2800" spc="-1" strike="noStrike">
                <a:solidFill>
                  <a:srgbClr val="000000"/>
                </a:solidFill>
                <a:latin typeface="Arial"/>
              </a:rPr>
              <a:t> – تعريفات تؤكد على تكيف الفرد مع الظروف التي يعيش فيها ومنها تعريف شترن : بأنه القدرة على التكيف العقلي مع الحياة وظروفها الجديدة .</a:t>
            </a:r>
            <a:endParaRPr b="0" lang="en-US" sz="2800" spc="-1" strike="noStrike">
              <a:solidFill>
                <a:srgbClr val="000000"/>
              </a:solidFill>
              <a:latin typeface="Arial"/>
            </a:endParaRPr>
          </a:p>
          <a:p>
            <a:pPr marL="253440" indent="-253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2</a:t>
            </a:r>
            <a:r>
              <a:rPr b="1" lang="ar-SA" sz="2800" spc="-1" strike="noStrike">
                <a:solidFill>
                  <a:srgbClr val="000000"/>
                </a:solidFill>
                <a:latin typeface="Arial"/>
              </a:rPr>
              <a:t> - تعريفات تؤكد على القدرة على التعلم ومنها تعريف جودرد :بأنه القدرة على الاستفادة من الخبرة السابقة في حل المشكلات الجديدة .</a:t>
            </a:r>
            <a:endParaRPr b="0" lang="en-US" sz="2800" spc="-1" strike="noStrike">
              <a:solidFill>
                <a:srgbClr val="000000"/>
              </a:solidFill>
              <a:latin typeface="Arial"/>
            </a:endParaRPr>
          </a:p>
          <a:p>
            <a:pPr marL="253440" indent="-2534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3</a:t>
            </a:r>
            <a:r>
              <a:rPr b="1" lang="ar-SA" sz="2800" spc="-1" strike="noStrike">
                <a:solidFill>
                  <a:srgbClr val="000000"/>
                </a:solidFill>
                <a:latin typeface="Arial"/>
              </a:rPr>
              <a:t> - تعريفات تؤكد على القدرة على التفكير ومنها تعريف ترمان :بأنه القدرة على التفكير المجرد.</a:t>
            </a:r>
            <a:endParaRPr b="0" lang="en-US" sz="2800" spc="-1" strike="noStrike">
              <a:solidFill>
                <a:srgbClr val="000000"/>
              </a:solidFill>
              <a:latin typeface="Arial"/>
            </a:endParaRPr>
          </a:p>
          <a:p>
            <a:pPr marL="253440" indent="-25344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4BC3A-496C-4BDD-8648-F105789A70A6}"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7200" y="1934640"/>
            <a:ext cx="8229600" cy="4389480"/>
          </a:xfrm>
          <a:prstGeom prst="rect">
            <a:avLst/>
          </a:prstGeom>
          <a:noFill/>
          <a:ln w="0">
            <a:noFill/>
          </a:ln>
        </p:spPr>
        <p:txBody>
          <a:bodyPr anchor="t">
            <a:normAutofit fontScale="78000"/>
          </a:bodyPr>
          <a:p>
            <a:pPr marL="212760" indent="-212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4</a:t>
            </a:r>
            <a:r>
              <a:rPr b="1" lang="ar-SA" sz="2800" spc="-1" strike="noStrike">
                <a:solidFill>
                  <a:srgbClr val="000000"/>
                </a:solidFill>
                <a:latin typeface="Arial"/>
              </a:rPr>
              <a:t> - تعريفات أكثر شمولا ،وتجمع مجموعة من الوظائف العقلية التي يتسم بها السلوك الذكي ، ومنها تعريف وكسلر :بأنه القدرة الكلية لدى الفرد على التصرف الهادف ،والتفكير المنطقي، والتعامل المجدي مع البيئة . وكذلك تعريف ستودارد : الذكاء هو القدرة على القيام بأوجه من النشاط تتميز بما يأتي : الصعوبة – التعقد  – التجربة  – الاقتصاد  – الاندفاع نحو هدف  – القيمة الاجتماعية  – ظهور الابتكارات ،والاحتفاظ بهذه الأوجه من النشاط تحت ظروف تتطلب تركيز الجهد ومقاومة العوامل الانفعالية.</a:t>
            </a:r>
            <a:endParaRPr b="0" lang="en-US" sz="2800" spc="-1" strike="noStrike">
              <a:solidFill>
                <a:srgbClr val="000000"/>
              </a:solidFill>
              <a:latin typeface="Arial"/>
            </a:endParaRPr>
          </a:p>
          <a:p>
            <a:pPr marL="212760" indent="-212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5</a:t>
            </a:r>
            <a:r>
              <a:rPr b="1" lang="ar-SA" sz="2800" spc="-1" strike="noStrike">
                <a:solidFill>
                  <a:srgbClr val="000000"/>
                </a:solidFill>
                <a:latin typeface="Arial"/>
              </a:rPr>
              <a:t> - تعريفات تحاول حسم الخلاف بتعريف الذكاء تعريفا إجرائيا ،ومنها تعريف بورنج : الذكاء هو ما تقيسه اختبارات الذكاء. </a:t>
            </a:r>
            <a:endParaRPr b="0" lang="en-US" sz="2800" spc="-1" strike="noStrike">
              <a:solidFill>
                <a:srgbClr val="000000"/>
              </a:solidFill>
              <a:latin typeface="Arial"/>
            </a:endParaRPr>
          </a:p>
        </p:txBody>
      </p:sp>
      <p:sp>
        <p:nvSpPr>
          <p:cNvPr id="307"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D5D9E-F59D-432D-A7D8-BF9303436A6E}"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حسب هذه النظرية، فإن هذا التقسيم محدد وراثيًا ، ويتحدد بشكل نهائي عند الميلاد وغير قابل للتغير كطبيعة المعادن ، فالحكام مصنوعون من الذهب، والقادة مصنوعون من الفضة، أما العمال والفلاحون فمصنوعون من الحديد.</a:t>
            </a:r>
            <a:endParaRPr b="0" lang="en-US" sz="3200" spc="-1" strike="noStrike">
              <a:solidFill>
                <a:srgbClr val="000000"/>
              </a:solidFill>
              <a:latin typeface="Arial"/>
            </a:endParaRPr>
          </a:p>
        </p:txBody>
      </p:sp>
      <p:sp>
        <p:nvSpPr>
          <p:cNvPr id="20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FDD0-F0DD-49AE-AE43-6D6DC6D75172}"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285840" y="571320"/>
            <a:ext cx="857232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br>
              <a:rPr sz="5400"/>
            </a:br>
            <a:r>
              <a:rPr b="1" lang="ar-SA" sz="3600" spc="-1" strike="noStrike">
                <a:solidFill>
                  <a:srgbClr val="04617b"/>
                </a:solidFill>
                <a:latin typeface="Arial"/>
              </a:rPr>
              <a:t>تلخيص الجمعية الأمريكية لعلم النفس (</a:t>
            </a:r>
            <a:r>
              <a:rPr b="1" lang="en-US" sz="3600" spc="-1" strike="noStrike">
                <a:solidFill>
                  <a:srgbClr val="04617b"/>
                </a:solidFill>
                <a:latin typeface="Arial"/>
              </a:rPr>
              <a:t>APA</a:t>
            </a:r>
            <a:r>
              <a:rPr b="1" lang="ar-SA" sz="3600" spc="-1" strike="noStrike">
                <a:solidFill>
                  <a:srgbClr val="04617b"/>
                </a:solidFill>
                <a:latin typeface="Arial"/>
              </a:rPr>
              <a:t>) أحدث تعريفات الذكاء</a:t>
            </a:r>
            <a:endParaRPr b="0" lang="en-US" sz="3600" spc="-1" strike="noStrike">
              <a:solidFill>
                <a:srgbClr val="04617b"/>
              </a:solidFill>
              <a:latin typeface="Arial"/>
            </a:endParaRPr>
          </a:p>
        </p:txBody>
      </p:sp>
      <p:sp>
        <p:nvSpPr>
          <p:cNvPr id="309" name=""/>
          <p:cNvSpPr txBox="1"/>
          <p:nvPr/>
        </p:nvSpPr>
        <p:spPr>
          <a:xfrm>
            <a:off x="457200" y="1785600"/>
            <a:ext cx="8400960" cy="4786200"/>
          </a:xfrm>
          <a:prstGeom prst="rect">
            <a:avLst/>
          </a:prstGeom>
          <a:noFill/>
          <a:ln w="0">
            <a:noFill/>
          </a:ln>
        </p:spPr>
        <p:txBody>
          <a:bodyPr anchor="t">
            <a:normAutofit fontScale="91000"/>
          </a:bodyPr>
          <a:p>
            <a:pPr marL="248040" indent="-2480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عام </a:t>
            </a:r>
            <a:r>
              <a:rPr b="1" lang="ar-SA" sz="3200" spc="-1" strike="noStrike">
                <a:solidFill>
                  <a:srgbClr val="000000"/>
                </a:solidFill>
                <a:latin typeface="Arial"/>
              </a:rPr>
              <a:t>1996</a:t>
            </a:r>
            <a:r>
              <a:rPr b="1" lang="ar-SA" sz="3200" spc="-1" strike="noStrike">
                <a:solidFill>
                  <a:srgbClr val="000000"/>
                </a:solidFill>
                <a:latin typeface="Arial"/>
              </a:rPr>
              <a:t>م كلفت الجمعية الأمريكية لعلم النفس (</a:t>
            </a:r>
            <a:r>
              <a:rPr b="1" lang="en-US" sz="3200" spc="-1" strike="noStrike">
                <a:solidFill>
                  <a:srgbClr val="000000"/>
                </a:solidFill>
                <a:latin typeface="Arial"/>
              </a:rPr>
              <a:t>APA</a:t>
            </a:r>
            <a:r>
              <a:rPr b="1" lang="ar-SA" sz="3200" spc="-1" strike="noStrike">
                <a:solidFill>
                  <a:srgbClr val="000000"/>
                </a:solidFill>
                <a:latin typeface="Arial"/>
              </a:rPr>
              <a:t>) </a:t>
            </a:r>
            <a:r>
              <a:rPr b="1" lang="ar-SA" sz="3200" spc="-1" strike="noStrike">
                <a:solidFill>
                  <a:srgbClr val="000000"/>
                </a:solidFill>
                <a:latin typeface="Arial"/>
              </a:rPr>
              <a:t>11</a:t>
            </a:r>
            <a:r>
              <a:rPr b="1" lang="ar-SA" sz="3200" spc="-1" strike="noStrike">
                <a:solidFill>
                  <a:srgbClr val="000000"/>
                </a:solidFill>
                <a:latin typeface="Arial"/>
              </a:rPr>
              <a:t> خبيراً من العاملين في مجال الذكاء والقدرات العقلية وهم (نايسر، بودو، بوشارد، بويكن، برودي، سيسي، هالبيرن، ليهلن، بيرلوف، استيرنبيرج، أوربينا)  بتلخيص المعرفة الحالية في ميدان الذكاء والخروج بأنسب تعريف للشخص الذكي، فكان نتاج هذا الجهد هو أن: </a:t>
            </a:r>
            <a:endParaRPr b="0" lang="en-US" sz="3200" spc="-1" strike="noStrike">
              <a:solidFill>
                <a:srgbClr val="000000"/>
              </a:solidFill>
              <a:latin typeface="Arial"/>
            </a:endParaRPr>
          </a:p>
          <a:p>
            <a:pPr marL="248040" indent="-2480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أذكياء يختلفون عن غيرهم بامتلاكهم ل:</a:t>
            </a:r>
            <a:endParaRPr b="0" lang="en-US" sz="3200" spc="-1" strike="noStrike">
              <a:solidFill>
                <a:srgbClr val="000000"/>
              </a:solidFill>
              <a:latin typeface="Arial"/>
            </a:endParaRPr>
          </a:p>
          <a:p>
            <a:pPr marL="248040" indent="-2480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هم الأفكار المعقدة.</a:t>
            </a:r>
            <a:endParaRPr b="0" lang="en-US" sz="3200" spc="-1" strike="noStrike">
              <a:solidFill>
                <a:srgbClr val="000000"/>
              </a:solidFill>
              <a:latin typeface="Arial"/>
            </a:endParaRPr>
          </a:p>
          <a:p>
            <a:pPr marL="248040" indent="-24804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52540-151F-4955-BACE-5E23056CB581}"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500040" y="1856880"/>
            <a:ext cx="8229600" cy="4389480"/>
          </a:xfrm>
          <a:prstGeom prst="rect">
            <a:avLst/>
          </a:prstGeom>
          <a:noFill/>
          <a:ln w="0">
            <a:noFill/>
          </a:ln>
        </p:spPr>
        <p:txBody>
          <a:bodyPr anchor="t">
            <a:normAutofit fontScale="89000"/>
          </a:bodyPr>
          <a:p>
            <a:pPr marL="242640" indent="-2426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كيف بفعالية مع البيئة.</a:t>
            </a:r>
            <a:endParaRPr b="0" lang="en-US" sz="3200" spc="-1" strike="noStrike">
              <a:solidFill>
                <a:srgbClr val="000000"/>
              </a:solidFill>
              <a:latin typeface="Arial"/>
            </a:endParaRPr>
          </a:p>
          <a:p>
            <a:pPr marL="242640" indent="-2426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تعلمون من التجارب التي مرت بهم.</a:t>
            </a:r>
            <a:endParaRPr b="0" lang="en-US" sz="3200" spc="-1" strike="noStrike">
              <a:solidFill>
                <a:srgbClr val="000000"/>
              </a:solidFill>
              <a:latin typeface="Arial"/>
            </a:endParaRPr>
          </a:p>
          <a:p>
            <a:pPr marL="242640" indent="-2426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انهماك في أنواع مختلفة من التفكير والاستنتاج.</a:t>
            </a:r>
            <a:endParaRPr b="0" lang="en-US" sz="3200" spc="-1" strike="noStrike">
              <a:solidFill>
                <a:srgbClr val="000000"/>
              </a:solidFill>
              <a:latin typeface="Arial"/>
            </a:endParaRPr>
          </a:p>
          <a:p>
            <a:pPr marL="242640" indent="-2426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تخطون العقبات (يتغلبون على المصاعب) باستخدام التفكير. </a:t>
            </a:r>
            <a:endParaRPr b="0" lang="en-US" sz="3200" spc="-1" strike="noStrike">
              <a:solidFill>
                <a:srgbClr val="000000"/>
              </a:solidFill>
              <a:latin typeface="Arial"/>
            </a:endParaRPr>
          </a:p>
          <a:p>
            <a:pPr marL="242640" indent="-2426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الأداء يتأثر بالمصادر الخارجية، وهو ديناميكي (متغير، متحرك)، ويتأثر باختلاف البيئات التعليمية والاجتماعية. </a:t>
            </a:r>
            <a:endParaRPr b="0" lang="en-US" sz="3200" spc="-1" strike="noStrike">
              <a:solidFill>
                <a:srgbClr val="000000"/>
              </a:solidFill>
              <a:latin typeface="Arial"/>
            </a:endParaRPr>
          </a:p>
          <a:p>
            <a:pPr marL="242640" indent="-24264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CEE89-13B9-49E7-BA40-62B9696AF11E}"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571320"/>
            <a:ext cx="8229600" cy="92844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القدرة العامة والقدرات الخاصة </a:t>
            </a:r>
            <a:endParaRPr b="0" lang="en-US" sz="5000" spc="-1" strike="noStrike">
              <a:solidFill>
                <a:srgbClr val="04617b"/>
              </a:solidFill>
              <a:latin typeface="Arial"/>
            </a:endParaRPr>
          </a:p>
        </p:txBody>
      </p:sp>
      <p:sp>
        <p:nvSpPr>
          <p:cNvPr id="314" name=""/>
          <p:cNvSpPr txBox="1"/>
          <p:nvPr/>
        </p:nvSpPr>
        <p:spPr>
          <a:xfrm>
            <a:off x="457200" y="1499760"/>
            <a:ext cx="8229600" cy="4824360"/>
          </a:xfrm>
          <a:prstGeom prst="rect">
            <a:avLst/>
          </a:prstGeom>
          <a:noFill/>
          <a:ln w="0">
            <a:noFill/>
          </a:ln>
        </p:spPr>
        <p:txBody>
          <a:bodyPr anchor="t">
            <a:normAutofit fontScale="88000"/>
          </a:bodyPr>
          <a:p>
            <a:pPr marL="240120" indent="-2401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قدرة العامة : هي الذكاء وهو القدرة الكامنة وراء جميع أساليب النشاط .</a:t>
            </a:r>
            <a:endParaRPr b="0" lang="en-US" sz="3200" spc="-1" strike="noStrike">
              <a:solidFill>
                <a:srgbClr val="000000"/>
              </a:solidFill>
              <a:latin typeface="Arial"/>
            </a:endParaRPr>
          </a:p>
          <a:p>
            <a:pPr marL="240120" indent="-2401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قدرات الخاصة: هي القدرات الكامنة وراء أساليب معينة من النشاط .</a:t>
            </a:r>
            <a:endParaRPr b="0" lang="en-US" sz="3200" spc="-1" strike="noStrike">
              <a:solidFill>
                <a:srgbClr val="000000"/>
              </a:solidFill>
              <a:latin typeface="Arial"/>
            </a:endParaRPr>
          </a:p>
          <a:p>
            <a:pPr marL="240120" indent="-2401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ارتفاع درجة القدرة العامة يصحبه القدرة على القيام بقدرات عقلية خاصة متعددة، كما هو الحال عند الموهوبين، وكذلك انخفاض القدرة العامة يصحبه انخفاض أو تعطل القدرات الخاصة كما يظهر عند ضعاف العقول.</a:t>
            </a:r>
            <a:endParaRPr b="0" lang="en-US" sz="3200" spc="-1" strike="noStrike">
              <a:solidFill>
                <a:srgbClr val="000000"/>
              </a:solidFill>
              <a:latin typeface="Arial"/>
            </a:endParaRPr>
          </a:p>
          <a:p>
            <a:pPr marL="240120" indent="-24012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تختلف القدرات الخاصة في تشبعها بالعامل العام. </a:t>
            </a:r>
            <a:endParaRPr b="0" lang="en-US" sz="2800" spc="-1" strike="noStrike">
              <a:solidFill>
                <a:srgbClr val="000000"/>
              </a:solidFill>
              <a:latin typeface="Arial"/>
            </a:endParaRPr>
          </a:p>
        </p:txBody>
      </p:sp>
      <p:sp>
        <p:nvSpPr>
          <p:cNvPr id="31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B7D5-9213-4425-AE9B-29C753BE5141}"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عنصر نائب لرقم الشريحة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8EA50-9BE7-41ED-BDFB-5292D7F92796}"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graphicFrame>
        <p:nvGraphicFramePr>
          <p:cNvPr id="317" name=""/>
          <p:cNvGraphicFramePr/>
          <p:nvPr/>
        </p:nvGraphicFramePr>
        <p:xfrm>
          <a:off x="571680" y="1643040"/>
          <a:ext cx="7858080" cy="4870440"/>
        </p:xfrm>
        <a:graphic>
          <a:graphicData uri="http://schemas.openxmlformats.org/drawingml/2006/table">
            <a:tbl>
              <a:tblPr/>
              <a:tblGrid>
                <a:gridCol w="3929040"/>
                <a:gridCol w="3929040"/>
              </a:tblGrid>
              <a:tr h="490680">
                <a:tc>
                  <a:txBody>
                    <a:bodyPr lIns="68760" rIns="68760" tIns="0" bIns="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raditional Arabic"/>
                        </a:rPr>
                        <a:t>القدرة</a:t>
                      </a:r>
                      <a:endParaRPr b="0" lang="en-US" sz="2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raditional Arabic"/>
                        </a:rPr>
                        <a:t>الاستعداد</a:t>
                      </a:r>
                      <a:endParaRPr b="0" lang="en-US" sz="2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471320">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raditional Arabic"/>
                        </a:rPr>
                        <a:t>هي تنفيذ هذا الاستعداد في مجال النشاط الخارجي. </a:t>
                      </a:r>
                      <a:endParaRPr b="0" lang="en-US" sz="2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raditional Arabic"/>
                        </a:rPr>
                        <a:t>هو إمكانية نمط معين من أنماط السلوك عند الفرد. </a:t>
                      </a:r>
                      <a:endParaRPr b="0" lang="en-US" sz="2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471320">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raditional Arabic"/>
                        </a:rPr>
                        <a:t>تنشأ عن تفاعل الاستعداد مع النضج والبيئة.</a:t>
                      </a:r>
                      <a:endParaRPr b="0" lang="en-US" sz="2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raditional Arabic"/>
                        </a:rPr>
                        <a:t>الاستعداد سابق للقدرة. </a:t>
                      </a:r>
                      <a:endParaRPr b="0" lang="en-US" sz="2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471320">
                <a:tc>
                  <a:txBody>
                    <a:bodyPr lIns="68760" rIns="68760" tIns="0" bIns="0" anchor="ctr">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raditional Arabic"/>
                        </a:rPr>
                        <a:t>غالبا ما تكون القدرة مركبة من عدة استعدادات. </a:t>
                      </a:r>
                      <a:endParaRPr b="0" lang="en-US" sz="2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Traditional Arabic"/>
                        </a:rPr>
                        <a:t>-</a:t>
                      </a:r>
                      <a:endParaRPr b="0" lang="en-US" sz="2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8" name="Rectangle 1"/>
          <p:cNvSpPr/>
          <p:nvPr/>
        </p:nvSpPr>
        <p:spPr>
          <a:xfrm>
            <a:off x="33840" y="668880"/>
            <a:ext cx="9675360" cy="143460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raditional Arabic"/>
              </a:rPr>
              <a:t>الاستعداد الخاص والقدرة الخاصة :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28760" y="42840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قياس الذكاء </a:t>
            </a:r>
            <a:endParaRPr b="0" lang="en-US" sz="5000" spc="-1" strike="noStrike">
              <a:solidFill>
                <a:srgbClr val="04617b"/>
              </a:solidFill>
              <a:latin typeface="Arial"/>
            </a:endParaRPr>
          </a:p>
        </p:txBody>
      </p:sp>
      <p:sp>
        <p:nvSpPr>
          <p:cNvPr id="320" name=""/>
          <p:cNvSpPr txBox="1"/>
          <p:nvPr/>
        </p:nvSpPr>
        <p:spPr>
          <a:xfrm>
            <a:off x="457200" y="1643040"/>
            <a:ext cx="8229600" cy="4681440"/>
          </a:xfrm>
          <a:prstGeom prst="rect">
            <a:avLst/>
          </a:prstGeom>
          <a:noFill/>
          <a:ln w="0">
            <a:noFill/>
          </a:ln>
        </p:spPr>
        <p:txBody>
          <a:bodyPr anchor="t">
            <a:normAutofit fontScale="93000"/>
          </a:bodyPr>
          <a:p>
            <a:pPr marL="253440" indent="-2534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ول من نجح في قياس الذكاء هو بينيه ومساعده سيمون. وقد توصل بينيه إلى فكرة العمر العقلي :</a:t>
            </a:r>
            <a:endParaRPr b="0" lang="en-US" sz="2800" spc="-1" strike="noStrike">
              <a:solidFill>
                <a:srgbClr val="000000"/>
              </a:solidFill>
              <a:latin typeface="Arial"/>
            </a:endParaRPr>
          </a:p>
          <a:p>
            <a:pPr marL="253440" indent="-2534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عمر العقلي هو قدرة الطفل الإجابة عن أسئلة يجيب عنها متوسطو الذكاء في سن معينة . مثلا : طفل في سن السابعة (عمر زمني) ،يستطيع الإجابة عن أسئلة الأطفال في سن ثمانية سنوات، فعمره العقلي هو ثمانية سنوات ...</a:t>
            </a:r>
            <a:endParaRPr b="0" lang="en-US" sz="2800" spc="-1" strike="noStrike">
              <a:solidFill>
                <a:srgbClr val="000000"/>
              </a:solidFill>
              <a:latin typeface="Arial"/>
            </a:endParaRPr>
          </a:p>
          <a:p>
            <a:pPr marL="253440" indent="-2534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 لم يكن العمر العقلي كافيا لقياس الذكاء لأن الطفل الذي كان متأخرا عاما واحدا في سن خمس سنوات – مثلا - كان يتأخر عامين عند العاشرة – لذلك كان لا بد من جعل الفرق النسبي ثابتا.</a:t>
            </a:r>
            <a:endParaRPr b="0" lang="en-US" sz="2800" spc="-1" strike="noStrike">
              <a:solidFill>
                <a:srgbClr val="000000"/>
              </a:solidFill>
              <a:latin typeface="Arial"/>
            </a:endParaRPr>
          </a:p>
          <a:p>
            <a:pPr marL="253440" indent="-25344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17C97-6470-425E-A0B8-BD5E3F69B1E8}"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457200" y="1934640"/>
            <a:ext cx="8229600" cy="4389480"/>
          </a:xfrm>
          <a:prstGeom prst="rect">
            <a:avLst/>
          </a:prstGeom>
          <a:noFill/>
          <a:ln w="0">
            <a:noFill/>
          </a:ln>
        </p:spPr>
        <p:txBody>
          <a:bodyPr anchor="t">
            <a:normAutofit fontScale="93000"/>
          </a:bodyPr>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53440" indent="-2534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53440" indent="-253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ذلك وضع شترن النسبة العقلية وهي =</a:t>
            </a:r>
            <a:r>
              <a:rPr b="1" lang="en-US" sz="3200" spc="-1" strike="noStrike">
                <a:solidFill>
                  <a:srgbClr val="000000"/>
                </a:solidFill>
                <a:latin typeface="Arial"/>
              </a:rPr>
              <a:t> </a:t>
            </a:r>
            <a:r>
              <a:rPr b="1" lang="ar-SA" sz="3200" spc="-1" strike="noStrike">
                <a:solidFill>
                  <a:srgbClr val="000000"/>
                </a:solidFill>
                <a:latin typeface="Arial"/>
              </a:rPr>
              <a:t> العمر العقلي / العمر الزمني.</a:t>
            </a:r>
            <a:endParaRPr b="0" lang="en-US" sz="3200" spc="-1" strike="noStrike">
              <a:solidFill>
                <a:srgbClr val="000000"/>
              </a:solidFill>
              <a:latin typeface="Arial"/>
            </a:endParaRPr>
          </a:p>
          <a:p>
            <a:pPr marL="253440" indent="-253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قام تيرمان بتعديل ما قام به شترن فوضع نسبة الذكاء، وهي المستخدمة في قياس الذكاء حتى اليوم.</a:t>
            </a:r>
            <a:endParaRPr b="0" lang="en-US" sz="3200" spc="-1" strike="noStrike">
              <a:solidFill>
                <a:srgbClr val="000000"/>
              </a:solidFill>
              <a:latin typeface="Arial"/>
            </a:endParaRPr>
          </a:p>
          <a:p>
            <a:pPr marL="253440" indent="-25344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نسبة الذكاء = العمر العقلي / العمر الزمني </a:t>
            </a:r>
            <a:r>
              <a:rPr b="1" lang="en-US" sz="3200" spc="-1" strike="noStrike">
                <a:solidFill>
                  <a:srgbClr val="000000"/>
                </a:solidFill>
                <a:latin typeface="Arial"/>
              </a:rPr>
              <a:t>X </a:t>
            </a:r>
            <a:r>
              <a:rPr b="1" lang="ar-SA" sz="3200" spc="-1" strike="noStrike">
                <a:solidFill>
                  <a:srgbClr val="000000"/>
                </a:solidFill>
                <a:latin typeface="Arial"/>
              </a:rPr>
              <a:t> 100</a:t>
            </a:r>
            <a:endParaRPr b="0" lang="en-US" sz="3200" spc="-1" strike="noStrike">
              <a:solidFill>
                <a:srgbClr val="000000"/>
              </a:solidFill>
              <a:latin typeface="Arial"/>
            </a:endParaRPr>
          </a:p>
        </p:txBody>
      </p:sp>
      <p:sp>
        <p:nvSpPr>
          <p:cNvPr id="32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C9D14-BC9F-476B-B2EE-90B81CB92608}"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ثبوت نسبة الذكاء</a:t>
            </a:r>
            <a:endParaRPr b="0" lang="en-US" sz="5000" spc="-1" strike="noStrike">
              <a:solidFill>
                <a:srgbClr val="04617b"/>
              </a:solidFill>
              <a:latin typeface="Arial"/>
            </a:endParaRPr>
          </a:p>
        </p:txBody>
      </p:sp>
      <p:sp>
        <p:nvSpPr>
          <p:cNvPr id="325"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كون نسبة الذكاء ثابتة عند الفرد طيلة حياته .</a:t>
            </a:r>
            <a:endParaRPr b="0" lang="en-US" sz="3200" spc="-1" strike="noStrike">
              <a:solidFill>
                <a:srgbClr val="000000"/>
              </a:solidFill>
              <a:latin typeface="Arial"/>
            </a:endParaRPr>
          </a:p>
          <a:p>
            <a:pPr marL="240120" indent="-2401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 يستثنى من هذه القاعدة ضعاف العقول، ففي بداية حياتهم لا يكون الفرق بين العمر العقلي والزمني كبيرا، إلا أنه مع تقدم عمرهم الزمني يصبح الفرق أكثر وضوحا وتنخفض درجة نسبة الذكاء .</a:t>
            </a:r>
            <a:endParaRPr b="0" lang="en-US" sz="3200" spc="-1" strike="noStrike">
              <a:solidFill>
                <a:srgbClr val="000000"/>
              </a:solidFill>
              <a:latin typeface="Arial"/>
            </a:endParaRPr>
          </a:p>
          <a:p>
            <a:pPr marL="240120" indent="-2401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ستثنى أيضا العباقرة، حيث لا يكون الفرق بين العمر العقلي والزمني واضحا في مراحل الطفولة لكنه يتضح فيما بعد ذلك.</a:t>
            </a:r>
            <a:endParaRPr b="0" lang="en-US" sz="3200" spc="-1" strike="noStrike">
              <a:solidFill>
                <a:srgbClr val="000000"/>
              </a:solidFill>
              <a:latin typeface="Arial"/>
            </a:endParaRPr>
          </a:p>
          <a:p>
            <a:pPr marL="240120" indent="-24012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60612-02D8-4D47-9FA8-EC8193D30E87}"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عنصر نائب لرقم الشريحة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027EC-F8DB-430C-BF74-3E025FED8099}"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graphicFrame>
        <p:nvGraphicFramePr>
          <p:cNvPr id="328" name=""/>
          <p:cNvGraphicFramePr/>
          <p:nvPr/>
        </p:nvGraphicFramePr>
        <p:xfrm>
          <a:off x="1071720" y="2000160"/>
          <a:ext cx="7215120" cy="4286520"/>
        </p:xfrm>
        <a:graphic>
          <a:graphicData uri="http://schemas.openxmlformats.org/drawingml/2006/table">
            <a:tbl>
              <a:tblPr/>
              <a:tblGrid>
                <a:gridCol w="3608280"/>
                <a:gridCol w="3606840"/>
              </a:tblGrid>
              <a:tr h="12618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raditional Arabic"/>
                        </a:rPr>
                        <a:t>توقف نمو الذكاء</a:t>
                      </a:r>
                      <a:endParaRPr b="0" lang="en-US" sz="3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raditional Arabic"/>
                        </a:rPr>
                        <a:t>الفئة</a:t>
                      </a:r>
                      <a:endParaRPr b="0" lang="en-US" sz="3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raditional Arabic"/>
                        </a:rPr>
                        <a:t>16</a:t>
                      </a:r>
                      <a:r>
                        <a:rPr b="1" lang="ar-SA" sz="3600" spc="-1" strike="noStrike">
                          <a:solidFill>
                            <a:srgbClr val="000000"/>
                          </a:solidFill>
                          <a:latin typeface="Times New Roman"/>
                          <a:ea typeface="Traditional Arabic"/>
                        </a:rPr>
                        <a:t> سنة</a:t>
                      </a:r>
                      <a:endParaRPr b="0" lang="en-US" sz="3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raditional Arabic"/>
                        </a:rPr>
                        <a:t>متوسطي الذكاء </a:t>
                      </a:r>
                      <a:endParaRPr b="0" lang="en-US" sz="3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raditional Arabic"/>
                        </a:rPr>
                        <a:t>14</a:t>
                      </a:r>
                      <a:r>
                        <a:rPr b="1" lang="ar-SA" sz="3600" spc="-1" strike="noStrike">
                          <a:solidFill>
                            <a:srgbClr val="000000"/>
                          </a:solidFill>
                          <a:latin typeface="Times New Roman"/>
                          <a:ea typeface="Traditional Arabic"/>
                        </a:rPr>
                        <a:t> سنة</a:t>
                      </a:r>
                      <a:endParaRPr b="0" lang="en-US" sz="3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raditional Arabic"/>
                        </a:rPr>
                        <a:t>دون المتوسط </a:t>
                      </a:r>
                      <a:endParaRPr b="0" lang="en-US" sz="3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92520">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Traditional Arabic"/>
                        </a:rPr>
                        <a:t>18</a:t>
                      </a:r>
                      <a:r>
                        <a:rPr b="1" lang="ar-SA" sz="3600" spc="-1" strike="noStrike">
                          <a:solidFill>
                            <a:srgbClr val="000000"/>
                          </a:solidFill>
                          <a:latin typeface="Times New Roman"/>
                          <a:ea typeface="Traditional Arabic"/>
                        </a:rPr>
                        <a:t> سنة</a:t>
                      </a:r>
                      <a:endParaRPr b="0" lang="en-US" sz="3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raditional Arabic"/>
                        </a:rPr>
                        <a:t>المتفوقون في قدراتهم العقلية </a:t>
                      </a:r>
                      <a:endParaRPr b="0" lang="en-US" sz="3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9" name="Rectangle 1"/>
          <p:cNvSpPr/>
          <p:nvPr/>
        </p:nvSpPr>
        <p:spPr>
          <a:xfrm>
            <a:off x="2715480" y="781560"/>
            <a:ext cx="4167360" cy="155628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cs typeface="Traditional Arabic"/>
              </a:rPr>
              <a:t>النمو العقلي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الفروق الفردية في الذكاء</a:t>
            </a:r>
            <a:endParaRPr b="0" lang="en-US" sz="5000" spc="-1" strike="noStrike">
              <a:solidFill>
                <a:srgbClr val="04617b"/>
              </a:solidFill>
              <a:latin typeface="Arial"/>
            </a:endParaRPr>
          </a:p>
        </p:txBody>
      </p:sp>
      <p:sp>
        <p:nvSpPr>
          <p:cNvPr id="331"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الذكاء موزع توزيعا اعتدالياً بين الناس ،أي أن الغالبية العظمى من الناس يقعون في المستوى المتوسط(</a:t>
            </a:r>
            <a:r>
              <a:rPr b="1" lang="ar-SA" sz="3200" spc="-1" strike="noStrike">
                <a:solidFill>
                  <a:srgbClr val="000000"/>
                </a:solidFill>
                <a:latin typeface="Arial"/>
              </a:rPr>
              <a:t>68</a:t>
            </a:r>
            <a:r>
              <a:rPr b="1" lang="ar-SA" sz="3200" spc="-1" strike="noStrike">
                <a:solidFill>
                  <a:srgbClr val="000000"/>
                </a:solidFill>
                <a:latin typeface="Arial"/>
              </a:rPr>
              <a:t>%)،وقليل منهم فيما فوق المتوسط (</a:t>
            </a:r>
            <a:r>
              <a:rPr b="1" lang="ar-SA" sz="3200" spc="-1" strike="noStrike">
                <a:solidFill>
                  <a:srgbClr val="000000"/>
                </a:solidFill>
                <a:latin typeface="Arial"/>
              </a:rPr>
              <a:t>16</a:t>
            </a:r>
            <a:r>
              <a:rPr b="1" lang="ar-SA" sz="3200" spc="-1" strike="noStrike">
                <a:solidFill>
                  <a:srgbClr val="000000"/>
                </a:solidFill>
                <a:latin typeface="Arial"/>
              </a:rPr>
              <a:t>%)،ومثلهم فيما دون المتوسط (</a:t>
            </a:r>
            <a:r>
              <a:rPr b="1" lang="ar-SA" sz="3200" spc="-1" strike="noStrike">
                <a:solidFill>
                  <a:srgbClr val="000000"/>
                </a:solidFill>
                <a:latin typeface="Arial"/>
              </a:rPr>
              <a:t>16</a:t>
            </a:r>
            <a:r>
              <a:rPr b="1" lang="ar-SA" sz="3200" spc="-1" strike="noStrike">
                <a:solidFill>
                  <a:srgbClr val="000000"/>
                </a:solidFill>
                <a:latin typeface="Arial"/>
              </a:rPr>
              <a:t>%).</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3DE4-E4FE-420D-8ACE-0D48366D2C08}"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عنصر نائب لرقم الشريحة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C1B4-2D00-423B-B1AC-C4AFCA199ACF}"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graphicFrame>
        <p:nvGraphicFramePr>
          <p:cNvPr id="334" name=""/>
          <p:cNvGraphicFramePr/>
          <p:nvPr/>
        </p:nvGraphicFramePr>
        <p:xfrm>
          <a:off x="571680" y="1214280"/>
          <a:ext cx="8143560" cy="5222880"/>
        </p:xfrm>
        <a:graphic>
          <a:graphicData uri="http://schemas.openxmlformats.org/drawingml/2006/table">
            <a:tbl>
              <a:tblPr/>
              <a:tblGrid>
                <a:gridCol w="5335560"/>
                <a:gridCol w="1055520"/>
                <a:gridCol w="1752480"/>
              </a:tblGrid>
              <a:tr h="701640">
                <a:tc>
                  <a:txBody>
                    <a:bodyPr lIns="15480" rIns="1548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النسبة المئوية لعدد الأفراد</a:t>
                      </a:r>
                      <a:endParaRPr b="0" lang="en-US" sz="2000" spc="-1" strike="noStrike">
                        <a:solidFill>
                          <a:srgbClr val="000000"/>
                        </a:solidFill>
                        <a:latin typeface="Times New Roman"/>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noFill/>
                  </a:tcPr>
                </a:tc>
                <a:tc>
                  <a:txBody>
                    <a:bodyPr lIns="15480" rIns="1548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نسبة الذكاء</a:t>
                      </a:r>
                      <a:endParaRPr b="0" lang="en-US" sz="2000" spc="-1" strike="noStrike">
                        <a:solidFill>
                          <a:srgbClr val="000000"/>
                        </a:solidFill>
                        <a:latin typeface="Times New Roman"/>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noFill/>
                  </a:tcPr>
                </a:tc>
                <a:tc>
                  <a:txBody>
                    <a:bodyPr lIns="15480" rIns="1548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المرتبة</a:t>
                      </a:r>
                      <a:endParaRPr b="0" lang="en-US" sz="2000" spc="-1" strike="noStrike">
                        <a:solidFill>
                          <a:srgbClr val="000000"/>
                        </a:solidFill>
                        <a:latin typeface="Times New Roman"/>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noFill/>
                  </a:tcPr>
                </a:tc>
              </a:tr>
              <a:tr h="515160">
                <a:tc>
                  <a:txBody>
                    <a:bodyPr lIns="15480" rIns="15480" tIns="0" bIns="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16%</a:t>
                      </a:r>
                      <a:endParaRPr b="0" lang="en-US" sz="2000" spc="-1" strike="noStrike">
                        <a:solidFill>
                          <a:srgbClr val="000000"/>
                        </a:solidFill>
                        <a:latin typeface="Times New Roman"/>
                      </a:endParaRPr>
                    </a:p>
                  </a:txBody>
                  <a:tcPr anchor="ctr" marL="15480" marR="1548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15480" rIns="1548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140</a:t>
                      </a:r>
                      <a:r>
                        <a:rPr b="1" lang="ar-SA" sz="2000" spc="-1" strike="noStrike">
                          <a:solidFill>
                            <a:srgbClr val="000000"/>
                          </a:solidFill>
                          <a:latin typeface="Times New Roman"/>
                          <a:ea typeface="Traditional Arabic"/>
                        </a:rPr>
                        <a:t> فأكثر</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120</a:t>
                      </a:r>
                      <a:r>
                        <a:rPr b="1" lang="ar-SA" sz="2000" spc="-1" strike="noStrike">
                          <a:solidFill>
                            <a:srgbClr val="000000"/>
                          </a:solidFill>
                          <a:latin typeface="Times New Roman"/>
                          <a:ea typeface="Traditional Arabic"/>
                        </a:rPr>
                        <a:t> – </a:t>
                      </a:r>
                      <a:r>
                        <a:rPr b="1" lang="ar-SA" sz="2000" spc="-1" strike="noStrike">
                          <a:solidFill>
                            <a:srgbClr val="000000"/>
                          </a:solidFill>
                          <a:latin typeface="Times New Roman"/>
                          <a:ea typeface="Traditional Arabic"/>
                        </a:rPr>
                        <a:t>140</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110</a:t>
                      </a:r>
                      <a:r>
                        <a:rPr b="1" lang="ar-SA" sz="2000" spc="-1" strike="noStrike">
                          <a:solidFill>
                            <a:srgbClr val="000000"/>
                          </a:solidFill>
                          <a:latin typeface="Times New Roman"/>
                          <a:ea typeface="Traditional Arabic"/>
                        </a:rPr>
                        <a:t> -</a:t>
                      </a:r>
                      <a:r>
                        <a:rPr b="1" lang="ar-SA" sz="2000" spc="-1" strike="noStrike">
                          <a:solidFill>
                            <a:srgbClr val="000000"/>
                          </a:solidFill>
                          <a:latin typeface="Times New Roman"/>
                          <a:ea typeface="Traditional Arabic"/>
                        </a:rPr>
                        <a:t>120</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90</a:t>
                      </a:r>
                      <a:r>
                        <a:rPr b="1" lang="ar-SA" sz="2000" spc="-1" strike="noStrike">
                          <a:solidFill>
                            <a:srgbClr val="000000"/>
                          </a:solidFill>
                          <a:latin typeface="Times New Roman"/>
                          <a:ea typeface="Traditional Arabic"/>
                        </a:rPr>
                        <a:t> – </a:t>
                      </a:r>
                      <a:r>
                        <a:rPr b="1" lang="ar-SA" sz="2000" spc="-1" strike="noStrike">
                          <a:solidFill>
                            <a:srgbClr val="000000"/>
                          </a:solidFill>
                          <a:latin typeface="Times New Roman"/>
                          <a:ea typeface="Traditional Arabic"/>
                        </a:rPr>
                        <a:t>110</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80</a:t>
                      </a:r>
                      <a:r>
                        <a:rPr b="1" lang="ar-SA" sz="2000" spc="-1" strike="noStrike">
                          <a:solidFill>
                            <a:srgbClr val="000000"/>
                          </a:solidFill>
                          <a:latin typeface="Times New Roman"/>
                          <a:ea typeface="Traditional Arabic"/>
                        </a:rPr>
                        <a:t> -</a:t>
                      </a:r>
                      <a:r>
                        <a:rPr b="1" lang="ar-SA" sz="2000" spc="-1" strike="noStrike">
                          <a:solidFill>
                            <a:srgbClr val="000000"/>
                          </a:solidFill>
                          <a:latin typeface="Times New Roman"/>
                          <a:ea typeface="Traditional Arabic"/>
                        </a:rPr>
                        <a:t>90</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70</a:t>
                      </a:r>
                      <a:r>
                        <a:rPr b="1" lang="ar-SA" sz="2000" spc="-1" strike="noStrike">
                          <a:solidFill>
                            <a:srgbClr val="000000"/>
                          </a:solidFill>
                          <a:latin typeface="Times New Roman"/>
                          <a:ea typeface="Traditional Arabic"/>
                        </a:rPr>
                        <a:t> -</a:t>
                      </a:r>
                      <a:r>
                        <a:rPr b="1" lang="ar-SA" sz="2000" spc="-1" strike="noStrike">
                          <a:solidFill>
                            <a:srgbClr val="000000"/>
                          </a:solidFill>
                          <a:latin typeface="Times New Roman"/>
                          <a:ea typeface="Traditional Arabic"/>
                        </a:rPr>
                        <a:t>80</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50</a:t>
                      </a:r>
                      <a:r>
                        <a:rPr b="1" lang="ar-SA" sz="2000" spc="-1" strike="noStrike">
                          <a:solidFill>
                            <a:srgbClr val="000000"/>
                          </a:solidFill>
                          <a:latin typeface="Times New Roman"/>
                          <a:ea typeface="Traditional Arabic"/>
                        </a:rPr>
                        <a:t> -</a:t>
                      </a:r>
                      <a:r>
                        <a:rPr b="1" lang="ar-SA" sz="2000" spc="-1" strike="noStrike">
                          <a:solidFill>
                            <a:srgbClr val="000000"/>
                          </a:solidFill>
                          <a:latin typeface="Times New Roman"/>
                          <a:ea typeface="Traditional Arabic"/>
                        </a:rPr>
                        <a:t>70</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25</a:t>
                      </a:r>
                      <a:r>
                        <a:rPr b="1" lang="ar-SA" sz="2000" spc="-1" strike="noStrike">
                          <a:solidFill>
                            <a:srgbClr val="000000"/>
                          </a:solidFill>
                          <a:latin typeface="Times New Roman"/>
                          <a:ea typeface="Traditional Arabic"/>
                        </a:rPr>
                        <a:t> -</a:t>
                      </a:r>
                      <a:r>
                        <a:rPr b="1" lang="ar-SA" sz="2000" spc="-1" strike="noStrike">
                          <a:solidFill>
                            <a:srgbClr val="000000"/>
                          </a:solidFill>
                          <a:latin typeface="Times New Roman"/>
                          <a:ea typeface="Traditional Arabic"/>
                        </a:rPr>
                        <a:t>50</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أقل من </a:t>
                      </a:r>
                      <a:r>
                        <a:rPr b="1" lang="ar-SA" sz="2000" spc="-1" strike="noStrike">
                          <a:solidFill>
                            <a:srgbClr val="000000"/>
                          </a:solidFill>
                          <a:latin typeface="Times New Roman"/>
                          <a:ea typeface="Traditional Arabic"/>
                        </a:rPr>
                        <a:t>25</a:t>
                      </a:r>
                      <a:endParaRPr b="0" lang="en-US" sz="2000" spc="-1" strike="noStrike">
                        <a:solidFill>
                          <a:srgbClr val="000000"/>
                        </a:solidFill>
                        <a:latin typeface="Times New Roman"/>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15480" rIns="1548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عبقري </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ذكي جدا </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ذكي (فوق المتوسط )</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عادي </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دون المتوسط </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الحد البيني ضعف عقلي خفيف </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ضعف عقلي متوسط </a:t>
                      </a:r>
                      <a:endParaRPr b="0" lang="en-US" sz="2000" spc="-1" strike="noStrike">
                        <a:solidFill>
                          <a:srgbClr val="000000"/>
                        </a:solidFill>
                        <a:latin typeface="Times New Roman"/>
                      </a:endParaRPr>
                    </a:p>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ضعف عقلي شديد</a:t>
                      </a:r>
                      <a:endParaRPr b="0" lang="en-US" sz="2000" spc="-1" strike="noStrike">
                        <a:solidFill>
                          <a:srgbClr val="000000"/>
                        </a:solidFill>
                        <a:latin typeface="Times New Roman"/>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noFill/>
                  </a:tcPr>
                </a:tc>
              </a:tr>
              <a:tr h="517320">
                <a:tc>
                  <a:txBody>
                    <a:bodyPr lIns="15480" rIns="15480" tIns="0" bIns="0" anchor="t">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68%</a:t>
                      </a:r>
                      <a:endParaRPr b="0" lang="en-US" sz="2000" spc="-1" strike="noStrike">
                        <a:solidFill>
                          <a:srgbClr val="000000"/>
                        </a:solidFill>
                        <a:latin typeface="Times New Roman"/>
                      </a:endParaRPr>
                    </a:p>
                  </a:txBody>
                  <a:tcPr anchor="t" marL="15480" marR="154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489120">
                <a:tc>
                  <a:txBody>
                    <a:bodyPr lIns="15480" rIns="15480" tIns="0" bIns="0" anchor="ctr">
                      <a:noAutofit/>
                    </a:bodyPr>
                    <a:p>
                      <a:pPr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raditional Arabic"/>
                        </a:rPr>
                        <a:t>16%</a:t>
                      </a:r>
                      <a:endParaRPr b="0" lang="en-US" sz="2000" spc="-1" strike="noStrike">
                        <a:solidFill>
                          <a:srgbClr val="000000"/>
                        </a:solidFill>
                        <a:latin typeface="Times New Roman"/>
                      </a:endParaRPr>
                    </a:p>
                  </a:txBody>
                  <a:tcPr anchor="ctr" marL="15480" marR="154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35" name="Rectangle 2"/>
          <p:cNvSpPr/>
          <p:nvPr/>
        </p:nvSpPr>
        <p:spPr>
          <a:xfrm>
            <a:off x="3587040" y="-304920"/>
            <a:ext cx="1969920" cy="1067400"/>
          </a:xfrm>
          <a:prstGeom prst="rect">
            <a:avLst/>
          </a:prstGeom>
          <a:noFill/>
          <a:ln w="0">
            <a:noFill/>
          </a:ln>
        </p:spPr>
        <p:style>
          <a:lnRef idx="0"/>
          <a:fillRef idx="0"/>
          <a:effectRef idx="0"/>
          <a:fontRef idx="minor"/>
        </p:style>
        <p:txBody>
          <a:bodyPr wrap="none"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Calibri"/>
                <a:cs typeface="Traditional Arabic"/>
              </a:rPr>
              <a:t>تصنيفات الذكاء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endParaRPr b="0" lang="en-US" sz="1600" spc="-1" strike="noStrike">
              <a:solidFill>
                <a:srgbClr val="000000"/>
              </a:solidFill>
              <a:latin typeface="Times New Roman"/>
            </a:endParaRPr>
          </a:p>
        </p:txBody>
      </p:sp>
      <p:sp>
        <p:nvSpPr>
          <p:cNvPr id="336" name="مستطيل 6"/>
          <p:cNvSpPr/>
          <p:nvPr/>
        </p:nvSpPr>
        <p:spPr>
          <a:xfrm>
            <a:off x="3816360" y="714240"/>
            <a:ext cx="2801880" cy="52056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raditional Arabic"/>
              </a:rPr>
              <a:t>تصنيفات الذك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457200" y="1934640"/>
            <a:ext cx="8229600" cy="4389480"/>
          </a:xfrm>
          <a:prstGeom prst="rect">
            <a:avLst/>
          </a:prstGeom>
          <a:noFill/>
          <a:ln w="0">
            <a:noFill/>
          </a:ln>
        </p:spPr>
        <p:txBody>
          <a:bodyPr anchor="t">
            <a:normAutofit fontScale="95000"/>
          </a:bodyPr>
          <a:p>
            <a:pPr marL="259200" indent="-2592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9200" indent="-25920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كذلك ربط أرسطو بين الوظائف العقلية والمخ ، وقدم تصورًا للذكاء يقوم على افتراض أنه يتكون من ثلاثة جوانب: الجانب الأول نظري يتعلق بفهم الجوانب المجردة، أما الثاني فهو عملي يتصل بالمهارة في الحياة العملية، وجانب إنتاجي يتعلق بالقدرة على الإبداع والابتكار.</a:t>
            </a:r>
            <a:endParaRPr b="0" lang="en-US" sz="3200" spc="-1" strike="noStrike">
              <a:solidFill>
                <a:srgbClr val="000000"/>
              </a:solidFill>
              <a:latin typeface="Arial"/>
            </a:endParaRPr>
          </a:p>
          <a:p>
            <a:pPr marL="259200" indent="-25920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D69E0-C0FF-4123-BF91-779B584CC2DA}"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عنصر نائب لرقم الشريحة 1"/>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29C6F-B9A5-4F30-ABFE-8BAB86BA0F13}"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pic>
        <p:nvPicPr>
          <p:cNvPr id="338" name="Picture 2" descr="D:\مقرراتي بجامعة الملك سعود\الفصل الصيفي 1430 - 1431 هـ\القدرات العقلية ونظريات التكوين العقلي\سكنر القدرات العقلية\خالد المسعود (سكنر)\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الخبرة والذاكرة والذكاء  والتعلم</a:t>
            </a:r>
            <a:endParaRPr b="0" lang="en-US" sz="5000" spc="-1" strike="noStrike">
              <a:solidFill>
                <a:srgbClr val="04617b"/>
              </a:solidFill>
              <a:latin typeface="Arial"/>
            </a:endParaRPr>
          </a:p>
        </p:txBody>
      </p:sp>
      <p:sp>
        <p:nvSpPr>
          <p:cNvPr id="340" name=""/>
          <p:cNvSpPr txBox="1"/>
          <p:nvPr/>
        </p:nvSpPr>
        <p:spPr>
          <a:xfrm>
            <a:off x="457200" y="1934640"/>
            <a:ext cx="8229600" cy="4389480"/>
          </a:xfrm>
          <a:prstGeom prst="rect">
            <a:avLst/>
          </a:prstGeom>
          <a:noFill/>
          <a:ln w="0">
            <a:noFill/>
          </a:ln>
        </p:spPr>
        <p:txBody>
          <a:bodyPr anchor="t">
            <a:normAutofit fontScale="79000"/>
          </a:bodyPr>
          <a:p>
            <a:pPr marL="215280" indent="-2152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عتبر الذاكرة إحدى أهم عمليات الذكاء ، فهي العملية التي يمكن عن طريقها الاحتفاظ بنواتج الخبرة والتعلم، واستخدام هذه النواتج في حل المشكلات الجديدة التي قد تطرأ في المستقبل، ووفق أحد الأبحاث أظهرت أن الأطفال في سن مبكرة للغاية (من خمسة إلى ستة أشهر) أنهم قادرون على تذكر معلومات وأحداث لمدد طويلة نسبيًا، ويمكن توضيح ذلك باستخدام ما يعرف بأسلوب التعود، الذي استخدمه جوزيف فاغان لأول مرة في منتصف السبعينيات من القرن الماضي، لدراسة الذاكرة لدى الأطفال.</a:t>
            </a:r>
            <a:endParaRPr b="0" lang="en-US" sz="3200" spc="-1" strike="noStrike">
              <a:solidFill>
                <a:srgbClr val="000000"/>
              </a:solidFill>
              <a:latin typeface="Arial"/>
            </a:endParaRPr>
          </a:p>
          <a:p>
            <a:pPr marL="215280" indent="-2152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30AE6-D043-4C98-A284-62DD8113B058}"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1934640"/>
            <a:ext cx="8229600" cy="4389480"/>
          </a:xfrm>
          <a:prstGeom prst="rect">
            <a:avLst/>
          </a:prstGeom>
          <a:noFill/>
          <a:ln w="0">
            <a:noFill/>
          </a:ln>
        </p:spPr>
        <p:txBody>
          <a:bodyPr anchor="t">
            <a:normAutofit fontScale="79000"/>
          </a:bodyPr>
          <a:p>
            <a:pPr marL="215280" indent="-2152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شير إلى أن الباحثين بدئوا في السنوات الأخيرة في التخلي عن الصورة التبسيطية التي سادت عن تطور الذكاء بعد انتهاء مراحل الطفولة وعند بدء مرحلة الرشد، فالتصور الشائع هو أن الذكاء والقدرات العقلية يستمران في التحسن والنمو حتى العشرينيات أو الثلاثينيات من العمر، ثم تبدأ في عملية تدهور تدريجية تصل ذروتها في مرحلة الشيخوخة، ومع ذلك، فقد تراكمت في السنوات الأخيرة العديد من الأدلة التي أقنعت كثيرًا من الباحثين أن عمليات النمو المعرفي في مرحلة الرشد بالغة الثراء والتعقيد.</a:t>
            </a:r>
            <a:endParaRPr b="0" lang="en-US" sz="3200" spc="-1" strike="noStrike">
              <a:solidFill>
                <a:srgbClr val="000000"/>
              </a:solidFill>
              <a:latin typeface="Arial"/>
            </a:endParaRPr>
          </a:p>
          <a:p>
            <a:pPr marL="215280" indent="-2152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322C4-81D8-44AB-9CB3-B2FF1269B878}"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457200" y="1934640"/>
            <a:ext cx="8229600" cy="4389480"/>
          </a:xfrm>
          <a:prstGeom prst="rect">
            <a:avLst/>
          </a:prstGeom>
          <a:noFill/>
          <a:ln w="0">
            <a:noFill/>
          </a:ln>
        </p:spPr>
        <p:txBody>
          <a:bodyPr anchor="t">
            <a:normAutofit fontScale="85000"/>
          </a:bodyPr>
          <a:p>
            <a:pPr marL="231840" indent="-23184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يرى الباحثون أن تعقد مهارات الذكاء والتفكير مع التقدم في العمر يعكس نمو مجموعة من المهارات الاجتماعية والعملية ذات الأساس الثقافي، أو ما يطلق عليه الجوانب العملية للنشاط المعرفي ، ويشكل بناء هذه الشبكات المعرفية المعقدة الضرورية للتوافق مع احتياجات الحياة المتغيرة الجانب الأساسي في الوصول إلى الحكمة، فالحكمة تقتضي في رأي بعض الباحثين تكاملاً بين الأنواع المختلفة من المعارف والمهارات حول القضايا العملية والأخلاقية في الحياة . فهي مزيج أو تكامل بين الجوانب المعرفية والانفعالية، بما يؤدي إلى تحقيق أفضل توافق ممكن في الحياة.</a:t>
            </a:r>
            <a:endParaRPr b="0" lang="en-US" sz="2800" spc="-1" strike="noStrike">
              <a:solidFill>
                <a:srgbClr val="000000"/>
              </a:solidFill>
              <a:latin typeface="Arial"/>
            </a:endParaRPr>
          </a:p>
          <a:p>
            <a:pPr marL="231840" indent="-23184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DF1DF-3CA5-4B6A-80D4-BD695308963E}"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الذكاء الصناعي</a:t>
            </a:r>
            <a:endParaRPr b="0" lang="en-US" sz="5000" spc="-1" strike="noStrike">
              <a:solidFill>
                <a:srgbClr val="04617b"/>
              </a:solidFill>
              <a:latin typeface="Arial"/>
            </a:endParaRPr>
          </a:p>
        </p:txBody>
      </p:sp>
      <p:sp>
        <p:nvSpPr>
          <p:cNvPr id="347" name=""/>
          <p:cNvSpPr txBox="1"/>
          <p:nvPr/>
        </p:nvSpPr>
        <p:spPr>
          <a:xfrm>
            <a:off x="457200" y="1934640"/>
            <a:ext cx="8229600" cy="4389480"/>
          </a:xfrm>
          <a:prstGeom prst="rect">
            <a:avLst/>
          </a:prstGeom>
          <a:noFill/>
          <a:ln w="0">
            <a:noFill/>
          </a:ln>
        </p:spPr>
        <p:txBody>
          <a:bodyPr anchor="t">
            <a:normAutofit fontScale="82000"/>
          </a:bodyPr>
          <a:p>
            <a:pPr marL="223560" indent="-2235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شارت الدراسات إلى إمكانات الآلات وخاصة آلات الروبوت أو الإنسان الآلي في المستقبل ؛ حيث هناك نوعين من أنواع البحوث في الذكاء الاصطناعي: الأول الذكاء الاصطناعي القوي لا يفترض فقط أن الآلة (الكمبيوتر) قد تقوم بأفعال تتسم بالذكاء ، بل يفترض هذا الاتجاه أن الآلة نفسها عقلاً يتسم بالذكاء . وبالتالي يفترض هذا الاتجاه نوعًا من التماثل بين عمل المخ وعمل الكمبيوتر، ويفترض أن الآلة على هذا الأساس فد تكتسب القدرة على الشعور والانفعال.</a:t>
            </a:r>
            <a:endParaRPr b="0" lang="en-US" sz="3200" spc="-1" strike="noStrike">
              <a:solidFill>
                <a:srgbClr val="000000"/>
              </a:solidFill>
              <a:latin typeface="Arial"/>
            </a:endParaRPr>
          </a:p>
          <a:p>
            <a:pPr marL="223560" indent="-22356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230D5-03D1-4318-9E31-3AA145AC480B}"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pic>
        <p:nvPicPr>
          <p:cNvPr id="349" name="Picture 7" descr="computer"/>
          <p:cNvPicPr/>
          <p:nvPr/>
        </p:nvPicPr>
        <p:blipFill>
          <a:blip r:embed="rId1"/>
          <a:stretch/>
        </p:blipFill>
        <p:spPr>
          <a:xfrm>
            <a:off x="1500120" y="0"/>
            <a:ext cx="2519280" cy="19288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يتركز العمل في اتجاه الذكاء الاصطناعي القوي في الساحل الشرقي للولايات المتحدة، وخاصة في معهد ماساتشوتستس للتكنولوجيا وجامعة كارنيغي ميلون وهو ـ أي هذا الاتجاه ـ يسعى إلى إنتاج برامج شاملة قادرة على حل مشكلات عامة ذات نطاق عريض وتركز على الاستدلال وحل المشكلات.</a:t>
            </a:r>
            <a:endParaRPr b="0" lang="en-US" sz="3200" spc="-1" strike="noStrike">
              <a:solidFill>
                <a:srgbClr val="000000"/>
              </a:solidFill>
              <a:latin typeface="Arial"/>
            </a:endParaRPr>
          </a:p>
        </p:txBody>
      </p:sp>
      <p:sp>
        <p:nvSpPr>
          <p:cNvPr id="35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ED74-1E3A-4C9D-9CB3-CD92BE8F71E6}"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457200" y="1934640"/>
            <a:ext cx="8229600" cy="4389480"/>
          </a:xfrm>
          <a:prstGeom prst="rect">
            <a:avLst/>
          </a:prstGeom>
          <a:noFill/>
          <a:ln w="0">
            <a:noFill/>
          </a:ln>
        </p:spPr>
        <p:txBody>
          <a:bodyPr anchor="t">
            <a:normAutofit fontScale="80000"/>
          </a:bodyPr>
          <a:p>
            <a:pPr marL="218160" indent="-2181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ما الاتجاه الثاني، وهو اتجاه الذكاء الاصطناعي "الضعيف" فلا يفترض أن الآلة قد تستطيع أن تمتلك ذكاء حقيقيًا ، بل يقف عند افتراض أن الآلة قد تتصرف بطريقة تتسم بالذكاء، وهو محدود بمجال معين، وتهدف جهود الباحثين في هذا الاتجاه إلى بناء أجهزة أكثر قدرة من المخ البشري على تخزين وتصنيف المعلومات والتعامل معها؛ لكنها تظل آلات وليست عقولاً، بمعنى أنها وسائل تستخدم لتأدية أغراض معينة ؛ ولكنها لا تكتسب استقلالاً أو وعيًا ذاتيًا، كما أن المخ هو الصورة البيولوجية للعقل له.</a:t>
            </a:r>
            <a:endParaRPr b="0" lang="en-US" sz="3200" spc="-1" strike="noStrike">
              <a:solidFill>
                <a:srgbClr val="000000"/>
              </a:solidFill>
              <a:latin typeface="Arial"/>
            </a:endParaRPr>
          </a:p>
        </p:txBody>
      </p:sp>
      <p:sp>
        <p:nvSpPr>
          <p:cNvPr id="35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CF109-939D-410C-8EAA-B785DD3326F9}"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دور الوراثة والبيئة في الذكاء</a:t>
            </a:r>
            <a:endParaRPr b="0" lang="en-US" sz="5000" spc="-1" strike="noStrike">
              <a:solidFill>
                <a:srgbClr val="04617b"/>
              </a:solidFill>
              <a:latin typeface="Arial"/>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حدد الوراثة السقف الأعلى للقدرات، وتلعب البيئة الدور الفاعل في استغلال طاقات الفرد أو إهمالها.</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67C7-62F8-49AE-8D9B-BE4EE37AE739}"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بعض العوامل البيئية المؤثرة في الذكاء</a:t>
            </a:r>
            <a:endParaRPr b="0" lang="en-US" sz="5000" spc="-1" strike="noStrike">
              <a:solidFill>
                <a:srgbClr val="04617b"/>
              </a:solidFill>
              <a:latin typeface="Arial"/>
            </a:endParaRPr>
          </a:p>
        </p:txBody>
      </p:sp>
      <p:sp>
        <p:nvSpPr>
          <p:cNvPr id="358" name=""/>
          <p:cNvSpPr txBox="1"/>
          <p:nvPr/>
        </p:nvSpPr>
        <p:spPr>
          <a:xfrm>
            <a:off x="457200" y="1934640"/>
            <a:ext cx="8229600" cy="4389480"/>
          </a:xfrm>
          <a:prstGeom prst="rect">
            <a:avLst/>
          </a:prstGeom>
          <a:noFill/>
          <a:ln w="0">
            <a:noFill/>
          </a:ln>
        </p:spPr>
        <p:txBody>
          <a:bodyPr anchor="t">
            <a:normAutofit fontScale="84000"/>
          </a:bodyPr>
          <a:p>
            <a:pPr marL="228960" indent="-22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70c0"/>
                </a:solidFill>
                <a:latin typeface="Arial"/>
              </a:rPr>
              <a:t>1</a:t>
            </a:r>
            <a:r>
              <a:rPr b="1" lang="ar-SA" sz="3200" spc="-1" strike="noStrike">
                <a:solidFill>
                  <a:srgbClr val="0070c0"/>
                </a:solidFill>
                <a:latin typeface="Arial"/>
              </a:rPr>
              <a:t> – الكيماويات :</a:t>
            </a:r>
            <a:endParaRPr b="0" lang="en-US" sz="3200" spc="-1" strike="noStrike">
              <a:solidFill>
                <a:srgbClr val="000000"/>
              </a:solidFill>
              <a:latin typeface="Arial"/>
            </a:endParaRPr>
          </a:p>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إن نقص الأكسجين عند الولادة يؤثر سلبا على القدرات العقلية ،ويؤدي غالبا للتخلف العقلي .</a:t>
            </a:r>
            <a:endParaRPr b="0" lang="en-US" sz="3200" spc="-1" strike="noStrike">
              <a:solidFill>
                <a:srgbClr val="000000"/>
              </a:solidFill>
              <a:latin typeface="Arial"/>
            </a:endParaRPr>
          </a:p>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إن شرب المنبهات (الشاي والقهوة )بجرعات معتدلة يؤدي إلى تنشيط العمليات العقلية حيث أن الكميات المعتدلة من الكافيين تؤثر إيجابيا على المخ.</a:t>
            </a:r>
            <a:endParaRPr b="0" lang="en-US" sz="3200" spc="-1" strike="noStrike">
              <a:solidFill>
                <a:srgbClr val="000000"/>
              </a:solidFill>
              <a:latin typeface="Arial"/>
            </a:endParaRPr>
          </a:p>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إن تعاطي الكحول له أضرار جسيمة على العمليات العقلية.</a:t>
            </a:r>
            <a:endParaRPr b="0" lang="en-US" sz="3200" spc="-1" strike="noStrike">
              <a:solidFill>
                <a:srgbClr val="000000"/>
              </a:solidFill>
              <a:latin typeface="Arial"/>
            </a:endParaRPr>
          </a:p>
          <a:p>
            <a:pPr marL="228960" indent="-22896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F377D-1F8F-4508-8CA6-55BF2D42373F}"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2</a:t>
            </a:r>
            <a:r>
              <a:rPr b="1" lang="ar-SA" sz="5000" spc="-1" strike="noStrike">
                <a:solidFill>
                  <a:srgbClr val="04617b"/>
                </a:solidFill>
                <a:latin typeface="Arial"/>
              </a:rPr>
              <a:t> – الغذاء والمرض</a:t>
            </a:r>
            <a:endParaRPr b="0" lang="en-US" sz="5000" spc="-1" strike="noStrike">
              <a:solidFill>
                <a:srgbClr val="04617b"/>
              </a:solidFill>
              <a:latin typeface="Arial"/>
            </a:endParaRPr>
          </a:p>
        </p:txBody>
      </p:sp>
      <p:sp>
        <p:nvSpPr>
          <p:cNvPr id="361"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إن سوء التغذية للجنين تؤدي لضعف الدماغ ضعفا لا يمكن تعويضه في المراحل العمرية التالية لأنه يكون في مرحلة التكوين .</a:t>
            </a:r>
            <a:endParaRPr b="0" lang="en-US" sz="2800" spc="-1" strike="noStrike">
              <a:solidFill>
                <a:srgbClr val="000000"/>
              </a:solidFill>
              <a:latin typeface="Arial"/>
            </a:endParaRPr>
          </a:p>
          <a:p>
            <a:pPr marL="272880" indent="-2728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إن سوء التغذية في السنوات الأولى له دور خطير في ظهور الأمراض العقلية .</a:t>
            </a:r>
            <a:endParaRPr b="0" lang="en-US" sz="2800" spc="-1" strike="noStrike">
              <a:solidFill>
                <a:srgbClr val="000000"/>
              </a:solidFill>
              <a:latin typeface="Arial"/>
            </a:endParaRPr>
          </a:p>
          <a:p>
            <a:pPr marL="272880" indent="-2728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إن </a:t>
            </a:r>
            <a:r>
              <a:rPr b="1" lang="ar-SA" sz="2800" spc="-1" strike="noStrike">
                <a:solidFill>
                  <a:srgbClr val="000000"/>
                </a:solidFill>
                <a:latin typeface="Arial"/>
              </a:rPr>
              <a:t>10</a:t>
            </a:r>
            <a:r>
              <a:rPr b="1" lang="ar-SA" sz="2800" spc="-1" strike="noStrike">
                <a:solidFill>
                  <a:srgbClr val="000000"/>
                </a:solidFill>
                <a:latin typeface="Arial"/>
              </a:rPr>
              <a:t>% من حالات التخلف العقلي ناشئة عن إصابات الولادة .</a:t>
            </a:r>
            <a:endParaRPr b="0" lang="en-US" sz="2800" spc="-1" strike="noStrike">
              <a:solidFill>
                <a:srgbClr val="000000"/>
              </a:solidFill>
              <a:latin typeface="Arial"/>
            </a:endParaRPr>
          </a:p>
          <a:p>
            <a:pPr marL="272880" indent="-2728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إن درجات معظم المصابين بأمراض جسمية تكون أقل من غيرهم في اختبارات الذكاء .</a:t>
            </a:r>
            <a:endParaRPr b="0" lang="en-US" sz="2800" spc="-1" strike="noStrike">
              <a:solidFill>
                <a:srgbClr val="000000"/>
              </a:solidFill>
              <a:latin typeface="Arial"/>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9CEB8-F11F-4907-9B8A-F4B2A242A1AE}"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457200" y="1934640"/>
            <a:ext cx="8229600" cy="4389480"/>
          </a:xfrm>
          <a:prstGeom prst="rect">
            <a:avLst/>
          </a:prstGeom>
          <a:noFill/>
          <a:ln w="0">
            <a:noFill/>
          </a:ln>
        </p:spPr>
        <p:txBody>
          <a:bodyPr anchor="t">
            <a:normAutofit fontScale="88000"/>
          </a:bodyPr>
          <a:p>
            <a:pPr marL="240120" indent="-2401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ما في الحضارة العربية والإسلامية، فربما كانت أكثر محاولات دراسة الذكاء مباشرة وعمومية هي دراسات ابن الجوزي عن الذكاء، وذلك في كتابه عن "الأذكياء"، واستأثر جانبين رئيسين باهتمام ابن الجوزي عند دراسته للذكاء: الأول هو الذكاء اللفظي، وهو ما يتجلى في الاهتمام بمعاني المفردات وإدراك الفروق الدقيقة بينها، وكيفية التلاعب بالألفاظ، والقدرة على معرفة المعني الواحد باختلاف الكلمات المعبرة عنه. </a:t>
            </a:r>
            <a:endParaRPr b="0" lang="en-US" sz="3200" spc="-1" strike="noStrike">
              <a:solidFill>
                <a:srgbClr val="000000"/>
              </a:solidFill>
              <a:latin typeface="Arial"/>
            </a:endParaRPr>
          </a:p>
          <a:p>
            <a:pPr marL="240120" indent="-24012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B7E8E-4320-4CA9-ACC9-563E7ABD1CD0}"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3</a:t>
            </a:r>
            <a:r>
              <a:rPr b="1" lang="ar-SA" sz="5000" spc="-1" strike="noStrike">
                <a:solidFill>
                  <a:srgbClr val="04617b"/>
                </a:solidFill>
                <a:latin typeface="Arial"/>
              </a:rPr>
              <a:t> – المستوى الاقتصادي والاجتماعي</a:t>
            </a:r>
            <a:endParaRPr b="0" lang="en-US" sz="5000" spc="-1" strike="noStrike">
              <a:solidFill>
                <a:srgbClr val="04617b"/>
              </a:solidFill>
              <a:latin typeface="Arial"/>
            </a:endParaRPr>
          </a:p>
        </p:txBody>
      </p:sp>
      <p:sp>
        <p:nvSpPr>
          <p:cNvPr id="364"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هناك ارتباط إيجابي دال بين الذكاء والمستوى الاقتصادي والاجتماعي ومستوى تعليم الأبوين ومهنهم .</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74B93-774A-428D-8EBE-94FCD823D08D}"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4</a:t>
            </a:r>
            <a:r>
              <a:rPr b="1" lang="ar-SA" sz="5000" spc="-1" strike="noStrike">
                <a:solidFill>
                  <a:srgbClr val="04617b"/>
                </a:solidFill>
                <a:latin typeface="Arial"/>
              </a:rPr>
              <a:t> – الحرمان</a:t>
            </a:r>
            <a:endParaRPr b="0" lang="en-US" sz="5000" spc="-1" strike="noStrike">
              <a:solidFill>
                <a:srgbClr val="04617b"/>
              </a:solidFill>
              <a:latin typeface="Arial"/>
            </a:endParaRPr>
          </a:p>
        </p:txBody>
      </p:sp>
      <p:sp>
        <p:nvSpPr>
          <p:cNvPr id="367" name=""/>
          <p:cNvSpPr txBox="1"/>
          <p:nvPr/>
        </p:nvSpPr>
        <p:spPr>
          <a:xfrm>
            <a:off x="457200" y="1934640"/>
            <a:ext cx="8229600" cy="4389480"/>
          </a:xfrm>
          <a:prstGeom prst="rect">
            <a:avLst/>
          </a:prstGeom>
          <a:noFill/>
          <a:ln w="0">
            <a:noFill/>
          </a:ln>
        </p:spPr>
        <p:txBody>
          <a:bodyPr anchor="t">
            <a:normAutofit fontScale="95000"/>
          </a:bodyPr>
          <a:p>
            <a:pPr marL="259200" indent="-259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إن الحرمان من المثيرات الحسية يؤدي لانخفاض مستوى الذكاء خاصة إذا كان في مرحلة ما قبل المدرسة ،وعند أطفال لهم في الأصل استعدادات عالية ،وذلك نظرا لحاجتهم الماسة لتلك المثيرات التي تساعدهم على التعلم .</a:t>
            </a:r>
            <a:endParaRPr b="0" lang="en-US" sz="2800" spc="-1" strike="noStrike">
              <a:solidFill>
                <a:srgbClr val="000000"/>
              </a:solidFill>
              <a:latin typeface="Arial"/>
            </a:endParaRPr>
          </a:p>
          <a:p>
            <a:pPr marL="259200" indent="-259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إن الحرمان من الحواس له أثر سلبي بدرجة بسيطة جدا على الذكاء.</a:t>
            </a:r>
            <a:endParaRPr b="0" lang="en-US" sz="2800" spc="-1" strike="noStrike">
              <a:solidFill>
                <a:srgbClr val="000000"/>
              </a:solidFill>
              <a:latin typeface="Arial"/>
            </a:endParaRPr>
          </a:p>
          <a:p>
            <a:pPr marL="259200" indent="-259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إن الحرمان العاطفي وأساليب التنشئة الأسرية الصارمة يؤدي إلى تراجع مستوى الذكاء لدى الطفل بشكل واضح ،والعكس صحيح .</a:t>
            </a:r>
            <a:endParaRPr b="0" lang="en-US" sz="2800" spc="-1" strike="noStrike">
              <a:solidFill>
                <a:srgbClr val="000000"/>
              </a:solidFill>
              <a:latin typeface="Arial"/>
            </a:endParaRPr>
          </a:p>
          <a:p>
            <a:pPr marL="259200" indent="-25920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97EEA-F800-4B1D-AE75-8B26C004E59B}"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5</a:t>
            </a:r>
            <a:r>
              <a:rPr b="1" lang="ar-SA" sz="5000" spc="-1" strike="noStrike">
                <a:solidFill>
                  <a:srgbClr val="04617b"/>
                </a:solidFill>
                <a:latin typeface="Arial"/>
              </a:rPr>
              <a:t> – التعليم</a:t>
            </a:r>
            <a:endParaRPr b="0" lang="en-US" sz="5000" spc="-1" strike="noStrike">
              <a:solidFill>
                <a:srgbClr val="04617b"/>
              </a:solidFill>
              <a:latin typeface="Arial"/>
            </a:endParaRPr>
          </a:p>
        </p:txBody>
      </p:sp>
      <p:sp>
        <p:nvSpPr>
          <p:cNvPr id="370" name=""/>
          <p:cNvSpPr txBox="1"/>
          <p:nvPr/>
        </p:nvSpPr>
        <p:spPr>
          <a:xfrm>
            <a:off x="457200" y="1934640"/>
            <a:ext cx="8229600" cy="4389480"/>
          </a:xfrm>
          <a:prstGeom prst="rect">
            <a:avLst/>
          </a:prstGeom>
          <a:noFill/>
          <a:ln w="0">
            <a:noFill/>
          </a:ln>
        </p:spPr>
        <p:txBody>
          <a:bodyPr anchor="t">
            <a:normAutofit fontScale="92000"/>
          </a:bodyPr>
          <a:p>
            <a:pPr marL="250920" indent="-2509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بعض الدراسات تشير إلى الأثر الإيجابي للتعليم النظامي على مستوى الذكاء، وبعضها الآخر يشير إلى أن التعليم النظامي كان محايدا في التأثير على مستوى الذكاء.</a:t>
            </a:r>
            <a:endParaRPr b="0" lang="en-US" sz="3200" spc="-1" strike="noStrike">
              <a:solidFill>
                <a:srgbClr val="000000"/>
              </a:solidFill>
              <a:latin typeface="Arial"/>
            </a:endParaRPr>
          </a:p>
          <a:p>
            <a:pPr marL="250920" indent="-2509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وهذا يرجع إلى اختلاف أساليب ومقومات التعليم بين المدارس المختلفة ،فإمكانيات المدرسة وأساليب التعليم فيها هي العامل المؤثر في الذكاء .</a:t>
            </a:r>
            <a:endParaRPr b="0" lang="en-US" sz="3200" spc="-1" strike="noStrike">
              <a:solidFill>
                <a:srgbClr val="000000"/>
              </a:solidFill>
              <a:latin typeface="Arial"/>
            </a:endParaRPr>
          </a:p>
          <a:p>
            <a:pPr marL="250920" indent="-25092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17898-156A-4873-8977-979F53A44985}"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pic>
        <p:nvPicPr>
          <p:cNvPr id="372" name="Picture 6" descr="527502">
            <a:hlinkClick r:id="rId1"/>
          </p:cNvPr>
          <p:cNvPicPr/>
          <p:nvPr/>
        </p:nvPicPr>
        <p:blipFill>
          <a:blip r:embed="rId2"/>
          <a:stretch/>
        </p:blipFill>
        <p:spPr>
          <a:xfrm>
            <a:off x="3643200" y="0"/>
            <a:ext cx="1857600" cy="19288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6</a:t>
            </a:r>
            <a:r>
              <a:rPr b="1" lang="ar-SA" sz="5000" spc="-1" strike="noStrike">
                <a:solidFill>
                  <a:srgbClr val="04617b"/>
                </a:solidFill>
                <a:latin typeface="Arial"/>
              </a:rPr>
              <a:t> – الأقران</a:t>
            </a:r>
            <a:endParaRPr b="0" lang="en-US" sz="5000" spc="-1" strike="noStrike">
              <a:solidFill>
                <a:srgbClr val="04617b"/>
              </a:solidFill>
              <a:latin typeface="Arial"/>
            </a:endParaRPr>
          </a:p>
        </p:txBody>
      </p:sp>
      <p:sp>
        <p:nvSpPr>
          <p:cNvPr id="374"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كثيرا ما ترتفع نسبة الذكاء عند الطفل أو تنخفض ليصبح في مستوى ذكاء أقرانه والمجموعة التي ينتمي إليها ،ولكن يجب التأكيد على أن هذا العامل ليس حاسماً.</a:t>
            </a:r>
            <a:endParaRPr b="0" lang="en-US" sz="3200" spc="-1" strike="noStrike">
              <a:solidFill>
                <a:srgbClr val="000000"/>
              </a:solidFill>
              <a:latin typeface="Arial"/>
            </a:endParaRPr>
          </a:p>
        </p:txBody>
      </p:sp>
      <p:sp>
        <p:nvSpPr>
          <p:cNvPr id="37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8281-366A-4FC4-8BA1-D96A4E718D9D}"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pic>
        <p:nvPicPr>
          <p:cNvPr id="376" name="Picture 4" descr="PEP20"/>
          <p:cNvPicPr/>
          <p:nvPr/>
        </p:nvPicPr>
        <p:blipFill>
          <a:blip r:embed="rId1"/>
          <a:stretch/>
        </p:blipFill>
        <p:spPr>
          <a:xfrm>
            <a:off x="714240" y="4214880"/>
            <a:ext cx="2281320" cy="20718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000" spc="-1" strike="noStrike">
                <a:solidFill>
                  <a:srgbClr val="04617b"/>
                </a:solidFill>
                <a:latin typeface="Arial"/>
              </a:rPr>
              <a:t>الفروق بين الجنسين في الذكاء</a:t>
            </a:r>
            <a:endParaRPr b="0" lang="en-US" sz="5000" spc="-1" strike="noStrike">
              <a:solidFill>
                <a:srgbClr val="04617b"/>
              </a:solidFill>
              <a:latin typeface="Arial"/>
            </a:endParaRPr>
          </a:p>
        </p:txBody>
      </p:sp>
      <p:sp>
        <p:nvSpPr>
          <p:cNvPr id="378" name=""/>
          <p:cNvSpPr txBox="1"/>
          <p:nvPr/>
        </p:nvSpPr>
        <p:spPr>
          <a:xfrm>
            <a:off x="457200" y="1934640"/>
            <a:ext cx="8229600" cy="4389480"/>
          </a:xfrm>
          <a:prstGeom prst="rect">
            <a:avLst/>
          </a:prstGeom>
          <a:noFill/>
          <a:ln w="0">
            <a:noFill/>
          </a:ln>
        </p:spPr>
        <p:txBody>
          <a:bodyPr anchor="t">
            <a:normAutofit fontScale="92000"/>
          </a:bodyPr>
          <a:p>
            <a:pPr marL="250920" indent="-2509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لا توجد فروق دالة بين الجنسين في مستوى الذكاء العام .</a:t>
            </a:r>
            <a:endParaRPr b="0" lang="en-US" sz="3200" spc="-1" strike="noStrike">
              <a:solidFill>
                <a:srgbClr val="000000"/>
              </a:solidFill>
              <a:latin typeface="Arial"/>
            </a:endParaRPr>
          </a:p>
          <a:p>
            <a:pPr marL="250920" indent="-25092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  في المقابل توجد فروق بين الجنسين في القدرات العقلية الخاصة :</a:t>
            </a:r>
            <a:endParaRPr b="0" lang="en-US" sz="3200" spc="-1" strike="noStrike">
              <a:solidFill>
                <a:srgbClr val="000000"/>
              </a:solidFill>
              <a:latin typeface="Arial"/>
            </a:endParaRPr>
          </a:p>
          <a:p>
            <a:pPr marL="250920" indent="-2509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تتفوق الإناث :في : القدرة اللغوية والذاكرة وسرعة الإدراك والتحصيل الدراسي .</a:t>
            </a:r>
            <a:endParaRPr b="0" lang="en-US" sz="3200" spc="-1" strike="noStrike">
              <a:solidFill>
                <a:srgbClr val="000000"/>
              </a:solidFill>
              <a:latin typeface="Arial"/>
            </a:endParaRPr>
          </a:p>
          <a:p>
            <a:pPr marL="250920" indent="-2509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يتفوق الذكور : في القدرات العددية ،وإدراك المسافات ،والقدرة الميكانيكية.</a:t>
            </a:r>
            <a:endParaRPr b="0" lang="en-US" sz="3200" spc="-1" strike="noStrike">
              <a:solidFill>
                <a:srgbClr val="000000"/>
              </a:solidFill>
              <a:latin typeface="Arial"/>
            </a:endParaRPr>
          </a:p>
        </p:txBody>
      </p:sp>
      <p:sp>
        <p:nvSpPr>
          <p:cNvPr id="37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F2685-AF5B-45DF-8C8B-2B2714031650}"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ar-SA" sz="5400" spc="-1" strike="noStrike">
                <a:solidFill>
                  <a:srgbClr val="04617b"/>
                </a:solidFill>
                <a:latin typeface="Arial"/>
              </a:rPr>
              <a:t>نظرة تاريخية لدراسات الذكاء </a:t>
            </a:r>
            <a:endParaRPr b="0" lang="en-US" sz="5400" spc="-1" strike="noStrike">
              <a:solidFill>
                <a:srgbClr val="04617b"/>
              </a:solidFill>
              <a:latin typeface="Arial"/>
            </a:endParaRPr>
          </a:p>
        </p:txBody>
      </p:sp>
      <p:sp>
        <p:nvSpPr>
          <p:cNvPr id="381"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يرى جوناثان بلوكر  تقسيم تاريخ دراسة الذكاء إلى مراحل خمس هي :</a:t>
            </a: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ولاً / مرحلة التأسيس التاريخي.</a:t>
            </a: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ثانياً / الفترة الأولى ( مرحلة الأسس الحديثة ).</a:t>
            </a: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ثالثاً / </a:t>
            </a:r>
            <a:r>
              <a:rPr b="0" lang="en-US" sz="2600" spc="-1" strike="noStrike">
                <a:solidFill>
                  <a:srgbClr val="000000"/>
                </a:solidFill>
                <a:latin typeface="Arial"/>
              </a:rPr>
              <a:t>  </a:t>
            </a:r>
            <a:r>
              <a:rPr b="0" lang="ar-SA" sz="2600" spc="-1" strike="noStrike">
                <a:solidFill>
                  <a:srgbClr val="000000"/>
                </a:solidFill>
                <a:latin typeface="Arial"/>
              </a:rPr>
              <a:t> الفترة الثانية  ( مرحلة المدارس العظيمة).</a:t>
            </a: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رابعاً / الفترة الثالثة  (مرحلة تهيئة المدارس العظيمة).</a:t>
            </a: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خامساً / الفترة الرابعة (مرحلة الريادة المعاصرة).</a:t>
            </a: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 سادساً / الفترة الخامسة (مرحلة الجهود الراهنة). </a:t>
            </a: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9266B-6F5B-4BBA-BCFB-BC2A6FE90D4A}"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pic>
        <p:nvPicPr>
          <p:cNvPr id="383" name="Picture 4" descr="ayes"/>
          <p:cNvPicPr/>
          <p:nvPr/>
        </p:nvPicPr>
        <p:blipFill>
          <a:blip r:embed="rId1"/>
          <a:stretch/>
        </p:blipFill>
        <p:spPr>
          <a:xfrm>
            <a:off x="428760" y="2786040"/>
            <a:ext cx="2233440" cy="1550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ar-SA" sz="5000" spc="-1" strike="noStrike">
                <a:solidFill>
                  <a:srgbClr val="04617b"/>
                </a:solidFill>
                <a:latin typeface="Arial"/>
              </a:rPr>
              <a:t>أولاً / مرحلة التأسيس التاريخي </a:t>
            </a:r>
            <a:endParaRPr b="0" lang="en-US" sz="5000" spc="-1" strike="noStrike">
              <a:solidFill>
                <a:srgbClr val="04617b"/>
              </a:solidFill>
              <a:latin typeface="Arial"/>
            </a:endParaRPr>
          </a:p>
        </p:txBody>
      </p:sp>
      <p:sp>
        <p:nvSpPr>
          <p:cNvPr id="385" name=""/>
          <p:cNvSpPr txBox="1"/>
          <p:nvPr/>
        </p:nvSpPr>
        <p:spPr>
          <a:xfrm>
            <a:off x="428760" y="199980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ن طبيعة التفكير البشري قد أبهرت العلماء لقرون عديدة ولقد شكلت الأعمال الأولى منذ أفلاطون وأرسطو إلى ايتار د وإسكيورول الأساس لاستكشاف الذكاء الحديثة (أي النظريات التي تطورت خلال لمائيتي عاما  الماضية ).</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247D2-91FD-4D22-9401-E47DCAB9A40F}"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pic>
        <p:nvPicPr>
          <p:cNvPr id="387" name="Picture 5" descr="تعلم جماعي"/>
          <p:cNvPicPr/>
          <p:nvPr/>
        </p:nvPicPr>
        <p:blipFill>
          <a:blip r:embed="rId1"/>
          <a:stretch/>
        </p:blipFill>
        <p:spPr>
          <a:xfrm>
            <a:off x="2857680" y="4214880"/>
            <a:ext cx="2568240" cy="19000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ar-SA" sz="4400" spc="-1" strike="noStrike">
                <a:solidFill>
                  <a:srgbClr val="04617b"/>
                </a:solidFill>
                <a:latin typeface="Arial"/>
              </a:rPr>
              <a:t>ثانياً / الفترة الأولى (مرحلة الأسس الحديثة) </a:t>
            </a:r>
            <a:endParaRPr b="0" lang="en-US" sz="4400" spc="-1" strike="noStrike">
              <a:solidFill>
                <a:srgbClr val="04617b"/>
              </a:solidFill>
              <a:latin typeface="Arial"/>
            </a:endParaRPr>
          </a:p>
        </p:txBody>
      </p:sp>
      <p:sp>
        <p:nvSpPr>
          <p:cNvPr id="389"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هذه الفترة بدأت السيكولوجيا ( علم النفس ) في الظهور كمساق منفصل عن الفلسفة وعلم الرياضيات وعلم الأحياء إلا أن علماء هذه المجالات استمروا في التأثير على النتاج السيكولوجية ودراسات الذكاء</a:t>
            </a:r>
            <a:endParaRPr b="0" lang="en-US" sz="2800" spc="-1" strike="noStrike">
              <a:solidFill>
                <a:srgbClr val="000000"/>
              </a:solidFill>
              <a:latin typeface="Arial"/>
            </a:endParaRPr>
          </a:p>
          <a:p>
            <a:pPr marL="272880" indent="-27288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E291B-D2FB-4B2D-B22E-E933466E2125}"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857160"/>
            <a:ext cx="8286480" cy="99072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br>
              <a:rPr sz="4000"/>
            </a:br>
            <a:r>
              <a:rPr b="1" lang="ar-SA" sz="3600" spc="-1" strike="noStrike">
                <a:solidFill>
                  <a:srgbClr val="04617b"/>
                </a:solidFill>
                <a:latin typeface="Arial"/>
              </a:rPr>
              <a:t>ثالثاً / </a:t>
            </a:r>
            <a:r>
              <a:rPr b="1" lang="en-US" sz="3600" spc="-1" strike="noStrike">
                <a:solidFill>
                  <a:srgbClr val="04617b"/>
                </a:solidFill>
                <a:latin typeface="Arial"/>
              </a:rPr>
              <a:t>  </a:t>
            </a:r>
            <a:r>
              <a:rPr b="1" lang="ar-SA" sz="3600" spc="-1" strike="noStrike">
                <a:solidFill>
                  <a:srgbClr val="04617b"/>
                </a:solidFill>
                <a:latin typeface="Arial"/>
              </a:rPr>
              <a:t> الفترة الثانية  (مرحلة المدارس العظيمة)</a:t>
            </a:r>
            <a:endParaRPr b="0" lang="en-US" sz="3600" spc="-1" strike="noStrike">
              <a:solidFill>
                <a:srgbClr val="04617b"/>
              </a:solidFill>
              <a:latin typeface="Arial"/>
            </a:endParaRPr>
          </a:p>
        </p:txBody>
      </p:sp>
      <p:sp>
        <p:nvSpPr>
          <p:cNvPr id="392"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شهدت هذه الفترة من التاريخ مولد عدة مدارس أوربية بارزة في السيكولوجيا وقد اكتسبت دراسات الذكاء صيتا ذائعاً في هذه المرحلة</a:t>
            </a:r>
            <a:endParaRPr b="0" lang="en-US" sz="2800" spc="-1" strike="noStrike">
              <a:solidFill>
                <a:srgbClr val="000000"/>
              </a:solidFill>
              <a:latin typeface="Arial"/>
            </a:endParaRPr>
          </a:p>
        </p:txBody>
      </p:sp>
      <p:sp>
        <p:nvSpPr>
          <p:cNvPr id="393"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23834-5FE4-46ED-97A6-397681EB09E1}"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704520"/>
            <a:ext cx="832968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ar-SA" sz="3600" spc="-1" strike="noStrike">
                <a:solidFill>
                  <a:srgbClr val="04617b"/>
                </a:solidFill>
                <a:latin typeface="Arial"/>
              </a:rPr>
              <a:t>رابعاً / الفترة الثالثة  (مرحلة تهيئة المدارس العظيمة)</a:t>
            </a:r>
            <a:endParaRPr b="0" lang="en-US" sz="3600" spc="-1" strike="noStrike">
              <a:solidFill>
                <a:srgbClr val="04617b"/>
              </a:solidFill>
              <a:latin typeface="Arial"/>
            </a:endParaRPr>
          </a:p>
        </p:txBody>
      </p:sp>
      <p:sp>
        <p:nvSpPr>
          <p:cNvPr id="395" name=""/>
          <p:cNvSpPr txBox="1"/>
          <p:nvPr/>
        </p:nvSpPr>
        <p:spPr>
          <a:xfrm>
            <a:off x="457200" y="1934640"/>
            <a:ext cx="8229600" cy="4389480"/>
          </a:xfrm>
          <a:prstGeom prst="rect">
            <a:avLst/>
          </a:prstGeom>
          <a:noFill/>
          <a:ln w="0">
            <a:noFill/>
          </a:ln>
        </p:spPr>
        <p:txBody>
          <a:bodyPr anchor="t">
            <a:normAutofit fontScale="84000"/>
          </a:bodyPr>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هذه الفترة بدأ طلاب المدارس العظيمة في تشكيل برامجهم وتزيد عدد الدراسات النظرية والتطبيقية في الذكاء وكانت نقطة التحول في هذه المرحلة هي/  نمو الجيش الأمريكي</a:t>
            </a:r>
            <a:endParaRPr b="0" lang="en-US" sz="3200" spc="-1" strike="noStrike">
              <a:solidFill>
                <a:srgbClr val="000000"/>
              </a:solidFill>
              <a:latin typeface="Arial"/>
            </a:endParaRPr>
          </a:p>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برامج الفحص  والتي أنشئت تحت الإشراف المباشر لــ ميرنز بركس</a:t>
            </a:r>
            <a:endParaRPr b="0" lang="en-US" sz="3200" spc="-1" strike="noStrike">
              <a:solidFill>
                <a:srgbClr val="000000"/>
              </a:solidFill>
              <a:latin typeface="Arial"/>
            </a:endParaRPr>
          </a:p>
          <a:p>
            <a:pPr marL="228960" indent="-2289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قد وفر هذا المشروع تراثاً كبيراً فمثلاً في المجموعة الأولى من اختبارات الذكاء  وبرامج التدريب للعلماء النفسيين حتى يصبحوا أكثر تأثيراُ في العقود التالية .</a:t>
            </a:r>
            <a:endParaRPr b="0" lang="en-US" sz="3200" spc="-1" strike="noStrike">
              <a:solidFill>
                <a:srgbClr val="000000"/>
              </a:solidFill>
              <a:latin typeface="Arial"/>
            </a:endParaRPr>
          </a:p>
          <a:p>
            <a:pPr marL="228960" indent="-22896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3BC90-FF4F-4F94-9C4F-D79B3EC071CA}"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57200" y="1934640"/>
            <a:ext cx="8229600" cy="4389480"/>
          </a:xfrm>
          <a:prstGeom prst="rect">
            <a:avLst/>
          </a:prstGeom>
          <a:noFill/>
          <a:ln w="0">
            <a:noFill/>
          </a:ln>
        </p:spPr>
        <p:txBody>
          <a:bodyPr anchor="t">
            <a:normAutofit/>
          </a:bodyPr>
          <a:p>
            <a:pPr marL="272880" indent="-2728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ومن ذلك ما أورده بسنده من حديث مالك ، إذ قال :"جاء رجل إلى النبي صلى الله عليه وسلم يستحمله (أي يطلب منه أن يحمله على دابة بغرض الغزو والجهاد ) فقال إني حاملك على ولد الناقة. قال يا رسول الله وما أصنع بولد الناقة ؟ قال : وهل تلد الإبل إلا النوق".</a:t>
            </a:r>
            <a:endParaRPr b="0" lang="en-US" sz="3200" spc="-1" strike="noStrike">
              <a:solidFill>
                <a:srgbClr val="000000"/>
              </a:solidFill>
              <a:latin typeface="Arial"/>
            </a:endParaRPr>
          </a:p>
          <a:p>
            <a:pPr marL="272880" indent="-2728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0DC7E-C42C-4AD8-9015-0442D249F0A0}"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ar-SA" sz="4000" spc="-1" strike="noStrike">
                <a:solidFill>
                  <a:srgbClr val="04617b"/>
                </a:solidFill>
                <a:latin typeface="Arial"/>
              </a:rPr>
              <a:t>خامساً / الفترة الرابعة (مرحلة الريادة المعاصرة) </a:t>
            </a:r>
            <a:endParaRPr b="0" lang="en-US" sz="4000" spc="-1" strike="noStrike">
              <a:solidFill>
                <a:srgbClr val="04617b"/>
              </a:solidFill>
              <a:latin typeface="Arial"/>
            </a:endParaRPr>
          </a:p>
        </p:txBody>
      </p:sp>
      <p:sp>
        <p:nvSpPr>
          <p:cNvPr id="398" name=""/>
          <p:cNvSpPr txBox="1"/>
          <p:nvPr/>
        </p:nvSpPr>
        <p:spPr>
          <a:xfrm>
            <a:off x="457200" y="1934640"/>
            <a:ext cx="8229600" cy="4389480"/>
          </a:xfrm>
          <a:prstGeom prst="rect">
            <a:avLst/>
          </a:prstGeom>
          <a:noFill/>
          <a:ln w="0">
            <a:noFill/>
          </a:ln>
        </p:spPr>
        <p:txBody>
          <a:bodyPr anchor="t">
            <a:normAutofit fontScale="82000"/>
          </a:bodyPr>
          <a:p>
            <a:pPr marL="223560" indent="-22356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الحماس الذي تولد من جراء نشأة المدارس العظيمة وأنشطة الجيش وبرامج الفحص النفسي  كان هو حجر الأساس لأنشطة هذه المرحلة فإن التكنيكات الإحصائية الجديدة  والتصميمات التجريبية الحديثة دعمت مقاييس قياسية للذكاء والتحصيل لاستخدامها في مختلف جوانب الحياة في معظم البلدان الغربية وبالرغم من سيطرة نظريات التحليل العاملي في الذكاء إلا أن نظريات الذكاء المتعدد قد بدأت في الظهور في أعمال مثل أعمال ثراستون وجيل فورد</a:t>
            </a:r>
            <a:endParaRPr b="0" lang="en-US" sz="3200" spc="-1" strike="noStrike">
              <a:solidFill>
                <a:srgbClr val="000000"/>
              </a:solidFill>
              <a:latin typeface="Arial"/>
            </a:endParaRPr>
          </a:p>
        </p:txBody>
      </p:sp>
      <p:sp>
        <p:nvSpPr>
          <p:cNvPr id="399"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75A6D-7C9A-4550-99F0-8193292D8398}"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04520"/>
            <a:ext cx="832968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ar-SA" sz="4000" spc="-1" strike="noStrike">
                <a:solidFill>
                  <a:srgbClr val="04617b"/>
                </a:solidFill>
                <a:latin typeface="Arial"/>
              </a:rPr>
              <a:t>سادساً / الفترة الخامسة (مرحلة الجهود الراهنة) </a:t>
            </a:r>
            <a:endParaRPr b="0" lang="en-US" sz="4000" spc="-1" strike="noStrike">
              <a:solidFill>
                <a:srgbClr val="04617b"/>
              </a:solidFill>
              <a:latin typeface="Arial"/>
            </a:endParaRPr>
          </a:p>
        </p:txBody>
      </p:sp>
      <p:sp>
        <p:nvSpPr>
          <p:cNvPr id="401" name=""/>
          <p:cNvSpPr txBox="1"/>
          <p:nvPr/>
        </p:nvSpPr>
        <p:spPr>
          <a:xfrm>
            <a:off x="457200" y="1934640"/>
            <a:ext cx="8229600" cy="4389480"/>
          </a:xfrm>
          <a:prstGeom prst="rect">
            <a:avLst/>
          </a:prstGeom>
          <a:noFill/>
          <a:ln w="0">
            <a:noFill/>
          </a:ln>
        </p:spPr>
        <p:txBody>
          <a:bodyPr anchor="t">
            <a:normAutofit fontScale="81000"/>
          </a:bodyPr>
          <a:p>
            <a:pPr marL="220680" indent="-220680" algn="just"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الاتجاهات الحالية في نظرية الذكاء والتي تستدعي تكوين نظريات ذكاء أكثر تعقيداً بالإضافة للرؤى المتعددة عن جدوى مقاييس الذكاء وفي نفس الوقت انتشار أجهزة الحاسب الآلي وانخفاض سعرها مع التقدم في التحليل الإحصائي والذي يثري المنظورات الجديدة لقياس الذكاء مع تطور علوم المنهج البحثي في المعلومات العصبية والجينية المتعلقة بالذكاء والوثوق بنتائجها كل ذلك خلق مساحة جديدة لدراسات الذكاء من جوانبه السيكولوجية والبيولوجية والبيئية في آن واحد.</a:t>
            </a:r>
            <a:endParaRPr b="0" lang="en-US" sz="3200" spc="-1" strike="noStrike">
              <a:solidFill>
                <a:srgbClr val="000000"/>
              </a:solidFill>
              <a:latin typeface="Arial"/>
            </a:endParaRPr>
          </a:p>
          <a:p>
            <a:pPr marL="220680" indent="-22068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E5C2F-A969-4B69-A816-51640CC6FD49}"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5000" spc="-1" strike="noStrike">
              <a:solidFill>
                <a:srgbClr val="04617b"/>
              </a:solidFill>
              <a:latin typeface="Arial"/>
            </a:endParaRPr>
          </a:p>
        </p:txBody>
      </p:sp>
      <p:sp>
        <p:nvSpPr>
          <p:cNvPr id="404" name=""/>
          <p:cNvSpPr txBox="1"/>
          <p:nvPr/>
        </p:nvSpPr>
        <p:spPr>
          <a:xfrm>
            <a:off x="457200" y="1934640"/>
            <a:ext cx="8229600" cy="4389480"/>
          </a:xfrm>
          <a:prstGeom prst="rect">
            <a:avLst/>
          </a:prstGeom>
          <a:noFill/>
          <a:ln w="0">
            <a:noFill/>
          </a:ln>
        </p:spPr>
        <p:txBody>
          <a:bodyPr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gn="ctr" rtl="1">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 شكراً لحسن استماعكم،،،،،،،</a:t>
            </a:r>
            <a:endParaRPr b="0" lang="en-US" sz="4400" spc="-1" strike="noStrike">
              <a:solidFill>
                <a:srgbClr val="000000"/>
              </a:solidFill>
              <a:latin typeface="Arial"/>
            </a:endParaRPr>
          </a:p>
        </p:txBody>
      </p:sp>
      <p:sp>
        <p:nvSpPr>
          <p:cNvPr id="405"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ADB1C-EEA5-45B6-A13D-4CAC8975C1D7}"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457200" y="1934640"/>
            <a:ext cx="8229600" cy="4389480"/>
          </a:xfrm>
          <a:prstGeom prst="rect">
            <a:avLst/>
          </a:prstGeom>
          <a:noFill/>
          <a:ln w="0">
            <a:noFill/>
          </a:ln>
        </p:spPr>
        <p:txBody>
          <a:bodyPr anchor="t">
            <a:normAutofit fontScale="90000"/>
          </a:bodyPr>
          <a:p>
            <a:pPr marL="245520" indent="-245520" algn="just"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ما الجانب الثاني الذي اهتم به ابن الجوزي فكان الذكاء العملي، أو قدرة حل المشكلات والتي تعتمد على إدراك المشكلة وسرعة الاستجابة لها، ومن ذلك ما أورده ابن الجوزي من رواية الأصمعي عن أبيه من أنه أُتي عبد الملك بن مروان برجل كان مع بعض من خرج عليه فقال : اضربوا عنقه. فقال يا أمير المؤمنين ما كان هذا جزائي منك. قال : وما جزاؤك ؟ قال : والله ما خرجت مع فلان إلا بالنظر إليك، وذلك أني رجل مشؤوم ما كنت مع رجل قط إلا غُلب وهُزم. وقد بان لك صحة ما ادعيت وكنت خيرًا لك من مائة ألف معك . فضحك وخلى سبيله".</a:t>
            </a:r>
            <a:endParaRPr b="0" lang="en-US" sz="2800" spc="-1" strike="noStrike">
              <a:solidFill>
                <a:srgbClr val="000000"/>
              </a:solidFill>
              <a:latin typeface="Arial"/>
            </a:endParaRPr>
          </a:p>
          <a:p>
            <a:pPr marL="245520" indent="-245520" algn="r" rtl="1">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عنصر نائب لرقم الشريحة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101C2-ADFA-475C-968C-49B3C616153C}" type="slidenum">
              <a:rPr b="0" lang="en-US" sz="1200" spc="-1" strike="noStrike">
                <a:solidFill>
                  <a:srgbClr val="045c75"/>
                </a:solidFill>
                <a:latin typeface="Times New Roman"/>
                <a:ea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6T15:08:22Z</dcterms:created>
  <dc:creator>ARABPC</dc:creator>
  <dc:description/>
  <dc:language>en-US</dc:language>
  <cp:lastModifiedBy>Tahanei balahmar</cp:lastModifiedBy>
  <dcterms:modified xsi:type="dcterms:W3CDTF">2017-10-03T08:48:20Z</dcterms:modified>
  <cp:revision>66</cp:revision>
  <dc:subject/>
  <dc:title>تخطيط المشاريع بواسطة الأهداف</dc:title>
</cp:coreProperties>
</file>