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EF98-BBB1-4CB7-B56B-CE5238F7EE9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04FE-06E5-42DA-A173-2B1B28B5291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85AB-15B7-4E17-BF90-FB482B25420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90B8-8CCA-4DB7-908B-BD289FD93EE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3919-9D78-4B86-8EDC-522D1FD2BFB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2BB1-5173-4D08-8851-1500254DE3B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46FD-98E2-4BA5-A094-9755E6C34B3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90F3-AE27-44B7-A198-EADB838F5F0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BB74-F586-45DA-97CA-521D23AFD68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443C-ED30-46FE-ABBE-C6AFC9C5449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69B8-51BF-40DF-89FE-9E3AFCBD089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1638-3059-478F-9C66-219600B3CB0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7365-592B-49B6-AFAA-88AF1697F4C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29C6-8D99-4985-83F1-1AA741755A1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A342-4438-4EF8-BDDE-5BBC3F687A2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4FA1-A8FE-4000-837F-9FDBBDD21C0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FCD6-9858-4598-B8EF-42950DAF6D9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6678-55B4-4EEB-AE63-3487D9D8696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9CD9-E544-4C17-918E-03451AA8107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795F-2727-447F-9219-5D942DD1F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DE64-ECC9-409F-AA5C-A3875487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0AC2-A6C1-47F6-8F43-F09038507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BE7A-1D71-4CAE-BA51-1B7C0AF94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3F53-AACD-4027-8E63-24FA8C19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660A-0625-46FC-A1AC-44CD0B6A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A0D6-CC91-41F4-96B6-D57581EB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1B96-A3DE-4B23-8B05-7B9A3392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A637-13FC-4ECF-A1B7-7C49C376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946F-6A35-4B7B-93F5-7F50446A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5361-5DA2-4386-80C6-99CAEBC9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890E-6E64-441C-9D14-C2B4E85E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1052-AC88-40D7-8FCB-8C028CB4CE6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000000"/>
                </a:solidFill>
                <a:uFillTx/>
                <a:latin typeface="Arial"/>
              </a:rPr>
              <a:t>ماذا نقصد باللغة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 مرحلة الكلام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الكلمة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الواح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سن الذي تظهر فيه الكلمة الأولى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ن الامور الهامة لظهور القدرة على الكلام: ( ان يكون قد تكون لدى الطفل مفهوم دوام الشيء) لماذا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هناك فروق فردية بين الاطفا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بماذا تتميز الكلمات الاولى للطفل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في اوائل السنة الثانية يقل نسبيا تطور اللغة لماذا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ستخدم الكلمة للتعبير عن جمل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ل ما زاد عمر الطفل وكثرة تجربته طالت الجملة وازدادت التراكيب اللغوية السليم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 نظريات اكتساب اللغة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نظرية السلوكية الاجرائ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ؤسسها سكن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فكرتها الاساسية قائمة على التدعيم والتعزي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جه اليها بعض النقد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نظرية اللغو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ئدها تشومسك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طفال يولدون ولديه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(نماذج للتركيب اللغوي)اي استعداد (وقدرات موروثة) لتعلم اللغ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نظرية المعرف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ئدها بياجي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هتم بدراسة النمو العقلي والمعرفي للطف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نمو اللغوي له صلة وثيقة بالنمو العقلي والمعرفي وهو يسير معه جنبا الى جنب.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كيف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ل اللغة في نظر بياجيه اشراطية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ينتقل الطفل من الأداء الى الكفاء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تفسير العالمة كلار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العوامل المؤثرة في النمو اللغوي للطف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العوامل البيولوج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النمو العقلي والذكاء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بين اللغة والنمو العقلي ارتباط وثي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عالم فيجوتسكي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الجنس ( ذكر او انثى)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العوامل البيئ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الخصائص النمائية لطفل ما قبل المدرسة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تسم طفل ما قبل المدرسة ببعض الخصائص النمائية التي يمكن استغلالها لتنمية اللغة ..وهي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ا هي اللغة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(التعبير عن المشاعر والافكار وكذلك استقبالها عن طريق الرموز اللفظي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جميع وسائل الاتصال التي يرمز بها الانسان للتعبير عن افكاره ومشاعره ( الكلام- الكتابة-لغة الاشارة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خصائص تتميز بها اللغة البشرية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الجانب الصوتي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جانب الدلالات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جانب التركيبات اللغو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جانب الوظيفية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609480" y="2438280"/>
            <a:ext cx="228600" cy="533520"/>
          </a:xfrm>
          <a:custGeom>
            <a:avLst/>
            <a:gdLst/>
            <a:ahLst/>
            <a:rect l="l" t="t" r="r" b="b"/>
            <a:pathLst>
              <a:path w="228600" h="533400">
                <a:moveTo>
                  <a:pt x="0" y="203740"/>
                </a:moveTo>
                <a:lnTo>
                  <a:pt x="87318" y="203742"/>
                </a:lnTo>
                <a:lnTo>
                  <a:pt x="114300" y="0"/>
                </a:lnTo>
                <a:lnTo>
                  <a:pt x="141282" y="203742"/>
                </a:lnTo>
                <a:lnTo>
                  <a:pt x="228600" y="203740"/>
                </a:lnTo>
                <a:lnTo>
                  <a:pt x="157958" y="329658"/>
                </a:lnTo>
                <a:lnTo>
                  <a:pt x="184941" y="533399"/>
                </a:lnTo>
                <a:lnTo>
                  <a:pt x="114300" y="407479"/>
                </a:lnTo>
                <a:lnTo>
                  <a:pt x="43659" y="533399"/>
                </a:lnTo>
                <a:lnTo>
                  <a:pt x="70642" y="329658"/>
                </a:lnTo>
                <a:lnTo>
                  <a:pt x="0" y="20374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5"/>
          <p:cNvSpPr/>
          <p:nvPr/>
        </p:nvSpPr>
        <p:spPr>
          <a:xfrm flipH="1">
            <a:off x="7619400" y="762120"/>
            <a:ext cx="228600" cy="609480"/>
          </a:xfrm>
          <a:custGeom>
            <a:avLst/>
            <a:gdLst/>
            <a:ahLst/>
            <a:rect l="l" t="t" r="r" b="b"/>
            <a:pathLst>
              <a:path w="228600" h="609600">
                <a:moveTo>
                  <a:pt x="0" y="232846"/>
                </a:moveTo>
                <a:lnTo>
                  <a:pt x="87318" y="232848"/>
                </a:lnTo>
                <a:lnTo>
                  <a:pt x="114300" y="0"/>
                </a:lnTo>
                <a:lnTo>
                  <a:pt x="141282" y="232848"/>
                </a:lnTo>
                <a:lnTo>
                  <a:pt x="228600" y="232846"/>
                </a:lnTo>
                <a:lnTo>
                  <a:pt x="157958" y="376752"/>
                </a:lnTo>
                <a:lnTo>
                  <a:pt x="184941" y="609598"/>
                </a:lnTo>
                <a:lnTo>
                  <a:pt x="114300" y="465690"/>
                </a:lnTo>
                <a:lnTo>
                  <a:pt x="43659" y="609598"/>
                </a:lnTo>
                <a:lnTo>
                  <a:pt x="70642" y="376752"/>
                </a:lnTo>
                <a:lnTo>
                  <a:pt x="0" y="23284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2133720" y="1219320"/>
            <a:ext cx="380880" cy="533160"/>
          </a:xfrm>
          <a:custGeom>
            <a:avLst/>
            <a:gdLst/>
            <a:ahLst/>
            <a:rect l="l" t="t" r="r" b="b"/>
            <a:pathLst>
              <a:path w="381000" h="533400">
                <a:moveTo>
                  <a:pt x="0" y="203740"/>
                </a:moveTo>
                <a:lnTo>
                  <a:pt x="145530" y="203742"/>
                </a:lnTo>
                <a:lnTo>
                  <a:pt x="190500" y="0"/>
                </a:lnTo>
                <a:lnTo>
                  <a:pt x="235470" y="203742"/>
                </a:lnTo>
                <a:lnTo>
                  <a:pt x="381000" y="203740"/>
                </a:lnTo>
                <a:lnTo>
                  <a:pt x="263263" y="329658"/>
                </a:lnTo>
                <a:lnTo>
                  <a:pt x="308235" y="533399"/>
                </a:lnTo>
                <a:lnTo>
                  <a:pt x="190500" y="407479"/>
                </a:lnTo>
                <a:lnTo>
                  <a:pt x="72765" y="533399"/>
                </a:lnTo>
                <a:lnTo>
                  <a:pt x="117737" y="329658"/>
                </a:lnTo>
                <a:lnTo>
                  <a:pt x="0" y="20374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وظائف اللغ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الاتص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الوظيفة العقلية: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الوظيفة الثقافية الحضارية: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مراحل النمو اللغوي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راحل نمو الاصو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( صيحة الميلاد- الاصوات الوجدانية- المناغاة والتنغيم- لغة الاشارة- مرحلة الكلا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مناغا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بدأ الطفل يلعب بالاصوات ويتسلى بها، فيخرج احرف ساكنه ومتحركه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في حوالي الثلاثة اشهر ،يبدأ الرضيع باخراج اصوات مركبة من حروف ساكنة ومتحركة مع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ل يستطيع الرضيع المناغاة بمقاطع صوتيه غير موجوده في لغته الام؟؟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تابع المناغاة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بدأ التقليد في هذه المرحلة يلعب دورا كبيرا في تعلم اللغة 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قليد اللغوي يتطلب عدة امور هامة حتى يستفيد منه الطفل في تعلم اللغة ، ماهي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مرحلة اللغة الاشارية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في نهاية السنة الاولى يبدأ معظم الاطفال في استعمال بعض الاشارات للحصول على مايريدون ( الخروج بالسيارة- الطعام....)، وهو في الغالب يصدر بعض الاصوات اللغوية مع الاشار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14:35:55Z</dcterms:created>
  <dc:creator>Hania</dc:creator>
  <dc:description/>
  <dc:language>en-US</dc:language>
  <cp:lastModifiedBy>Sahar .....</cp:lastModifiedBy>
  <dcterms:modified xsi:type="dcterms:W3CDTF">2016-02-19T09:51:57Z</dcterms:modified>
  <cp:revision>111</cp:revision>
  <dc:subject/>
  <dc:title>تعريف اللغة: كل صور التعبير  عن الأفكار والمشاعر وجميع وسائل الإتصال.</dc:title>
</cp:coreProperties>
</file>