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376B-8136-4F81-9DA1-295082F5760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F9C6-9282-4896-993E-78F095D4325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4E8C-1F9C-4A83-8400-9C54D2BFDF0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75FF-3490-4F94-B486-AC1DE3FDA3E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B099-09EC-4908-9885-1FB9C0D7D97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8E91-D6C7-4A4C-A2E7-831615EEC48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7D4D-710E-4A89-867A-ED13655F328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77DA-20E6-483B-98C1-AE50B5DC822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EA05-B8C4-43C7-929F-B286D4000B0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531C-3083-4334-9666-E5BCB50AF71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9A7C-7B8D-4DDA-A317-B5DAD6131C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C4D6-E9A9-40D8-A492-818B651C2C3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A198-1007-4DED-8065-D2DB9229106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8D8E-A3E4-4874-BBF0-3CEF2DE494E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58DB-B444-462E-AB98-0214E9594D0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4C15-1FBF-469B-AFC6-22D0A384A1B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BCEB-C32E-46D5-8D1A-D6FF8208F21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ECDC-08B5-4851-9460-C98691CB337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F424-90D5-4AEB-82F4-979EF29A16D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EF7-8C7D-493F-AC90-0845EA39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9139-C82B-4D0C-BBDB-D6423A9F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099-98AA-4124-AE56-37704799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277-7E2A-4A98-94D9-186FA659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3CEC-BFEF-470D-A5E1-25D4044C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CCA-9EEC-49FD-8AC9-B1C9F088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3C4-3993-4C3C-8977-52E83F4A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205-3DD9-4360-A152-03D1CE36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AB1-A128-4EC1-87ED-A0D0B1F1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442-5C51-4188-8219-0F0B79AB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A29-8715-43C6-A457-88518417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6C3-62BE-41F3-8A4B-58A11F0D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C182-22A9-4BC3-8961-AE094F7316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ماذا نقصد باللغة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 مرحلة الكلام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لكلمة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واح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سن الذي تظهر فيه الكلمة الأولى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ن الامور الهامة لظهور القدرة على الكلام: ( ان يكون قد تكون لدى الطفل مفهوم دوام الشيء) لماذا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ناك فروق فردية بين الاطف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بماذا تتميز الكلمات الاولى للطفل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ي اوائل السنة الثانية يقل نسبيا تطور اللغة لماذا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تخدم الكلمة للتعبير عن جمل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ل ما زاد عمر الطفل وكثرة تجربته طالت الجملة وازدادت التراكيب اللغوية السلي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 نظريات اكتساب اللغة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نظرية السلوكية الاجرائ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ؤسسها سكن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كرتها الاساسية قائمة على التدعيم والتعزي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جه اليها بعض النقد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نظرية اللغو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ئدها تشومس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طفال يولدون ولديه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نماذج للتركيب اللغوي)اي استعداد (وقدرات موروثة) لتعلم الل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نظرية المعرف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ئدها بياج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هتم بدراسة النمو العقلي والمعرفي للطف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نمو اللغوي له صلة وثيقة بالنمو العقلي والمعرفي وهو يسير معه جنبا الى جنب.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كيف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ل اللغة في نظر بياجيه اشراطية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ينتقل الطفل من الأداء الى ال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تفسير العالمة كلار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عوامل المؤثرة في النمو اللغوي للطف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عوامل البيولوج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نمو العقلي والذكا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ين اللغة والنمو العقلي ارتباط وثي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عالم فيجوتسكي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جنس ( ذكر او انثى)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العوامل البيئ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خصائص النمائية لطفل ما قبل المدرسة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سم طفل ما قبل المدرسة ببعض الخصائص النمائية التي يمكن استغلالها لتنمية اللغة ..وهي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ا هي اللغة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التعبير عن المشاعر والافكار وكذلك استقبالها عن طريق الرموز اللفظ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ميع وسائل الاتصال التي يرمز بها الانسان للتعبير عن افكاره ومشاعره ( الكلام- الكتابة-لغة الاشارة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خصائص تتميز بها اللغة البشرية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الجانب الصوتي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جانب الدلالات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جانب التركيبات اللغو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جانب الوظيفية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609480" y="2438280"/>
            <a:ext cx="228600" cy="533520"/>
          </a:xfrm>
          <a:custGeom>
            <a:avLst/>
            <a:gdLst/>
            <a:ahLst/>
            <a:rect l="l" t="t" r="r" b="b"/>
            <a:pathLst>
              <a:path w="228600" h="533400">
                <a:moveTo>
                  <a:pt x="0" y="203740"/>
                </a:moveTo>
                <a:lnTo>
                  <a:pt x="87318" y="203742"/>
                </a:lnTo>
                <a:lnTo>
                  <a:pt x="114300" y="0"/>
                </a:lnTo>
                <a:lnTo>
                  <a:pt x="141282" y="203742"/>
                </a:lnTo>
                <a:lnTo>
                  <a:pt x="228600" y="203740"/>
                </a:lnTo>
                <a:lnTo>
                  <a:pt x="157958" y="329658"/>
                </a:lnTo>
                <a:lnTo>
                  <a:pt x="184941" y="533399"/>
                </a:lnTo>
                <a:lnTo>
                  <a:pt x="114300" y="407479"/>
                </a:lnTo>
                <a:lnTo>
                  <a:pt x="43659" y="533399"/>
                </a:lnTo>
                <a:lnTo>
                  <a:pt x="70642" y="329658"/>
                </a:lnTo>
                <a:lnTo>
                  <a:pt x="0" y="20374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 flipH="1">
            <a:off x="7619400" y="762120"/>
            <a:ext cx="228600" cy="609480"/>
          </a:xfrm>
          <a:custGeom>
            <a:avLst/>
            <a:gdLst/>
            <a:ahLst/>
            <a:rect l="l" t="t" r="r" b="b"/>
            <a:pathLst>
              <a:path w="228600" h="609600">
                <a:moveTo>
                  <a:pt x="0" y="232846"/>
                </a:moveTo>
                <a:lnTo>
                  <a:pt x="87318" y="232848"/>
                </a:lnTo>
                <a:lnTo>
                  <a:pt x="114300" y="0"/>
                </a:lnTo>
                <a:lnTo>
                  <a:pt x="141282" y="232848"/>
                </a:lnTo>
                <a:lnTo>
                  <a:pt x="228600" y="232846"/>
                </a:lnTo>
                <a:lnTo>
                  <a:pt x="157958" y="376752"/>
                </a:lnTo>
                <a:lnTo>
                  <a:pt x="184941" y="609598"/>
                </a:lnTo>
                <a:lnTo>
                  <a:pt x="114300" y="465690"/>
                </a:lnTo>
                <a:lnTo>
                  <a:pt x="43659" y="609598"/>
                </a:lnTo>
                <a:lnTo>
                  <a:pt x="70642" y="376752"/>
                </a:lnTo>
                <a:lnTo>
                  <a:pt x="0" y="23284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2133720" y="1219320"/>
            <a:ext cx="380880" cy="533160"/>
          </a:xfrm>
          <a:custGeom>
            <a:avLst/>
            <a:gdLst/>
            <a:ahLst/>
            <a:rect l="l" t="t" r="r" b="b"/>
            <a:pathLst>
              <a:path w="381000" h="533400">
                <a:moveTo>
                  <a:pt x="0" y="203740"/>
                </a:moveTo>
                <a:lnTo>
                  <a:pt x="145530" y="203742"/>
                </a:lnTo>
                <a:lnTo>
                  <a:pt x="190500" y="0"/>
                </a:lnTo>
                <a:lnTo>
                  <a:pt x="235470" y="203742"/>
                </a:lnTo>
                <a:lnTo>
                  <a:pt x="381000" y="203740"/>
                </a:lnTo>
                <a:lnTo>
                  <a:pt x="263263" y="329658"/>
                </a:lnTo>
                <a:lnTo>
                  <a:pt x="308235" y="533399"/>
                </a:lnTo>
                <a:lnTo>
                  <a:pt x="190500" y="407479"/>
                </a:lnTo>
                <a:lnTo>
                  <a:pt x="72765" y="533399"/>
                </a:lnTo>
                <a:lnTo>
                  <a:pt x="117737" y="329658"/>
                </a:lnTo>
                <a:lnTo>
                  <a:pt x="0" y="20374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وظائف اللغ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الاتص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الوظيفة العقلية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الوظيفة الثقافية الحضارية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مراحل النمو اللغوي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احل نمو الاص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 صيحة الميلاد- الاصوات الوجدانية- المناغاة والتنغيم- لغة الاشارة- مرحلة الكلا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ناغا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بدأ الطفل يلعب بالاصوات ويتسلى بها، فيخرج احرف ساكنه ومتحركه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في حوالي الثلاثة اشهر ،يبدأ الرضيع باخراج اصوات مركبة من حروف ساكنة ومتحركة مع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ل يستطيع الرضيع المناغاة بمقاطع صوتيه غير موجوده في لغته الام؟؟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ابع المناغاة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بدأ التقليد في هذه المرحلة يلعب دورا كبيرا في تعلم اللغة 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قليد اللغوي يتطلب عدة امور هامة حتى يستفيد منه الطفل في تعلم اللغة ، ماهي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مرحلة اللغة الاشارية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في نهاية السنة الاولى يبدأ معظم الاطفال في استعمال بعض الاشارات للحصول على مايريدون ( الخروج بالسيارة- الطعام....)، وهو في الغالب يصدر بعض الاصوات اللغوية مع الاشا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4:35:55Z</dcterms:created>
  <dc:creator>Hania</dc:creator>
  <dc:description/>
  <dc:language>en-US</dc:language>
  <cp:lastModifiedBy>Sahar .....</cp:lastModifiedBy>
  <dcterms:modified xsi:type="dcterms:W3CDTF">2016-02-19T09:51:57Z</dcterms:modified>
  <cp:revision>111</cp:revision>
  <dc:subject/>
  <dc:title>تعريف اللغة: كل صور التعبير  عن الأفكار والمشاعر وجميع وسائل الإتصال.</dc:title>
</cp:coreProperties>
</file>